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617-8A28-4068-BA34-891A01D8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153-D9E1-4112-B368-21926538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E77-731D-447D-9EA4-8E8DAAEA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C81-B80A-482E-ADBE-B799652A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22E-59C2-475D-A3F7-422319C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2B7-3E2B-4094-A39E-61A2F2ED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8E7-AAE8-48DA-B667-FEF5A861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8FE-84DF-417D-8BE7-36A6A21A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F23-21D4-4388-A6C5-4DC3E04C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70C-6CAB-4504-9F21-CFB806CF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F38-F436-4F4B-8CFF-548F6C1C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137-388D-4180-BEEB-502778F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55F-0719-4420-98A4-DB935B246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dfound.to.it/HTML/bie1c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uniovi.es/bos/Asignaturas/Botanica/9.htm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alaeos.com/Eukarya/Units/StemMetazoa/Microsporidia.html" TargetMode="External"/><Relationship Id="rId3" Type="http://schemas.openxmlformats.org/officeDocument/2006/relationships/hyperlink" Target="http://www.palaeos.com/Eukarya/Units/StemMetazoa/Microsporidia.html" TargetMode="External"/><Relationship Id="rId4" Type="http://schemas.openxmlformats.org/officeDocument/2006/relationships/hyperlink" Target="http://www.palaeos.com/Eukarya/Units/StemMetazoa/Microsporidia.html" TargetMode="External"/><Relationship Id="rId5" Type="http://schemas.openxmlformats.org/officeDocument/2006/relationships/hyperlink" Target="http://www.palaeos.com/Eukarya/Units/StemMetazoa/Microsporidia.html" TargetMode="External"/><Relationship Id="rId6" Type="http://schemas.openxmlformats.org/officeDocument/2006/relationships/hyperlink" Target="http://www.palaeos.com/Eukarya/Units/StemMetazoa/Microsporidia.html" TargetMode="External"/><Relationship Id="rId7" Type="http://schemas.openxmlformats.org/officeDocument/2006/relationships/hyperlink" Target="http://www.palaeos.com/Eukarya/Units/StemMetazoa/Microsporidia.html" TargetMode="External"/><Relationship Id="rId8" Type="http://schemas.openxmlformats.org/officeDocument/2006/relationships/hyperlink" Target="http://www.palaeos.com/Eukarya/Units/StemMetazoa/Microsporidia.html" TargetMode="External"/><Relationship Id="rId9" Type="http://schemas.openxmlformats.org/officeDocument/2006/relationships/hyperlink" Target="http://www.palaeos.com/Eukarya/Units/StemMetazoa/Microsporidia.html" TargetMode="External"/><Relationship Id="rId10" Type="http://schemas.openxmlformats.org/officeDocument/2006/relationships/hyperlink" Target="http://www.palaeos.com/Eukarya/Units/StemMetazoa/Microsporidia.html" TargetMode="External"/><Relationship Id="rId11" Type="http://schemas.openxmlformats.org/officeDocument/2006/relationships/hyperlink" Target="http://www.palaeos.com/Eukarya/Units/StemMetazoa/Microsporidia.html" TargetMode="External"/><Relationship Id="rId12" Type="http://schemas.openxmlformats.org/officeDocument/2006/relationships/hyperlink" Target="http://www.palaeos.com/Eukarya/Units/StemMetazoa/Microsporidia.html" TargetMode="External"/><Relationship Id="rId13" Type="http://schemas.openxmlformats.org/officeDocument/2006/relationships/hyperlink" Target="http://www.palaeos.com/Eukarya/Units/StemMetazoa/Microsporidia.html" TargetMode="External"/><Relationship Id="rId14" Type="http://schemas.openxmlformats.org/officeDocument/2006/relationships/hyperlink" Target="http://www.palaeos.com/Eukarya/Units/StemMetazoa/Microsporidia.html" TargetMode="External"/><Relationship Id="rId15" Type="http://schemas.openxmlformats.org/officeDocument/2006/relationships/hyperlink" Target="http://www.palaeos.com/Eukarya/Units/StemMetazoa/Microsporidia.html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Fungi: Microsporidiomycota / Chytridiomycota / Blastocla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862520" cy="363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 pro člověka mají parazité hospodářsky významných živočichů – včel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 ap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bourc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. bomby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aopak jsou činěny i pokusy s využitím mikrosporidií proti hmyzím "škůdcům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kaza člověka může přitížit např. pacientům s AIDS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lenění na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am patří většina zástupců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di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ednodušeným vystřelovacím aparátem) je aktuálně nahrazováno klasifikací v třídá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 životním cyklu dominuje dikaryotická fáze, sem patř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plobionti, bez 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á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39625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: hostitel spolkne s potravou i sporu (v bun. stěně hlavně chitin) =&gt; v pohlcené spoře stoupne turgor =&gt; pólová trubice v přední části buňky vystřelena ven (až stovky µm!) =&gt; proniká membránami (dokáže projít i stěnami cyst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plazma přeteč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rubi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hostitelské buňk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nožení - dělení buně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uzavřená mitóza), sporogo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pory se z hostitele uvolňu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defekaci nebo po sm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 t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86200"/>
            <a:ext cx="510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cdfound.to.it/HTML/bie1c.htm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55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862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80880"/>
            <a:ext cx="56390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aková je vždy jednobuněčná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382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82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836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604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38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333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ě je ve středu pozornosti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Batrachochytrium dendrobatidi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azitický druh decimující populace obojživelníků (kožní infekce, omezující funkci kůže, při silné nákaze může vést k úhynu napadených jedinců), který se v poslední době stal celosvětovou hrozb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1" descr=""/>
          <p:cNvPicPr/>
          <p:nvPr/>
        </p:nvPicPr>
        <p:blipFill>
          <a:blip r:embed="rId1"/>
          <a:stretch/>
        </p:blipFill>
        <p:spPr>
          <a:xfrm>
            <a:off x="4246560" y="1320840"/>
            <a:ext cx="4440240" cy="3332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95280" y="1754280"/>
            <a:ext cx="38163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atrachochytrium dendrobatid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ozbor problematiky v češtině: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iviš et al., Chytridiomykóza – hrozba pro naše obojživelníky?</a:t>
            </a:r>
            <a:r>
              <a:rPr b="0" lang="cs-CZ" sz="1400" spc="-1" strike="noStrike">
                <a:solidFill>
                  <a:srgbClr val="0000ff"/>
                </a:solidFill>
                <a:latin typeface="Arial"/>
              </a:rPr>
              <a:t> http://www.casopis.ochranaprirody.cz/res/data/020/002383.pdf </a:t>
            </a:r>
            <a:r>
              <a:rPr b="0" lang="cs-CZ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2290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Knight, The world of frogs, Chytrid fungus; http://theworldofrogs.weebly.com/chytrid-fungus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342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32879"/>
          <a:stretch/>
        </p:blipFill>
        <p:spPr>
          <a:xfrm>
            <a:off x="3581280" y="4343400"/>
            <a:ext cx="5237280" cy="229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54435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380880"/>
            <a:ext cx="8382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izello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lízký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jednobuněčná stélka, izogamie), ale odlišn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: jádro spojeno s kinetosomem, ribos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ude v cytoplazmě (nejen "jaderná zóna"), ví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ukových kapek i mitochondr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s, hub a rostl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. 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nekró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ch rostlinek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ora =&gt; po kontaktu s kořenovým vláskem se encystuje =&gt; protoplast parazita proniká do buňky =&gt; zde ve stélce jaderné dělení =&gt; stélka se obalí bun. stěnou =&gt; kulovité sporangium s vyúsťovacími kanálky na povrch buňky hostitele =&gt; uvolňování zo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ovají-li se jako izo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dojde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2-bičíkaté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ygoty napadají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ob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v jeho buňkách vznikají odpočívající sporangia =&gt; přezimují =&gt; teprve před klíčením karyoga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=&gt;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poznámka: system. pozice r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lpidium je dnes nejist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819520" cy="182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49640" y="2243160"/>
            <a:ext cx="472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 s rhizoid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pizellomyces punc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s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classes/r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0364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3943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NOBLEPHARID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d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zřejmě nejodvozenější, rozvětvené cenocytické mycelium s pseudosepty, pravé přehrádky oddělují jen reprodukční struktury, protoplazma obsahuje hodně vakuol a t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mají jádro obklopené vrstvou ribosomů, od kinetosomu se paprsčitě rozbíhají mikrotubuly směrem k jádru (ale není zde spojení), rumposo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, tukové kapky v přední části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pohlavní proces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tejná gamet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pořádána párovi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 epi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onium vzniká terminálně a anteridium subterminál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hypo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lozená oosfér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mění v oospor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u stěnou =&gt; po ur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bě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9520" y="4221000"/>
            <a:ext cx="166680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4221000"/>
            <a:ext cx="3124080" cy="207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8920" y="3672000"/>
            <a:ext cx="840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onobleph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vlevo mladé oogon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 oogonia s anteridii + kulovité oospory, vpravo zralé oosp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52520" y="4221000"/>
            <a:ext cx="3189600" cy="207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5680" y="6222960"/>
            <a:ext cx="84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evo a vpravo Marilyn Mollicone, http://www.plantbio.uga.edu/zoosporicfungi/monfoamy.htm; uprostřed Don Barr, http://www.bsu.edu/classes/ruch/msa/barr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9319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28991"/>
          <a:stretch/>
        </p:blipFill>
        <p:spPr>
          <a:xfrm>
            <a:off x="3809880" y="2001960"/>
            <a:ext cx="4978440" cy="286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380880"/>
            <a:ext cx="4496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sednou na substrát a zatáhnou bičík =&gt; vyrůstají rhizoidy a opačným směrem cenoc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=&gt; na koncích hy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=&gt; několikajaderný protoplast se rozpadá =&gt; z částí vznikají zoo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se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cích hyf objeví gametan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řenos anterozoidů vod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otvoru v oogoniu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před vytvoř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y =&gt; meioza před klíč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vně vodní a půd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rofyté v tropech a subtropech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962520" cy="160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OCALLIMASTIG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ligátně anaerobní organismy žijící symbioticky v bachorech přežvýkavců, tvoří vícebičíkaté (!)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48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6064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38088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LASTOCLA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nahé stélky bez rhizoidů, odvozenější potom cenocytické stélky, přepážkou oddělené rhizomycelium a reprodukční struktury (gametangia,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6200" y="1849320"/>
            <a:ext cx="4991040" cy="470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057400"/>
            <a:ext cx="36576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zoospor: 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, riboso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hloučené v "čepičce" na předním konci jádr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 tzv. "side-body-complex" (ER+tukové kapky+mitochondri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elomomyc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u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lom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rev komárů (možnost využití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ologický b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na plodinách (vojtěška, kukuř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142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403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z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anizogamie, poprvé typická rodozměna (sporofyt nese sporangia, gametofyt nese gametangi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yskytuj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i typy životního cyk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-diplobiotický, diplobiotický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omiktický (všech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jdeme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pických půdních druhů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8920" y="614052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to, jakož i další životní cykly, jsou převzaty z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3809880" cy="24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8920" y="5524560"/>
            <a:ext cx="3984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lomyces arbuscu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nteridia a oogon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067280" y="263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773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3822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enně ve sporangiích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ány 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odobné houb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 na hyfách (specializovaných odnožích zvaných konidiofory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zývají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iz dále) 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sou pohybl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.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izolovaná skupi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icrospo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nitrobuněční paraz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ednobuněčné nebo tvoří cenocytické mycelium, bičíkaté zoospo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členění skupi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ddělení viz dá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přehrádkované 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příp. jednobuněčné – kvasink. typy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26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ICROSPORI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dříve řazená k prvokům, na základě molekulárních analýz (RNA a některých proteinů) připadla k houbá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jí některé zvláštnosti proti běžným eukaryotům: 70S ribosomy (znak shodný s prokaryoty), dikaryotická jádra (po dvojicích, synchronně se dělící), chybí respirační organely (mitochondrie apod.) a centrioly, redukovaný Golgiho apar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463680"/>
            <a:ext cx="3997440" cy="310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3552840"/>
            <a:ext cx="58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palaeo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Eukary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Unit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StemMetazo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Microsporidi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br. nahoře z: ES Didier (1998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Microsporidos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Clin. Infect. Dis. 27: 1-8.   Foto dole z: W Bohne, DJP Ferguson, K Kohler, &amp; U Gross (2000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Developmental expression of ... pathogen Encephalitozoon cunicul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Infect. Immun. 68: 2268–227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3048120" y="4027320"/>
            <a:ext cx="5649840" cy="2349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357336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řední straně buňky je vymrštitelná pólová tr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lučně intracelulární paraziti (většinou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, někd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oforní vakuole) nejvíce u členovců a ryb, ale známi i u sav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52Z</dcterms:modified>
  <cp:revision>157</cp:revision>
  <dc:subject/>
  <dc:title>Snímek 1</dc:title>
</cp:coreProperties>
</file>