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29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34.png" ContentType="image/png"/>
  <Override PartName="/ppt/media/image30.jpeg" ContentType="image/jpeg"/>
  <Override PartName="/ppt/media/image31.png" ContentType="image/png"/>
  <Override PartName="/ppt/media/image9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A15A-ACF2-4044-BC00-12A45005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FF2B-9533-42A8-9BF9-CFB2E859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B367-5BC4-49DF-BADF-6768897A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A327-2F62-4061-A85E-89B6EEC5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0DE0-6220-43DC-AE2C-ED434A22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016A-779E-4C95-A916-6E5AB2B3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7983-51D0-48F4-8F57-7C5DCA63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4A9B-A245-4416-914D-96E68C17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473F-B706-4F1F-8D13-C271D427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C6BD-DC9D-4B3D-B642-CA1796C7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C079-B97C-460C-ABE7-554C570F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83D4-2B7C-4438-B6B1-2812A323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D3CA-1E8A-47D7-BBF0-951CF8706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ew-science-press.com/browse/cellcycle/illustrations/2/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hyperlink" Target="http://www.uniovi.es/bos/Asignaturas/Botanica/9.htm" TargetMode="External"/><Relationship Id="rId5" Type="http://schemas.openxmlformats.org/officeDocument/2006/relationships/hyperlink" Target="http://www.uniovi.es/bos/Asignaturas/Botanica/9.htm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hyperlink" Target="http://ocwus.us.es/produccion-vegetal/sanidad-vegetal/Sanidad_vegetal/Tema%2021_HTML/page_09.htm" TargetMode="External"/><Relationship Id="rId4" Type="http://schemas.openxmlformats.org/officeDocument/2006/relationships/hyperlink" Target="http://ocwus.us.es/produccion-vegetal/sanidad-vegetal/Sanidad_vegetal/Tema%2021_HTML/page_09.htm" TargetMode="External"/><Relationship Id="rId5" Type="http://schemas.openxmlformats.org/officeDocument/2006/relationships/image" Target="../media/image26.jpeg"/><Relationship Id="rId6" Type="http://schemas.openxmlformats.org/officeDocument/2006/relationships/hyperlink" Target="http://www.commanster.eu/commanster/Mushrooms/Asco/SpAsco/Taphrina.betulina.html" TargetMode="External"/><Relationship Id="rId7" Type="http://schemas.openxmlformats.org/officeDocument/2006/relationships/hyperlink" Target="http://www.commanster.eu/commanster/Mushrooms/Asco/SpAsco/Taphrina.betulina.html" TargetMode="External"/><Relationship Id="rId8" Type="http://schemas.openxmlformats.org/officeDocument/2006/relationships/image" Target="../media/image27.jpeg"/><Relationship Id="rId9" Type="http://schemas.openxmlformats.org/officeDocument/2006/relationships/hyperlink" Target="http://www.nature-diary.co.uk/2005-09-16c.htm" TargetMode="Externa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hyperlink" Target="http://www.uniovi.es/bos/Asignaturas/Botanica/9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zygomycetes.org/index.php?id=90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hyperlink" Target="http://www.med.ncku.edu.tw/HsuML/mycology/&#22294;&#29255;/Zygospores_of_Mucorales_drawing.jpg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i: Microsporidiomycota / Chytridiomycota / 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800000"/>
                </a:solidFill>
                <a:latin typeface="Arial"/>
              </a:rPr>
              <a:t>skupina Zygomycota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/ Dikarya - Ascomycota: Taphrinomycotina, Saccharomycot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asidiomycota: Pucciniomycotina, Ustilaginomycotina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380880"/>
            <a:ext cx="8382240" cy="43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TAPHRIN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avděpodobně parafyletická skupina, "slepená" na základě molekulárních analý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ojí na bázi vývoje vřeckatých hu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CHIZOSACCHAR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rfologicky podobná třídě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cchar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naky v sekvencích DNA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NA ukazují spíš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buznost s dalšími řády než s pravými kvasinka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jednotlivé buňky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tvoří se vláknité ty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á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pade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něk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hizosaccharomyces pomb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výroba "afrického piva" z pros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zosaccharomyces octosp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ve fících a hroznech (kvašení ví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310360"/>
            <a:ext cx="396216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rovnání způsobů tvorby nových buněk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a) pučení u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Saccharomyces cerevisiae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b) dělení buněk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Schizosaccharomyces pomb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http://www.new-science-press.com/browse/cellcycle/illustrations/2/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400800" y="1143000"/>
            <a:ext cx="2320920" cy="4210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 flipH="1">
            <a:off x="456840" y="4572000"/>
            <a:ext cx="4457880" cy="1919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865760" y="462744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4"/>
              </a:rPr>
              <a:t>http://www.uniovi.es/b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5"/>
              </a:rPr>
              <a:t>/Asignaturas/Botanica/9.ht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6012000" y="3645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93373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380880"/>
            <a:ext cx="83822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TAPHRIN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aphrinales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čeleď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aphrin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– parazité rostlin, liší se od předchozích tříd (i od druhé čeledi v této třídě) tvorbou dikaryotického parazitického myce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19720" y="1306440"/>
            <a:ext cx="4470120" cy="5221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0880" y="1320840"/>
            <a:ext cx="480060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ploidní fáze je saprofytick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vasinkovité buňky =&gt; kopulace vypučivších blastospor nebo párování jader v pseudomyceliu =&gt; dikaryotické mycelium (parazitické, přehrá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vané; netvoří se gametangia ani as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nní hyfy), vytváří na povrchu hostitele chlamydospory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ich karyoga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ygota =&gt; rozdělení v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v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uňky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ální degeneruje, z terminální se vyvine vřecko s dvojvrstevnou stěnou =&gt; spory se uvolňují pod tlakem štěrbinou =&gt; zase pučí (mohou se takto pomnožit už ve vřeck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5105520"/>
            <a:ext cx="4038480" cy="131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880" y="4572000"/>
            <a:ext cx="55627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I: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rotomyces macrospor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shluk askogenních buněk; J: 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aphrina deforman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vřecka se sporami na povrchu lis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anlin: Illustra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Genera of Asco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mycetes, vol. II, 1998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45164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25047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380880"/>
            <a:ext cx="388620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aphrina deforman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působuje kadeřavost listů broskvo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/kresba: a. listy, b. vřecka, c. spor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+ foto vpravo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. prun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bouchoře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dozrávající a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potvořené plo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livo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/foto uprostřed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. cerasi, T. betul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razitují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tivech pupenů, způsobují tvorbu čarověníků (zmnožení větv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/foto vlevo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23_taphrina-obr" descr=""/>
          <p:cNvPicPr/>
          <p:nvPr/>
        </p:nvPicPr>
        <p:blipFill>
          <a:blip r:embed="rId1"/>
          <a:stretch/>
        </p:blipFill>
        <p:spPr>
          <a:xfrm>
            <a:off x="4114800" y="322200"/>
            <a:ext cx="4649760" cy="2801880"/>
          </a:xfrm>
          <a:prstGeom prst="rect">
            <a:avLst/>
          </a:prstGeom>
          <a:ln w="0">
            <a:noFill/>
          </a:ln>
        </p:spPr>
      </p:pic>
      <p:pic>
        <p:nvPicPr>
          <p:cNvPr id="121" name="26_taphrina-deformans" descr=""/>
          <p:cNvPicPr/>
          <p:nvPr/>
        </p:nvPicPr>
        <p:blipFill>
          <a:blip r:embed="rId2"/>
          <a:stretch/>
        </p:blipFill>
        <p:spPr>
          <a:xfrm>
            <a:off x="5943600" y="3321000"/>
            <a:ext cx="2757600" cy="2665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867280" y="606420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3"/>
              </a:rPr>
              <a:t>http://ocwus.us.es/produccion-vegetal/sanidad-vege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4"/>
              </a:rPr>
              <a:t>/Sanidad_vegetal/Tema%2021_HTML/page_09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27_taphrina-betulina" descr=""/>
          <p:cNvPicPr/>
          <p:nvPr/>
        </p:nvPicPr>
        <p:blipFill>
          <a:blip r:embed="rId5"/>
          <a:stretch/>
        </p:blipFill>
        <p:spPr>
          <a:xfrm>
            <a:off x="479520" y="4000680"/>
            <a:ext cx="2971800" cy="1987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880" y="606420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http://www.commanster.eu/commanster/Mushrooms/As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/SpAsco/Taphrina.betulina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28_taphrina-pruni" descr=""/>
          <p:cNvPicPr/>
          <p:nvPr/>
        </p:nvPicPr>
        <p:blipFill>
          <a:blip r:embed="rId8"/>
          <a:stretch/>
        </p:blipFill>
        <p:spPr>
          <a:xfrm>
            <a:off x="3511440" y="3321000"/>
            <a:ext cx="2384640" cy="2666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429000" y="6064200"/>
            <a:ext cx="243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http://www.nature-diary.co.uk/2005-09-16c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21932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T. Hanlin: Illustrated Genera of Ascomycetes, vol. II, 1998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380880"/>
            <a:ext cx="8382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eleď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mycetacea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razité rostlin s mezibuněčným, přehrádkovaným myceliem s mnohojadernými buňkami, zjištěna u nich celulóza v buněčné stěně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myceliu se vytvářejí interkalárně tlustostěnné chlamydospory s dvouvrstevnou stěn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 přezimování praská vnější exospor, vyhřezne endospor =&gt; je z něj meiosporangium =&gt; meioza =&gt; čtveřice jader vzniklých dělením jednotlivých jader představují "bezblanné vřecko", celý útvar se nazývá synaskus =&gt; tlakem zvětšující se vakuoly jsou jádra vypuzena ze synasku =&gt; buď se množí pučením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bo kopulují =&gt; diploidní mycelium =&gt; další infekc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myces macrosp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arazit miříkovit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14600" y="3124080"/>
            <a:ext cx="3030480" cy="2244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3200400" cy="2924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79520" y="2590920"/>
            <a:ext cx="1993680" cy="3797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14600" y="5283360"/>
            <a:ext cx="36417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„hálky“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rotomyces macrospor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na bršlici; uprostřed a. „hálky“, b. průřez hálkou, c. chlamydospory - askogenní buňky, d. uvolnění vřecka, e. askospor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Kresba: R. T. Hanlin: Illustrated Genera of Ascomycetes, vol. II, 1998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606276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Foto Carl Farmer, http:/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www.nature-diary.co.uk/2007-09-15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443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204527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38088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CCHAR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ACCHAROMYCE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KVASI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105520" y="387360"/>
            <a:ext cx="3657600" cy="1112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80880" y="1241280"/>
            <a:ext cx="838224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mostatné buňky nebo pučivé pseu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, převažuje nepohlavní rozmnožování (tvorba blastospor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vážně saprofyté, jejich fermentace cukrů (rozklad na etanol a CO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ntéza různých organických látek jsou bohatě využívány v biotechnolog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267080" y="2508120"/>
            <a:ext cx="4567320" cy="3435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0880" y="253044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ccharomyces cerevisi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vasinka pivní) - výroba piva, droždí; haplo-diplobiotický cyklus, v kultuře 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romadě haploidní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ploidní buňky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tvorba arthrospor (mycelium se rozpadá na úseky)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podasc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láknité endofytické mycelium, zvláštností je kopu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7214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í; na podobnosti pohlavního procesu s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gonales (Zygomycetes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y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ložena teorie o vývinu této skupiny právě od předků spájivých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5943600"/>
            <a:ext cx="84582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Obr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: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ebaryomyce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anseni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a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eget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buňky,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učení, b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jednoduché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řecko, c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skospora; dole: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ipodascu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lbid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a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ycelium, b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 c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řecka, d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skospory.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anlin: Illustrated Genera of Ascomycetes, vol. II, 1998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716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337804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952880" y="380880"/>
            <a:ext cx="3810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 somatogamické (vzácněji kopulují gametangia nebo aplanogamety) =&gt; v zygotě je pouze 1 jádro (splývaly-li vícejaderné buňky, ostatní jádra degenerují) =&gt; vřec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znikají přímo ze zygoty (holozygotní) nebo jako výrůstek ze zygoty (exozygotní druhy) nebo ze zygoty vyroste diploidní mycelium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něm se vytvoří vřecka =&gt; spory se uvolní rozpadem vřecka nebo pórem na vrcholk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 u různých druhů haplobiotický, haplo-diplobiotický (převážně izomorfická rodozmě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iz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accharo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nebo diplobiotick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accharomycod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 flipH="1">
            <a:off x="456840" y="457200"/>
            <a:ext cx="4459320" cy="2887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3352680"/>
            <a:ext cx="4459320" cy="2152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0880" y="545796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3"/>
              </a:rPr>
              <a:t>http://www.uniovi.es/bos/Asignaturas/Botanica/9.ht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64328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24214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80880"/>
            <a:ext cx="838224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kupina oddělení: </a:t>
            </a:r>
            <a:r>
              <a:rPr b="0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ZYGOMYCOTA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– HOUBY SPÁJI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nohojaderné cenocytické hyfy, přehrádky většinou oddělují jen rozmnožovací struktury (neplatí absolutně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vývojově odvozených skupin již dochází k tvorbě přehrádek, ale zůstávají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jaderné úseky (obdoba sifonokladální stélk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ložkou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ěn j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itin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provázen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itosanem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p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iným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uk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e sporangiích se tvoř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v hyfách se tvoří tlustostěnné chlamydo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sporangiospor: na myceliu se vytvoří svazky sporangioforů =&gt; vrcholové části zduří =&gt; vytvoří se sporangium (obvykle kulovité) =&gt; sem se přesune část cytoplazmy s jádry =&gt; z centrální části vznikne tzv. kolumela (střední sloupek, přetrvávající i po rozpadu sporangia), cytoplazma v periferní části se rozdělí =&gt; části se obalí stěnou =&gt; 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ást sporangioforu pod sporangiem je u některý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ruh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šířena v tzv. apofýz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původních typů mnohosporová sporangia, vývojov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ndence vede 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sporovým (podobně jako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dd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omyco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tu dv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 stě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 stěna spor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díl oproti konidi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1811" t="14510" r="17716" b="7255"/>
          <a:stretch/>
        </p:blipFill>
        <p:spPr>
          <a:xfrm>
            <a:off x="6539040" y="4205160"/>
            <a:ext cx="2147760" cy="1941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5751360"/>
            <a:ext cx="213336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ongronella butleri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2"/>
              </a:rPr>
              <a:t>http://zygomycetes.org/index.php?id=90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4357800"/>
            <a:ext cx="106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lumel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5424480"/>
            <a:ext cx="106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pofýz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28472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22764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78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97526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380880"/>
            <a:ext cx="8382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zo- (vzácněji anizo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og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é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značení "zygogamie"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lývání gametang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mothal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ru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e gametangi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 ze stejného mycel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terothal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ru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usí být z různý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í (+ a –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ůbě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ohl. proces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ýběžky z mycel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emotakticky přitahovány =&gt; kontakt, tvoří se na nich progametangia =&gt; jejich oddělení přehrádkou =&gt; mnohojaderná gametangia =&gt; splynutí, plazmogamie a karyogamie =&gt; zygota =&gt; vytvoří se zygosporangium, obsahující 1 tlustostěnnou zygosporu - odpočívající stadium =&gt; po období klidu klíčí hyf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a a následně zygospory jsou neseny rozšířenými konci hyf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spenz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některých zástupců na suspenzorech vyrůstají hyfy, které obalují zygosporu (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ých až úplně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edzvěst tvorby plodnice u vývojově pokročilejších pododdělení (připomínají primitivní kleistothecium u vřeckatých hub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 meiozi dochází při zrání nebo klíčení zyg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živ. cyklus je haplobiotic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5632200" cy="3028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19520" y="3124080"/>
            <a:ext cx="60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Moore, W. D. Clark, K. R. Stern &amp; D. Vodopich: Botany.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987640" y="263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77017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07949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80880"/>
            <a:ext cx="83822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saprofyté půdní, koprofilní aj., některé skupiny zahrnují parazity rostlin, hub i živočich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a druhů využívána v biotechnologii pro produkci různých lá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00800" y="1349280"/>
            <a:ext cx="2352600" cy="2895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15586" r="0" b="19483"/>
          <a:stretch/>
        </p:blipFill>
        <p:spPr>
          <a:xfrm>
            <a:off x="6400800" y="4267080"/>
            <a:ext cx="2354400" cy="2151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1341360"/>
            <a:ext cx="594360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MUCO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Muc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většiny druhů málo přehrádkované mycel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u někt. druhů se v tekutých médiích vytvoří přehrádky nebo mycelium rozpadne na buňky =&gt; tzv. dimorfismus (různý charakter stélky v různých podmínkách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porangia mnohosporová (až 1000 spor), u odvozenějších typů méně spor ve sporangiu (až jedna =&gt; nesprávně označováno za "konidii"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kromě pohlavně vzniklých zygospor tvoří některé druhy též partenogeneticky tzv. azygo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většinou saprofyté na půdě, trusu, potravinách 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ucor, Rhizop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kropidlovec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rhynchus, Pilobo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měchomršť – pod sporangiem má vak, v němž se hromadí voda =&gt; zvětšující se tlak nakonec odmrští celé sporangium), některé druhy i parazitick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využití: fermentace cukrů a bílkovin, výroba různých organických kyse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57960" y="5932440"/>
            <a:ext cx="24382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ucor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ygospora se suspenzo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6464160" y="3364920"/>
            <a:ext cx="44960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med.ncku.edu.tw/HsuML/mycology/圖片/Zygospores_of_Mucorales_drawing.jpg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46800" y="4245120"/>
            <a:ext cx="15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dipbot.unict.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sistematica_es/Mucor.htm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4360" y="836640"/>
            <a:ext cx="1627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ygospory rodů řádu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ucora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51280" y="134136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UCOR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012000" y="407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07009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9520" y="457200"/>
            <a:ext cx="2214360" cy="2438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743200" y="457200"/>
            <a:ext cx="3429000" cy="243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6248520" y="380880"/>
            <a:ext cx="25905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Houbáš,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pinellus fusiger –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arazit na helmovce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Mirek Junek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idsystem.cz/mushrooms/fotoframe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Měchomršť,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Pilobolus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. – koprofilní druh, natáčí a vystřeluje sporangia ke světlu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Moore, W. D. Clark, K. R. Stern &amp; D. Vodopich: Botany. -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305160"/>
            <a:ext cx="8382240" cy="31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gon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zemní druhy, starší mycelia přehrádkovaná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ářejí nestejně velká gametangia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spory se tvoří na tzv. epigoniu - výrůst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tšího gametangia =&gt; jsou hustě obaleny hyfa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útva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značovan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ako sporokarp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iný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gon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važovaný svého času jako možný vývojový předchůd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řeckatých hu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ro odvozené znaky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ehrádky v myceliu, tvor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porokarp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ddálení plazmogamie a karyog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gamie předchází karyogamii, ale nelze ještě hovořit o skutečné dikaryofáz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n párování jader v mladé zygospoř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Mortiere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ůdní saprofyté bez kolumely ve sporang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791320" y="3000240"/>
            <a:ext cx="2857320" cy="1843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797200" y="2924280"/>
            <a:ext cx="29718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Endogone lactiflu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sporokar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M. Trappe, http://www.natruffling.org/enla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8388360" y="40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2728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46912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2386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380880"/>
            <a:ext cx="8382240" cy="69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ZOOPAGOMYCOTA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0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ZOOPAG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pag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bligátní parazité hub, prvoků a živočichů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KICKXELL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margari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aktéž parazité, pro změnu n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ucoral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ickxellale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ětšinou půdní nebo koprofilní saprofyté, jejich sporangia se tvoří na specializovaných větvích zvaných sporoklad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rpe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řehrádkované mycelium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ován pohlavní proces a tvorba zygospor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žijí v larvách sladkovodního hmyzu, podobné znaky s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ickxellal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ellar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řehrádkované mycelium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l. proces pozorován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spory neznám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množují se arthrosporami, žijí na korýších nebo chvostoskocí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lední dva řády mají společnou ekolog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jí v zažívacím traktu členovc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 byly dříve řazeny do samostatné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rich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jich mycelium je pouze přichyceno na stěnác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roniká do buněk; pravděpodobně jsou komenzálov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přiživují se na potravě živočichů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bázi redu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ycelia je speciální přichycovací apará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ložení bun. stěny různé u různých skupi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hitin, glukosamin, galaktosami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: sporangiospory, arthrospory (rozpad vláken), u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rpe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richospor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sporová sporangia s přívěsky (spojeny se stěnou sporangia), po dozrání vystřelová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18454" t="0" r="0" b="12980"/>
          <a:stretch/>
        </p:blipFill>
        <p:spPr>
          <a:xfrm>
            <a:off x="6377040" y="3578400"/>
            <a:ext cx="2314440" cy="1758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302520" y="515952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bsu.edu/classes/ruch/msa/litchwart.htm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57960" y="3546360"/>
            <a:ext cx="2362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Arial"/>
              </a:rPr>
              <a:t>mycelium s trichospora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Stachvli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pedif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940360" y="3645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1657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2611440"/>
            <a:ext cx="838224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tomophthora musc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ůvodce mušího moru (sporangium vyklíčí na povrchu těla mouchy ve vlákno =&gt; vroste dovnitř =&gt; rozroste se a rozpadne na hyfová tělíska; moucha uhyne =&gt; na povrch těla vyrostou sporangiofory =&gt; vytvoří se a jsou odmrštěna sporang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17717" t="23329" r="17717" b="0"/>
          <a:stretch/>
        </p:blipFill>
        <p:spPr>
          <a:xfrm>
            <a:off x="5940360" y="457200"/>
            <a:ext cx="2801880" cy="2021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813280" y="2278080"/>
            <a:ext cx="297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botit.botany.wisc.edu/toms_fungi/mar2000.htm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0" r="10163" b="0"/>
          <a:stretch/>
        </p:blipFill>
        <p:spPr>
          <a:xfrm>
            <a:off x="457200" y="3822840"/>
            <a:ext cx="2048040" cy="2239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505240" y="3822840"/>
            <a:ext cx="3487680" cy="2239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rcRect l="1063" t="0" r="21260" b="0"/>
          <a:stretch/>
        </p:blipFill>
        <p:spPr>
          <a:xfrm>
            <a:off x="5981760" y="3822840"/>
            <a:ext cx="2762280" cy="2239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380880"/>
            <a:ext cx="55594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ENTOMOPHTHOR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tomophth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 v dospělosti přehrádkované,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y zástupců se rozpadá na tzv. hyfová tělíska (mohou spolu i somatogamicky kopulovat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 monosporická, odmršťovaná pod tlak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akultativ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bligátní parazité rostlin, hub nebo živočichů (i lidí), především hmy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3524400"/>
            <a:ext cx="5867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asa sporangií na povrchu těla mouchy, nahoře sporula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1000" y="3757680"/>
            <a:ext cx="342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uoguelph.ca/~gbarron/MISCELLANEOUS/entomoph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3600" y="6165720"/>
            <a:ext cx="8424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Basidiobo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aprofyté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asidiobo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a trusu žab), asi příbuzní chytridi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50872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65265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5516640"/>
            <a:ext cx="8382240" cy="9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ckou ekologii má dru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osiphon pyriform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který má ve své stél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ymbiotické endocyanel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považován za jediný lichenizovaný druh, jehož mykobiontem je jiná houba než vřeckatá nebo stopkovýtrus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152280"/>
            <a:ext cx="4044960" cy="3996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133720" y="2035080"/>
            <a:ext cx="25146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getativní stélka je cenocytická, většinou se netvoří sporang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e chlamydos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0" t="0" r="0" b="6304"/>
          <a:stretch/>
        </p:blipFill>
        <p:spPr>
          <a:xfrm>
            <a:off x="925560" y="2187720"/>
            <a:ext cx="1096920" cy="1427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7200" y="3787920"/>
            <a:ext cx="1563840" cy="1752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80880" y="380880"/>
            <a:ext cx="4267440" cy="17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LOMER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ecentně až na úrovni samostatné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dělení jsou hodnoceny hou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dřívějšíh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3143160"/>
            <a:ext cx="29718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to houby vytvářejí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lkým počtem druhů cévnatých rostlin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rbuskulární mykorhi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4210200"/>
            <a:ext cx="670536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dříve vezikulo-arbuskulární = VAM; má ji asi 80 % cévnatých rostlin): mycelium proniká do rostlinných buněk a vytváří tam větvené keříčkovité útvary - arbuskuly (někdy též zásobní měchýřky - vezikuly) =&gt; výměna látek pomáhá růstu a výživě hostitele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omu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j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454680" y="1998000"/>
            <a:ext cx="1602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rbuskulu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chlamydospor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359568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tolweb.org/Glomeromyco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14036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373043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380880"/>
            <a:ext cx="8382240" cy="63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kupina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DIKARY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ASCOMYCOTA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– HOUBY VŘECKA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upina sdružující houby, jejichž výtrusy vznikají ve (více či méně dokonale vyvinutém)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řeck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atinsk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množné čísl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řecko má povahu meiosporangia - zralé vřecko je diploidní buňka, ve které dochází k meiozi při vzniku spor (obvykle je jedinou diploidní buňkou v živ. cyklu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y se tvoří endogenně, obvykle v počtu 8 v jednom vřecku (po meioze ještě 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tóza, ale může jich být i jiný počet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mnoha zástupců se vřecka a askospory za normálních podmínek vůbec netvoří a houba žije jen v imperfektním stadiu (anamor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getativní stélka - přehrádkova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u kvasinek i jednotlivé buňky, resp. jejich kolonie, příp. pučivé pseudomycelium); vegetativní mycelium je haploidní (výjimky opět u kvasinek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hrádky mají ve střed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duchý pó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ýjimečně chybí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zástupc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odd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zizomycoti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 pohlavním procesu dochází ke vzniku dikaryotických hyf, tvořící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(askomat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v plodnicích pak dochází ke karyogamii v koncových buňká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kogenních hyf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 nich vznikají vřeck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getativní dikaryotické mycelium se vyskytuje 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aphrinomycet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á se o nejpočetnější skupinu hub, zahrnující cca 60 % známých taxon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tohoto pododdělení patří většina známých lichenizovaných hub a taktéž většina známých imperfektních hub (žijících pouze jako anamorfy) přísluší s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1443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houba</cp:lastModifiedBy>
  <dcterms:modified xsi:type="dcterms:W3CDTF">2020-10-20T16:16:17Z</dcterms:modified>
  <cp:revision>179</cp:revision>
  <dc:subject/>
  <dc:title>Snímek 1</dc:title>
</cp:coreProperties>
</file>