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png" ContentType="image/pn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A82-27E9-48AA-8D98-30267C00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325-2A87-49FF-973E-8B83828B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EBC-2759-4BCB-ACEA-7271CB4A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096-2075-4EF9-AEE1-93F830C8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4E5-8863-47A9-AD5E-E58C5564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2FA-3B73-4E2E-A080-3F54BC9F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5E7-8C41-46CC-9060-CE4C268F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E46-19BD-448D-BA0C-5AF22956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5FF-20E8-42DF-AB0F-BAEA9B72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0D3-2F98-4BF7-94B6-2844F0B8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BAD-58BD-42C7-A6F4-2957E299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907-6347-43CF-8AD1-2C119FE6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ADFE-AA92-47B4-ABAD-F012E1EE8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-science-press.com/browse/cellcycle/illustrations/2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http://www.uniovi.es/bos/Asignaturas/Botanica/9.htm" TargetMode="External"/><Relationship Id="rId5" Type="http://schemas.openxmlformats.org/officeDocument/2006/relationships/hyperlink" Target="http://www.uniovi.es/bos/Asignaturas/Botanica/9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http://ocwus.us.es/produccion-vegetal/sanidad-vegetal/Sanidad_vegetal/Tema%2021_HTML/page_09.htm" TargetMode="External"/><Relationship Id="rId4" Type="http://schemas.openxmlformats.org/officeDocument/2006/relationships/hyperlink" Target="http://ocwus.us.es/produccion-vegetal/sanidad-vegetal/Sanidad_vegetal/Tema%2021_HTML/page_09.htm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commanster.eu/commanster/Mushrooms/Asco/SpAsco/Taphrina.betulina.html" TargetMode="External"/><Relationship Id="rId7" Type="http://schemas.openxmlformats.org/officeDocument/2006/relationships/hyperlink" Target="http://www.commanster.eu/commanster/Mushrooms/Asco/SpAsco/Taphrina.betulina.html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www.nature-diary.co.uk/2005-09-16c.htm" TargetMode="Externa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http://www.uniovi.es/bos/Asignaturas/Botanica/9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zygomycetes.org/index.php?id=9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ww.med.ncku.edu.tw/HsuML/mycology/&#22294;&#29255;/Zygospores_of_Mucorales_drawing.jp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Dikarya - Ascomycota: Taphrinomycotina, Sacchar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0880"/>
            <a:ext cx="8382240" cy="43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APHRIN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vděpodobně parafyletická skupina, "slepená" na základě molekulárních analý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na bázi vývoje vřeckatých h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CHIZOSACCHA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rfologicky podobná tříd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aky v sekvencích DN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NA ukazují spíš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buznost s dalšími řády než s pravými kvasink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jednotlivé buň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vláknité ty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saccharomyces pom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ýroba "afrického piva" z pro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saccharomyces oct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e fících a hroznech (kvašení ví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10360"/>
            <a:ext cx="396216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rovnání způsobů tvorby nových buněk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a) pučení u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accharomyces cerevisia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b) dělení buněk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chizosaccharomyces pomb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new-science-press.com/browse/cellcycle/illustrations/2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2320920" cy="421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flipH="1">
            <a:off x="456840" y="4572000"/>
            <a:ext cx="4457880" cy="1919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65760" y="462744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http://www.uniovi.es/b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5"/>
              </a:rPr>
              <a:t>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01200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9337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80880"/>
            <a:ext cx="8382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APHRIN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parazité rostlin, liší se od předchozích tříd (i od druhé čeledi v této třídě) tvorbou dikaryotického parazitického myc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1306440"/>
            <a:ext cx="4470120" cy="522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1320840"/>
            <a:ext cx="480060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idní fáze je saprofyt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vasinkovité buňky =&gt; kopulace vypučivších blastospor nebo párování jader v pseudomyceliu =&gt; dikaryotické mycelium (parazitické, 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; netvoří se gametangia ani as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ní hyfy), vytváří na povrchu hostitele chlamydospor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ch karyog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rozdělení v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ální degeneruje, z terminální se vyvine vřecko s dvojvrstevnou stěnou =&gt; spory se uvolňují pod tlakem štěrbinou =&gt; zase pučí (mohou se takto pomnožit už ve vřec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4038480" cy="131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4572000"/>
            <a:ext cx="5562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I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hluk askogenních buněk; J: 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aphrina defor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řecka se sporami na povrchu lis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Genera of Asco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mycetes, vol. II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45164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5047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80880"/>
            <a:ext cx="38862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 de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kadeřavost listů broskvo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kresba: a. listy, b. vřecka, c. 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+ foto vpravo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pru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uchoř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zrávající a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tvořené plo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livo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uprostřed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cerasi, T. bet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uj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ech pupenů, způsobují tvorbu čarověníků (zmnožení větv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vlevo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23_taphrina-obr" descr=""/>
          <p:cNvPicPr/>
          <p:nvPr/>
        </p:nvPicPr>
        <p:blipFill>
          <a:blip r:embed="rId1"/>
          <a:stretch/>
        </p:blipFill>
        <p:spPr>
          <a:xfrm>
            <a:off x="4114800" y="322200"/>
            <a:ext cx="4649760" cy="2801880"/>
          </a:xfrm>
          <a:prstGeom prst="rect">
            <a:avLst/>
          </a:prstGeom>
          <a:ln w="0">
            <a:noFill/>
          </a:ln>
        </p:spPr>
      </p:pic>
      <p:pic>
        <p:nvPicPr>
          <p:cNvPr id="121" name="26_taphrina-deformans" descr=""/>
          <p:cNvPicPr/>
          <p:nvPr/>
        </p:nvPicPr>
        <p:blipFill>
          <a:blip r:embed="rId2"/>
          <a:stretch/>
        </p:blipFill>
        <p:spPr>
          <a:xfrm>
            <a:off x="5943600" y="3321000"/>
            <a:ext cx="2757600" cy="2665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60642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ocwus.us.es/produccion-vegetal/sanidad-vege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/Sanidad_vegetal/Tema%2021_HTML/page_09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27_taphrina-betulina" descr=""/>
          <p:cNvPicPr/>
          <p:nvPr/>
        </p:nvPicPr>
        <p:blipFill>
          <a:blip r:embed="rId5"/>
          <a:stretch/>
        </p:blipFill>
        <p:spPr>
          <a:xfrm>
            <a:off x="479520" y="4000680"/>
            <a:ext cx="2971800" cy="198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606420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commanster.eu/commanster/Mushrooms/A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SpAsco/Taphrina.betulin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28_taphrina-pruni" descr=""/>
          <p:cNvPicPr/>
          <p:nvPr/>
        </p:nvPicPr>
        <p:blipFill>
          <a:blip r:embed="rId8"/>
          <a:stretch/>
        </p:blipFill>
        <p:spPr>
          <a:xfrm>
            <a:off x="3511440" y="3321000"/>
            <a:ext cx="238464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29000" y="606420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http://www.nature-diary.co.uk/2005-09-16c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193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t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rostlin s mezibuněčným, přehrádkovaným myceliem s mnohojadernými buňkami, zjištěna u nich celulóza v buněčné stěn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myceliu se vytvářejí interkalárně tlustostěnné chlamydospory s dvouvrstevnou stěn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 přezimování praská vnější exospor, vyhřezne endospor =&gt; je z něj meiosporangium =&gt; meioza =&gt; čtveřice jader vzniklých dělením jednotlivých jader představují "bezblanné vřecko", celý útvar se nazývá synaskus =&gt; tlakem zvětšující se vakuoly jsou jádra vypuzena ze synasku =&gt; buď se množí pučení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kopulují =&gt; diploidní mycelium =&gt; dalš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s macr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razit miřík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3030480" cy="224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3200400" cy="292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79520" y="2590920"/>
            <a:ext cx="1993680" cy="37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4600" y="5283360"/>
            <a:ext cx="36417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„hálky“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bršlici; uprostřed a. „hálky“, b. průřez hálkou, c. chlamydospory - askogenní buňky, d. uvolnění vřecka, e. ask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Kresba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627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Carl Farmer, http: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www.nature-diary.co.uk/2007-09-15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443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0452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808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CCHA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CCHAROMYCE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KVASI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05520" y="387360"/>
            <a:ext cx="3657600" cy="1112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1241280"/>
            <a:ext cx="83822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ostatné buňky nebo pučivé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, převažuje nepohlavní rozmnožování (tvorba blasto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saprofyté, jejich fermentace cukrů (rozklad na etanol a 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téza různých organických látek jsou bohatě využívány v biotechnolo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7080" y="2508120"/>
            <a:ext cx="4567320" cy="3435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253044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s cerevisi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vasinka pivní) - výroba piva, droždí; haplo-diplobiotický cyklus, v kultuře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romadě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buňk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tvorba arthrospor (mycelium se rozpadá na úseky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od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áknité endofytické mycelium, zvláštností je kopu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721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í; na podobnosti pohlavního procesu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 (Zygomycetes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a teorie o vývinu této skupiny právě od předků spájiv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9436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Obr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ebaryomyce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anseni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eget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uňky,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učení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jednoduché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o,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a; dol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podascu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bid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celium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a, d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y.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3780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952880" y="38088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somatogamické (vzácněji kopulují gametangia nebo aplanogamety) =&gt; v zygotě je pouze 1 jádro (splývaly-li vícejaderné buňky, ostatní jádra degenerují) =&gt; vřec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nikají přímo ze zygoty (holozygotní) nebo jako výrůstek ze zygoty (exozygotní druhy) nebo ze zygoty vyroste diploidní myceliu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ěm se vytvoří vřecka =&gt; spory se uvolní rozpadem vřecka nebo pórem na vrchol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u různých druhů haplobiotický, haplo-diplobiotický (převážně izomorfická rodozm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iz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nebo diplobiot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od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flipH="1">
            <a:off x="456840" y="457200"/>
            <a:ext cx="4459320" cy="2887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4459320" cy="215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54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432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4214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YGOMYCOTA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SPÁJ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cenocytické hyfy, přehrádky většinou oddělují jen rozmnožovací struktury (neplatí absolutně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ývojově odvozených skupin již dochází k tvorbě přehrádek, ale zůstávaj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úseky (obdoba sifonokladální stél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rová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osanem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ý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uk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 sporangiích se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 hyfách se tvoří tlustostěnné chlamyd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angiospor: na myceliu se vytvoří svazky sporangioforů =&gt; vrcholové části zduří =&gt; vytvoří se sporangium (obvykle kulovité) =&gt; sem se přesune část cytoplazmy s jádry =&gt; z centrální části vznikne tzv. kolumela (střední sloupek, přetrvávající i po rozpadu sporangia), cytoplazma v periferní části se rozdělí =&gt; části se obalí stěnou =&gt; 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sporangioforu pod sporangiem je u někter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šířena v tzv. apofýz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ůvodních typů mnohosporová sporangia, vývojov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dence vede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sporovým (podobně jak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u 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stěna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díl oproti konid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1811" t="14510" r="17716" b="7255"/>
          <a:stretch/>
        </p:blipFill>
        <p:spPr>
          <a:xfrm>
            <a:off x="6539040" y="4205160"/>
            <a:ext cx="2147760" cy="194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5751360"/>
            <a:ext cx="21333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ngronella butler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zygomycetes.org/index.php?id=90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435780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lume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54244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ofýz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472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78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9752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838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- (vzácněji anizo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načení "zygogamie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lývání gametang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gametang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ze stejného mycel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sí být z růz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í (+ a –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ůbě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hl.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ýběžky z mycel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emotakticky přitahovány =&gt; kontakt, tvoří se na nich progametangia =&gt; jejich oddělení přehrádkou =&gt; mnohojaderná gametangia =&gt; splynutí, plazmogamie a karyogamie =&gt; zygota =&gt; vytvoří se zygosporangium, obsahující 1 tlustostěnnou zygosporu - odpočívající stadium =&gt; po období klidu klíčí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a a následně zygospory jsou neseny rozšířenými konci hyf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spenz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erých zástupců na suspenzorech vyrůstají hyfy, které obalují zygosporu (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až úplně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dzvěst tvorby plodnice u vývojově pokročilejších pododdělení (připomínají primitivní kleistothecium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meiozi dochází při zrání nebo klíčení zyg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iv. cyklus je haplobiot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5632200" cy="3028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3124080"/>
            <a:ext cx="60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98764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701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794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půdní, koprofilní aj., některé skupiny zahrnují parazity rostlin, hub i živočich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využívána v biotechnologii pro produkci různých lá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00800" y="1349280"/>
            <a:ext cx="2352600" cy="289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15586" r="0" b="19483"/>
          <a:stretch/>
        </p:blipFill>
        <p:spPr>
          <a:xfrm>
            <a:off x="6400800" y="4267080"/>
            <a:ext cx="2354400" cy="215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341360"/>
            <a:ext cx="5943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uc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většiny druhů málo přehrádkované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u někt. druhů se v tekutých médiích vytvoří přehrádky nebo mycelium rozpadne na buňky =&gt; tzv. dimorfismus (různý charakter stélky v růz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porangia mnohosporová (až 1000 spor), u odvozenějších typů méně spor ve sporangiu (až jedna =&gt; nesprávně označováno za "konidii"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kromě pohlavně vzniklých zygospor tvoří některé druhy též partenogeneticky tzv. azyg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ětšinou saprofyté na půdě, trusu, potravinách 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ucor, Rhizop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ropidl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rhynchus, Pil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měchomršť – pod sporangiem má vak, v němž se hromadí voda =&gt; zvětšující se tlak nakonec odmrští celé sporangium), některé druhy i parazit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yužití: fermentace cukrů a bílkovin, výroba různých organických kys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57960" y="5932440"/>
            <a:ext cx="2438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a se suspenz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464160" y="3364920"/>
            <a:ext cx="4496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ed.ncku.edu.tw/HsuML/mycology/圖片/Zygospores_of_Mucorales_drawing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46800" y="42451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ipbot.unict.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sistematica_es/Muco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836640"/>
            <a:ext cx="1627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y rodů řá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13413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C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012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0700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9520" y="457200"/>
            <a:ext cx="221436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743200" y="457200"/>
            <a:ext cx="3429000" cy="243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6248520" y="380880"/>
            <a:ext cx="2590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oubáš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inellus fusiger 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arazit na helmovce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rek Jun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idsystem.cz/mushrooms/fotoframe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Měchomršť,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ilobolu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 – koprofilní druh, natáčí a vystřeluje sporangia ke světlu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305160"/>
            <a:ext cx="838224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zemní druhy, starší mycelia přehrádkovan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nestejně velká gamet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se tvoří na tzv. epigoniu - výrůst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ího gametangia =&gt; jsou hustě obaleny hyf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tva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o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iný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važovaný svého času jako možný vývojový předchůd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řeckat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o odvozené znak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y v myceliu, tvor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orokarp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dálení plazmogamie a kary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gamie předchází karyogamii, ale nelze ještě hovořit o skutečné dikaryofáz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n párování jader v mladé zygospoř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rtier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ůdní saprofyté bez kolumely ve sporan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3000240"/>
            <a:ext cx="2857320" cy="1843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97200" y="2924280"/>
            <a:ext cx="29718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dogone lactiflu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p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. Trappe, http://www.natruffling.org/enla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2728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6912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2386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0880"/>
            <a:ext cx="8382240" cy="69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A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pa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hub, prvoků a živočich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ICKXELL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argari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aktéž parazité, pro změnu 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ou půdní nebo koprofilní saprofyté, jejich sporangia se tvoří na specializovaných větvích zvaných sporokla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 pohlavní proces a tvorba zyg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žijí v larvách sladkovodního hmyzu, podobné znaky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el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. proces pozorován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nezná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ují se arthrosporami, žijí na korýších nebo chvostoskocí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ední dva řády mají společnou ekolog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jí v zažívacím traktu členovc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 byly dříve řazeny do samostatné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rich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mycelium je pouze přichyceno na stěná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oniká do buněk; pravděpodobně jsou komenzálo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řiživují se na potravě živočich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bázi redu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a je speciální přichycovací apará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ožení bun. stěny různé u růz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hitin, glukosamin, galaktosam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 sporangiospory, arthrospory (rozpad vláken), u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richo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sporová sporangia s přívěsky (spojeny se stěnou sporangia), po dozrání vystřelov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8454" t="0" r="0" b="12980"/>
          <a:stretch/>
        </p:blipFill>
        <p:spPr>
          <a:xfrm>
            <a:off x="6377040" y="3578400"/>
            <a:ext cx="2314440" cy="1758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302520" y="515952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bsu.edu/classes/ruch/msa/litchwart.htm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57960" y="3546360"/>
            <a:ext cx="236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Arial"/>
              </a:rPr>
              <a:t>mycelium s trichospora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Stachvl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pedif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1657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611440"/>
            <a:ext cx="83822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 mus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vodce mušího moru (sporangium vyklíčí na povrchu těla mouchy ve vlákno =&gt; vroste dovnitř =&gt; rozroste se a rozpadne na hyfová tělíska; moucha uhyne =&gt; na povrch těla vyrostou sporangiofory =&gt; vytvoří se a jsou odmrštěna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7717" t="23329" r="17717" b="0"/>
          <a:stretch/>
        </p:blipFill>
        <p:spPr>
          <a:xfrm>
            <a:off x="5940360" y="457200"/>
            <a:ext cx="280188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13280" y="22780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botit.botany.wisc.edu/toms_fungi/mar2000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10163" b="0"/>
          <a:stretch/>
        </p:blipFill>
        <p:spPr>
          <a:xfrm>
            <a:off x="457200" y="3822840"/>
            <a:ext cx="2048040" cy="22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05240" y="3822840"/>
            <a:ext cx="3487680" cy="223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1063" t="0" r="21260" b="0"/>
          <a:stretch/>
        </p:blipFill>
        <p:spPr>
          <a:xfrm>
            <a:off x="5981760" y="3822840"/>
            <a:ext cx="2762280" cy="223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80880"/>
            <a:ext cx="55594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NTOMOPHTH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v dospělosti přehrádkované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y zástupců se rozpadá na tzv. hyfová tělíska (mohou spolu i somatogamicky kopulova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monosporická, odmršťovaná pod tlak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kultativ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rostlin, hub nebo živočichů (i lidí), především hmy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524400"/>
            <a:ext cx="586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sa sporangií na povrchu těla mouchy, nahoře sporul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1000" y="3757680"/>
            <a:ext cx="34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uoguelph.ca/~gbarron/MISCELLANEOUS/entomoph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600" y="6165720"/>
            <a:ext cx="8424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asidiobo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aprofyté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trusu žab), asi příbuzní chytri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08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6526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5516640"/>
            <a:ext cx="8382240" cy="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ou ekologii má dru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osiphon pyriform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terý má ve své stél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ymbiotické endocyane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považován za jediný lichenizovaný druh, jehož mykobiontem je jiná houba než vřeckatá nebo stopkovýtrus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044960" cy="399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3720" y="2035080"/>
            <a:ext cx="25146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je cenocytická, většinou se netvoří sporan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6304"/>
          <a:stretch/>
        </p:blipFill>
        <p:spPr>
          <a:xfrm>
            <a:off x="925560" y="218772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3787920"/>
            <a:ext cx="156384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380880"/>
            <a:ext cx="426744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LOM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centně až na úrovni samostatn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 jsou hodnoceny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dřívějš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143160"/>
            <a:ext cx="2971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ouby vytvářej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kým počtem druhů cévnatých rostli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buskulární mykorhi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210200"/>
            <a:ext cx="6705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dříve vezikulo-arbuskulární = VAM; má ji asi 80 % cévnatých rostlin): mycelium proniká do rostlinných buněk a vytváří tam větvené keříčkovité útvary - arbuskuly (někdy též zásobní měchýřky - vezikuly) =&gt; výměna látek pomáhá růstu a výživě hostitel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54680" y="1998000"/>
            <a:ext cx="160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rbuskulu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lamyd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5956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tolweb.org/Glomer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7304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380880"/>
            <a:ext cx="8382240" cy="63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IKARY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SCOMYCO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VŘECKA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sdružující houby, jejichž výtrusy vznikají ve (více či méně dokonale vyvinutém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atins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žné čísl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o má povahu meiosporangia - zralé vřecko je diploidní buňka, ve které dochází k meiozi při vzniku spor (obvykle je jedinou diploidní buňkou v živ. cykl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se tvoří endogenně, obvykle v počtu 8 v jednom vřecku (po meioze ještě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óza, ale může jich být i jiný poč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mnoha zástupců se vřecka a askospory za normálních podmínek vůbec netvoří a houba žije jen v imperfektním stadiu (anamo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- přehrádko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u kvasinek i jednotlivé buňky, resp. jejich kolonie, příp. pučivé pseudomycelium); vegetativní mycelium je haploidní (výjimky opět u kvasin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hrádky mají ve střed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chý pó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jimečně chyb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zástupc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zizomycot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hlavním procesu dochází ke vzniku dikaryotických hyf, tvoříc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ask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 plodnicích pak dochází ke karyogamii v koncových buňká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kogenních hy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 nich vznikají vřec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dikaryotické mycelium se vyskytuje 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omycet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á se o nejpočetnější skupinu hub, zahrnující cca 60 % známých taxon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tohoto pododdělení patří většina známých lichenizovaných hub a taktéž většina známých imperfektních hub (žijících pouze jako anamorfy) přísluší s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443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6:17Z</dcterms:modified>
  <cp:revision>179</cp:revision>
  <dc:subject/>
  <dc:title>Snímek 1</dc:title>
</cp:coreProperties>
</file>