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B5F-5241-4652-B1F1-5DBC552F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F44-3F05-4AB1-83DA-98DF0DD2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F3B-F3E6-4783-8E4B-9745EB54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5B6-D35C-4866-8CEA-0D856AF0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7C3-1E05-4107-B215-DACECB18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1FF-25BE-40B7-BD3A-6E616DA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A16-CFB5-401A-AB7F-F310AD09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0CB-1555-43AA-B9D6-77A9B48C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3F0-9DFC-41D9-A3E1-3A6C8998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07A-3962-4E3F-8856-079304DC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9C3-C626-40A5-A3D2-DC86609E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0C2-F836-4B38-96A0-FC2D600A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9A7C-7599-497E-959F-A6F076A03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www.botany.hawaii.edu/faculty/wong/Bot201/Basidiomycota/Uredinomycetes/Uredinomycetes.htm" TargetMode="External"/><Relationship Id="rId4" Type="http://schemas.openxmlformats.org/officeDocument/2006/relationships/hyperlink" Target="http://www.botany.hawaii.edu/faculty/wong/Bot201/Basidiomycota/Uredinomycetes/Uredinomycetes.htm" TargetMode="External"/><Relationship Id="rId5" Type="http://schemas.openxmlformats.org/officeDocument/2006/relationships/hyperlink" Target="http://www.botany.hawaii.edu/faculty/wong/Bot201/Basidiomycota/Uredinomycetes/Uredinomycetes.htm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botany.hawaii.edu/faculty/wong/BOT135/2009/Lecture07/Lect08.htm" TargetMode="External"/><Relationship Id="rId8" Type="http://schemas.openxmlformats.org/officeDocument/2006/relationships/hyperlink" Target="http://www.botany.hawaii.edu/faculty/wong/BOT135/2009/Lecture07/Lect08.htm" TargetMode="External"/><Relationship Id="rId9" Type="http://schemas.openxmlformats.org/officeDocument/2006/relationships/hyperlink" Target="http://www.botany.hawaii.edu/faculty/wong/BOT135/2009/Lecture07/Lect08.htm" TargetMode="External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hyperlink" Target="http://www.apsnet.org/online/archive/1998/barley70.htm" TargetMode="External"/><Relationship Id="rId16" Type="http://schemas.openxmlformats.org/officeDocument/2006/relationships/hyperlink" Target="http://www.apsnet.org/online/archive/1998/barley70.htm" TargetMode="External"/><Relationship Id="rId17" Type="http://schemas.openxmlformats.org/officeDocument/2006/relationships/hyperlink" Target="http://www.apsnet.org/online/archive/1998/barley70.htm" TargetMode="External"/><Relationship Id="rId18" Type="http://schemas.openxmlformats.org/officeDocument/2006/relationships/hyperlink" Target="http://www.apsnet.org/online/archive/1998/barley70.htm" TargetMode="External"/><Relationship Id="rId19" Type="http://schemas.openxmlformats.org/officeDocument/2006/relationships/image" Target="../media/image23.jpe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hyperlink" Target="http://www.anbg.gov.au/fungi/images-captions/septobasidium-sp-0201.html" TargetMode="External"/><Relationship Id="rId4" Type="http://schemas.openxmlformats.org/officeDocument/2006/relationships/hyperlink" Target="http://www.anbg.gov.au/fungi/ecology-invertebrates.html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agric.wa.gov.au/PC_92016.html?s=1001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www.broadinstitute.org/news/169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www.broadinstitute.org/news/169" TargetMode="External"/><Relationship Id="rId7" Type="http://schemas.openxmlformats.org/officeDocument/2006/relationships/hyperlink" Target="http://www.nature-diary.co.uk/2008/06-11.htm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i-tuebingen.de/uni/bbm/mycology/botryoba.htm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-mykopat.slu.se/Newwebsite/mycorrhiza/kantarellfiler/texter/rtf.htm" TargetMode="External"/><Relationship Id="rId3" Type="http://schemas.openxmlformats.org/officeDocument/2006/relationships/hyperlink" Target="http://www-mykopat.slu.se/Newwebsite/mycorrhiza/kantarellfiler/texter/rtf.htm" TargetMode="External"/><Relationship Id="rId4" Type="http://schemas.openxmlformats.org/officeDocument/2006/relationships/hyperlink" Target="http://www-mykopat.slu.se/Newwebsite/mycorrhiza/kantarellfiler/texter/rtf.htm" TargetMode="External"/><Relationship Id="rId5" Type="http://schemas.openxmlformats.org/officeDocument/2006/relationships/hyperlink" Target="http://www.mushroomthejournal.com/greatlakesdata/Terms/steri702.html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pollen.utulsa.edu/Spores/basidiospores.html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bsu.edu/classes/ruch/msa/mims.html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cs.wikipedia.org/wiki/Mykorhiza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 Basidiomycota: Pucciniomycotina, Ustilagin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14173" r="0" b="7874"/>
          <a:stretch/>
        </p:blipFill>
        <p:spPr>
          <a:xfrm>
            <a:off x="228600" y="1828800"/>
            <a:ext cx="228744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934320" y="4711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botany.hawaii.edu/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wong/Bot201/Basidi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/Uredinomycetes/Uredinomycetes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(řez spermog.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+ aecia, teliosp.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+ bazidie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286000" cy="1527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991200" y="42102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botany.hawaii.edu/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wong/BOT135/2009/Lecture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Lect08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(spermogonia, uredia + řez ložiskem, telia + řez ložiskem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6705720" y="228600"/>
            <a:ext cx="2239920" cy="1652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6502320" y="195588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4267080" y="2509920"/>
            <a:ext cx="2210040" cy="172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3949560" y="43434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228600" y="4648320"/>
            <a:ext cx="2971800" cy="1992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16200000">
            <a:off x="1889640" y="508716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. Steffenson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5"/>
              </a:rPr>
              <a:t>http://www.apsnet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6"/>
              </a:rPr>
              <a:t>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7"/>
              </a:rPr>
              <a:t>/online/archive/1998/barley70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8"/>
              </a:rPr>
              <a:t>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9"/>
          <a:srcRect l="1432" t="0" r="2863" b="3150"/>
          <a:stretch/>
        </p:blipFill>
        <p:spPr>
          <a:xfrm>
            <a:off x="4270320" y="228600"/>
            <a:ext cx="2406600" cy="2214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27200" y="228600"/>
            <a:ext cx="175284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nahoře spermogonia s kapkami nektaru, dole aecia, uprostřed řez listem s ložisk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 uredia a řez ložiske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pod nimi teliospory a telia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dole tel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ymno- sporang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na cypřišku a bazidie vyrůstající z telios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3564000" y="45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3770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ecializovaní parazité (nebo symbionti?) červc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porůstá povrch rostliny, proniká haustorii do těla červ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de získává živiny, které on saje z rostliny; naopak je chráněn několikavrstevnou strukturou, kterou hyfy na substrátu vytvářej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ovrchové vrstvě tvorba hymenia (příčně přeh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dk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azidie) a 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náší je hmyz pronikající z hyfové struktury 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9800" y="2209680"/>
            <a:ext cx="3695760" cy="2376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267080" y="2076480"/>
            <a:ext cx="3581640" cy="2676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4572000"/>
            <a:ext cx="47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Heino Lepp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anbg.gov.au/fungi/images-captions/septobasidium-sp-0201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8880" y="457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anbg.gov.au/fungi/ecology-invertebrate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800600"/>
            <a:ext cx="838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levo houba pokrývající povrch větve s přisátými červci; vpravo schematický průřez – rezavá větev, okrové tělo červce, modrý „chobotek“, kterým nasává živiny, hnědé mycelium porůstající větev, červené hyfy vrůstající do těla červ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88508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3966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80880"/>
            <a:ext cx="6477120" cy="60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USTILAGIN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STILAGIN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n.: dnes je této třídy řazen i ř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ocys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zahrnující rody, patř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dičním systému k mazlavým sně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něti praš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parazité se sil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dukovanou haploidní fáz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vzniká kopula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ch mycelií nebo primárního mycelia s bazidiosporou nebo dvou sekundárních spor (vypučivších z bazidiospory); často se tvoří kvasinkovité stadium nahrazující primární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- jednoduché póry, tvorba přezek, intercelulár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cel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 haustorii (řídčejí intracelulární)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oce specializovaní (nejen na hostitele, ale i jen na některé nadzemní orgány - listy, květy aj.) parazité cévnatých rostl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vá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nahoře vlev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U. triti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prav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U. mayd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thracoide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caric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tř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foto vpra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2490" t="0" r="5496" b="0"/>
          <a:stretch/>
        </p:blipFill>
        <p:spPr>
          <a:xfrm>
            <a:off x="5105520" y="76320"/>
            <a:ext cx="1744560" cy="318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16200000">
            <a:off x="3714480" y="1949400"/>
            <a:ext cx="259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agric.wa.gov.au/PC_92016.html?s=1001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rcRect l="13215" t="0" r="13215" b="0"/>
          <a:stretch/>
        </p:blipFill>
        <p:spPr>
          <a:xfrm>
            <a:off x="6900840" y="74520"/>
            <a:ext cx="1755720" cy="318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694560" y="322272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roadinstitute.org/news/169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rcRect l="16354" t="0" r="0" b="17717"/>
          <a:stretch/>
        </p:blipFill>
        <p:spPr>
          <a:xfrm>
            <a:off x="6900840" y="3429000"/>
            <a:ext cx="1755720" cy="3189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9880" y="6248520"/>
            <a:ext cx="31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F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oto Carl Farme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nature-diary.co.uk/2008/06-11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716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3303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80880"/>
            <a:ext cx="3886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množování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plodnice, na dikaryotickém myceliu se tvoří tlustostěnné teliospory (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) =&gt; v nich dojde ke karyogamii =&gt; vyklíčí tzv. promycel =&gt; v něm meioza - stává se metabazidií (příčně přehr.) =&gt; tvorba bazidiospor = sporidií (každ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o v metabazidii se ještě mitoticky rozdělí na 2 =&gt; přejdou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) =&gt; ty pak spolu kopulují rovnou anebo kopulují buňky z nich vypučivší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růs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 mycelium =&gt; infekce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asté napadení embrya, po vyklíčení sněť prorůstá rostlinou a projeví se až v dospělosti přeměnou obsahu plodu v mas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yf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rážející na povrch hostitele odškrcují dikaryotické blastospory =&gt; další infe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8880" y="0"/>
            <a:ext cx="44989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6486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80880"/>
            <a:ext cx="8382240" cy="22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EXOBAS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ktéž parazitické houby, na rozdíl od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ají holobazi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soce specifičtí parazité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bun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m s haustori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 se tvoří na povrchu hostitel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padají zástupce některých čeledí rostlin (způsobují nádory, skvrny na listech, deform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basidium vaccin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líška brusinková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ervenobílé skvrny na brus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9520" y="2781360"/>
            <a:ext cx="3533760" cy="2651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71960" y="2781360"/>
            <a:ext cx="3533760" cy="2651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2040" y="5416560"/>
            <a:ext cx="487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</a:t>
            </a:r>
            <a:r>
              <a:rPr b="0" lang="cs-CZ" sz="800" spc="-1" strike="noStrike">
                <a:solidFill>
                  <a:srgbClr val="000000"/>
                </a:solidFill>
                <a:latin typeface="Verdana"/>
              </a:rPr>
              <a:t>Witold Wójcia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, http://www.grzyby.pl/gatunki/Exobasidium_vaccinii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740720" y="27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9656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380880"/>
            <a:ext cx="4648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lleti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něti mazl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parazité, odlišní v mnohém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nětí prašných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vytváří se primární mycelium,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m myceliu primitivní dolipory (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ště i jednoduché pó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dikaryotickém myceliu se též tvoří teliospory (chlamydospory), z nichž klíčí promyce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a někdy v něm a někdy u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ře =&gt; pak přesun haploidních jader do promycelu =&gt; z něj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v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 (promycel je tedy už vlastně metabazidií) =&gt; tvorba bazidiospor =&gt; kopulují ještě na bazidii pomocí kopulačních kanálků =&gt; přesun jádra z jedné do druhé =&gt; ta pak vyklíčí hyfou nebo sekundárními sporami (nikdy pučení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infikuje dikaryotická hyfa, nejčastěji v půdě při klíčení rostliny (infek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předem v embryu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0000" y="380880"/>
            <a:ext cx="3759120" cy="609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5247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53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ligátní parazité cévnatých rostlin, v napadených orgánech často vytváří při tvorb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r páchnoucí ložiska se zbytky hyf (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llet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lletia-caries" descr=""/>
          <p:cNvPicPr/>
          <p:nvPr/>
        </p:nvPicPr>
        <p:blipFill>
          <a:blip r:embed="rId1"/>
          <a:stretch/>
        </p:blipFill>
        <p:spPr>
          <a:xfrm>
            <a:off x="479520" y="1143000"/>
            <a:ext cx="4098960" cy="2589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2040" y="372420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viarural.com.ar/viarural.com.ar/insumosagropecuarios/agricolas/agroquimic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rizobacter/aa-enfermedades/tilletia-caries-01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tilletia-controversa_teliospores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3733920"/>
            <a:ext cx="358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. Goates, http://www.apsnet.org/online/archive/1998/barley81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040" y="4038480"/>
            <a:ext cx="8382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pšeničné klasy napadené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illetia carie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. tritic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 vpravo teliospory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Tilletia controvers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49424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mka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zv. bazidiogenní kvasinky, známé jako anamorf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bol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byly některými autory řazeny k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illet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leč podle aktuálních poznatků se jedná o anamorfy hub z pod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uccini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61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ASIDIOMYCOTA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STOPKOVÝTRUS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m rysem oddělení je karyogamie a meioza probíhajíc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rminální buňce dikaryotické hyfy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azidie = meiosporangium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 stěně přehrádek vytvořen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li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óry, jejichž obě strany jsou kryty membránovou čepičkou - parentosomem (dolipory nejsou vytvořeny u všech stopkovýtrusných hub, např. u rz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složkou vícevrstevné buněčné stěny je chi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e fotografií – bazidie: M. J. Carlile et S. C. Watkinson: The Fungi, Academic Press, London, 1994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dolipor: G. Langer (1994), Die Gattung Botryobasidium Donk (Corticiaceae, Basidiomycetes), Bibl. Mycol. 158: 1-459;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uni-tuebingen.de/uni/bbm/mycology/botryoba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33428" b="0"/>
          <a:stretch/>
        </p:blipFill>
        <p:spPr>
          <a:xfrm>
            <a:off x="457200" y="1523880"/>
            <a:ext cx="3871800" cy="201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95680" y="137160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om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bnost s vřeckatými houbami, ale zásadní rozdíl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gen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stopkách vyrůstajících z bazidie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rigmat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ejčastěji po 4, ale počet může být 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19720" y="3211560"/>
            <a:ext cx="4248000" cy="1639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564000"/>
            <a:ext cx="403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láknité přehrádkovan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pletením více myceliálních vláken vznikají pevné provazce, rhizomorfy nebo sklero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298296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ěřítko: (a) 0,5 µm, (b) 0,2 µ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99564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838836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48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081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38224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ením bazidiospory vzniká haploid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jednojaderné buňky, někdy při klíčení dělení jader rychlejší než růst přehrádek, ale takto vzniklá vícejadernost je dočasná); výjimečně tato fáze může chybět, pokud dojde již ke kopulaci bazidiospor (mazlavé sněti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na sekundárním myceliu dochází k tvorbě plodnic (není časově a prostorově vázána, nemusí se tvořit hned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stě somat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opak, dikaryotické mycelium může růst řadu let bez vytvoření plodnic; zde je zásadní rozdíl oproti vřeckatým houbá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tvořící plektenchymatická pletiva v plodnicích jsou někdy označovány jako terciální mycelium, ačkoli se jedná stále o dikaryotické hyf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hlediska životního cyklu j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n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načně omezena je délka života haploidního primárního mycelia a diploidní fázi představuje jediná buň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22640" y="1646280"/>
            <a:ext cx="4648320" cy="1985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50804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 vede ke vzniku dikaryotickéh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ho myce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m probíhají konjugované mitózy spojené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z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ajišťují rovnoměrné rozdělení + a – jader do dceřinných buněk; ne u všech skupin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ě přezek docház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14097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742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 - tvoří se konidie, obvykle na dikaryotickém myceliu, ale dominujícím stadiem je u stopkovýtrusných hub tele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ypické, že se vůbec nevytváří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častějším pohlavním procesem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vou mycelií (vzácněj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v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)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 se setkáme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í (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spermaci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24080" y="1968480"/>
            <a:ext cx="5573880" cy="385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218448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Životní cyklus stopkovýtrusné houby – primární a sekundární mycelium, tvorba plodnic a bazidi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516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808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je koncovou buň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 hyfy, oddělenou příčnou přehrádk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a meioza moh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prostředně navazovat v téže buňce, nebo může být odlišena probazidie (v ní dochází ke karyogamii) a metabazidie (mí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de probíh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bazidií podle jejich stavby: nepřehrádkova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× přehrádkami rozdělená (podélně nebo příčně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ragmobazidi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podle postavení vřeténka při meiozi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ast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řeténko v příčné poloze, bazidie bývá "tlustá") ×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ich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řeténko v podélné poloze, bazidie obvykle štíhlá, protáhl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3065400"/>
            <a:ext cx="3111480" cy="312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72200" y="3201840"/>
            <a:ext cx="25909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vorba spor na stichické holobazidii lišky obecn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E. Danell (1994): Cantharellus cibarius: Mycorrhiza formation and Ecology. Acta Univ. Ups.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35, 75 pp.,  Uppsala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-mykopat.slu.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Newwebsite/mycorrhiza/kantarellfiler/texter/rtf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Chiastická fragmobazidie rosolovky s dlouhými sterigma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Jean Louis Émile Boudier: Icones mycologicae ou iconographie des champignons de France, principalement Discomycètes, 1904–1909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mushroomthejournal.com/greatlakesdata/Terms/steri702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686040" y="2913120"/>
            <a:ext cx="240984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22764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7119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80880"/>
            <a:ext cx="838224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mohou vyrůstat přímo na myceliu, příp. z jiných buněk (např. teliospor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sně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ale nejčastěji je jejich tvorba soustředěna do omezené vrstv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men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se tvoří uvnitř plodnice v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ebě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ní pór, ale může být také na vrcholové straně 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bazidií hymenomycetoidních jsou spory aktivně odmršťovány (balistospory), zatímco z gastroidních se pasivně uvolňují (tvorba těchto typů bazidií neodpovídá přesně skupinám rouškatých hub a břichat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jsou různého tvaru i velikosti, mají různé barevné reakce na chemická činidla (cyanofilní, amyloidní, dextrinoidní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můcka při určová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vždy jednobuněčné, většinou jednojader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ení bazidi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ákladní typ je klíčení hyfou (=&gt; primární mycelium), kromě tohoto mohou z bazidiospor klíčit jednotlivé buňky (kvasinkovité buňky, konidie nebo sekundární spory, pouze u některých řádů ze skupi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91320" y="1081080"/>
            <a:ext cx="2886120" cy="2120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72200" y="306216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pollen.utulsa.edu/Spores/basidiospore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352680" y="1461960"/>
            <a:ext cx="2438640" cy="164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52680" y="306216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mim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2236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: haploidní jádra po meiozi projdou sterigmaty ven z buňky a obalí se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sto, kde spora přirůstá na sterigma, se nazývá hilum (obvykle zde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867280" y="112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8138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380880"/>
            <a:ext cx="838224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ponejvíce saprofytické, z nichž řada má schopnost přejít fakultativně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ismu, ale i specializované skupiny biotrofních parazitů (rzi, snět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ná je symbióza s cévnatými rostlinami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rhi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zájemný podíl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ě a ochraně, odumření jednoho partnera často vážně oslabí i druhého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trof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rhi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ov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áš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řínky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niká jen do mezibuněčných prostor (převlád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i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to,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řínky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alené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am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chomůr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trofní mykorhiza - hyfy pronikají do buněk rostl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 u by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mum je lichenizovaných hub, jen některé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nejsou zde ohraničené taxonomické skupiny zahrnu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é zástupce)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y významné jsou kromě fytopatogenních parazitů houby rozkládající celulózu a lignin - "dřevokazné" houb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zástupců zejména "masitých" hub jsou vyhledávané jedlé houby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jsou využívány halucinogenní látky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lézáme je v různých suchozemských biotopech, často ve spojen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čitými porosty vyšších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silie stopkovýtrusných hub známy ze starších třetihor, symptomy na cévnatých rostlinách přisuzované napadení parazitickými zástupci známy již z k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5000" t="0" r="0" b="0"/>
          <a:stretch/>
        </p:blipFill>
        <p:spPr>
          <a:xfrm>
            <a:off x="6273720" y="1930320"/>
            <a:ext cx="2362320" cy="184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600880" y="375912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cs.wikipedia.org/wiki/Mykorhiza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836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9193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8382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UCCINI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UCCINIOMYCETES (UREDIN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ales (Uredinal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biotrofní parazité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celulární mycelium vysílá haustoria do buněk hostitele =&gt; způsobují hypertrofie, hyperplazi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myceliu jsou jednoduché póry (nejsou vytvořeny dolipory), hyfy bez přezek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plodnice, zato se vytváří několik typů nepohlavních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ětš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druhů během svého životního cyklu střídá hostitele (heteroecické, dioecické = dvoubytné), některé druhy prožijí celý životní cyklus na jednom hostiteli (autoecické, monoecické = jednobyt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má životní cyklus zkrácený o jednu nebo více fází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vděpodobně se jedná o nejprimitivnější stopkovýtrusné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nemají přezky a dolipory, dlouhá haploidní fáze (u mikrocyklických rzí je jedinou formou vegetativní sté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gameto-somatogamie, více stadií nepohlavních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é cévnatých rostlin -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 travách aj., různí mezihostitelé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 bobovitých aj.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ragm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ymnosporang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na růžovi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vojový cyklus dvoubytné rzi: na mezihostiteli bazidiospora vyklíčí v hyfu =&gt; haploidní mycelium infikuje tkáně =&gt; pod svrchní epidermis se tvoří ložisko 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rmogon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ěm se z hyf odškrcují spermac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mčí game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3962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lu 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met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vytváří slad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nekt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 spermogoniích vyrůstají také receptivní hyfy =&gt; hmyz sající "nektar"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ne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rmac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oplození =&gt; dikaryotická buňka =&gt; sekundární mycelium =&gt; vy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í se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pidermis prorážejí ložis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e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ášilky, označ. I) =&gt; aeciospory =&gt; infekce hlavního hostitele (u au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ických rzí téhož hostitele) =&gt; výv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ho mycelia =&gt; tvorba ložisek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e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I) =&gt; ured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=&gt; další šíření nákazy během vegetační sezóny =&gt; před dozráním hostitele se vytvoří ložis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II) =&gt; teliospory - oproti krátce žijícím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hned klíčícím urediosporám jsou sporami přetrvávajícími a nejsou infekční =&gt; v teli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- fungují jako probazidie =&gt; vyklíčí z nich bazidie (příčně přehrádkované)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a =&gt;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22880" y="0"/>
            <a:ext cx="444024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9564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7689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3T20:54:46Z</dcterms:modified>
  <cp:revision>201</cp:revision>
  <dc:subject/>
  <dc:title>Snímek 1</dc:title>
</cp:coreProperties>
</file>