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.png" ContentType="image/png"/>
  <Override PartName="/ppt/media/image17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BCCF-9B1A-411C-9E01-8050A9B1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5351-0919-4ED9-AC76-ACF154B1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793-16C5-46A5-81A0-713C0541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B718-A688-41A4-B37D-3A1C2A9D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839-ABC4-4275-A23D-C68FF068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D2E-B55F-4DE4-A24A-32D2408B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A52A-B9BB-4358-A1EA-E6D2769D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7E9-B144-4600-9269-16AFC250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7A42-A9F9-437B-8C76-F870E63E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804-EF96-4F30-8499-6A2DC177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11C-08D6-4D71-BD3D-1942FA62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DA9-974E-4221-A30C-8D013961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69CC-703A-401C-A828-E841FB010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hyperlink" Target="http://www.botany.hawaii.edu/faculty/wong/Bot201/Basidiomycota/Uredinomycetes/Uredinomycetes.htm" TargetMode="External"/><Relationship Id="rId4" Type="http://schemas.openxmlformats.org/officeDocument/2006/relationships/hyperlink" Target="http://www.botany.hawaii.edu/faculty/wong/Bot201/Basidiomycota/Uredinomycetes/Uredinomycetes.htm" TargetMode="External"/><Relationship Id="rId5" Type="http://schemas.openxmlformats.org/officeDocument/2006/relationships/hyperlink" Target="http://www.botany.hawaii.edu/faculty/wong/Bot201/Basidiomycota/Uredinomycetes/Uredinomycetes.htm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www.botany.hawaii.edu/faculty/wong/BOT135/2009/Lecture07/Lect08.htm" TargetMode="External"/><Relationship Id="rId8" Type="http://schemas.openxmlformats.org/officeDocument/2006/relationships/hyperlink" Target="http://www.botany.hawaii.edu/faculty/wong/BOT135/2009/Lecture07/Lect08.htm" TargetMode="External"/><Relationship Id="rId9" Type="http://schemas.openxmlformats.org/officeDocument/2006/relationships/hyperlink" Target="http://www.botany.hawaii.edu/faculty/wong/BOT135/2009/Lecture07/Lect08.htm" TargetMode="External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hyperlink" Target="http://www.apsnet.org/online/archive/1998/barley70.htm" TargetMode="External"/><Relationship Id="rId16" Type="http://schemas.openxmlformats.org/officeDocument/2006/relationships/hyperlink" Target="http://www.apsnet.org/online/archive/1998/barley70.htm" TargetMode="External"/><Relationship Id="rId17" Type="http://schemas.openxmlformats.org/officeDocument/2006/relationships/hyperlink" Target="http://www.apsnet.org/online/archive/1998/barley70.htm" TargetMode="External"/><Relationship Id="rId18" Type="http://schemas.openxmlformats.org/officeDocument/2006/relationships/hyperlink" Target="http://www.apsnet.org/online/archive/1998/barley70.htm" TargetMode="External"/><Relationship Id="rId19" Type="http://schemas.openxmlformats.org/officeDocument/2006/relationships/image" Target="../media/image23.jpe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hyperlink" Target="http://www.anbg.gov.au/fungi/images-captions/septobasidium-sp-0201.html" TargetMode="External"/><Relationship Id="rId4" Type="http://schemas.openxmlformats.org/officeDocument/2006/relationships/hyperlink" Target="http://www.anbg.gov.au/fungi/ecology-invertebrates.html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agric.wa.gov.au/PC_92016.html?s=1001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www.broadinstitute.org/news/169" TargetMode="External"/><Relationship Id="rId5" Type="http://schemas.openxmlformats.org/officeDocument/2006/relationships/image" Target="../media/image28.jpeg"/><Relationship Id="rId6" Type="http://schemas.openxmlformats.org/officeDocument/2006/relationships/hyperlink" Target="http://www.broadinstitute.org/news/169" TargetMode="External"/><Relationship Id="rId7" Type="http://schemas.openxmlformats.org/officeDocument/2006/relationships/hyperlink" Target="http://www.nature-diary.co.uk/2008/06-11.htm" TargetMode="Externa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ni-tuebingen.de/uni/bbm/mycology/botryoba.htm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-mykopat.slu.se/Newwebsite/mycorrhiza/kantarellfiler/texter/rtf.htm" TargetMode="External"/><Relationship Id="rId3" Type="http://schemas.openxmlformats.org/officeDocument/2006/relationships/hyperlink" Target="http://www-mykopat.slu.se/Newwebsite/mycorrhiza/kantarellfiler/texter/rtf.htm" TargetMode="External"/><Relationship Id="rId4" Type="http://schemas.openxmlformats.org/officeDocument/2006/relationships/hyperlink" Target="http://www-mykopat.slu.se/Newwebsite/mycorrhiza/kantarellfiler/texter/rtf.htm" TargetMode="External"/><Relationship Id="rId5" Type="http://schemas.openxmlformats.org/officeDocument/2006/relationships/hyperlink" Target="http://www.mushroomthejournal.com/greatlakesdata/Terms/steri702.html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pollen.utulsa.edu/Spores/basidiospores.html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www.bsu.edu/classes/ruch/msa/mims.html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cs.wikipedia.org/wiki/Mykorhiza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- Basidiomycota: Pucciniomycotina, Ustilaginomyco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14173" r="0" b="7874"/>
          <a:stretch/>
        </p:blipFill>
        <p:spPr>
          <a:xfrm>
            <a:off x="228600" y="1828800"/>
            <a:ext cx="228744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934320" y="4711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botany.hawaii.edu/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wong/Bot201/Basidiomyco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/Uredinomycetes/Uredinomycetes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(řez spermog.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+ aecia, teliosp.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+ bazidie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2286000" cy="1527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991200" y="421020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http://www.botany.hawaii.edu/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/wong/BOT135/2009/Lecture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/Lect08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(spermogonia, uredia + řez ložiskem, telia + řez ložiskem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6705720" y="228600"/>
            <a:ext cx="2239920" cy="1652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1"/>
          <a:stretch/>
        </p:blipFill>
        <p:spPr>
          <a:xfrm>
            <a:off x="6502320" y="1955880"/>
            <a:ext cx="243864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2"/>
          <a:stretch/>
        </p:blipFill>
        <p:spPr>
          <a:xfrm>
            <a:off x="4267080" y="2509920"/>
            <a:ext cx="2210040" cy="1728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3"/>
          <a:stretch/>
        </p:blipFill>
        <p:spPr>
          <a:xfrm>
            <a:off x="3949560" y="43434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4"/>
          <a:stretch/>
        </p:blipFill>
        <p:spPr>
          <a:xfrm>
            <a:off x="228600" y="4648320"/>
            <a:ext cx="2971800" cy="1992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16200000">
            <a:off x="1889640" y="508716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B. Steffenson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5"/>
              </a:rPr>
              <a:t>http://www.apsnet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6"/>
              </a:rPr>
              <a:t>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7"/>
              </a:rPr>
              <a:t>/online/archive/1998/barley70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8"/>
              </a:rPr>
              <a:t>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9"/>
          <a:srcRect l="1432" t="0" r="2863" b="3150"/>
          <a:stretch/>
        </p:blipFill>
        <p:spPr>
          <a:xfrm>
            <a:off x="4270320" y="228600"/>
            <a:ext cx="2406600" cy="2214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27200" y="228600"/>
            <a:ext cx="175284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nahoře spermogonia s kapkami nektaru, dole aecia, uprostřed řez listem s ložisky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uccinia gramin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nahoře uredia a řez ložiskem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uccinia gramin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pod nimi teliospory a telia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Puccinia gramin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dole tel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ymno- sporangi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 na cypřišku a bazidie vyrůstající z telios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0"/>
          <a:stretch/>
        </p:blipFill>
        <p:spPr>
          <a:xfrm>
            <a:off x="3564000" y="458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37706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3808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ptobas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pecializovaní parazité (nebo symbionti?) červc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 porůstá povrch rostliny, proniká haustorii do těla červ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de získává živiny, které on saje z rostliny; naopak je chráněn několikavrstevnou strukturou, kterou hyfy na substrátu vytvářej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povrchové vrstvě tvorba hymenia (příčně přeh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ádkova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azidie) a sp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náší je hmyz pronikající z hyfové struktury 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9800" y="2209680"/>
            <a:ext cx="3695760" cy="2376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267080" y="2076480"/>
            <a:ext cx="3581640" cy="2676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0880" y="4572000"/>
            <a:ext cx="47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Heino Lepp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anbg.gov.au/fungi/images-captions/septobasidium-sp-0201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98880" y="45720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anbg.gov.au/fungi/ecology-invertebrates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4800600"/>
            <a:ext cx="8382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levo houba pokrývající povrch větve s přisátými červci; vpravo schematický průřez – rezavá větev, okrové tělo červce, modrý „chobotek“, kterým nasává živiny, hnědé mycelium porůstající větev, červené hyfy vrůstající do těla červ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885080" y="220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3966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380880"/>
            <a:ext cx="6477120" cy="60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USTILAGIN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USTILAGIN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zn.: dnes je této třídy řazen i ř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rocys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zahrnující rody, patř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adičním systému k mazlavým snět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tilaginal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něti praš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obligátní parazité se sil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edukovanou haploidní fáz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kundární mycelium vzniká kopula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árních mycelií nebo primárního mycelia s bazidiosporou nebo dvou sekundárních spor (vypučivších z bazidiospory); často se tvoří kvasinkovité stadium nahrazující primární mycel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kundární mycelium - jednoduché póry, tvorba přezek, intercelulár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ycel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 haustorii (řídčejí intracelulární)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soce specializovaní (nejen na hostitele, ale i jen na některé nadzemní orgány - listy, květy aj.) parazité cévnatých rostl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ro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tilag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avá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nahoře vlev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U. tritic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prav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U. mayd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nthracoide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caric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třic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foto vprav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2490" t="0" r="5496" b="0"/>
          <a:stretch/>
        </p:blipFill>
        <p:spPr>
          <a:xfrm>
            <a:off x="5105520" y="76320"/>
            <a:ext cx="1744560" cy="3186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rot="16200000">
            <a:off x="3714480" y="1949400"/>
            <a:ext cx="259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agric.wa.gov.au/PC_92016.html?s=1001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rcRect l="13215" t="0" r="13215" b="0"/>
          <a:stretch/>
        </p:blipFill>
        <p:spPr>
          <a:xfrm>
            <a:off x="6900840" y="74520"/>
            <a:ext cx="1755720" cy="3189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694560" y="3222720"/>
            <a:ext cx="205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roadinstitute.org/news/169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rcRect l="16354" t="0" r="0" b="17717"/>
          <a:stretch/>
        </p:blipFill>
        <p:spPr>
          <a:xfrm>
            <a:off x="6900840" y="3429000"/>
            <a:ext cx="1755720" cy="3189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09880" y="6248520"/>
            <a:ext cx="31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F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oto Carl Farmer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http://www.nature-diary.co.uk/2008/06-11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4716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3303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380880"/>
            <a:ext cx="3886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lav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množování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 plodnice, na dikaryotickém myceliu se tvoří tlustostěnné teliospory (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lamydospory) =&gt; v nich dojde ke karyogamii =&gt; vyklíčí tzv. promycel =&gt; v něm meioza - stává se metabazidií (příčně přehr.) =&gt; tvorba bazidiospor = sporidií (každ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ádro v metabazidii se ještě mitoticky rozdělí na 2 =&gt; přejdou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) =&gt; ty pak spolu kopulují rovnou anebo kopulují buňky z nich vypučivší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růst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é mycelium =&gt; infekce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asté napadení embrya, po vyklíčení sněť prorůstá rostlinou a projeví se až v dospělosti přeměnou obsahu plodu v mas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l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yf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rážející na povrch hostitele odškrcují dikaryotické blastospory =&gt; další infe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68880" y="0"/>
            <a:ext cx="449892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924360" y="3284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6486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380880"/>
            <a:ext cx="8382240" cy="22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EXOBASID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ktéž parazitické houby, na rozdíl od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tilagin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ají holobazid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obas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soce specifičtí parazité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zibun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celium s haustori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bazidie se tvoří na povrchu hostitel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padají zástupce některých čeledí rostlin (způsobují nádory, skvrny na listech, deform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obasidium vaccin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líška brusinková)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ervenobílé skvrny na brusni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9520" y="2781360"/>
            <a:ext cx="3533760" cy="2651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071960" y="2781360"/>
            <a:ext cx="3533760" cy="2651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2040" y="5416560"/>
            <a:ext cx="487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</a:t>
            </a:r>
            <a:r>
              <a:rPr b="0" lang="cs-CZ" sz="800" spc="-1" strike="noStrike">
                <a:solidFill>
                  <a:srgbClr val="000000"/>
                </a:solidFill>
                <a:latin typeface="Verdana"/>
              </a:rPr>
              <a:t>Witold Wójciak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, http://www.grzyby.pl/gatunki/Exobasidium_vaccinii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740720" y="278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9656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380880"/>
            <a:ext cx="4648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illetial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něti mazla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obligátní parazité, odlišní v mnohém 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nětí prašných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vytváří se primární mycelium, 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ém myceliu primitivní dolipory (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ště i jednoduché pó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dikaryotickém myceliu se též tvoří teliospory (chlamydospory), z nichž klíčí promyce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ioza někdy v něm a někdy u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l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poře =&gt; pak přesun haploidních jader do promycelu =&gt; z něj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áv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bazidie (promycel je tedy už vlastně metabazidií) =&gt; tvorba bazidiospor =&gt; kopulují ještě na bazidii pomocí kopulačních kanálků =&gt; přesun jádra z jedné do druhé =&gt; ta pak vyklíčí hyfou nebo sekundárními sporami (nikdy pučením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infikuje dikaryotická hyfa, nejčastěji v půdě při klíčení rostliny (infek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 předem v embryu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50000" y="380880"/>
            <a:ext cx="3759120" cy="609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52472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35308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808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ligátní parazité cévnatých rostlin, v napadených orgánech často vytváří při tvorb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l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por páchnoucí ložiska se zbytky hyf (druhy rodů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illet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j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lletia-caries" descr=""/>
          <p:cNvPicPr/>
          <p:nvPr/>
        </p:nvPicPr>
        <p:blipFill>
          <a:blip r:embed="rId1"/>
          <a:stretch/>
        </p:blipFill>
        <p:spPr>
          <a:xfrm>
            <a:off x="479520" y="1143000"/>
            <a:ext cx="4098960" cy="2589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92040" y="372420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viarural.com.ar/viarural.com.ar/insumosagropecuarios/agricolas/agroquimic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rizobacter/aa-enfermedades/tilletia-caries-01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tilletia-controversa_teliospores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3886200" cy="2590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29200" y="3733920"/>
            <a:ext cx="358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B. Goates, http://www.apsnet.org/online/archive/1998/barley81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040" y="4038480"/>
            <a:ext cx="8382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pšeničné klasy napadené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illetia caries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=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. tritic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; vpravo teliospory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Tilletia controvers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49424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mka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zv. bazidiogenní kvasinky, známé jako anamorf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bol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byly některými autory řazeny k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illet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leč podle aktuálních poznatků se jedná o anamorfy hub z pod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uccini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382240" cy="61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ASIDIOMYCOTA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OUBY STOPKOVÝTRUS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ckým rysem oddělení je karyogamie a meioza probíhající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rminální buňce dikaryotické hyfy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azidie = meiosporangium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 stěně přehrádek vytvořen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oli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óry, jejichž obě strany jsou kryty membránovou čepičkou - parentosomem (dolipory nejsou vytvořeny u všech stopkovýtrusných hub, např. u rzí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lavní složkou vícevrstevné buněčné stěny je chi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e fotografií – bazidie: M. J. Carlile et S. C. Watkinson: The Fungi, Academic Press, London, 1994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dolipor: G. Langer (1994), Die Gattung Botryobasidium Donk (Corticiaceae, Basidiomycetes), Bibl. Mycol. 158: 1-459;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http://www.uni-tuebingen.de/uni/bbm/mycology/botryoba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33428" b="0"/>
          <a:stretch/>
        </p:blipFill>
        <p:spPr>
          <a:xfrm>
            <a:off x="457200" y="1523880"/>
            <a:ext cx="3871800" cy="2011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95680" y="1371600"/>
            <a:ext cx="426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tomt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obnost s vřeckatými houbami, ale zásadní rozdíl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ogen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stopkách vyrůstajících z bazidie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rigmate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ejčastěji po 4, ale počet může být 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419720" y="3211560"/>
            <a:ext cx="4248000" cy="1639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3564000"/>
            <a:ext cx="4038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stélk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láknité přehrádkované 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pletením více myceliálních vláken vznikají pevné provazce, rhizomorfy nebo sklero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298296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ěřítko: (a) 0,5 µm, (b) 0,2 µ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995640" y="155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8388360" y="501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048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0081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80880"/>
            <a:ext cx="838224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íčením bazidiospory vzniká haploid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ární 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jednojaderné buňky, někdy při klíčení dělení jader rychlejší než růst přehrádek, ale takto vzniklá vícejadernost je dočasná); výjimečně tato fáze může chybět, pokud dojde již ke kopulaci bazidiospor (mazlavé sněti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na sekundárním myceliu dochází k tvorbě plodnic (není časově a prostorově vázána, nemusí se tvořit hned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ístě somatogami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opak, dikaryotické mycelium může růst řadu let bez vytvoření plodnic; zde je zásadní rozdíl oproti vřeckatým houbám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y tvořící plektenchymatická pletiva v plodnicích jsou někdy označovány jako terciální mycelium, ačkoli se jedná stále o dikaryotické hyf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hlediska životního cyklu js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ycot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n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načně omezena je délka života haploidního primárního mycelia a diploidní fázi představuje jediná buň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022640" y="1646280"/>
            <a:ext cx="4648320" cy="1985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1508040"/>
            <a:ext cx="358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proces vede ke vzniku dikaryotickéh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kundárního mycel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–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m probíhají konjugované mitózy spojené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z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ajišťují rovnoměrné rozdělení + a – jader do dceřinných buněk; ne u všech skupin 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ě přezek dochází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14097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R. Moore, W. D. Clark, K. R. Stern &amp; D. Vodopich: Botany. 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08360" y="227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742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3808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 - tvoří se konidie, obvykle na dikaryotickém myceliu, ale dominujícím stadiem je u stopkovýtrusných hub teleomorf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typické, že se vůbec nevytváří gametang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častějším pohlavním procesem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vou mycelií (vzácněj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v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),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zí se setkáme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somatogamií (oplod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y spermaci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124080" y="1968480"/>
            <a:ext cx="5573880" cy="3854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2184480"/>
            <a:ext cx="281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Životní cyklus stopkovýtrusné houby – primární a sekundární mycelium, tvorba plodnic a bazidi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 Vodopich: Botany. 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843280" y="278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516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380880"/>
            <a:ext cx="838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je koncovou buň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é hyfy, oddělenou příčnou přehrádk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yogamie a meioza moh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ezprostředně navazovat v téže buňce, nebo může být odlišena probazidie (v ní dochází ke karyogamii) a metabazidie (mís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kde probíh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io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bazidií podle jejich stavby: nepřehrádkova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bazid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× přehrádkami rozdělená (podélně nebo příčně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ragmobazidi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podle postavení vřeténka při meiozi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ast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řeténko v příčné poloze, bazidie bývá "tlustá") ×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ich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řeténko v podélné poloze, bazidie obvykle štíhlá, protáhl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3065400"/>
            <a:ext cx="3111480" cy="3124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72200" y="3201840"/>
            <a:ext cx="25909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Tvorba spor na stichické holobazidii lišky obecn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E. Danell (1994): Cantharellus cibarius: Mycorrhiza formation and Ecology. Acta Univ. Ups.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35, 75 pp.,  Uppsala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-mykopat.slu.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/Newwebsite/mycorrhiza/kantarellfiler/texter/rtf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Chiastická fragmobazidie rosolovky s dlouhými sterigma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Jean Louis Émile Boudier: Icones mycologicae ou iconographie des champignons de France, principalement Discomycètes, 1904–1909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mushroomthejournal.com/greatlakesdata/Terms/steri702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686040" y="2913120"/>
            <a:ext cx="2409840" cy="3276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622764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71192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380880"/>
            <a:ext cx="838224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mohou vyrůstat přímo na myceliu, příp. z jiných buněk (např. teliospor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z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 sně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ale nejčastěji je jejich tvorba soustředěna do omezené vrstv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ymen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o se tvoří uvnitř plodnice v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ebě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íční pór, ale může být také na vrcholové straně spo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bazidií hymenomycetoidních jsou spory aktivně odmršťovány (balistospory), zatímco z gastroidních se pasivně uvolňují (tvorba těchto typů bazidií neodpovídá přesně skupinám rouškatých hub a břichat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jsou různého tvaru i velikosti, mají různé barevné reakce na chemická činidla (cyanofilní, amyloidní, dextrinoidní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můcka při určová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spo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vždy jednobuněčné, většinou jednojadern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íčení bazidiosp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ákladní typ je klíčení hyfou (=&gt; primární mycelium), kromě tohoto mohou z bazidiospor klíčit jednotlivé buňky (kvasinkovité buňky, konidie nebo sekundární spory, pouze u některých řádů ze skupi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uccini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tilagin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791320" y="1081080"/>
            <a:ext cx="2886120" cy="2120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72200" y="306216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pollen.utulsa.edu/Spores/basidiospores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352680" y="1461960"/>
            <a:ext cx="2438640" cy="164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352680" y="306216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su.edu/classes/ruch/msa/mims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22360"/>
            <a:ext cx="297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spor: haploidní jádra po meiozi projdou sterigmaty ven z buňky a obalí se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ísto, kde spora přirůstá na sterigma, se nazývá hilum (obvykle zde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867280" y="112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8138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380880"/>
            <a:ext cx="8382240" cy="60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ponejvíce saprofytické, z nichž řada má schopnost přejít fakultativně 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ismu, ale i specializované skupiny biotrofních parazitů (rzi, sněti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znamná je symbióza s cévnatými rostlinami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korhi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zájemný podíl 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ě a ochraně, odumření jednoho partnera často vážně oslabí i druhého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totrof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korhi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ov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áš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al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řínky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niká jen do mezibuněčných prostor (převlád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in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to,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řínky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alené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yfam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chomůr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trofní mykorhiza - hyfy pronikají do buněk rostli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 u byl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nimum je lichenizovaných hub, jen některé dru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nejsou zde ohraničené taxonomické skupiny zahrnuj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chenizované zástupce)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podářsky významné jsou kromě fytopatogenních parazitů houby rozkládající celulózu a lignin - "dřevokazné" houb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zástupců zejména "masitých" hub jsou vyhledávané jedlé houby,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jsou využívány halucinogenní látky</a:t>
            </a:r>
            <a:br>
              <a:rPr sz="12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nalézáme je v různých suchozemských biotopech, často ve spojení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rčitými porosty vyšších rostl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silie stopkovýtrusných hub známy ze starších třetihor, symptomy na cévnatých rostlinách přisuzované napadení parazitickými zástupci známy již z kří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5000" t="0" r="0" b="0"/>
          <a:stretch/>
        </p:blipFill>
        <p:spPr>
          <a:xfrm>
            <a:off x="6273720" y="1930320"/>
            <a:ext cx="2362320" cy="1847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600880" y="3759120"/>
            <a:ext cx="312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cs.wikipedia.org/wiki/Mykorhiza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388360" y="4005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91933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80880"/>
            <a:ext cx="838224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UCCINI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UCCINIOMYCETES (UREDINIOMYCE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ucciniales (Uredinales)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z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obligátní biotrofní parazité rostl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celulární mycelium vysílá haustoria do buněk hostitele =&gt; způsobují hypertrofie, hyperplazi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myceliu jsou jednoduché póry (nejsou vytvořeny dolipory), hyfy bez přezek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plodnice, zato se vytváří několik typů nepohlavních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větš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druhů během svého životního cyklu střídá hostitele (heteroecické, dioecické = dvoubytné), některé druhy prožijí celý životní cyklus na jednom hostiteli (autoecické, monoecické = jednobyt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druhů má životní cyklus zkrácený o jednu nebo více fází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avděpodobně se jedná o nejprimitivnější stopkovýtrusné houb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y nemají přezky a dolipory, dlouhá haploidní fáze (u mikrocyklických rzí je jedinou formou vegetativní stél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gameto-somatogamie, více stadií nepohlavních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é cévnatých rostlin - druhy rodů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ucci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a travách aj., různí mezihostitelé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r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a bobovitých aj.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ragmi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ymnosporang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na růžovitý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vojový cyklus dvoubytné rzi: na mezihostiteli bazidiospora vyklíčí v hyfu =&gt; haploidní mycelium infikuje tkáně =&gt; pod svrchní epidermis se tvoří ložisko 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ermogon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zn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0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něm se z hyf odškrcují spermac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mčí game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380880"/>
            <a:ext cx="3962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lu 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amet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vytváří slad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"nekt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“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e spermogoniích vyrůstají také receptivní hyfy =&gt; hmyz sající "nektar"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ne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ermac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oplození =&gt; dikaryotická buňka =&gt; sekundární mycelium =&gt; vytvá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í se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pidermis prorážejí ložisk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ec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rášilky, označ. I) =&gt; aeciospory =&gt; infekce hlavního hostitele (u au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cických rzí téhož hostitele) =&gt; výv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ého mycelia =&gt; tvorba ložisek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red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II) =&gt; ured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y =&gt; další šíření nákazy během vegetační sezóny =&gt; před dozráním hostitele se vytvoří ložisk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III) =&gt; teliospory - oproti krátce žijícím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hned klíčícím urediosporám jsou sporami přetrvávajícími a nejsou infekční =&gt; v telios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aryogamie - fungují jako probazidie =&gt; vyklíčí z nich bazidie (příčně přehrádkované)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ioza =&gt;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322880" y="0"/>
            <a:ext cx="444024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95640" y="299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776896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3T20:54:46Z</dcterms:modified>
  <cp:revision>201</cp:revision>
  <dc:subject/>
  <dc:title>Snímek 1</dc:title>
</cp:coreProperties>
</file>