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6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33.jpeg" ContentType="image/jpeg"/>
  <Override PartName="/ppt/media/image6.png" ContentType="image/png"/>
  <Override PartName="/ppt/media/image2.png" ContentType="image/png"/>
  <Override PartName="/ppt/media/image32.png" ContentType="image/png"/>
  <Override PartName="/ppt/media/image1.jpeg" ContentType="image/jpeg"/>
  <Override PartName="/ppt/media/image3.png" ContentType="image/png"/>
  <Override PartName="/ppt/media/image17.jpeg" ContentType="image/jpeg"/>
  <Override PartName="/ppt/media/image22.jpeg" ContentType="image/jpeg"/>
  <Override PartName="/ppt/media/image9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25.png" ContentType="image/pn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FF9C-DBAB-4315-A5F0-BC68B4CA9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ACE6-07DD-475D-B84D-4EAA3A9D7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259C-634F-4557-B0BF-71332B71D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1F2F-9DFF-44BA-9718-F43389EB1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B941-2B83-4810-B484-5117E9775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79F2-A239-43C6-B631-B5391C926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AEAF-1714-48F6-B409-01B130041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15FF-87B6-4A49-A193-B08CA7F55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86B3-A9A6-404C-9243-4413B98E6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A426-2A8D-478A-A301-BCF2CD5EA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8A39-297F-4BA5-A113-68A004458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40F2-6CD5-4719-92FB-5863236B1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B20B8-B4E3-4ADD-9619-D1FC9F2DEC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hyperlink" Target="http://www.botany.hawaii.edu/faculty/wong/Bot201/Basidiomycota/Uredinomycetes/Uredinomycetes.htm" TargetMode="External"/><Relationship Id="rId4" Type="http://schemas.openxmlformats.org/officeDocument/2006/relationships/hyperlink" Target="http://www.botany.hawaii.edu/faculty/wong/Bot201/Basidiomycota/Uredinomycetes/Uredinomycetes.htm" TargetMode="External"/><Relationship Id="rId5" Type="http://schemas.openxmlformats.org/officeDocument/2006/relationships/hyperlink" Target="http://www.botany.hawaii.edu/faculty/wong/Bot201/Basidiomycota/Uredinomycetes/Uredinomycetes.htm" TargetMode="External"/><Relationship Id="rId6" Type="http://schemas.openxmlformats.org/officeDocument/2006/relationships/image" Target="../media/image17.jpeg"/><Relationship Id="rId7" Type="http://schemas.openxmlformats.org/officeDocument/2006/relationships/hyperlink" Target="http://www.botany.hawaii.edu/faculty/wong/BOT135/2009/Lecture07/Lect08.htm" TargetMode="External"/><Relationship Id="rId8" Type="http://schemas.openxmlformats.org/officeDocument/2006/relationships/hyperlink" Target="http://www.botany.hawaii.edu/faculty/wong/BOT135/2009/Lecture07/Lect08.htm" TargetMode="External"/><Relationship Id="rId9" Type="http://schemas.openxmlformats.org/officeDocument/2006/relationships/hyperlink" Target="http://www.botany.hawaii.edu/faculty/wong/BOT135/2009/Lecture07/Lect08.htm" TargetMode="External"/><Relationship Id="rId10" Type="http://schemas.openxmlformats.org/officeDocument/2006/relationships/image" Target="../media/image18.jpeg"/><Relationship Id="rId11" Type="http://schemas.openxmlformats.org/officeDocument/2006/relationships/image" Target="../media/image19.jpeg"/><Relationship Id="rId12" Type="http://schemas.openxmlformats.org/officeDocument/2006/relationships/image" Target="../media/image20.jpeg"/><Relationship Id="rId13" Type="http://schemas.openxmlformats.org/officeDocument/2006/relationships/image" Target="../media/image21.jpeg"/><Relationship Id="rId14" Type="http://schemas.openxmlformats.org/officeDocument/2006/relationships/image" Target="../media/image22.jpeg"/><Relationship Id="rId15" Type="http://schemas.openxmlformats.org/officeDocument/2006/relationships/hyperlink" Target="http://www.apsnet.org/online/archive/1998/barley70.htm" TargetMode="External"/><Relationship Id="rId16" Type="http://schemas.openxmlformats.org/officeDocument/2006/relationships/hyperlink" Target="http://www.apsnet.org/online/archive/1998/barley70.htm" TargetMode="External"/><Relationship Id="rId17" Type="http://schemas.openxmlformats.org/officeDocument/2006/relationships/hyperlink" Target="http://www.apsnet.org/online/archive/1998/barley70.htm" TargetMode="External"/><Relationship Id="rId18" Type="http://schemas.openxmlformats.org/officeDocument/2006/relationships/hyperlink" Target="http://www.apsnet.org/online/archive/1998/barley70.htm" TargetMode="External"/><Relationship Id="rId19" Type="http://schemas.openxmlformats.org/officeDocument/2006/relationships/image" Target="../media/image23.jpeg"/><Relationship Id="rId20" Type="http://schemas.openxmlformats.org/officeDocument/2006/relationships/image" Target="../media/image6.png"/><Relationship Id="rId2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hyperlink" Target="http://www.anbg.gov.au/fungi/images-captions/septobasidium-sp-0201.html" TargetMode="External"/><Relationship Id="rId4" Type="http://schemas.openxmlformats.org/officeDocument/2006/relationships/hyperlink" Target="http://www.anbg.gov.au/fungi/ecology-invertebrates.html" TargetMode="External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hyperlink" Target="http://www.agric.wa.gov.au/PC_92016.html?s=1001" TargetMode="External"/><Relationship Id="rId3" Type="http://schemas.openxmlformats.org/officeDocument/2006/relationships/image" Target="../media/image27.jpeg"/><Relationship Id="rId4" Type="http://schemas.openxmlformats.org/officeDocument/2006/relationships/hyperlink" Target="http://www.broadinstitute.org/news/169" TargetMode="External"/><Relationship Id="rId5" Type="http://schemas.openxmlformats.org/officeDocument/2006/relationships/image" Target="../media/image28.jpeg"/><Relationship Id="rId6" Type="http://schemas.openxmlformats.org/officeDocument/2006/relationships/hyperlink" Target="http://www.broadinstitute.org/news/169" TargetMode="External"/><Relationship Id="rId7" Type="http://schemas.openxmlformats.org/officeDocument/2006/relationships/hyperlink" Target="http://www.nature-diary.co.uk/2008/06-11.htm" TargetMode="External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uni-tuebingen.de/uni/bbm/mycology/botryoba.htm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www-mykopat.slu.se/Newwebsite/mycorrhiza/kantarellfiler/texter/rtf.htm" TargetMode="External"/><Relationship Id="rId3" Type="http://schemas.openxmlformats.org/officeDocument/2006/relationships/hyperlink" Target="http://www-mykopat.slu.se/Newwebsite/mycorrhiza/kantarellfiler/texter/rtf.htm" TargetMode="External"/><Relationship Id="rId4" Type="http://schemas.openxmlformats.org/officeDocument/2006/relationships/hyperlink" Target="http://www-mykopat.slu.se/Newwebsite/mycorrhiza/kantarellfiler/texter/rtf.htm" TargetMode="External"/><Relationship Id="rId5" Type="http://schemas.openxmlformats.org/officeDocument/2006/relationships/hyperlink" Target="http://www.mushroomthejournal.com/greatlakesdata/Terms/steri702.html" TargetMode="External"/><Relationship Id="rId6" Type="http://schemas.openxmlformats.org/officeDocument/2006/relationships/image" Target="../media/image10.jpe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pollen.utulsa.edu/Spores/basidiospores.html" TargetMode="External"/><Relationship Id="rId3" Type="http://schemas.openxmlformats.org/officeDocument/2006/relationships/image" Target="../media/image12.jpeg"/><Relationship Id="rId4" Type="http://schemas.openxmlformats.org/officeDocument/2006/relationships/hyperlink" Target="http://www.bsu.edu/classes/ruch/msa/mims.html" TargetMode="External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cs.wikipedia.org/wiki/Mykorhiza" TargetMode="Externa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452600" y="5467320"/>
            <a:ext cx="6281640" cy="1057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27936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  <a:ea typeface="SimSun"/>
              </a:rPr>
              <a:t>MODULARIZACE VÝUKY EVOLUČNÍ A EKOLOGICKÉ BIOLOG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SimSun"/>
              </a:rPr>
              <a:t>CZ.1.07/2.2.00/15.02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11280" y="763560"/>
            <a:ext cx="6118200" cy="0"/>
          </a:xfrm>
          <a:prstGeom prst="line">
            <a:avLst/>
          </a:prstGeom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11280" y="798480"/>
            <a:ext cx="611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36680" y="260280"/>
            <a:ext cx="1011240" cy="1008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696080" y="257040"/>
            <a:ext cx="1008360" cy="10098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50920" y="1197000"/>
            <a:ext cx="8642160" cy="39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800000"/>
                </a:solidFill>
                <a:latin typeface="Arial"/>
              </a:rPr>
              <a:t>FYLOGENEZE A DIVERZI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800000"/>
                </a:solidFill>
                <a:latin typeface="Arial"/>
              </a:rPr>
              <a:t>HUB A PODOBNÝCH ORGANISMŮ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(část přednášky Fylogeneze a diverzita řas a hu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ystém založený na pojetí taxonů v 10. vydání Dictionary of the Fungi (Kirk et al. 200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 pozdějšími úpravam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AR - Straminipila: Peronosporomycota / Labyrinthulomycota / Hyphochytriomy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hizaria: Plasmodiophorida • Excavata: Acrasida • Amoebozoa: Mycetozo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pisthokonta -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ungi: Microsporidiomycota / Chytridiomycota / Blastocladiomyc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skupin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Zygomyco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- Mucoromycota, Zoopagomycota / Glomeromyc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/ Dikarya - Ascomycota: Taphrinomycotina, Saccharomycotina, Pezizomyco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pomocné skupiny Deuteromycota a Lichen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00000"/>
                </a:solidFill>
                <a:latin typeface="Arial"/>
              </a:rPr>
              <a:t>- Basidiomycota: Pucciniomycotina, Ustilaginomycotin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Agaricomyco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rcRect l="0" t="14173" r="0" b="7874"/>
          <a:stretch/>
        </p:blipFill>
        <p:spPr>
          <a:xfrm>
            <a:off x="228600" y="1828800"/>
            <a:ext cx="2287440" cy="27432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7086600" y="5257800"/>
            <a:ext cx="1828800" cy="13716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6934320" y="4711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3"/>
              </a:rPr>
              <a:t>http://www.botany.hawaii.edu/facul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4"/>
              </a:rPr>
              <a:t>/wong/Bot201/Basidiomycot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5"/>
              </a:rPr>
              <a:t>/Uredinomycetes/Uredinomycetes.htm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(řez spermog.</a:t>
            </a:r>
            <a:r>
              <a:rPr b="0" lang="cs-CZ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+ aecia, teliosp.</a:t>
            </a:r>
            <a:r>
              <a:rPr b="0" lang="cs-CZ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+ bazidie)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6"/>
          <a:stretch/>
        </p:blipFill>
        <p:spPr>
          <a:xfrm>
            <a:off x="228600" y="228600"/>
            <a:ext cx="2286000" cy="15271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6991200" y="4210200"/>
            <a:ext cx="2133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7"/>
              </a:rPr>
              <a:t>http://www.botany.hawaii.edu/facul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8"/>
              </a:rPr>
              <a:t>/wong/BOT135/2009/Lecture0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9"/>
              </a:rPr>
              <a:t>/Lect08.htm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(spermogonia, uredia + řez ložiskem, telia + řez ložiskem)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0"/>
          <a:stretch/>
        </p:blipFill>
        <p:spPr>
          <a:xfrm>
            <a:off x="6705720" y="228600"/>
            <a:ext cx="2239920" cy="16527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11"/>
          <a:stretch/>
        </p:blipFill>
        <p:spPr>
          <a:xfrm>
            <a:off x="6502320" y="1955880"/>
            <a:ext cx="2438640" cy="22860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12"/>
          <a:stretch/>
        </p:blipFill>
        <p:spPr>
          <a:xfrm>
            <a:off x="4267080" y="2509920"/>
            <a:ext cx="2210040" cy="17287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13"/>
          <a:stretch/>
        </p:blipFill>
        <p:spPr>
          <a:xfrm>
            <a:off x="3949560" y="434340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14"/>
          <a:stretch/>
        </p:blipFill>
        <p:spPr>
          <a:xfrm>
            <a:off x="228600" y="4648320"/>
            <a:ext cx="2971800" cy="1992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 rot="16200000">
            <a:off x="1889640" y="5087160"/>
            <a:ext cx="289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B. Steffenson, </a:t>
            </a: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15"/>
              </a:rPr>
              <a:t>http://www.apsnet.</a:t>
            </a: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16"/>
              </a:rPr>
              <a:t>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17"/>
              </a:rPr>
              <a:t>/online/archive/1998/barley70.</a:t>
            </a: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18"/>
              </a:rPr>
              <a:t>ht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9"/>
          <a:srcRect l="1432" t="0" r="2863" b="3150"/>
          <a:stretch/>
        </p:blipFill>
        <p:spPr>
          <a:xfrm>
            <a:off x="4270320" y="228600"/>
            <a:ext cx="2406600" cy="22147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2527200" y="228600"/>
            <a:ext cx="1752840" cy="42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Vlevo nahoře spermogonia s kapkami nektaru, dole aecia, uprostřed řez listem s ložisky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Puccinia graminis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Vpravo nahoře uredia a řez ložiskem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Puccinia graminis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, pod nimi teliospory a telia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 Puccinia graminis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, dole telia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Gymno- sporangium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 sp. na cypřišku a bazidie vyrůstající z teliospory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0"/>
          <a:stretch/>
        </p:blipFill>
        <p:spPr>
          <a:xfrm>
            <a:off x="3564000" y="458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50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" dur="137706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80880" y="380880"/>
            <a:ext cx="8382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eptobasidi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specializovaní parazité (nebo symbionti?) červců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ycelium porůstá povrch rostliny, proniká haustorii do těla červce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zde získává živiny, které on saje z rostliny; naopak je chráněn několikavrstevnou strukturou, kterou hyfy na substrátu vytvářejí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a povrchové vrstvě tvorba hymenia (příčně přeh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ádkované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bazidie) a spor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roznáší je hmyz pronikající z hyfové struktury v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69800" y="2209680"/>
            <a:ext cx="3695760" cy="23767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267080" y="2076480"/>
            <a:ext cx="3581640" cy="26766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80880" y="4572000"/>
            <a:ext cx="4724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Heino Lepp, </a:t>
            </a: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3"/>
              </a:rPr>
              <a:t>http://www.anbg.gov.au/fungi/images-captions/septobasidium-sp-0201.html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98880" y="4572000"/>
            <a:ext cx="472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800000"/>
                </a:solidFill>
                <a:uFillTx/>
                <a:latin typeface="Arial"/>
                <a:hlinkClick r:id="rId4"/>
              </a:rPr>
              <a:t>http://www.anbg.gov.au/fungi/ecology-invertebrates.html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80880" y="4800600"/>
            <a:ext cx="838224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Vlevo houba pokrývající povrch větve s přisátými červci; vpravo schematický průřez – rezavá větev, okrové tělo červce, modrý „chobotek“, kterým nasává živiny, hnědé mycelium porůstající větev, červené hyfy vrůstající do těla červce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5"/>
          <a:stretch/>
        </p:blipFill>
        <p:spPr>
          <a:xfrm>
            <a:off x="7885080" y="2205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56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" dur="139665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80880" y="380880"/>
            <a:ext cx="6477120" cy="60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Pododdělení:</a:t>
            </a: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USTILAGINOMYCO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řída: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USTILAGINOMYCE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ozn.: dnes je této třídy řazen i řá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Urocyst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, zahrnující rody, patříc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radičním systému k mazlavým snětí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Ustilaginales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- sněti prašn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jsou obligátní parazité se siln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redukovanou haploidní fází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ekundární mycelium vzniká kopulac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rimárních mycelií nebo primárního mycelia s bazidiosporou nebo dvou sekundárních spor (vypučivších z bazidiospory); často se tvoří kvasinkovité stadium nahrazující primární mycelium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ekundární mycelium - jednoduché póry, tvorba přezek, intercelulární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ycelium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 haustorii (řídčejí intracelulární)</a:t>
            </a:r>
            <a:br>
              <a:rPr sz="4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ysoce specializovaní (nejen na hostitele, ale i jen na některé nadzemní orgány - listy, květy aj.) parazité cévnatých rostlin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druhy rodu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Ustilag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n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ravách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nahoře vlevo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U. tritic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vpravo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U. maydi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,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Anthracoide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 carici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n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střicích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foto vprav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12490" t="0" r="5496" b="0"/>
          <a:stretch/>
        </p:blipFill>
        <p:spPr>
          <a:xfrm>
            <a:off x="5105520" y="76320"/>
            <a:ext cx="1744560" cy="3186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 rot="16200000">
            <a:off x="3714480" y="1949400"/>
            <a:ext cx="2590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800000"/>
                </a:solidFill>
                <a:uFillTx/>
                <a:latin typeface="Arial"/>
                <a:hlinkClick r:id="rId2"/>
              </a:rPr>
              <a:t>http://www.agric.wa.gov.au/PC_92016.html?s=1001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3"/>
          <a:srcRect l="13215" t="0" r="13215" b="0"/>
          <a:stretch/>
        </p:blipFill>
        <p:spPr>
          <a:xfrm>
            <a:off x="6900840" y="74520"/>
            <a:ext cx="1755720" cy="31892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6694560" y="3222720"/>
            <a:ext cx="2057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800000"/>
                </a:solidFill>
                <a:uFillTx/>
                <a:latin typeface="Arial"/>
                <a:hlinkClick r:id="rId4"/>
              </a:rPr>
              <a:t>http://www.broadinstitute.org/news/169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5"/>
          <a:srcRect l="16354" t="0" r="0" b="17717"/>
          <a:stretch/>
        </p:blipFill>
        <p:spPr>
          <a:xfrm>
            <a:off x="6900840" y="3429000"/>
            <a:ext cx="1755720" cy="31892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3809880" y="6248520"/>
            <a:ext cx="3124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6"/>
              </a:rPr>
              <a:t>F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oto Carl Farmer, </a:t>
            </a: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7"/>
              </a:rPr>
              <a:t>http://www.nature-diary.co.uk/2008/06-11.htm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4716360" y="404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62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5" dur="133030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80880" y="380880"/>
            <a:ext cx="38862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hlavní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ozmnožování: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etvoří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e plodnice, na dikaryotickém myceliu se tvoří tlustostěnné teliospory (=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hlamydospory) =&gt; v nich dojde ke karyogamii =&gt; vyklíčí tzv. promycel =&gt; v něm meioza - stává se metabazidií (příčně přehr.) =&gt; tvorba bazidiospor = sporidií (každé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jádro v metabazidii se ještě mitoticky rozdělí na 2 =&gt; přejdou d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azidiospor) =&gt; ty pak spolu kopulují rovnou anebo kopulují buňky z nich vypučivší =&gt;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yrůstá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ikaryotické mycelium =&gt; infekce =&gt;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časté napadení embrya, po vyklíčení sněť prorůstá rostlinou a projeví se až v dospělosti přeměnou obsahu plodu v masu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el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spor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epohlavní rozmnožová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hyf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rorážející na povrch hostitele odškrcují dikaryotické blastospory =&gt; další infek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268880" y="0"/>
            <a:ext cx="4498920" cy="68580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924360" y="328464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68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1" dur="364867" fill="hold"/>
                                        <p:tgtEl>
                                          <p:spTgt spid="1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80880" y="380880"/>
            <a:ext cx="8382240" cy="229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řída: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EXOBASIDIOMYCE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aktéž parazitické houby, na rozdíl od třídy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Ustilaginomycet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mají holobazidi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Exobasidi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vysoce specifičtí parazité,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ezibun.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mycelium s haustorii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olobazidie se tvoří na povrchu hostitel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apadají zástupce některých čeledí rostlin (způsobují nádory, skvrny na listech, deforma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Exobasidium vaccini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plíška brusinková) 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červenobílé skvrny na brusnicí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79520" y="2781360"/>
            <a:ext cx="3533760" cy="2651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4071960" y="2781360"/>
            <a:ext cx="3533760" cy="26510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392040" y="5416560"/>
            <a:ext cx="4876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</a:t>
            </a:r>
            <a:r>
              <a:rPr b="0" lang="cs-CZ" sz="800" spc="-1" strike="noStrike">
                <a:solidFill>
                  <a:srgbClr val="000000"/>
                </a:solidFill>
                <a:latin typeface="Verdana"/>
              </a:rPr>
              <a:t>Witold Wójciak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, http://www.grzyby.pl/gatunki/Exobasidium_vaccinii.htm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7740720" y="278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74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7" dur="96563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380880" y="380880"/>
            <a:ext cx="46483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illetiales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- sněti mazlavé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jsou obligátní parazité, odlišní v mnohém od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nětí prašných: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evytváří se primární mycelium, n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ikaryotickém myceliu primitivní dolipory (al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ještě i jednoduché pó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a dikaryotickém myceliu se též tvoří teliospory (chlamydospory), z nichž klíčí promycel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meioza někdy v něm a někdy už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el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spoře =&gt; pak přesun haploidních jader do promycelu =&gt; z něj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e t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k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tává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olobazidie (promycel je tedy už vlastně metabazidií) =&gt; tvorba bazidiospor =&gt; kopulují ještě na bazidii pomocí kopulačních kanálků =&gt; přesun jádra z jedné do druhé =&gt; ta pak vyklíčí hyfou nebo sekundárními sporami (nikdy pučením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ostitele infikuje dikaryotická hyfa, nejčastěji v půdě při klíčení rostliny (infekc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ení předem v embryu!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950000" y="380880"/>
            <a:ext cx="3759120" cy="60962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7524720" y="476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80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3" dur="353085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80880" y="380880"/>
            <a:ext cx="838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bligátní parazité cévnatých rostlin, v napadených orgánech často vytváří při tvorbě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el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spor páchnoucí ložiska se zbytky hyf (druhy rodů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illeti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aj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tilletia-caries" descr=""/>
          <p:cNvPicPr/>
          <p:nvPr/>
        </p:nvPicPr>
        <p:blipFill>
          <a:blip r:embed="rId1"/>
          <a:stretch/>
        </p:blipFill>
        <p:spPr>
          <a:xfrm>
            <a:off x="479520" y="1143000"/>
            <a:ext cx="4098960" cy="25891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392040" y="372420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http://www.viarural.com.ar/viarural.com.ar/insumosagropecuarios/agricolas/agroquimic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/rizobacter/aa-enfermedades/tilletia-caries-01.htm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tilletia-controversa_teliospores" descr=""/>
          <p:cNvPicPr/>
          <p:nvPr/>
        </p:nvPicPr>
        <p:blipFill>
          <a:blip r:embed="rId2"/>
          <a:stretch/>
        </p:blipFill>
        <p:spPr>
          <a:xfrm>
            <a:off x="4648320" y="1143000"/>
            <a:ext cx="3886200" cy="25909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5029200" y="3733920"/>
            <a:ext cx="3581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B. Goates, http://www.apsnet.org/online/archive/1998/barley81.htm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92040" y="4038480"/>
            <a:ext cx="83822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Vlevo pšeničné klasy napadené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Tilletia caries 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(=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T. tritici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; vpravo teliospory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 Tilletia controversa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80880" y="4494240"/>
            <a:ext cx="8382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známka: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zv. bazidiogenní kvasinky, známé jako anamorfy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porobolomyc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byly některými autory řazeny k řádu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Tilleti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leč podle aktuálních poznatků se jedná o anamorfy hub z pododdělení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Pucciniomyco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0880" y="380880"/>
            <a:ext cx="8382240" cy="61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Oddělení: </a:t>
            </a:r>
            <a:r>
              <a:rPr b="1" i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BASIDIOMYCOTA</a:t>
            </a: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 – HOUBY STOPKOVÝTRUSN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harakteristickým rysem oddělení je karyogamie a meioza probíhající v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erminální buňce dikaryotické hyfy -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azidi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bazidie = meiosporangium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e stěně přehrádek vytvořeny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dolipor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- póry, jejichž obě strany jsou kryty membránovou čepičkou - parentosomem (dolipory nejsou vytvořeny u všech stopkovýtrusných hub, např. u rzí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lavní složkou vícevrstevné buněčné stěny je chit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Zdroje fotografií – bazidie: M. J. Carlile et S. C. Watkinson: The Fungi, Academic Press, London, 1994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dolipor: G. Langer (1994), Die Gattung Botryobasidium Donk (Corticiaceae, Basidiomycetes), Bibl. Mycol. 158: 1-459; </a:t>
            </a: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1"/>
              </a:rPr>
              <a:t>http://www.uni-tuebingen.de/uni/bbm/mycology/botryoba.htm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rcRect l="0" t="0" r="33428" b="0"/>
          <a:stretch/>
        </p:blipFill>
        <p:spPr>
          <a:xfrm>
            <a:off x="457200" y="1523880"/>
            <a:ext cx="3871800" cy="20113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495680" y="1371600"/>
            <a:ext cx="4267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 tomto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e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odobnost s vřeckatými houbami, ale zásadní rozdíl -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azidiospor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se tvoří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exogenně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na stopkách vyrůstajících z bazidie -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terigmatech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nejčastěji po 4, ale počet může být 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4419720" y="3211560"/>
            <a:ext cx="4248000" cy="16398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80880" y="3564000"/>
            <a:ext cx="4038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egetativní stélka -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láknité přehrádkované myceli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, spletením více myceliálních vláken vznikají pevné provazce, rhizomorfy nebo skleroc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248520" y="2982960"/>
            <a:ext cx="251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ěřítko: (a) 0,5 µm, (b) 0,2 µ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3995640" y="1557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5"/>
          <a:stretch/>
        </p:blipFill>
        <p:spPr>
          <a:xfrm>
            <a:off x="8388360" y="5013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50480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200818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80880" y="380880"/>
            <a:ext cx="8382240" cy="588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líčením bazidiospory vzniká haploidní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rimární myceli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jednojaderné buňky, někdy při klíčení dělení jader rychlejší než růst přehrádek, ale takto vzniklá vícejadernost je dočasná); výjimečně tato fáze může chybět, pokud dojde již ke kopulaci bazidiospor (mazlavé sněti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=&gt; na sekundárním myceliu dochází k tvorbě plodnic (není časově a prostorově vázána, nemusí se tvořit hned 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ístě somatogamie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naopak, dikaryotické mycelium může růst řadu let bez vytvoření plodnic; zde je zásadní rozdíl oproti vřeckatým houbám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yfy tvořící plektenchymatická pletiva v plodnicích jsou někdy označovány jako terciální mycelium, ačkoli se jedná stále o dikaryotické hyfy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 hlediska životního cyklu jsou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asidiomycota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ikaryont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značně omezena je délka života haploidního primárního mycelia a diploidní fázi představuje jediná buň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022640" y="1646280"/>
            <a:ext cx="4648320" cy="19857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80880" y="1508040"/>
            <a:ext cx="3581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ohlavní proces vede ke vzniku dikaryotického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ekundárního myceli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– v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ěm probíhají konjugované mitózy spojené 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vorbou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řez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zajišťují rovnoměrné rozdělení + a – jader do dceřinných buněk; ne u všech skupin 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vorbě přezek dochází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248520" y="140976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R. Moore, W. D. Clark, K. R. Stern &amp; D. Vodopich: Botany.  Wm. C. Brown Publ., 1995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708360" y="227664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257425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80880" y="380880"/>
            <a:ext cx="8382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epohlavní rozmnožování - tvoří se konidie, obvykle na dikaryotickém myceliu, ale dominujícím stadiem je u stopkovýtrusných hub teleomorfa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ro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ohlavní rozmnožová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je typické, že se vůbec nevytváří gametangi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;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ejčastějším pohlavním procesem je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omatogami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vou mycelií (vzácněj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rovno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azidiospor), 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rzí se setkáme 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gametosomatogamií (oplodně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yfy spermacií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124080" y="1968480"/>
            <a:ext cx="5573880" cy="38545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80880" y="2184480"/>
            <a:ext cx="2819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Životní cyklus stopkovýtrusné houby – primární a sekundární mycelium, tvorba plodnic a bazidií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Zdroj: R. Moore, W. D. Clark, K. R. Stern &amp; D. Vodopich: Botany.  Wm. C. Brown Publ., 1995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2843280" y="278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20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51645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80880" y="380880"/>
            <a:ext cx="83822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azidie je koncovou buňko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ikaryotické hyfy, oddělenou příčnou přehrádkou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aryogamie a meioza moho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ezprostředně navazovat v téže buňce, nebo může být odlišena probazidie (v ní dochází ke karyogamii) a metabazidie (míst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kde probíhá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meioz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ělení bazidií podle jejich stavby: nepřehrádkovaná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olobazidi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× přehrádkami rozdělená (podélně nebo příčně)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fragmobazidie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ělení podle postavení vřeténka při meiozi: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hiastická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vřeténko v příčné poloze, bazidie bývá "tlustá") ×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tichická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vřeténko v podélné poloze, bazidie obvykle štíhlá, protáhlá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57200" y="3065400"/>
            <a:ext cx="3111480" cy="31244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172200" y="3201840"/>
            <a:ext cx="259092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Vlevo: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Tvorba spor na stichické holobazidii lišky obecné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Zdroj: E. Danell (1994): Cantharellus cibarius: Mycorrhiza formation and Ecology. Acta Univ. Ups.</a:t>
            </a:r>
            <a:r>
              <a:rPr b="0" i="1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35, 75 pp.,  Uppsala;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2"/>
              </a:rPr>
              <a:t>http://www-mykopat.slu.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3"/>
              </a:rPr>
              <a:t>/Newwebsite/mycorrhiza/kantarellfiler/texter/rtf.</a:t>
            </a: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4"/>
              </a:rPr>
              <a:t>ht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Vpravo: Chiastická fragmobazidie rosolovky s dlouhými sterigmat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Zdroj: Jean Louis Émile Boudier: Icones mycologicae ou iconographie des champignons de France, principalement Discomycètes, 1904–1909;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5"/>
              </a:rPr>
              <a:t>http://www.mushroomthejournal.com/greatlakesdata/Terms/steri702.html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3686040" y="2913120"/>
            <a:ext cx="2409840" cy="32767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7"/>
          <a:stretch/>
        </p:blipFill>
        <p:spPr>
          <a:xfrm>
            <a:off x="6227640" y="2852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26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271192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380880" y="380880"/>
            <a:ext cx="8382240" cy="58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azidie mohou vyrůstat přímo na myceliu, příp. z jiných buněk (např. teliospor 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rz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nebo snět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, ale nejčastěji je jejich tvorba soustředěna do omezené vrstvy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ymenia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ebo se tvoří uvnitř plodnice v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glebě</a:t>
            </a:r>
            <a:br>
              <a:rPr sz="4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líční pór, ale může být také na vrcholové straně spory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 bazidií hymenomycetoidních jsou spory aktivně odmršťovány (balistospory), zatímco z gastroidních se pasivně uvolňují (tvorba těchto typů bazidií neodpovídá přesně skupinám rouškatých hub a břichatek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azidiospory jsou různého tvaru i velikosti, mají různé barevné reakce na chemická činidla (cyanofilní, amyloidní, dextrinoidní)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pomůcka při určování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spory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jsou vždy jednobuněčné, většinou jednojaderné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líčení bazidiospor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základní typ je klíčení hyfou (=&gt; primární mycelium), kromě tohoto mohou z bazidiospor klíčit jednotlivé buňky (kvasinkovité buňky, konidie nebo sekundární spory, pouze u některých řádů ze skupin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ucciniomycet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a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Ustilaginomycet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5791320" y="1081080"/>
            <a:ext cx="2886120" cy="21207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6172200" y="3062160"/>
            <a:ext cx="2514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800000"/>
                </a:solidFill>
                <a:uFillTx/>
                <a:latin typeface="Arial"/>
                <a:hlinkClick r:id="rId2"/>
              </a:rPr>
              <a:t>http://pollen.utulsa.edu/Spores/basidiospores.html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3352680" y="1461960"/>
            <a:ext cx="2438640" cy="16480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352680" y="3062160"/>
            <a:ext cx="2514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800000"/>
                </a:solidFill>
                <a:uFillTx/>
                <a:latin typeface="Arial"/>
                <a:hlinkClick r:id="rId4"/>
              </a:rPr>
              <a:t>http://www.bsu.edu/classes/ruch/msa/mims.html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22360"/>
            <a:ext cx="2971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vorba spor: haploidní jádra po meiozi projdou sterigmaty ven z buňky a obalí se bu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ěčno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stěnou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ísto, kde spora přirůstá na sterigma, se nazývá hilum (obvykle zde 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5"/>
          <a:stretch/>
        </p:blipFill>
        <p:spPr>
          <a:xfrm>
            <a:off x="5867280" y="1125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32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" dur="81386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80880" y="380880"/>
            <a:ext cx="8382240" cy="60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ekologi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ouby ponejvíce saprofytické, z nichž řada má schopnost přejít fakultativně 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arazitismu, ale i specializované skupiny biotrofních parazitů (rzi, sněti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ýznamná je symbióza s cévnatými rostlinami -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ykorhiz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vzájemný podíl n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ýživě a ochraně, odumření jednoho partnera často vážně oslabí i druhého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ektotrof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ykorhiz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yfový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lášť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baluj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ořínky,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oub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roniká jen do mezibuněčných prostor (převládá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u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řevin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iz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oto,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ořínky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balené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yfami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uchomůrk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endotrofní mykorhiza - hyfy pronikají do buněk rostli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íce u bylin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inimum je lichenizovaných hub, jen některé druh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(nejsou zde ohraničené taxonomické skupiny zahrnujíc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lichenizované zástupce)</a:t>
            </a:r>
            <a:br>
              <a:rPr sz="4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ospodářsky významné jsou kromě fytopatogenních parazitů houby rozkládající celulózu a lignin - "dřevokazné" houby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ada zástupců zejména "masitých" hub jsou vyhledávané jedlé houby, 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ěkterých jsou využívány halucinogenní látky</a:t>
            </a:r>
            <a:br>
              <a:rPr sz="1200"/>
            </a:br>
            <a:br>
              <a:rPr sz="1200"/>
            </a:b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ýskyt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: nalézáme je v různých suchozemských biotopech, často ve spojení 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určitými porosty vyšších rostlin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fosilie stopkovýtrusných hub známy ze starších třetihor, symptomy na cévnatých rostlinách přisuzované napadení parazitickými zástupci známy již z kří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rcRect l="5000" t="0" r="0" b="0"/>
          <a:stretch/>
        </p:blipFill>
        <p:spPr>
          <a:xfrm>
            <a:off x="6273720" y="1930320"/>
            <a:ext cx="2362320" cy="18478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5600880" y="3759120"/>
            <a:ext cx="312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800000"/>
                </a:solidFill>
                <a:uFillTx/>
                <a:latin typeface="Arial"/>
                <a:hlinkClick r:id="rId2"/>
              </a:rPr>
              <a:t>http://cs.wikipedia.org/wiki/Mykorhiza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8388360" y="4005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38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" dur="291933" fill="hold"/>
                                        <p:tgtEl>
                                          <p:spTgt spid="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80880" y="380880"/>
            <a:ext cx="8382240" cy="612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Pododdělení:</a:t>
            </a: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PUCCINIOMYCO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řída: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PUCCINIOMYCETES (UREDINIOMYCET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ucciniales (Uredinales)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- rzi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jsou obligátní biotrofní parazité rostlin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intercelulární mycelium vysílá haustoria do buněk hostitele =&gt; způsobují hypertrofie, hyperplazie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a myceliu jsou jednoduché póry (nejsou vytvořeny dolipory), hyfy bez přezek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etvoří se plodnice, zato se vytváří několik typů nepohlavních spor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větši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 druhů během svého životního cyklu střídá hostitele (heteroecické, dioecické = dvoubytné), některé druhy prožijí celý životní cyklus na jednom hostiteli (autoecické, monoecické = jednobytné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ada druhů má životní cyklus zkrácený o jednu nebo více fází</a:t>
            </a:r>
            <a:br>
              <a:rPr sz="4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ravděpodobně se jedná o nejprimitivnější stopkovýtrusné houby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yfy nemají přezky a dolipory, dlouhá haploidní fáze (u mikrocyklických rzí je jedinou formou vegetativní stélk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, gameto-somatogamie, více stadií nepohlavních spor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arazité cévnatých rostlin - druhy rodů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uccini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na travách aj., různí mezihostitelé),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Uromyc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na bobovitých aj.),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hragmidi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a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Gymnosporangium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(na růžovitý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ývojový cyklus dvoubytné rzi: na mezihostiteli bazidiospora vyklíčí v hyfu =&gt; haploidní mycelium infikuje tkáně =&gt; pod svrchní epidermis se tvoří ložisko -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permogoni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ozn.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0)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=&gt;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a něm se z hyf odškrcují spermacie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amčí gamet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80880" y="380880"/>
            <a:ext cx="396252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polu s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gametam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se vytváří slad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ý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"nekta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“;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ve spermogoniích vyrůstají také receptivní hyfy =&gt; hmyz sající "nektar"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a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ě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řenese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permacie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=&gt; oplození =&gt; dikaryotická buňka =&gt; sekundární mycelium =&gt; vytvář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j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í se 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epidermis prorážejí ložiska -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eci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prášilky, označ. I) =&gt; aeciospory =&gt; infekce hlavního hostitele (u aut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ecických rzí téhož hostitele) =&gt; vývi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ikaryotického mycelia =&gt; tvorba ložisek -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uredi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II) =&gt; uredi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pory =&gt; další šíření nákazy během vegetační sezóny =&gt; před dozráním hostitele se vytvoří ložiska -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eli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III) =&gt; teliospory - oproti krátce žijícím 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ihned klíčícím urediosporám jsou sporami přetrvávajícími a nejsou infekční =&gt; v teliosp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karyogamie - fungují jako probazidie =&gt; vyklíčí z nich bazidie (příčně přehrádkované) =&gt;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d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meioza =&gt;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azidiospor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IV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322880" y="0"/>
            <a:ext cx="444024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3995640" y="299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44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" dur="776896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8T15:01:41Z</dcterms:created>
  <dc:creator>Daniel Dvořák</dc:creator>
  <dc:description/>
  <dc:language>en-US</dc:language>
  <cp:lastModifiedBy>houba</cp:lastModifiedBy>
  <dcterms:modified xsi:type="dcterms:W3CDTF">2020-10-23T20:54:46Z</dcterms:modified>
  <cp:revision>201</cp:revision>
  <dc:subject/>
  <dc:title>Snímek 1</dc:title>
</cp:coreProperties>
</file>