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D62-7513-4B53-9601-8BF0619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7ED-E1D8-430E-A4B8-08CDB5B7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E23-F7BE-4811-9460-1C2E512B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D13-D29C-402D-B24B-6C122CAE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17B-0EF6-48BE-836E-8BAB85F1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33C-F0A5-4A46-8426-E05FADC7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D9A-A020-4DE6-9D45-EE2EFA53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61C-0650-4510-B220-74F95F25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E5E-C6CB-4127-BCB4-E1DC37B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0EA-69C2-4C1A-AD82-8F051F1A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1CD-AEBB-4FBC-B9DB-11E2825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5D2-EDCC-4576-A126-BF22F2A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E908-5D65-4B8D-8C26-A99A0732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botany.hawaii.edu/faculty/wong/Bot201/Basidiomycota/Uredinomycetes/Uredinomycetes.htm" TargetMode="External"/><Relationship Id="rId4" Type="http://schemas.openxmlformats.org/officeDocument/2006/relationships/hyperlink" Target="http://www.botany.hawaii.edu/faculty/wong/Bot201/Basidiomycota/Uredinomycetes/Uredinomycetes.htm" TargetMode="External"/><Relationship Id="rId5" Type="http://schemas.openxmlformats.org/officeDocument/2006/relationships/hyperlink" Target="http://www.botany.hawaii.edu/faculty/wong/Bot201/Basidiomycota/Uredinomycetes/Uredinomycetes.htm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botany.hawaii.edu/faculty/wong/BOT135/2009/Lecture07/Lect08.htm" TargetMode="External"/><Relationship Id="rId8" Type="http://schemas.openxmlformats.org/officeDocument/2006/relationships/hyperlink" Target="http://www.botany.hawaii.edu/faculty/wong/BOT135/2009/Lecture07/Lect08.htm" TargetMode="External"/><Relationship Id="rId9" Type="http://schemas.openxmlformats.org/officeDocument/2006/relationships/hyperlink" Target="http://www.botany.hawaii.edu/faculty/wong/BOT135/2009/Lecture07/Lect08.htm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hyperlink" Target="http://www.apsnet.org/online/archive/1998/barley70.htm" TargetMode="External"/><Relationship Id="rId16" Type="http://schemas.openxmlformats.org/officeDocument/2006/relationships/hyperlink" Target="http://www.apsnet.org/online/archive/1998/barley70.htm" TargetMode="External"/><Relationship Id="rId17" Type="http://schemas.openxmlformats.org/officeDocument/2006/relationships/hyperlink" Target="http://www.apsnet.org/online/archive/1998/barley70.htm" TargetMode="External"/><Relationship Id="rId18" Type="http://schemas.openxmlformats.org/officeDocument/2006/relationships/hyperlink" Target="http://www.apsnet.org/online/archive/1998/barley70.htm" TargetMode="External"/><Relationship Id="rId19" Type="http://schemas.openxmlformats.org/officeDocument/2006/relationships/image" Target="../media/image23.jpe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anbg.gov.au/fungi/images-captions/septobasidium-sp-0201.html" TargetMode="External"/><Relationship Id="rId4" Type="http://schemas.openxmlformats.org/officeDocument/2006/relationships/hyperlink" Target="http://www.anbg.gov.au/fungi/ecology-invertebrate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agric.wa.gov.au/PC_92016.html?s=1001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broadinstitute.org/news/169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www.broadinstitute.org/news/169" TargetMode="External"/><Relationship Id="rId7" Type="http://schemas.openxmlformats.org/officeDocument/2006/relationships/hyperlink" Target="http://www.nature-diary.co.uk/2008/06-11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i-tuebingen.de/uni/bbm/mycology/botryoba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mykopat.slu.se/Newwebsite/mycorrhiza/kantarellfiler/texter/rtf.htm" TargetMode="External"/><Relationship Id="rId3" Type="http://schemas.openxmlformats.org/officeDocument/2006/relationships/hyperlink" Target="http://www-mykopat.slu.se/Newwebsite/mycorrhiza/kantarellfiler/texter/rtf.htm" TargetMode="External"/><Relationship Id="rId4" Type="http://schemas.openxmlformats.org/officeDocument/2006/relationships/hyperlink" Target="http://www-mykopat.slu.se/Newwebsite/mycorrhiza/kantarellfiler/texter/rtf.htm" TargetMode="External"/><Relationship Id="rId5" Type="http://schemas.openxmlformats.org/officeDocument/2006/relationships/hyperlink" Target="http://www.mushroomthejournal.com/greatlakesdata/Terms/steri702.htm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ollen.utulsa.edu/Spores/basidiospores.htm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bsu.edu/classes/ruch/msa/mims.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cs.wikipedia.org/wiki/Mykorhiza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Pucciniomycotina, Ustilagin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14173" r="0" b="7874"/>
          <a:stretch/>
        </p:blipFill>
        <p:spPr>
          <a:xfrm>
            <a:off x="228600" y="1828800"/>
            <a:ext cx="22874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34320" y="4711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wong/Bot201/Basidiomyc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/Uredinomycetes/Uredinomycet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řez spermog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aecia, teliosp.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+ bazidi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286000" cy="152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91200" y="4210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botany.hawaii.edu/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wong/BOT135/2009/Lecture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Lect08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(spermogonia, uredia + řez ložiskem, telia + řez ložisk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6705720" y="228600"/>
            <a:ext cx="2239920" cy="16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6502320" y="195588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267080" y="2509920"/>
            <a:ext cx="22100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3949560" y="4343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228600" y="4648320"/>
            <a:ext cx="2971800" cy="1992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6200000">
            <a:off x="1889640" y="508716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Steffenso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tp://www.apsnet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6"/>
              </a:rPr>
              <a:t>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7"/>
              </a:rPr>
              <a:t>/online/archive/1998/barley70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8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9"/>
          <a:srcRect l="1432" t="0" r="2863" b="3150"/>
          <a:stretch/>
        </p:blipFill>
        <p:spPr>
          <a:xfrm>
            <a:off x="4270320" y="228600"/>
            <a:ext cx="2406600" cy="221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27200" y="228600"/>
            <a:ext cx="175284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 spermogonia s kapkami nektaru, dole aecia, uprostřed řez listem s ložisk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 uredia a řez ložiske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od nimi teliospory a teli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Puccinia gramin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te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ymno- sporang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na cypřišku a bazidie vyrůstající z telios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56400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377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ecializovaní parazité (nebo symbionti?) červc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porůstá povrch rostliny, proniká haustorii do těla červ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získává živiny, které on saje z rostliny; naopak je chráněn několikavrstevnou strukturou, kterou hyfy na substrátu vytvářej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ové vrstvě tvorba hymenia (příčně přeh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dk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e) a 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náší je hmyz pronikající z hyfové struktury 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9800" y="2209680"/>
            <a:ext cx="369576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67080" y="2076480"/>
            <a:ext cx="3581640" cy="267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572000"/>
            <a:ext cx="47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Heino Lepp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anbg.gov.au/fungi/images-captions/septobasidium-sp-020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8880" y="45720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anbg.gov.au/fungi/ecology-invertebrat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800600"/>
            <a:ext cx="838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levo houba pokrývající povrch větve s přisátými červci; vpravo schematický průřez – rezavá větev, okrové tělo červce, modrý „chobotek“, kterým nasává živiny, hnědé mycelium porůstající větev, červené hyfy vrůstající do těla červ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88508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3966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80880"/>
            <a:ext cx="6477120" cy="60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STILAGIN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STILAGIN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n.: dnes je této třídy řazen i ř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cys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ahrnující rody, pat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dičním systému k mazlavým sně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praš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 se si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dukovanou haploidní fáz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kopul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ch mycelií nebo primárního mycelia s bazidiosporou nebo dvou sekundárních spor (vypučivších z bazidiospory); často se tvoří kvasinkovité stadium nahrazující primární 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- jednoduché póry, tvorba přezek, intercelulár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austorii (řídčejí intracelulární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oce specializovaní (nejen na hostitele, ale i jen na některé nadzemní orgány - listy, květy aj.) parazité cévnatých rostl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v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hoře vle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triti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prav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U. mayd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thracoide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cari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ř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foto vpra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2490" t="0" r="5496" b="0"/>
          <a:stretch/>
        </p:blipFill>
        <p:spPr>
          <a:xfrm>
            <a:off x="5105520" y="76320"/>
            <a:ext cx="1744560" cy="31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6200000">
            <a:off x="3714480" y="1949400"/>
            <a:ext cx="259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agric.wa.gov.au/PC_92016.html?s=1001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13215" t="0" r="13215" b="0"/>
          <a:stretch/>
        </p:blipFill>
        <p:spPr>
          <a:xfrm>
            <a:off x="6900840" y="7452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694560" y="32227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roadinstitute.org/news/169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rcRect l="16354" t="0" r="0" b="17717"/>
          <a:stretch/>
        </p:blipFill>
        <p:spPr>
          <a:xfrm>
            <a:off x="6900840" y="3429000"/>
            <a:ext cx="1755720" cy="3189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9880" y="6248520"/>
            <a:ext cx="31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F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to Carl Farme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ture-diary.co.uk/2008/06-11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716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303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8088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množování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plodnice, na dikaryotickém myceliu se tvoří tlustostěnné teliospory (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) =&gt; v nich dojde ke karyogamii =&gt; vyklíčí tzv. promycel =&gt; v něm meioza - stává se metabazidií (příčně přehr.) =&gt; tvorba bazidiospor = sporidií (každ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o v metabazidii se ještě mitoticky rozdělí na 2 =&gt; přejdou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 =&gt; ty pak spolu kopulují rovnou anebo kopulují buňky z nich vypučivš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růs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mycelium =&gt; infekce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asté napadení embrya, po vyklíčení sněť prorůstá rostlinou a projeví se až v dospělosti přeměnou obsahu plodu v mas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yf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rážející na povrch hostitele odškrcují dikaryotické blastospory =&gt; další inf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8880" y="0"/>
            <a:ext cx="449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6486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382240" cy="22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XO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aktéž parazitické houby, na rozdíl od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holobazi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soce specifičtí parazité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bu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s haustor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se tvoří na povrchu hostitel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adají zástupce některých čeledí rostlin (způsobují nádory, skvrny na listech, deform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basidium vaccin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líška brusinková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rvenobílé skvrny na brus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9520" y="2781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71960" y="278136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040" y="5416560"/>
            <a:ext cx="487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</a:t>
            </a: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itold Wójcia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, http://www.grzyby.pl/gatunki/Exobasidium_vaccini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4072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656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80880"/>
            <a:ext cx="464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něti mazla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parazité, odlišní v mnohém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nětí prašných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vytváří se primární mycelium,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m myceliu primitivní dolipory (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ště i jednoduché pó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dikaryotickém myceliu se též tvoří teliospory (chlamydospory), z nichž klíčí promyce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někdy v něm a někdy u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ře =&gt; pak přesun haploidních jader do promycelu =&gt; z něj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v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 (promycel je tedy už vlastně metabazidií) =&gt; tvorba bazidiospor =&gt; kopulují ještě na bazidii pomocí kopulačních kanálků =&gt; přesun jádra z jedné do druhé =&gt; ta pak vyklíčí hyfou nebo sekundárními sporami (nikdy pučení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infikuje dikaryotická hyfa, nejčastěji v půdě při klíčení rostliny (infe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edem v embryu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380880"/>
            <a:ext cx="3759120" cy="609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24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53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 parazité cévnatých rostlin, v napadených orgánech často vytváří při tvorb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l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por páchnoucí ložiska se zbytky hyf (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illet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lletia-caries" descr=""/>
          <p:cNvPicPr/>
          <p:nvPr/>
        </p:nvPicPr>
        <p:blipFill>
          <a:blip r:embed="rId1"/>
          <a:stretch/>
        </p:blipFill>
        <p:spPr>
          <a:xfrm>
            <a:off x="479520" y="1143000"/>
            <a:ext cx="4098960" cy="2589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2040" y="37242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viarural.com.ar/viarural.com.ar/insumosagropecuarios/agricolas/agroquim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rizobacter/aa-enfermedades/tilletia-caries-0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illetia-controversa_teliospores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373392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. Goates, http://www.apsnet.org/online/archive/1998/barley81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40384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šeničné klasy napadené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illetia caries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. tritic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teliospor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Tilletia controver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9424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zv. bazidiogenní kvasinky, známé jako anamorf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bo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byly některými autory řazeny k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illet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leč podle aktuálních poznatků se jedná o anamorfy hub z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ASIDIOMYCOTA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OUBY STOPKOVÝTRU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rysem oddělení je karyogamie a meioza probíhající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rminální buňce dikaryotické hyf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azidie = meiosporangium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stěně přehrádek vytvořen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li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óry, jejichž obě strany jsou kryty membránovou čepičkou - parentosomem (dolipory nejsou vytvořeny u všech stopkovýtrusných hub, např. u rz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vícevrstevné buněčné stěny je chi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e fotografií – bazidie: M. J. Carlile et S. C. Watkinson: The Fungi, Academic Press, London, 1994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olipor: G. Langer (1994), Die Gattung Botryobasidium Donk (Corticiaceae, Basidiomycetes), Bibl. Mycol. 158: 1-45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uni-tuebingen.de/uni/bbm/mycology/botryob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33428" b="0"/>
          <a:stretch/>
        </p:blipFill>
        <p:spPr>
          <a:xfrm>
            <a:off x="457200" y="1523880"/>
            <a:ext cx="3871800" cy="201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1371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om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obnost s vřeckatými houbami, ale zásadní rozdíl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stopkách vyrůstajících z bazidie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ig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jčastěji po 4, ale počet může být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19720" y="3211560"/>
            <a:ext cx="4248000" cy="163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564000"/>
            <a:ext cx="403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getativní stél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áknité přehrádkovan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pletením více myceliálních vláken vznikají pevné provazce, rhizomorf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9829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ěřítko: (a) 0,5 µm, (b) 0,2 µ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9564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8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48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81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m bazidiospory vzniká haploid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jednojaderné buňky, někdy při klíčení dělení jader rychlejší než růst přehrádek, ale takto vzniklá vícejadernost je dočasná); výjimečně tato fáze může chybět, pokud dojde již ke kopulaci bazidiospor (mazlavé sněti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na sekundárním myceliu dochází k tvorbě plodnic (není časově a prostorově vázána, nemusí se tvořit hned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ě somat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, dikaryotické mycelium může růst řadu let bez vytvoření plodnic; zde je zásadní rozdíl oproti vřeckatým houbá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tvořící plektenchymatická pletiva v plodnicích jsou někdy označovány jako terciální mycelium, ačkoli se jedná stále o dikaryotické hyf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hlediska životního cyklu js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n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ačně omezena je délka života haploidního primárního mycelia a diploidní fázi představuje jediná buň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22640" y="1646280"/>
            <a:ext cx="4648320" cy="1985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50804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proces vede ke vzniku dikaryotickéh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ho myc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 probíhají konjugované mitózy spojené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ajišťují rovnoměrné rozdělení + a – jader do dceřinných buněk; ne u všech skupin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ě přezek docház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14097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74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 - tvoří se konidie, obvykle na dikaryotickém myceliu, ale dominujícím stadiem je u stopkovýtrusných hub tele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ypické, že se vůbec nevytváří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 pohlavním procesem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vou mycelií (vzácněj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v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)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 se setkám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í (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spermaci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1968480"/>
            <a:ext cx="5573880" cy="385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218448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stopkovýtrusné houby – primární a sekundární mycelium, tvorba plodnic a bazidi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516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je koncovou buň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 hyfy, oddělenou příčnou přehrádk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a meioza 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prostředně navazovat v téže buňce, nebo může být odlišena probazidie (v ní dochází ke karyogamii) a metabazidie (mí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de probíh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bazidií podle jejich stavby: nepřehrádkova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baz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× přehrádkami rozdělená (podélně nebo příčně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odle postavení vřeténka při meiozi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a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říčné poloze, bazidie bývá "tlustá") ×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ich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řeténko v podélné poloze, bazidie obvykle štíhlá, protáhl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65400"/>
            <a:ext cx="3111480" cy="312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3201840"/>
            <a:ext cx="2590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vorba spor na stichické holobazidii lišky obecn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E. Danell (1994): Cantharellus cibarius: Mycorrhiza formation and Ecology. Acta Univ. Ups.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35, 75 pp.,  Uppsala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-mykopat.slu.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Newwebsite/mycorrhiza/kantarellfiler/texter/rtf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Chiastická fragmobazidie rosolovky s dlouhými sterigma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686040" y="291312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22764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7119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80880"/>
            <a:ext cx="83822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mohou vyrůstat přímo na myceliu, příp. z jiných buněk (např. teliospor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sn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ale nejčastěji je jejich tvorba soustředěna do omezené vrstv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men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se tvoří uvnitř plodnice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 pór, ale může být také na vrcholové straně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azidií hymenomycetoidních jsou spory aktivně odmršťovány (balistospory), zatímco z gastroidních se pasivně uvolňují (tvorba těchto typů bazidií neodpovídá přesně skupinám rouškatých hub a břichat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sou různého tvaru i velikosti, mají různé barevné reakce na chemická činidla (cyanofilní, amyloidní, dextrinoidní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můcka při určová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spo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ždy jednobuněčné, většinou jednojader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ení bazidi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 typ je klíčení hyfou (=&gt; primární mycelium), kromě tohoto mohou z bazidiospor klíčit jednotlivé buňky (kvasinkovité buňky, konidie nebo sekundární spory, pouze u některých řádů ze skupi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tilagin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91320" y="1081080"/>
            <a:ext cx="2886120" cy="212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220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pollen.utulsa.edu/Spores/basidiospore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52680" y="1461960"/>
            <a:ext cx="2438640" cy="164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52680" y="306216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mims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2236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spor: haploidní jádra po meiozi projdou sterigmaty ven z buňky a obalí se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sto, kde spora přirůstá na sterigma, se nazývá hilum (obvykle zd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867280" y="112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138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80880"/>
            <a:ext cx="838224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ponejvíce saprofytické, z nichž řada má schopnost přejít fakultativně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ismu, ale i specializované skupiny biotrofních parazitů (rzi, sně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ná je symbióza s cévnatými rostlinami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zájemný podíl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ě a ochraně, odumření jednoho partnera často vážně oslabí i druhé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t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áš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řínky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niká jen do mezibuněčných prostor (převlád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i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,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ínky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alené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am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chomůr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trofní mykorhiza - hyfy pronikají do buněk ros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 u by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mum je lichenizovaných hub, jen některé dru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ejsou zde ohraničené taxonomické skupiny zahrnu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zástupce)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y významné jsou kromě fytopatogenních parazitů houby rozkládající celulózu a lignin - "dřevokazné" houb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zástupců zejména "masitých" hub jsou vyhledávané jedlé houby,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jsou využívány halucinogenní látky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lézáme je v různých suchozemských biotopech, často ve spojení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čitými porosty vyšších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silie stopkovýtrusných hub známy ze starších třetihor, symptomy na cévnatých rostlinách přisuzované napadení parazitickými zástupci známy již z k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000" t="0" r="0" b="0"/>
          <a:stretch/>
        </p:blipFill>
        <p:spPr>
          <a:xfrm>
            <a:off x="6273720" y="193032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00880" y="375912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s.wikipedia.org/wiki/Mykorhiza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836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9193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UCCINI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UCCINIOMYCETES (UREDIN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les (Uredinal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obligátní biotrofní parazité rostli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celulární mycelium vysílá haustoria do buněk hostitele =&gt; způsobují hypertrofie, hyperplazi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myceliu jsou jednoduché póry (nejsou vytvořeny dolipory), hyfy bez přeze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plodnice, zato se vytváří několik typů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ětš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druhů během svého životního cyklu střídá hostitele (heteroecické, dioecické = dvoubytné), některé druhy prožijí celý životní cyklus na jednom hostiteli (autoecické, monoecické = jednobyt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druhů má životní cyklus zkrácený o jednu nebo více fází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vděpodobně se jedná o nejprimitivnější stopkovýtrusn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y nemají přezky a dolipory, dlouhá haploidní fáze (u mikrocyklických rzí je jedinou formou vegetativní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gameto-somatogamie, více stadií nepohlavních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 cévnatých rostlin -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ucci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travách aj., různí mezihostitelé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a bobovitých aj.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ragm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sporang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na růžovi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vojový cyklus dvoubytné rzi: na mezihostiteli bazidiospora vyklíčí v hyfu =&gt; haploidní mycelium infikuje tkáně =&gt; pod svrchní epidermis se tvoří ložisko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ogo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0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něm se z hyf odškrcují 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čí gam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u 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et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tváří slad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nekt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spermogoniích vyrůstají také receptivní hyfy =&gt; hmyz sající "nektar"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ne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rmac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oplození =&gt; dikaryotická buňka =&gt; sekundární mycelium =&gt; vy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 se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dermis prorážej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lky, označ. I) =&gt; aeciospory =&gt; infekce hlavního hostitele (u au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ických rzí téhož hostitele) =&gt; výv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ého mycelia =&gt; tvorba ložisek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re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) =&gt; ure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=&gt; další šíření nákazy během vegetační sezóny =&gt; před dozráním hostitele se vytvoří ložis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II) =&gt; teliospory - oproti krátce žijícím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hned klíčícím urediosporám jsou sporami přetrvávajícími a nejsou infekční =&gt; v tel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- fungují jako probazidie =&gt; vyklíčí z nich bazidie (příčně přehrádkované)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za =&gt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22880" y="0"/>
            <a:ext cx="444024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768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3T20:54:46Z</dcterms:modified>
  <cp:revision>201</cp:revision>
  <dc:subject/>
  <dc:title>Snímek 1</dc:title>
</cp:coreProperties>
</file>