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3.jpeg" ContentType="image/jpeg"/>
  <Override PartName="/ppt/media/image40.jpeg" ContentType="image/jpeg"/>
  <Override PartName="/ppt/media/image6.png" ContentType="image/png"/>
  <Override PartName="/ppt/media/image28.jpeg" ContentType="image/jpeg"/>
  <Override PartName="/ppt/media/image51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20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58B-E32C-4261-AFBF-8C695AD0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56E3-28FD-4714-B687-BF2C44C7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8D9D-BF4A-4CEE-A3C4-514087CF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D726-5265-4188-9652-919E02DB5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9E94-2458-4A84-A722-B20EEECE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C4B2-6ADA-453D-9573-E6C5A3A4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65D7-3CD2-4E7C-992A-7E24D1E2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B213-2E1F-4C17-B843-FE90A876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1BFD-E21B-4E5C-8296-050A5C89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193D-96A8-4A26-AF1B-828B9F61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AAA1-D167-4FC2-9BF3-9E5BC352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AB10-C27A-48A5-8D58-0B65ECA6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A08B-B0AC-4E3D-AFE9-8D5F7FBEC2A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nahuby.sk/atlas-hub/Cantharellus-cibarius/Kuriatko-jedle/Liska-obecna/ID231" TargetMode="External"/><Relationship Id="rId3" Type="http://schemas.openxmlformats.org/officeDocument/2006/relationships/hyperlink" Target="http://www.nahuby.sk/atlas-hub/Clavulina-cinerea/Konarovka-popolava/Kuratecko-popelave/ID194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www.nahuby.sk/atlas-hub/Hydnum-repandum/Jelenka-poprehybana/Losak-zprohybany/ID169" TargetMode="External"/><Relationship Id="rId6" Type="http://schemas.openxmlformats.org/officeDocument/2006/relationships/hyperlink" Target="http://www.nahuby.sk/atlas-hub/Hydnum-repandum/Jelenka-poprehybana/Losak-zprohybany/ID169" TargetMode="External"/><Relationship Id="rId7" Type="http://schemas.openxmlformats.org/officeDocument/2006/relationships/hyperlink" Target="http://www.nahuby.sk/atlas-hub/Hydnum-repandum/Jelenka-poprehybana/Losak-zprohybany/ID169" TargetMode="External"/><Relationship Id="rId8" Type="http://schemas.openxmlformats.org/officeDocument/2006/relationships/image" Target="../media/image22.jpe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hyperlink" Target="http://www.nahuby.sk/atlas-hub/Geastrum-fimbriatum/Hviezdovka-strapkata/Hvezdovka-brvita/ID157" TargetMode="External"/><Relationship Id="rId4" Type="http://schemas.openxmlformats.org/officeDocument/2006/relationships/hyperlink" Target="http://www.nahuby.sk/atlas-hub/Geastrum-fimbriatum/Hviezdovka-strapkata/Hvezdovka-brvita/ID157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hyperlink" Target="http://www.nahuby.sk/atlas-hub/Ramaria-botrytis/Strapacka-koralovita/Kuratka-kvetakova/ID635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hyperlink" Target="http://www.nahuby.sk/atlas-hub/Inonotus-radiatus/Rysavec-lucovy/Rezavec-lesknavy/ID602" TargetMode="External"/><Relationship Id="rId4" Type="http://schemas.openxmlformats.org/officeDocument/2006/relationships/hyperlink" Target="http://www.nahuby.sk/atlas-hub/Inonotus-radiatus/Rysavec-lucovy/Rezavec-lesknavy/ID602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nahuby.sk/atlas-hub/Trametes-versicolor/Trudnikovec-pestry/Outkovka-pestra/ID764" TargetMode="External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nahuby.sk/atlas-hub/Polyporus-brumalis/Trudnik-zimny/Choros-poloplastvovy/ID1824" TargetMode="External"/><Relationship Id="rId3" Type="http://schemas.openxmlformats.org/officeDocument/2006/relationships/hyperlink" Target="http://www.nahuby.sk/atlas-hub/Polyporus-brumalis/Trudnik-zimny/Choros-poloplastvovy/ID1824" TargetMode="External"/><Relationship Id="rId4" Type="http://schemas.openxmlformats.org/officeDocument/2006/relationships/hyperlink" Target="http://www.nahuby.sk/atlas-hub/Polyporus-brumalis/Trudnik-zimny/Choros-poloplastvovy/ID1824" TargetMode="External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hyperlink" Target="http://www.nahuby.sk/atlas-hub/Lentinus-tigrinus/Huzevnatec-tigrovany/Houzevnatec-tygrovany/ID1590" TargetMode="External"/><Relationship Id="rId8" Type="http://schemas.openxmlformats.org/officeDocument/2006/relationships/hyperlink" Target="http://www.nahuby.sk/atlas-hub/Lentinus-tigrinus/Huzevnatec-tigrovany/Houzevnatec-tygrovany/ID1590" TargetMode="External"/><Relationship Id="rId9" Type="http://schemas.openxmlformats.org/officeDocument/2006/relationships/hyperlink" Target="http://www.nahuby.sk/atlas-hub/Lentinus-tigrinus/Huzevnatec-tigrovany/Houzevnatec-tygrovany/ID1590" TargetMode="External"/><Relationship Id="rId10" Type="http://schemas.openxmlformats.org/officeDocument/2006/relationships/hyperlink" Target="http://www.nahuby.sk/atlas-hub/Phanerochaete-sanguinea/Kornatec-krvavy/Kornatec-krvavy/ID1773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hyperlink" Target="http://www.nahuby.sk/atlas-hub/Cortinarius-orellanus/Pavucinovec-plysovy/Pavucinec-plysovy/ID371" TargetMode="External"/><Relationship Id="rId6" Type="http://schemas.openxmlformats.org/officeDocument/2006/relationships/hyperlink" Target="http://www.nahuby.sk/atlas-hub/Cortinarius-orellanus/Pavucinovec-plysovy/Pavucinec-plysovy/ID371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hyperlink" Target="http://www.nahuby.sk/atlas-hub/Coprinopsis-atramentaria/Hnojnik-atramentovy/Hnojnik-inkoustovy/ID97" TargetMode="External"/><Relationship Id="rId5" Type="http://schemas.openxmlformats.org/officeDocument/2006/relationships/hyperlink" Target="http://www.nahuby.sk/atlas-hub/Lepista-nuda/Povabnica-fialova/Ciruvka-fialova/ID507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www.nahuby.sk/atlas-hub/Boletus-badius/Suchohrib-hnedy/Suchohrib-hnedy/ID673" TargetMode="External"/><Relationship Id="rId3" Type="http://schemas.openxmlformats.org/officeDocument/2006/relationships/hyperlink" Target="http://www.nahuby.sk/atlas-hub/Suillus-grevillei/Masliak-smrekovcovy/Klouzek-slicny/ID276" TargetMode="External"/><Relationship Id="rId4" Type="http://schemas.openxmlformats.org/officeDocument/2006/relationships/hyperlink" Target="http://www.nahuby.sk/atlas-hub/Gomphidius-glutinosus/Sliziak-mazlavy/Slizak-mazlavy/ID609" TargetMode="External"/><Relationship Id="rId5" Type="http://schemas.openxmlformats.org/officeDocument/2006/relationships/hyperlink" Target="http://www.nahuby.sk/atlas-hub/Paxillus-involutus/Cechracka-podvinuta/Cechratka-podvinuta/ID21" TargetMode="External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hyperlink" Target="http://en.wikipedia.org/wiki/File:Basidium_schematic.svg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://commons.wikimedia.org/wiki/File:Gleba_icon.png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www.mushroomthejournal.com/greatlakesdata/Terms/steri702.html" TargetMode="External"/><Relationship Id="rId4" Type="http://schemas.openxmlformats.org/officeDocument/2006/relationships/hyperlink" Target="http://www.nahuby.sk/obrazok_detail.php?obrazok_id=56185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nahuby.sk/atlas-hub/Calocera-viscosa/Parozkovec-lepkavy/Krasnoruzek-lepkavy/ID325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F_72_100_grey_tr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ubz_cz_black_transparent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i: Microsporidiomycota / Chytridiomycota / 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- Basidiomycota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ucciniomycotina, Ustilaginomycotina,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1"/>
          <p:cNvSpPr/>
          <p:nvPr/>
        </p:nvSpPr>
        <p:spPr>
          <a:xfrm>
            <a:off x="380880" y="380880"/>
            <a:ext cx="8382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uricular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odnice různých typů, konzistence rosolovitá nebo chrupavčitá (jednoduché typy netvoří plodnice, jen myceliální povlaky s tvorbou bazidií), na jejich povrchu hymen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sekundárním myceliu mohou a nemusí být vytvořeny přezky a doli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ragmobazidie různých typů, příčně nebo podélně přehrádkované (mohou být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ravidelně dělen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touillardi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á bazidie dělené nepravidelně podélně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čně), zřetelná diferenciace na pr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azid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metabazidi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klíčí hyfou, konidiemi nebo sekundárními sporami, tvoří se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vasinkovité buň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devším saprofyté na tělech rostlin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irneol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ucho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uricul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boltcovitka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xi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černorosol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hydn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rosolozub), vzácněji paraz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7" descr="HOU052A_auricularia_boltcovitka"/>
          <p:cNvPicPr/>
          <p:nvPr/>
        </p:nvPicPr>
        <p:blipFill>
          <a:blip r:embed="rId1"/>
          <a:stretch/>
        </p:blipFill>
        <p:spPr>
          <a:xfrm>
            <a:off x="479520" y="3581280"/>
            <a:ext cx="2422440" cy="2722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8" descr="HOU055A_exidia_cernorosol"/>
          <p:cNvPicPr/>
          <p:nvPr/>
        </p:nvPicPr>
        <p:blipFill>
          <a:blip r:embed="rId2"/>
          <a:stretch/>
        </p:blipFill>
        <p:spPr>
          <a:xfrm>
            <a:off x="2994120" y="3581280"/>
            <a:ext cx="2895480" cy="27212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9"/>
          <p:cNvSpPr/>
          <p:nvPr/>
        </p:nvSpPr>
        <p:spPr>
          <a:xfrm>
            <a:off x="5943600" y="5062680"/>
            <a:ext cx="28195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boltcovitka mozkovi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remella mesenteric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černorosol buk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Exidia plan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7b_basid_10_auriculariales.MP3" descr=""/>
          <p:cNvPicPr/>
          <p:nvPr/>
        </p:nvPicPr>
        <p:blipFill>
          <a:blip r:embed="rId3"/>
          <a:stretch/>
        </p:blipFill>
        <p:spPr>
          <a:xfrm>
            <a:off x="6012000" y="357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04008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7"/>
          <p:cNvSpPr/>
          <p:nvPr/>
        </p:nvSpPr>
        <p:spPr>
          <a:xfrm>
            <a:off x="380880" y="38088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antharellales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gymnokarpní holo- nebo pilothecia s různým typem hymenoforu (hladký, lamelovitý, ostnitý aj.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ď mykorhizní houby nebo dřevní saprofyté až fakultativní parazité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keříčkovit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lavul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uřátečko) nebo kloboukaté s lamelami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antharel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iška) či ostny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dn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išá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7" descr="cantharellus-cibarius_ladislav-pomsar-2005"/>
          <p:cNvPicPr/>
          <p:nvPr/>
        </p:nvPicPr>
        <p:blipFill>
          <a:blip r:embed="rId1"/>
          <a:stretch/>
        </p:blipFill>
        <p:spPr>
          <a:xfrm>
            <a:off x="5181480" y="457200"/>
            <a:ext cx="3429000" cy="2441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8"/>
          <p:cNvSpPr/>
          <p:nvPr/>
        </p:nvSpPr>
        <p:spPr>
          <a:xfrm>
            <a:off x="3233880" y="5562720"/>
            <a:ext cx="548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: liška obecn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antharellus cibari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Ladislav Pomšár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/Cantharellus-cibarius/Kuriatko-jedle/Liska-obecna/ID231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ole: kuřátečko popelavé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lavulina cinere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iří Polčák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Clavulina-cinerea/Konarovka-popolava/Kuratecko-popelave/ID194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9" descr="clavulina-cinerea_jiri-polcak"/>
          <p:cNvPicPr/>
          <p:nvPr/>
        </p:nvPicPr>
        <p:blipFill>
          <a:blip r:embed="rId4"/>
          <a:stretch/>
        </p:blipFill>
        <p:spPr>
          <a:xfrm>
            <a:off x="5181480" y="2971800"/>
            <a:ext cx="3429000" cy="2575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0"/>
          <p:cNvSpPr/>
          <p:nvPr/>
        </p:nvSpPr>
        <p:spPr>
          <a:xfrm>
            <a:off x="380880" y="5334120"/>
            <a:ext cx="31244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lišák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prohýban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ydnum repand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án Šuvada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/Hydnum-repandum/Jelenka-poprehyb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/Losak-zprohybany/ID169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1" descr="hydnum-repandum_jan-suvada-2006"/>
          <p:cNvPicPr/>
          <p:nvPr/>
        </p:nvPicPr>
        <p:blipFill>
          <a:blip r:embed="rId8"/>
          <a:srcRect l="5524" t="0" r="0" b="0"/>
          <a:stretch/>
        </p:blipFill>
        <p:spPr>
          <a:xfrm>
            <a:off x="1720800" y="2971800"/>
            <a:ext cx="3365640" cy="2568600"/>
          </a:xfrm>
          <a:prstGeom prst="rect">
            <a:avLst/>
          </a:prstGeom>
          <a:ln w="0">
            <a:noFill/>
          </a:ln>
        </p:spPr>
      </p:pic>
      <p:pic>
        <p:nvPicPr>
          <p:cNvPr id="99" name="7b_basid_11_cantharellales.MP3" descr=""/>
          <p:cNvPicPr/>
          <p:nvPr/>
        </p:nvPicPr>
        <p:blipFill>
          <a:blip r:embed="rId9"/>
          <a:stretch/>
        </p:blipFill>
        <p:spPr>
          <a:xfrm>
            <a:off x="1258920" y="299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08449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0"/>
          <p:cNvSpPr/>
          <p:nvPr/>
        </p:nvSpPr>
        <p:spPr>
          <a:xfrm>
            <a:off x="380880" y="380880"/>
            <a:ext cx="8382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a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lathrothecia zakládající se podzemně na rhizoidálním myceliu, během vývinu prorážející na povrch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řich má přídatnou struktur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va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eceptakul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á úlohu nosiče, který dozrávající teřich vynese na povrch (tlakem rostoucího receptakula praská peridie původně kryjící plodnici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povrchu zralého teřichu se vytvoří mazlavá páchnou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mota, lákající mouchy aj, hmyz, který pak roznáší spor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ůdní saprofyté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al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adovka)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east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odnice jsou schizothecia kryt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vrstevnou okrovk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exoperidie záhy praská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vězdicovitě se rozestupuje a obnažuje teřich krytý tenk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peridií (ta prask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zralosti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na lesní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 nelesních stanoviští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astru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vězdov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1" descr="HOU382A_phallus_hadovka"/>
          <p:cNvPicPr/>
          <p:nvPr/>
        </p:nvPicPr>
        <p:blipFill>
          <a:blip r:embed="rId1"/>
          <a:stretch/>
        </p:blipFill>
        <p:spPr>
          <a:xfrm>
            <a:off x="6748560" y="2293920"/>
            <a:ext cx="1877760" cy="411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2" descr="geastrum-fimbriatum_jan-gaisler"/>
          <p:cNvPicPr/>
          <p:nvPr/>
        </p:nvPicPr>
        <p:blipFill>
          <a:blip r:embed="rId2"/>
          <a:stretch/>
        </p:blipFill>
        <p:spPr>
          <a:xfrm>
            <a:off x="3048120" y="3695760"/>
            <a:ext cx="3619440" cy="27115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3"/>
          <p:cNvSpPr/>
          <p:nvPr/>
        </p:nvSpPr>
        <p:spPr>
          <a:xfrm>
            <a:off x="380880" y="5103720"/>
            <a:ext cx="2667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hvězdovka brvi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eastrum fimbriat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an Gaisler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Geastrum-fimbri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/Hviezdovka-strapkata/Hvezdovka-brvita/ID157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vpravo: 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4"/>
          <p:cNvSpPr/>
          <p:nvPr/>
        </p:nvSpPr>
        <p:spPr>
          <a:xfrm>
            <a:off x="6651720" y="1760400"/>
            <a:ext cx="2057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Hadovka smrdu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allus impudic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7b_basid_12_phallales-geastrales.MP3" descr=""/>
          <p:cNvPicPr/>
          <p:nvPr/>
        </p:nvPicPr>
        <p:blipFill>
          <a:blip r:embed="rId5"/>
          <a:stretch/>
        </p:blipFill>
        <p:spPr>
          <a:xfrm>
            <a:off x="6300720" y="270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7584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9"/>
          <p:cNvSpPr/>
          <p:nvPr/>
        </p:nvSpPr>
        <p:spPr>
          <a:xfrm>
            <a:off x="380880" y="38088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omph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uškaté houby s kyjovitými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lavariadelph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kyj) nebo keříčkovitými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am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kuřátka) holothec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základě molekulárních analýz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aze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buznost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ha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Geast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HOU064A_clavariadelphus_kyj"/>
          <p:cNvPicPr/>
          <p:nvPr/>
        </p:nvPicPr>
        <p:blipFill>
          <a:blip r:embed="rId1"/>
          <a:stretch/>
        </p:blipFill>
        <p:spPr>
          <a:xfrm>
            <a:off x="3990960" y="1371600"/>
            <a:ext cx="2943360" cy="2816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ramaria-botrytis_viliam-ridzon-2005"/>
          <p:cNvPicPr/>
          <p:nvPr/>
        </p:nvPicPr>
        <p:blipFill>
          <a:blip r:embed="rId2"/>
          <a:stretch/>
        </p:blipFill>
        <p:spPr>
          <a:xfrm>
            <a:off x="479520" y="1371600"/>
            <a:ext cx="3429000" cy="2814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2"/>
          <p:cNvSpPr/>
          <p:nvPr/>
        </p:nvSpPr>
        <p:spPr>
          <a:xfrm>
            <a:off x="380880" y="4191120"/>
            <a:ext cx="4953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uřátka květákov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Ramaria botryt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Viliam Ridzoň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Ramaria-botrytis/Strapacka-koralovita/Kuratka-kvetakova/ID635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3886200" y="4191120"/>
            <a:ext cx="36576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yj Herkulův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lavariadelphus pistillar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7b_basid_13_gomphales.MP3" descr=""/>
          <p:cNvPicPr/>
          <p:nvPr/>
        </p:nvPicPr>
        <p:blipFill>
          <a:blip r:embed="rId4"/>
          <a:stretch/>
        </p:blipFill>
        <p:spPr>
          <a:xfrm>
            <a:off x="7093080" y="134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474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5" descr="s_imbric_preulozeny"/>
          <p:cNvPicPr/>
          <p:nvPr/>
        </p:nvPicPr>
        <p:blipFill>
          <a:blip r:embed="rId1"/>
          <a:stretch/>
        </p:blipFill>
        <p:spPr>
          <a:xfrm>
            <a:off x="3124080" y="2895480"/>
            <a:ext cx="4896000" cy="36766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0"/>
          <p:cNvSpPr/>
          <p:nvPr/>
        </p:nvSpPr>
        <p:spPr>
          <a:xfrm>
            <a:off x="380880" y="380880"/>
            <a:ext cx="83822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ocha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gymnokarpní krustothecia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órovitým hymenofore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vzácněji lamelovitý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ladkým)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evní houby, saprofyté i vážní parazité dřevin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ellin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hňovec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onotus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rezavec)</a:t>
            </a:r>
            <a:br>
              <a:rPr sz="12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eleph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zemní kloboukaté hou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ladkým nebo ostnitým hymenofor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nebo mykorhizní houby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elepho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plesňák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rcodo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ošá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2" descr="inonotus-radiatus_standa-jirasek"/>
          <p:cNvPicPr/>
          <p:nvPr/>
        </p:nvPicPr>
        <p:blipFill>
          <a:blip r:embed="rId2"/>
          <a:stretch/>
        </p:blipFill>
        <p:spPr>
          <a:xfrm>
            <a:off x="482760" y="3048120"/>
            <a:ext cx="2322360" cy="33526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3"/>
          <p:cNvSpPr/>
          <p:nvPr/>
        </p:nvSpPr>
        <p:spPr>
          <a:xfrm>
            <a:off x="6172200" y="2031840"/>
            <a:ext cx="2590920" cy="22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rezavec leskna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Inonotus radiatus, Hymenochaetal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Standa Jirásek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Inonotus-radia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/Rysavec-lucovy/Rezavec-lesknavy/ID602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lošák jelení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arcodon imbricatus, Thelephoral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D. Dvořák, P. Hrouda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Ježaté houby / lošáky a korálovce, Brno, 200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7b_basid_14_hymenochaetales-thelephorales.MP3" descr=""/>
          <p:cNvPicPr/>
          <p:nvPr/>
        </p:nvPicPr>
        <p:blipFill>
          <a:blip r:embed="rId5"/>
          <a:stretch/>
        </p:blipFill>
        <p:spPr>
          <a:xfrm>
            <a:off x="313200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7" name="7b_basid_14_losaky-indikatory.MP3" descr=""/>
          <p:cNvPicPr/>
          <p:nvPr/>
        </p:nvPicPr>
        <p:blipFill>
          <a:blip r:embed="rId6"/>
          <a:stretch/>
        </p:blipFill>
        <p:spPr>
          <a:xfrm>
            <a:off x="8388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04922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8486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9"/>
          <p:cNvSpPr/>
          <p:nvPr/>
        </p:nvSpPr>
        <p:spPr>
          <a:xfrm>
            <a:off x="380880" y="380880"/>
            <a:ext cx="556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yp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hrnuje houby laic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značova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"choroše"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ětšina druhů tvoří gymnokarpní krus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ecia, obvykle bokem přirostlá a často víceletá,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órovitým nebo lamelovitým hymenofor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evní houby, saprofyté nebo fakultativní (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ligátní) parazi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arakterističtí zástupci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om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omitops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esky obojí troudnatec, kopytovité plodnice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edal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íťkovec, protažené až lamelovité póry)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noder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esklokor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am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utkovk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ěkteré druhy jsou v mládí jedl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 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aetip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írov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"květákovité" plodni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oř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arass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otr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2" descr="outkovka-pestra_juraj-komar"/>
          <p:cNvPicPr/>
          <p:nvPr/>
        </p:nvPicPr>
        <p:blipFill>
          <a:blip r:embed="rId1"/>
          <a:stretch/>
        </p:blipFill>
        <p:spPr>
          <a:xfrm>
            <a:off x="5943600" y="457200"/>
            <a:ext cx="2743200" cy="2060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3"/>
          <p:cNvSpPr/>
          <p:nvPr/>
        </p:nvSpPr>
        <p:spPr>
          <a:xfrm>
            <a:off x="3843360" y="4114800"/>
            <a:ext cx="491976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trč kadeřavý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parassi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risp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J. Baier: Houby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nahoře: outkovka pestr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rametes versicolor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uraj Komár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/Trametes-versicolor/Trudnikovec-pestry/Outkovka-pestra/ID7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ole: sírovec žlutooranž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aetiporus sulphure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Sloník :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5" descr="sírovec_zlutooranzový_sloník"/>
          <p:cNvPicPr/>
          <p:nvPr/>
        </p:nvPicPr>
        <p:blipFill>
          <a:blip r:embed="rId3"/>
          <a:srcRect l="3799" t="0" r="0" b="0"/>
          <a:stretch/>
        </p:blipFill>
        <p:spPr>
          <a:xfrm>
            <a:off x="5334120" y="2590920"/>
            <a:ext cx="3352680" cy="2611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HOU067A_sparassis_kotrc"/>
          <p:cNvPicPr/>
          <p:nvPr/>
        </p:nvPicPr>
        <p:blipFill>
          <a:blip r:embed="rId4"/>
          <a:stretch/>
        </p:blipFill>
        <p:spPr>
          <a:xfrm>
            <a:off x="479520" y="4098960"/>
            <a:ext cx="3352680" cy="2259000"/>
          </a:xfrm>
          <a:prstGeom prst="rect">
            <a:avLst/>
          </a:prstGeom>
          <a:ln w="0">
            <a:noFill/>
          </a:ln>
        </p:spPr>
      </p:pic>
      <p:pic>
        <p:nvPicPr>
          <p:cNvPr id="123" name="7b_basid_15_trametes-laetiporus.MP3" descr=""/>
          <p:cNvPicPr/>
          <p:nvPr/>
        </p:nvPicPr>
        <p:blipFill>
          <a:blip r:embed="rId5"/>
          <a:stretch/>
        </p:blipFill>
        <p:spPr>
          <a:xfrm>
            <a:off x="5508720" y="220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4" name="7b_basid_15_sparassis.MP3" descr=""/>
          <p:cNvPicPr/>
          <p:nvPr/>
        </p:nvPicPr>
        <p:blipFill>
          <a:blip r:embed="rId6"/>
          <a:stretch/>
        </p:blipFill>
        <p:spPr>
          <a:xfrm>
            <a:off x="385128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03456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7872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8"/>
          <p:cNvSpPr/>
          <p:nvPr/>
        </p:nvSpPr>
        <p:spPr>
          <a:xfrm>
            <a:off x="380880" y="380880"/>
            <a:ext cx="838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lastní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yp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choroš) - houby s dobře odlišeným třeněm a kloboukem a pórovitým hymenofor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ntin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ouževnatec) s lupenitým hymenoforem (vznik paralelně s lupeny hub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říklad evoluční konvergence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omě výše uvedených zahrnuje i dřevní saprofyty nebo fakultativní parazity tvořící rozlité plodnice s hymeniem na povrchu; hymenofor hladký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kladem je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hanerochaet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rnatec), případně ostny nebo pó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9" descr="polyporus brumalis_jan-suvada-2005"/>
          <p:cNvPicPr/>
          <p:nvPr/>
        </p:nvPicPr>
        <p:blipFill>
          <a:blip r:embed="rId1"/>
          <a:srcRect l="9946" t="0" r="4973" b="0"/>
          <a:stretch/>
        </p:blipFill>
        <p:spPr>
          <a:xfrm>
            <a:off x="457200" y="2514600"/>
            <a:ext cx="2886120" cy="23907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0"/>
          <p:cNvSpPr/>
          <p:nvPr/>
        </p:nvSpPr>
        <p:spPr>
          <a:xfrm>
            <a:off x="380880" y="4952880"/>
            <a:ext cx="213372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Choroš zimní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olyporus brumal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án Šuvada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/Polyporus-brumalis/Trudnik-zim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/Choros-poloplastvovy/ID1824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2" descr="phanerochaete-sanguinea_oldrich-roucka-2006"/>
          <p:cNvPicPr/>
          <p:nvPr/>
        </p:nvPicPr>
        <p:blipFill>
          <a:blip r:embed="rId5"/>
          <a:stretch/>
        </p:blipFill>
        <p:spPr>
          <a:xfrm>
            <a:off x="5334120" y="2514600"/>
            <a:ext cx="3352680" cy="2382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1" descr="lentinis-tigrinus_jiri-polcak"/>
          <p:cNvPicPr/>
          <p:nvPr/>
        </p:nvPicPr>
        <p:blipFill>
          <a:blip r:embed="rId6"/>
          <a:srcRect l="0" t="13246" r="0" b="0"/>
          <a:stretch/>
        </p:blipFill>
        <p:spPr>
          <a:xfrm>
            <a:off x="2438280" y="4038480"/>
            <a:ext cx="3657600" cy="2384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0" name="Text Box 33"/>
          <p:cNvSpPr/>
          <p:nvPr/>
        </p:nvSpPr>
        <p:spPr>
          <a:xfrm>
            <a:off x="3429000" y="2543040"/>
            <a:ext cx="1752480" cy="12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Houževnatec tygrovan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entinus tigrin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iří Polčák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/Lentinus-tigrinus/Huzevnatec-tigrovany/Houzevnatec-tygrova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/ID15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4"/>
          <p:cNvSpPr/>
          <p:nvPr/>
        </p:nvSpPr>
        <p:spPr>
          <a:xfrm>
            <a:off x="6172200" y="4952880"/>
            <a:ext cx="259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rnatec krva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anerochaete sanguine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Oldřich Roučka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0"/>
              </a:rPr>
              <a:t>http://www.nahuby.sk/atlas-hub/Phanerochaete-sanguinea/Kornatec-krvavy/Kornatec-krvavy/ID1773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7b_basid_16_phanerochaete.MP3" descr=""/>
          <p:cNvPicPr/>
          <p:nvPr/>
        </p:nvPicPr>
        <p:blipFill>
          <a:blip r:embed="rId11"/>
          <a:stretch/>
        </p:blipFill>
        <p:spPr>
          <a:xfrm>
            <a:off x="4932360" y="2492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7b_basid_16_polyporus.MP3" descr=""/>
          <p:cNvPicPr/>
          <p:nvPr/>
        </p:nvPicPr>
        <p:blipFill>
          <a:blip r:embed="rId12"/>
          <a:stretch/>
        </p:blipFill>
        <p:spPr>
          <a:xfrm>
            <a:off x="468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4" name="7b_basid_16_lentinus.MP3" descr=""/>
          <p:cNvPicPr/>
          <p:nvPr/>
        </p:nvPicPr>
        <p:blipFill>
          <a:blip r:embed="rId13"/>
          <a:stretch/>
        </p:blipFill>
        <p:spPr>
          <a:xfrm>
            <a:off x="6227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41523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44214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87838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3"/>
          <p:cNvSpPr/>
          <p:nvPr/>
        </p:nvSpPr>
        <p:spPr>
          <a:xfrm>
            <a:off x="380880" y="380880"/>
            <a:ext cx="8382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početnější řád, gymnokarpní nebo hemiangiokarpní pilothecia (u různých druhů různá tvorba velum partiale nebo velum universale), hymenofor u naprosté většiny zástupců lupenitý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tří sem řada rodů obsahujících vyhledávané jedlé houb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acrolepi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bedl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čárka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ampion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rmill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áclavka), některé druhy rodů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oloma, Lepis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irůvky) aj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jně významné jsou ale i jedovaté houby z rod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mani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muchomůr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tolom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závojenka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ocyb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láknice) nebo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ortinari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avučine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6" descr="HOU226A_amanita_virosa_muchomurka_jizliva"/>
          <p:cNvPicPr/>
          <p:nvPr/>
        </p:nvPicPr>
        <p:blipFill>
          <a:blip r:embed="rId1"/>
          <a:stretch/>
        </p:blipFill>
        <p:spPr>
          <a:xfrm>
            <a:off x="457200" y="3733920"/>
            <a:ext cx="2098800" cy="2666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entoloma-sinuatum_ladislav-tabi"/>
          <p:cNvPicPr/>
          <p:nvPr/>
        </p:nvPicPr>
        <p:blipFill>
          <a:blip r:embed="rId2"/>
          <a:srcRect l="0" t="9001" r="0" b="0"/>
          <a:stretch/>
        </p:blipFill>
        <p:spPr>
          <a:xfrm>
            <a:off x="2590920" y="3733920"/>
            <a:ext cx="2093760" cy="26668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8"/>
          <p:cNvSpPr/>
          <p:nvPr/>
        </p:nvSpPr>
        <p:spPr>
          <a:xfrm>
            <a:off x="2525760" y="5726160"/>
            <a:ext cx="2590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Fo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Ladislav Tábi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ttp://www.nahuby.s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/atlas-hub/Entoloma-sinu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/Hodvabnica-velka/Zavojenka-olovova/ID113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9" descr="inocybe-erubescens_jaroslav-maly"/>
          <p:cNvPicPr/>
          <p:nvPr/>
        </p:nvPicPr>
        <p:blipFill>
          <a:blip r:embed="rId3"/>
          <a:stretch/>
        </p:blipFill>
        <p:spPr>
          <a:xfrm>
            <a:off x="5867280" y="2076480"/>
            <a:ext cx="2819520" cy="21175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0"/>
          <p:cNvSpPr/>
          <p:nvPr/>
        </p:nvSpPr>
        <p:spPr>
          <a:xfrm rot="5400000">
            <a:off x="4982400" y="2832840"/>
            <a:ext cx="22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Foto Jaroslav Malý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/Inocybe-erubescens/Vlaknica-Patouillardov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/Vlaknice-zacervenala--Patouillardova-/ID796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1" descr="cortinarius-orellanus_vladimir-zita-2004"/>
          <p:cNvPicPr/>
          <p:nvPr/>
        </p:nvPicPr>
        <p:blipFill>
          <a:blip r:embed="rId4"/>
          <a:stretch/>
        </p:blipFill>
        <p:spPr>
          <a:xfrm>
            <a:off x="5410080" y="4216320"/>
            <a:ext cx="3276720" cy="217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22"/>
          <p:cNvSpPr/>
          <p:nvPr/>
        </p:nvSpPr>
        <p:spPr>
          <a:xfrm>
            <a:off x="380880" y="2971800"/>
            <a:ext cx="56390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leva muchomůrka jízliv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manita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irosa), závojenka olovov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Entoloma sinuat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nahoře vláknice načervenal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Inocybe erubescen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dole pavučinec plyš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ortinarius orellan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392040" y="6095880"/>
            <a:ext cx="20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L. Hagara, V. Antonáín, J. Baier: Houby, Aventinum, 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4"/>
          <p:cNvSpPr/>
          <p:nvPr/>
        </p:nvSpPr>
        <p:spPr>
          <a:xfrm rot="5400000">
            <a:off x="3898440" y="4951080"/>
            <a:ext cx="2589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Vladimír Zíta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nahuby.sk/atlas-hub/Cortinarius-orellan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/Pavucinovec-plysovy/Pavucinec-plysovy/ID371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7b_basid_17_agaricales-jedovate.MP3" descr=""/>
          <p:cNvPicPr/>
          <p:nvPr/>
        </p:nvPicPr>
        <p:blipFill>
          <a:blip r:embed="rId7"/>
          <a:stretch/>
        </p:blipFill>
        <p:spPr>
          <a:xfrm>
            <a:off x="5435640" y="378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590486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0"/>
          <p:cNvSpPr/>
          <p:nvPr/>
        </p:nvSpPr>
        <p:spPr>
          <a:xfrm>
            <a:off x="380880" y="47242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manit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muchomůrkovité) - vedle smrtelně jedovatých hub i dobré jedlé druhy (růžovka = masák)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tolomat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závojenkovité) - i zde jsou vedle jedovatých druhů i dobré jedlé (např. podtrnka)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ortinari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avučincovité) - nejrozsáhlejší a na určování nejobtížnější skupina, řada jedovatých druhů, stejně jako v čeled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ocybacea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vláknicovit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380880" y="3808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důležitější čeledi: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aca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čár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vité) - sem patří pečárky (žampiony) a bedly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athyrell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řehutkovité) - sem patří většina hnojníků, jejichž spory se uvolňují díky autolýze plodnic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olomat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irůvkovité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čirův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rměl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 širšího okruhu patř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špičky, helmovky, václavky, šťavnat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dnes v rámci jiných menších čeled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6" descr="HOU241A_agaricus_pecarka"/>
          <p:cNvPicPr/>
          <p:nvPr/>
        </p:nvPicPr>
        <p:blipFill>
          <a:blip r:embed="rId1"/>
          <a:stretch/>
        </p:blipFill>
        <p:spPr>
          <a:xfrm>
            <a:off x="479520" y="2144880"/>
            <a:ext cx="2144520" cy="2038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coprinopsis-atramentaria_erik-brozmann"/>
          <p:cNvPicPr/>
          <p:nvPr/>
        </p:nvPicPr>
        <p:blipFill>
          <a:blip r:embed="rId2"/>
          <a:stretch/>
        </p:blipFill>
        <p:spPr>
          <a:xfrm>
            <a:off x="2689200" y="2144880"/>
            <a:ext cx="2895480" cy="20365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8"/>
          <p:cNvSpPr/>
          <p:nvPr/>
        </p:nvSpPr>
        <p:spPr>
          <a:xfrm>
            <a:off x="380880" y="4148280"/>
            <a:ext cx="8382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ečárka polní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garicu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ampestr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hnojník inkoust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oprinopsis atramentari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čirůvka fialov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epista nud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9" descr="lepista-nuda_jiri-polcak-2006"/>
          <p:cNvPicPr/>
          <p:nvPr/>
        </p:nvPicPr>
        <p:blipFill>
          <a:blip r:embed="rId3"/>
          <a:stretch/>
        </p:blipFill>
        <p:spPr>
          <a:xfrm>
            <a:off x="5661000" y="2144880"/>
            <a:ext cx="2709720" cy="20350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1"/>
          <p:cNvSpPr/>
          <p:nvPr/>
        </p:nvSpPr>
        <p:spPr>
          <a:xfrm>
            <a:off x="457200" y="4125960"/>
            <a:ext cx="83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Erik Brozmann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nahuby.sk/atlas-hub/Coprinopsis-atramentaria/Hnojnik-atramentovy/Hnojnik-inkoustovy/ID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iří Polčák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nahuby.sk/atlas-hub/Lepista-nuda/Povabnica-fialova/Ciruvka-fialova/ID507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407880" y="3998880"/>
            <a:ext cx="228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agara et al.: Houby, Aventinum, Praha, 19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7b_basid_18_agaricus-lepista-coprinopsis.MP3" descr=""/>
          <p:cNvPicPr/>
          <p:nvPr/>
        </p:nvPicPr>
        <p:blipFill>
          <a:blip r:embed="rId6"/>
          <a:stretch/>
        </p:blipFill>
        <p:spPr>
          <a:xfrm>
            <a:off x="845964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355907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0"/>
          <p:cNvSpPr/>
          <p:nvPr/>
        </p:nvSpPr>
        <p:spPr>
          <a:xfrm>
            <a:off x="380880" y="380880"/>
            <a:ext cx="8382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aktuálně řazeny břichatky tvořící podzemní nebo pozemní schizothe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rzy se rozpadá exoperidie, endoperidie se otvírá až za zralosti pórem nebo praská, někdy spodní část plodnice zůstává sterilní (tzv. subgleb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tupci jsou většinou saprofyté na nelesních stanovištích, vzácněji rostou i na dřevě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ycoperdo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ýchav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vis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rášivk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vozen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: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zem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hizothecia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lád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yt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nk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lank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epifragmou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v dospělosti nálevkovité, epifragma praská a obnažuje na dně "nálevek" teřich, jenž se mezitím rozpadl na několik tělísek - peridiol (peciček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ždá peridiola obsahuje jednu komůrku teřichu (nedochází k tvorbě kapilicia), je přichycena ke stěně (= peridie) vláknitým poutkem (funikulus) =&gt; za deště nacucání =&gt; vymrštění peridioly a její uchycení někde venk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na půdě nebo dřevě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yath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íšenk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rucibul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pohárov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1" descr="26_uvolnovani_spor_lycoperdon"/>
          <p:cNvPicPr/>
          <p:nvPr/>
        </p:nvPicPr>
        <p:blipFill>
          <a:blip r:embed="rId1"/>
          <a:srcRect l="1692" t="7098" r="0" b="3549"/>
          <a:stretch/>
        </p:blipFill>
        <p:spPr>
          <a:xfrm>
            <a:off x="3925800" y="4114800"/>
            <a:ext cx="2094120" cy="2268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2" descr="HOU406A_crucibulum_poharovka"/>
          <p:cNvPicPr/>
          <p:nvPr/>
        </p:nvPicPr>
        <p:blipFill>
          <a:blip r:embed="rId2"/>
          <a:srcRect l="6757" t="0" r="6757" b="0"/>
          <a:stretch/>
        </p:blipFill>
        <p:spPr>
          <a:xfrm>
            <a:off x="6081840" y="4114800"/>
            <a:ext cx="2604960" cy="226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3" descr="HOU380A_endoptychum_strechan"/>
          <p:cNvPicPr/>
          <p:nvPr/>
        </p:nvPicPr>
        <p:blipFill>
          <a:blip r:embed="rId3"/>
          <a:stretch/>
        </p:blipFill>
        <p:spPr>
          <a:xfrm>
            <a:off x="457200" y="4114800"/>
            <a:ext cx="1465200" cy="22716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4"/>
          <p:cNvSpPr/>
          <p:nvPr/>
        </p:nvSpPr>
        <p:spPr>
          <a:xfrm>
            <a:off x="1947960" y="4038480"/>
            <a:ext cx="1981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střechan bedlovit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hloro-phyllum agaricoid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– přechodný typ mezi rouškatou houbou a břichatkou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pýchavka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ycoperdon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) a pohárovka obecn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rucibulum laeve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5"/>
          <p:cNvSpPr/>
          <p:nvPr/>
        </p:nvSpPr>
        <p:spPr>
          <a:xfrm>
            <a:off x="355680" y="60958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agara et al.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ouby, Aventinum, 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6"/>
          <p:cNvSpPr/>
          <p:nvPr/>
        </p:nvSpPr>
        <p:spPr>
          <a:xfrm>
            <a:off x="6222960" y="4083120"/>
            <a:ext cx="259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L. Hagara, V. Antonín, J. Baier: Houby, 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7"/>
          <p:cNvSpPr/>
          <p:nvPr/>
        </p:nvSpPr>
        <p:spPr>
          <a:xfrm rot="5400000">
            <a:off x="4625280" y="51382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R. Moore, W. D. Clark, K. R. Stern &amp; D. Vodopich: Botany. 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7b_basid_19_agarikoidni-brichatky.MP3" descr=""/>
          <p:cNvPicPr/>
          <p:nvPr/>
        </p:nvPicPr>
        <p:blipFill>
          <a:blip r:embed="rId4"/>
          <a:stretch/>
        </p:blipFill>
        <p:spPr>
          <a:xfrm>
            <a:off x="3564000" y="407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70829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80880" y="380880"/>
            <a:ext cx="83822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mogenní skupina, považovaná v současné době za vývojově nejodvozenějš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klíčí vždy hyfou, nevytvářejí se kvasinkovité útvary (v přirozených podmínkách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kundární mycelium vzniká vždy somatogamií (hyfogamií), u většiny zástupců (jsou výjimky) se tvoří přezky a dolipory s perforovaným parentosom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jednobuněčné, téměř vždy se tvoří plodnice (výjimkou je pár drobných řádů, ze zde zmíněných je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ilobas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jimečně dochází k tvorbě konidií (anamorfního stadia), a to vždy na dikaryotickém myceliu, případně na plodnicích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oznámka: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se systémem této skupiny zřejmě víc než u kterékoli jiné "zamával" nástup molekulární taxonomie; je dost možné, že (až opadne prvotní nadšení "sekvence nade vše") se ukáže, že zařazení některých taxonů (přesuny mezi řády) je potřeba brát s rezervou :o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80880" y="38088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l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emiangi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rp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ytvořeno velum partiale) nebo gymnokarpní pilothecia s hymenoforem rourkatým, vzácněji lupenitým (snadno se odděluje od dužniny klobouku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vážně mykorhizní houb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větším rodem j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let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řib)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á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il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louzek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Xeroco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uchohřib) neb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ccin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kozák); z lupenitých mají význam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omphidi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lizák) neb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xil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echratk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1" descr="xerocomus-badius_yvona-janotova"/>
          <p:cNvPicPr/>
          <p:nvPr/>
        </p:nvPicPr>
        <p:blipFill>
          <a:blip r:embed="rId1"/>
          <a:stretch/>
        </p:blipFill>
        <p:spPr>
          <a:xfrm>
            <a:off x="466560" y="3954600"/>
            <a:ext cx="3189600" cy="2393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2"/>
          <p:cNvSpPr/>
          <p:nvPr/>
        </p:nvSpPr>
        <p:spPr>
          <a:xfrm>
            <a:off x="380880" y="2678040"/>
            <a:ext cx="5715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leva hřib hněd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Boletus badi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klouzek modřín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uillu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reville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lizák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azlavý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omphidiu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lutinos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čechratka podvinu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axillus involut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Yvona Janotová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/Boletus-badius/Suchohrib-hnedy/Suchohrib-hnedy/ID6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Ivan Belay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Suillus-grevillei/Masliak-smrekovcovy/Klouzek-slicny/ID276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Pavol Kešeľák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nahuby.sk/atlas-hub/Gomphidius-glutinosus/Sliziak-mazlavy/Slizak-mazlavy/ID609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Ondrej Líška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nahuby.sk/atlas-hub/Paxillus-involutus/Cechracka-podvinuta/Cechratka-podvinuta/ID21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3" descr="suillus-grevillei_ivan-belay"/>
          <p:cNvPicPr/>
          <p:nvPr/>
        </p:nvPicPr>
        <p:blipFill>
          <a:blip r:embed="rId6"/>
          <a:srcRect l="0" t="19685" r="0" b="0"/>
          <a:stretch/>
        </p:blipFill>
        <p:spPr>
          <a:xfrm>
            <a:off x="3747960" y="3951360"/>
            <a:ext cx="2238480" cy="2395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5" descr="gomphidius-glutinosus_pavol-keselak"/>
          <p:cNvPicPr/>
          <p:nvPr/>
        </p:nvPicPr>
        <p:blipFill>
          <a:blip r:embed="rId7"/>
          <a:stretch/>
        </p:blipFill>
        <p:spPr>
          <a:xfrm>
            <a:off x="6095880" y="457200"/>
            <a:ext cx="2552760" cy="3400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7" descr="paxillus-involutus_ondrej-liska-2005"/>
          <p:cNvPicPr/>
          <p:nvPr/>
        </p:nvPicPr>
        <p:blipFill>
          <a:blip r:embed="rId8"/>
          <a:stretch/>
        </p:blipFill>
        <p:spPr>
          <a:xfrm>
            <a:off x="6095880" y="3938760"/>
            <a:ext cx="2556000" cy="2396880"/>
          </a:xfrm>
          <a:prstGeom prst="rect">
            <a:avLst/>
          </a:prstGeom>
          <a:ln w="0">
            <a:noFill/>
          </a:ln>
        </p:spPr>
      </p:pic>
      <p:pic>
        <p:nvPicPr>
          <p:cNvPr id="170" name="7b_basid_20_boletales.MP3" descr=""/>
          <p:cNvPicPr/>
          <p:nvPr/>
        </p:nvPicPr>
        <p:blipFill>
          <a:blip r:embed="rId9"/>
          <a:stretch/>
        </p:blipFill>
        <p:spPr>
          <a:xfrm>
            <a:off x="5724360" y="306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252566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6"/>
          <p:cNvSpPr/>
          <p:nvPr/>
        </p:nvSpPr>
        <p:spPr>
          <a:xfrm>
            <a:off x="380880" y="380880"/>
            <a:ext cx="5105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l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aktuálně řazeny břichatky tvořící na rhizoidálním myceliu pozemní nebo část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 podzemní plektothecia s tuhou perid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čeleď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lerodermatacea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v lesích i mimo ně, některé druhy mykorhizní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leroder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estř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 hřiby je příbuzná i resupinátní rouškatá houba neblaze proslulá v budovách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rpula lacryman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řevomorka domác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7" descr="HOU384A_scleroderma_pestrec"/>
          <p:cNvPicPr/>
          <p:nvPr/>
        </p:nvPicPr>
        <p:blipFill>
          <a:blip r:embed="rId1"/>
          <a:stretch/>
        </p:blipFill>
        <p:spPr>
          <a:xfrm>
            <a:off x="5562720" y="457200"/>
            <a:ext cx="3100320" cy="23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8" descr="serpula-lacrymans_pavel-bruzek"/>
          <p:cNvPicPr/>
          <p:nvPr/>
        </p:nvPicPr>
        <p:blipFill>
          <a:blip r:embed="rId2">
            <a:lum bright="10000"/>
          </a:blip>
          <a:srcRect l="0" t="22378" r="0" b="0"/>
          <a:stretch/>
        </p:blipFill>
        <p:spPr>
          <a:xfrm>
            <a:off x="4572000" y="2895480"/>
            <a:ext cx="4087800" cy="21160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9"/>
          <p:cNvSpPr/>
          <p:nvPr/>
        </p:nvSpPr>
        <p:spPr>
          <a:xfrm>
            <a:off x="380880" y="3137040"/>
            <a:ext cx="4191120" cy="10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 pestřec obecn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cleroderma citrin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ole dřevomorka domácí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erpula lacryman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Pavel Brůžek, http://www.nahuby.sk/atlas-hub/Serpula-lacrymans/Drevokaz-slzivy/Drevomorka-domaci/ID6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7b_basid_21_scleroderma.MP3" descr=""/>
          <p:cNvPicPr/>
          <p:nvPr/>
        </p:nvPicPr>
        <p:blipFill>
          <a:blip r:embed="rId3"/>
          <a:stretch/>
        </p:blipFill>
        <p:spPr>
          <a:xfrm>
            <a:off x="5148360" y="47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6" name="7b_basid_21_serpula.MP3" descr=""/>
          <p:cNvPicPr/>
          <p:nvPr/>
        </p:nvPicPr>
        <p:blipFill>
          <a:blip r:embed="rId4"/>
          <a:stretch/>
        </p:blipFill>
        <p:spPr>
          <a:xfrm>
            <a:off x="4140360" y="422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99358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231668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380880" y="38088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ssu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ilothecia gymnokarpní (vzácně s vyvinutým velem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arakteristickým znakem řádu je přítomnost sférocyst (správnější je výraz sférocyty) - kulovitých buněk, vzniklých přeměnou buněk hyf (hyfy zde netvoří přezky); dužnina je pak křehká, lámavá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vážně mykorhitické druhy, u nás zástupci dvou velkých rodů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ssu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olubinka)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actari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ryzec), jenž je kromě sférocyst charakteristický ještě roněním mléčné tekutiny při poranění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ůže za t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tomnost mléčnic v pletivu –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ubinek jsou také vytvořeny, ale bez obsaženého "mléka"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russula-emetica_bozena-kuzmova-2004"/>
          <p:cNvPicPr/>
          <p:nvPr/>
        </p:nvPicPr>
        <p:blipFill>
          <a:blip r:embed="rId1"/>
          <a:stretch/>
        </p:blipFill>
        <p:spPr>
          <a:xfrm>
            <a:off x="2895480" y="2743200"/>
            <a:ext cx="3810240" cy="24066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380880" y="5867280"/>
            <a:ext cx="594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Ryzec ryša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actarius ruf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Milan Zajac, http://www.nahuby.sk/atlas-hub/Lactarius-rufus/Rydzik-rysavy/Ryzec-rysavy/ID585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lactarius-rufus_milan-zajac"/>
          <p:cNvPicPr/>
          <p:nvPr/>
        </p:nvPicPr>
        <p:blipFill>
          <a:blip r:embed="rId2"/>
          <a:stretch/>
        </p:blipFill>
        <p:spPr>
          <a:xfrm>
            <a:off x="479520" y="2743200"/>
            <a:ext cx="2325600" cy="3105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8"/>
          <p:cNvSpPr/>
          <p:nvPr/>
        </p:nvSpPr>
        <p:spPr>
          <a:xfrm>
            <a:off x="2797200" y="5181480"/>
            <a:ext cx="59436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Holubinka vrhavka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Russula emetic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Božena Kuzmová, http://www.nahuby.sk/atlas-hub/Russula-emetica/Plavka-skodliva/Holubinka-vrhavka/ID4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7b_basid_22_russula-lactarius.MP3" descr=""/>
          <p:cNvPicPr/>
          <p:nvPr/>
        </p:nvPicPr>
        <p:blipFill>
          <a:blip r:embed="rId3"/>
          <a:stretch/>
        </p:blipFill>
        <p:spPr>
          <a:xfrm>
            <a:off x="6804000" y="486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36672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5"/>
          <p:cNvSpPr/>
          <p:nvPr/>
        </p:nvSpPr>
        <p:spPr>
          <a:xfrm>
            <a:off x="380880" y="3808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ssu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aktuálně řazeny i některé "choroše"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terobasidio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kořenovník, "metla" smrkových kultur), houby s plodnicí resupinátní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re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evník), keříčkovitou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ri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korálovec) nebo kloboukatou s ostnitým hymenoforem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uriscalp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lžičkov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6" descr="HOU070AB_auriscalpium_lzickovec+dentipellis_ostnatecek"/>
          <p:cNvPicPr/>
          <p:nvPr/>
        </p:nvPicPr>
        <p:blipFill>
          <a:blip r:embed="rId1"/>
          <a:srcRect l="0" t="0" r="57526" b="0"/>
          <a:stretch/>
        </p:blipFill>
        <p:spPr>
          <a:xfrm>
            <a:off x="457200" y="1676520"/>
            <a:ext cx="2971800" cy="2355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7" descr="heterobasidion-annosum_lukas-faturik-2006"/>
          <p:cNvPicPr/>
          <p:nvPr/>
        </p:nvPicPr>
        <p:blipFill>
          <a:blip r:embed="rId2"/>
          <a:srcRect l="0" t="0" r="5376" b="0"/>
          <a:stretch/>
        </p:blipFill>
        <p:spPr>
          <a:xfrm>
            <a:off x="457200" y="4114800"/>
            <a:ext cx="2970360" cy="2241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9" descr="hericium-erinaceus_yvona-janotova"/>
          <p:cNvPicPr/>
          <p:nvPr/>
        </p:nvPicPr>
        <p:blipFill>
          <a:blip r:embed="rId3"/>
          <a:srcRect l="0" t="0" r="0" b="662"/>
          <a:stretch/>
        </p:blipFill>
        <p:spPr>
          <a:xfrm>
            <a:off x="3505320" y="1676520"/>
            <a:ext cx="3166920" cy="2361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2" descr="stereum-hirsutum_standa-jirasek"/>
          <p:cNvPicPr/>
          <p:nvPr/>
        </p:nvPicPr>
        <p:blipFill>
          <a:blip r:embed="rId4"/>
          <a:stretch/>
        </p:blipFill>
        <p:spPr>
          <a:xfrm>
            <a:off x="3505320" y="4114800"/>
            <a:ext cx="3166920" cy="2241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6"/>
          <p:cNvSpPr/>
          <p:nvPr/>
        </p:nvSpPr>
        <p:spPr>
          <a:xfrm>
            <a:off x="6705720" y="1600200"/>
            <a:ext cx="2133360" cy="46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 zlev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Lžičkovec šišk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uriscalpium vulgare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rálovec ježat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ericium erinace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Yvona Janotová, 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Hericium-erinaceus/Koralovec-jezov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Koralovec-jezaty/ID198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ole zlev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řenovník vrstevnat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eterobasidion annos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Lukáš Faturík, 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Heterobasidion-annosum/Korenovka-vrstevnata/Korenovnik-vrstevnaty/ID20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evník chlupat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tereum hirsut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Standa Jirásek, 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Stereum-hirsutum/Pevnik-chlpa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Pevnik-chlupaty/ID425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7b_basid_23_russulales-nelupenate.MP3" descr=""/>
          <p:cNvPicPr/>
          <p:nvPr/>
        </p:nvPicPr>
        <p:blipFill>
          <a:blip r:embed="rId5"/>
          <a:stretch/>
        </p:blipFill>
        <p:spPr>
          <a:xfrm>
            <a:off x="4716360" y="134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53827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8" descr="C:\user\Houba\Škola-obrázky\nizsi_rostliny\agaricomycotina\konechroud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9"/>
          <p:cNvSpPr/>
          <p:nvPr/>
        </p:nvSpPr>
        <p:spPr>
          <a:xfrm>
            <a:off x="5638680" y="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s díky za pozornost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0" y="6324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na rozloučenou ... praktické využití boltcovitky mozkovité</a:t>
            </a:r>
            <a:r>
              <a:rPr b="1" i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: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80880" y="380880"/>
            <a:ext cx="838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pod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omycot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 tvoří útvary nazýva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(bazidiokarpy, bazidiomat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k tomu poznámka: plodnice v užším smyslu tohoto slova by měly obsahovat pohlavní orgá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dle tohoto užšího pojetí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opkovýtrusných hub nejsou pravé plodnic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 dělení na typy hymeniální a gastrál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iální plodn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/obr. vlevo/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charakterizovány přítomnost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buď pokrývá celý povrch plodnice, nebo jen specializovanou část povrchu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of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upeny, rourky, ostny, póry, lamely, i hladký hymenofor); v hymeniu se kromě bazidií tvoří sterilní buňky zakončující hyfy (cystidy aj.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strálních plodnicích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vpravo/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tvoř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nitř 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eb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ale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id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457200" y="3352680"/>
          <a:ext cx="5410080" cy="25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352680"/>
                    <a:ext cx="541008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4"/>
          <p:cNvSpPr/>
          <p:nvPr/>
        </p:nvSpPr>
        <p:spPr>
          <a:xfrm>
            <a:off x="2946240" y="5867280"/>
            <a:ext cx="297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en.wikipedia.org/wiki/File:Basidium_schematic.svg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Gleba_icon"/>
          <p:cNvPicPr/>
          <p:nvPr/>
        </p:nvPicPr>
        <p:blipFill>
          <a:blip r:embed="rId4"/>
          <a:stretch/>
        </p:blipFill>
        <p:spPr>
          <a:xfrm>
            <a:off x="6095880" y="337824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5715000" y="5867280"/>
            <a:ext cx="297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commons.wikimedia.org/wiki/File:Gleba_icon.png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7b_basid_03_agaricomycotina-plodnice.MP3" descr=""/>
          <p:cNvPicPr/>
          <p:nvPr/>
        </p:nvPicPr>
        <p:blipFill>
          <a:blip r:embed="rId6"/>
          <a:stretch/>
        </p:blipFill>
        <p:spPr>
          <a:xfrm>
            <a:off x="5580000" y="141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534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80880" y="380880"/>
            <a:ext cx="510552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iálních plodni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the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rozlitá, kyjovitá, keříčkovitá, hymenium pokrývá celý povrch plodnic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ilothe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lodnice jednoletá,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rázovým vývojem, diferencovaná na klobouk a třeň, hymenofor pokrývá spodní část klobouku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plodnic tohoto typu se vytvář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chetky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elum universa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yjící celou plodnici, z nějž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trhání zbývá pochva na báz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řeně nebo strupy na vrchol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obouku,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lum partia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yjící mladý hymenofor, jeho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zůstatkem je pak prsten nebo pavučinka na třeni anebo cáry na okraji klobouk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ustothe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lodnice s postupným vývojem (přirůstající), jedno- nebo víceletá, může a nemusí být členěna na klobouk a třeň, hymenofor pokrývá spodní část klobouku (nebo nerozlišené plodn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HOU069A"/>
          <p:cNvPicPr/>
          <p:nvPr/>
        </p:nvPicPr>
        <p:blipFill>
          <a:blip r:embed="rId1"/>
          <a:stretch/>
        </p:blipFill>
        <p:spPr>
          <a:xfrm>
            <a:off x="5562720" y="388800"/>
            <a:ext cx="3047760" cy="1820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OU114A"/>
          <p:cNvPicPr/>
          <p:nvPr/>
        </p:nvPicPr>
        <p:blipFill>
          <a:blip r:embed="rId2"/>
          <a:stretch/>
        </p:blipFill>
        <p:spPr>
          <a:xfrm>
            <a:off x="5562720" y="4264200"/>
            <a:ext cx="3047760" cy="1742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HOU222A"/>
          <p:cNvPicPr/>
          <p:nvPr/>
        </p:nvPicPr>
        <p:blipFill>
          <a:blip r:embed="rId3"/>
          <a:stretch/>
        </p:blipFill>
        <p:spPr>
          <a:xfrm>
            <a:off x="5562720" y="2293920"/>
            <a:ext cx="3047760" cy="1889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OU299A"/>
          <p:cNvPicPr/>
          <p:nvPr/>
        </p:nvPicPr>
        <p:blipFill>
          <a:blip r:embed="rId4"/>
          <a:stretch/>
        </p:blipFill>
        <p:spPr>
          <a:xfrm>
            <a:off x="3773520" y="2293920"/>
            <a:ext cx="1773360" cy="18763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5562720" y="6006960"/>
            <a:ext cx="312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J. Baier: Houby, Aventinum, 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80880" y="6172200"/>
            <a:ext cx="8382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hora: kuřátka lososová, pavučinec šupinonohý (vlevo), muchomůrka císařka, hlinák červenající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7b_basid_04_typy-hymenialnich-plodnic.MP3" descr=""/>
          <p:cNvPicPr/>
          <p:nvPr/>
        </p:nvPicPr>
        <p:blipFill>
          <a:blip r:embed="rId5"/>
          <a:stretch/>
        </p:blipFill>
        <p:spPr>
          <a:xfrm>
            <a:off x="5148360" y="112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15283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80880" y="380880"/>
            <a:ext cx="4724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strálních (gastroidních) plodni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šech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zavřené)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ektothecium - plodnice s roztroušenými bazidie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lysothecium, schizothecium - uvnitř plodnice jsou dutiny vystlané hymeni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ulaiothecium - plodnice, do jejíhož nitra vrůstají lamely, pokryté hymeni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lathrothecium - gleba je rozdělena větvenými lamelami a v době zralosti vynesena nahoru přídatným receptaku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brichatky_typy-plodnic"/>
          <p:cNvPicPr/>
          <p:nvPr/>
        </p:nvPicPr>
        <p:blipFill>
          <a:blip r:embed="rId1"/>
          <a:stretch/>
        </p:blipFill>
        <p:spPr>
          <a:xfrm>
            <a:off x="5207040" y="152280"/>
            <a:ext cx="3479760" cy="6553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380880" y="3581280"/>
            <a:ext cx="45720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Běžné typy gastroidních plodnic =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řády v popiscích dle historického systém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T. Kalina et J. Váňa: Sinice, řasy, houby, mechorosty a podobné organismy v současné biologii, Karolinum, Praha, 200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7b_basid_05_typy-gastralnich-plodnic.MP3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56485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80880" y="380880"/>
            <a:ext cx="4191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ktenchymatická pletiva tvořící plodnice (prosenchym, pseu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enchym) jsou utvářena hyfami trojího typu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ákladním typem jsou hyf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nerati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tenkostěnné, větve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ehrádkované, dávají vznik bazidií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dvozené typy jsou pak hyf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eleto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tlustostěnné, nevětvené, nepřehrádkovan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ípadně ještě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azbo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gati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tlustostěnné, větvené, nepřehrá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vané, oproti skeletovým téměř nemají lume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tivo je pak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nomit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n generativní hyfy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žd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tomny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mit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nerativní + skeletové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mfimit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n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i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+ ligativní)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mit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7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šechny tři typy hy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838080" y="599436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Veselý, F. Kotlaba, Z. Pouzar: Přehled československých hub, Academia, Praha, 197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VKP032"/>
          <p:cNvPicPr/>
          <p:nvPr/>
        </p:nvPicPr>
        <p:blipFill>
          <a:blip r:embed="rId1"/>
          <a:srcRect l="663" t="0" r="663" b="1157"/>
          <a:stretch/>
        </p:blipFill>
        <p:spPr>
          <a:xfrm>
            <a:off x="4619520" y="457200"/>
            <a:ext cx="4056120" cy="5799240"/>
          </a:xfrm>
          <a:prstGeom prst="rect">
            <a:avLst/>
          </a:prstGeom>
          <a:ln w="0">
            <a:noFill/>
          </a:ln>
        </p:spPr>
      </p:pic>
      <p:pic>
        <p:nvPicPr>
          <p:cNvPr id="71" name="7b_basid_06_typy-hyf.MP3" descr=""/>
          <p:cNvPicPr/>
          <p:nvPr/>
        </p:nvPicPr>
        <p:blipFill>
          <a:blip r:embed="rId2"/>
          <a:stretch/>
        </p:blipFill>
        <p:spPr>
          <a:xfrm>
            <a:off x="421164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47002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80880" y="380880"/>
            <a:ext cx="8382240" cy="60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TREMELL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 s rozdělenou bazidií (fragmobazidií) a/nebo tvorbou kvasinkovitých stadií</a:t>
            </a:r>
            <a:br>
              <a:rPr sz="12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eme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ouby tvořící plodnice rosolovité konzistence, na jejich povrchu hymenium s bazidie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matogamie =&gt; sekundární mycelium s přezkami, dolipory s parentosom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ilobas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asně vymezený řád, dikaryotické mycelium s přezkami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lipory (ale bez parentosomu), holobazidie, tvorba kvasinkovitých stad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ilobasidiella neoforman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v anamorfě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ryptococcus neoforman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togen, původce vážné nemo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tremella-mesenterica_peter-stefanovie-2007"/>
          <p:cNvPicPr/>
          <p:nvPr/>
        </p:nvPicPr>
        <p:blipFill>
          <a:blip r:embed="rId1"/>
          <a:stretch/>
        </p:blipFill>
        <p:spPr>
          <a:xfrm>
            <a:off x="5145120" y="2211480"/>
            <a:ext cx="3541680" cy="2360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chiasticka-fragmobazidie_tremella"/>
          <p:cNvPicPr/>
          <p:nvPr/>
        </p:nvPicPr>
        <p:blipFill>
          <a:blip r:embed="rId2"/>
          <a:stretch/>
        </p:blipFill>
        <p:spPr>
          <a:xfrm>
            <a:off x="3454560" y="2209680"/>
            <a:ext cx="1738080" cy="23623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"/>
          <p:cNvSpPr/>
          <p:nvPr/>
        </p:nvSpPr>
        <p:spPr>
          <a:xfrm>
            <a:off x="380880" y="2027160"/>
            <a:ext cx="3124440" cy="25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 i tvorba konid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příčně rozdělená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louhými sterigmat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klíčí hyfou, konidiemi nebo sekundá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ími spora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tšinou dřevní saprofyté, druhotně parazité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 parazité hub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emel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rosolov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36600" y="4572000"/>
            <a:ext cx="84582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Chiastická fragmobazidie rosolovky s dlouhými sterigmaty     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Jean Louis Émile Boudier: Icones mycologicae ou iconographie des champignons de France, principalement Discomycètes, 1904–1909;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mushroomthejournal.com/greatlakesdata/Terms/steri702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Rosolovka mozkovi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remell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esenteric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P.</a:t>
            </a:r>
            <a:r>
              <a:rPr b="0" lang="cs-CZ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Štefanovie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nahuby.sk/obrazok_detail.php?obrazok_id=56185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7b_basid_07_tremellales.MP3" descr=""/>
          <p:cNvPicPr/>
          <p:nvPr/>
        </p:nvPicPr>
        <p:blipFill>
          <a:blip r:embed="rId5"/>
          <a:stretch/>
        </p:blipFill>
        <p:spPr>
          <a:xfrm>
            <a:off x="385128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04217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2"/>
          <p:cNvSpPr/>
          <p:nvPr/>
        </p:nvSpPr>
        <p:spPr>
          <a:xfrm>
            <a:off x="380880" y="380880"/>
            <a:ext cx="838224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RY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crymyc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voří obvykle žluté nebo oranžové, rosolovité až tuhé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evní saprofyt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cry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ropilka, bochánkovité plodnice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aloce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krásnorůžek, keříčkovité p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n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3" descr="calocera-viscosa_ladislav-racko"/>
          <p:cNvPicPr/>
          <p:nvPr/>
        </p:nvPicPr>
        <p:blipFill>
          <a:blip r:embed="rId1"/>
          <a:stretch/>
        </p:blipFill>
        <p:spPr>
          <a:xfrm>
            <a:off x="3914640" y="3451320"/>
            <a:ext cx="3375000" cy="2392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4"/>
          <p:cNvSpPr/>
          <p:nvPr/>
        </p:nvSpPr>
        <p:spPr>
          <a:xfrm>
            <a:off x="3809880" y="5824440"/>
            <a:ext cx="4953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rásnorůžek lepka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alocera viscos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Ladislav Racko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/Calocera-viscosa/Parozkovec-lepkavy/Krasnoruzek-lepkavy/ID325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5" descr="dacrymyces_tomas-papousek-1995"/>
          <p:cNvPicPr/>
          <p:nvPr/>
        </p:nvPicPr>
        <p:blipFill>
          <a:blip r:embed="rId3"/>
          <a:stretch/>
        </p:blipFill>
        <p:spPr>
          <a:xfrm>
            <a:off x="479520" y="3451320"/>
            <a:ext cx="3328920" cy="2394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6"/>
          <p:cNvSpPr/>
          <p:nvPr/>
        </p:nvSpPr>
        <p:spPr>
          <a:xfrm>
            <a:off x="380880" y="5824440"/>
            <a:ext cx="27432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ropilka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acrymyc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Tomáš Papouš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7" descr="dacrymyces_tuning-fork-basidia"/>
          <p:cNvPicPr/>
          <p:nvPr/>
        </p:nvPicPr>
        <p:blipFill>
          <a:blip r:embed="rId4"/>
          <a:srcRect l="0" t="0" r="6562" b="0"/>
          <a:stretch/>
        </p:blipFill>
        <p:spPr>
          <a:xfrm>
            <a:off x="479520" y="1295280"/>
            <a:ext cx="1981080" cy="1393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8"/>
          <p:cNvSpPr/>
          <p:nvPr/>
        </p:nvSpPr>
        <p:spPr>
          <a:xfrm>
            <a:off x="2514600" y="1098720"/>
            <a:ext cx="624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rupavčité plodnic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s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yceliu tvorba přezek a doliporů s parentosom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se vytvářejí v hymeniu na povrchu plodnice, 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ecifického typ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olobazidie rozvětvené ve dvě prosterigmata, nesoucí sterigmata se spora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klíčí hyfou nebo konidi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7b_basid_08_dacrymycetales.MP3" descr=""/>
          <p:cNvPicPr/>
          <p:nvPr/>
        </p:nvPicPr>
        <p:blipFill>
          <a:blip r:embed="rId5"/>
          <a:stretch/>
        </p:blipFill>
        <p:spPr>
          <a:xfrm>
            <a:off x="341964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4653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8"/>
          <p:cNvSpPr/>
          <p:nvPr/>
        </p:nvSpPr>
        <p:spPr>
          <a:xfrm>
            <a:off x="380880" y="380880"/>
            <a:ext cx="8382240" cy="61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GARIC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 s nerozdělenou bazidií (= holobazidií), netvoří kvasinkovitá stadia (neplatí absolutně, viz první řád)</a:t>
            </a:r>
            <a:br>
              <a:rPr sz="12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le vývoje plodnic rozlišujem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 rouška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říve podt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omycetid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u nichž se bazidiospory tvoří na povrchu plodnice v povrchové vrstvě zva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ýtrusorod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uš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ž tvoř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romě bazidií sterilní zakončení hyf: bazidioly, cystidy, hyfidie (vlákna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ter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obdobou parafýz u vřeckatých hub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hymenomycetoidního typu, spory až na výjimky aktivně odmršťovány (balistospor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ymnokarp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d počátku otevřené)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miangiokarp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očasně uzavřené 1 nebo 2 plachetkami - velum partiale, velum universale)</a:t>
            </a:r>
            <a:br>
              <a:rPr sz="1800"/>
            </a:b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ruhým typem 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řichat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říve podtříd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steromycetid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 zn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ngiokarp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ývoj plodnice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zavřená až do dozrání 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gastroidního typ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azidiospory pasivně uvolňovány (odlamují se ze sterigmat), roznášeny větrem, vodou, živočich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vrch plodnice uzavírá většinou dvouvrstevn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krovka (peridie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amotný vnitřek plodnice pak tvo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řich (gleb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se tvoří volně v celém teřichu nebo na hymeniu, které pokrývá povrch jeho vnitřních prostor (komůrek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ěhem zrání se pletivo teřichu rozrušuje =&gt; shluky hyf tvořící kapilic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 uvolnění spor dojde po rozrušení peridie a obnažení teři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7b_basid_09_houby-rouskate-brichatky.MP3" descr=""/>
          <p:cNvPicPr/>
          <p:nvPr/>
        </p:nvPicPr>
        <p:blipFill>
          <a:blip r:embed="rId1"/>
          <a:stretch/>
        </p:blipFill>
        <p:spPr>
          <a:xfrm>
            <a:off x="3276720" y="1197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113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PH</cp:lastModifiedBy>
  <dcterms:modified xsi:type="dcterms:W3CDTF">2020-11-09T17:58:15Z</dcterms:modified>
  <cp:revision>230</cp:revision>
  <dc:subject/>
  <dc:title>Snímek 1</dc:title>
</cp:coreProperties>
</file>