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50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13.jpeg" ContentType="image/jpeg"/>
  <Override PartName="/ppt/media/image40.jpeg" ContentType="image/jpeg"/>
  <Override PartName="/ppt/media/image6.png" ContentType="image/png"/>
  <Override PartName="/ppt/media/image28.jpeg" ContentType="image/jpeg"/>
  <Override PartName="/ppt/media/image51.jpeg" ContentType="image/jpeg"/>
  <Override PartName="/ppt/media/image34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20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0.jpeg" ContentType="image/jpeg"/>
  <Override PartName="/ppt/media/image39.jpeg" ContentType="image/jpeg"/>
  <Override PartName="/ppt/media/image8.jpeg" ContentType="image/jpeg"/>
  <Override PartName="/ppt/media/image5.png" ContentType="image/png"/>
  <Override PartName="/ppt/media/image43.jpeg" ContentType="image/jpeg"/>
  <Override PartName="/ppt/media/image29.jpeg" ContentType="image/jpeg"/>
  <Override PartName="/ppt/media/image5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12DA-F515-463F-AAC4-1CFA82031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ED1B-6D14-4310-9CB9-C345EBBCA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538E-176B-4FBC-8EA7-E8A9ACE08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E881-AD18-4FD5-9BA3-52434C22E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E384-FA7D-4EE3-B07D-551A5964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DE24-A8A4-4674-B956-FF02E14A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8F6C-A440-47BF-8AE7-6BB4CDAC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2EAA-E8F8-4551-81C1-E3F5BBFF4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3B8D-473C-40DE-B654-F3BCE45C0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EC2A-0236-4FBB-AE56-84DC23A04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9715-16F4-4763-A975-160299FB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F151-1766-4093-A436-1F2356666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2EE6-6CF1-490D-9B4D-FDB0BBF9C472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nahuby.sk/atlas-hub/Cantharellus-cibarius/Kuriatko-jedle/Liska-obecna/ID231" TargetMode="External"/><Relationship Id="rId3" Type="http://schemas.openxmlformats.org/officeDocument/2006/relationships/hyperlink" Target="http://www.nahuby.sk/atlas-hub/Clavulina-cinerea/Konarovka-popolava/Kuratecko-popelave/ID194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www.nahuby.sk/atlas-hub/Hydnum-repandum/Jelenka-poprehybana/Losak-zprohybany/ID169" TargetMode="External"/><Relationship Id="rId6" Type="http://schemas.openxmlformats.org/officeDocument/2006/relationships/hyperlink" Target="http://www.nahuby.sk/atlas-hub/Hydnum-repandum/Jelenka-poprehybana/Losak-zprohybany/ID169" TargetMode="External"/><Relationship Id="rId7" Type="http://schemas.openxmlformats.org/officeDocument/2006/relationships/hyperlink" Target="http://www.nahuby.sk/atlas-hub/Hydnum-repandum/Jelenka-poprehybana/Losak-zprohybany/ID169" TargetMode="External"/><Relationship Id="rId8" Type="http://schemas.openxmlformats.org/officeDocument/2006/relationships/image" Target="../media/image22.jpe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hyperlink" Target="http://www.nahuby.sk/atlas-hub/Geastrum-fimbriatum/Hviezdovka-strapkata/Hvezdovka-brvita/ID157" TargetMode="External"/><Relationship Id="rId4" Type="http://schemas.openxmlformats.org/officeDocument/2006/relationships/hyperlink" Target="http://www.nahuby.sk/atlas-hub/Geastrum-fimbriatum/Hviezdovka-strapkata/Hvezdovka-brvita/ID157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hyperlink" Target="http://www.nahuby.sk/atlas-hub/Ramaria-botrytis/Strapacka-koralovita/Kuratka-kvetakova/ID635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hyperlink" Target="http://www.nahuby.sk/atlas-hub/Inonotus-radiatus/Rysavec-lucovy/Rezavec-lesknavy/ID602" TargetMode="External"/><Relationship Id="rId4" Type="http://schemas.openxmlformats.org/officeDocument/2006/relationships/hyperlink" Target="http://www.nahuby.sk/atlas-hub/Inonotus-radiatus/Rysavec-lucovy/Rezavec-lesknavy/ID602" TargetMode="External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www.nahuby.sk/atlas-hub/Trametes-versicolor/Trudnikovec-pestry/Outkovka-pestra/ID764" TargetMode="External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nahuby.sk/atlas-hub/Polyporus-brumalis/Trudnik-zimny/Choros-poloplastvovy/ID1824" TargetMode="External"/><Relationship Id="rId3" Type="http://schemas.openxmlformats.org/officeDocument/2006/relationships/hyperlink" Target="http://www.nahuby.sk/atlas-hub/Polyporus-brumalis/Trudnik-zimny/Choros-poloplastvovy/ID1824" TargetMode="External"/><Relationship Id="rId4" Type="http://schemas.openxmlformats.org/officeDocument/2006/relationships/hyperlink" Target="http://www.nahuby.sk/atlas-hub/Polyporus-brumalis/Trudnik-zimny/Choros-poloplastvovy/ID1824" TargetMode="External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hyperlink" Target="http://www.nahuby.sk/atlas-hub/Lentinus-tigrinus/Huzevnatec-tigrovany/Houzevnatec-tygrovany/ID1590" TargetMode="External"/><Relationship Id="rId8" Type="http://schemas.openxmlformats.org/officeDocument/2006/relationships/hyperlink" Target="http://www.nahuby.sk/atlas-hub/Lentinus-tigrinus/Huzevnatec-tigrovany/Houzevnatec-tygrovany/ID1590" TargetMode="External"/><Relationship Id="rId9" Type="http://schemas.openxmlformats.org/officeDocument/2006/relationships/hyperlink" Target="http://www.nahuby.sk/atlas-hub/Lentinus-tigrinus/Huzevnatec-tigrovany/Houzevnatec-tygrovany/ID1590" TargetMode="External"/><Relationship Id="rId10" Type="http://schemas.openxmlformats.org/officeDocument/2006/relationships/hyperlink" Target="http://www.nahuby.sk/atlas-hub/Phanerochaete-sanguinea/Kornatec-krvavy/Kornatec-krvavy/ID1773" TargetMode="External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hyperlink" Target="http://www.nahuby.sk/atlas-hub/Cortinarius-orellanus/Pavucinovec-plysovy/Pavucinec-plysovy/ID371" TargetMode="External"/><Relationship Id="rId6" Type="http://schemas.openxmlformats.org/officeDocument/2006/relationships/hyperlink" Target="http://www.nahuby.sk/atlas-hub/Cortinarius-orellanus/Pavucinovec-plysovy/Pavucinec-plysovy/ID371" TargetMode="External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hyperlink" Target="http://www.nahuby.sk/atlas-hub/Coprinopsis-atramentaria/Hnojnik-atramentovy/Hnojnik-inkoustovy/ID97" TargetMode="External"/><Relationship Id="rId5" Type="http://schemas.openxmlformats.org/officeDocument/2006/relationships/hyperlink" Target="http://www.nahuby.sk/atlas-hub/Lepista-nuda/Povabnica-fialova/Ciruvka-fialova/ID507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www.nahuby.sk/atlas-hub/Boletus-badius/Suchohrib-hnedy/Suchohrib-hnedy/ID673" TargetMode="External"/><Relationship Id="rId3" Type="http://schemas.openxmlformats.org/officeDocument/2006/relationships/hyperlink" Target="http://www.nahuby.sk/atlas-hub/Suillus-grevillei/Masliak-smrekovcovy/Klouzek-slicny/ID276" TargetMode="External"/><Relationship Id="rId4" Type="http://schemas.openxmlformats.org/officeDocument/2006/relationships/hyperlink" Target="http://www.nahuby.sk/atlas-hub/Gomphidius-glutinosus/Sliziak-mazlavy/Slizak-mazlavy/ID609" TargetMode="External"/><Relationship Id="rId5" Type="http://schemas.openxmlformats.org/officeDocument/2006/relationships/hyperlink" Target="http://www.nahuby.sk/atlas-hub/Paxillus-involutus/Cechracka-podvinuta/Cechratka-podvinuta/ID21" TargetMode="External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hyperlink" Target="http://en.wikipedia.org/wiki/File:Basidium_schematic.svg" TargetMode="External"/><Relationship Id="rId4" Type="http://schemas.openxmlformats.org/officeDocument/2006/relationships/image" Target="../media/image5.png"/><Relationship Id="rId5" Type="http://schemas.openxmlformats.org/officeDocument/2006/relationships/hyperlink" Target="http://commons.wikimedia.org/wiki/File:Gleba_icon.png" TargetMode="External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http://www.mushroomthejournal.com/greatlakesdata/Terms/steri702.html" TargetMode="External"/><Relationship Id="rId4" Type="http://schemas.openxmlformats.org/officeDocument/2006/relationships/hyperlink" Target="http://www.nahuby.sk/obrazok_detail.php?obrazok_id=56185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nahuby.sk/atlas-hub/Calocera-viscosa/Parozkovec-lepkavy/Krasnoruzek-lepkavy/ID325" TargetMode="External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452600" y="5467320"/>
            <a:ext cx="6281640" cy="10573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4"/>
          <p:cNvSpPr/>
          <p:nvPr/>
        </p:nvSpPr>
        <p:spPr>
          <a:xfrm>
            <a:off x="0" y="27936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6600"/>
                </a:solidFill>
                <a:latin typeface="Arial"/>
                <a:ea typeface="SimSun"/>
              </a:rPr>
              <a:t>MODULARIZACE VÝUKY EVOLUČNÍ A EKOLOGICKÉ BIOLO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  <a:ea typeface="SimSun"/>
              </a:rPr>
              <a:t>CZ.1.07/2.2.00/15.02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5"/>
          <p:cNvSpPr/>
          <p:nvPr/>
        </p:nvSpPr>
        <p:spPr>
          <a:xfrm>
            <a:off x="1511280" y="763560"/>
            <a:ext cx="61182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1511280" y="798480"/>
            <a:ext cx="611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PF_72_100_grey_tr"/>
          <p:cNvPicPr/>
          <p:nvPr/>
        </p:nvPicPr>
        <p:blipFill>
          <a:blip r:embed="rId2"/>
          <a:stretch/>
        </p:blipFill>
        <p:spPr>
          <a:xfrm>
            <a:off x="436680" y="260280"/>
            <a:ext cx="1011240" cy="1008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ubz_cz_black_transparent"/>
          <p:cNvPicPr/>
          <p:nvPr/>
        </p:nvPicPr>
        <p:blipFill>
          <a:blip r:embed="rId3"/>
          <a:stretch/>
        </p:blipFill>
        <p:spPr>
          <a:xfrm>
            <a:off x="7696080" y="257040"/>
            <a:ext cx="1008360" cy="10098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250920" y="1197000"/>
            <a:ext cx="8642160" cy="39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FYLOGENEZE A DIVERZ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800000"/>
                </a:solidFill>
                <a:latin typeface="Arial"/>
              </a:rPr>
              <a:t>HUB A PODOBNÝCH ORGANISMŮ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(část přednášky Fylogeneze a diverzita řas a hu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ystém založený na pojetí taxonů v 10. vydání Dictionary of the Fungi (Kirk et al.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pozdějšími úprav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AR - Straminipila: Peronosporomycota / Labyrinthulomycota / Hyphochytriomy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hizaria: Plasmodiophorida • Excavata: Acrasida • Amoebozoa: Mycetoz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pisthokonta -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gi: Microsporidiomycota / Chytridiomycota / Blastocladi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skup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ygomyc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- Mucoromycota, Zoopagomycota / Glomeromyc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 Dikarya - Ascomycota: Taphrinomycotina, Saccharomycotina, Peziz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omocné skupiny Deuteromycota a Lichen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- Basidiomycota: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ucciniomycotina, Ustilaginomycotina, </a:t>
            </a:r>
            <a:r>
              <a:rPr b="0" lang="cs-CZ" sz="1800" spc="-1" strike="noStrike">
                <a:solidFill>
                  <a:srgbClr val="800000"/>
                </a:solidFill>
                <a:latin typeface="Arial"/>
              </a:rPr>
              <a:t>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1"/>
          <p:cNvSpPr/>
          <p:nvPr/>
        </p:nvSpPr>
        <p:spPr>
          <a:xfrm>
            <a:off x="380880" y="380880"/>
            <a:ext cx="8382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uricular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lodnice různých typů, konzistence rosolovitá nebo chrupavčitá (jednoduché typy netvoří plodnice, jen myceliální povlaky s tvorbou bazidií), na jejich povrchu hymeniu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sekundárním myceliu mohou a nemusí být vytvořeny přezky a dolipor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ragmobazidie různých typů, příčně nebo podélně přehrádkované (mohou být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pravidelně dělen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touillardin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á bazidie dělené nepravidelně podélně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čně), zřetelná diferenciace na pr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azidi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metabazidi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 klíčí hyfou, konidiemi nebo sekundárními sporami, tvoří se 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vasinkovité buňk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devším saprofyté na tělech rostlin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irneol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ucho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uricula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boltcovitka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xid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černorosol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eudohydn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rosolozub), vzácněji paraz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7" descr="HOU052A_auricularia_boltcovitka"/>
          <p:cNvPicPr/>
          <p:nvPr/>
        </p:nvPicPr>
        <p:blipFill>
          <a:blip r:embed="rId1"/>
          <a:stretch/>
        </p:blipFill>
        <p:spPr>
          <a:xfrm>
            <a:off x="479520" y="3581280"/>
            <a:ext cx="2422440" cy="2722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8" descr="HOU055A_exidia_cernorosol"/>
          <p:cNvPicPr/>
          <p:nvPr/>
        </p:nvPicPr>
        <p:blipFill>
          <a:blip r:embed="rId2"/>
          <a:stretch/>
        </p:blipFill>
        <p:spPr>
          <a:xfrm>
            <a:off x="2994120" y="3581280"/>
            <a:ext cx="2895480" cy="27212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29"/>
          <p:cNvSpPr/>
          <p:nvPr/>
        </p:nvSpPr>
        <p:spPr>
          <a:xfrm>
            <a:off x="5943600" y="5062680"/>
            <a:ext cx="28195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boltcovitka mozkovit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remella mesenteric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: černorosol buko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Exidia plan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L. Hagara, V. Antonín, J. Baier: Houby, Aventinum, 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7b_basid_10_auriculariales.MP3" descr=""/>
          <p:cNvPicPr/>
          <p:nvPr/>
        </p:nvPicPr>
        <p:blipFill>
          <a:blip r:embed="rId3"/>
          <a:stretch/>
        </p:blipFill>
        <p:spPr>
          <a:xfrm>
            <a:off x="6012000" y="357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04008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7"/>
          <p:cNvSpPr/>
          <p:nvPr/>
        </p:nvSpPr>
        <p:spPr>
          <a:xfrm>
            <a:off x="380880" y="380880"/>
            <a:ext cx="4800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antharellales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gymnokarpní holo- nebo pilothecia s různým typem hymenoforu (hladký, lamelovitý, ostnitý aj.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uď mykorhizní houby nebo dřevní saprofyté až fakultativní parazité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dnice keříčkovité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lavul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uřátečko) nebo kloboukaté s lamelami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antharel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liška) či ostny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dn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lišá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7" descr="cantharellus-cibarius_ladislav-pomsar-2005"/>
          <p:cNvPicPr/>
          <p:nvPr/>
        </p:nvPicPr>
        <p:blipFill>
          <a:blip r:embed="rId1"/>
          <a:stretch/>
        </p:blipFill>
        <p:spPr>
          <a:xfrm>
            <a:off x="5181480" y="457200"/>
            <a:ext cx="3429000" cy="244152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8"/>
          <p:cNvSpPr/>
          <p:nvPr/>
        </p:nvSpPr>
        <p:spPr>
          <a:xfrm>
            <a:off x="3233880" y="5562720"/>
            <a:ext cx="548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: liška obecn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antharellus cibari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Ladislav Pomšár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nahuby.sk/atlas-hub/Cantharellus-cibarius/Kuriatko-jedle/Liska-obecna/ID231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Dole: kuřátečko popelavé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lavulina cinere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iří Polčák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nahuby.sk/atlas-hub/Clavulina-cinerea/Konarovka-popolava/Kuratecko-popelave/ID194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9" descr="clavulina-cinerea_jiri-polcak"/>
          <p:cNvPicPr/>
          <p:nvPr/>
        </p:nvPicPr>
        <p:blipFill>
          <a:blip r:embed="rId4"/>
          <a:stretch/>
        </p:blipFill>
        <p:spPr>
          <a:xfrm>
            <a:off x="5181480" y="2971800"/>
            <a:ext cx="3429000" cy="25750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0"/>
          <p:cNvSpPr/>
          <p:nvPr/>
        </p:nvSpPr>
        <p:spPr>
          <a:xfrm>
            <a:off x="380880" y="5334120"/>
            <a:ext cx="31244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lišák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prohýban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Hydnum repand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án Šuvada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/Hydnum-repandum/Jelenka-poprehyb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/Losak-zprohybany/ID169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1" descr="hydnum-repandum_jan-suvada-2006"/>
          <p:cNvPicPr/>
          <p:nvPr/>
        </p:nvPicPr>
        <p:blipFill>
          <a:blip r:embed="rId8"/>
          <a:srcRect l="5524" t="0" r="0" b="0"/>
          <a:stretch/>
        </p:blipFill>
        <p:spPr>
          <a:xfrm>
            <a:off x="1720800" y="2971800"/>
            <a:ext cx="3365640" cy="2568600"/>
          </a:xfrm>
          <a:prstGeom prst="rect">
            <a:avLst/>
          </a:prstGeom>
          <a:ln w="0">
            <a:noFill/>
          </a:ln>
        </p:spPr>
      </p:pic>
      <p:pic>
        <p:nvPicPr>
          <p:cNvPr id="99" name="7b_basid_11_cantharellales.MP3" descr=""/>
          <p:cNvPicPr/>
          <p:nvPr/>
        </p:nvPicPr>
        <p:blipFill>
          <a:blip r:embed="rId9"/>
          <a:stretch/>
        </p:blipFill>
        <p:spPr>
          <a:xfrm>
            <a:off x="1258920" y="299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08449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40"/>
          <p:cNvSpPr/>
          <p:nvPr/>
        </p:nvSpPr>
        <p:spPr>
          <a:xfrm>
            <a:off x="380880" y="380880"/>
            <a:ext cx="8382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al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lathrothecia zakládající se podzemně na rhizoidálním myceliu, během vývinu prorážející na povrch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řich má přídatnou struktur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van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eceptakul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á úlohu nosiče, který dozrávající teřich vynese na povrch (tlakem rostoucího receptakula praská peridie původně kryjící plodnici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povrchu zralého teřichu se vytvoří mazlavá páchnouc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mota, lákající mouchy aj, hmyz, který pak roznáší spor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ůdní saprofyté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al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hadovka)</a:t>
            </a: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east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lodnice jsou schizothecia kryt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ícevrstevnou okrovko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exoperidie záhy praská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vězdicovitě se rozestupuje a obnažuje teřich krytý tenk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doperidií (ta prask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a zralosti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na lesní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 nelesních stanoviští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8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eastrum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vězdov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1" descr="HOU382A_phallus_hadovka"/>
          <p:cNvPicPr/>
          <p:nvPr/>
        </p:nvPicPr>
        <p:blipFill>
          <a:blip r:embed="rId1"/>
          <a:stretch/>
        </p:blipFill>
        <p:spPr>
          <a:xfrm>
            <a:off x="6748560" y="2293920"/>
            <a:ext cx="1877760" cy="4114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2" descr="geastrum-fimbriatum_jan-gaisler"/>
          <p:cNvPicPr/>
          <p:nvPr/>
        </p:nvPicPr>
        <p:blipFill>
          <a:blip r:embed="rId2"/>
          <a:stretch/>
        </p:blipFill>
        <p:spPr>
          <a:xfrm>
            <a:off x="3048120" y="3695760"/>
            <a:ext cx="3619440" cy="27115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3"/>
          <p:cNvSpPr/>
          <p:nvPr/>
        </p:nvSpPr>
        <p:spPr>
          <a:xfrm>
            <a:off x="380880" y="5103720"/>
            <a:ext cx="26672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hvězdovka brvit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Geastrum fimbriat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an Gaisler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nahuby.sk/atlas-hub/Geastrum-fimbriat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/Hviezdovka-strapkata/Hvezdovka-brvita/ID157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vpravo: L. Hagara, V. Antonín, J. Baier: Houby, Aventinum, 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4"/>
          <p:cNvSpPr/>
          <p:nvPr/>
        </p:nvSpPr>
        <p:spPr>
          <a:xfrm>
            <a:off x="6651720" y="1760400"/>
            <a:ext cx="20574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Hadovka smrdut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hallus impudic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7b_basid_12_phallales-geastrales.MP3" descr=""/>
          <p:cNvPicPr/>
          <p:nvPr/>
        </p:nvPicPr>
        <p:blipFill>
          <a:blip r:embed="rId5"/>
          <a:stretch/>
        </p:blipFill>
        <p:spPr>
          <a:xfrm>
            <a:off x="6300720" y="2708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75845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9"/>
          <p:cNvSpPr/>
          <p:nvPr/>
        </p:nvSpPr>
        <p:spPr>
          <a:xfrm>
            <a:off x="380880" y="380880"/>
            <a:ext cx="838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Gomph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uškaté houby s kyjovitými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lavariadelph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kyj) nebo keříčkovitými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ama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kuřátka) holotheci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základě molekulárních analýz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řaze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d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buznosti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hal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Geast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" descr="HOU064A_clavariadelphus_kyj"/>
          <p:cNvPicPr/>
          <p:nvPr/>
        </p:nvPicPr>
        <p:blipFill>
          <a:blip r:embed="rId1"/>
          <a:stretch/>
        </p:blipFill>
        <p:spPr>
          <a:xfrm>
            <a:off x="3990960" y="1371600"/>
            <a:ext cx="2943360" cy="2816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ramaria-botrytis_viliam-ridzon-2005"/>
          <p:cNvPicPr/>
          <p:nvPr/>
        </p:nvPicPr>
        <p:blipFill>
          <a:blip r:embed="rId2"/>
          <a:stretch/>
        </p:blipFill>
        <p:spPr>
          <a:xfrm>
            <a:off x="479520" y="1371600"/>
            <a:ext cx="3429000" cy="28144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2"/>
          <p:cNvSpPr/>
          <p:nvPr/>
        </p:nvSpPr>
        <p:spPr>
          <a:xfrm>
            <a:off x="380880" y="4191120"/>
            <a:ext cx="4953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uřátka květákov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Ramaria botryt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Viliam Ridzoň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nahuby.sk/atlas-hub/Ramaria-botrytis/Strapacka-koralovita/Kuratka-kvetakova/ID635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3886200" y="4191120"/>
            <a:ext cx="36576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yj Herkulův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lavariadelphus pistillar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L. Hagara, V. Antonín, J. Baier: Houby, Aventinum, 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7b_basid_13_gomphales.MP3" descr=""/>
          <p:cNvPicPr/>
          <p:nvPr/>
        </p:nvPicPr>
        <p:blipFill>
          <a:blip r:embed="rId4"/>
          <a:stretch/>
        </p:blipFill>
        <p:spPr>
          <a:xfrm>
            <a:off x="7093080" y="134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5474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5" descr="s_imbric_preulozeny"/>
          <p:cNvPicPr/>
          <p:nvPr/>
        </p:nvPicPr>
        <p:blipFill>
          <a:blip r:embed="rId1"/>
          <a:stretch/>
        </p:blipFill>
        <p:spPr>
          <a:xfrm>
            <a:off x="3124080" y="2895480"/>
            <a:ext cx="4896000" cy="367668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20"/>
          <p:cNvSpPr/>
          <p:nvPr/>
        </p:nvSpPr>
        <p:spPr>
          <a:xfrm>
            <a:off x="380880" y="380880"/>
            <a:ext cx="83822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ochaet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gymnokarpní krustothecia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órovitým hymenofore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vzácněji lamelovitý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ladkým)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řevní houby, saprofyté i vážní parazité dřevin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hellin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hňovec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onotus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rezavec)</a:t>
            </a:r>
            <a:br>
              <a:rPr sz="12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heleph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zemní kloboukaté houb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ladkým nebo ostnitým hymenofor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nebo mykorhizní houby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helephor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plesňák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rcodo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lošá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2" descr="inonotus-radiatus_standa-jirasek"/>
          <p:cNvPicPr/>
          <p:nvPr/>
        </p:nvPicPr>
        <p:blipFill>
          <a:blip r:embed="rId2"/>
          <a:stretch/>
        </p:blipFill>
        <p:spPr>
          <a:xfrm>
            <a:off x="482760" y="3048120"/>
            <a:ext cx="2322360" cy="33526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23"/>
          <p:cNvSpPr/>
          <p:nvPr/>
        </p:nvSpPr>
        <p:spPr>
          <a:xfrm>
            <a:off x="6172200" y="2031840"/>
            <a:ext cx="2590920" cy="22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rezavec leskna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Inonotus radiatus, Hymenochaetale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Standa Jirásek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nahuby.sk/atlas-hub/Inonotus-radiat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/Rysavec-lucovy/Rezavec-lesknavy/ID602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: lošák jelení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arcodon imbricatus, Thelephorale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D. Dvořák, P. Hrouda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Ježaté houby / lošáky a korálovce, Brno, 200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7b_basid_14_hymenochaetales-thelephorales.MP3" descr=""/>
          <p:cNvPicPr/>
          <p:nvPr/>
        </p:nvPicPr>
        <p:blipFill>
          <a:blip r:embed="rId5"/>
          <a:stretch/>
        </p:blipFill>
        <p:spPr>
          <a:xfrm>
            <a:off x="313200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7" name="7b_basid_14_losaky-indikatory.MP3" descr=""/>
          <p:cNvPicPr/>
          <p:nvPr/>
        </p:nvPicPr>
        <p:blipFill>
          <a:blip r:embed="rId6"/>
          <a:stretch/>
        </p:blipFill>
        <p:spPr>
          <a:xfrm>
            <a:off x="838836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04922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74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8486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9"/>
          <p:cNvSpPr/>
          <p:nvPr/>
        </p:nvSpPr>
        <p:spPr>
          <a:xfrm>
            <a:off x="380880" y="380880"/>
            <a:ext cx="5562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lypor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ahrnuje houby laic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značova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"choroše"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ětšina druhů tvoří gymnokarpní krust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hecia, obvykle bokem přirostlá a často víceletá,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órovitým nebo lamelovitým hymenofor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řevní houby, saprofyté nebo fakultativní (i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ligátní) parazit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arakterističtí zástupci: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om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omitops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česky obojí troudnatec, kopytovité plodnice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edale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íťkovec, protažené až lamelovité póry)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noderm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lesklokorka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amet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utkovk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ěkteré druhy jsou v mládí jedl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 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aetipor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írov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"květákovité" plodnic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voř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arassi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otrč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2" descr="outkovka-pestra_juraj-komar"/>
          <p:cNvPicPr/>
          <p:nvPr/>
        </p:nvPicPr>
        <p:blipFill>
          <a:blip r:embed="rId1"/>
          <a:stretch/>
        </p:blipFill>
        <p:spPr>
          <a:xfrm>
            <a:off x="5943600" y="457200"/>
            <a:ext cx="2743200" cy="20606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3"/>
          <p:cNvSpPr/>
          <p:nvPr/>
        </p:nvSpPr>
        <p:spPr>
          <a:xfrm>
            <a:off x="3843360" y="4114800"/>
            <a:ext cx="4919760" cy="23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otrč kadeřavý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parassi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risp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L. Hagara, V. Antonín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J. Baier: Houby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Aventinum, 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 nahoře: outkovka pestr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rametes versicolor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uraj Komár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nahuby.sk/atlas-hub/Trametes-versicolor/Trudnikovec-pestry/Outkovka-pestra/ID76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Dole: sírovec žlutooranžo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aetiporus sulphure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Sloník :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5" descr="sírovec_zlutooranzový_sloník"/>
          <p:cNvPicPr/>
          <p:nvPr/>
        </p:nvPicPr>
        <p:blipFill>
          <a:blip r:embed="rId3"/>
          <a:srcRect l="3799" t="0" r="0" b="0"/>
          <a:stretch/>
        </p:blipFill>
        <p:spPr>
          <a:xfrm>
            <a:off x="5334120" y="2590920"/>
            <a:ext cx="3352680" cy="2611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6" descr="HOU067A_sparassis_kotrc"/>
          <p:cNvPicPr/>
          <p:nvPr/>
        </p:nvPicPr>
        <p:blipFill>
          <a:blip r:embed="rId4"/>
          <a:stretch/>
        </p:blipFill>
        <p:spPr>
          <a:xfrm>
            <a:off x="479520" y="4098960"/>
            <a:ext cx="3352680" cy="2259000"/>
          </a:xfrm>
          <a:prstGeom prst="rect">
            <a:avLst/>
          </a:prstGeom>
          <a:ln w="0">
            <a:noFill/>
          </a:ln>
        </p:spPr>
      </p:pic>
      <p:pic>
        <p:nvPicPr>
          <p:cNvPr id="123" name="7b_basid_15_trametes-laetiporus.MP3" descr=""/>
          <p:cNvPicPr/>
          <p:nvPr/>
        </p:nvPicPr>
        <p:blipFill>
          <a:blip r:embed="rId5"/>
          <a:stretch/>
        </p:blipFill>
        <p:spPr>
          <a:xfrm>
            <a:off x="5508720" y="2205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24" name="7b_basid_15_sparassis.MP3" descr=""/>
          <p:cNvPicPr/>
          <p:nvPr/>
        </p:nvPicPr>
        <p:blipFill>
          <a:blip r:embed="rId6"/>
          <a:stretch/>
        </p:blipFill>
        <p:spPr>
          <a:xfrm>
            <a:off x="3851280" y="573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03456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85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78721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8"/>
          <p:cNvSpPr/>
          <p:nvPr/>
        </p:nvSpPr>
        <p:spPr>
          <a:xfrm>
            <a:off x="380880" y="380880"/>
            <a:ext cx="8382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lastní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lypor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choroš) - houby s dobře odlišeným třeněm a kloboukem a pórovitým hymenofor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entin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houževnatec) s lupenitým hymenoforem (vznik paralelně s lupeny hub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říklad evoluční konvergence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romě výše uvedených zahrnuje i dřevní saprofyty nebo fakultativní parazity tvořící rozlité plodnice s hymeniem na povrchu; hymenofor hladký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kladem je rod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hanerochaet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rnatec), případně ostny nebo pó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9" descr="polyporus brumalis_jan-suvada-2005"/>
          <p:cNvPicPr/>
          <p:nvPr/>
        </p:nvPicPr>
        <p:blipFill>
          <a:blip r:embed="rId1"/>
          <a:srcRect l="9946" t="0" r="4973" b="0"/>
          <a:stretch/>
        </p:blipFill>
        <p:spPr>
          <a:xfrm>
            <a:off x="457200" y="2514600"/>
            <a:ext cx="2886120" cy="23907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30"/>
          <p:cNvSpPr/>
          <p:nvPr/>
        </p:nvSpPr>
        <p:spPr>
          <a:xfrm>
            <a:off x="380880" y="4952880"/>
            <a:ext cx="213372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Choroš zimní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olyporus brumal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án Šuvada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/Polyporus-brumalis/Trudnik-zim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/Choros-poloplastvovy/ID1824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2" descr="phanerochaete-sanguinea_oldrich-roucka-2006"/>
          <p:cNvPicPr/>
          <p:nvPr/>
        </p:nvPicPr>
        <p:blipFill>
          <a:blip r:embed="rId5"/>
          <a:stretch/>
        </p:blipFill>
        <p:spPr>
          <a:xfrm>
            <a:off x="5334120" y="2514600"/>
            <a:ext cx="3352680" cy="2382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1" descr="lentinis-tigrinus_jiri-polcak"/>
          <p:cNvPicPr/>
          <p:nvPr/>
        </p:nvPicPr>
        <p:blipFill>
          <a:blip r:embed="rId6"/>
          <a:srcRect l="0" t="13246" r="0" b="0"/>
          <a:stretch/>
        </p:blipFill>
        <p:spPr>
          <a:xfrm>
            <a:off x="2438280" y="4038480"/>
            <a:ext cx="3657600" cy="2384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0" name="Text Box 33"/>
          <p:cNvSpPr/>
          <p:nvPr/>
        </p:nvSpPr>
        <p:spPr>
          <a:xfrm>
            <a:off x="3429000" y="2543040"/>
            <a:ext cx="1752480" cy="12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Houževnatec tygrovan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entinus tigrin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iří Polčák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8"/>
              </a:rPr>
              <a:t>/Lentinus-tigrinus/Huzevnatec-tigrovany/Houzevnatec-tygrova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9"/>
              </a:rPr>
              <a:t>/ID15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4"/>
          <p:cNvSpPr/>
          <p:nvPr/>
        </p:nvSpPr>
        <p:spPr>
          <a:xfrm>
            <a:off x="6172200" y="4952880"/>
            <a:ext cx="259092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ornatec krva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hanerochaete sanguine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Oldřich Roučka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10"/>
              </a:rPr>
              <a:t>http://www.nahuby.sk/atlas-hub/Phanerochaete-sanguinea/Kornatec-krvavy/Kornatec-krvavy/ID1773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7b_basid_16_phanerochaete.MP3" descr=""/>
          <p:cNvPicPr/>
          <p:nvPr/>
        </p:nvPicPr>
        <p:blipFill>
          <a:blip r:embed="rId11"/>
          <a:stretch/>
        </p:blipFill>
        <p:spPr>
          <a:xfrm>
            <a:off x="4932360" y="2492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7b_basid_16_polyporus.MP3" descr=""/>
          <p:cNvPicPr/>
          <p:nvPr/>
        </p:nvPicPr>
        <p:blipFill>
          <a:blip r:embed="rId12"/>
          <a:stretch/>
        </p:blipFill>
        <p:spPr>
          <a:xfrm>
            <a:off x="468360" y="6093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4" name="7b_basid_16_lentinus.MP3" descr=""/>
          <p:cNvPicPr/>
          <p:nvPr/>
        </p:nvPicPr>
        <p:blipFill>
          <a:blip r:embed="rId13"/>
          <a:stretch/>
        </p:blipFill>
        <p:spPr>
          <a:xfrm>
            <a:off x="6227640" y="609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41523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96" nodeType="clickEffect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44214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01" nodeType="clickEffect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" dur="87838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3"/>
          <p:cNvSpPr/>
          <p:nvPr/>
        </p:nvSpPr>
        <p:spPr>
          <a:xfrm>
            <a:off x="380880" y="380880"/>
            <a:ext cx="8382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jpočetnější řád, gymnokarpní nebo hemiangiokarpní pilothecia (u různých druhů různá tvorba velum partiale nebo velum universale), hymenofor u naprosté většiny zástupců lupenitý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tří sem řada rodů obsahujících vyhledávané jedlé houb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acrolepio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bedla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čárka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žampion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rmillar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áclavka), některé druhy rodů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icholoma, Lepis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čirůvky) aj.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ejně významné jsou ale i jedovaté houby z rod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mani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muchomůrka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toloma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závojenka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ocyb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láknice) nebo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Cortinari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avučinec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6" descr="HOU226A_amanita_virosa_muchomurka_jizliva"/>
          <p:cNvPicPr/>
          <p:nvPr/>
        </p:nvPicPr>
        <p:blipFill>
          <a:blip r:embed="rId1"/>
          <a:stretch/>
        </p:blipFill>
        <p:spPr>
          <a:xfrm>
            <a:off x="457200" y="3733920"/>
            <a:ext cx="2098800" cy="2666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7" descr="entoloma-sinuatum_ladislav-tabi"/>
          <p:cNvPicPr/>
          <p:nvPr/>
        </p:nvPicPr>
        <p:blipFill>
          <a:blip r:embed="rId2"/>
          <a:srcRect l="0" t="9001" r="0" b="0"/>
          <a:stretch/>
        </p:blipFill>
        <p:spPr>
          <a:xfrm>
            <a:off x="2590920" y="3733920"/>
            <a:ext cx="2093760" cy="266688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8"/>
          <p:cNvSpPr/>
          <p:nvPr/>
        </p:nvSpPr>
        <p:spPr>
          <a:xfrm>
            <a:off x="2525760" y="5726160"/>
            <a:ext cx="25909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Fo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Ladislav Tábi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http://www.nahuby.s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/atlas-hub/Entoloma-sinuat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/Hodvabnica-velka/Zavojenka-olovova/ID113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9" descr="inocybe-erubescens_jaroslav-maly"/>
          <p:cNvPicPr/>
          <p:nvPr/>
        </p:nvPicPr>
        <p:blipFill>
          <a:blip r:embed="rId3"/>
          <a:stretch/>
        </p:blipFill>
        <p:spPr>
          <a:xfrm>
            <a:off x="5867280" y="2076480"/>
            <a:ext cx="2819520" cy="21175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20"/>
          <p:cNvSpPr/>
          <p:nvPr/>
        </p:nvSpPr>
        <p:spPr>
          <a:xfrm rot="5400000">
            <a:off x="4982400" y="2832840"/>
            <a:ext cx="2284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Foto Jaroslav Malý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/Inocybe-erubescens/Vlaknica-Patouillardov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/Vlaknice-zacervenala--Patouillardova-/ID796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1" descr="cortinarius-orellanus_vladimir-zita-2004"/>
          <p:cNvPicPr/>
          <p:nvPr/>
        </p:nvPicPr>
        <p:blipFill>
          <a:blip r:embed="rId4"/>
          <a:stretch/>
        </p:blipFill>
        <p:spPr>
          <a:xfrm>
            <a:off x="5410080" y="4216320"/>
            <a:ext cx="3276720" cy="2178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22"/>
          <p:cNvSpPr/>
          <p:nvPr/>
        </p:nvSpPr>
        <p:spPr>
          <a:xfrm>
            <a:off x="380880" y="2971800"/>
            <a:ext cx="56390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leva muchomůrka jízliv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manita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irosa), závojenka olovov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Entoloma sinuat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 nahoře vláknice načervenal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Inocybe erubescen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 dole pavučinec plyšo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ortinarius orellan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3"/>
          <p:cNvSpPr/>
          <p:nvPr/>
        </p:nvSpPr>
        <p:spPr>
          <a:xfrm>
            <a:off x="392040" y="6095880"/>
            <a:ext cx="2046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L. Hagara, V. Antonáín, J. Baier: Houby, Aventinum, 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4"/>
          <p:cNvSpPr/>
          <p:nvPr/>
        </p:nvSpPr>
        <p:spPr>
          <a:xfrm rot="5400000">
            <a:off x="3898440" y="4951080"/>
            <a:ext cx="2589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Vladimír Zíta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http://www.nahuby.sk/atlas-hub/Cortinarius-orellan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/Pavucinovec-plysovy/Pavucinec-plysovy/ID371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7b_basid_17_agaricales-jedovate.MP3" descr=""/>
          <p:cNvPicPr/>
          <p:nvPr/>
        </p:nvPicPr>
        <p:blipFill>
          <a:blip r:embed="rId7"/>
          <a:stretch/>
        </p:blipFill>
        <p:spPr>
          <a:xfrm>
            <a:off x="5435640" y="3789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07" nodeType="clickEffect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" dur="590486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0"/>
          <p:cNvSpPr/>
          <p:nvPr/>
        </p:nvSpPr>
        <p:spPr>
          <a:xfrm>
            <a:off x="380880" y="472428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manit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muchomůrkovité) - vedle smrtelně jedovatých hub i dobré jedlé druhy (růžovka = masák)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Entolomat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závojenkovité) - i zde jsou vedle jedovatých druhů i dobré jedlé (např. podtrnka)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ortinari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avučincovité) - nejrozsáhlejší a na určování nejobtížnější skupina, řada jedovatých druhů, stejně jako v čeledi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nocybacea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vláknicovit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380880" y="380880"/>
            <a:ext cx="838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jdůležitější čeledi: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aca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ečár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vité) - sem patří pečárky (žampiony) a bedly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sathyrell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řehutkovité) - sem patří většina hnojníků, jejichž spory se uvolňují díky autolýze plodnic</a:t>
            </a:r>
            <a:br>
              <a:rPr sz="1800"/>
            </a:b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icholomatace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čirůvkovité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čirův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trměl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o širšího okruhu patř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špičky, helmovky, václavky, šťavnatk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dnes v rámci jiných menších čeled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6" descr="HOU241A_agaricus_pecarka"/>
          <p:cNvPicPr/>
          <p:nvPr/>
        </p:nvPicPr>
        <p:blipFill>
          <a:blip r:embed="rId1"/>
          <a:stretch/>
        </p:blipFill>
        <p:spPr>
          <a:xfrm>
            <a:off x="479520" y="2144880"/>
            <a:ext cx="2144520" cy="2038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coprinopsis-atramentaria_erik-brozmann"/>
          <p:cNvPicPr/>
          <p:nvPr/>
        </p:nvPicPr>
        <p:blipFill>
          <a:blip r:embed="rId2"/>
          <a:stretch/>
        </p:blipFill>
        <p:spPr>
          <a:xfrm>
            <a:off x="2689200" y="2144880"/>
            <a:ext cx="2895480" cy="20365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18"/>
          <p:cNvSpPr/>
          <p:nvPr/>
        </p:nvSpPr>
        <p:spPr>
          <a:xfrm>
            <a:off x="380880" y="4148280"/>
            <a:ext cx="8382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ečárka polní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garicu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ampestri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 hnojník inkousto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oprinopsis atramentari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 čirůvka fialov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epista nuda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9" descr="lepista-nuda_jiri-polcak-2006"/>
          <p:cNvPicPr/>
          <p:nvPr/>
        </p:nvPicPr>
        <p:blipFill>
          <a:blip r:embed="rId3"/>
          <a:stretch/>
        </p:blipFill>
        <p:spPr>
          <a:xfrm>
            <a:off x="5661000" y="2144880"/>
            <a:ext cx="2709720" cy="20350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21"/>
          <p:cNvSpPr/>
          <p:nvPr/>
        </p:nvSpPr>
        <p:spPr>
          <a:xfrm>
            <a:off x="457200" y="4125960"/>
            <a:ext cx="83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Erik Brozmann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nahuby.sk/atlas-hub/Coprinopsis-atramentaria/Hnojnik-atramentovy/Hnojnik-inkoustovy/ID9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Jiří Polčák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http://www.nahuby.sk/atlas-hub/Lepista-nuda/Povabnica-fialova/Ciruvka-fialova/ID507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407880" y="3998880"/>
            <a:ext cx="2286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Hagara et al.: Houby, Aventinum, Praha, 199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7b_basid_18_agaricus-lepista-coprinopsis.MP3" descr=""/>
          <p:cNvPicPr/>
          <p:nvPr/>
        </p:nvPicPr>
        <p:blipFill>
          <a:blip r:embed="rId6"/>
          <a:stretch/>
        </p:blipFill>
        <p:spPr>
          <a:xfrm>
            <a:off x="8459640" y="2133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355907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0"/>
          <p:cNvSpPr/>
          <p:nvPr/>
        </p:nvSpPr>
        <p:spPr>
          <a:xfrm>
            <a:off x="380880" y="380880"/>
            <a:ext cx="8382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sou aktuálně řazeny břichatky tvořící podzemní nebo pozemní schizothec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rzy se rozpadá exoperidie, endoperidie se otvírá až za zralosti pórem nebo praská, někdy spodní část plodnice zůstává sterilní (tzv. subgleba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stupci jsou většinou saprofyté na nelesních stanovištích, vzácněji rostou i na dřevě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ycoperdo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ýchavka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ovist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rášivka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vozený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yp: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zemn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chizothecia,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lád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rytá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nko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lanko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epifragmou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dnice v dospělosti nálevkovité, epifragma praská a obnažuje na dně "nálevek" teřich, jenž se mezitím rozpadl na několik tělísek - peridiol (peciček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aždá peridiola obsahuje jednu komůrku teřichu (nedochází k tvorbě kapilicia), je přichycena ke stěně (= peridie) vláknitým poutkem (funikulus) =&gt; za deště nacucání =&gt; vymrštění peridioly a její uchycení někde venk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na půdě nebo dřevě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yath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číšenk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Crucibul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(pohárov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1" descr="26_uvolnovani_spor_lycoperdon"/>
          <p:cNvPicPr/>
          <p:nvPr/>
        </p:nvPicPr>
        <p:blipFill>
          <a:blip r:embed="rId1"/>
          <a:srcRect l="1692" t="7098" r="0" b="3549"/>
          <a:stretch/>
        </p:blipFill>
        <p:spPr>
          <a:xfrm>
            <a:off x="3925800" y="4114800"/>
            <a:ext cx="2094120" cy="22683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2" descr="HOU406A_crucibulum_poharovka"/>
          <p:cNvPicPr/>
          <p:nvPr/>
        </p:nvPicPr>
        <p:blipFill>
          <a:blip r:embed="rId2"/>
          <a:srcRect l="6757" t="0" r="6757" b="0"/>
          <a:stretch/>
        </p:blipFill>
        <p:spPr>
          <a:xfrm>
            <a:off x="6081840" y="4114800"/>
            <a:ext cx="2604960" cy="22669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3" descr="HOU380A_endoptychum_strechan"/>
          <p:cNvPicPr/>
          <p:nvPr/>
        </p:nvPicPr>
        <p:blipFill>
          <a:blip r:embed="rId3"/>
          <a:stretch/>
        </p:blipFill>
        <p:spPr>
          <a:xfrm>
            <a:off x="457200" y="4114800"/>
            <a:ext cx="1465200" cy="22716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34"/>
          <p:cNvSpPr/>
          <p:nvPr/>
        </p:nvSpPr>
        <p:spPr>
          <a:xfrm>
            <a:off x="1947960" y="4038480"/>
            <a:ext cx="198108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 střechan bedlovit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hloro-phyllum agaricoide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– přechodný typ mezi rouškatou houbou a břichatkou;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 pýchavka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ycoperdon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) a pohárovka obecn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rucibulum laeve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5"/>
          <p:cNvSpPr/>
          <p:nvPr/>
        </p:nvSpPr>
        <p:spPr>
          <a:xfrm>
            <a:off x="355680" y="60958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Hagara et al.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Houby, Aventinum, 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6"/>
          <p:cNvSpPr/>
          <p:nvPr/>
        </p:nvSpPr>
        <p:spPr>
          <a:xfrm>
            <a:off x="6222960" y="4083120"/>
            <a:ext cx="259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L. Hagara, V. Antonín, J. Baier: Houby, 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7"/>
          <p:cNvSpPr/>
          <p:nvPr/>
        </p:nvSpPr>
        <p:spPr>
          <a:xfrm rot="5400000">
            <a:off x="4625280" y="51382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ffffff"/>
                </a:solidFill>
                <a:latin typeface="Arial"/>
              </a:rPr>
              <a:t>R. Moore, W. D. Clark, K. R. Stern &amp; D. Vodopich: Botany.  Wm. C. Brown Publ., 1995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7b_basid_19_agarikoidni-brichatky.MP3" descr=""/>
          <p:cNvPicPr/>
          <p:nvPr/>
        </p:nvPicPr>
        <p:blipFill>
          <a:blip r:embed="rId4"/>
          <a:stretch/>
        </p:blipFill>
        <p:spPr>
          <a:xfrm>
            <a:off x="3564000" y="407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70829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380880" y="380880"/>
            <a:ext cx="838224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ododdělení: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AGARICOMYCO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mogenní skupina, považovaná v současné době za vývojově nejodvozenějš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 klíčí vždy hyfou, nevytvářejí se kvasinkovité útvary (v přirozených podmínkách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kundární mycelium vzniká vždy somatogamií (hyfogamií), u většiny zástupců (jsou výjimky) se tvoří přezky a dolipory s perforovaným parentosom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 jednobuněčné, téměř vždy se tvoří plodnice (výjimkou je pár drobných řádů, ze zde zmíněných jen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ilobasid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ýjimečně dochází k tvorbě konidií (anamorfního stadia), a to vždy na dikaryotickém myceliu, případně na plodnicích</a:t>
            </a:r>
            <a:br>
              <a:rPr sz="1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poznámka: </a:t>
            </a:r>
            <a:r>
              <a:rPr b="0" lang="cs-CZ" sz="1800" spc="-1" strike="noStrike">
                <a:solidFill>
                  <a:srgbClr val="ffffff"/>
                </a:solidFill>
                <a:latin typeface="Arial"/>
                <a:ea typeface="Arial"/>
              </a:rPr>
              <a:t>se systémem této skupiny zřejmě víc než u kterékoli jiné "zamával" nástup molekulární taxonomie; je dost možné, že (až opadne prvotní nadšení "sekvence nade vše") se ukáže, že zařazení některých taxonů (přesuny mezi řády) je potřeba brát s rezervou :o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80880" y="380880"/>
            <a:ext cx="571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olet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emiangi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arp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ytvořeno velum partiale) nebo gymnokarpní pilothecia s hymenoforem rourkatým, vzácněji lupenitým (snadno se odděluje od dužniny klobouku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vážně mykorhizní houb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jvětším rodem je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olet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hřib)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dá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rod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uil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louzek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Xerocom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uchohřib) neb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eccinu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kozák); z lupenitých mají význam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omphidi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slizák) nebo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xill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čechratk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1" descr="xerocomus-badius_yvona-janotova"/>
          <p:cNvPicPr/>
          <p:nvPr/>
        </p:nvPicPr>
        <p:blipFill>
          <a:blip r:embed="rId1"/>
          <a:stretch/>
        </p:blipFill>
        <p:spPr>
          <a:xfrm>
            <a:off x="466560" y="3954600"/>
            <a:ext cx="3189600" cy="23936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2"/>
          <p:cNvSpPr/>
          <p:nvPr/>
        </p:nvSpPr>
        <p:spPr>
          <a:xfrm>
            <a:off x="380880" y="2678040"/>
            <a:ext cx="57150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Zleva hřib hněd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Boletus badi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 klouzek modříno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uillus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grevillei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lizák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mazlavý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Gomphidius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glutinos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, čechratka podvinut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Paxillus involut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Yvona Janotová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nahuby.sk/atlas-hub/Boletus-badius/Suchohrib-hnedy/Suchohrib-hnedy/ID67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Ivan Belay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nahuby.sk/atlas-hub/Suillus-grevillei/Masliak-smrekovcovy/Klouzek-slicny/ID276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Pavol Kešeľák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nahuby.sk/atlas-hub/Gomphidius-glutinosus/Sliziak-mazlavy/Slizak-mazlavy/ID609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Ondrej Líška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http://www.nahuby.sk/atlas-hub/Paxillus-involutus/Cechracka-podvinuta/Cechratka-podvinuta/ID21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3" descr="suillus-grevillei_ivan-belay"/>
          <p:cNvPicPr/>
          <p:nvPr/>
        </p:nvPicPr>
        <p:blipFill>
          <a:blip r:embed="rId6"/>
          <a:srcRect l="0" t="19685" r="0" b="0"/>
          <a:stretch/>
        </p:blipFill>
        <p:spPr>
          <a:xfrm>
            <a:off x="3747960" y="3951360"/>
            <a:ext cx="2238480" cy="23954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5" descr="gomphidius-glutinosus_pavol-keselak"/>
          <p:cNvPicPr/>
          <p:nvPr/>
        </p:nvPicPr>
        <p:blipFill>
          <a:blip r:embed="rId7"/>
          <a:stretch/>
        </p:blipFill>
        <p:spPr>
          <a:xfrm>
            <a:off x="6095880" y="457200"/>
            <a:ext cx="2552760" cy="3400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7" descr="paxillus-involutus_ondrej-liska-2005"/>
          <p:cNvPicPr/>
          <p:nvPr/>
        </p:nvPicPr>
        <p:blipFill>
          <a:blip r:embed="rId8"/>
          <a:stretch/>
        </p:blipFill>
        <p:spPr>
          <a:xfrm>
            <a:off x="6095880" y="3938760"/>
            <a:ext cx="2556000" cy="2396880"/>
          </a:xfrm>
          <a:prstGeom prst="rect">
            <a:avLst/>
          </a:prstGeom>
          <a:ln w="0">
            <a:noFill/>
          </a:ln>
        </p:spPr>
      </p:pic>
      <p:pic>
        <p:nvPicPr>
          <p:cNvPr id="170" name="7b_basid_20_boletales.MP3" descr=""/>
          <p:cNvPicPr/>
          <p:nvPr/>
        </p:nvPicPr>
        <p:blipFill>
          <a:blip r:embed="rId9"/>
          <a:stretch/>
        </p:blipFill>
        <p:spPr>
          <a:xfrm>
            <a:off x="5724360" y="306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125" nodeType="clickEffect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252566" fill="hold"/>
                                        <p:tgtEl>
                                          <p:spTgt spid="1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16"/>
          <p:cNvSpPr/>
          <p:nvPr/>
        </p:nvSpPr>
        <p:spPr>
          <a:xfrm>
            <a:off x="380880" y="380880"/>
            <a:ext cx="51055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olet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sou aktuálně řazeny břichatky tvořící na rhizoidálním myceliu pozemní nebo část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e podzemní plektothecia s tuhou peridi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čeleď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clerodermatacea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aprofyté v lesích i mimo ně, některé druhy mykorhizní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cleroderm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pestř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 hřiby je příbuzná i resupinátní rouškatá houba neblaze proslulá v budovách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rpula lacryman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dřevomorka domác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7" descr="HOU384A_scleroderma_pestrec"/>
          <p:cNvPicPr/>
          <p:nvPr/>
        </p:nvPicPr>
        <p:blipFill>
          <a:blip r:embed="rId1"/>
          <a:stretch/>
        </p:blipFill>
        <p:spPr>
          <a:xfrm>
            <a:off x="5562720" y="457200"/>
            <a:ext cx="3100320" cy="234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8" descr="serpula-lacrymans_pavel-bruzek"/>
          <p:cNvPicPr/>
          <p:nvPr/>
        </p:nvPicPr>
        <p:blipFill>
          <a:blip r:embed="rId2">
            <a:lum bright="10000"/>
          </a:blip>
          <a:srcRect l="0" t="22378" r="0" b="0"/>
          <a:stretch/>
        </p:blipFill>
        <p:spPr>
          <a:xfrm>
            <a:off x="4572000" y="2895480"/>
            <a:ext cx="4087800" cy="21160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19"/>
          <p:cNvSpPr/>
          <p:nvPr/>
        </p:nvSpPr>
        <p:spPr>
          <a:xfrm>
            <a:off x="380880" y="3137040"/>
            <a:ext cx="4191120" cy="10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 pestřec obecn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cleroderma citrin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L. Hagara, V. Antonín, J. Baier: Houby, Aventinum, 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Dole dřevomorka domácí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erpula lacryman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Pavel Brůžek, http://www.nahuby.sk/atlas-hub/Serpula-lacrymans/Drevokaz-slzivy/Drevomorka-domaci/ID63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7b_basid_21_scleroderma.MP3" descr=""/>
          <p:cNvPicPr/>
          <p:nvPr/>
        </p:nvPicPr>
        <p:blipFill>
          <a:blip r:embed="rId3"/>
          <a:stretch/>
        </p:blipFill>
        <p:spPr>
          <a:xfrm>
            <a:off x="5148360" y="476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76" name="7b_basid_21_serpula.MP3" descr=""/>
          <p:cNvPicPr/>
          <p:nvPr/>
        </p:nvPicPr>
        <p:blipFill>
          <a:blip r:embed="rId4"/>
          <a:stretch/>
        </p:blipFill>
        <p:spPr>
          <a:xfrm>
            <a:off x="4140360" y="422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131" nodeType="clickEffect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99358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136" nodeType="clickEffect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231668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4"/>
          <p:cNvSpPr/>
          <p:nvPr/>
        </p:nvSpPr>
        <p:spPr>
          <a:xfrm>
            <a:off x="380880" y="38088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ussu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ilothecia gymnokarpní (vzácně s vyvinutým velem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arakteristickým znakem řádu je přítomnost sférocyst (správnější je výraz sférocyty) - kulovitých buněk, vzniklých přeměnou buněk hyf (hyfy zde netvoří přezky); dužnina je pak křehká, lámavá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evážně mykorhitické druhy, u nás zástupci dvou velkých rodů -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ussu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holubinka) 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actariu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ryzec), jenž je kromě sférocyst charakteristický ještě roněním mléčné tekutiny při poranění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ůže za to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tomnost mléčnic v pletivu –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ubinek jsou také vytvořeny, ale bez obsaženého "mléka"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russula-emetica_bozena-kuzmova-2004"/>
          <p:cNvPicPr/>
          <p:nvPr/>
        </p:nvPicPr>
        <p:blipFill>
          <a:blip r:embed="rId1"/>
          <a:stretch/>
        </p:blipFill>
        <p:spPr>
          <a:xfrm>
            <a:off x="2895480" y="2743200"/>
            <a:ext cx="3810240" cy="24066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380880" y="5867280"/>
            <a:ext cx="59436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Ryzec ryša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Lactarius ruf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Milan Zajac, http://www.nahuby.sk/atlas-hub/Lactarius-rufus/Rydzik-rysavy/Ryzec-rysavy/ID585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lactarius-rufus_milan-zajac"/>
          <p:cNvPicPr/>
          <p:nvPr/>
        </p:nvPicPr>
        <p:blipFill>
          <a:blip r:embed="rId2"/>
          <a:stretch/>
        </p:blipFill>
        <p:spPr>
          <a:xfrm>
            <a:off x="479520" y="2743200"/>
            <a:ext cx="2325600" cy="3105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8"/>
          <p:cNvSpPr/>
          <p:nvPr/>
        </p:nvSpPr>
        <p:spPr>
          <a:xfrm>
            <a:off x="2797200" y="5181480"/>
            <a:ext cx="59436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Holubinka vrhavka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Russula emetic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Božena Kuzmová, http://www.nahuby.sk/atlas-hub/Russula-emetica/Plavka-skodliva/Holubinka-vrhavka/ID4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7b_basid_22_russula-lactarius.MP3" descr=""/>
          <p:cNvPicPr/>
          <p:nvPr/>
        </p:nvPicPr>
        <p:blipFill>
          <a:blip r:embed="rId3"/>
          <a:stretch/>
        </p:blipFill>
        <p:spPr>
          <a:xfrm>
            <a:off x="6804000" y="486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142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36672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5"/>
          <p:cNvSpPr/>
          <p:nvPr/>
        </p:nvSpPr>
        <p:spPr>
          <a:xfrm>
            <a:off x="380880" y="380880"/>
            <a:ext cx="8382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 řádu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ussu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sou aktuálně řazeny i některé "choroše"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eterobasidio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kořenovník, "metla" smrkových kultur), houby s plodnicí resupinátní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ere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evník), keříčkovitou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eri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korálovec) nebo kloboukatou s ostnitým hymenoforem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uriscalp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lžičkov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6" descr="HOU070AB_auriscalpium_lzickovec+dentipellis_ostnatecek"/>
          <p:cNvPicPr/>
          <p:nvPr/>
        </p:nvPicPr>
        <p:blipFill>
          <a:blip r:embed="rId1"/>
          <a:srcRect l="0" t="0" r="57526" b="0"/>
          <a:stretch/>
        </p:blipFill>
        <p:spPr>
          <a:xfrm>
            <a:off x="457200" y="1676520"/>
            <a:ext cx="2971800" cy="23558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7" descr="heterobasidion-annosum_lukas-faturik-2006"/>
          <p:cNvPicPr/>
          <p:nvPr/>
        </p:nvPicPr>
        <p:blipFill>
          <a:blip r:embed="rId2"/>
          <a:srcRect l="0" t="0" r="5376" b="0"/>
          <a:stretch/>
        </p:blipFill>
        <p:spPr>
          <a:xfrm>
            <a:off x="457200" y="4114800"/>
            <a:ext cx="2970360" cy="2241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9" descr="hericium-erinaceus_yvona-janotova"/>
          <p:cNvPicPr/>
          <p:nvPr/>
        </p:nvPicPr>
        <p:blipFill>
          <a:blip r:embed="rId3"/>
          <a:srcRect l="0" t="0" r="0" b="662"/>
          <a:stretch/>
        </p:blipFill>
        <p:spPr>
          <a:xfrm>
            <a:off x="3505320" y="1676520"/>
            <a:ext cx="3166920" cy="23619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32" descr="stereum-hirsutum_standa-jirasek"/>
          <p:cNvPicPr/>
          <p:nvPr/>
        </p:nvPicPr>
        <p:blipFill>
          <a:blip r:embed="rId4"/>
          <a:stretch/>
        </p:blipFill>
        <p:spPr>
          <a:xfrm>
            <a:off x="3505320" y="4114800"/>
            <a:ext cx="3166920" cy="22417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6"/>
          <p:cNvSpPr/>
          <p:nvPr/>
        </p:nvSpPr>
        <p:spPr>
          <a:xfrm>
            <a:off x="6705720" y="1600200"/>
            <a:ext cx="2133360" cy="46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Nahoře zlev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Lžičkovec šiško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Auriscalpium vulgare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L. Hagara, V. Antonín, J. Baier: Houby, Aventinum, 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orálovec ježat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Hericium erinaceu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Yvona Janotová, 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Hericium-erinaceus/Koralovec-jezovi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Koralovec-jezaty/ID198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Dole zlev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ořenovník vrstevnat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Heterobasidion annos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Lukáš Faturík, 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Heterobasidion-annosum/Korenovka-vrstevnata/Korenovnik-vrstevnaty/ID201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Pevník chlupat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Stereum hirsutum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Standa Jirásek, http://www.nahuby.sk/atlas-hu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Stereum-hirsutum/Pevnik-chlpat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/Pevnik-chlupaty/ID425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7b_basid_23_russulales-nelupenate.MP3" descr=""/>
          <p:cNvPicPr/>
          <p:nvPr/>
        </p:nvPicPr>
        <p:blipFill>
          <a:blip r:embed="rId5"/>
          <a:stretch/>
        </p:blipFill>
        <p:spPr>
          <a:xfrm>
            <a:off x="4716360" y="134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1" dur="53827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8" descr="C:\user\Houba\Škola-obrázky\nizsi_rostliny\agaricomycotina\konechroud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9"/>
          <p:cNvSpPr/>
          <p:nvPr/>
        </p:nvSpPr>
        <p:spPr>
          <a:xfrm>
            <a:off x="5638680" y="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s díky za pozornost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0" y="6324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na rozloučenou ... praktické využití boltcovitky mozkovité</a:t>
            </a:r>
            <a:r>
              <a:rPr b="1" i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cs-CZ" sz="2400" spc="-1" strike="noStrike">
                <a:solidFill>
                  <a:srgbClr val="ffffff"/>
                </a:solidFill>
                <a:latin typeface="Arial"/>
              </a:rPr>
              <a:t>: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80880" y="380880"/>
            <a:ext cx="8382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 pododdělení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garicomycoti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se tvoří útvary nazývan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dnice (bazidiokarpy, bazidiomata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; k tomu poznámka: plodnice v užším smyslu tohoto slova by měly obsahovat pohlavní orgán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odle tohoto užšího pojetí 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topkovýtrusných hub nejsou pravé plodnic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kladní dělení na typy hymeniální a gastráln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iální plodni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/obr. vlevo/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sou charakterizovány přítomnost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i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buď pokrývá celý povrch plodnice, nebo jen specializovanou část povrchu -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ofo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lupeny, rourky, ostny, póry, lamely, i hladký hymenofor); v hymeniu se kromě bazidií tvoří sterilní buňky zakončující hyfy (cystidy aj.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strálních plodnicích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/vpravo/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e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tvoří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vnitř v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lebě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balen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erid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3"/>
          <p:cNvGraphicFramePr/>
          <p:nvPr/>
        </p:nvGraphicFramePr>
        <p:xfrm>
          <a:off x="457200" y="3352680"/>
          <a:ext cx="5410080" cy="256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352680"/>
                    <a:ext cx="5410080" cy="25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Text Box 4"/>
          <p:cNvSpPr/>
          <p:nvPr/>
        </p:nvSpPr>
        <p:spPr>
          <a:xfrm>
            <a:off x="2946240" y="5867280"/>
            <a:ext cx="297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en.wikipedia.org/wiki/File:Basidium_schematic.svg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Gleba_icon"/>
          <p:cNvPicPr/>
          <p:nvPr/>
        </p:nvPicPr>
        <p:blipFill>
          <a:blip r:embed="rId4"/>
          <a:stretch/>
        </p:blipFill>
        <p:spPr>
          <a:xfrm>
            <a:off x="6095880" y="3378240"/>
            <a:ext cx="2514600" cy="25146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5715000" y="5867280"/>
            <a:ext cx="297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http://commons.wikimedia.org/wiki/File:Gleba_icon.png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7b_basid_03_agaricomycotina-plodnice.MP3" descr=""/>
          <p:cNvPicPr/>
          <p:nvPr/>
        </p:nvPicPr>
        <p:blipFill>
          <a:blip r:embed="rId6"/>
          <a:stretch/>
        </p:blipFill>
        <p:spPr>
          <a:xfrm>
            <a:off x="5580000" y="1413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6534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380880" y="380880"/>
            <a:ext cx="5105520" cy="57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p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iálních plodni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lothe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rozlitá, kyjovitá, keříčkovitá, hymenium pokrývá celý povrch plodnic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ilothe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lodnice jednoletá,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dnorázovým vývojem, diferencovaná na klobouk a třeň, hymenofor pokrývá spodní část klobouku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 plodnic tohoto typu se vytvář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achetky: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elum universa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ryjící celou plodnici, z nějž p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ztrhání zbývá pochva na báz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řeně nebo strupy na vrchol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lobouku, a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elum partial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ryjící mladý hymenofor, jeho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zůstatkem je pak prsten nebo pavučinka na třeni anebo cáry na okraji klobouku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rustothec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plodnice s postupným vývojem (přirůstající), jedno- nebo víceletá, může a nemusí být členěna na klobouk a třeň, hymenofor pokrývá spodní část klobouku (nebo nerozlišené plodn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HOU069A"/>
          <p:cNvPicPr/>
          <p:nvPr/>
        </p:nvPicPr>
        <p:blipFill>
          <a:blip r:embed="rId1"/>
          <a:stretch/>
        </p:blipFill>
        <p:spPr>
          <a:xfrm>
            <a:off x="5562720" y="388800"/>
            <a:ext cx="3047760" cy="18208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HOU114A"/>
          <p:cNvPicPr/>
          <p:nvPr/>
        </p:nvPicPr>
        <p:blipFill>
          <a:blip r:embed="rId2"/>
          <a:stretch/>
        </p:blipFill>
        <p:spPr>
          <a:xfrm>
            <a:off x="5562720" y="4264200"/>
            <a:ext cx="3047760" cy="1742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HOU222A"/>
          <p:cNvPicPr/>
          <p:nvPr/>
        </p:nvPicPr>
        <p:blipFill>
          <a:blip r:embed="rId3"/>
          <a:stretch/>
        </p:blipFill>
        <p:spPr>
          <a:xfrm>
            <a:off x="5562720" y="2293920"/>
            <a:ext cx="3047760" cy="1889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OU299A"/>
          <p:cNvPicPr/>
          <p:nvPr/>
        </p:nvPicPr>
        <p:blipFill>
          <a:blip r:embed="rId4"/>
          <a:stretch/>
        </p:blipFill>
        <p:spPr>
          <a:xfrm>
            <a:off x="3773520" y="2293920"/>
            <a:ext cx="1773360" cy="18763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5562720" y="6006960"/>
            <a:ext cx="3124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L. Hagara, V. Antonín, J. Baier: Houby, Aventinum, Praha, 1999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380880" y="6172200"/>
            <a:ext cx="83822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Shora: kuřátka lososová, pavučinec šupinonohý (vlevo), muchomůrka císařka, hlinák červenající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7b_basid_04_typy-hymenialnich-plodnic.MP3" descr=""/>
          <p:cNvPicPr/>
          <p:nvPr/>
        </p:nvPicPr>
        <p:blipFill>
          <a:blip r:embed="rId5"/>
          <a:stretch/>
        </p:blipFill>
        <p:spPr>
          <a:xfrm>
            <a:off x="5148360" y="112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415283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80880" y="380880"/>
            <a:ext cx="4724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p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strálních (gastroidních) plodnic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šechn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zavřené):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lektothecium - plodnice s roztroušenými bazidie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lysothecium, schizothecium - uvnitř plodnice jsou dutiny vystlané hymeni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aulaiothecium - plodnice, do jejíhož nitra vrůstají lamely, pokryté hymeni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lathrothecium - gleba je rozdělena větvenými lamelami a v době zralosti vynesena nahoru přídatným receptaku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brichatky_typy-plodnic"/>
          <p:cNvPicPr/>
          <p:nvPr/>
        </p:nvPicPr>
        <p:blipFill>
          <a:blip r:embed="rId1"/>
          <a:stretch/>
        </p:blipFill>
        <p:spPr>
          <a:xfrm>
            <a:off x="5207040" y="152280"/>
            <a:ext cx="3479760" cy="65534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380880" y="3581280"/>
            <a:ext cx="45720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Běžné typy gastroidních plodnic =&gt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(řády v popiscích dle historického systému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T. Kalina et J. Váňa: Sinice, řasy, houby, mechorosty a podobné organismy v současné biologii, Karolinum, Praha, 2005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7b_basid_05_typy-gastralnich-plodnic.MP3" descr=""/>
          <p:cNvPicPr/>
          <p:nvPr/>
        </p:nvPicPr>
        <p:blipFill>
          <a:blip r:embed="rId2"/>
          <a:stretch/>
        </p:blipFill>
        <p:spPr>
          <a:xfrm>
            <a:off x="4572000" y="2637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56485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380880" y="380880"/>
            <a:ext cx="41911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ektenchymatická pletiva tvořící plodnice (prosenchym, pseud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arenchym) jsou utvářena hyfami trojího typu: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základním typem jsou hyf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enerativ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tenkostěnné, větven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ehrádkované, dávají vznik bazidií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odvozené typy jsou pak hyfy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keleto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tlustostěnné, nevětvené, nepřehrádkované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řípadně ještě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azbov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ligativ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tlustostěnné, větvené, nepřehrád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ované, oproti skeletovým téměř nemají lumen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=&gt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etivo je pak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onomit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en generativní hyfy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jsou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ždy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řítomny)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imit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enerativní + skeletové),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mfimit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5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ene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iv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+ ligativní)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imitick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7;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šechny tři typy hyf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838080" y="5994360"/>
            <a:ext cx="373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R. Veselý, F. Kotlaba, Z. Pouzar: Přehled československých hub, Academia, Praha, 1972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VKP032"/>
          <p:cNvPicPr/>
          <p:nvPr/>
        </p:nvPicPr>
        <p:blipFill>
          <a:blip r:embed="rId1"/>
          <a:srcRect l="663" t="0" r="663" b="1157"/>
          <a:stretch/>
        </p:blipFill>
        <p:spPr>
          <a:xfrm>
            <a:off x="4619520" y="457200"/>
            <a:ext cx="4056120" cy="5799240"/>
          </a:xfrm>
          <a:prstGeom prst="rect">
            <a:avLst/>
          </a:prstGeom>
          <a:ln w="0">
            <a:noFill/>
          </a:ln>
        </p:spPr>
      </p:pic>
      <p:pic>
        <p:nvPicPr>
          <p:cNvPr id="71" name="7b_basid_06_typy-hyf.MP3" descr=""/>
          <p:cNvPicPr/>
          <p:nvPr/>
        </p:nvPicPr>
        <p:blipFill>
          <a:blip r:embed="rId2"/>
          <a:stretch/>
        </p:blipFill>
        <p:spPr>
          <a:xfrm>
            <a:off x="4211640" y="476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247002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80880" y="380880"/>
            <a:ext cx="8382240" cy="60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TREMELL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y s rozdělenou bazidií (fragmobazidií) a/nebo tvorbou kvasinkovitých stadií</a:t>
            </a:r>
            <a:br>
              <a:rPr sz="1200"/>
            </a:b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emell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ouby tvořící plodnice rosolovité konzistence, na jejich povrchu hymenium s bazidie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omatogamie =&gt; sekundární mycelium s přezkami, dolipory s parentosomy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ilobasidi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nejasně vymezený řád, dikaryotické mycelium s přezkami 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olipory (ale bez parentosomu), holobazidie, tvorba kvasinkovitých stadi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Filobasidiella neoformans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- v anamorfě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ryptococcus neoforman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patogen, původce vážné nemo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tremella-mesenterica_peter-stefanovie-2007"/>
          <p:cNvPicPr/>
          <p:nvPr/>
        </p:nvPicPr>
        <p:blipFill>
          <a:blip r:embed="rId1"/>
          <a:stretch/>
        </p:blipFill>
        <p:spPr>
          <a:xfrm>
            <a:off x="5145120" y="2211480"/>
            <a:ext cx="3541680" cy="2360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chiasticka-fragmobazidie_tremella"/>
          <p:cNvPicPr/>
          <p:nvPr/>
        </p:nvPicPr>
        <p:blipFill>
          <a:blip r:embed="rId2"/>
          <a:stretch/>
        </p:blipFill>
        <p:spPr>
          <a:xfrm>
            <a:off x="3454560" y="2209680"/>
            <a:ext cx="1738080" cy="23623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8"/>
          <p:cNvSpPr/>
          <p:nvPr/>
        </p:nvSpPr>
        <p:spPr>
          <a:xfrm>
            <a:off x="380880" y="2027160"/>
            <a:ext cx="3124440" cy="25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myceliu i tvorba konidií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příčně rozdělená 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louhými sterigmat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 klíčí hyfou, konidiemi nebo sekundár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ími spora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většinou dřevní saprofyté, druhotně parazité,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i parazité hub (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remell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- rosolovk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336600" y="4572000"/>
            <a:ext cx="84582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levo: Chiastická fragmobazidie rosolovky s dlouhými sterigmaty      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Zdroj: Jean Louis Émile Boudier: Icones mycologicae ou iconographie des champignons de France, principalement Discomycètes, 1904–1909;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http://www.mushroomthejournal.com/greatlakesdata/Terms/steri702.html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Vpravo: Rosolovka mozkovitá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Tremell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mesenteric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P.</a:t>
            </a:r>
            <a:r>
              <a:rPr b="0" lang="cs-CZ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Štefanovie, </a:t>
            </a: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http://www.nahuby.sk/obrazok_detail.php?obrazok_id=56185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7b_basid_07_tremellales.MP3" descr=""/>
          <p:cNvPicPr/>
          <p:nvPr/>
        </p:nvPicPr>
        <p:blipFill>
          <a:blip r:embed="rId5"/>
          <a:stretch/>
        </p:blipFill>
        <p:spPr>
          <a:xfrm>
            <a:off x="3851280" y="404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04217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2"/>
          <p:cNvSpPr/>
          <p:nvPr/>
        </p:nvSpPr>
        <p:spPr>
          <a:xfrm>
            <a:off x="380880" y="380880"/>
            <a:ext cx="838224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DACRY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řád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crymycetal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tvoří obvykle žluté nebo oranžové, rosolovité až tuhé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řevní saprofyté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acrymyce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kropilka, bochánkovité plodnice),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alocera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krásnorůžek, keříčkovité pl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dni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3" descr="calocera-viscosa_ladislav-racko"/>
          <p:cNvPicPr/>
          <p:nvPr/>
        </p:nvPicPr>
        <p:blipFill>
          <a:blip r:embed="rId1"/>
          <a:stretch/>
        </p:blipFill>
        <p:spPr>
          <a:xfrm>
            <a:off x="3914640" y="3451320"/>
            <a:ext cx="3375000" cy="23922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24"/>
          <p:cNvSpPr/>
          <p:nvPr/>
        </p:nvSpPr>
        <p:spPr>
          <a:xfrm>
            <a:off x="3809880" y="5824440"/>
            <a:ext cx="4953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rásnorůžek lepkavý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Calocera viscosa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Ladislav Racko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http://www.nahuby.sk/atlas-hub/Calocera-viscosa/Parozkovec-lepkavy/Krasnoruzek-lepkavy/ID325</a:t>
            </a: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5" descr="dacrymyces_tomas-papousek-1995"/>
          <p:cNvPicPr/>
          <p:nvPr/>
        </p:nvPicPr>
        <p:blipFill>
          <a:blip r:embed="rId3"/>
          <a:stretch/>
        </p:blipFill>
        <p:spPr>
          <a:xfrm>
            <a:off x="479520" y="3451320"/>
            <a:ext cx="3328920" cy="23940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6"/>
          <p:cNvSpPr/>
          <p:nvPr/>
        </p:nvSpPr>
        <p:spPr>
          <a:xfrm>
            <a:off x="380880" y="5824440"/>
            <a:ext cx="27432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Kropilka (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Dacrymyces</a:t>
            </a:r>
            <a:r>
              <a:rPr b="0" lang="cs-CZ" sz="1500" spc="-1" strike="noStrike">
                <a:solidFill>
                  <a:srgbClr val="000000"/>
                </a:solidFill>
                <a:latin typeface="Arial"/>
              </a:rPr>
              <a:t> sp.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000000"/>
                </a:solidFill>
                <a:latin typeface="Arial"/>
              </a:rPr>
              <a:t>Foto Tomáš Papouše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7" descr="dacrymyces_tuning-fork-basidia"/>
          <p:cNvPicPr/>
          <p:nvPr/>
        </p:nvPicPr>
        <p:blipFill>
          <a:blip r:embed="rId4"/>
          <a:srcRect l="0" t="0" r="6562" b="0"/>
          <a:stretch/>
        </p:blipFill>
        <p:spPr>
          <a:xfrm>
            <a:off x="479520" y="1295280"/>
            <a:ext cx="1981080" cy="13939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8"/>
          <p:cNvSpPr/>
          <p:nvPr/>
        </p:nvSpPr>
        <p:spPr>
          <a:xfrm>
            <a:off x="2514600" y="1098720"/>
            <a:ext cx="624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chrupavčité plodnice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na s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myceliu tvorba přezek a doliporů s parentosome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se vytvářejí v hymeniu na povrchu plodnice, jso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specifického typu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holobazidie rozvětvené ve dvě prosterigmata, nesoucí sterigmata se sporami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ospory klíčí hyfou nebo konidie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7b_basid_08_dacrymycetales.MP3" descr=""/>
          <p:cNvPicPr/>
          <p:nvPr/>
        </p:nvPicPr>
        <p:blipFill>
          <a:blip r:embed="rId5"/>
          <a:stretch/>
        </p:blipFill>
        <p:spPr>
          <a:xfrm>
            <a:off x="341964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46535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8"/>
          <p:cNvSpPr/>
          <p:nvPr/>
        </p:nvSpPr>
        <p:spPr>
          <a:xfrm>
            <a:off x="380880" y="380880"/>
            <a:ext cx="8382240" cy="61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řída: </a:t>
            </a:r>
            <a:r>
              <a:rPr b="1" i="1" lang="cs-CZ" sz="1800" spc="-1" strike="noStrike">
                <a:solidFill>
                  <a:srgbClr val="000000"/>
                </a:solidFill>
                <a:latin typeface="Arial"/>
              </a:rPr>
              <a:t>AGARICOMYC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y s nerozdělenou bazidií (= holobazidií), netvoří kvasinkovitá stadia (neplatí absolutně, viz první řád)</a:t>
            </a:r>
            <a:br>
              <a:rPr sz="1200"/>
            </a:br>
            <a:br>
              <a:rPr sz="12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le vývoje plodnic rozlišujem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ouby rouškaté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dříve podtř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omycetid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u nichž se bazidiospory tvoří na povrchu plodnice v povrchové vrstvě zvan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ymenium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výtrusorodé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roušk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ž tvoř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kromě bazidií sterilní zakončení hyf: bazidioly, cystidy, hyfidie (vlákna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terá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jsou obdobou parafýz u vřeckatých hub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hymenomycetoidního typu, spory až na výjimky aktivně odmršťovány (balistospory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lodnice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ymnokarp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od počátku otevřené) neb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hemiangiokarp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dočasně uzavřené 1 nebo 2 plachetkami - velum partiale, velum universale)</a:t>
            </a:r>
            <a:br>
              <a:rPr sz="1800"/>
            </a:b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druhým typem jsou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řichat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(dříve podtříd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Gasteromycetida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základní zna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angiokarp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vývoj plodnice 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uzavřená až do dozrání spor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gastroidního typu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 bazidiospory pasivně uvolňovány (odlamují se ze sterigmat), roznášeny větrem, vodou, živočichy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povrch plodnice uzavírá většinou dvouvrstevná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okrovka (peridie)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, samotný vnitřek plodnice pak tvoř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teřich (gleba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azidie se tvoří volně v celém teřichu nebo na hymeniu, které pokrývá povrch jeho vnitřních prostor (komůrek)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během zrání se pletivo teřichu rozrušuje =&gt; shluky hyf tvořící kapilicium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k uvolnění spor dojde po rozrušení peridie a obnažení teřich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7b_basid_09_houby-rouskate-brichatky.MP3" descr=""/>
          <p:cNvPicPr/>
          <p:nvPr/>
        </p:nvPicPr>
        <p:blipFill>
          <a:blip r:embed="rId1"/>
          <a:stretch/>
        </p:blipFill>
        <p:spPr>
          <a:xfrm>
            <a:off x="3276720" y="1197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20113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8T15:01:41Z</dcterms:created>
  <dc:creator>Daniel Dvořák</dc:creator>
  <dc:description/>
  <dc:language>en-US</dc:language>
  <cp:lastModifiedBy>PH</cp:lastModifiedBy>
  <dcterms:modified xsi:type="dcterms:W3CDTF">2020-11-09T17:58:15Z</dcterms:modified>
  <cp:revision>230</cp:revision>
  <dc:subject/>
  <dc:title>Snímek 1</dc:title>
</cp:coreProperties>
</file>