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01F-AF79-420B-802B-DC72D00A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29C-8C1E-480D-BBFE-753C0104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480-35EF-4FF8-BA4A-FFECBD00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E27-E310-4317-9953-3EE9F756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459-6385-4495-8EFF-0038B0D1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49C-C923-44FA-8EAE-F6CE90C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3E4-312C-4FEE-BB30-81D0EC62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E20-B37E-4466-A086-B03E9607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070-9B61-40BB-B7F9-E9C30561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F79-5E54-43E8-8F44-5353F45B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D01-CAA1-42F9-8C4C-68D499C0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3D1-415D-4F37-BBCF-BA663FB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2507-2502-4F9E-BFB3-9C3CA8F62E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huby.sk/atlas-hub/Cantharellus-cibarius/Kuriatko-jedle/Liska-obecna/ID231" TargetMode="External"/><Relationship Id="rId3" Type="http://schemas.openxmlformats.org/officeDocument/2006/relationships/hyperlink" Target="http://www.nahuby.sk/atlas-hub/Clavulina-cinerea/Konarovka-popolava/Kuratecko-popelave/ID194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nahuby.sk/atlas-hub/Hydnum-repandum/Jelenka-poprehybana/Losak-zprohybany/ID169" TargetMode="External"/><Relationship Id="rId6" Type="http://schemas.openxmlformats.org/officeDocument/2006/relationships/hyperlink" Target="http://www.nahuby.sk/atlas-hub/Hydnum-repandum/Jelenka-poprehybana/Losak-zprohybany/ID169" TargetMode="External"/><Relationship Id="rId7" Type="http://schemas.openxmlformats.org/officeDocument/2006/relationships/hyperlink" Target="http://www.nahuby.sk/atlas-hub/Hydnum-repandum/Jelenka-poprehybana/Losak-zprohybany/ID169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nahuby.sk/atlas-hub/Geastrum-fimbriatum/Hviezdovka-strapkata/Hvezdovka-brvita/ID157" TargetMode="External"/><Relationship Id="rId4" Type="http://schemas.openxmlformats.org/officeDocument/2006/relationships/hyperlink" Target="http://www.nahuby.sk/atlas-hub/Geastrum-fimbriatum/Hviezdovka-strapkata/Hvezdovka-brvita/ID157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http://www.nahuby.sk/atlas-hub/Ramaria-botrytis/Strapacka-koralovita/Kuratka-kvetakova/ID635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nahuby.sk/atlas-hub/Inonotus-radiatus/Rysavec-lucovy/Rezavec-lesknavy/ID602" TargetMode="External"/><Relationship Id="rId4" Type="http://schemas.openxmlformats.org/officeDocument/2006/relationships/hyperlink" Target="http://www.nahuby.sk/atlas-hub/Inonotus-radiatus/Rysavec-lucovy/Rezavec-lesknavy/ID602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nahuby.sk/atlas-hub/Trametes-versicolor/Trudnikovec-pestry/Outkovka-pestra/ID764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nahuby.sk/atlas-hub/Polyporus-brumalis/Trudnik-zimny/Choros-poloplastvovy/ID1824" TargetMode="External"/><Relationship Id="rId3" Type="http://schemas.openxmlformats.org/officeDocument/2006/relationships/hyperlink" Target="http://www.nahuby.sk/atlas-hub/Polyporus-brumalis/Trudnik-zimny/Choros-poloplastvovy/ID1824" TargetMode="External"/><Relationship Id="rId4" Type="http://schemas.openxmlformats.org/officeDocument/2006/relationships/hyperlink" Target="http://www.nahuby.sk/atlas-hub/Polyporus-brumalis/Trudnik-zimny/Choros-poloplastvovy/ID1824" TargetMode="External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hyperlink" Target="http://www.nahuby.sk/atlas-hub/Lentinus-tigrinus/Huzevnatec-tigrovany/Houzevnatec-tygrovany/ID1590" TargetMode="External"/><Relationship Id="rId8" Type="http://schemas.openxmlformats.org/officeDocument/2006/relationships/hyperlink" Target="http://www.nahuby.sk/atlas-hub/Lentinus-tigrinus/Huzevnatec-tigrovany/Houzevnatec-tygrovany/ID1590" TargetMode="External"/><Relationship Id="rId9" Type="http://schemas.openxmlformats.org/officeDocument/2006/relationships/hyperlink" Target="http://www.nahuby.sk/atlas-hub/Lentinus-tigrinus/Huzevnatec-tigrovany/Houzevnatec-tygrovany/ID1590" TargetMode="External"/><Relationship Id="rId10" Type="http://schemas.openxmlformats.org/officeDocument/2006/relationships/hyperlink" Target="http://www.nahuby.sk/atlas-hub/Phanerochaete-sanguinea/Kornatec-krvavy/Kornatec-krvavy/ID1773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hyperlink" Target="http://www.nahuby.sk/atlas-hub/Cortinarius-orellanus/Pavucinovec-plysovy/Pavucinec-plysovy/ID371" TargetMode="External"/><Relationship Id="rId6" Type="http://schemas.openxmlformats.org/officeDocument/2006/relationships/hyperlink" Target="http://www.nahuby.sk/atlas-hub/Cortinarius-orellanus/Pavucinovec-plysovy/Pavucinec-plysovy/ID371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www.nahuby.sk/atlas-hub/Coprinopsis-atramentaria/Hnojnik-atramentovy/Hnojnik-inkoustovy/ID97" TargetMode="External"/><Relationship Id="rId5" Type="http://schemas.openxmlformats.org/officeDocument/2006/relationships/hyperlink" Target="http://www.nahuby.sk/atlas-hub/Lepista-nuda/Povabnica-fialova/Ciruvka-fialova/ID507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nahuby.sk/atlas-hub/Boletus-badius/Suchohrib-hnedy/Suchohrib-hnedy/ID673" TargetMode="External"/><Relationship Id="rId3" Type="http://schemas.openxmlformats.org/officeDocument/2006/relationships/hyperlink" Target="http://www.nahuby.sk/atlas-hub/Suillus-grevillei/Masliak-smrekovcovy/Klouzek-slicny/ID276" TargetMode="External"/><Relationship Id="rId4" Type="http://schemas.openxmlformats.org/officeDocument/2006/relationships/hyperlink" Target="http://www.nahuby.sk/atlas-hub/Gomphidius-glutinosus/Sliziak-mazlavy/Slizak-mazlavy/ID609" TargetMode="External"/><Relationship Id="rId5" Type="http://schemas.openxmlformats.org/officeDocument/2006/relationships/hyperlink" Target="http://www.nahuby.sk/atlas-hub/Paxillus-involutus/Cechracka-podvinuta/Cechratka-podvinuta/ID21" TargetMode="External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Basidium_schematic.svg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commons.wikimedia.org/wiki/File:Gleba_icon.pn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ushroomthejournal.com/greatlakesdata/Terms/steri702.html" TargetMode="External"/><Relationship Id="rId4" Type="http://schemas.openxmlformats.org/officeDocument/2006/relationships/hyperlink" Target="http://www.nahuby.sk/obrazok_detail.php?obrazok_id=56185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nahuby.sk/atlas-hub/Calocera-viscosa/Parozkovec-lepkavy/Krasnoruzek-lepkavy/ID325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cciniomycotina, Ustilaginomycotina,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1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různých typů, konzistence rosolovitá nebo chrupavčitá (jednoduché typy netvoří plodnice, jen myceliální povlaky s tvorbou bazidií), na jejich povrchu hymen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undárním myceliu mohou a nemusí být vytvořeny přezky a doli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 různých typů, příčně nebo podélně přehrádkované (mohou být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avidelně děl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ouillard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bazidie dělené nepravidelně podélně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čně), zřetelná diferenciace na p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metabazid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ními sporami, tvoří se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asinkovité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devším saprofyté na tělech rostl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rne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ucho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ltcovi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i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černorosol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zub), vzácněji paraz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7" descr="HOU052A_auricularia_boltcovitka"/>
          <p:cNvPicPr/>
          <p:nvPr/>
        </p:nvPicPr>
        <p:blipFill>
          <a:blip r:embed="rId1"/>
          <a:stretch/>
        </p:blipFill>
        <p:spPr>
          <a:xfrm>
            <a:off x="479520" y="3581280"/>
            <a:ext cx="2422440" cy="272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HOU055A_exidia_cernorosol"/>
          <p:cNvPicPr/>
          <p:nvPr/>
        </p:nvPicPr>
        <p:blipFill>
          <a:blip r:embed="rId2"/>
          <a:stretch/>
        </p:blipFill>
        <p:spPr>
          <a:xfrm>
            <a:off x="2994120" y="3581280"/>
            <a:ext cx="2895480" cy="272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9"/>
          <p:cNvSpPr/>
          <p:nvPr/>
        </p:nvSpPr>
        <p:spPr>
          <a:xfrm>
            <a:off x="5943600" y="506268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boltcovit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 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černorosol bu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xidia pla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7b_basid_10_auriculariales.MP3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400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7"/>
          <p:cNvSpPr/>
          <p:nvPr/>
        </p:nvSpPr>
        <p:spPr>
          <a:xfrm>
            <a:off x="380880" y="3808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holo- nebo pilothecia s různým typem hymenoforu (hladký, lamelovitý, ostnitý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ď mykorhizní houby nebo dřevní saprofyté až fakultativní parazit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keříčkovit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uřátečko) nebo kloboukaté s lamelami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ka) či ostn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cantharellus-cibarius_ladislav-pomsar-2005"/>
          <p:cNvPicPr/>
          <p:nvPr/>
        </p:nvPicPr>
        <p:blipFill>
          <a:blip r:embed="rId1"/>
          <a:stretch/>
        </p:blipFill>
        <p:spPr>
          <a:xfrm>
            <a:off x="5181480" y="457200"/>
            <a:ext cx="3429000" cy="244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8"/>
          <p:cNvSpPr/>
          <p:nvPr/>
        </p:nvSpPr>
        <p:spPr>
          <a:xfrm>
            <a:off x="3233880" y="5562720"/>
            <a:ext cx="548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liš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ntharellus cibar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Pomšá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ntharellus-cibarius/Kuriatko-jedle/Liska-obecna/ID23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kuřátečko popelavé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ulina ciner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Clavulina-cinerea/Konarovka-popolava/Kuratecko-popelave/ID19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9" descr="clavulina-cinerea_jiri-polcak"/>
          <p:cNvPicPr/>
          <p:nvPr/>
        </p:nvPicPr>
        <p:blipFill>
          <a:blip r:embed="rId4"/>
          <a:stretch/>
        </p:blipFill>
        <p:spPr>
          <a:xfrm>
            <a:off x="5181480" y="297180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0"/>
          <p:cNvSpPr/>
          <p:nvPr/>
        </p:nvSpPr>
        <p:spPr>
          <a:xfrm>
            <a:off x="380880" y="5334120"/>
            <a:ext cx="3124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lišá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prohýb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dnum repand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Hydnum-repandum/Jelenka-poprehy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Losak-zprohybany/ID16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1" descr="hydnum-repandum_jan-suvada-2006"/>
          <p:cNvPicPr/>
          <p:nvPr/>
        </p:nvPicPr>
        <p:blipFill>
          <a:blip r:embed="rId8"/>
          <a:srcRect l="5524" t="0" r="0" b="0"/>
          <a:stretch/>
        </p:blipFill>
        <p:spPr>
          <a:xfrm>
            <a:off x="1720800" y="2971800"/>
            <a:ext cx="3365640" cy="2568600"/>
          </a:xfrm>
          <a:prstGeom prst="rect">
            <a:avLst/>
          </a:prstGeom>
          <a:ln w="0">
            <a:noFill/>
          </a:ln>
        </p:spPr>
      </p:pic>
      <p:pic>
        <p:nvPicPr>
          <p:cNvPr id="99" name="7b_basid_11_cantharellales.MP3" descr=""/>
          <p:cNvPicPr/>
          <p:nvPr/>
        </p:nvPicPr>
        <p:blipFill>
          <a:blip r:embed="rId9"/>
          <a:stretch/>
        </p:blipFill>
        <p:spPr>
          <a:xfrm>
            <a:off x="125892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844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0"/>
          <p:cNvSpPr/>
          <p:nvPr/>
        </p:nvSpPr>
        <p:spPr>
          <a:xfrm>
            <a:off x="380880" y="380880"/>
            <a:ext cx="838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a zakládající se podzemně na rhizoidálním myceliu, během vývinu prorážející na povr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má přídatnou struktu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a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ceptak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úlohu nosiče, který dozrávající teřich vynese na povrch (tlakem rostoucího receptakula praská peridie původně kryjící plodnic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u zralého teřichu se vytvoří mazlavá páchnou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mota, lákající mouchy aj, hmyz, který pak roznáší 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ůdní saprofyté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dovka)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jsou schizothecia kry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vrstevnou okrovk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xoperidie záhy prask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vězdicovitě se rozestupuje a obnažuje teřich krytý tenk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peridií (ta pras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zralos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les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nelesních stanovišt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astru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vězd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1" descr="HOU382A_phallus_hadovka"/>
          <p:cNvPicPr/>
          <p:nvPr/>
        </p:nvPicPr>
        <p:blipFill>
          <a:blip r:embed="rId1"/>
          <a:stretch/>
        </p:blipFill>
        <p:spPr>
          <a:xfrm>
            <a:off x="6748560" y="2293920"/>
            <a:ext cx="187776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geastrum-fimbriatum_jan-gaisler"/>
          <p:cNvPicPr/>
          <p:nvPr/>
        </p:nvPicPr>
        <p:blipFill>
          <a:blip r:embed="rId2"/>
          <a:stretch/>
        </p:blipFill>
        <p:spPr>
          <a:xfrm>
            <a:off x="3048120" y="3695760"/>
            <a:ext cx="3619440" cy="2711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3"/>
          <p:cNvSpPr/>
          <p:nvPr/>
        </p:nvSpPr>
        <p:spPr>
          <a:xfrm>
            <a:off x="380880" y="5103720"/>
            <a:ext cx="2667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vězdovka br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eastrum fimbri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n Gaisle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Geastrum-fimbri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Hviezdovka-strapkata/Hvezdovka-brvita/ID15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pravo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651720" y="1760400"/>
            <a:ext cx="2057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adovka smrd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llus impudic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7b_basid_12_phallales-geastrales.MP3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58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380880" y="3808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omph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até houby s kyj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ariadelp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yj) nebo keříčk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am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uřátka) holothec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základě molekulárních analý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uz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OU064A_clavariadelphus_kyj"/>
          <p:cNvPicPr/>
          <p:nvPr/>
        </p:nvPicPr>
        <p:blipFill>
          <a:blip r:embed="rId1"/>
          <a:stretch/>
        </p:blipFill>
        <p:spPr>
          <a:xfrm>
            <a:off x="3990960" y="1371600"/>
            <a:ext cx="2943360" cy="28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ramaria-botrytis_viliam-ridzon-2005"/>
          <p:cNvPicPr/>
          <p:nvPr/>
        </p:nvPicPr>
        <p:blipFill>
          <a:blip r:embed="rId2"/>
          <a:stretch/>
        </p:blipFill>
        <p:spPr>
          <a:xfrm>
            <a:off x="479520" y="13716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80880" y="419112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uřátka květák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amaria 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iliam Ridzoň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Ramaria-botrytis/Strapacka-koralovita/Kuratka-kvetakova/ID63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86200" y="4191120"/>
            <a:ext cx="3657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yj Herkulův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ariadelphus pistill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7b_basid_13_gomphales.MP3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4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5" descr="s_imbric_preulozeny"/>
          <p:cNvPicPr/>
          <p:nvPr/>
        </p:nvPicPr>
        <p:blipFill>
          <a:blip r:embed="rId1"/>
          <a:stretch/>
        </p:blipFill>
        <p:spPr>
          <a:xfrm>
            <a:off x="3124080" y="2895480"/>
            <a:ext cx="4896000" cy="3676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0"/>
          <p:cNvSpPr/>
          <p:nvPr/>
        </p:nvSpPr>
        <p:spPr>
          <a:xfrm>
            <a:off x="380880" y="380880"/>
            <a:ext cx="83822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cha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krustothecia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hymenofor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zácněji lamelovitý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dkým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i vážní parazité dřevin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ell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hň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notus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ezavec)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zemní kloboukaté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dkým nebo ostn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ebo mykorhizní houb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esňá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rco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o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inonotus-radiatus_standa-jirasek"/>
          <p:cNvPicPr/>
          <p:nvPr/>
        </p:nvPicPr>
        <p:blipFill>
          <a:blip r:embed="rId2"/>
          <a:stretch/>
        </p:blipFill>
        <p:spPr>
          <a:xfrm>
            <a:off x="482760" y="3048120"/>
            <a:ext cx="232236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6172200" y="2031840"/>
            <a:ext cx="259092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ezavec leskn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notus radiatus, Hymenochaet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Inonotus-radi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ysavec-lucovy/Rezavec-lesknavy/ID602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lošák jelen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rcodon imbricatus, Theleph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Dvořák, P. Hroud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ežaté houby / lošáky a korálovce, Brno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7b_basid_14_hymenochaetales-thelephorales.MP3" descr=""/>
          <p:cNvPicPr/>
          <p:nvPr/>
        </p:nvPicPr>
        <p:blipFill>
          <a:blip r:embed="rId5"/>
          <a:stretch/>
        </p:blipFill>
        <p:spPr>
          <a:xfrm>
            <a:off x="313200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7b_basid_14_losaky-indikatory.MP3" descr=""/>
          <p:cNvPicPr/>
          <p:nvPr/>
        </p:nvPicPr>
        <p:blipFill>
          <a:blip r:embed="rId6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492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8486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380880" y="380880"/>
            <a:ext cx="556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hrnuje houby la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choroše"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a druhů tvoří gymnokarpní kru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cia, obvykle bokem přirostlá a často více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nebo lamel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nebo fakultativní (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) paraz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čtí zástupci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itop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í troudnatec, kopyt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eda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ťkovec, protažené až lamelovité póry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n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eskloko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m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utkov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druhy jsou v mládí jed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eti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r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květákovité" plodni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aras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otr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outkovka-pestra_juraj-komar"/>
          <p:cNvPicPr/>
          <p:nvPr/>
        </p:nvPicPr>
        <p:blipFill>
          <a:blip r:embed="rId1"/>
          <a:stretch/>
        </p:blipFill>
        <p:spPr>
          <a:xfrm>
            <a:off x="5943600" y="457200"/>
            <a:ext cx="274320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3843360" y="4114800"/>
            <a:ext cx="4919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trč kadeřav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arass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isp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. Baier: Houb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outkovka pestr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ametes versicol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uraj Komá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Trametes-versicolor/Trudnikovec-pestry/Outkovka-pestra/ID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írovec žlutooranž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etiporus sulphur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loník :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sírovec_zlutooranzový_sloník"/>
          <p:cNvPicPr/>
          <p:nvPr/>
        </p:nvPicPr>
        <p:blipFill>
          <a:blip r:embed="rId3"/>
          <a:srcRect l="3799" t="0" r="0" b="0"/>
          <a:stretch/>
        </p:blipFill>
        <p:spPr>
          <a:xfrm>
            <a:off x="5334120" y="2590920"/>
            <a:ext cx="3352680" cy="261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OU067A_sparassis_kotrc"/>
          <p:cNvPicPr/>
          <p:nvPr/>
        </p:nvPicPr>
        <p:blipFill>
          <a:blip r:embed="rId4"/>
          <a:stretch/>
        </p:blipFill>
        <p:spPr>
          <a:xfrm>
            <a:off x="479520" y="4098960"/>
            <a:ext cx="3352680" cy="2259000"/>
          </a:xfrm>
          <a:prstGeom prst="rect">
            <a:avLst/>
          </a:prstGeom>
          <a:ln w="0">
            <a:noFill/>
          </a:ln>
        </p:spPr>
      </p:pic>
      <p:pic>
        <p:nvPicPr>
          <p:cNvPr id="123" name="7b_basid_15_trametes-laetiporus.MP3" descr=""/>
          <p:cNvPicPr/>
          <p:nvPr/>
        </p:nvPicPr>
        <p:blipFill>
          <a:blip r:embed="rId5"/>
          <a:stretch/>
        </p:blipFill>
        <p:spPr>
          <a:xfrm>
            <a:off x="550872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7b_basid_15_sparassis.MP3" descr=""/>
          <p:cNvPicPr/>
          <p:nvPr/>
        </p:nvPicPr>
        <p:blipFill>
          <a:blip r:embed="rId6"/>
          <a:stretch/>
        </p:blipFill>
        <p:spPr>
          <a:xfrm>
            <a:off x="38512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0345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7872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8"/>
          <p:cNvSpPr/>
          <p:nvPr/>
        </p:nvSpPr>
        <p:spPr>
          <a:xfrm>
            <a:off x="380880" y="380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astn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choroš) - houby s dobře odlišeným třeněm a kloboukem a pór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t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uževnatec) s lupenitým hymenoforem (vznik paralelně s lupeny hub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íklad evoluční konvergenc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výše uvedených zahrnuje i dřevní saprofyty nebo fakultativní parazity tvořící rozlité plodnice s hymeniem na povrchu; hymenofor hladk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em je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nerochae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natec), případně ostny nebo pó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9" descr="polyporus brumalis_jan-suvada-2005"/>
          <p:cNvPicPr/>
          <p:nvPr/>
        </p:nvPicPr>
        <p:blipFill>
          <a:blip r:embed="rId1"/>
          <a:srcRect l="9946" t="0" r="4973" b="0"/>
          <a:stretch/>
        </p:blipFill>
        <p:spPr>
          <a:xfrm>
            <a:off x="457200" y="2514600"/>
            <a:ext cx="2886120" cy="23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0"/>
          <p:cNvSpPr/>
          <p:nvPr/>
        </p:nvSpPr>
        <p:spPr>
          <a:xfrm>
            <a:off x="380880" y="4952880"/>
            <a:ext cx="21337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oroš zim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lyporus brumal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olyporus-brumalis/Trudnik-zim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Choros-poloplastvovy/ID182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2" descr="phanerochaete-sanguinea_oldrich-roucka-2006"/>
          <p:cNvPicPr/>
          <p:nvPr/>
        </p:nvPicPr>
        <p:blipFill>
          <a:blip r:embed="rId5"/>
          <a:stretch/>
        </p:blipFill>
        <p:spPr>
          <a:xfrm>
            <a:off x="5334120" y="251460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lentinis-tigrinus_jiri-polcak"/>
          <p:cNvPicPr/>
          <p:nvPr/>
        </p:nvPicPr>
        <p:blipFill>
          <a:blip r:embed="rId6"/>
          <a:srcRect l="0" t="13246" r="0" b="0"/>
          <a:stretch/>
        </p:blipFill>
        <p:spPr>
          <a:xfrm>
            <a:off x="2438280" y="4038480"/>
            <a:ext cx="3657600" cy="23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0" name="Text Box 33"/>
          <p:cNvSpPr/>
          <p:nvPr/>
        </p:nvSpPr>
        <p:spPr>
          <a:xfrm>
            <a:off x="3429000" y="2543040"/>
            <a:ext cx="17524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uževnatec tygrov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ntinus tigri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Lentinus-tigrinus/Huzevnatec-tigrovany/Houzevnatec-tygro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ID15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6172200" y="4952880"/>
            <a:ext cx="259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natec krv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nerochaete sanguin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ldřich Roučk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nahuby.sk/atlas-hub/Phanerochaete-sanguinea/Kornatec-krvavy/Kornatec-krvavy/ID177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7b_basid_16_phanerochaete.MP3" descr=""/>
          <p:cNvPicPr/>
          <p:nvPr/>
        </p:nvPicPr>
        <p:blipFill>
          <a:blip r:embed="rId11"/>
          <a:stretch/>
        </p:blipFill>
        <p:spPr>
          <a:xfrm>
            <a:off x="4932360" y="249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7b_basid_16_polyporus.MP3" descr=""/>
          <p:cNvPicPr/>
          <p:nvPr/>
        </p:nvPicPr>
        <p:blipFill>
          <a:blip r:embed="rId12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7b_basid_16_lentinus.MP3" descr=""/>
          <p:cNvPicPr/>
          <p:nvPr/>
        </p:nvPicPr>
        <p:blipFill>
          <a:blip r:embed="rId13"/>
          <a:stretch/>
        </p:blipFill>
        <p:spPr>
          <a:xfrm>
            <a:off x="622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152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421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78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očetnější řád, gymnokarpní nebo hemiangiokarpní pilothecia (u různých druhů různá tvorba velum partiale nebo velum universale), hymenofor u naprosté většiny zástupců lupenit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ří sem řada rodů obsahujících vyhledávané jedl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crolepi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dl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ampion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mil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áclavka), některé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, Lep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y)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jně významné jsou ale i jedovaté houby z rod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ávojenk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láknice) neb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ortin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e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HOU226A_amanita_virosa_muchomurka_jizliva"/>
          <p:cNvPicPr/>
          <p:nvPr/>
        </p:nvPicPr>
        <p:blipFill>
          <a:blip r:embed="rId1"/>
          <a:stretch/>
        </p:blipFill>
        <p:spPr>
          <a:xfrm>
            <a:off x="457200" y="3733920"/>
            <a:ext cx="20988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entoloma-sinuatum_ladislav-tabi"/>
          <p:cNvPicPr/>
          <p:nvPr/>
        </p:nvPicPr>
        <p:blipFill>
          <a:blip r:embed="rId2"/>
          <a:srcRect l="0" t="9001" r="0" b="0"/>
          <a:stretch/>
        </p:blipFill>
        <p:spPr>
          <a:xfrm>
            <a:off x="2590920" y="3733920"/>
            <a:ext cx="209376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2525760" y="572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adislav Tábi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atlas-hub/Entoloma-sinu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Hodvabnica-velka/Zavojenka-olovova/ID11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inocybe-erubescens_jaroslav-maly"/>
          <p:cNvPicPr/>
          <p:nvPr/>
        </p:nvPicPr>
        <p:blipFill>
          <a:blip r:embed="rId3"/>
          <a:stretch/>
        </p:blipFill>
        <p:spPr>
          <a:xfrm>
            <a:off x="5867280" y="2076480"/>
            <a:ext cx="2819520" cy="2117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 rot="5400000">
            <a:off x="4982400" y="2832840"/>
            <a:ext cx="22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Jaroslav Malý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Inocybe-erubescens/Vlaknica-Patouillardo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Vlaknice-zacervenala--Patouillardova-/ID79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cortinarius-orellanus_vladimir-zita-2004"/>
          <p:cNvPicPr/>
          <p:nvPr/>
        </p:nvPicPr>
        <p:blipFill>
          <a:blip r:embed="rId4"/>
          <a:stretch/>
        </p:blipFill>
        <p:spPr>
          <a:xfrm>
            <a:off x="5410080" y="42163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2"/>
          <p:cNvSpPr/>
          <p:nvPr/>
        </p:nvSpPr>
        <p:spPr>
          <a:xfrm>
            <a:off x="380880" y="2971800"/>
            <a:ext cx="5639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muchomůrka jízli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mani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irosa), závojenka olov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toloma sinu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nahoře vláknice načervenal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cybe erubesce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dole pavučinec plyš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rtinarius orella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92040" y="60958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á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 rot="5400000">
            <a:off x="3898440" y="4951080"/>
            <a:ext cx="258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ladimír Zít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Cortinarius-orella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Pavucinovec-plysovy/Pavucinec-plysovy/ID37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7b_basid_17_agaricales-jedovate.MP3" descr=""/>
          <p:cNvPicPr/>
          <p:nvPr/>
        </p:nvPicPr>
        <p:blipFill>
          <a:blip r:embed="rId7"/>
          <a:stretch/>
        </p:blipFill>
        <p:spPr>
          <a:xfrm>
            <a:off x="543564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9048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0"/>
          <p:cNvSpPr/>
          <p:nvPr/>
        </p:nvSpPr>
        <p:spPr>
          <a:xfrm>
            <a:off x="380880" y="4724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ovité) - vedle smrtelně jedovatých hub i dobré jedlé druhy (růžovka = masák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ávojenkovité) - i zde jsou vedle jedovatých druhů i dobré jedlé (např. podtrnka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rtin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covité) - nejrozsáhlejší a na určování nejobtížnější skupina, řada jedovatých druhů, stejně jako v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láknicov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čeledi: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ca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vité) - sem patří pečárky (žampiony) a bedl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athyrell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řehutkovité) - sem patří většina hnojníků, jejichž spory se uvolňují díky autolýze plodnic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ovité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irů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rmě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širšího okruhu pat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špičky, helmovky, václavky, šťavnat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nes v rámci jiných menších čel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HOU241A_agaricus_pecarka"/>
          <p:cNvPicPr/>
          <p:nvPr/>
        </p:nvPicPr>
        <p:blipFill>
          <a:blip r:embed="rId1"/>
          <a:stretch/>
        </p:blipFill>
        <p:spPr>
          <a:xfrm>
            <a:off x="479520" y="2144880"/>
            <a:ext cx="2144520" cy="203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coprinopsis-atramentaria_erik-brozmann"/>
          <p:cNvPicPr/>
          <p:nvPr/>
        </p:nvPicPr>
        <p:blipFill>
          <a:blip r:embed="rId2"/>
          <a:stretch/>
        </p:blipFill>
        <p:spPr>
          <a:xfrm>
            <a:off x="2689200" y="2144880"/>
            <a:ext cx="2895480" cy="2036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380880" y="414828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čárka pol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garic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mpest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hnojník inkoust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prinopsis atrament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irůvka fial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ista nud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9" descr="lepista-nuda_jiri-polcak-2006"/>
          <p:cNvPicPr/>
          <p:nvPr/>
        </p:nvPicPr>
        <p:blipFill>
          <a:blip r:embed="rId3"/>
          <a:stretch/>
        </p:blipFill>
        <p:spPr>
          <a:xfrm>
            <a:off x="5661000" y="2144880"/>
            <a:ext cx="2709720" cy="2035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1"/>
          <p:cNvSpPr/>
          <p:nvPr/>
        </p:nvSpPr>
        <p:spPr>
          <a:xfrm>
            <a:off x="457200" y="412596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Erik Brozman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Coprinopsis-atramentaria/Hnojnik-atramentovy/Hnojnik-inkoustovy/ID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Lepista-nuda/Povabnica-fialova/Ciruvka-fialova/ID50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07880" y="399888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Houby, Aventinum, Praha,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7b_basid_18_agaricus-lepista-coprinopsis.MP3" descr=""/>
          <p:cNvPicPr/>
          <p:nvPr/>
        </p:nvPicPr>
        <p:blipFill>
          <a:blip r:embed="rId6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5590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0"/>
          <p:cNvSpPr/>
          <p:nvPr/>
        </p:nvSpPr>
        <p:spPr>
          <a:xfrm>
            <a:off x="380880" y="380880"/>
            <a:ext cx="838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podzemní nebo pozemní schizothe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zy se rozpadá exoperidie, endoperidie se otvírá až za zralosti pórem nebo praská, někdy spodní část plodnice zůstává sterilní (tzv. sub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 jsou většinou saprofyté na nelesních stanovištích, vzácněji rostou i na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per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ýcha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v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vk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em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thecia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lá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t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epifragmo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v dospělosti nálevkovité, epifragma praská a obnažuje na dně "nálevek" teřich, jenž se mezitím rozpadl na několik tělísek - peridiol (pecič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á peridiola obsahuje jednu komůrku teřichu (nedochází k tvorbě kapilicia), je přichycena ke stěně (= peridie) vláknitým poutkem (funikulus) =&gt; za deště nacucání =&gt; vymrštění peridioly a její uchycení někde ven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půdě nebo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at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íšen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rucib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ár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1" descr="26_uvolnovani_spor_lycoperdon"/>
          <p:cNvPicPr/>
          <p:nvPr/>
        </p:nvPicPr>
        <p:blipFill>
          <a:blip r:embed="rId1"/>
          <a:srcRect l="1692" t="7098" r="0" b="3549"/>
          <a:stretch/>
        </p:blipFill>
        <p:spPr>
          <a:xfrm>
            <a:off x="3925800" y="4114800"/>
            <a:ext cx="2094120" cy="226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HOU406A_crucibulum_poharovka"/>
          <p:cNvPicPr/>
          <p:nvPr/>
        </p:nvPicPr>
        <p:blipFill>
          <a:blip r:embed="rId2"/>
          <a:srcRect l="6757" t="0" r="6757" b="0"/>
          <a:stretch/>
        </p:blipFill>
        <p:spPr>
          <a:xfrm>
            <a:off x="6081840" y="4114800"/>
            <a:ext cx="26049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HOU380A_endoptychum_strechan"/>
          <p:cNvPicPr/>
          <p:nvPr/>
        </p:nvPicPr>
        <p:blipFill>
          <a:blip r:embed="rId3"/>
          <a:stretch/>
        </p:blipFill>
        <p:spPr>
          <a:xfrm>
            <a:off x="457200" y="4114800"/>
            <a:ext cx="1465200" cy="2271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4"/>
          <p:cNvSpPr/>
          <p:nvPr/>
        </p:nvSpPr>
        <p:spPr>
          <a:xfrm>
            <a:off x="1947960" y="4038480"/>
            <a:ext cx="198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třechan bedlovi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hloro-phyllum agaric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– přechodný typ mezi rouškatou houbou a břichatkou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pýc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perdo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 a pohárov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ucibulum laev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355680" y="6095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222960" y="40831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ín, J. Baier: Houby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 rot="5400000">
            <a:off x="4625280" y="51382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7b_basid_19_agarikoidni-brichatky.MP3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08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genní skupina, považovaná v současné době za vývojově nejodvozenějš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vždy hyfou, nevytvářejí se kvasinkovité útvary (v přiroze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vždy somatogamií (hyfogamií), u většiny zástupců (jsou výjimky) se tvoří přezky a dolipory s perforovaným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ednobuněčné, téměř vždy se tvoří plodnice (výjimkou je pár drobných řádů, ze zde zmíněných je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jimečně dochází k tvorbě konidií (anamorfního stadia), a to vždy na dikaryotickém myceliu, případně na plodnicích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oznámka: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e systémem této skupiny zřejmě víc než u kterékoli jiné "zamával" nástup molekulární taxonomie; je dost možné, že (až opadne prvotní nadšení "sekvence nade vše") se ukáže, že zařazení některých taxonů (přesuny mezi řády) je potřeba brát s rezervou :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808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emiang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ytvořeno velum partiale) nebo gymnokarpní pilothecia s hymenoforem rourkatým, vzácněji lupenitým (snadno se odděluje od dužniny klobouk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zní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větším rodem j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řib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louze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eroco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uchohřib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cin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ozák); z lupenitých mají význa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mphid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izák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x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chrat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xerocomus-badius_yvona-janotova"/>
          <p:cNvPicPr/>
          <p:nvPr/>
        </p:nvPicPr>
        <p:blipFill>
          <a:blip r:embed="rId1"/>
          <a:stretch/>
        </p:blipFill>
        <p:spPr>
          <a:xfrm>
            <a:off x="466560" y="3954600"/>
            <a:ext cx="3189600" cy="2393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380880" y="2678040"/>
            <a:ext cx="5715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hřib hněd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letus bad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klouzek modřín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uill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reville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lizá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zla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mphidi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lutinos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echratka podvin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xillus involut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Boletus-badius/Suchohrib-hnedy/Suchohrib-hnedy/ID6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van Bela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Suillus-grevillei/Masliak-smrekovcovy/Klouzek-slicny/ID276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ol Kešeľ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Gomphidius-glutinosus/Sliziak-mazlavy/Slizak-mazlavy/ID60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ndrej Líšk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Paxillus-involutus/Cechracka-podvinuta/Cechratka-podvinuta/ID2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suillus-grevillei_ivan-belay"/>
          <p:cNvPicPr/>
          <p:nvPr/>
        </p:nvPicPr>
        <p:blipFill>
          <a:blip r:embed="rId6"/>
          <a:srcRect l="0" t="19685" r="0" b="0"/>
          <a:stretch/>
        </p:blipFill>
        <p:spPr>
          <a:xfrm>
            <a:off x="3747960" y="3951360"/>
            <a:ext cx="2238480" cy="239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gomphidius-glutinosus_pavol-keselak"/>
          <p:cNvPicPr/>
          <p:nvPr/>
        </p:nvPicPr>
        <p:blipFill>
          <a:blip r:embed="rId7"/>
          <a:stretch/>
        </p:blipFill>
        <p:spPr>
          <a:xfrm>
            <a:off x="6095880" y="457200"/>
            <a:ext cx="2552760" cy="340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paxillus-involutus_ondrej-liska-2005"/>
          <p:cNvPicPr/>
          <p:nvPr/>
        </p:nvPicPr>
        <p:blipFill>
          <a:blip r:embed="rId8"/>
          <a:stretch/>
        </p:blipFill>
        <p:spPr>
          <a:xfrm>
            <a:off x="6095880" y="3938760"/>
            <a:ext cx="2556000" cy="2396880"/>
          </a:xfrm>
          <a:prstGeom prst="rect">
            <a:avLst/>
          </a:prstGeom>
          <a:ln w="0">
            <a:noFill/>
          </a:ln>
        </p:spPr>
      </p:pic>
      <p:pic>
        <p:nvPicPr>
          <p:cNvPr id="170" name="7b_basid_20_boletales.MP3" descr=""/>
          <p:cNvPicPr/>
          <p:nvPr/>
        </p:nvPicPr>
        <p:blipFill>
          <a:blip r:embed="rId9"/>
          <a:stretch/>
        </p:blipFill>
        <p:spPr>
          <a:xfrm>
            <a:off x="5724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52566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6"/>
          <p:cNvSpPr/>
          <p:nvPr/>
        </p:nvSpPr>
        <p:spPr>
          <a:xfrm>
            <a:off x="380880" y="380880"/>
            <a:ext cx="5105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na rhizoidálním myceliu pozemní nebo čá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 podzemní plektothecia s tuhou peri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leď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tacea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v lesích i mimo ně, některé druhy mykorhizní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estř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řiby je příbuzná i resupinátní rouškatá houba neblaze proslulá v budovách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rpula lacry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evomorka domá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HOU384A_scleroderma_pestrec"/>
          <p:cNvPicPr/>
          <p:nvPr/>
        </p:nvPicPr>
        <p:blipFill>
          <a:blip r:embed="rId1"/>
          <a:stretch/>
        </p:blipFill>
        <p:spPr>
          <a:xfrm>
            <a:off x="5562720" y="457200"/>
            <a:ext cx="3100320" cy="23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serpula-lacrymans_pavel-bruzek"/>
          <p:cNvPicPr/>
          <p:nvPr/>
        </p:nvPicPr>
        <p:blipFill>
          <a:blip r:embed="rId2">
            <a:lum bright="10000"/>
          </a:blip>
          <a:srcRect l="0" t="22378" r="0" b="0"/>
          <a:stretch/>
        </p:blipFill>
        <p:spPr>
          <a:xfrm>
            <a:off x="4572000" y="2895480"/>
            <a:ext cx="4087800" cy="2116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9"/>
          <p:cNvSpPr/>
          <p:nvPr/>
        </p:nvSpPr>
        <p:spPr>
          <a:xfrm>
            <a:off x="380880" y="3137040"/>
            <a:ext cx="419112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pestřec obec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derma citrin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dřevomorka domác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erpula lacry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Brůžek, http://www.nahuby.sk/atlas-hub/Serpula-lacrymans/Drevokaz-slzivy/Drevomorka-domaci/ID6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7b_basid_21_scleroderma.MP3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7b_basid_21_serpula.MP3" descr=""/>
          <p:cNvPicPr/>
          <p:nvPr/>
        </p:nvPicPr>
        <p:blipFill>
          <a:blip r:embed="rId4"/>
          <a:stretch/>
        </p:blipFill>
        <p:spPr>
          <a:xfrm>
            <a:off x="4140360" y="422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9935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3166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80880" y="3808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ilothecia gymnokarpní (vzácně s vyvinutým vele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znakem řádu je přítomnost sférocyst (správnější je výraz sférocyty) - kulovitých buněk, vzniklých přeměnou buněk hyf (hyfy zde netvoří přezky); dužnina je pak křehká, lámav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tické druhy, u nás zástupci dvou velkých rodů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lubinka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ct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ryzec), jenž je kromě sférocyst charakteristický ještě roněním mléčné tekutiny při poranění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a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mléčnic v pletivu –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ubinek jsou také vytvořeny, ale bez obsaženého "mléka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russula-emetica_bozena-kuzmova-2004"/>
          <p:cNvPicPr/>
          <p:nvPr/>
        </p:nvPicPr>
        <p:blipFill>
          <a:blip r:embed="rId1"/>
          <a:stretch/>
        </p:blipFill>
        <p:spPr>
          <a:xfrm>
            <a:off x="2895480" y="2743200"/>
            <a:ext cx="3810240" cy="2406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80880" y="5867280"/>
            <a:ext cx="594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yzec ryš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ctarius ruf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lan Zajac, http://www.nahuby.sk/atlas-hub/Lactarius-rufus/Rydzik-rysavy/Ryzec-rysavy/ID58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lactarius-rufus_milan-zajac"/>
          <p:cNvPicPr/>
          <p:nvPr/>
        </p:nvPicPr>
        <p:blipFill>
          <a:blip r:embed="rId2"/>
          <a:stretch/>
        </p:blipFill>
        <p:spPr>
          <a:xfrm>
            <a:off x="479520" y="2743200"/>
            <a:ext cx="2325600" cy="310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2797200" y="5181480"/>
            <a:ext cx="5943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lubinka vr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ussula emet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ožena Kuzmová, http://www.nahuby.sk/atlas-hub/Russula-emetica/Plavka-skodliva/Holubinka-vrhavka/ID4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7b_basid_22_russula-lactarius.MP3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667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5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i některé "choroše"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basidi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řenovník, "metla" smrkových kultur), houby s plodnicí resupinátn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e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evník), keříčkovito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r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rálovec) nebo kloboukatou s ostnitým hymenofore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scalp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lžičk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6" descr="HOU070AB_auriscalpium_lzickovec+dentipellis_ostnatecek"/>
          <p:cNvPicPr/>
          <p:nvPr/>
        </p:nvPicPr>
        <p:blipFill>
          <a:blip r:embed="rId1"/>
          <a:srcRect l="0" t="0" r="57526" b="0"/>
          <a:stretch/>
        </p:blipFill>
        <p:spPr>
          <a:xfrm>
            <a:off x="457200" y="1676520"/>
            <a:ext cx="2971800" cy="235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heterobasidion-annosum_lukas-faturik-2006"/>
          <p:cNvPicPr/>
          <p:nvPr/>
        </p:nvPicPr>
        <p:blipFill>
          <a:blip r:embed="rId2"/>
          <a:srcRect l="0" t="0" r="5376" b="0"/>
          <a:stretch/>
        </p:blipFill>
        <p:spPr>
          <a:xfrm>
            <a:off x="457200" y="4114800"/>
            <a:ext cx="2970360" cy="224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hericium-erinaceus_yvona-janotova"/>
          <p:cNvPicPr/>
          <p:nvPr/>
        </p:nvPicPr>
        <p:blipFill>
          <a:blip r:embed="rId3"/>
          <a:srcRect l="0" t="0" r="0" b="662"/>
          <a:stretch/>
        </p:blipFill>
        <p:spPr>
          <a:xfrm>
            <a:off x="3505320" y="1676520"/>
            <a:ext cx="316692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2" descr="stereum-hirsutum_standa-jirasek"/>
          <p:cNvPicPr/>
          <p:nvPr/>
        </p:nvPicPr>
        <p:blipFill>
          <a:blip r:embed="rId4"/>
          <a:stretch/>
        </p:blipFill>
        <p:spPr>
          <a:xfrm>
            <a:off x="3505320" y="4114800"/>
            <a:ext cx="3166920" cy="2241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6"/>
          <p:cNvSpPr/>
          <p:nvPr/>
        </p:nvSpPr>
        <p:spPr>
          <a:xfrm>
            <a:off x="6705720" y="1600200"/>
            <a:ext cx="213336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žičkovec šiš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uriscalpium vulgar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álovec jež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ricium erinac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ricium-erinaceus/Koralovec-jezo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Koralovec-jezaty/ID19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řenovník vrstevn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terobasidion annos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ukáš Faturí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terobasidion-annosum/Korenovka-vrstevnata/Korenovnik-vrstevnaty/ID20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vník chlup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reum hirsu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tereum-hirsutum/Pevnik-chlpa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evnik-chlupaty/ID4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b_basid_23_russulales-nelupenate.MP3" descr=""/>
          <p:cNvPicPr/>
          <p:nvPr/>
        </p:nvPicPr>
        <p:blipFill>
          <a:blip r:embed="rId5"/>
          <a:stretch/>
        </p:blipFill>
        <p:spPr>
          <a:xfrm>
            <a:off x="471636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3827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C:\user\Houba\Škola-obrázky\nizsi_rostliny\agaricomycotina\konechrou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5638680" y="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s díky za pozornost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na rozloučenou ... praktické využití boltcovitky mozkovité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: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38088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útvary nazý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bazidiokarpy, bazidi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k tomu poznámka: plodnice v užším smyslu tohoto slova by měly obsahovat pohlavní orgá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tohoto užšího pojetí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hub nejsou prav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dělení na typy hymeniální a gastrál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 pl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/obr. vlevo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charakterizovány přítomnost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uď pokrývá celý povrch plodnice, nebo jen specializovanou část povrchu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f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upeny, rourky, ostny, póry, lamely, i hladký hymenofor); v hymeniu se kromě bazidií tvoří sterilní buňky zakončující hyfy (cystid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plodnicí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vpravo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e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457200" y="3352680"/>
          <a:ext cx="541008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54100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94624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en.wikipedia.org/wiki/File:Basidium_schematic.sv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leba_icon"/>
          <p:cNvPicPr/>
          <p:nvPr/>
        </p:nvPicPr>
        <p:blipFill>
          <a:blip r:embed="rId4"/>
          <a:stretch/>
        </p:blipFill>
        <p:spPr>
          <a:xfrm>
            <a:off x="6095880" y="33782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71500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commons.wikimedia.org/wiki/File:Gleba_icon.pn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7b_basid_03_agaricomycotina-plodnice.MP3" descr=""/>
          <p:cNvPicPr/>
          <p:nvPr/>
        </p:nvPicPr>
        <p:blipFill>
          <a:blip r:embed="rId6"/>
          <a:stretch/>
        </p:blipFill>
        <p:spPr>
          <a:xfrm>
            <a:off x="558000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3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380880"/>
            <a:ext cx="51055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ch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zlitá, kyjovitá, keříčkovitá, hymenium pokrývá celý povrch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i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jedno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rázovým vývojem, diferencovaná na klobouk a třeň, hymenofor pokrývá spodní část klobouk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lodnic tohoto typu se vytvá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chetky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lum univers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celou plodnici, z nějž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trhání zbývá pochva na b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eně nebo strupy na vrcho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obouku,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um parti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mladý hymenofor, jeho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ůstatkem je pak prsten nebo pavučinka na třeni anebo cáry na okraji klobo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ust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s postupným vývojem (přirůstající), jedno- nebo víceletá, může a nemusí být členěna na klobouk a třeň, hymenofor pokrývá spodní část klobouku (nebo nerozlišené plod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HOU069A"/>
          <p:cNvPicPr/>
          <p:nvPr/>
        </p:nvPicPr>
        <p:blipFill>
          <a:blip r:embed="rId1"/>
          <a:stretch/>
        </p:blipFill>
        <p:spPr>
          <a:xfrm>
            <a:off x="5562720" y="388800"/>
            <a:ext cx="3047760" cy="182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OU114A"/>
          <p:cNvPicPr/>
          <p:nvPr/>
        </p:nvPicPr>
        <p:blipFill>
          <a:blip r:embed="rId2"/>
          <a:stretch/>
        </p:blipFill>
        <p:spPr>
          <a:xfrm>
            <a:off x="5562720" y="4264200"/>
            <a:ext cx="3047760" cy="174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OU222A"/>
          <p:cNvPicPr/>
          <p:nvPr/>
        </p:nvPicPr>
        <p:blipFill>
          <a:blip r:embed="rId3"/>
          <a:stretch/>
        </p:blipFill>
        <p:spPr>
          <a:xfrm>
            <a:off x="5562720" y="2293920"/>
            <a:ext cx="3047760" cy="188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OU299A"/>
          <p:cNvPicPr/>
          <p:nvPr/>
        </p:nvPicPr>
        <p:blipFill>
          <a:blip r:embed="rId4"/>
          <a:stretch/>
        </p:blipFill>
        <p:spPr>
          <a:xfrm>
            <a:off x="3773520" y="2293920"/>
            <a:ext cx="1773360" cy="1876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562720" y="600696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0880" y="617220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hora: kuřátka lososová, pavučinec šupinonohý (vlevo), muchomůrka císařka, hlinák červenajíc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7b_basid_04_typy-hymenialnich-plodnic.MP3" descr=""/>
          <p:cNvPicPr/>
          <p:nvPr/>
        </p:nvPicPr>
        <p:blipFill>
          <a:blip r:embed="rId5"/>
          <a:stretch/>
        </p:blipFill>
        <p:spPr>
          <a:xfrm>
            <a:off x="514836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528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(gastroidních)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šech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é)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ktothecium - plodnice s roztroušenými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lysothecium, schizothecium - uvnitř plodnice jsou dutiny vystlan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ulaiothecium - plodnice, do jejíhož nitra vrůstají lamely, pokryt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um - gleba je rozdělena větvenými lamelami a v době zralosti vynesena nahoru přídatným receptaku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brichatky_typy-plodnic"/>
          <p:cNvPicPr/>
          <p:nvPr/>
        </p:nvPicPr>
        <p:blipFill>
          <a:blip r:embed="rId1"/>
          <a:stretch/>
        </p:blipFill>
        <p:spPr>
          <a:xfrm>
            <a:off x="5207040" y="152280"/>
            <a:ext cx="347976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80880" y="3581280"/>
            <a:ext cx="4572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ěžné typy gastroidních plodnic =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řády v popiscích dle historického systém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T. Kalina et J. Váňa: Sinice, řasy, houby, mechorosty a podobné organismy v současné biologii, Karolinum, Praha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7b_basid_05_typy-gastralnich-plodnic.MP3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648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38088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á pletiva tvořící plodnice (prosenchym,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enchym) jsou utvářena hyfami trojího typu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m typem jsou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enkostěnné, větv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ované, dávají vznik bazidi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vozené typy jsou pak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elet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nevětvené, nepřehrádkova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št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azb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g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větvené, ne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, oproti skeletovým téměř nemají lume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o je 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generativní hyf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ž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y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 + skeletové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f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ligativní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ny tři typy hy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5994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Veselý, F. Kotlaba, Z. Pouzar: Přehled československých hub, Academia, Praha, 197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VKP032"/>
          <p:cNvPicPr/>
          <p:nvPr/>
        </p:nvPicPr>
        <p:blipFill>
          <a:blip r:embed="rId1"/>
          <a:srcRect l="663" t="0" r="663" b="1157"/>
          <a:stretch/>
        </p:blipFill>
        <p:spPr>
          <a:xfrm>
            <a:off x="4619520" y="457200"/>
            <a:ext cx="4056120" cy="5799240"/>
          </a:xfrm>
          <a:prstGeom prst="rect">
            <a:avLst/>
          </a:prstGeom>
          <a:ln w="0">
            <a:noFill/>
          </a:ln>
        </p:spPr>
      </p:pic>
      <p:pic>
        <p:nvPicPr>
          <p:cNvPr id="71" name="7b_basid_06_typy-hyf.MP3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700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380880"/>
            <a:ext cx="838224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REMELL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rozdělenou bazidií (fragmobazidií) a/nebo tvorbou kvasinkovitých stadií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y tvořící plodnice rosolovité konzistence, na jejich povrchu hymenium s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=&gt; sekundární mycelium s přezkami, dolipory s parentosom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asně vymezený řád, dikaryotické mycelium s přezkami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lipory (ale bez parentosomu), holobazidie, tvorba kvasinkovitých sta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ella neoforman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 anamorf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ryptococcus neo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togen, původce vážné ne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tremella-mesenterica_peter-stefanovie-2007"/>
          <p:cNvPicPr/>
          <p:nvPr/>
        </p:nvPicPr>
        <p:blipFill>
          <a:blip r:embed="rId1"/>
          <a:stretch/>
        </p:blipFill>
        <p:spPr>
          <a:xfrm>
            <a:off x="5145120" y="2211480"/>
            <a:ext cx="3541680" cy="2360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hiasticka-fragmobazidie_tremella"/>
          <p:cNvPicPr/>
          <p:nvPr/>
        </p:nvPicPr>
        <p:blipFill>
          <a:blip r:embed="rId2"/>
          <a:stretch/>
        </p:blipFill>
        <p:spPr>
          <a:xfrm>
            <a:off x="3454560" y="2209680"/>
            <a:ext cx="173808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80880" y="2027160"/>
            <a:ext cx="312444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 i tvorba koni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příčně rozdělená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ouhými sterigmat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mi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dřevní saprofyté, druhotně parazi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6600" y="45720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Chiastická fragmobazidie rosolovky s dlouhými sterigmaty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Rosolov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.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Štefanovi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obrazok_detail.php?obrazok_id=5618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7b_basid_07_tremellales.MP3" descr=""/>
          <p:cNvPicPr/>
          <p:nvPr/>
        </p:nvPicPr>
        <p:blipFill>
          <a:blip r:embed="rId5"/>
          <a:stretch/>
        </p:blipFill>
        <p:spPr>
          <a:xfrm>
            <a:off x="3851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421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2"/>
          <p:cNvSpPr/>
          <p:nvPr/>
        </p:nvSpPr>
        <p:spPr>
          <a:xfrm>
            <a:off x="380880" y="380880"/>
            <a:ext cx="8382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RY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obvykle žluté nebo oranžové, rosolovité až tuh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saprofy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lka, bochánk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loc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rásnorůžek, keříčkovité 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3" descr="calocera-viscosa_ladislav-racko"/>
          <p:cNvPicPr/>
          <p:nvPr/>
        </p:nvPicPr>
        <p:blipFill>
          <a:blip r:embed="rId1"/>
          <a:stretch/>
        </p:blipFill>
        <p:spPr>
          <a:xfrm>
            <a:off x="3914640" y="3451320"/>
            <a:ext cx="3375000" cy="239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4"/>
          <p:cNvSpPr/>
          <p:nvPr/>
        </p:nvSpPr>
        <p:spPr>
          <a:xfrm>
            <a:off x="3809880" y="582444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ásnorůžek lepk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locera visco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Rack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locera-viscosa/Parozkovec-lepkavy/Krasnoruzek-lepkavy/ID32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dacrymyces_tomas-papousek-1995"/>
          <p:cNvPicPr/>
          <p:nvPr/>
        </p:nvPicPr>
        <p:blipFill>
          <a:blip r:embed="rId3"/>
          <a:stretch/>
        </p:blipFill>
        <p:spPr>
          <a:xfrm>
            <a:off x="479520" y="3451320"/>
            <a:ext cx="3328920" cy="239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6"/>
          <p:cNvSpPr/>
          <p:nvPr/>
        </p:nvSpPr>
        <p:spPr>
          <a:xfrm>
            <a:off x="380880" y="582444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opil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acrymyc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Tomáš Papouš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dacrymyces_tuning-fork-basidia"/>
          <p:cNvPicPr/>
          <p:nvPr/>
        </p:nvPicPr>
        <p:blipFill>
          <a:blip r:embed="rId4"/>
          <a:srcRect l="0" t="0" r="6562" b="0"/>
          <a:stretch/>
        </p:blipFill>
        <p:spPr>
          <a:xfrm>
            <a:off x="479520" y="1295280"/>
            <a:ext cx="1981080" cy="139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2514600" y="109872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rupavčit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 tvorba přezek a doliporů s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vytvářejí v hymeniu na povrchu plodnice,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kého 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bazidie rozvětvené ve dvě prosterigmata, nesoucí sterigmata se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 nebo konidi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7b_basid_08_dacrymycetales.MP3" descr=""/>
          <p:cNvPicPr/>
          <p:nvPr/>
        </p:nvPicPr>
        <p:blipFill>
          <a:blip r:embed="rId5"/>
          <a:stretch/>
        </p:blipFill>
        <p:spPr>
          <a:xfrm>
            <a:off x="341964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53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8"/>
          <p:cNvSpPr/>
          <p:nvPr/>
        </p:nvSpPr>
        <p:spPr>
          <a:xfrm>
            <a:off x="380880" y="380880"/>
            <a:ext cx="838224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GARIC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nerozdělenou bazidií (= holobazidií), netvoří kvasinkovitá stadia (neplatí absolutně, viz první řád)</a:t>
            </a:r>
            <a:br>
              <a:rPr sz="12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e vývoje plodnic rozlišuje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rouška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u nichž se bazidiospory tvoří na povrchu plodnice v povrchové vrstvě z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trusorod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ž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romě bazidií sterilní zakončení hyf: bazidioly, cystidy, hyfidie (vlákn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obdobou parafýz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hymenomycetoidního typu, spory až na výjimky aktivně odmršťovány (balist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 počátku otevřené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mi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očasně uzavřené 1 nebo 2 plachetkami - velum partiale, velum universale)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ým typem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řicha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í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e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ývoj plodnice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á až do dozrání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gastroidního ty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ospory pasivně uvolňovány (odlamují se ze sterigmat), roznášeny větrem, vodou, živočic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 plodnice uzavírá většinou dvouvrstev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rovka (peridi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amotný vnitřek plodnice pak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(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tvoří volně v celém teřichu nebo na hymeniu, které pokrývá povrch jeho vnitřních prostor (komůr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hem zrání se pletivo teřichu rozrušuje =&gt; shluky hyf tvořící kapili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uvolnění spor dojde po rozrušení peridie a obnažení teři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7b_basid_09_houby-rouskate-brichatky.MP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113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58:15Z</dcterms:modified>
  <cp:revision>230</cp:revision>
  <dc:subject/>
  <dc:title>Snímek 1</dc:title>
</cp:coreProperties>
</file>