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9054213"/>
        <c:axId val="70746922"/>
      </c:scatterChart>
      <c:valAx>
        <c:axId val="5905421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746922"/>
        <c:crosses val="autoZero"/>
        <c:crossBetween val="midCat"/>
        <c:majorUnit val="1"/>
      </c:valAx>
      <c:valAx>
        <c:axId val="70746922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05421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9582751"/>
        <c:axId val="8680763"/>
      </c:scatterChart>
      <c:valAx>
        <c:axId val="958275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80763"/>
        <c:crosses val="autoZero"/>
        <c:crossBetween val="midCat"/>
        <c:majorUnit val="1"/>
      </c:valAx>
      <c:valAx>
        <c:axId val="8680763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8275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51005532"/>
        <c:axId val="76682997"/>
      </c:scatterChart>
      <c:valAx>
        <c:axId val="51005532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6682997"/>
        <c:crosses val="autoZero"/>
        <c:crossBetween val="midCat"/>
        <c:majorUnit val="2"/>
        <c:minorUnit val="1"/>
      </c:valAx>
      <c:valAx>
        <c:axId val="76682997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1005532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0312143"/>
        <c:axId val="93637277"/>
      </c:scatterChart>
      <c:valAx>
        <c:axId val="4031214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637277"/>
        <c:crosses val="autoZero"/>
        <c:crossBetween val="midCat"/>
        <c:majorUnit val="2"/>
        <c:minorUnit val="0.05"/>
      </c:valAx>
      <c:valAx>
        <c:axId val="9363727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31214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65285544"/>
        <c:axId val="47741046"/>
      </c:scatterChart>
      <c:valAx>
        <c:axId val="6528554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741046"/>
        <c:crosses val="autoZero"/>
        <c:crossBetween val="midCat"/>
        <c:majorUnit val="2"/>
        <c:minorUnit val="0.05"/>
      </c:valAx>
      <c:valAx>
        <c:axId val="4774104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28554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5810804"/>
        <c:axId val="19222732"/>
      </c:scatterChart>
      <c:valAx>
        <c:axId val="3581080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9222732"/>
        <c:crosses val="autoZero"/>
        <c:crossBetween val="midCat"/>
        <c:majorUnit val="2"/>
        <c:minorUnit val="0.05"/>
      </c:valAx>
      <c:valAx>
        <c:axId val="1922273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81080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0966072"/>
        <c:axId val="41078108"/>
      </c:scatterChart>
      <c:valAx>
        <c:axId val="7096607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078108"/>
        <c:crosses val="autoZero"/>
        <c:crossBetween val="midCat"/>
        <c:majorUnit val="2"/>
      </c:valAx>
      <c:valAx>
        <c:axId val="4107810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96607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4264772"/>
        <c:axId val="324098"/>
      </c:scatterChart>
      <c:valAx>
        <c:axId val="1426477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4098"/>
        <c:crosses val="autoZero"/>
        <c:crossBetween val="midCat"/>
        <c:majorUnit val="2"/>
      </c:valAx>
      <c:valAx>
        <c:axId val="32409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26477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525626"/>
        <c:axId val="82566142"/>
      </c:scatterChart>
      <c:valAx>
        <c:axId val="452562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566142"/>
        <c:crosses val="autoZero"/>
        <c:crossBetween val="midCat"/>
        <c:majorUnit val="2"/>
        <c:minorUnit val="0.05"/>
      </c:valAx>
      <c:valAx>
        <c:axId val="8256614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2562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A365F6-2168-4D56-8787-F3F1270ED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773F5B-38E7-4026-8EE1-1DB3A33E20C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494887-A91A-431C-8DB9-9688B1D05B3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939699-14C1-4741-8EE3-DA8DFD8AA34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