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0062460"/>
        <c:axId val="5664120"/>
      </c:scatterChart>
      <c:valAx>
        <c:axId val="1006246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64120"/>
        <c:crosses val="autoZero"/>
        <c:crossBetween val="midCat"/>
        <c:majorUnit val="1"/>
      </c:valAx>
      <c:valAx>
        <c:axId val="5664120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006246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9805652"/>
        <c:axId val="22785699"/>
      </c:scatterChart>
      <c:valAx>
        <c:axId val="980565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785699"/>
        <c:crosses val="autoZero"/>
        <c:crossBetween val="midCat"/>
        <c:majorUnit val="1"/>
      </c:valAx>
      <c:valAx>
        <c:axId val="22785699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80565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68832289"/>
        <c:axId val="5162709"/>
      </c:scatterChart>
      <c:valAx>
        <c:axId val="68832289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162709"/>
        <c:crosses val="autoZero"/>
        <c:crossBetween val="midCat"/>
        <c:majorUnit val="2"/>
        <c:minorUnit val="1"/>
      </c:valAx>
      <c:valAx>
        <c:axId val="5162709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8832289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38066285"/>
        <c:axId val="38738325"/>
      </c:scatterChart>
      <c:valAx>
        <c:axId val="3806628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8738325"/>
        <c:crosses val="autoZero"/>
        <c:crossBetween val="midCat"/>
        <c:majorUnit val="2"/>
        <c:minorUnit val="0.05"/>
      </c:valAx>
      <c:valAx>
        <c:axId val="3873832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806628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61618707"/>
        <c:axId val="8781338"/>
      </c:scatterChart>
      <c:valAx>
        <c:axId val="6161870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81338"/>
        <c:crosses val="autoZero"/>
        <c:crossBetween val="midCat"/>
        <c:majorUnit val="2"/>
        <c:minorUnit val="0.05"/>
      </c:valAx>
      <c:valAx>
        <c:axId val="878133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161870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24247679"/>
        <c:axId val="1166891"/>
      </c:scatterChart>
      <c:valAx>
        <c:axId val="2424767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166891"/>
        <c:crosses val="autoZero"/>
        <c:crossBetween val="midCat"/>
        <c:majorUnit val="2"/>
        <c:minorUnit val="0.05"/>
      </c:valAx>
      <c:valAx>
        <c:axId val="116689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424767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1623147"/>
        <c:axId val="51909787"/>
      </c:scatterChart>
      <c:valAx>
        <c:axId val="6162314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909787"/>
        <c:crosses val="autoZero"/>
        <c:crossBetween val="midCat"/>
        <c:majorUnit val="2"/>
      </c:valAx>
      <c:valAx>
        <c:axId val="51909787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162314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2606949"/>
        <c:axId val="77331122"/>
      </c:scatterChart>
      <c:valAx>
        <c:axId val="2260694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7331122"/>
        <c:crosses val="autoZero"/>
        <c:crossBetween val="midCat"/>
        <c:majorUnit val="2"/>
      </c:valAx>
      <c:valAx>
        <c:axId val="77331122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606949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37792238"/>
        <c:axId val="11440909"/>
      </c:scatterChart>
      <c:valAx>
        <c:axId val="3779223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1440909"/>
        <c:crosses val="autoZero"/>
        <c:crossBetween val="midCat"/>
        <c:majorUnit val="2"/>
        <c:minorUnit val="0.05"/>
      </c:valAx>
      <c:valAx>
        <c:axId val="1144090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79223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9754E3-D6EB-4F2E-930C-B5909EBB0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70D4F0-2CE5-4519-A8C3-81796C210CA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8431EB-422A-4F2E-BA05-68E9887B8B0E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50C6A1-DE54-4FB0-8465-643B6CC3037B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