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678631"/>
        <c:axId val="89121554"/>
      </c:scatterChart>
      <c:valAx>
        <c:axId val="867863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121554"/>
        <c:crosses val="autoZero"/>
        <c:crossBetween val="midCat"/>
        <c:majorUnit val="1"/>
      </c:valAx>
      <c:valAx>
        <c:axId val="89121554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7863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4246174"/>
        <c:axId val="33047948"/>
      </c:scatterChart>
      <c:valAx>
        <c:axId val="4424617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047948"/>
        <c:crosses val="autoZero"/>
        <c:crossBetween val="midCat"/>
        <c:majorUnit val="1"/>
      </c:valAx>
      <c:valAx>
        <c:axId val="33047948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24617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22378877"/>
        <c:axId val="24410380"/>
      </c:scatterChart>
      <c:valAx>
        <c:axId val="2237887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4410380"/>
        <c:crosses val="autoZero"/>
        <c:crossBetween val="midCat"/>
        <c:majorUnit val="2"/>
        <c:minorUnit val="1"/>
      </c:valAx>
      <c:valAx>
        <c:axId val="24410380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237887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3540353"/>
        <c:axId val="32578958"/>
      </c:scatterChart>
      <c:valAx>
        <c:axId val="2354035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578958"/>
        <c:crosses val="autoZero"/>
        <c:crossBetween val="midCat"/>
        <c:majorUnit val="2"/>
        <c:minorUnit val="0.05"/>
      </c:valAx>
      <c:valAx>
        <c:axId val="3257895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54035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27381896"/>
        <c:axId val="7643980"/>
      </c:scatterChart>
      <c:valAx>
        <c:axId val="2738189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43980"/>
        <c:crosses val="autoZero"/>
        <c:crossBetween val="midCat"/>
        <c:majorUnit val="2"/>
        <c:minorUnit val="0.05"/>
      </c:valAx>
      <c:valAx>
        <c:axId val="764398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38189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5978284"/>
        <c:axId val="28583713"/>
      </c:scatterChart>
      <c:valAx>
        <c:axId val="5597828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583713"/>
        <c:crosses val="autoZero"/>
        <c:crossBetween val="midCat"/>
        <c:majorUnit val="2"/>
        <c:minorUnit val="0.05"/>
      </c:valAx>
      <c:valAx>
        <c:axId val="2858371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97828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4035014"/>
        <c:axId val="30735274"/>
      </c:scatterChart>
      <c:valAx>
        <c:axId val="8403501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735274"/>
        <c:crosses val="autoZero"/>
        <c:crossBetween val="midCat"/>
        <c:majorUnit val="2"/>
      </c:valAx>
      <c:valAx>
        <c:axId val="3073527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03501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0927351"/>
        <c:axId val="37471008"/>
      </c:scatterChart>
      <c:valAx>
        <c:axId val="8092735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471008"/>
        <c:crosses val="autoZero"/>
        <c:crossBetween val="midCat"/>
        <c:majorUnit val="2"/>
      </c:valAx>
      <c:valAx>
        <c:axId val="3747100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92735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77740675"/>
        <c:axId val="95404113"/>
      </c:scatterChart>
      <c:valAx>
        <c:axId val="7774067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404113"/>
        <c:crosses val="autoZero"/>
        <c:crossBetween val="midCat"/>
        <c:majorUnit val="2"/>
        <c:minorUnit val="0.05"/>
      </c:valAx>
      <c:valAx>
        <c:axId val="9540411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74067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CC7001-0508-4FBE-A660-0FD11C5C0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0ACC40-4D4C-4A59-AE74-C522FACB316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341350-D497-47CC-89A2-076E46698E6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642F20-0427-430E-88F7-B34087FE4F9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