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5018175"/>
        <c:axId val="79714590"/>
      </c:scatterChart>
      <c:valAx>
        <c:axId val="4501817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714590"/>
        <c:crosses val="autoZero"/>
        <c:crossBetween val="midCat"/>
        <c:majorUnit val="1"/>
      </c:valAx>
      <c:valAx>
        <c:axId val="7971459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01817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127440"/>
        <c:axId val="40862598"/>
      </c:scatterChart>
      <c:valAx>
        <c:axId val="512744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862598"/>
        <c:crosses val="autoZero"/>
        <c:crossBetween val="midCat"/>
        <c:majorUnit val="1"/>
      </c:valAx>
      <c:valAx>
        <c:axId val="4086259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2744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30218215"/>
        <c:axId val="15463213"/>
      </c:scatterChart>
      <c:valAx>
        <c:axId val="3021821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5463213"/>
        <c:crosses val="autoZero"/>
        <c:crossBetween val="midCat"/>
        <c:majorUnit val="2"/>
        <c:minorUnit val="1"/>
      </c:valAx>
      <c:valAx>
        <c:axId val="1546321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3021821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7660065"/>
        <c:axId val="73321312"/>
      </c:scatterChart>
      <c:valAx>
        <c:axId val="3766006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21312"/>
        <c:crosses val="autoZero"/>
        <c:crossBetween val="midCat"/>
        <c:majorUnit val="2"/>
        <c:minorUnit val="0.05"/>
      </c:valAx>
      <c:valAx>
        <c:axId val="7332131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766006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0766280"/>
        <c:axId val="34509497"/>
      </c:scatterChart>
      <c:valAx>
        <c:axId val="2076628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509497"/>
        <c:crosses val="autoZero"/>
        <c:crossBetween val="midCat"/>
        <c:majorUnit val="2"/>
        <c:minorUnit val="0.05"/>
      </c:valAx>
      <c:valAx>
        <c:axId val="3450949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76628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5378585"/>
        <c:axId val="36707114"/>
      </c:scatterChart>
      <c:valAx>
        <c:axId val="7537858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707114"/>
        <c:crosses val="autoZero"/>
        <c:crossBetween val="midCat"/>
        <c:majorUnit val="2"/>
        <c:minorUnit val="0.05"/>
      </c:valAx>
      <c:valAx>
        <c:axId val="3670711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37858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4828108"/>
        <c:axId val="51320227"/>
      </c:scatterChart>
      <c:valAx>
        <c:axId val="348281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320227"/>
        <c:crosses val="autoZero"/>
        <c:crossBetween val="midCat"/>
        <c:majorUnit val="2"/>
      </c:valAx>
      <c:valAx>
        <c:axId val="51320227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82810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0575859"/>
        <c:axId val="93867726"/>
      </c:scatterChart>
      <c:valAx>
        <c:axId val="3057585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3867726"/>
        <c:crosses val="autoZero"/>
        <c:crossBetween val="midCat"/>
        <c:majorUnit val="2"/>
      </c:valAx>
      <c:valAx>
        <c:axId val="9386772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575859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25714517"/>
        <c:axId val="70738357"/>
      </c:scatterChart>
      <c:valAx>
        <c:axId val="2571451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738357"/>
        <c:crosses val="autoZero"/>
        <c:crossBetween val="midCat"/>
        <c:majorUnit val="2"/>
        <c:minorUnit val="0.05"/>
      </c:valAx>
      <c:valAx>
        <c:axId val="7073835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571451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4A61B-3B91-4A31-9B1A-31839189B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8B1C99-0783-4F2B-AE91-50D5AF9CBC5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81C4B9-50D4-4653-8B0B-C2C8E94EEA7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63B453-5231-4AAB-ABF9-5C3AE3CEE88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