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0520881"/>
        <c:axId val="24856056"/>
      </c:scatterChart>
      <c:valAx>
        <c:axId val="3052088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856056"/>
        <c:crosses val="autoZero"/>
        <c:crossBetween val="midCat"/>
        <c:majorUnit val="1"/>
      </c:valAx>
      <c:valAx>
        <c:axId val="2485605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52088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3094680"/>
        <c:axId val="84526278"/>
      </c:scatterChart>
      <c:valAx>
        <c:axId val="4309468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526278"/>
        <c:crosses val="autoZero"/>
        <c:crossBetween val="midCat"/>
        <c:majorUnit val="1"/>
      </c:valAx>
      <c:valAx>
        <c:axId val="8452627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09468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6451403"/>
        <c:axId val="42853121"/>
      </c:scatterChart>
      <c:valAx>
        <c:axId val="76451403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2853121"/>
        <c:crosses val="autoZero"/>
        <c:crossBetween val="midCat"/>
        <c:majorUnit val="2"/>
        <c:minorUnit val="1"/>
      </c:valAx>
      <c:valAx>
        <c:axId val="42853121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6451403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69721274"/>
        <c:axId val="40899161"/>
      </c:scatterChart>
      <c:valAx>
        <c:axId val="6972127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899161"/>
        <c:crosses val="autoZero"/>
        <c:crossBetween val="midCat"/>
        <c:majorUnit val="2"/>
        <c:minorUnit val="0.05"/>
      </c:valAx>
      <c:valAx>
        <c:axId val="4089916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972127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8318689"/>
        <c:axId val="22979847"/>
      </c:scatterChart>
      <c:valAx>
        <c:axId val="3831868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979847"/>
        <c:crosses val="autoZero"/>
        <c:crossBetween val="midCat"/>
        <c:majorUnit val="2"/>
        <c:minorUnit val="0.05"/>
      </c:valAx>
      <c:valAx>
        <c:axId val="2297984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31868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26002480"/>
        <c:axId val="63433923"/>
      </c:scatterChart>
      <c:valAx>
        <c:axId val="2600248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433923"/>
        <c:crosses val="autoZero"/>
        <c:crossBetween val="midCat"/>
        <c:majorUnit val="2"/>
        <c:minorUnit val="0.05"/>
      </c:valAx>
      <c:valAx>
        <c:axId val="6343392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00248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5673878"/>
        <c:axId val="45107443"/>
      </c:scatterChart>
      <c:valAx>
        <c:axId val="4567387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107443"/>
        <c:crosses val="autoZero"/>
        <c:crossBetween val="midCat"/>
        <c:majorUnit val="2"/>
      </c:valAx>
      <c:valAx>
        <c:axId val="4510744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67387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2987093"/>
        <c:axId val="17240253"/>
      </c:scatterChart>
      <c:valAx>
        <c:axId val="1298709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240253"/>
        <c:crosses val="autoZero"/>
        <c:crossBetween val="midCat"/>
        <c:majorUnit val="2"/>
      </c:valAx>
      <c:valAx>
        <c:axId val="17240253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98709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0636596"/>
        <c:axId val="62550587"/>
      </c:scatterChart>
      <c:valAx>
        <c:axId val="1063659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550587"/>
        <c:crosses val="autoZero"/>
        <c:crossBetween val="midCat"/>
        <c:majorUnit val="2"/>
        <c:minorUnit val="0.05"/>
      </c:valAx>
      <c:valAx>
        <c:axId val="6255058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063659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56BCFB-8810-403C-BEA8-B5787DA43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124ACC-2DDD-48C0-A078-FCAB20D26AB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ED7E47-9F0F-4AE5-A404-2C16F3672F1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3B8356-7651-40EF-B8D2-E3C5AB956B7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