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BD1-892C-4D99-9DDA-30E80FB1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075-694B-4F4C-A26E-42033E38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828-0F3A-4600-A6BC-A71F9151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381-EE2B-4843-B12C-A6B8FE25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80D-F35E-473C-9446-23723D2F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BB4-BE9E-43BC-95F0-D4775549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553-E396-411D-88AB-25516D03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9A5-FEDA-4FF1-9344-F699266A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9F2-FE58-4BED-88CF-8D22480B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91A-DDAF-46D1-AB43-EC00821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F26-ADEF-4198-953C-2AFBE49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BF9-F755-4825-B313-148295EB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1126-C843-4E65-B4AB-0562B119D8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rostl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pisthokonta - Fungi: Chytri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- Mucoromycota / 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380880" y="380880"/>
            <a:ext cx="8382240" cy="60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izogamie (za urč. podmínek se zoospory chovají jako gamety, dochází ke kopulaci), anizogamie i oogamie, vzácněji gametangiogamie nebo somatog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lývání rhizomycel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obvykle haplobiotický (ale jsou i případy, kdy zygota neprodělá meiozu a vyroste z ní diploidní stélka nesoucí sporangia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odní a půdní organismy, výživa heterotrofní, absorpční (od chytridií odlišené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anaerob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 na různých skupinách řas, hub, rostlin i živočich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ejména bezobratlých, ale objeveni i u obratlovců –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trac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 na ultrastruktuře zoospor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stélky, bez rhizoidů a buněčné stěny (vnitrobuněční parazité) nebo s bun. stěnou a jednoduchým systémem rhizoid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endobiotické (celé uvnitř buněk hostitele) nebo epibiotické (rhizomycelium v buňce, sporangia vně), příp. interbiotické (rhizomycelium zasahuje do více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mono- i polycentrické, sporangia operkulátní i inoperkulá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 znak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álně umístěná "jaderná zóna", kinetosom nespojen s jádrem, jedna velká tuková kap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vrchu je organela spojená mikrotubuly s kinetosom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řejmě fotorecepto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ání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častěji izogamie (i anizo- či somato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obvykle zoospory mohou být game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8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604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2"/>
          <p:cNvSpPr/>
          <p:nvPr/>
        </p:nvSpPr>
        <p:spPr>
          <a:xfrm>
            <a:off x="2666880" y="1676520"/>
            <a:ext cx="2133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áhnou bičík a oblaní se =&gt; průnik do buněk hostitele =&gt; obalí se tlustou stěnou =&gt; vzniká prosorus (letní výtrus); v okolních buňkách současně neorganiz. 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C:\user\Houba\Škola-obrázky\nizsi_rostliny\chytridiomycota\synchytrium_zivotni_cyklus.jpg"/>
          <p:cNvPicPr/>
          <p:nvPr/>
        </p:nvPicPr>
        <p:blipFill>
          <a:blip r:embed="rId1"/>
          <a:stretch/>
        </p:blipFill>
        <p:spPr>
          <a:xfrm>
            <a:off x="4737240" y="1854360"/>
            <a:ext cx="3997080" cy="464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C:\user\Houba\Škola-obrázky\nizsi_rostliny\chytridiomycota\synchytrium_endobioticum.jpg"/>
          <p:cNvPicPr/>
          <p:nvPr/>
        </p:nvPicPr>
        <p:blipFill>
          <a:blip r:embed="rId2"/>
          <a:stretch/>
        </p:blipFill>
        <p:spPr>
          <a:xfrm>
            <a:off x="380880" y="304920"/>
            <a:ext cx="2264040" cy="3733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2666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chytrium endobiotic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akovinec bramborový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spodářsky významný parazit, přísně karanténní choroba (klíčivost spor až 2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 odpočívajících sporangií vyklíčí na jaře zoospory =&gt; když se dotknou očka nebo lenticely na hlí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80880" y="4038480"/>
            <a:ext cx="4876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těna prosoru praskne =&gt;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yhřezne protoplast, který se rozdělí =&gt; s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sknutí stěny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se uvolní zoospory =&gt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timálního počasí (teplota, vlhkost) další infekce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cha menší zoospory fungují jako izogamety =&gt; kopulace =&gt; zygota infikuje hostitele =&gt; v jeho buňce vzniká odpočívající (trvalé) sporangium =&gt; přečkává z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7387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C:\user\Houba\Škola-obrázky\nizsi_rostliny\chytridiomycota\SYNCEN_01.jpg"/>
          <p:cNvPicPr/>
          <p:nvPr/>
        </p:nvPicPr>
        <p:blipFill>
          <a:blip r:embed="rId1"/>
          <a:stretch/>
        </p:blipFill>
        <p:spPr>
          <a:xfrm>
            <a:off x="457200" y="380880"/>
            <a:ext cx="3849840" cy="244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C:\user\Houba\Škola-obrázky\nizsi_rostliny\chytridiomycota\SYNCEN_03.jpg"/>
          <p:cNvPicPr/>
          <p:nvPr/>
        </p:nvPicPr>
        <p:blipFill>
          <a:blip r:embed="rId2"/>
          <a:srcRect l="4675" t="0" r="4675" b="0"/>
          <a:stretch/>
        </p:blipFill>
        <p:spPr>
          <a:xfrm>
            <a:off x="457200" y="28954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C:\user\Houba\Škola-obrázky\nizsi_rostliny\chytridiomycota\rhizophydium.jpg"/>
          <p:cNvPicPr/>
          <p:nvPr/>
        </p:nvPicPr>
        <p:blipFill>
          <a:blip r:embed="rId3"/>
          <a:stretch/>
        </p:blipFill>
        <p:spPr>
          <a:xfrm>
            <a:off x="457200" y="4419720"/>
            <a:ext cx="3241800" cy="1989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9"/>
          <p:cNvSpPr/>
          <p:nvPr/>
        </p:nvSpPr>
        <p:spPr>
          <a:xfrm>
            <a:off x="2514600" y="2870280"/>
            <a:ext cx="2349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ynchytrium endobiotic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nahoře symptomy napadení na bramboro-vých hlízách, vlevo odpočívající sporan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0" descr="C:\user\Houba\Škola-obrázky\nizsi_rostliny\chytridiomycota\polyphagus_euglenae.jpg"/>
          <p:cNvPicPr/>
          <p:nvPr/>
        </p:nvPicPr>
        <p:blipFill>
          <a:blip r:embed="rId4"/>
          <a:stretch/>
        </p:blipFill>
        <p:spPr>
          <a:xfrm>
            <a:off x="4952880" y="96840"/>
            <a:ext cx="3848400" cy="5237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1"/>
          <p:cNvSpPr/>
          <p:nvPr/>
        </p:nvSpPr>
        <p:spPr>
          <a:xfrm>
            <a:off x="3809880" y="4813200"/>
            <a:ext cx="49532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phy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padá pylová zrna ve vodě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h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interbiotické stélky, rhizomy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um napadá až 50 krásnooček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euglen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pibiotický parazit řas a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380880" y="439092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phydium pollinis-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„kuličky“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yl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rnec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380880"/>
            <a:ext cx="83822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YGOMYCOT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 SPÁJ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cenocytické hyfy, přehrádky většinou oddělují jen rozmnožovací struktury (neplatí absolutně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ývojově odvozených skupin již dochází k tvorbě přehrádek, ale zůstávaj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úseky (obdoba sifonokladální stél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ová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osanem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ý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uk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sporangiích se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 hyfách se tvoří tlustostěnné chlamyd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angiospor: na myceliu se vytvoří svazky sporangioforů =&gt; vrcholové části zduří =&gt; vytvoří se sporangium (obvykle kulovité) =&gt; sem se přesune část cytoplazmy s jádry =&gt; z centrální části vznikne tzv. kolumela (střední sloupek, přetrvávající i po rozpadu sporangia), cytoplazma v periferní části se rozdělí =&gt; části se obalí stěnou =&gt; 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sporangioforu pod sporangiem je u někter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šířena v tzv. apofýz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ůvodních typů mnohosporová sporangia, vývojo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dence vede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sporovým (podobně jak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u 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stěna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díl oproti konid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02_gongronella_sporangia"/>
          <p:cNvPicPr/>
          <p:nvPr/>
        </p:nvPicPr>
        <p:blipFill>
          <a:blip r:embed="rId1"/>
          <a:srcRect l="11811" t="14510" r="17716" b="7255"/>
          <a:stretch/>
        </p:blipFill>
        <p:spPr>
          <a:xfrm>
            <a:off x="6539040" y="4205160"/>
            <a:ext cx="2147760" cy="194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419720" y="5751360"/>
            <a:ext cx="21333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ngronella butler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zygomycetes.org/index.php?id=90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705720" y="435780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lume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716880" y="54244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pofýz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9752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9878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3808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- (vzácněji anizo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"zygogamie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ývání gametang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gametang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ze stejného myce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sí být z růz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í (+ a –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bě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hl.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ýběžky z mycel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emotakticky přitahovány =&gt; kontakt, tvoří se na nich progametangia =&gt; jejich oddělení přehrádkou =&gt; mnohojaderná gametangia =&gt; splynutí, plazmogamie a karyogamie =&gt; zygota =&gt; vytvoří se zygosporangium, obsahující 1 tlustostěnnou zygosporu - odpočívající stadium =&gt; po období klidu klíčí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a a následně zygospory jsou neseny rozšířenými konci hyf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spenz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erých zástupců na suspenzorech vyrůstají hyfy, které obalují zygosporu (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až úpln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dzvěst tvorby plodnice u vývojově pokročilejších pododdělení (připomínají primitivní kleistothecium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meiozi dochází při zrání nebo klíčení zyg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iv. cyklus je haplobio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user\Houba\Škola-obrázky\nizsi_rostliny\zygomycota\bot604.JPG"/>
          <p:cNvPicPr/>
          <p:nvPr/>
        </p:nvPicPr>
        <p:blipFill>
          <a:blip r:embed="rId1"/>
          <a:stretch/>
        </p:blipFill>
        <p:spPr>
          <a:xfrm>
            <a:off x="3048120" y="304920"/>
            <a:ext cx="5632200" cy="3028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819520" y="3124080"/>
            <a:ext cx="60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7701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7949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380880"/>
            <a:ext cx="83822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půdní, koprofilní aj., některé skupiny zahrnují parazity rostlin, hub i živočich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využívána v biotechnologii pro produkci různých láte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7_mucorales_zygospores"/>
          <p:cNvPicPr/>
          <p:nvPr/>
        </p:nvPicPr>
        <p:blipFill>
          <a:blip r:embed="rId1"/>
          <a:stretch/>
        </p:blipFill>
        <p:spPr>
          <a:xfrm>
            <a:off x="6400800" y="1349280"/>
            <a:ext cx="2352600" cy="289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06_mucor_zygospora"/>
          <p:cNvPicPr/>
          <p:nvPr/>
        </p:nvPicPr>
        <p:blipFill>
          <a:blip r:embed="rId2"/>
          <a:srcRect l="0" t="15586" r="0" b="19483"/>
          <a:stretch/>
        </p:blipFill>
        <p:spPr>
          <a:xfrm>
            <a:off x="6400800" y="4267080"/>
            <a:ext cx="2354400" cy="2151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380880" y="1368360"/>
            <a:ext cx="5943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ětšiny druhů málo přehrádkované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. druhů se v tekutých médiích vytvoří přehrádky nebo mycelium rozpadne na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dimorfismus (různý charakter stélky v růz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mnohosporová (až 1000 spor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typů méně spor ve sporangiu (až jed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správně označováno za "konidii"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pohlavně vzniklých zygospor tvoří některé druhy též partenogeneticky tzv. azyg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saprofyté na půdě, trusu, potravi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, Rhizo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dl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rhynchus, Pil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ěchomršť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 sporangiem má vak, v němž se hromadí voda =&gt; zvětšující se tlak nakonec odmrští celé sporangium), některé druhy i parazit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užití: fermentace cukrů a bílkovin, výroba různých organických kysel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57960" y="5932440"/>
            <a:ext cx="243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a se suspenz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 rot="16200000">
            <a:off x="6394320" y="3435120"/>
            <a:ext cx="44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med.ncku.edu.tw/HsuML/mycology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圖片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Zygospores_of_Mucorales_drawing.jp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346800" y="42451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dipbot.unict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istematica_es/Muco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836640"/>
            <a:ext cx="162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y rodů řá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2560" y="1341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CO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12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0700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\Houba\Škola-obrázky\nizsi_rostliny\zygomycota\08_SpinnelusFusiger2.jpg"/>
          <p:cNvPicPr/>
          <p:nvPr/>
        </p:nvPicPr>
        <p:blipFill>
          <a:blip r:embed="rId1"/>
          <a:stretch/>
        </p:blipFill>
        <p:spPr>
          <a:xfrm>
            <a:off x="479520" y="457200"/>
            <a:ext cx="221436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\Houba\Škola-obrázky\nizsi_rostliny\zygomycota\11_pilobolus.jpg"/>
          <p:cNvPicPr/>
          <p:nvPr/>
        </p:nvPicPr>
        <p:blipFill>
          <a:blip r:embed="rId2"/>
          <a:stretch/>
        </p:blipFill>
        <p:spPr>
          <a:xfrm>
            <a:off x="2743200" y="457200"/>
            <a:ext cx="3429000" cy="243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6248520" y="380880"/>
            <a:ext cx="2590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oubáš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inellus fusiger 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arazit na helmovc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rek Jun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idsystem.cz/mushrooms/fotoframe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Měchomršť,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ilobolu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 – koprofilní druh, natáčí a vystřeluje sporangia ke světlu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6912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\Houba\Škola-obrázky\nizsi_rostliny\zygomycota\91_glomus.jpg"/>
          <p:cNvPicPr/>
          <p:nvPr/>
        </p:nvPicPr>
        <p:blipFill>
          <a:blip r:embed="rId1"/>
          <a:stretch/>
        </p:blipFill>
        <p:spPr>
          <a:xfrm>
            <a:off x="4648320" y="347760"/>
            <a:ext cx="4044960" cy="3995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133720" y="2035080"/>
            <a:ext cx="25146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je cenocytická, většinou se netvoří sporan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user\Houba\Škola-obrázky\nizsi_rostliny\zygomycota\92_glomus_spore.jpg"/>
          <p:cNvPicPr/>
          <p:nvPr/>
        </p:nvPicPr>
        <p:blipFill>
          <a:blip r:embed="rId2"/>
          <a:srcRect l="0" t="0" r="0" b="6304"/>
          <a:stretch/>
        </p:blipFill>
        <p:spPr>
          <a:xfrm>
            <a:off x="925560" y="2209680"/>
            <a:ext cx="1096920" cy="142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\Houba\Škola-obrázky\nizsi_rostliny\zygomycota\93_glomeromycota_arbuscule.jpg"/>
          <p:cNvPicPr/>
          <p:nvPr/>
        </p:nvPicPr>
        <p:blipFill>
          <a:blip r:embed="rId3"/>
          <a:stretch/>
        </p:blipFill>
        <p:spPr>
          <a:xfrm>
            <a:off x="457200" y="3809880"/>
            <a:ext cx="1563840" cy="175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80880" y="404640"/>
            <a:ext cx="426744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LOM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centně až na úrovni samostat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 jsou hodnoceny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dřívějš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133720" y="3143160"/>
            <a:ext cx="2971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ouby vytvářej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kým počtem druhů cévnatých rostl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buskulární mykorhi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133720" y="4210200"/>
            <a:ext cx="6705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dříve vezikulo-arbuskulár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VAM; má ji asi 80 % cévnatých rostlin): mycelium proniká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ých buněk a vytváří tam větvené keříčkovité útvary - arbuskuly (někdy též zásobní měchýřky - vezikuly) =&gt; výměna látek pomáhá růstu a výživě hostitel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200000">
            <a:off x="454680" y="2019600"/>
            <a:ext cx="1601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rbuskulu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lamyd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36180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tolweb.org/Glomer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7304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380880"/>
            <a:ext cx="8382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PISTHO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říše (vývojová větev):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FUNGI (MYCOTA)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číkaté buňky pouze u vývojově původní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e zde zmíněných je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okročil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tvořena žád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číkatá sta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jednodušší ty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(bičíkaté typy, vnitrobuněční parazité), případně jednotlivé buňky schopné tvořit pučivé pseudomycelium (kvasin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lákn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vykle tvořena houbovými vlák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e vegetativní fázi tvořícím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dhoub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šší vláknité typy mají stélky nepřehrádkované (přehrádky oddělují pouze reprodukční struktury), vývojově odvozenější mají hyfy rozdělené centripetálně rostoucími přehrádk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pt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um má uprostřed pór (různého typu u různých skupin), kterým mohou procházel látky i organe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u parazitických hub může růst na povrchu pletiv hostitele, ale i vnikat dovnitř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ntercelulárně nebo intracelulár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akovémto myceliu se vytvářejí apresoria (jen přichycovací funkce) nebo haustoria (vnikající do buněk, slouží k absorpci látek z napadené 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04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353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380880"/>
            <a:ext cx="83822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určitých fázích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u (např. plodnice) některých skupin se z hyf tvoří nepravá pletiv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ještě patrná hyfová struktura, jedná s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zench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aproti tomu jsou-li již buňky pozměněny a jednotlivé hyfy nejsou zřetelné,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arenchy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é struktury se kromě plodnic tvoří i ve sterilních útvarech, jako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o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erilní útvar, ve kterém se tvoří plodnice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ouží k přetrvání nepříznivých podmínek)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ícevrstevná, složená z lamel tvořených různě orientovanými fibril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ombinaci s jinými složkami;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skupin chitin chyb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ňkách vlastních hub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ék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ti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fotosyntetické pigmenty; jsou však přítomna jiná barviva (karoteny, xanthofyl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jádře jedno nebo více jadérek, obvykle malý počet chromosom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chondrie mají ploch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přítomny vakuoly, chybí pulzující vakuo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nejčastěj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yko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jediněle i škrob (u primitivních vřecka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836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9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38088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životním cyklu hub nacházíme buď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avní i nepohlavní nebo jen 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ne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mperfek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fekt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u dané houby v dané fázi přítomno perfektní stadium, mluvím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eo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-li u dané houby v dané fázi přítomno perfektní stadium (= je přítomno pouze imperfektní stadium), mluvím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a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&lt;= zde je důvod, proč nelze zcela klást rovnítko mezi anamorfu = imperfektní stadium a teleomorfu = perfektní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hodující je (ne-)přítomnost perfektního stadia, takže když se v dané fázi tvoří současně mitospory a meiospory (tedy imperfektní i perfektní stadium), jedná se také o teleomorf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 v celém životním cyklu (tj. anamorfa i teleomorfa dohromady) se označuje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tická holomor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ne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itotická holomorfa; v případě obou typů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o pleomorfickou holomorfu (mluvíme pak také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s pleomorfickým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275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380880"/>
            <a:ext cx="533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probíhá v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fáz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 způsob je prostá fragmentace hyf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spory vznika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ndogenně ve sporangiích – označovány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rangiospo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pohyblivé, typické pro skupin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yblivé, typické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ogenně na hyfách (specializovaných odnožích zvaných konidiofory) – nazývají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id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ěžné u hub z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menší míř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y s konidiemi se tvoří buď izolovaně nebo v útvarech zvan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m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emie (= synnema; svazek konidioforů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\Houba\Škola-obrázky\nizsi_rostliny\zygomycota\01_sporangium.jpg"/>
          <p:cNvPicPr/>
          <p:nvPr/>
        </p:nvPicPr>
        <p:blipFill>
          <a:blip r:embed="rId1"/>
          <a:stretch/>
        </p:blipFill>
        <p:spPr>
          <a:xfrm>
            <a:off x="5727600" y="457200"/>
            <a:ext cx="29196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80880" y="4603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odochium (palisáda konidioforů v ložisku na povrchu substrát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ervulus (shluk konidioforů pod povrchem plativa hostitele, u parazitů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knida (lahvicovitý útvar s vnitřkem vystlaným konidiof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více u pomocnéh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ut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627520" y="3809880"/>
            <a:ext cx="3124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; v jeho pravé části praská stěna a vystupují spory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55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105520" y="3808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typy vzniku konidi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halický: hyfa se rozdělí přepážkami a pak rozpadne na jednotl. buňky =&gt; thalokonidie = arthrokonidie (thalokonidiemi jsou v jistém smyslu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 - tlustostěnné přetrvávající buňky vznikající na myceli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lastický: konidie vypučí z konidiogenní buňky holoblasticky (účast všech vrstev bun. stěny) nebo enteroblasticky (vnější stěna se protrhne, konidii u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nitřní vrstva/-y/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rospory (vypuč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a následně se odděl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), fialospory (vytvářejí se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4395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80880" y="50292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ách - fialidách a uvolňují se ústím z těchto buněk), anelospory (také se vytvářejí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ách; každ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konidie protrhne přepážku po oddělení předchoží konidie =&gt; vz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límečk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586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838224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rcholové skupiny vlastní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iz dál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spojena plazmogamie s karyogam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následuje s určitým zpožděním a do životního cyklu je vlože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ačovan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+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charakteristická tzv. konjugovanými mitózami (současné mitózy obou jade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ý cyklus tedy je: haploidní fáze =&gt; plazmogamie =&gt; dikaryofáze =&gt; karyogamie =&gt; diploidní fáze (obvykle omezena jen na zygotu) =&gt; meioza =&gt; zpět haplofáz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pohlav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vlastních hu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gamie (typická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 (typická hlavně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-gametangiogamie (spermatizace, 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amičího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amčí spermacií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-gametangiogamie (vzácn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(splývání hyf, hlav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permat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lodn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mat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rmac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togamie (ojedině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-li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 výjimkou bičíkatý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 pohybliv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šech možných typů: haplobiotický, haplo-diplobiotický, vzácný je diplobiotický (kvasinky) a naopak velmi častý haplo-dikaryotick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ub z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návaznosti na pohlavní rozmnožování vznikají spory na specializovaných útvar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836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116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673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, vytvářejí symbiotické vztahy (lichenismus, mykorhiz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ou po celém světě, ve všech možných biotop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da, vzduch, voda (méně časté), v případě parazitů hostitelské organism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é využi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lé druhy, výroba antibiotik, ale i jedovaté a patogenní houb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ké čle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jednotlivá oddělen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/to zde nebude dále zmíněno/ (jednobuněčné nebo tvoří cenocytické mycelium, bičíkaté zoosp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imárně cenocytické mycelium, chybí dikaryofáze i plodnice, tvoří se 1 mei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; je to polyfyletická skupina (s příbuzenskými vazbami na různé skupiny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zde bude zmíněn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oddělení už jsou považována za monofyletický „vrchol vývoje hu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endomykorhiz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chozímu, ale podle současných poznatků je sesterskou skupinou následují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rcholová skupina, v životním cyklu přítomna dikaryotická fáz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řehrádkované mycelium /příp. jednobuněčné – kvasinky/, tvoří se plodnice /ne u všech, viz dále/, meiospory vznikají endogenně ve vřec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též přehrádkované mycelium /příp. jednobuněčné – kvasink. typy/, tvorba plodnic /ne u všech/, ale meiospory vznikají exogenně na bazidi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7"/>
          <p:cNvSpPr/>
          <p:nvPr/>
        </p:nvSpPr>
        <p:spPr>
          <a:xfrm>
            <a:off x="380880" y="386064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oospory vznika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(mono- nebo polycentrické typ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zpočátku mnohojaderná =&gt; rozdělení na 1-jaderné části =&gt; jednotlivé zo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evírání sporangia: víčkem u operkulátních typů, jinak (obvykle štěrbinou)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perkulátn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ů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ičíkaté, bičík opistokontní (vychází ze zadního ko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ení péři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typy_stelek_chytridiomycetes"/>
          <p:cNvPicPr/>
          <p:nvPr/>
        </p:nvPicPr>
        <p:blipFill>
          <a:blip r:embed="rId1"/>
          <a:stretch/>
        </p:blipFill>
        <p:spPr>
          <a:xfrm>
            <a:off x="6048360" y="34776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380880" y="382680"/>
            <a:ext cx="56390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YTRIDIOMYCOTA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- CHYTRI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HYTR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jednodušších typ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karp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aková je vždy jednobuněčná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ukarpick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í se rhizoidy (mohou/nemusí být odděleny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přehrádkou), nevětvené nebo větvené =&gt; rhizo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odvozenější typy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ou stěnou (chitin a polyglukany), rozdělené tzv. pseudosepty (perforované přehrádky z jiných látek než buněčná stě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1382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19T20:49:15Z</dcterms:modified>
  <cp:revision>175</cp:revision>
  <dc:subject/>
  <dc:title>Snímek 1</dc:title>
</cp:coreProperties>
</file>