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"/>
          <p:cNvSpPr/>
          <p:nvPr/>
        </p:nvSpPr>
        <p:spPr>
          <a:xfrm>
            <a:off x="380880" y="380880"/>
            <a:ext cx="845820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1. ÚVOD, ROSTLINNÉ TĚ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 JE TO MORFOLOGIE ROSTLI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iplína o stav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ostlinného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ojí vedle cytologie a hist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natomi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lo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í na popis v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ší a vni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í stavby orgá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 ohledem na ontogenezi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ylogenez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istorie: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ká morfologická škol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. 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akovský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lenovský) – studium fylogenetického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du orgá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. Dostál (Brno) – experimentální morfolo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budování morfologick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rmin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isná věda“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 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nosti se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íliš nevyvíjí, ale je 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á z hlediska zákla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o další obory (systém a fylogeneze, fyziologie i biochemi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platň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orfolog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ístu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 taxonom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dnes v menší míře, ale stále má svůj význa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ternet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752480" y="4695840"/>
            <a:ext cx="701064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rnohorský Z. (1964): Základy rostlinné morfologie (učebni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avíkov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. (1984): Morfologie rostlin (skript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plan Z. [ed.] (2019): Klíč ke květeně České republiky (morf. čás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botanika.prf.jcu.cz/morfologie/morfologiezacatek.html (asi nejlepší české stránky, kompaktní text, odkazy na obrázk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05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209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1800" y="304920"/>
            <a:ext cx="8458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BA ROSTLINNÉHO TĚ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iferenciace pletiv i orgán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 podmí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 ve fylogenezi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chodem z vody na sou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 patrná nejen na d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ých rostlinách, ale j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 zárodcích v semenech nebo na kl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ích rostliná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stliny bezcé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orgány ± nerozlišeny,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 t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o ± stejnými nebo málo rozlišenými b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mi, minimální je i diferenciace pletiv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ělo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élk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hallu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choro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gametofytní fáze, nejvíce rozlišená stélka: rhizoidy, kauloid, fyloi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etivo parenchymatické, vodivá pletiva nejsou vyt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a nebo jsou velmi primitivní (u nejvy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jších mechor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élka se objevuje v ontogenezi i u 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terých cévnatých rostlin –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kladem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otha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rokel) kapraďorost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évnatých rost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je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m sporofyt, zatímco gametofyt je sil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ot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zmíněné prothalium kapraďorostů ještě existuje samostatně (byť dočasně), u vývojově odvozenějších skupin je již gametofyt zcela pohlcen sporofyt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dstavu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r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skupe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alizované soubory pleti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dokonalejš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yp diferencovaného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neme 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rytosemenných rost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ý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stonek, list, k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\Houba\Škola-obrázky\morfologie\chara_fragilis.jpg"/>
          <p:cNvPicPr/>
          <p:nvPr/>
        </p:nvPicPr>
        <p:blipFill>
          <a:blip r:embed="rId1"/>
          <a:stretch/>
        </p:blipFill>
        <p:spPr>
          <a:xfrm>
            <a:off x="380880" y="304920"/>
            <a:ext cx="2344680" cy="3411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\Houba\Škola-obrázky\morfologie\mech_gametofyt+sporofyt.jpg"/>
          <p:cNvPicPr/>
          <p:nvPr/>
        </p:nvPicPr>
        <p:blipFill>
          <a:blip r:embed="rId2"/>
          <a:stretch/>
        </p:blipFill>
        <p:spPr>
          <a:xfrm>
            <a:off x="5410080" y="2438280"/>
            <a:ext cx="2283120" cy="334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\Houba\Škola-obrázky\morfologie\physcomitrella_rhizoidy.jpg"/>
          <p:cNvPicPr/>
          <p:nvPr/>
        </p:nvPicPr>
        <p:blipFill>
          <a:blip r:embed="rId3"/>
          <a:stretch/>
        </p:blipFill>
        <p:spPr>
          <a:xfrm>
            <a:off x="2895480" y="304920"/>
            <a:ext cx="3097440" cy="34160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410080" y="5599080"/>
            <a:ext cx="1067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5f5f5f"/>
                </a:solidFill>
                <a:latin typeface="Arial"/>
              </a:rPr>
              <a:t>http://mech.navajo.cz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920" y="3540240"/>
            <a:ext cx="2361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en.wikipedia.org/wiki/Image:CharaFragilis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895480" y="3540240"/>
            <a:ext cx="266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palaeos.com/Plants/Bryophyta/Bryophyta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9" descr="C:\user\Houba\Škola-obrázky\morfologie\fern_prothallium.jpg"/>
          <p:cNvPicPr/>
          <p:nvPr/>
        </p:nvPicPr>
        <p:blipFill>
          <a:blip r:embed="rId4"/>
          <a:stretch/>
        </p:blipFill>
        <p:spPr>
          <a:xfrm>
            <a:off x="380880" y="38098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 rot="10800000">
            <a:off x="304560" y="4038480"/>
            <a:ext cx="2869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flickr.com/photos/9725464@N03/153538907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6172200" y="228600"/>
            <a:ext cx="2743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evo nahoře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élka parožnatky (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Chara fragili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– kauloid + fyloid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pravo: stélky mechorostů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ametofyt (rhizoidy, lodyžka a lístky) a sporofyt (štět s tobolkou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038480" y="62485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evo dole: prothalium = prokel, gametofyt kaprad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572000" y="393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009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0880" y="3505320"/>
            <a:ext cx="853452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některých dřevin prochází kmen celou korunou až do vrcholu (typicky jehličnany) u jiných se v koruně dělí na jednotlivé silné větve (většina listnatých stromů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a): od stromů se liší větvením hned nad zemí, netvoří k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mnější klasifikace odlišu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eří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ízké poléhavé keře (vřesovec, vřes, šich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lok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spodní část stonku dřevnatá a vytrvalá, horní část bylinná a jednoletá (každou sezónu vyroste a odumře – příklady: levandule, šalvěj, routa, pivoň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ou formou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řevité liá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b): mají dřevnatý stonek, ale nerostou do výše bez opory, pnou se po stěnách či jiných rostlinách (břečťan, plamének plotn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6" descr="C:\user\Houba\Škola-obrázky\morfologie\rustove_typy_drevin.jpg"/>
          <p:cNvPicPr/>
          <p:nvPr/>
        </p:nvPicPr>
        <p:blipFill>
          <a:blip r:embed="rId1"/>
          <a:stretch/>
        </p:blipFill>
        <p:spPr>
          <a:xfrm>
            <a:off x="4114800" y="380880"/>
            <a:ext cx="4651200" cy="2982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80880" y="1447920"/>
            <a:ext cx="358164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ů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né typy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ůstových for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řevi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rom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rvalé rostliny s dřevnatými kořeny i stonkem, větvícím se alespoň 50 cm nad zemí =&gt; členění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men +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191120" y="457200"/>
            <a:ext cx="3352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druidova.mysteria.cz/STROMY/STROMY_KROVINY_LESY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0860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\Houba\Škola-obrázky\morfologie\calluna_vulgaris.jpg"/>
          <p:cNvPicPr/>
          <p:nvPr/>
        </p:nvPicPr>
        <p:blipFill>
          <a:blip r:embed="rId1"/>
          <a:stretch/>
        </p:blipFill>
        <p:spPr>
          <a:xfrm>
            <a:off x="228600" y="228600"/>
            <a:ext cx="2343240" cy="3124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143000" y="320040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kytky/foto.php?268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C:\user\Houba\Škola-obrázky\morfologie\empetrum_nigrum.jpg"/>
          <p:cNvPicPr/>
          <p:nvPr/>
        </p:nvPicPr>
        <p:blipFill>
          <a:blip r:embed="rId2"/>
          <a:stretch/>
        </p:blipFill>
        <p:spPr>
          <a:xfrm>
            <a:off x="228600" y="3505320"/>
            <a:ext cx="2076480" cy="3124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212760" y="-34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28600" y="228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alluna vulgaris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 – vřes obecn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52280" y="6324480"/>
            <a:ext cx="22860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naturephoto-cz.co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black-crowberry:empetrum-nigrum-photo-4862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28600" y="35053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Empetrum nigrum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šicha čern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9" descr="C:\user\Houba\Škola-obrázky\morfologie\paeonia_suffruticosa.jpg"/>
          <p:cNvPicPr/>
          <p:nvPr/>
        </p:nvPicPr>
        <p:blipFill>
          <a:blip r:embed="rId3"/>
          <a:stretch/>
        </p:blipFill>
        <p:spPr>
          <a:xfrm>
            <a:off x="2514600" y="3505320"/>
            <a:ext cx="2343240" cy="3124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2478240" y="63579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cs.wikipedia.org/wiki/Soubor:Paeonia_suffruticosa12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514600" y="35053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aeonia suffruticosa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ivoňka křovit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12" descr="C:\user\Houba\Škola-obrázky\morfologie\salvia_officinalis.jpg"/>
          <p:cNvPicPr/>
          <p:nvPr/>
        </p:nvPicPr>
        <p:blipFill>
          <a:blip r:embed="rId4"/>
          <a:stretch/>
        </p:blipFill>
        <p:spPr>
          <a:xfrm>
            <a:off x="2819520" y="0"/>
            <a:ext cx="2286000" cy="3352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"/>
          <p:cNvSpPr/>
          <p:nvPr/>
        </p:nvSpPr>
        <p:spPr>
          <a:xfrm>
            <a:off x="2743200" y="308304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portableherbarium.co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/Images/catalog/Salvia-officinalis-pink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14" descr="C:\user\Houba\Škola-obrázky\morfologie\hedera_helix.jpg"/>
          <p:cNvPicPr/>
          <p:nvPr/>
        </p:nvPicPr>
        <p:blipFill>
          <a:blip r:embed="rId5"/>
          <a:stretch/>
        </p:blipFill>
        <p:spPr>
          <a:xfrm>
            <a:off x="5334120" y="228600"/>
            <a:ext cx="2361960" cy="3124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6248520" y="3200400"/>
            <a:ext cx="1218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kytky/foto.php?489:4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16" descr="C:\user\Houba\Škola-obrázky\morfologie\clematis_vitalba.jpg"/>
          <p:cNvPicPr/>
          <p:nvPr/>
        </p:nvPicPr>
        <p:blipFill>
          <a:blip r:embed="rId6"/>
          <a:stretch/>
        </p:blipFill>
        <p:spPr>
          <a:xfrm>
            <a:off x="5105520" y="3505320"/>
            <a:ext cx="2590560" cy="3112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7"/>
          <p:cNvSpPr/>
          <p:nvPr/>
        </p:nvSpPr>
        <p:spPr>
          <a:xfrm>
            <a:off x="5105520" y="480060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lamének plotní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7772400" y="3429000"/>
            <a:ext cx="1371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evo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eřík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řes, šich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prostřed: polokeř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šalvěj, pivoňk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pravo: dřevité liány (břečťan, plaméne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791320" y="63579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pharm1.pharmazie.uni-greifswald.d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systematik/7_bilder/liebermn/lb-00087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5334120" y="228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Hedera helix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břečťan popínav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4419720" y="29494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alvě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ékař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788508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4969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80880" y="304920"/>
            <a:ext cx="853452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l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nokarp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kvetou a plodí jednou za život, po vytvoření plodů odumíraj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dnolet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letničky, annuely) – 1-letý životní cykl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rní efemery (osívka) rostou jen pár týdnů, zbytek života v semene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imé rostliny (pšenice, žito, řepka) vyklíčí na podzim, přezimují ve vegetativním stavu, na jaře pokračují v růstu, vykvetou a odplod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voulet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bieny) – 2-letý cyklus: první rok vytvoří kořen a růžici listů, druhý rok vyroste lodyha, květy a plody (mrkev, řepa, diviz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ícele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nokarp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ké (plurieny) – víceleté byliny, žijí ve vegetativních orgánech a až poslední rok vytvoří květy a plody (záraza, agáve, bambu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lykarp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kvetou a plodí více le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va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ereny) – přezimují ve vegetativních orgánech (oddenky, hlízy, cibule), každý rok vytvoří nový prýt (jitrocel, jahodník, sedmikrás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liv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í v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šími podmínk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jeden a tent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ruh může t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né form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romy x k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jíva, tis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dnoletky x trva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skočec – v Africe a Mediter. dřevina, u nás jednoletá byli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304920" y="9144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52280" y="640080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 čem svědčí jmé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a annua, Crepis biennis, Bellis perenni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10" descr="C:\user\Houba\Škola-obrázky\morfologie\poa_annua.jpg"/>
          <p:cNvPicPr/>
          <p:nvPr/>
        </p:nvPicPr>
        <p:blipFill>
          <a:blip r:embed="rId1"/>
          <a:stretch/>
        </p:blipFill>
        <p:spPr>
          <a:xfrm>
            <a:off x="6324480" y="1447920"/>
            <a:ext cx="2590920" cy="1968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8704800" y="1523880"/>
            <a:ext cx="28692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5f5f5f"/>
                </a:solidFill>
                <a:latin typeface="Arial"/>
              </a:rPr>
              <a:t>http://zij-i-vterinu-naplno.blog.cz/0710/plevel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12" descr="C:\user\Houba\Škola-obrázky\morfologie\crepis_biennis.jpg"/>
          <p:cNvPicPr/>
          <p:nvPr/>
        </p:nvPicPr>
        <p:blipFill>
          <a:blip r:embed="rId2"/>
          <a:stretch/>
        </p:blipFill>
        <p:spPr>
          <a:xfrm>
            <a:off x="4924440" y="3581280"/>
            <a:ext cx="1932120" cy="3048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6633000" y="4267080"/>
            <a:ext cx="286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5f5f5f"/>
                </a:solidFill>
                <a:latin typeface="Arial"/>
              </a:rPr>
              <a:t>http://caliban.mpiz-koeln.mpg.de/~stueber/lindman/44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14" descr="C:\user\Houba\Škola-obrázky\morfologie\bellis_perennis.jpg"/>
          <p:cNvPicPr/>
          <p:nvPr/>
        </p:nvPicPr>
        <p:blipFill>
          <a:blip r:embed="rId3"/>
          <a:stretch/>
        </p:blipFill>
        <p:spPr>
          <a:xfrm>
            <a:off x="6958080" y="3581280"/>
            <a:ext cx="1966680" cy="3048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5"/>
          <p:cNvSpPr/>
          <p:nvPr/>
        </p:nvSpPr>
        <p:spPr>
          <a:xfrm>
            <a:off x="8704800" y="4038480"/>
            <a:ext cx="2869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5f5f5f"/>
                </a:solidFill>
                <a:latin typeface="Arial"/>
              </a:rPr>
              <a:t>http://www.bylinky.kvalitne.cz/fotky/sedmikraska_chudobka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6" descr="C:\user\Houba\Škola-obrázky\morfologie\erophila_verna.jpg"/>
          <p:cNvPicPr/>
          <p:nvPr/>
        </p:nvPicPr>
        <p:blipFill>
          <a:blip r:embed="rId4"/>
          <a:stretch/>
        </p:blipFill>
        <p:spPr>
          <a:xfrm>
            <a:off x="228600" y="228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7"/>
          <p:cNvSpPr/>
          <p:nvPr/>
        </p:nvSpPr>
        <p:spPr>
          <a:xfrm>
            <a:off x="152280" y="2133720"/>
            <a:ext cx="266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wendys.cz/kytky/K294.ph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18" descr="C:\user\Houba\Škola-obrázky\morfologie\agave_americana_stalks.jpg"/>
          <p:cNvPicPr/>
          <p:nvPr/>
        </p:nvPicPr>
        <p:blipFill>
          <a:blip r:embed="rId5"/>
          <a:stretch/>
        </p:blipFill>
        <p:spPr>
          <a:xfrm>
            <a:off x="3100320" y="228600"/>
            <a:ext cx="2193840" cy="3200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9"/>
          <p:cNvSpPr/>
          <p:nvPr/>
        </p:nvSpPr>
        <p:spPr>
          <a:xfrm>
            <a:off x="3048120" y="31590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ag.arizona.edu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pima/gardening/aridplants/Agave_americana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0" descr="C:\user\Houba\Škola-obrázky\morfologie\ricinus_communis_recko.jpg"/>
          <p:cNvPicPr/>
          <p:nvPr/>
        </p:nvPicPr>
        <p:blipFill>
          <a:blip r:embed="rId6"/>
          <a:stretch/>
        </p:blipFill>
        <p:spPr>
          <a:xfrm>
            <a:off x="228600" y="2514600"/>
            <a:ext cx="239724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1"/>
          <p:cNvSpPr/>
          <p:nvPr/>
        </p:nvSpPr>
        <p:spPr>
          <a:xfrm>
            <a:off x="114480" y="579132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commons.wikimedia.org/wiki/Image:Ricinus_communis4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2" descr="C:\user\Houba\Škola-obrázky\morfologie\ricinus_communis_kvetinac.jpg"/>
          <p:cNvPicPr/>
          <p:nvPr/>
        </p:nvPicPr>
        <p:blipFill>
          <a:blip r:embed="rId7"/>
          <a:stretch/>
        </p:blipFill>
        <p:spPr>
          <a:xfrm>
            <a:off x="2743200" y="3581280"/>
            <a:ext cx="1886040" cy="2514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3"/>
          <p:cNvSpPr/>
          <p:nvPr/>
        </p:nvSpPr>
        <p:spPr>
          <a:xfrm>
            <a:off x="2666880" y="57913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commons.wikimedia.or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wiki/Image:Ricinus_communis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1787400" y="18288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sívka jarní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Erophila ver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3048120" y="2286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Agave americ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152280" y="548640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kočec obecný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Ricinus commun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5410080" y="1522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ívka – příklad jarní efem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gáve – víceletá monokarpická byl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očec v květináči a jako keř v Řeck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5508720" y="141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7349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80880" y="304920"/>
            <a:ext cx="8534520" cy="62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Ž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votní for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jsou totožné s růstovými formami) – klasifik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le umí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í obnovovacích pup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. z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bu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konávání období klid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orig. C. Ch. Raunkiaer 1934: The Life Forms of Plants and Statistical Plant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rofy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ý životní cyklus v průběhu 1 sezóny, přezimují jen v semene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ofy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ytrvalé, přezimují pod povrchem půdy v oddencích, hlízách, cibulí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ydrofy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řezimují pod hladinou vody (rostliny splývavé nebo kořenujíc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eofyty a hydrofyty bývají spojovány pod poje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yptofy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mikryptofy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obnovovací pupeny a meristémy těsně nad povrchem půdy, kryté šupinami, starými listy, též bývají chráněny sněhovou pokrývk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y trsnaté rostliny a rostliny tvořící listové růžice, ale i játrovky a lišejní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amaefy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obnov. pupeny nad zemí (do výše 30 cm), kryté šupinami pupen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iny, polokeře a plazivé keříky, též mechy a keříčkovité lišejní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nerofy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obnovovací pupeny výše než 30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jména keře a stromy (s větv. korunou nebo chocholem jako palmy), ale i velké sukulenty (kaktusy), „stromovité“ byliny (banánovník), kořenující liány (břečťa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pifyt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rostou na jiné rostlině, nejsou zakořeněny v ze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jmelí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vis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á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asifikace živ. a růst. forem dobře použitelná u nás, problematicky v trope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3853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houba</cp:lastModifiedBy>
  <dcterms:modified xsi:type="dcterms:W3CDTF">2020-10-06T11:26:31Z</dcterms:modified>
  <cp:revision>97</cp:revision>
  <dc:subject/>
  <dc:title>Prezentace aplikace PowerPoint</dc:title>
</cp:coreProperties>
</file>