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380880" y="380880"/>
            <a:ext cx="838224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5. ORGÁNY ROSTLIN A PROSTŘED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ba těla konkrétních druhů rostlin je do značné míry přizpůsobena podmínkám prostředí, ve kterých rostou – nejvýznamnějšími jsou dostupnost vody a světla, specifické adaptace se vytvářejí i za účelem získávání živ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d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odní rost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jímání vody a rozpuštěných živin celým povrchem těla, s tím souvisí redukce kořenového systému (úplná redukce =&gt; vzplývavé rostliny vůbec nezakořeňuj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hodou je velký povrch listů – to je např. případ heterofylie lakušníku, kde plovoucí listy jsou celistvé, zatímco ponořené jsou členěné na čárkovité úkroj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ká pokožka, slabá kutikula – snadný průchod vody, látek a plynů do plet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duchy u ponořených listů chybí, u plovoucích jsou na svrchní stran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e vodivých pletiv (zejména dřevní části cévních svazk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roti tomu značný rozvoj mezibuněčných prostor – nadlehčování těla rostliny, vytvoření souvislé soustavy mezibuněčných „kanálků“ umožňuje vedení plynů (vzdušné pletivo – aerenchy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ýchací kořeny (pneumatofory), mangrovové porosty – viz adventivní koře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lofyty – rostliny zakořeněné v bahně s vystupujícími prýty (kosatec, orobin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80880" y="380880"/>
            <a:ext cx="838224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g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stliny vlhkých stanoviš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abě vyvinutý kořenový systém a dřevní část cévních svazk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listy, pokožka se slabou vrstvou kutikuly, průduchy bývají vyzdviženy nad úroveň pokožky (usnadnění transpirace), ve vlhkém ovzduší častá gut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z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stliny středně suchých stanoviš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e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uchobytné rost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vystavené zároveň suchým a teplým podmínkám (xerotermofyt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ouhé a hluboko pronikající koře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á vrstva kutikuly kryje pokožkové buňky, průduchy často vnořeny v pokož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rtvé chlupy na povrchu – snížení výparu, ochrana proti oslunění a zahřívá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y kožovité (olivovník), úzké mezibuněčné prostory, vyvinutý sklerenchy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y svisle postavené (blahovičník), též SJ orientace =&gt; menší osvit (loci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inuté listy stepních trav (unifaciální) – „navrchu“ spodní strana bez průduch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kulence – hromadění vody v dužnatých listech (chylofyly – tlusticovité, aloe) nebo stoncích (chylokauly – kaktusy, pryš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e listů, asimilační úlohu přebírá stonek (janov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eromorfózou jsou v principu i jehlice – malý povrch omezuje výpar v zimě, kdy je omezen příjem v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C:\user\Houba\Škola-obrázky\morfologie\5_prostredi\cytisus_scoparius.jpg"/>
          <p:cNvPicPr/>
          <p:nvPr/>
        </p:nvPicPr>
        <p:blipFill>
          <a:blip r:embed="rId1"/>
          <a:srcRect l="7460" t="0" r="27352" b="0"/>
          <a:stretch/>
        </p:blipFill>
        <p:spPr>
          <a:xfrm>
            <a:off x="3505320" y="3048120"/>
            <a:ext cx="2509560" cy="28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380880" y="594360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evo: kořenový systém druhů čeled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mnacea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nahoře: aerenchym ve stonku prustky, orientace listů lociky kompasové; dole: zelené stonky janovce, kožovité listy olivovník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13" descr="C:\user\Houba\Škola-obrázky\morfologie\5_prostredi\cernohorsky_pril27_aerenchym.JPG"/>
          <p:cNvPicPr/>
          <p:nvPr/>
        </p:nvPicPr>
        <p:blipFill>
          <a:blip r:embed="rId2"/>
          <a:stretch/>
        </p:blipFill>
        <p:spPr>
          <a:xfrm>
            <a:off x="3505320" y="457200"/>
            <a:ext cx="251460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C:\user\Houba\Škola-obrázky\morfologie\5_prostredi\lemnaceae_plate.jpg"/>
          <p:cNvPicPr/>
          <p:nvPr/>
        </p:nvPicPr>
        <p:blipFill>
          <a:blip r:embed="rId3"/>
          <a:stretch/>
        </p:blipFill>
        <p:spPr>
          <a:xfrm>
            <a:off x="457200" y="457200"/>
            <a:ext cx="2881440" cy="5086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8"/>
          <p:cNvSpPr/>
          <p:nvPr/>
        </p:nvSpPr>
        <p:spPr>
          <a:xfrm>
            <a:off x="380880" y="5562720"/>
            <a:ext cx="304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lucidcentral.or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keys/aquariumplants2/Aquarium_&amp;_Pond_Plants_of_the_Worl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key/Aquarium_&amp;_Pond_Plants/Media/Images/lemna_plate_lge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19" descr="C:\user\Houba\Škola-obrázky\morfologie\5_prostredi\lactuca_serriola.jpg"/>
          <p:cNvPicPr/>
          <p:nvPr/>
        </p:nvPicPr>
        <p:blipFill>
          <a:blip r:embed="rId4"/>
          <a:stretch/>
        </p:blipFill>
        <p:spPr>
          <a:xfrm>
            <a:off x="6172200" y="457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6095880" y="45720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actuca serriol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- locika kompasov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6130800" y="2743200"/>
            <a:ext cx="266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omafra.gov.on.ca/english/crops/facts/03-041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4" descr="C:\user\Houba\Škola-obrázky\morfologie\5_prostredi\olea_europaea.jpg"/>
          <p:cNvPicPr/>
          <p:nvPr/>
        </p:nvPicPr>
        <p:blipFill>
          <a:blip r:embed="rId5"/>
          <a:srcRect l="0" t="0" r="44661" b="0"/>
          <a:stretch/>
        </p:blipFill>
        <p:spPr>
          <a:xfrm>
            <a:off x="6172200" y="3048120"/>
            <a:ext cx="2446200" cy="2892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6172200" y="3048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Olea europae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olivovní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172200" y="579132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colintlev.net/blogs/default.asp?idB=54&amp;p=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3505320" y="579132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otany.cz/cs/cytisus-scoparius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3465360" y="3048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ytisus scoparius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janovec metlat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3505320" y="4572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ippuris vulgaris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prustka obecn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3468600" y="2743200"/>
            <a:ext cx="3353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</a:t>
            </a: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               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5_prostredi_3_hydro-xerofyty.MP3" descr=""/>
          <p:cNvPicPr/>
          <p:nvPr/>
        </p:nvPicPr>
        <p:blipFill>
          <a:blip r:embed="rId6"/>
          <a:stretch/>
        </p:blipFill>
        <p:spPr>
          <a:xfrm>
            <a:off x="2987640" y="465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63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"/>
          <p:cNvSpPr/>
          <p:nvPr/>
        </p:nvSpPr>
        <p:spPr>
          <a:xfrm>
            <a:off x="380880" y="380880"/>
            <a:ext cx="838224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ínavý 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o některé rostliny strategie v „boji o světlo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ínavé rostliny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ořenují v zemi a nadzemními částmi se opírají, přichycují nebo ovíjejí kolem opory (jiných rostlin nebo neživých objekt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ány úponkové se přichycují úponkami původu listového (hrách), stonkového (réva vinná) nebo kořenového (vanil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častěji se s liánami setkáme v tropech, kde jsou optimální podmínky pro růst stromů, které zachycují značnou část přímého slunečního světla – v tropech jsou běžné liány dřevnaté, u nás jde zejména o by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12" descr="C:\user\Houba\Škola-obrázky\morfologie\5_prostredi\galium_aparine.jpg"/>
          <p:cNvPicPr/>
          <p:nvPr/>
        </p:nvPicPr>
        <p:blipFill>
          <a:blip r:embed="rId1"/>
          <a:stretch/>
        </p:blipFill>
        <p:spPr>
          <a:xfrm>
            <a:off x="5145120" y="1828800"/>
            <a:ext cx="3479760" cy="261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380880" y="2057400"/>
            <a:ext cx="4724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ány ovíjivé mají ovíjivé stonky, kterými „šplhají“ po své opoře (svlačec, chm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ány opěrné nemusí být přímo popínavými rostlinami, ale opírají se o jiné rostliny svými stonky s pomocí trnů (ostružiník), zpětných výhonů (lilek potměchuť), tuhých chlupů (svízel přítula) nebo se přichycují příčepivými kořeny (břečť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095880" y="426708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ct-botanical-society.org/galleries/galiumapar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181480" y="190512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alium apar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vízel přít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5_prostredi_4_operne-liany.MP3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77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12760" y="-34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80880" y="380880"/>
            <a:ext cx="8382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pi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stliny rostoucí na jiných rostliná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sou zakořeněny v zemi, ale uchyceny pomocí příčepivých kořenů nebo haustorií (parazitické epifyty, viz dá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našich podmínkách zejména mechorosty (vedle řas, hub a lišejníků) rostoucí na borce dřevin, v tropech běžně i vyšší rost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šné kořeny (viz přeměny kořenů) s velamen – pokožkou z mrtvých buněk, které za deště sají vodu a zásobují jí buňky pod sebou, za sucha představují ochranný obal, který snižuje výp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áhnou-li vzdušné kořeny země, mohou zakořenit a čerpat živiny ze zem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morfózy pro zachycení v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kové hlízy epifytických orchidej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hloučením spodních částí listů broméli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nálevkovitý prostor, v němž se 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ště hromadí voda (kořeny zde potlačen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jem vody absorpčními chlu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išení listů jako v případě kapradin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latyce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rohovité listy zajišťujíc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milaci ční do prostoru, zatímco ploch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štítovité listy jsou přitisklé k substrátu a hromadí se za nimi humus a vlá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23" descr="C:\user\Houba\Škola-obrázky\morfologie\5_prostredi\platycerium.jpg"/>
          <p:cNvPicPr/>
          <p:nvPr/>
        </p:nvPicPr>
        <p:blipFill>
          <a:blip r:embed="rId1"/>
          <a:stretch/>
        </p:blipFill>
        <p:spPr>
          <a:xfrm>
            <a:off x="5257800" y="3429000"/>
            <a:ext cx="335124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5"/>
          <p:cNvSpPr/>
          <p:nvPr/>
        </p:nvSpPr>
        <p:spPr>
          <a:xfrm>
            <a:off x="6324480" y="579132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PlatyceriumCel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5257800" y="54864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latyceri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arožnatk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5_prostredi_5_epifyty.MP3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500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380880" y="380880"/>
            <a:ext cx="838224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ískávání ži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prostředí – rostliny saprofytick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parazitické (hemiparazitick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zitické (též holoparazitick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oparazitické rost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ískávají z pletiv hostitele vodu a minerální látk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rozdíl od holoparazitů přítomnost asimilačních orgánů, probíhá fotosynté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ifytické druhy jsou taktéž zakotveny haustorii, pronikajícími do dřevní části cévních svazk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oranthaceae – Loranthus, Viscaceae – Visc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ující druhy vytvářejí na kořenech přísavky, kterými se napojují na kořeny hostitel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robanchaceae – Rhinanthus, Pedicul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8" descr="C:\user\Houba\Škola-obrázky\morfologie\5_prostredi\orobanche_major.jpg"/>
          <p:cNvPicPr/>
          <p:nvPr/>
        </p:nvPicPr>
        <p:blipFill>
          <a:blip r:embed="rId1"/>
          <a:stretch/>
        </p:blipFill>
        <p:spPr>
          <a:xfrm>
            <a:off x="457200" y="914400"/>
            <a:ext cx="1781280" cy="3086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24000" y="3868560"/>
            <a:ext cx="1981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zum.de/stueber/lindman/126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362320" y="1295280"/>
            <a:ext cx="632448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zitické rost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přizpůsobeny získávání živin z hostitelských plet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ované kořeny, listy a dřevní část cévních svazků, absence fotosyntéz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rba haustorií, pronikajících do cévních svazků hostitele, odkud čerpají nejen vodu a minerální látky (ze dřevní části), ale i asimiláty (z lýkové část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robanch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robanche, Lathra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popínav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uscu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uscu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5_prostredi_6_holoparazite.MP3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5_prostredi_6_hemiparazite.MP3" descr=""/>
          <p:cNvPicPr/>
          <p:nvPr/>
        </p:nvPicPr>
        <p:blipFill>
          <a:blip r:embed="rId3"/>
          <a:stretch/>
        </p:blipFill>
        <p:spPr>
          <a:xfrm>
            <a:off x="8317080" y="4151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266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870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9"/>
          <p:cNvSpPr/>
          <p:nvPr/>
        </p:nvSpPr>
        <p:spPr>
          <a:xfrm>
            <a:off x="380880" y="380880"/>
            <a:ext cx="83822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čitou formou parazitismu je i čerpání živin od mykorhizních partner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otropoidní mykorhiz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onotro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„zprostředkovaný parazitismus“ prostřednictvím hub, jež čerpají živiny od ektomykorhizních partner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chideová mykorhiz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rchid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v rané fázi vývoje je rostlina závislá na přísunu živin od houby; u nezelených orchidejí tento stav přetrvá celý živ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ý způsob získávání živin m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sožravé rost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de o získávání vody a základních živin (minerálních látek, asimilátů – tyto rostliny jsou normálně zelené a fotosyntetizující), ale o „doplňkovou výživu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živočišných těl tyto jinak autotrofní rostliny získávají zejména bílkov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tliny hmyzožravé vytvářejí různé typy lapacích zařízení (viz přeměny list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0" descr="C:\user\Houba\Škola-obrázky\morfologie\5_prostredi\pinguicula_leptoceras.jpg"/>
          <p:cNvPicPr/>
          <p:nvPr/>
        </p:nvPicPr>
        <p:blipFill>
          <a:blip r:embed="rId1"/>
          <a:stretch/>
        </p:blipFill>
        <p:spPr>
          <a:xfrm>
            <a:off x="457200" y="39625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1"/>
          <p:cNvSpPr/>
          <p:nvPr/>
        </p:nvSpPr>
        <p:spPr>
          <a:xfrm>
            <a:off x="4191120" y="3868560"/>
            <a:ext cx="457200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ojí typ žlázek na listech =&gt; produkce látek ke dvěma účelů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pkavé výměšky (např. z tentakulí rosnatky) slouží k zachycení hmyz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gesční (vstřebávací) žlázky produkují proteolytické enzymy, potřebné k rozložení bílkovin hmyzího tě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4191120" y="6019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inguicula leptocera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stopkaté žlázy uvolňují lepkavý výměšek, přisedlé žlázy na povrchu listu produkují trávicí enzy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1295280" y="6248520"/>
            <a:ext cx="2895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juzaphoto.com/eng/galleries/flora-carnivorous_plants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5_prostredi_7_mykoheterotrofie.MP3" descr=""/>
          <p:cNvPicPr/>
          <p:nvPr/>
        </p:nvPicPr>
        <p:blipFill>
          <a:blip r:embed="rId2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5_prostredi_7_masozrave-rostliny.MP3" descr=""/>
          <p:cNvPicPr/>
          <p:nvPr/>
        </p:nvPicPr>
        <p:blipFill>
          <a:blip r:embed="rId3"/>
          <a:stretch/>
        </p:blipFill>
        <p:spPr>
          <a:xfrm>
            <a:off x="8388360" y="2060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327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1468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0-10T21:23:00Z</dcterms:modified>
  <cp:revision>124</cp:revision>
  <dc:subject/>
  <dc:title>Prezentace aplikace PowerPoint</dc:title>
</cp:coreProperties>
</file>