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48BE3-3828-47C3-BC3C-E86F9DFED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754AF-7430-41D6-A01F-D907AE15C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29254-852D-49F7-9E38-66B7A9277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369B1-9099-4114-AA04-0F0F98A76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9AC73-4560-43D6-953A-56ED776C1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F15D4-7F99-4EEC-AD2B-8AC63541E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8250A-EF72-4694-9EC3-39CC79D6D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51500-D034-49D8-8139-803D796D8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3DC75-3600-43A3-944D-EF2B3A78A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DBB9E-8579-4A86-8EDD-D4392B30C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B8220-2ED2-48AC-B79B-BFF4C34CA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84A2D-EB16-415B-BBC7-5B01B59AF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72527-EC49-4F08-8554-2DDB707D8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CBC37-0F98-4281-8806-7A33550E1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CFF2E-E4E7-4E83-8C01-4C0A1BDA4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6EEF0D-55FB-41F0-8358-49A2C3E8F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A13B98-D578-4ED7-AAF9-4A07453016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32C5E-54F5-4E93-9D6E-3276B263A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FB7F2-284B-4817-8AFA-0F0D0F999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D9D7A-FD2C-406D-A847-90E78CC97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E0DCD-FB9C-454E-BC5F-CFEBAC0B3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AB469-D45E-4AFB-BCC0-4B6B25A30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50730-3E16-4023-B8AC-DFF046F4B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E03A7-7B12-45D7-A97C-E1A36EF37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2A59-4DEB-4D36-9A1A-BAB1E496522A}"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1F9BC-A05C-4919-AF11-C63431AF3F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1C83-B23A-425F-BDEE-4C5F3F69B873}" type="datetime">
              <a:rPr b="0" lang="cs-CZ" sz="1000" spc="-1" strike="noStrike">
                <a:solidFill>
                  <a:srgbClr val="000000"/>
                </a:solidFill>
                <a:latin typeface="Arial"/>
              </a:rPr>
              <a:t>30.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334FB-421D-46A7-B62E-9216E510B7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BD7C-A112-4FB9-83A0-926297D53C0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107E-480D-4008-88F9-63CF124284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EAF2-8DD0-4DCC-B820-B6D6CB6590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6ADB-5E13-4322-A3B5-3D0B2BD798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199A-7D22-4062-889B-27CEE03343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832B-CA53-4FA6-AE7C-D54EC55BB0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94719-2190-47C3-8090-C02985699D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593E3-4571-4C76-B433-4F67CDA0A5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1D400-6D40-4FF2-A45A-33C549C4A0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870B-326D-4DA6-954F-E20F66E18E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C81DB-26A6-4798-B513-E9AD2531C4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33CD-0C88-4397-8447-2ABEE74C71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4E32-F27F-4090-A39D-958AA4EB4B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2792-18D1-46D9-B812-654C650C53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DA23-42F0-4FB7-BEA1-544E8884F0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C0B4B-ADA4-46CF-BB97-9F32DA3F00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2180-831F-420F-931D-8B9DB7A07A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A6B7F-8249-40EE-BD8C-3A54F0D9896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B331-B75F-4626-B7C1-6A1B81CA42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7B2A-0F01-40AC-92AF-8EA370C07E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FDDA-D1B5-43BA-9F8E-620EF5C55A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91DD-7547-4B1A-97BB-B8760088A0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BE36E-8E18-4CF4-943A-D8E4DD08A2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127CF-C801-4A02-9B62-2B10502CEF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62CC-BAB3-4DC4-B0CF-E320B3E414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4234-A393-43A3-9D0E-FCB598E156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6403-4C08-48A6-AE88-D007C02233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0EC3-EECD-4EDF-B0C0-50464D47A0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92F98-CC27-4E6C-8955-15848C3176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FDEA-38F4-4831-BEF9-EF93FC4A91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E8B8E-09D8-4172-B317-3B830D0004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BD53-289B-4CEE-A7A7-A31103A888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FAA5-D736-42A4-BCCD-5B26782CD1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5037-1580-40D7-9A3C-C6F32648612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A5F6E-980A-4CC5-BEF4-1BBBEEEEE3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EBD8D-E167-479F-B30E-A655745A89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FFF5C-12B8-49EC-B27D-2B05503CF2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57F0-65C0-4DAD-BDAC-F1420BF08C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1AC2-FC2A-4C0A-9A6C-DD22F9EF5F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2026-CB40-48FA-B456-0D9080AFAC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F7EE-06A4-48D0-8904-E90BF56332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79D5C-2508-4290-96EF-030A10D9F2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4F8A-5683-4744-B6E5-367755DC14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BA24-FEB8-48DA-8FBD-E289846B4A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7DA8-75C3-409D-BFE6-C64B820D36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3CAD-C5BD-44F6-B8C7-6EE95DFDCB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C5CF9-1FF9-44DB-B9D9-94F1267E55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4F48-11CF-4662-97E9-7C9C2EDB26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