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7EC8E-14E1-49CC-9FCC-E328CF76E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6FE66-DCF0-4892-8B91-42F23BA8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D72C6-B9B7-4B26-B1F6-5CF289C30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757CC-DF58-4299-BF3C-3F2F32C26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5DF9A-5645-4885-B44B-36864B261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35C98-4CEC-461A-960F-678398C95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C0413-5469-4755-906C-908DD077D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CDEB5-7ABB-4EE0-B90D-3260ACF4E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1F956-57BB-4414-BE16-B0FC2817E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3C552-210E-44DF-AEAD-FC0D81942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6A12-150A-49C6-8ACC-A912BCAF3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DE461-ED36-4B95-905F-09ECADE46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2244E-5097-4D9E-A6DB-05C4E9672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40ADE-407D-4D9C-9151-F3E4CF0FC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E2086-7335-4D50-A6CA-ED2B205A7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1BBDA-2431-443E-8FC6-434385FFF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09190-E591-4BEE-A0B6-7F16F9650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1AB0F-DEDA-4A90-83EB-9145CE4CC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AE82-D543-4B43-A0C5-8501880F5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5EFB-E7A7-4BA9-ACF0-83C77092F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4800-B131-447E-A97F-994F437BD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DE33-106F-45B5-8B50-694A5965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52D3-6345-4C2A-BA66-658C7174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FE88-0893-4E13-8B94-F558ED150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8072-5AED-488F-8B50-6F3342381EA3}"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BFEE-9435-4447-8225-A134C45AD7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D034-C7B7-496A-B945-6E4861F3BFEE}" type="datetime">
              <a:rPr b="0" lang="cs-CZ" sz="1000" spc="-1" strike="noStrike">
                <a:solidFill>
                  <a:srgbClr val="000000"/>
                </a:solidFill>
                <a:latin typeface="Arial"/>
              </a:rPr>
              <a:t>29.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26AB-5788-46B6-A699-2206ECC733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701A-02A5-4BDC-B89D-47F145B92E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A8DF-A8D6-42D8-89E9-AF563A1FC6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9BE0-6279-4C68-A2A5-302BDE677D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8D7A-0055-48DA-A963-55A6B014D3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6AFD-02EC-4C52-9628-4C309B719F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095E-A824-4699-B0BB-9F473E7549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251A-E5AC-433B-859A-23F0842741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4C60-8501-4996-9F3F-E74F6C1182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C92A-58F3-4912-8018-8E5A0F0B56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BC1F-B40B-4685-882C-7096BC4397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89E1-C964-4F51-A954-4961B559C0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78F6-AAEA-47E9-8B30-4D938379F8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52D1-4DEF-4014-BD43-5219C09D56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043D-BD8A-4799-835E-851787C7CD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BB7C-7572-4297-A5F7-05CAC900DB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CD68-CCA0-4BC8-8CC6-DA520BDDE2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7EEA-6F15-481F-8D9B-48090C1093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114C-9F55-476D-883C-0069C21679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776C-2B65-4538-9909-A48B6847EF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6460-D4C0-4973-AF39-BE0DF0DB0A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D7E2-33E2-4DAF-9AB3-36E74F6BA8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14FE-3309-4DCB-AE2D-498E5C0034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985B-0224-4159-A53B-1B059E1E99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AFB9-47B8-4393-8F48-E704885372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0349-F238-45D0-AE7A-0CE808AD3D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7348-4BEB-4077-8845-E2DCC17B79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9692-1767-4191-9CF3-052D2BE0A8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1C35-2044-4263-BD62-118E0F271D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15E0-F041-4D8B-86CA-2DB3614057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883D-B65F-40FB-B866-727CD25AE5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6D8B-CDBD-42CF-B442-C6624B7D81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4E3C-E503-4493-850C-DBD33BB969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EEA1-6EAA-429B-A6F9-B9068FDFDF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5C31-1765-438B-BACA-EC0E3B8F5D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8CA8-FE69-49EB-B5BD-055AEA8036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DE3B-0D77-426B-84FC-BABE5BD424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0E8C-365B-4B5D-8864-62AFABCE91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87BA-8504-480D-B319-2EB1D86C75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F719-FE2C-45C9-9BD4-C20BAD745A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7D01-98D2-4B88-B02C-F56C9851A9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682C-3666-4D41-BFAC-A128BDCEAA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4003-69B2-45A6-AAF0-DFE8A53A56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CBE7-7715-4364-A42A-3F6BBF8DFE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DD01-99B2-4649-B3DA-F490F37A86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B391-15B4-4D63-95F6-46C1199582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3543-A119-4D56-BA7B-867FBC8D41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7A18-CAA5-4D0A-A59A-C5A65F3CF6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61E9-C7FC-4671-9FE0-FFD6DFEF3F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