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83826-835D-4BA4-9AB9-0862B049E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F1405-4AC7-4ADE-B22E-5FF71543C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4F51F-6F8C-486C-BDA3-9377E0842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D4F7B-6D98-4C50-8564-789FE58B0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73D69-41D3-4E04-8B8B-59BF6533E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40D6C-5301-413A-A00C-E0C661634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5E3B8-0E1A-40BE-AD7C-75E05276E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D9798-2128-453C-8A9F-09C6C17B4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BBF47-05D7-4445-A1AE-33384BD92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25A50-9A85-45E2-A814-86C7DC521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BBA26-85AB-44AB-AD05-0817EE79B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E2C26-AF1A-4488-8370-48B5CC723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65A6A-C851-4EB8-9FC0-187FD5ECE9F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42550-F084-449F-A3E9-EFDE77A1A1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Bookman Old Style"/>
              </a:rPr>
              <a:t>Čtverec kružítk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Tento trojúhelník je rovnoramenný, a proto výška půlí základn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Z Pythagorovy věty potom pro délku této výšky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LN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platí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4" descr=""/>
          <p:cNvPicPr/>
          <p:nvPr/>
        </p:nvPicPr>
        <p:blipFill>
          <a:blip r:embed="rId1"/>
          <a:stretch/>
        </p:blipFill>
        <p:spPr>
          <a:xfrm>
            <a:off x="1332000" y="1413000"/>
            <a:ext cx="5837040" cy="4892400"/>
          </a:xfrm>
          <a:prstGeom prst="rect">
            <a:avLst/>
          </a:prstGeom>
          <a:ln w="0">
            <a:noFill/>
          </a:ln>
        </p:spPr>
      </p:pic>
      <p:sp>
        <p:nvSpPr>
          <p:cNvPr id="73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…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a to jsme potřebovali. Možný postup j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Jsou dány body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a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B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Sestrojíme vrcholy pravidelného šestiúhelníku vepsaného do kružnice o poloměru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r = │AB 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Sestrojíme nad průměrem této kružnice vrchol rovnoramenného trojúhelníku s rameny dlouhými </a:t>
            </a: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│AB│∙√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Použijeme délku jeho výšky k základně a vzdálenost mezi 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a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B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jako poloměry dvou kružnic opsaných z bodu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B, 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resp.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 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, a sestrojíme tak bod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D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Bod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C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sestrojíme např. na průsečíku kružnic se středy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D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a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B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s poloměry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r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Řešení najdete na další straně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" descr=""/>
          <p:cNvPicPr/>
          <p:nvPr/>
        </p:nvPicPr>
        <p:blipFill>
          <a:blip r:embed="rId1"/>
          <a:stretch/>
        </p:blipFill>
        <p:spPr>
          <a:xfrm>
            <a:off x="1332000" y="260280"/>
            <a:ext cx="6583320" cy="6116760"/>
          </a:xfrm>
          <a:prstGeom prst="rect">
            <a:avLst/>
          </a:prstGeom>
          <a:ln w="0">
            <a:noFill/>
          </a:ln>
        </p:spPr>
      </p:pic>
      <p:sp>
        <p:nvSpPr>
          <p:cNvPr id="78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51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Bookman Old Style"/>
              </a:rPr>
              <a:t>Jsou dány body A a B. Sestrojte vrcholy C a D čtverce ABCD pouze s použitím kružítka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Zástupný symbol pro zápatí 3"/>
          <p:cNvSpPr/>
          <p:nvPr/>
        </p:nvSpPr>
        <p:spPr>
          <a:xfrm>
            <a:off x="642960" y="637704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Bookman Old Style"/>
              </a:rPr>
              <a:t>Mascheronské konstrukc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Bookman Old Style"/>
              </a:rPr>
              <a:t>Ital Lorenzo Mascheroni dokázal, že všechny konstrukce bodů, k jejichž sestrojení je třeba kružítka a pravítka lze sestrojit pouze kružítke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Bookman Old Style"/>
              </a:rPr>
              <a:t>Je to pracnější, zato delší postup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Bookman Old Style"/>
              </a:rPr>
              <a:t>Jednu „mascheronskou“ konstrukci už znáte. Kterou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95280" y="47592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Sestrojte vrcholy pravidelného šestiúhelníku vepsaného do dané kružnic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2268360" y="1484280"/>
            <a:ext cx="4969080" cy="4549680"/>
          </a:xfrm>
          <a:prstGeom prst="rect">
            <a:avLst/>
          </a:prstGeom>
          <a:ln w="0">
            <a:noFill/>
          </a:ln>
        </p:spPr>
      </p:pic>
      <p:sp>
        <p:nvSpPr>
          <p:cNvPr id="50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Pokusíme se odvodit konstrukci vrcholů čtverce pomocí jeho vlastností a využijeme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i znalost sestrojení šestiúhelník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Na všechny výpočty si vystačíme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s Pythagorovou větou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Nejdříve provedeme několik výpočtů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Bookman Old Style"/>
              </a:rPr>
              <a:t>Přiřaďte délky a úhly k úsečkám 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Bookman Old Style"/>
              </a:rPr>
              <a:t>v obrazcích, je-li a =│AB │= │EF 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6" descr=""/>
          <p:cNvPicPr/>
          <p:nvPr/>
        </p:nvPicPr>
        <p:blipFill>
          <a:blip r:embed="rId1"/>
          <a:stretch/>
        </p:blipFill>
        <p:spPr>
          <a:xfrm>
            <a:off x="652320" y="1600200"/>
            <a:ext cx="7839360" cy="4525920"/>
          </a:xfrm>
          <a:prstGeom prst="rect">
            <a:avLst/>
          </a:prstGeom>
          <a:ln w="0">
            <a:noFill/>
          </a:ln>
        </p:spPr>
      </p:pic>
      <p:sp>
        <p:nvSpPr>
          <p:cNvPr id="56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Bookman Old Style"/>
              </a:rPr>
              <a:t>Řešení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4" descr=""/>
          <p:cNvPicPr/>
          <p:nvPr/>
        </p:nvPicPr>
        <p:blipFill>
          <a:blip r:embed="rId1"/>
          <a:stretch/>
        </p:blipFill>
        <p:spPr>
          <a:xfrm>
            <a:off x="563400" y="1600200"/>
            <a:ext cx="8015400" cy="4525920"/>
          </a:xfrm>
          <a:prstGeom prst="rect">
            <a:avLst/>
          </a:prstGeom>
          <a:ln w="0">
            <a:noFill/>
          </a:ln>
        </p:spPr>
      </p:pic>
      <p:sp>
        <p:nvSpPr>
          <p:cNvPr id="60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Bookman Old Style"/>
              </a:rPr>
              <a:t>Pozor na chybu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197000"/>
            <a:ext cx="814716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Na obrázku to vypadá, že velikost úsečky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EI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(červená) je rovna 7mi základním dílkům rastru pozadí (strana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měří 4 dílky), ale ve skutečnosti je její délka rovna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√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3 =a ∙ </a:t>
            </a:r>
            <a:r>
              <a:rPr b="1" lang="en-US" sz="2000" spc="-1" strike="noStrike">
                <a:solidFill>
                  <a:srgbClr val="000000"/>
                </a:solidFill>
                <a:latin typeface="Bookman Old Style"/>
                <a:ea typeface="Arial"/>
              </a:rPr>
              <a:t>1,73205080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4" descr=""/>
          <p:cNvPicPr/>
          <p:nvPr/>
        </p:nvPicPr>
        <p:blipFill>
          <a:blip r:embed="rId1"/>
          <a:stretch/>
        </p:blipFill>
        <p:spPr>
          <a:xfrm>
            <a:off x="3995640" y="2637000"/>
            <a:ext cx="3735360" cy="3342960"/>
          </a:xfrm>
          <a:prstGeom prst="rect">
            <a:avLst/>
          </a:prstGeom>
          <a:ln w="0">
            <a:noFill/>
          </a:ln>
        </p:spPr>
      </p:pic>
      <p:sp>
        <p:nvSpPr>
          <p:cNvPr id="65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6840" y="476280"/>
            <a:ext cx="346716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Nyní se můžeme pustit do původní úlohy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Sestrojit vrcholy čtverce kružítkem znamená mít k dispozici dvě délky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a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a√2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. 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Délka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a 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je dána umístěním bodů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a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B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čtverce, zbývá tedy sestrojit úsečku o velikosti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a√2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Použijeme následující trojúhelník, jehož velikosti stran můžeme přenést z pravidelného šestiúhelník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3995640" y="404640"/>
            <a:ext cx="4802400" cy="5616720"/>
          </a:xfrm>
          <a:prstGeom prst="rect">
            <a:avLst/>
          </a:prstGeom>
          <a:ln w="0">
            <a:noFill/>
          </a:ln>
        </p:spPr>
      </p:pic>
      <p:sp>
        <p:nvSpPr>
          <p:cNvPr id="69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6T17:27:27Z</dcterms:created>
  <dc:creator>Mgr. David Hanzlíček</dc:creator>
  <dc:description>Dostupné z Metodického portálu www.rvp.cz, ISSN: 1802-4785, financovaného z ESF a státního rozpočtu ČR. Provozováno Výzkumným ústavem pedagogickým v Praze.</dc:description>
  <dc:language>en-US</dc:language>
  <cp:lastModifiedBy>Martin Klzo</cp:lastModifiedBy>
  <dcterms:modified xsi:type="dcterms:W3CDTF">2010-08-09T11:09:04Z</dcterms:modified>
  <cp:revision>14</cp:revision>
  <dc:subject/>
  <dc:title>Čtverec kružítkem</dc:title>
</cp:coreProperties>
</file>