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8478505"/>
        <c:axId val="14196431"/>
      </c:scatterChart>
      <c:valAx>
        <c:axId val="38478505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196431"/>
        <c:crosses val="autoZero"/>
        <c:crossBetween val="midCat"/>
        <c:majorUnit val="1"/>
      </c:valAx>
      <c:valAx>
        <c:axId val="14196431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8478505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66760381"/>
        <c:axId val="30360407"/>
      </c:scatterChart>
      <c:valAx>
        <c:axId val="66760381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0360407"/>
        <c:crosses val="autoZero"/>
        <c:crossBetween val="midCat"/>
        <c:majorUnit val="1"/>
      </c:valAx>
      <c:valAx>
        <c:axId val="30360407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6760381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21148264"/>
        <c:axId val="6219522"/>
      </c:scatterChart>
      <c:valAx>
        <c:axId val="21148264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219522"/>
        <c:crosses val="autoZero"/>
        <c:crossBetween val="midCat"/>
        <c:majorUnit val="2"/>
        <c:minorUnit val="1"/>
      </c:valAx>
      <c:valAx>
        <c:axId val="6219522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1148264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80422248"/>
        <c:axId val="78828002"/>
      </c:scatterChart>
      <c:valAx>
        <c:axId val="8042224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8828002"/>
        <c:crosses val="autoZero"/>
        <c:crossBetween val="midCat"/>
        <c:majorUnit val="2"/>
        <c:minorUnit val="0.05"/>
      </c:valAx>
      <c:valAx>
        <c:axId val="7882800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42224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44243486"/>
        <c:axId val="1890737"/>
      </c:scatterChart>
      <c:valAx>
        <c:axId val="4424348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890737"/>
        <c:crosses val="autoZero"/>
        <c:crossBetween val="midCat"/>
        <c:majorUnit val="2"/>
        <c:minorUnit val="0.05"/>
      </c:valAx>
      <c:valAx>
        <c:axId val="1890737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424348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6155094"/>
        <c:axId val="65474681"/>
      </c:scatterChart>
      <c:valAx>
        <c:axId val="9615509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5474681"/>
        <c:crosses val="autoZero"/>
        <c:crossBetween val="midCat"/>
        <c:majorUnit val="2"/>
        <c:minorUnit val="0.05"/>
      </c:valAx>
      <c:valAx>
        <c:axId val="6547468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6155094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64636793"/>
        <c:axId val="27316080"/>
      </c:scatterChart>
      <c:valAx>
        <c:axId val="6463679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7316080"/>
        <c:crosses val="autoZero"/>
        <c:crossBetween val="midCat"/>
        <c:majorUnit val="2"/>
      </c:valAx>
      <c:valAx>
        <c:axId val="27316080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4636793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6254328"/>
        <c:axId val="6081574"/>
      </c:scatterChart>
      <c:valAx>
        <c:axId val="7625432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081574"/>
        <c:crosses val="autoZero"/>
        <c:crossBetween val="midCat"/>
        <c:majorUnit val="2"/>
      </c:valAx>
      <c:valAx>
        <c:axId val="608157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254328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15197853"/>
        <c:axId val="81752538"/>
      </c:scatterChart>
      <c:valAx>
        <c:axId val="1519785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1752538"/>
        <c:crosses val="autoZero"/>
        <c:crossBetween val="midCat"/>
        <c:majorUnit val="2"/>
        <c:minorUnit val="0.05"/>
      </c:valAx>
      <c:valAx>
        <c:axId val="8175253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519785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C38027-374D-4079-906F-0BCCB3FAB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ED8DB1-7266-4598-8D20-25C73E3B8A8C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F74F7E-F70A-4D3F-8249-6AB793E48E00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13703D-8CB1-473C-8C8A-09ED90DBFD25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