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2309759"/>
        <c:axId val="17569814"/>
      </c:scatterChart>
      <c:valAx>
        <c:axId val="72309759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7569814"/>
        <c:crosses val="autoZero"/>
        <c:crossBetween val="midCat"/>
        <c:majorUnit val="1"/>
      </c:valAx>
      <c:valAx>
        <c:axId val="17569814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2309759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79665775"/>
        <c:axId val="53380644"/>
      </c:scatterChart>
      <c:valAx>
        <c:axId val="79665775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3380644"/>
        <c:crosses val="autoZero"/>
        <c:crossBetween val="midCat"/>
        <c:majorUnit val="1"/>
      </c:valAx>
      <c:valAx>
        <c:axId val="53380644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9665775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23747272"/>
        <c:axId val="46112323"/>
      </c:scatterChart>
      <c:valAx>
        <c:axId val="23747272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46112323"/>
        <c:crosses val="autoZero"/>
        <c:crossBetween val="midCat"/>
        <c:majorUnit val="2"/>
        <c:minorUnit val="1"/>
      </c:valAx>
      <c:valAx>
        <c:axId val="46112323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23747272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7057615"/>
        <c:axId val="80719971"/>
      </c:scatterChart>
      <c:valAx>
        <c:axId val="4705761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719971"/>
        <c:crosses val="autoZero"/>
        <c:crossBetween val="midCat"/>
        <c:majorUnit val="2"/>
        <c:minorUnit val="0.05"/>
      </c:valAx>
      <c:valAx>
        <c:axId val="8071997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705761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22928389"/>
        <c:axId val="41289601"/>
      </c:scatterChart>
      <c:valAx>
        <c:axId val="2292838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1289601"/>
        <c:crosses val="autoZero"/>
        <c:crossBetween val="midCat"/>
        <c:majorUnit val="2"/>
        <c:minorUnit val="0.05"/>
      </c:valAx>
      <c:valAx>
        <c:axId val="4128960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292838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52621442"/>
        <c:axId val="20216298"/>
      </c:scatterChart>
      <c:valAx>
        <c:axId val="5262144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0216298"/>
        <c:crosses val="autoZero"/>
        <c:crossBetween val="midCat"/>
        <c:majorUnit val="2"/>
        <c:minorUnit val="0.05"/>
      </c:valAx>
      <c:valAx>
        <c:axId val="2021629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262144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1879962"/>
        <c:axId val="8725722"/>
      </c:scatterChart>
      <c:valAx>
        <c:axId val="3187996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725722"/>
        <c:crosses val="autoZero"/>
        <c:crossBetween val="midCat"/>
        <c:majorUnit val="2"/>
      </c:valAx>
      <c:valAx>
        <c:axId val="8725722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1879962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5621584"/>
        <c:axId val="23287730"/>
      </c:scatterChart>
      <c:valAx>
        <c:axId val="9562158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3287730"/>
        <c:crosses val="autoZero"/>
        <c:crossBetween val="midCat"/>
        <c:majorUnit val="2"/>
      </c:valAx>
      <c:valAx>
        <c:axId val="23287730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5621584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92695921"/>
        <c:axId val="22740848"/>
      </c:scatterChart>
      <c:valAx>
        <c:axId val="9269592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2740848"/>
        <c:crosses val="autoZero"/>
        <c:crossBetween val="midCat"/>
        <c:majorUnit val="2"/>
        <c:minorUnit val="0.05"/>
      </c:valAx>
      <c:valAx>
        <c:axId val="2274084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269592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CB2699-B714-4DD0-91AD-727DB04BA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D11F74-189A-4A9B-9946-17528643CFE6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80FA72-F577-4ADA-AA97-E68CE7686B3A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7CE967-4BBD-45FE-850B-6D6D2D033D59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