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png" ContentType="image/png"/>
  <Override PartName="/ppt/media/image21.png" ContentType="image/png"/>
  <Override PartName="/ppt/media/image13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6.jpeg" ContentType="image/jpeg"/>
  <Override PartName="/ppt/media/chimes.wav" ContentType="audio/x-wav"/>
  <Override PartName="/ppt/media/image1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C060-7F81-4167-99E2-B11FF7312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B4C4-88A2-4962-A182-CBB1E8F0B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E081-1F2F-4194-A869-5181A9D3A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8AA9-8578-4522-A7B0-54D236156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1F9C-AEFA-44DA-A65E-D2DDAC539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8944-86B4-4DE4-9374-D3DF8C8A5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C6A5-80E2-48E2-B6C7-C63B91C2C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79F5-A282-41B9-9710-B51A8422C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3612-BCE8-4E75-B930-F3EBD827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3F27-80C6-49C3-998C-525A86C3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EE74-7D87-4D2C-8A7C-84226A62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E79F-D232-49BF-AFEF-32BDF521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95BCD-07D4-4928-AA1B-A0E334E3E32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SKLADBA PC 1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3715920"/>
            <a:ext cx="7993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10253f"/>
                </a:solidFill>
                <a:latin typeface="Arial"/>
                <a:ea typeface="Arial"/>
              </a:rPr>
              <a:t>EU OP VK VYT 2.14 TEST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3"/>
          <p:cNvSpPr/>
          <p:nvPr/>
        </p:nvSpPr>
        <p:spPr>
          <a:xfrm>
            <a:off x="0" y="545796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osef Vlach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–4785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Provozuje Národní ústav pro vzdělávání, školské poradenské zařízení a zařízení pro další vzdělávání pedagogických pracovníků 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2771640" y="1628640"/>
            <a:ext cx="5661000" cy="3600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276720" y="1170000"/>
            <a:ext cx="5689440" cy="568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323388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600" spc="-1" strike="noStrike">
                <a:solidFill>
                  <a:srgbClr val="ffff00"/>
                </a:solidFill>
                <a:latin typeface="Arial"/>
                <a:ea typeface="Arial"/>
              </a:rPr>
              <a:t>TEST č.1</a:t>
            </a: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Konec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Řešení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it ‒ zn. </a:t>
            </a:r>
            <a:r>
              <a:rPr b="1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ejmenší jednotka informace dvojkové soustavy – vyjadřuje, že se nějaký systém nacház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jednom ze DVOU možných stav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ano – ne, 0–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500" spc="-1" strike="noStrike">
                <a:solidFill>
                  <a:srgbClr val="000000"/>
                </a:solidFill>
                <a:latin typeface="Arial"/>
                <a:ea typeface="Arial"/>
              </a:rPr>
              <a:t>byte – zn. B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loučení 8 bitů – název  „bajt“, kombinac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8 jedniček a nul lze zapsat 256 znaků (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00"/>
                </a:solidFill>
                <a:latin typeface="Arial"/>
                <a:ea typeface="Arial"/>
              </a:rPr>
              <a:t>Počet otázek ‒ 2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K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kilo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M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mega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KB = 1 048 576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G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gigabajt)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MB = 1 048 576 KB = 1 073 741 824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eřská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her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ákladní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PROCE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SLOT 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PCI EXPRES V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PARALELNÍ 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AUDIO I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LAN + 2x US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EKTOR MYŠ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. KLÁVESN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139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140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141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142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3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144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145" name="Obdélník 11" descr=""/>
          <p:cNvPicPr/>
          <p:nvPr/>
        </p:nvPicPr>
        <p:blipFill>
          <a:blip r:embed="rId8"/>
          <a:stretch/>
        </p:blipFill>
        <p:spPr>
          <a:xfrm>
            <a:off x="297504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6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10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317808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ZDROJ NAPÁJENÍ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TRANSFORMUJE SÍŤOVÉ NAPĚTÍ</a:t>
            </a:r>
            <a:br>
              <a:rPr sz="2200"/>
            </a:b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220 V NA BEZPEČNÉ NAPĚT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12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5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3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RO NAPÁJENÍ JEDNOTLIVÝCH KOMPONENTŮ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RAM – operační paměť, po odpojení napájení obsah paměti zmizí – obsah paměti NENÍ ulož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MSI nVidia N8400GS-D512H, 512MB DDR2, 64bit, DVI, Fan"/>
          <p:cNvPicPr/>
          <p:nvPr/>
        </p:nvPicPr>
        <p:blipFill>
          <a:blip r:embed="rId1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GA – Grafická karta (PCI Exp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pro převedení numerických hodnot PC na vizuální prostředí – převede data na monitor – výstupní zaří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3376440" y="1916280"/>
            <a:ext cx="5659560" cy="36003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CPU – proce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 dvoujádrový procesor – zpracovává všechny  zadávané informace – základní prvek 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ÍŤOVÁ KARTA 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ek umožňující zapojení PC do sítí INTRANETU</a:t>
            </a:r>
            <a:br>
              <a:rPr sz="2400"/>
            </a:b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 INTERNETU – zajišťuje komunikaci PC se síťovými prv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rovedení PC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DD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hard drive disc)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– pevný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k ukládání dat – úložišt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vedení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C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LADICÍ PRV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 o kombinaci aktivního a pasivního chlaze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ktivní – větráč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sivní – blok hliníkového chladič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odvedení nežádoucího tepla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prvků PC, jako je procesor, koprocesor, grafická karta 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i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P fotoskener ScanJet G3110"/>
          <p:cNvPicPr/>
          <p:nvPr/>
        </p:nvPicPr>
        <p:blipFill>
          <a:blip r:embed="rId1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SCANER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(SKENER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Vstupní zařízení, které slouží pro digitalizaci obrazových či textových předloh určených k dalšímu zpracování pomocí PC. Pomocí software OCR je možné digitalizovaný text převést do textového editoru a dále jej editova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ISKÁR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stupní zařízení – zde je na první pohled vidět, že se jedná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 inkoustovou tiskárnu, primárně určenou na tisk fotografií. Nevýhodou inkoustového tisku je vysoká nákladnost tisku a potřebného spotřebního materiál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P inkoustová tiskárna DeskJet D2660 (A4, 28 ppm, USB 2.0)"/>
          <p:cNvPicPr/>
          <p:nvPr/>
        </p:nvPicPr>
        <p:blipFill>
          <a:blip r:embed="rId1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WEBKAM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vizualizaci prostředí eventuálně pro vizuální komunikaci pomocí sítě INTRANETU či INTERNE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alší možností jso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abezpečení pros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álkový dohl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ožnost připojení k PC přímo či pomocí LAN sí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TP-LINK TL-SC3130G, WiFi IP Kamera, 3GPP, 2-way (mikrofon i repro), VGA při 30fps"/>
          <p:cNvPicPr/>
          <p:nvPr/>
        </p:nvPicPr>
        <p:blipFill>
          <a:blip r:embed="rId1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17375e"/>
                </a:solidFill>
                <a:latin typeface="Arial"/>
                <a:ea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ovéPole 10"/>
          <p:cNvSpPr/>
          <p:nvPr/>
        </p:nvSpPr>
        <p:spPr>
          <a:xfrm>
            <a:off x="826920" y="1413000"/>
            <a:ext cx="74901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 prezentaci jsou použity obrazové a textové zdroje f. T.S. BOHEMIA s jejím souhlas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Obrázek 11" descr="tsbohemia_logo.gif"/>
          <p:cNvPicPr/>
          <p:nvPr/>
        </p:nvPicPr>
        <p:blipFill>
          <a:blip r:embed="rId1"/>
          <a:stretch/>
        </p:blipFill>
        <p:spPr>
          <a:xfrm>
            <a:off x="2556000" y="3068640"/>
            <a:ext cx="4390920" cy="199692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yte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Zapište: </a:t>
            </a:r>
            <a:r>
              <a:rPr b="0" i="1" lang="cs-CZ" sz="6800" spc="-1" strike="noStrike">
                <a:solidFill>
                  <a:srgbClr val="000000"/>
                </a:solidFill>
                <a:latin typeface="Arial"/>
                <a:ea typeface="Arial"/>
              </a:rPr>
              <a:t>běžně používané násobky „byte“ a číselně vyjádřete jejich hodnotu v byte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62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63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64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65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66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67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68" name="Obdélník 11" descr=""/>
          <p:cNvPicPr/>
          <p:nvPr/>
        </p:nvPicPr>
        <p:blipFill>
          <a:blip r:embed="rId8"/>
          <a:stretch/>
        </p:blipFill>
        <p:spPr>
          <a:xfrm>
            <a:off x="2992320" y="4870440"/>
            <a:ext cx="1330560" cy="1603440"/>
          </a:xfrm>
          <a:prstGeom prst="rect">
            <a:avLst/>
          </a:prstGeom>
          <a:ln w="0">
            <a:noFill/>
          </a:ln>
        </p:spPr>
      </p:pic>
      <p:pic>
        <p:nvPicPr>
          <p:cNvPr id="69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 advTm="60000">
    <p:fade/>
    <p:sndAc>
      <p:stSnd>
        <p:snd r:embed="rId10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291636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6:57:46Z</dcterms:created>
  <dc:creator>vlachj</dc:creator>
  <dc:description>Autorem materiálu a všech jeho částí, není-li uvedeno jinak, je Mgr. Josef Vlach.
Dostupné z Metodického portálu www.rvp.cz, ISSN: 1802–4785. Provozuje Národní ústav pro vzdělávání, školské poradenské zařízení a zařízení pro další vzdělávání pedagogických pracovníků (NÚV).</dc:description>
  <dc:language>en-US</dc:language>
  <cp:lastModifiedBy>Krobot Ivo</cp:lastModifiedBy>
  <dcterms:modified xsi:type="dcterms:W3CDTF">2012-12-13T08:25:07Z</dcterms:modified>
  <cp:revision>43</cp:revision>
  <dc:subject/>
  <dc:title>TEST č.1</dc:title>
</cp:coreProperties>
</file>