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67183069"/>
        <c:axId val="31413619"/>
      </c:scatterChart>
      <c:valAx>
        <c:axId val="67183069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1413619"/>
        <c:crosses val="autoZero"/>
        <c:crossBetween val="midCat"/>
        <c:majorUnit val="1"/>
      </c:valAx>
      <c:valAx>
        <c:axId val="31413619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7183069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74090432"/>
        <c:axId val="64936969"/>
      </c:scatterChart>
      <c:valAx>
        <c:axId val="74090432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4936969"/>
        <c:crosses val="autoZero"/>
        <c:crossBetween val="midCat"/>
        <c:majorUnit val="1"/>
      </c:valAx>
      <c:valAx>
        <c:axId val="64936969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4090432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60428009"/>
        <c:axId val="89853390"/>
      </c:scatterChart>
      <c:valAx>
        <c:axId val="60428009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89853390"/>
        <c:crosses val="autoZero"/>
        <c:crossBetween val="midCat"/>
        <c:majorUnit val="2"/>
        <c:minorUnit val="1"/>
      </c:valAx>
      <c:valAx>
        <c:axId val="89853390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0428009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21717890"/>
        <c:axId val="99203704"/>
      </c:scatterChart>
      <c:valAx>
        <c:axId val="2171789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9203704"/>
        <c:crosses val="autoZero"/>
        <c:crossBetween val="midCat"/>
        <c:majorUnit val="2"/>
        <c:minorUnit val="0.05"/>
      </c:valAx>
      <c:valAx>
        <c:axId val="9920370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171789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45336531"/>
        <c:axId val="80240896"/>
      </c:scatterChart>
      <c:valAx>
        <c:axId val="4533653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240896"/>
        <c:crosses val="autoZero"/>
        <c:crossBetween val="midCat"/>
        <c:majorUnit val="2"/>
        <c:minorUnit val="0.05"/>
      </c:valAx>
      <c:valAx>
        <c:axId val="8024089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533653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82366514"/>
        <c:axId val="31759511"/>
      </c:scatterChart>
      <c:valAx>
        <c:axId val="8236651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1759511"/>
        <c:crosses val="autoZero"/>
        <c:crossBetween val="midCat"/>
        <c:majorUnit val="2"/>
        <c:minorUnit val="0.05"/>
      </c:valAx>
      <c:valAx>
        <c:axId val="3175951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236651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7581056"/>
        <c:axId val="78449035"/>
      </c:scatterChart>
      <c:valAx>
        <c:axId val="3758105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8449035"/>
        <c:crosses val="autoZero"/>
        <c:crossBetween val="midCat"/>
        <c:majorUnit val="2"/>
      </c:valAx>
      <c:valAx>
        <c:axId val="78449035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7581056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16647384"/>
        <c:axId val="82306928"/>
      </c:scatterChart>
      <c:valAx>
        <c:axId val="1664738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2306928"/>
        <c:crosses val="autoZero"/>
        <c:crossBetween val="midCat"/>
        <c:majorUnit val="2"/>
      </c:valAx>
      <c:valAx>
        <c:axId val="82306928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6647384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65352362"/>
        <c:axId val="80057947"/>
      </c:scatterChart>
      <c:valAx>
        <c:axId val="6535236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057947"/>
        <c:crosses val="autoZero"/>
        <c:crossBetween val="midCat"/>
        <c:majorUnit val="2"/>
        <c:minorUnit val="0.05"/>
      </c:valAx>
      <c:valAx>
        <c:axId val="8005794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535236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5E9F3F-9747-46D4-98C8-FB1B77B64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E9CB1C-8A9E-42FD-BB1D-38821F3ED847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EDC562-4256-4A4F-8EEF-86C02DF2F009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9AAD72-00C4-455C-BF7C-8440236683DF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