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476319"/>
        <c:axId val="43291831"/>
      </c:scatterChart>
      <c:valAx>
        <c:axId val="147631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291831"/>
        <c:crosses val="autoZero"/>
        <c:crossBetween val="midCat"/>
        <c:majorUnit val="1"/>
      </c:valAx>
      <c:valAx>
        <c:axId val="4329183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7631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6433134"/>
        <c:axId val="46650722"/>
      </c:scatterChart>
      <c:valAx>
        <c:axId val="9643313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650722"/>
        <c:crosses val="autoZero"/>
        <c:crossBetween val="midCat"/>
        <c:majorUnit val="1"/>
      </c:valAx>
      <c:valAx>
        <c:axId val="4665072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43313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7069291"/>
        <c:axId val="11286896"/>
      </c:scatterChart>
      <c:valAx>
        <c:axId val="6706929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1286896"/>
        <c:crosses val="autoZero"/>
        <c:crossBetween val="midCat"/>
        <c:majorUnit val="2"/>
        <c:minorUnit val="1"/>
      </c:valAx>
      <c:valAx>
        <c:axId val="1128689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706929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4469185"/>
        <c:axId val="56096523"/>
      </c:scatterChart>
      <c:valAx>
        <c:axId val="844691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096523"/>
        <c:crosses val="autoZero"/>
        <c:crossBetween val="midCat"/>
        <c:majorUnit val="2"/>
        <c:minorUnit val="0.05"/>
      </c:valAx>
      <c:valAx>
        <c:axId val="560965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4691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1278708"/>
        <c:axId val="48317534"/>
      </c:scatterChart>
      <c:valAx>
        <c:axId val="512787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317534"/>
        <c:crosses val="autoZero"/>
        <c:crossBetween val="midCat"/>
        <c:majorUnit val="2"/>
        <c:minorUnit val="0.05"/>
      </c:valAx>
      <c:valAx>
        <c:axId val="4831753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27870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2789932"/>
        <c:axId val="28940050"/>
      </c:scatterChart>
      <c:valAx>
        <c:axId val="9278993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940050"/>
        <c:crosses val="autoZero"/>
        <c:crossBetween val="midCat"/>
        <c:majorUnit val="2"/>
        <c:minorUnit val="0.05"/>
      </c:valAx>
      <c:valAx>
        <c:axId val="2894005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78993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156477"/>
        <c:axId val="68987993"/>
      </c:scatterChart>
      <c:valAx>
        <c:axId val="115647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987993"/>
        <c:crosses val="autoZero"/>
        <c:crossBetween val="midCat"/>
        <c:majorUnit val="2"/>
      </c:valAx>
      <c:valAx>
        <c:axId val="6898799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5647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9906879"/>
        <c:axId val="75441285"/>
      </c:scatterChart>
      <c:valAx>
        <c:axId val="4990687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441285"/>
        <c:crosses val="autoZero"/>
        <c:crossBetween val="midCat"/>
        <c:majorUnit val="2"/>
      </c:valAx>
      <c:valAx>
        <c:axId val="7544128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90687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3728601"/>
        <c:axId val="71287945"/>
      </c:scatterChart>
      <c:valAx>
        <c:axId val="4372860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287945"/>
        <c:crosses val="autoZero"/>
        <c:crossBetween val="midCat"/>
        <c:majorUnit val="2"/>
        <c:minorUnit val="0.05"/>
      </c:valAx>
      <c:valAx>
        <c:axId val="7128794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72860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F30C4-1955-4018-A41C-05211509D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23F1E0-11A8-451C-804C-79EA8FBA4B3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27A209-A606-48EB-B200-211E2F03EDE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103E5-D832-4659-B710-E13A85BFFF2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