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4830412"/>
        <c:axId val="26114408"/>
      </c:scatterChart>
      <c:valAx>
        <c:axId val="2483041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114408"/>
        <c:crosses val="autoZero"/>
        <c:crossBetween val="midCat"/>
        <c:majorUnit val="1"/>
      </c:valAx>
      <c:valAx>
        <c:axId val="2611440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83041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31592034"/>
        <c:axId val="22126653"/>
      </c:scatterChart>
      <c:valAx>
        <c:axId val="3159203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126653"/>
        <c:crosses val="autoZero"/>
        <c:crossBetween val="midCat"/>
        <c:majorUnit val="1"/>
      </c:valAx>
      <c:valAx>
        <c:axId val="22126653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59203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3924140"/>
        <c:axId val="15062276"/>
      </c:scatterChart>
      <c:valAx>
        <c:axId val="63924140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5062276"/>
        <c:crosses val="autoZero"/>
        <c:crossBetween val="midCat"/>
        <c:majorUnit val="2"/>
        <c:minorUnit val="1"/>
      </c:valAx>
      <c:valAx>
        <c:axId val="1506227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3924140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507482"/>
        <c:axId val="63494529"/>
      </c:scatterChart>
      <c:valAx>
        <c:axId val="450748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494529"/>
        <c:crosses val="autoZero"/>
        <c:crossBetween val="midCat"/>
        <c:majorUnit val="2"/>
        <c:minorUnit val="0.05"/>
      </c:valAx>
      <c:valAx>
        <c:axId val="634945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0748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0395834"/>
        <c:axId val="73795623"/>
      </c:scatterChart>
      <c:valAx>
        <c:axId val="203958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795623"/>
        <c:crosses val="autoZero"/>
        <c:crossBetween val="midCat"/>
        <c:majorUnit val="2"/>
        <c:minorUnit val="0.05"/>
      </c:valAx>
      <c:valAx>
        <c:axId val="737956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39583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1090745"/>
        <c:axId val="4869729"/>
      </c:scatterChart>
      <c:valAx>
        <c:axId val="7109074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69729"/>
        <c:crosses val="autoZero"/>
        <c:crossBetween val="midCat"/>
        <c:majorUnit val="2"/>
        <c:minorUnit val="0.05"/>
      </c:valAx>
      <c:valAx>
        <c:axId val="48697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09074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1810649"/>
        <c:axId val="49938993"/>
      </c:scatterChart>
      <c:valAx>
        <c:axId val="918106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938993"/>
        <c:crosses val="autoZero"/>
        <c:crossBetween val="midCat"/>
        <c:majorUnit val="2"/>
      </c:valAx>
      <c:valAx>
        <c:axId val="4993899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81064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0267248"/>
        <c:axId val="98306489"/>
      </c:scatterChart>
      <c:valAx>
        <c:axId val="9026724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306489"/>
        <c:crosses val="autoZero"/>
        <c:crossBetween val="midCat"/>
        <c:majorUnit val="2"/>
      </c:valAx>
      <c:valAx>
        <c:axId val="9830648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26724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2774260"/>
        <c:axId val="30760389"/>
      </c:scatterChart>
      <c:valAx>
        <c:axId val="4277426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760389"/>
        <c:crosses val="autoZero"/>
        <c:crossBetween val="midCat"/>
        <c:majorUnit val="2"/>
        <c:minorUnit val="0.05"/>
      </c:valAx>
      <c:valAx>
        <c:axId val="3076038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77426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FBD9B-74BC-4D54-BD25-75FB18A9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D8AD3-C5F9-4311-9D82-31E5029AE00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B42A8-225B-4375-A23E-EC3C53A5325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4B9CCD-5509-443A-9CE1-11FE764FDBE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