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9348742"/>
        <c:axId val="46361650"/>
      </c:scatterChart>
      <c:valAx>
        <c:axId val="7934874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361650"/>
        <c:crosses val="autoZero"/>
        <c:crossBetween val="midCat"/>
        <c:majorUnit val="1"/>
      </c:valAx>
      <c:valAx>
        <c:axId val="46361650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34874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11516000"/>
        <c:axId val="13791384"/>
      </c:scatterChart>
      <c:valAx>
        <c:axId val="1151600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791384"/>
        <c:crosses val="autoZero"/>
        <c:crossBetween val="midCat"/>
        <c:majorUnit val="1"/>
      </c:valAx>
      <c:valAx>
        <c:axId val="1379138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51600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25748094"/>
        <c:axId val="86857983"/>
      </c:scatterChart>
      <c:valAx>
        <c:axId val="25748094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6857983"/>
        <c:crosses val="autoZero"/>
        <c:crossBetween val="midCat"/>
        <c:majorUnit val="2"/>
        <c:minorUnit val="1"/>
      </c:valAx>
      <c:valAx>
        <c:axId val="8685798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5748094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2971896"/>
        <c:axId val="8098559"/>
      </c:scatterChart>
      <c:valAx>
        <c:axId val="2297189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98559"/>
        <c:crosses val="autoZero"/>
        <c:crossBetween val="midCat"/>
        <c:majorUnit val="2"/>
        <c:minorUnit val="0.05"/>
      </c:valAx>
      <c:valAx>
        <c:axId val="809855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97189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62018173"/>
        <c:axId val="27282022"/>
      </c:scatterChart>
      <c:valAx>
        <c:axId val="6201817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282022"/>
        <c:crosses val="autoZero"/>
        <c:crossBetween val="midCat"/>
        <c:majorUnit val="2"/>
        <c:minorUnit val="0.05"/>
      </c:valAx>
      <c:valAx>
        <c:axId val="2728202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01817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8973559"/>
        <c:axId val="58201895"/>
      </c:scatterChart>
      <c:valAx>
        <c:axId val="3897355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201895"/>
        <c:crosses val="autoZero"/>
        <c:crossBetween val="midCat"/>
        <c:majorUnit val="2"/>
        <c:minorUnit val="0.05"/>
      </c:valAx>
      <c:valAx>
        <c:axId val="5820189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97355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5903571"/>
        <c:axId val="10434697"/>
      </c:scatterChart>
      <c:valAx>
        <c:axId val="5590357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434697"/>
        <c:crosses val="autoZero"/>
        <c:crossBetween val="midCat"/>
        <c:majorUnit val="2"/>
      </c:valAx>
      <c:valAx>
        <c:axId val="1043469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90357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7019208"/>
        <c:axId val="73279725"/>
      </c:scatterChart>
      <c:valAx>
        <c:axId val="3701920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279725"/>
        <c:crosses val="autoZero"/>
        <c:crossBetween val="midCat"/>
        <c:majorUnit val="2"/>
      </c:valAx>
      <c:valAx>
        <c:axId val="7327972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01920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5283678"/>
        <c:axId val="6260324"/>
      </c:scatterChart>
      <c:valAx>
        <c:axId val="1528367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60324"/>
        <c:crosses val="autoZero"/>
        <c:crossBetween val="midCat"/>
        <c:majorUnit val="2"/>
        <c:minorUnit val="0.05"/>
      </c:valAx>
      <c:valAx>
        <c:axId val="626032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28367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F2737F-8A76-41D3-BAB1-8D58843A6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D880E1-0DF2-4241-A609-2A8D92675AD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27353F-4ECA-4B38-B032-90D44D1E92F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12D684-8CBB-4A86-A360-3B9A5DCE87C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