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11905592"/>
        <c:axId val="76813926"/>
      </c:scatterChart>
      <c:valAx>
        <c:axId val="11905592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6813926"/>
        <c:crosses val="autoZero"/>
        <c:crossBetween val="midCat"/>
        <c:majorUnit val="1"/>
      </c:valAx>
      <c:valAx>
        <c:axId val="76813926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1905592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27266847"/>
        <c:axId val="66716906"/>
      </c:scatterChart>
      <c:valAx>
        <c:axId val="27266847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6716906"/>
        <c:crosses val="autoZero"/>
        <c:crossBetween val="midCat"/>
        <c:majorUnit val="1"/>
      </c:valAx>
      <c:valAx>
        <c:axId val="66716906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7266847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87343075"/>
        <c:axId val="55221326"/>
      </c:scatterChart>
      <c:valAx>
        <c:axId val="87343075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55221326"/>
        <c:crosses val="autoZero"/>
        <c:crossBetween val="midCat"/>
        <c:majorUnit val="2"/>
        <c:minorUnit val="1"/>
      </c:valAx>
      <c:valAx>
        <c:axId val="55221326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87343075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74977367"/>
        <c:axId val="83022008"/>
      </c:scatterChart>
      <c:valAx>
        <c:axId val="74977367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3022008"/>
        <c:crosses val="autoZero"/>
        <c:crossBetween val="midCat"/>
        <c:majorUnit val="2"/>
        <c:minorUnit val="0.05"/>
      </c:valAx>
      <c:valAx>
        <c:axId val="83022008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4977367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98162429"/>
        <c:axId val="47052948"/>
      </c:scatterChart>
      <c:valAx>
        <c:axId val="98162429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7052948"/>
        <c:crosses val="autoZero"/>
        <c:crossBetween val="midCat"/>
        <c:majorUnit val="2"/>
        <c:minorUnit val="0.05"/>
      </c:valAx>
      <c:valAx>
        <c:axId val="47052948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8162429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46860042"/>
        <c:axId val="8740456"/>
      </c:scatterChart>
      <c:valAx>
        <c:axId val="46860042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740456"/>
        <c:crosses val="autoZero"/>
        <c:crossBetween val="midCat"/>
        <c:majorUnit val="2"/>
        <c:minorUnit val="0.05"/>
      </c:valAx>
      <c:valAx>
        <c:axId val="8740456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6860042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33903691"/>
        <c:axId val="47756955"/>
      </c:scatterChart>
      <c:valAx>
        <c:axId val="33903691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7756955"/>
        <c:crosses val="autoZero"/>
        <c:crossBetween val="midCat"/>
        <c:majorUnit val="2"/>
      </c:valAx>
      <c:valAx>
        <c:axId val="47756955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3903691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75822103"/>
        <c:axId val="78917456"/>
      </c:scatterChart>
      <c:valAx>
        <c:axId val="75822103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8917456"/>
        <c:crosses val="autoZero"/>
        <c:crossBetween val="midCat"/>
        <c:majorUnit val="2"/>
      </c:valAx>
      <c:valAx>
        <c:axId val="78917456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5822103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32456173"/>
        <c:axId val="16481833"/>
      </c:scatterChart>
      <c:valAx>
        <c:axId val="32456173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6481833"/>
        <c:crosses val="autoZero"/>
        <c:crossBetween val="midCat"/>
        <c:majorUnit val="2"/>
        <c:minorUnit val="0.05"/>
      </c:valAx>
      <c:valAx>
        <c:axId val="16481833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2456173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5E2E01-C0C4-4355-A8D0-130F14088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F34B511-4592-49C4-BC5E-F06D9190E46F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33B2D04-AB63-4017-B40B-EC284B4CF2D0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2F90888-8754-41C5-BFA6-C1F946B1FA15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