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5779055"/>
        <c:axId val="55372161"/>
      </c:scatterChart>
      <c:valAx>
        <c:axId val="6577905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372161"/>
        <c:crosses val="autoZero"/>
        <c:crossBetween val="midCat"/>
        <c:majorUnit val="1"/>
      </c:valAx>
      <c:valAx>
        <c:axId val="5537216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77905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8112059"/>
        <c:axId val="92447970"/>
      </c:scatterChart>
      <c:valAx>
        <c:axId val="7811205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447970"/>
        <c:crosses val="autoZero"/>
        <c:crossBetween val="midCat"/>
        <c:majorUnit val="1"/>
      </c:valAx>
      <c:valAx>
        <c:axId val="92447970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11205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58667280"/>
        <c:axId val="97492352"/>
      </c:scatterChart>
      <c:valAx>
        <c:axId val="58667280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7492352"/>
        <c:crosses val="autoZero"/>
        <c:crossBetween val="midCat"/>
        <c:majorUnit val="2"/>
        <c:minorUnit val="1"/>
      </c:valAx>
      <c:valAx>
        <c:axId val="97492352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8667280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7986039"/>
        <c:axId val="28411875"/>
      </c:scatterChart>
      <c:valAx>
        <c:axId val="6798603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411875"/>
        <c:crosses val="autoZero"/>
        <c:crossBetween val="midCat"/>
        <c:majorUnit val="2"/>
        <c:minorUnit val="0.05"/>
      </c:valAx>
      <c:valAx>
        <c:axId val="2841187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98603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8544346"/>
        <c:axId val="48968032"/>
      </c:scatterChart>
      <c:valAx>
        <c:axId val="9854434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968032"/>
        <c:crosses val="autoZero"/>
        <c:crossBetween val="midCat"/>
        <c:majorUnit val="2"/>
        <c:minorUnit val="0.05"/>
      </c:valAx>
      <c:valAx>
        <c:axId val="4896803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54434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8881573"/>
        <c:axId val="96260218"/>
      </c:scatterChart>
      <c:valAx>
        <c:axId val="9888157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6260218"/>
        <c:crosses val="autoZero"/>
        <c:crossBetween val="midCat"/>
        <c:majorUnit val="2"/>
        <c:minorUnit val="0.05"/>
      </c:valAx>
      <c:valAx>
        <c:axId val="9626021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88157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8636024"/>
        <c:axId val="2096599"/>
      </c:scatterChart>
      <c:valAx>
        <c:axId val="6863602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96599"/>
        <c:crosses val="autoZero"/>
        <c:crossBetween val="midCat"/>
        <c:majorUnit val="2"/>
      </c:valAx>
      <c:valAx>
        <c:axId val="209659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63602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6111414"/>
        <c:axId val="73752614"/>
      </c:scatterChart>
      <c:valAx>
        <c:axId val="7611141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752614"/>
        <c:crosses val="autoZero"/>
        <c:crossBetween val="midCat"/>
        <c:majorUnit val="2"/>
      </c:valAx>
      <c:valAx>
        <c:axId val="7375261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11141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2714162"/>
        <c:axId val="75631738"/>
      </c:scatterChart>
      <c:valAx>
        <c:axId val="3271416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631738"/>
        <c:crosses val="autoZero"/>
        <c:crossBetween val="midCat"/>
        <c:majorUnit val="2"/>
        <c:minorUnit val="0.05"/>
      </c:valAx>
      <c:valAx>
        <c:axId val="7563173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71416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C5999C-E856-45D5-85B6-63DA043AC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0B8622-FC1A-4F86-83C2-AD1C3044804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8DE08A-1676-46A6-9D14-43DDA557B19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8129AB-8835-458A-BD4C-23656AFDED3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