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30.jpeg" ContentType="image/jpeg"/>
  <Override PartName="/ppt/media/image31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3.jpeg" ContentType="image/jpeg"/>
  <Override PartName="/ppt/media/image46.jpeg" ContentType="image/jpeg"/>
  <Override PartName="/ppt/media/image53.jpeg" ContentType="image/jpeg"/>
  <Override PartName="/ppt/media/image32.jpeg" ContentType="image/jpeg"/>
  <Override PartName="/ppt/media/image51.png" ContentType="image/png"/>
  <Override PartName="/ppt/media/image54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0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1800" y="380880"/>
            <a:ext cx="845820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10. KVĚTEN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nství je soubor květů v charakteristickém uspořádání, stálém pro daný taxon – po odkvětu a dozrání plodů se z květenství stává plodenství (viz plod; základní rozdíl oproti souplodí – souplodí vzniká z více plodolistů v rámci jednoho květ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jově původní byly rostliny s jednotlivými květy, dnes však má většina rostlin květy uspořádané v květenství (případně jednotlivé květy vzniklé zpětnou redukc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talipot_palm" descr=""/>
          <p:cNvPicPr/>
          <p:nvPr/>
        </p:nvPicPr>
        <p:blipFill>
          <a:blip r:embed="rId1"/>
          <a:srcRect l="2104" t="0" r="2104" b="0"/>
          <a:stretch/>
        </p:blipFill>
        <p:spPr>
          <a:xfrm>
            <a:off x="6022800" y="2660760"/>
            <a:ext cx="2689560" cy="3740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86360" y="611172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moicafe.org/cgi-b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cbbs/cbbs.cgi?mode=one&amp;namber=37&amp;type=12&amp;space=30&amp;no=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lowering_talipot_palm" descr=""/>
          <p:cNvPicPr/>
          <p:nvPr/>
        </p:nvPicPr>
        <p:blipFill>
          <a:blip r:embed="rId2"/>
          <a:stretch/>
        </p:blipFill>
        <p:spPr>
          <a:xfrm>
            <a:off x="2743200" y="400356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92400" y="6213600"/>
            <a:ext cx="2895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en.wikipedia.org/wiki/Image:Flowering_Talipot_Palm_04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1800" y="2533680"/>
            <a:ext cx="55627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a: květenství, která vypadají jako jeden květ (např. úbory), se označují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seudanth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asické „morfologické“ (popisné) dělení květenství: hroznovitá a vrcholičnatá, jednoduchá a složen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6600" y="5654520"/>
            <a:ext cx="238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orypha umbraculifer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alma, čeleď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recacea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 – největší květenství na světě, řádově 100 000 květ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1800" y="3886200"/>
            <a:ext cx="245772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jový pohled rozlišuje v první řadě květenství uzavřená (ukončen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covým květem) a otevřená (nekončící květ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12901" t="5368" r="7167" b="5368"/>
          <a:stretch/>
        </p:blipFill>
        <p:spPr>
          <a:xfrm>
            <a:off x="6485040" y="457200"/>
            <a:ext cx="2224080" cy="3317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61800" y="380880"/>
            <a:ext cx="61153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původní typ složeného květenství je považová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ob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zavřené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znovitě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ven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acemózní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n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rozprostřením laty do plochy vzniká chocholičnatá lata (čili kytka v klasickém pojetí), dalším zkrácením středních větv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rchol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 níž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ž postranní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už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46441" t="9843" r="23213" b="32808"/>
          <a:stretch/>
        </p:blipFill>
        <p:spPr>
          <a:xfrm>
            <a:off x="5162400" y="1962000"/>
            <a:ext cx="122904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89760" y="2600280"/>
            <a:ext cx="30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17880" y="3003480"/>
            <a:ext cx="256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endrologie.cz/popiscastidrevin/kvetenstvi4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60960" y="2460600"/>
            <a:ext cx="24912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3886200"/>
            <a:ext cx="8458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á květenství s monopodiálním větvením (hlavní stonek jde až do vrcholu) – složený hrozen (hrozen z hroznů 2 i více řádů), klas z klásků, složený okolí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1800" y="1851120"/>
            <a:ext cx="472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typ je v klasickém pojetí obtížně zařaditelný – je přeměnou laty a spodní květy rozkvétají dříve než horní (racemózní znak), ale postranní větve zase přerůstají vrchol (cymózní zna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53320" y="2841480"/>
            <a:ext cx="9954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Tužebník obecn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Filipendula vulg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70560" y="3589200"/>
            <a:ext cx="2392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FilipendulaVulg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800" y="3252960"/>
            <a:ext cx="6191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ze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rminální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tryoi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 klas s terminálním květem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chyoi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až 1 kvě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715160" y="4605480"/>
          <a:ext cx="98280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15160" y="4605480"/>
                    <a:ext cx="98280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875640" y="4605480"/>
          <a:ext cx="741240" cy="18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5640" y="4605480"/>
                    <a:ext cx="74124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361800" y="4530600"/>
            <a:ext cx="647712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terotaktické květenství představ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yrs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tevřené hlavní květenství + obvykle uzavřená vrcholičnatě větvená postranní květenství (koflorescence) – příkladem je již výše zmíněná čeleď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am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její hrozen lichopřeslenů aneb „po novu“ thyrsus stažených dichazií (schéma na obr. vl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hyrsus jako celek rozkvétá odspodu (akropetálně), ale dílčí boční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nství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řed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centrifugálně,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c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ymóz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478800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0803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61800" y="380880"/>
            <a:ext cx="352440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zavřenou obdobou thyrsu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yrsoi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notelní květenství, které rozkvétá od vrcholový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ů směrem k bá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olnička (schéma vlevo) má thyrsoid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moklad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boční květenství všechna stejného typu) a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zoton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šechny boční větve stejně vyvinut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0" r="18454" b="14764"/>
          <a:stretch/>
        </p:blipFill>
        <p:spPr>
          <a:xfrm>
            <a:off x="3760920" y="457200"/>
            <a:ext cx="2819160" cy="2211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60360" y="2852640"/>
            <a:ext cx="581184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aziton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hyrsoid má spodní větve s delšími stopkami anebo více větvené (zde schéma vlevo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eteroklad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hyrsoid má boční květenství různého typ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chém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pravo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ilene nutan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hyrsoid složen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z dichazií a thyrsoidů)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stejné typy má i thyrs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60920" y="457200"/>
            <a:ext cx="2895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molnička obecná      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ychnis visc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46440" y="2502000"/>
            <a:ext cx="3002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skalnicky-trvalky.cz/aktuality/smolnicka_na_louce_detail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667560" y="457200"/>
          <a:ext cx="206676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7560" y="457200"/>
                    <a:ext cx="20667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095880" y="3252960"/>
          <a:ext cx="2629080" cy="221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3252960"/>
                    <a:ext cx="262908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6019920" y="2660760"/>
            <a:ext cx="2771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= terminální květy, 2 = parakladia (boční větve), 3 = boční dichazium, 4 = slož. dichazium, 5 = boční thyr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4038480"/>
          <a:ext cx="2895480" cy="239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038480"/>
                    <a:ext cx="2895480" cy="23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862360" y="5994360"/>
          <a:ext cx="5867280" cy="44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62360" y="5994360"/>
                    <a:ext cx="5867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17840" y="4508640"/>
            <a:ext cx="26780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ce =&gt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ymoi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slož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chazium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lan) =&gt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aplocymoi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en 1 větev, monochaz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5087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asická“ květenství šroubel, vijan, vějířek, srp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5651640" y="2852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0500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1055520"/>
            <a:ext cx="2514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unkát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věten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16404" t="1968" r="16404" b="9446"/>
          <a:stretch/>
        </p:blipFill>
        <p:spPr>
          <a:xfrm>
            <a:off x="457200" y="1523880"/>
            <a:ext cx="2678040" cy="4905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rcRect l="0" t="91707" r="0" b="787"/>
          <a:stretch/>
        </p:blipFill>
        <p:spPr>
          <a:xfrm>
            <a:off x="457200" y="390600"/>
            <a:ext cx="5029200" cy="523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00400" y="1295280"/>
            <a:ext cx="56386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aborcí koncového květu či části uzavřeného květenstv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alerian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nebo hlavního květenství u otevřeného typ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crophulariaceae, Fab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=&gt; zůstává rozvětvovací zóna, kterou květenství konč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liferac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ne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chol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nstv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račuje vegetativním rů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rcRect l="8601" t="12884" r="14335" b="0"/>
          <a:stretch/>
        </p:blipFill>
        <p:spPr>
          <a:xfrm>
            <a:off x="7227720" y="2874960"/>
            <a:ext cx="1495440" cy="2257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rcRect l="11936" t="11189" r="11936" b="1492"/>
          <a:stretch/>
        </p:blipFill>
        <p:spPr>
          <a:xfrm>
            <a:off x="5638680" y="2878200"/>
            <a:ext cx="1476360" cy="2260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00400" y="3081240"/>
            <a:ext cx="243828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as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ysimachia thyrsifl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u otevř. i uzavř. typů, květy jen na větvích, nevyvíjí se hlavní květenství a stonek roste d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zd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an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často u otevřený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75320" y="4857840"/>
            <a:ext cx="185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botany.cz/cs/lysimachia-thyrsiflora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5251320"/>
            <a:ext cx="34290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nství, pokračování veget. růstu až po určité dob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akova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allistemo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úseky stonku se zbytky plod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9040" y="4851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morfologie/AnanasComosa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7866000" y="4173480"/>
            <a:ext cx="1447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nanas comos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6151320" y="4058640"/>
            <a:ext cx="16765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ysimachia thyrs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932000" y="3957120"/>
            <a:ext cx="16765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rbina kytkokvět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2040" y="914400"/>
            <a:ext cx="2847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pakovačka: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ypy složených květenství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= otevřené hroznovité (hlavní i postranní květenství jsou stejnocenná)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= otevřené thyrsick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různocenné, hrozn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idlanů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369720"/>
            <a:ext cx="3124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lná redukce uzavřeného květenství na jediný kvě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rod dryádka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y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rcRect l="0" t="12884" r="0" b="8589"/>
          <a:stretch/>
        </p:blipFill>
        <p:spPr>
          <a:xfrm>
            <a:off x="6629400" y="5238720"/>
            <a:ext cx="2093760" cy="119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92040" y="3973680"/>
            <a:ext cx="28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= uzavřené latnaté (stejnocenné)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 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= uzavřené thyrsoidní (stejnocenn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6680" y="6146640"/>
            <a:ext cx="185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morfologie/CallistemonPinifolium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16800" y="5224320"/>
            <a:ext cx="1828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allistemon pinifo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536400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4500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88174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7010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5029200"/>
            <a:ext cx="1219320" cy="14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1800" y="358920"/>
            <a:ext cx="84582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roznovitá květens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eboli racemóz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zřetelně dominující hlavní stonek – osu květenství či hlavní větev, která je nejdelší a boční větve ji nepřerůstaj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kvétají zdola nahoru (akropetálně), v případě plochých květenství pak od okrajů do středu (centripetálně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jově zřejmě nejpůvodnější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a hlavní ose větvené postranní vět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cí laty vznik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roz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a hlavní ose květní stopky s jednotlivými kvě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24480" y="2852640"/>
            <a:ext cx="2387880" cy="358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806480" y="2852640"/>
            <a:ext cx="2681280" cy="358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87720" y="6259680"/>
            <a:ext cx="2361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MelilotusAlbus1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1400" y="28526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omonice bílá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Melilotus al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" y="2852640"/>
            <a:ext cx="1262160" cy="358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298440" y="5015880"/>
            <a:ext cx="272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rostliny.prirodou.cz/?rostlina=calluna_vulgaris&amp;scan=18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rcRect l="0" t="1640" r="63835" b="1640"/>
          <a:stretch/>
        </p:blipFill>
        <p:spPr>
          <a:xfrm>
            <a:off x="4572000" y="2849400"/>
            <a:ext cx="1660680" cy="1914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86320" y="4702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endrologie.c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popiscastidrevin/kvetenstvi1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341000" y="4542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řes obecný 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alluna vulgari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, jednostranný h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903840" y="55994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missouriplants.c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Whitealt/Melilotus_alba_page.htm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6800" y="603252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šeníčk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rozkladité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Milium effus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, l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60310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větů v hroz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003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76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1800" y="380880"/>
            <a:ext cx="84582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louží-li se u hroznu spodní květní stopky, dostanou se víceméně všechny květy do jedné roviny (nebo polokulovitě prohnuté plochy) =&gt; vznik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ocholí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obná přeměna laty =&gt; vzni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ocholičnaté la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yt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b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typický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ter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je soubor květů na spol. lůžku; jednotlivé květy mohou mít na bázi listeny (plevky), pod celým květenstvím je soubor listenů (v jedné či více řadách)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r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2058840" cy="235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6720" y="622944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uspza.cz/obrazky5/05-javor_13_big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205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597040" y="2362320"/>
            <a:ext cx="2895840" cy="1019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370044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istockphoto.com/file_closeup/ob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6228746_inflorescence_of_apple.php?id=62287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rcRect l="14763" t="0" r="9838" b="0"/>
          <a:stretch/>
        </p:blipFill>
        <p:spPr>
          <a:xfrm>
            <a:off x="4632480" y="4038480"/>
            <a:ext cx="237492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305240" y="622944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slovnik/heslo.php?8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rcRect l="0" t="5446" r="0" b="2723"/>
          <a:stretch/>
        </p:blipFill>
        <p:spPr>
          <a:xfrm>
            <a:off x="2593800" y="4038480"/>
            <a:ext cx="1965600" cy="236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14600" y="622944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vareni.cz/trendy/sedmikraska-obecna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rcRect l="42972" t="22911" r="0" b="28635"/>
          <a:stretch/>
        </p:blipFill>
        <p:spPr>
          <a:xfrm>
            <a:off x="6114960" y="2305080"/>
            <a:ext cx="2589480" cy="1650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881680" y="2282760"/>
            <a:ext cx="25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SenecioVulgDet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7"/>
          <a:srcRect l="0" t="0" r="8601" b="0"/>
          <a:stretch/>
        </p:blipFill>
        <p:spPr>
          <a:xfrm>
            <a:off x="7086600" y="4038480"/>
            <a:ext cx="161784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029360" y="61214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CirsiumArv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23240" y="4037040"/>
            <a:ext cx="1828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třechovitě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uspořádaný zákrov pcháče osetu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irsium arv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70680" y="3594240"/>
            <a:ext cx="27432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vouřadý zákr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tarčku obecného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enecio vulg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340000"/>
            <a:ext cx="1219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endrologie.c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popiscastidrev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kvetenstvi3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25760" y="3386160"/>
            <a:ext cx="36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levo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hoře: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hocholí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abloně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Malus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domestic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; vlevo dole: kytka javoru mléče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cer platanoide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; dole úbory (jazykovité + trubkovité květy u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Belli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27200" y="4038480"/>
            <a:ext cx="2210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edmikráska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Bellis peren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0320" y="4038480"/>
            <a:ext cx="2514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estřábník chlupáček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Hieracium pilos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6018120" y="5503320"/>
            <a:ext cx="1754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ouze jazykovité kvě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6953400" y="1066680"/>
            <a:ext cx="1753920" cy="1168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3276720" y="299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536400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273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281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1800" y="380880"/>
            <a:ext cx="845820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rácením květních stopek postranních květů hroznu vznik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a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bdoba hroznu s přisedlými květy (jako klasy mohou vypadat i „stažená“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á květen-ství, lichoklasy nebo klasy klásků, např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to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šenice nebo ostř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jednodušenou formou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ás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ypický pro lipnicovité: celý klásek podpírají dva listeny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zatímc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uc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 listeny na bázi jednotlivých květů; proti pluše (kousek nad ní)  stojí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uš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a nad ní (pod tyčinkami a pestík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dvě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n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– jedná se o redukované zbytky vnějšího a vnitřního kruhu okvětí (oba původně trojčetn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hně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obdoba klasu, která opadává jako celek; jehnědy entomogamních rostlin bývají vzpřímené (někt. vrby), u anemogamních převislé (dub, bříza, top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l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obdoba klasu se ztlustlým, často zdužnatělým vřetenem; je bez listenu (orobinec) nebo podepřená velkým, často zbarveným listenem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ule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r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655640" cy="2209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16200000">
            <a:off x="-661680" y="516996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PlantagoMed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35456" t="0" r="0" b="0"/>
          <a:stretch/>
        </p:blipFill>
        <p:spPr>
          <a:xfrm>
            <a:off x="6553080" y="1338120"/>
            <a:ext cx="2173320" cy="1454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0" t="5905" r="0" b="0"/>
          <a:stretch/>
        </p:blipFill>
        <p:spPr>
          <a:xfrm>
            <a:off x="5203800" y="4191120"/>
            <a:ext cx="1760400" cy="22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41880" y="6121440"/>
            <a:ext cx="187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botanika.wendys.cz/slovnik/heslo.php?7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067520" y="4191120"/>
            <a:ext cx="1655640" cy="2209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16200000">
            <a:off x="7976520" y="4596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morfologie/Calla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rcRect l="0" t="0" r="80461" b="9843"/>
          <a:stretch/>
        </p:blipFill>
        <p:spPr>
          <a:xfrm>
            <a:off x="8188200" y="5518080"/>
            <a:ext cx="492120" cy="83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rcRect l="8398" t="0" r="0" b="0"/>
          <a:stretch/>
        </p:blipFill>
        <p:spPr>
          <a:xfrm>
            <a:off x="3757680" y="4191120"/>
            <a:ext cx="1349280" cy="221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6200000">
            <a:off x="2779920" y="5297040"/>
            <a:ext cx="2108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krytosemennerostliny.xf.cz/vrbovite.htm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000840"/>
            <a:ext cx="167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itrocel prostřední –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Plantago media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, k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45080" y="4191120"/>
            <a:ext cx="1371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ehnědy vrby jívy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alix cap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291560" y="5032800"/>
            <a:ext cx="2197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ub červen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ehně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6028560" y="5173920"/>
            <a:ext cx="2347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Ďáblík bahenní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alla palu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9040" y="6172200"/>
            <a:ext cx="1054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alice plod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8080" y="990720"/>
            <a:ext cx="12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endrologie.cz/popiscastidrev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kvetenstvi1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rcRect l="6119" t="0" r="6119" b="0"/>
          <a:stretch/>
        </p:blipFill>
        <p:spPr>
          <a:xfrm>
            <a:off x="2209680" y="4191120"/>
            <a:ext cx="1451160" cy="220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6200000">
            <a:off x="2418840" y="5180400"/>
            <a:ext cx="2334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LoliumPerDet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226880" y="5130720"/>
            <a:ext cx="234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ílek vytrval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olium perenne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klá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838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6016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0360" y="3886200"/>
            <a:ext cx="84582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rcholičnatá květens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eboli cymóz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lačený růst hlavního stonku, který zůstává krátký a přerůstají jej boční vět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kvétají shora dolů (bazipetálně)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lochých květenství pak od středu k okrajům (centrifugálně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chozím typem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nohoramenný vrchol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leiochazium) – na hlavním stonku se tvoří více postranních vě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loužením květ. stopek (=&gt; květy leží v jedné rovině) vznik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ocholičnat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rchol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alina, obr. vpravo) – vzhled podobný chocholíku, ale jiný výv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1800" y="380880"/>
            <a:ext cx="84582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kol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ožno odvodit z hroznu absolutním zkrácením vřetene) – květy vyrůstají z jednoho místa, jsou v jedné rovině a rozkvétají centripetálně (jako u chocholík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cí květních stopek a rozšířením vrcholové části stonku vznikne z okolík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láv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bou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obdobou hlávky, zploštělou do šířky, je úb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09960" y="1709640"/>
            <a:ext cx="266688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38560" y="3530520"/>
            <a:ext cx="2489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TrifoliumHybr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0" r="0" b="31435"/>
          <a:stretch/>
        </p:blipFill>
        <p:spPr>
          <a:xfrm>
            <a:off x="457200" y="1709640"/>
            <a:ext cx="1914480" cy="2001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85534" t="15748" r="0" b="0"/>
          <a:stretch/>
        </p:blipFill>
        <p:spPr>
          <a:xfrm>
            <a:off x="2819520" y="2743200"/>
            <a:ext cx="433440" cy="922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18843" t="0" r="52196" b="11811"/>
          <a:stretch/>
        </p:blipFill>
        <p:spPr>
          <a:xfrm>
            <a:off x="2082960" y="1752480"/>
            <a:ext cx="81432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16200000">
            <a:off x="1910880" y="29084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endrologie.c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popiscastidrevin/kvetenstvi2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276720"/>
            <a:ext cx="19051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řečťan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Hedera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popínavý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124080"/>
            <a:ext cx="3124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trbo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etel zvrhl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Trifolium hybrid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791320" y="1709640"/>
            <a:ext cx="292896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rcRect l="7738" t="0" r="58821" b="42651"/>
          <a:stretch/>
        </p:blipFill>
        <p:spPr>
          <a:xfrm>
            <a:off x="7377120" y="4735440"/>
            <a:ext cx="1353960" cy="1094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426520" y="549288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32400" y="5670720"/>
            <a:ext cx="256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endrologie.cz/popiscastidrevin/kvetenstvi4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3581280"/>
            <a:ext cx="1143000" cy="6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chocholičnatý vrcholík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Viburn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7451640" y="134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4859280" y="393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685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2093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1800" y="380880"/>
            <a:ext cx="84582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cí počtu postranních větví na dvě vstřícné vznik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idl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vouramenný vrchol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též jednoduché dichazium); větví-li se dále i postranní větve, jde o složené dichazium, naopak redukcí původního počtu 3 větví (hlavní + 2 postranní) vznikají redukovaná dichaz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cí květních stopek vznik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žená květen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vaze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obdoba vidlanu s květy vyrůstajícími jakoby z jednoho mí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stažené vidlany vyrůstající vstřícně proti sobě v paždí vstřícných křižmostojných listenů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chopřesl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j. typický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am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žení slož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cholíku do svazku přisedlých květů =&gt;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ub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enopod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2147"/>
          <a:stretch/>
        </p:blipFill>
        <p:spPr>
          <a:xfrm>
            <a:off x="457200" y="3124080"/>
            <a:ext cx="2209680" cy="162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44600" y="458640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SileneInflata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75843" t="16404" r="0" b="32808"/>
          <a:stretch/>
        </p:blipFill>
        <p:spPr>
          <a:xfrm>
            <a:off x="7664400" y="457200"/>
            <a:ext cx="1066680" cy="1058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8480" y="31240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6200000">
            <a:off x="3741840" y="3806280"/>
            <a:ext cx="19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botanika.wendys.cz/slovnik/heslo.php?827 http:/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rcRect l="7874" t="0" r="7874" b="0"/>
          <a:stretch/>
        </p:blipFill>
        <p:spPr>
          <a:xfrm>
            <a:off x="2736720" y="3124080"/>
            <a:ext cx="1781280" cy="2819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92440" y="5664240"/>
            <a:ext cx="187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botanika.wendys.cz/slovnik/heslo.php?8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578480" y="4883040"/>
            <a:ext cx="2286000" cy="1568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6200000">
            <a:off x="5954760" y="5601960"/>
            <a:ext cx="165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y.cz/cs/stachys-sylvatica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40320" y="5686560"/>
            <a:ext cx="83808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Čistec lesní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tachy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99320" y="4076640"/>
            <a:ext cx="99036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Zimolez kozí list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onicera caprifo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92440" y="5391000"/>
            <a:ext cx="167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vozník svazčit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Dianthus arm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9360" y="3124080"/>
            <a:ext cx="2438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ilenka nadmutá -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ilene infl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rcRect l="31494" t="9448" r="15747" b="8403"/>
          <a:stretch/>
        </p:blipFill>
        <p:spPr>
          <a:xfrm>
            <a:off x="6934320" y="3124080"/>
            <a:ext cx="1807920" cy="2818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16200000">
            <a:off x="7138440" y="4367520"/>
            <a:ext cx="29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abecedazahrady.c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Petour-a-lebeda-nevitani-hoste-zahonu/sr-1-a-1358/default.asp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57200" y="48006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64400" y="1181160"/>
            <a:ext cx="30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01080" y="1473120"/>
            <a:ext cx="16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endrologie.c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popiscastidrevin/kvetenstvi4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8120" y="628488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slovnik/heslo.php?8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84520" y="5556240"/>
            <a:ext cx="90792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tačinec hajní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tellaria nem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96160" y="3124080"/>
            <a:ext cx="16765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Lebeda   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triplex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60706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aryophyllacea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vlevo vidlany, nahoře svazeč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60706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levo lichopřesleny, nahoře příklad klub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716436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35694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24939" t="3935" r="22312" b="11811"/>
          <a:stretch/>
        </p:blipFill>
        <p:spPr>
          <a:xfrm>
            <a:off x="7321680" y="3440160"/>
            <a:ext cx="1393560" cy="2990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1800" y="380880"/>
            <a:ext cx="845820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nochazium neb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dnoramenný vrchol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, pokud se vyvíjí jen jedna postranní větev =&gt; obvykle zatlačuje hlavní vrchol a staví se do terminální pozice (podobně i každá další větev zatlačuje svou „mateřskou“) =&gt; sympodiální větv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ní stopky ležící jen v jedné rovině m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jíř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br. F) a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p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(obr. G), typická květenství jednoděložných rost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roube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á zachovánu vždy větev na téže straně (květy za sebou ve spirále, viz obr. D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ij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třídavě na obou stranách stočeného vřetene (v půdorysu cik-cak, obr.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10849" r="0" b="12163"/>
          <a:stretch/>
        </p:blipFill>
        <p:spPr>
          <a:xfrm>
            <a:off x="6934320" y="1317600"/>
            <a:ext cx="1782720" cy="2057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56485" t="3882" r="19893" b="22109"/>
          <a:stretch/>
        </p:blipFill>
        <p:spPr>
          <a:xfrm>
            <a:off x="5848200" y="3440160"/>
            <a:ext cx="1403640" cy="2990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rcRect l="10321" t="0" r="10321" b="6299"/>
          <a:stretch/>
        </p:blipFill>
        <p:spPr>
          <a:xfrm>
            <a:off x="4267080" y="2720880"/>
            <a:ext cx="1770120" cy="2282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rot="16200000">
            <a:off x="7491600" y="524484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slovnik/heslo.php?8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722680"/>
          <a:ext cx="3733920" cy="37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722680"/>
                    <a:ext cx="37339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7"/>
          <a:srcRect l="22835" t="6238" r="51004" b="49906"/>
          <a:stretch/>
        </p:blipFill>
        <p:spPr>
          <a:xfrm>
            <a:off x="4273560" y="4862520"/>
            <a:ext cx="988920" cy="1568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 rot="16200000">
            <a:off x="5949000" y="4728240"/>
            <a:ext cx="3124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Třezalka tečkovaná -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hypericum perfor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8231040" y="3629160"/>
            <a:ext cx="74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rou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96160" y="1306440"/>
            <a:ext cx="1371600" cy="6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ostival lékařsk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ymphytum offici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31080" y="2452680"/>
            <a:ext cx="9144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pravo: boragoid =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vojvij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 vijany proti sob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4762800" y="5457240"/>
            <a:ext cx="1584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ějířek (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sp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rpek (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sp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658800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22574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1800" y="380880"/>
            <a:ext cx="329580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ložená květen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motak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větenství – složená z dílčích květenství shodného typu (hroznovitá nebo vrcholičnatá) – složený okolík (typický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klas klásků (častý 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hrozen okolíků (břečťan), hrozen úborů (devětsil) aj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32840" y="457200"/>
            <a:ext cx="1336320" cy="2362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0" t="0" r="0" b="8590"/>
          <a:stretch/>
        </p:blipFill>
        <p:spPr>
          <a:xfrm>
            <a:off x="3863880" y="457200"/>
            <a:ext cx="3372120" cy="2362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60360" y="2905200"/>
            <a:ext cx="6497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eterotak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větenství jsou kombinací hroznovitého a vrcholičnatého typu – hrozen vijanů (jírovec) nebo vijan hroznů (zemědým), klas srpků nebo klas lichopřeslenů a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88080" y="2633760"/>
            <a:ext cx="2392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DaucusCarota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63880" y="479520"/>
            <a:ext cx="3433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rkev obecná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Daucus carota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, složený okolí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92680" y="2209680"/>
            <a:ext cx="1495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alíček – listeny pod okolíč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63880" y="2209680"/>
            <a:ext cx="1719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al – listeny pod celým slož. okolí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rcRect l="15748" t="0" r="15748" b="0"/>
          <a:stretch/>
        </p:blipFill>
        <p:spPr>
          <a:xfrm>
            <a:off x="6878520" y="2906640"/>
            <a:ext cx="1800360" cy="3505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6200000">
            <a:off x="7392600" y="5166000"/>
            <a:ext cx="2392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slovnik/heslo.php?8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5689800" y="4859280"/>
            <a:ext cx="2666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ivizna černá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Verbascum nig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rcRect l="7306" t="4006" r="15897" b="4006"/>
          <a:stretch/>
        </p:blipFill>
        <p:spPr>
          <a:xfrm>
            <a:off x="3949560" y="3870360"/>
            <a:ext cx="2832120" cy="2543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175280" y="6222960"/>
            <a:ext cx="266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EuphorbiaMiliiKvet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1800" y="3765600"/>
            <a:ext cx="358164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ednotné pojetí, např. pojem lichoklas je užíván pro květenství z klásků i pro heterotaktické ty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yath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yšců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mičí květ (reduk. na pestík) obklopen pěti vijany samčích (red. na tyčinku); tyto sestavy, podepřené zbarve-nými listeny (celek připomíná 1 oboupohlavný květ), skládají hroznovitá květenství (okolí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6140520"/>
            <a:ext cx="1735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lichoklas ze svazečk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70600" y="3908520"/>
            <a:ext cx="1734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cyathia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uphorbia mil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700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7153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1800" y="380880"/>
            <a:ext cx="845820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é pojetí typů květen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větluje proměny květenství u příbuzných tax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ývá charakteristický typ květenství v rámci jedné čeledi (jsou ale známy případy rozdílných typů u blízce příbuzných čeled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nstv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zavř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notel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zřejmě fylogeneticky původ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stonek i boční větve (parakladia) jsou ukončen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rminálním květ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úsek stonku pod terminálním květem je označován jako koncové internodi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ntrifugální vývoj kvě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nstv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tevřen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ytel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též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nflor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ne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ukonče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ětem; v případě složitějších typů je koncové květenství (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lavní květens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éž florescence; pod ním je bazální internodium), ale ne jednotlivý květ – jde o to, zda z apikálního meristému vzniká květ nebo 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ční větve vyrůstají z rozvětvující zóny (totéž u uzavřených); boční květenství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floresce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 bočních větvích) jsou nebo nejsou ukončena termin. kvě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ntripetální vývoj kvě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asické“ názvy jednoduchých květenství (hrozen, klas, palice, okolík, strboul, úbor) jsou v tomto pojetí vyhrazeny pro květenství otevřená, zatímco názvy uzavřených květenství jsou odvozeny přidáním přípony -oid k latinskému názvu jejich otevřeného ekvivale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672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6610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uba</cp:lastModifiedBy>
  <dcterms:modified xsi:type="dcterms:W3CDTF">2020-10-10T20:01:41Z</dcterms:modified>
  <cp:revision>289</cp:revision>
  <dc:subject/>
  <dc:title>Prezentace aplikace PowerPoint</dc:title>
</cp:coreProperties>
</file>