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7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2.png" ContentType="image/png"/>
  <Override PartName="/ppt/media/image25.jpeg" ContentType="image/jpeg"/>
  <Override PartName="/ppt/media/image28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26.png" ContentType="image/png"/>
  <Override PartName="/ppt/media/image17.jpeg" ContentType="image/jpe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499680"/>
            <a:ext cx="7770960" cy="63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096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80880" y="380880"/>
            <a:ext cx="84582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2. KOŘ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základní vegetativní orgán rostlinného 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rgán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diál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ymetrický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 pozitiv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geotropický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omezený 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 do délky – apikální meristém, chrá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ý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p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o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ikdy zde nevznikají list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gán heterotrofní povahy, odkázán na 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ísun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vin (roz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 asimilá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Funkce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koř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rpání vody a rozto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minerálních látek a jejich 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vod do nadzemní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ást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pev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í rostliny v substrátu, vyzvednutí nadzemní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ástí a um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n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í jejich vertikálního 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yntéza aminokyselin, alkaloi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cytokini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 (růstové hormony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kys. absciso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é (inhibiční fytohormon – tvoří se v kořenové špičce, proto se postranní kořeny zakládají až v určité vzdálenosti od vrcholu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ymbióza s 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ními mikroorganismy a houbam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362320" y="4724280"/>
            <a:ext cx="2847960" cy="1792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rcRect l="0" t="9838" r="0" b="24613"/>
          <a:stretch/>
        </p:blipFill>
        <p:spPr>
          <a:xfrm>
            <a:off x="457200" y="3581280"/>
            <a:ext cx="2743200" cy="2397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 flipV="1" rot="10800000">
            <a:off x="456840" y="3580920"/>
            <a:ext cx="2133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botanika.wendys.cz/slovnik/heslo.php?21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228600"/>
            <a:ext cx="594360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ontraktil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k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 cibulnatých geofy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, obr. vpravo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zkracování 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em ontogenez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„přidržuje“ cibuli v ze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ové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ventivní pupe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&gt; kořenové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dnož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austor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hružováky, přísavné kořeny parazit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pronikají do cé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vaz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hostite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u hemiparazitického jmelí do dřeva, u holopa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rcRect l="41575" t="31181" r="32126" b="14173"/>
          <a:stretch/>
        </p:blipFill>
        <p:spPr>
          <a:xfrm>
            <a:off x="3346560" y="2057400"/>
            <a:ext cx="1879560" cy="25858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flipV="1" rot="10800000">
            <a:off x="4267080" y="4266720"/>
            <a:ext cx="106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www.csdl.tamu.edu/FLORA/Wilson/tfp/ast/cuspage2.ht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37339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Hedera hel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4"/>
          <a:srcRect l="0" t="0" r="0" b="12402"/>
          <a:stretch/>
        </p:blipFill>
        <p:spPr>
          <a:xfrm>
            <a:off x="6477120" y="304920"/>
            <a:ext cx="2297160" cy="29383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flipV="1" rot="10800000">
            <a:off x="6891120" y="297072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www.ashs.org/albums/album01/Leopold2.jp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2133720"/>
            <a:ext cx="2971800" cy="13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kotice do dřeva i lýk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y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íčepiv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u lián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dventivní kořeny sloužící k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chycení k podkla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5"/>
          <a:srcRect l="0" t="4991" r="0" b="4991"/>
          <a:stretch/>
        </p:blipFill>
        <p:spPr>
          <a:xfrm>
            <a:off x="5334120" y="4191120"/>
            <a:ext cx="3429000" cy="2319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rcRect l="0" t="0" r="20032" b="0"/>
          <a:stretch/>
        </p:blipFill>
        <p:spPr>
          <a:xfrm>
            <a:off x="5334120" y="2057400"/>
            <a:ext cx="1550880" cy="2590920"/>
          </a:xfrm>
          <a:prstGeom prst="rect">
            <a:avLst/>
          </a:prstGeom>
          <a:ln w="76320">
            <a:solidFill>
              <a:srgbClr val="ccffcc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6858000" y="327672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dventivní pupeny (vlevo), adventivní odnožování (do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 rot="5400000">
            <a:off x="5605560" y="3385800"/>
            <a:ext cx="2400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www.butbn.cas.cz/budbank/pages/fotogalerie.ht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92720" y="4191120"/>
            <a:ext cx="83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Rorippa palust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 rot="5400000">
            <a:off x="7473960" y="5214600"/>
            <a:ext cx="2400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http://www.butbn.cas.cz/budbank/pages/fotogalerie.ht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4120" y="62103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Linaria vulga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33920" y="6329520"/>
            <a:ext cx="1523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Slavíková 1984: Morfologie rostl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3419640" y="3789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6516720" y="162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9"/>
          <a:stretch/>
        </p:blipFill>
        <p:spPr>
          <a:xfrm>
            <a:off x="468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46225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137366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86375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0880" y="304920"/>
            <a:ext cx="845820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Kořenové symbióz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ykorhi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ktotrofn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ejména 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vin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pletivo houby pouze na povrchu 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„punčoška“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 v mezibu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čný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prostore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&gt; z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šení povrchu k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e, indukce dichotomického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vení kys. indolyloctovou z hyfy hou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otrofn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hyfy pronikají do bu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skytuje se u většiny čeledí rostlin; typy: arbuskulární, erikoidní, orchideoidní mykorhiz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616200" y="3352680"/>
            <a:ext cx="2129040" cy="30481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 flipV="1" rot="10800000">
            <a:off x="3540240" y="33166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www.af.mendelu.cz/ustav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221/multitexty/images/biogenni_prvky/hlizky_fazol.gi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236232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ízkové bakter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pronikají do postranních 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 z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bují 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u jejich tvaru =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ořenové hlíz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zde pak dochází k vázání atmosférického dusík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rcRect l="1667" t="0" r="0" b="0"/>
          <a:stretch/>
        </p:blipFill>
        <p:spPr>
          <a:xfrm>
            <a:off x="5915160" y="2100240"/>
            <a:ext cx="2771640" cy="20955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 flipV="1" rot="10800000">
            <a:off x="6823080" y="4038120"/>
            <a:ext cx="1982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encyklopedie.divoch.info/cs/Mykorhiz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rcRect l="1476" t="0" r="0" b="0"/>
          <a:stretch/>
        </p:blipFill>
        <p:spPr>
          <a:xfrm>
            <a:off x="5908680" y="4286160"/>
            <a:ext cx="2778120" cy="21146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 rot="10800000">
            <a:off x="6823080" y="6247440"/>
            <a:ext cx="1982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encyklopedie.divoch.info/cs/Mykorhiz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3581280"/>
            <a:ext cx="32004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aktický význam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kořen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trava pro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ccffcc"/>
                </a:solidFill>
                <a:latin typeface="Arial"/>
              </a:rPr>
              <a:t>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dužnaté koř. miříkovitý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trava pro dobyt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ccffcc"/>
                </a:solidFill>
                <a:latin typeface="Arial"/>
              </a:rPr>
              <a:t>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krmná řep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rovina pro 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ys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ccffcc"/>
                </a:solidFill>
                <a:latin typeface="Arial"/>
              </a:rPr>
              <a:t>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cukrovk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rogy (atropin z koř. rulík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2916360" y="33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4050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191120" y="1957320"/>
            <a:ext cx="4647960" cy="3486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880" y="304920"/>
            <a:ext cx="843912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Fylogenetický původ kořen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telomová teor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 bezcévných rostli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ořeny nejsou vyvinuty a jeji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funkci zastávají rhizoidy – jednobu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á nebo přehrádkovaná vlák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ělo prvních cévnatých rostlin rostoucích na souši (ryniofyta aj. v siluru a devonu) bylo tvořeno jednoduchým prýtem s apikálním růstem a dichotomickým větvení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017800"/>
            <a:ext cx="3657600" cy="30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ncové úse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lom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růsta-jící 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zom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každý mezom byl v ontogenezi telome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ferenciace telo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fertil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vegetativn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ěkteré vegetativní telomy rostly vzhůru, jiné poléhavě po povrchu substrát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bsorpce vody a minerálních látek =&gt; základ funkce kořen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477120" y="5311800"/>
            <a:ext cx="2514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http://botanika.bf.jcu.cz/systematikaweb/rhyniophyta.ht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510552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 a vývoj kořenů představuj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znamný mezník ve vývoji rostl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kořenění umožnilo růst v suché půdě =&gt; kolonizace souš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kotvení v substrátu umožnilo tvorbu větších prýt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020000" y="566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3322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304920"/>
            <a:ext cx="8439120" cy="40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ntogenetický vývoj a typy kořen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e semene vyrůstá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adikul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klíční kořín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&gt; pozitivně geotropický růst, mění se v hlavní koř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hraní kořene a stonku se označu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ořenový krč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ypy kořenů podle ontogenez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lavní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koře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pokračování radikuly, přímý kořen, růst kolmo do zem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stranní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koře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vznikají bočním větvením z hlavního koře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ventivn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ořen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růstají ze spodních částí stonku nebo orgánů stonkové-ho původu (oddenky), bývají rovnocenné (nerozlišené na hlavní a postranní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výtrusných cévnatých rostlin se hlavní kořen vůbec nevyvíjí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iným typem jsou adventivní koře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705720" y="380880"/>
            <a:ext cx="2014560" cy="1638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553080" y="1981080"/>
            <a:ext cx="2362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333333"/>
                </a:solidFill>
                <a:latin typeface="Arial"/>
              </a:rPr>
              <a:t>http://www.nadidem.net/k/Rad/pages/Radikula_jpg.ht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0" y="4419720"/>
            <a:ext cx="4152960" cy="1965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0880" y="434340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ontogenezi jednoděložných rostlin záhy zaniká hlavní kořen a vyvíjí se soustava adventivních kořenů vyrůstajících ze spodní části ston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8880" y="6172200"/>
            <a:ext cx="152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Slavíková 1984: Morfologie rostl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643280" y="4508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5479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304920"/>
            <a:ext cx="8534520" cy="59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dventivní kořeny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bligát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e zakládají přirozeně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kořenech (starých, druhotně tloustnoucí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stoncích: v uzlinách (nodech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       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článcích (internodiích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ib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listech (cykasy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Kalancho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rfologické typy kořenů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itkovit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tenké kořeny, často svazčité (typické pro jednoděložné rostlin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álcovitý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hlavní kořen, víceméně stejně silný (jako příklad uváděn kř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uželovitý –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váděn u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romů, příp. neodlišován od předchozího ty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tenovitý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ztlustlý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lavní k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hoře uťatý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do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voln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zú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ý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mrke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povitý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silně ztlustlý kořen, nahoře i dole prudce zúžený (řep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ízovité – jiný výraz pro kořenové hlízy /viz dále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adventitious_roots_philodendron" descr=""/>
          <p:cNvPicPr/>
          <p:nvPr/>
        </p:nvPicPr>
        <p:blipFill>
          <a:blip r:embed="rId1"/>
          <a:stretch/>
        </p:blipFill>
        <p:spPr>
          <a:xfrm>
            <a:off x="6934320" y="380880"/>
            <a:ext cx="1768320" cy="3200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flipV="1" rot="5400000">
            <a:off x="7414560" y="2262600"/>
            <a:ext cx="24400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www.bridgewater.edu/~lhill/adventitiousroots.ht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86000"/>
            <a:ext cx="64771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některých rostlin se mohou tvořit náhradní kořeny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ánov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 místech poranění – této schopnosti může být využíváno k jejich množení řízkováním (stonků, listů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34320" y="32767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Philodendron</a:t>
            </a: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 s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4419720" cy="2538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12760" y="-34920"/>
            <a:ext cx="192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 rot="10800000">
            <a:off x="379080" y="3048120"/>
            <a:ext cx="8459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stranní k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y svíraj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 mateřským kořene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± stejný úhe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ezný úhe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tento úhel je charakteristický 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álý pro určitý dru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nožování adventivních kořen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380880"/>
            <a:ext cx="1523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Slavíková 1984: Morfologie rostl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304920"/>
            <a:ext cx="38098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Větvení a růst kořen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ětvení dichotom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vidličnaté, u plavuní a vranečků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mý růst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lavního kořen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 boční růst postranních kořenů (u ostatních skupin cévn. rostl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ícenásobné větvení: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ranní koře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I. řádu, II. řádu, III. řádu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419720" y="3917880"/>
            <a:ext cx="4267080" cy="2535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162920" y="6248520"/>
            <a:ext cx="1523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Slavíková 1984: Morfologie rostl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4114800"/>
            <a:ext cx="38862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ůst kořen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e terminální – vzrostný vrchol s primárním meristémem (dělivým pletive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stranní kořeny se zakládají endogenně (svým růstem prorážejí kůru hlavního) a akropetálně – nejmladší kořeny nejblíže vzrostnému vrcholu hlavního koř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7956720" y="549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22999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304920"/>
            <a:ext cx="8458200" cy="42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K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ře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ová soustav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souborem všech kořenů; její povaha j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dvislá od ekologických podmín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omorhiz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kořen. soust. tvořena jen jedním typem kořenů (pravé nebo adventivní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imár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omorhizie je charakteristická pro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ýtrusné rostli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kapraďorost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které nemají radikulu =&gt; nemohou mít hlavní kořen =&gt; tvoří se jen advent. koře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kundár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omorhizii maj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edno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žné rostli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u kterých je hlavní kořen záhy redukován a vytváří se soustava adventivních kořen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lorhiz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více ty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řenů, typicky hlavní a postranní, případně soustava tvořená kořeny pravými i adventivní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ypy kořenových soustav podle rozložení kořenů v půdě (typické pro dřevin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řevin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chomil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přesněji xerotolerantní než xerofilní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j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vý ko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kulovy_plochy_srdcovy_koren" descr=""/>
          <p:cNvPicPr/>
          <p:nvPr/>
        </p:nvPicPr>
        <p:blipFill>
          <a:blip r:embed="rId1"/>
          <a:stretch/>
        </p:blipFill>
        <p:spPr>
          <a:xfrm>
            <a:off x="457200" y="4648320"/>
            <a:ext cx="3886200" cy="1755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572000" y="4495680"/>
            <a:ext cx="426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nikající hluboko do půdy (borovice, jedle, du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řevin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kok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né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j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avní kořen krátký a silný (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rdcový ko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, postranní kořeny doširoka rozprostřené mělko pod povrchem (smrk, buk, bříz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6095880"/>
            <a:ext cx="350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I – kůlový,  II – rozprostřený,  III – srdcový koř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62320" y="4648320"/>
            <a:ext cx="2057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http://www.gardening.cz/kko/koutek/skola.ht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04920" y="91440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5943600"/>
            <a:ext cx="8610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de rostou nejstarší stromy na světě? Jsou to běžně udávané borovice osinaté z hor Kalifornie nebo baobaby z jižní Afriky – nebo tento „vánoční stromek“ ze Skandinávie? Jeho kmen roste pár století, ale stáří kořenů změřeno (C14) na 9550 let! Zatímco kmeny rostou a odumírají, kořenová soustava má schopnost přežívat a opakovaně z ní vyrůstají nové prý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33920" y="228600"/>
            <a:ext cx="525780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imární (1) a sekundární (2) homorhizie, allorhizie (3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pravo: „chůdovité“ postranní kořeny v horské smrčině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638680" y="1108080"/>
            <a:ext cx="3124440" cy="2343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flipV="1" rot="10800000">
            <a:off x="6705720" y="3280320"/>
            <a:ext cx="2133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www.cb.apu.cz/96-boubinsky-prales-boub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638680" y="3619440"/>
            <a:ext cx="312444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 flipV="1" rot="10800000">
            <a:off x="6933960" y="5677560"/>
            <a:ext cx="19047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kolecko.blog.cz/0806/nejstarsi-strom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380880" y="3048120"/>
            <a:ext cx="4343400" cy="2817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380880" y="304920"/>
            <a:ext cx="3276720" cy="2560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209680" y="2705040"/>
            <a:ext cx="152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Slavíková 1984: Morfologie rostl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3760" y="28954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http://bp2.blogger.com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_pxJxB2Pigds/Rtg9r75B95I/AAAAAAAAABA/LgyDvE0Q_wg/s1600-h/Copy+of+prairie+root+line+drawing.BM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914400"/>
            <a:ext cx="182880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ůvod: semenáček zakořenil na padlém kmeni nebo pařezu, který už je rozlož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le: xerotolerantní rostliny, hluboké kořenové systém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5724360" y="1197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01810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304920"/>
            <a:ext cx="8534520" cy="23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ř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m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ě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y ko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řenů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(metamorfóz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zásobní funkce 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u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žn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tý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k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válcovitých,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tenovitých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povitý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ulv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vzniká z k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e spolu s bází prýt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řepa, celer, viz přeměny stonk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vé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líz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rsej, jiřink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astý dimorfismus (tvorba kořenů i kořen. hlí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va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é k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y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z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kundární homorhiz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ventivní kořeny n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ýb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ěž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í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jahodník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1631" r="0" b="0"/>
          <a:stretch/>
        </p:blipFill>
        <p:spPr>
          <a:xfrm>
            <a:off x="457200" y="2743200"/>
            <a:ext cx="3441600" cy="3733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334120" y="1981080"/>
            <a:ext cx="3419280" cy="451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238880" y="1981080"/>
            <a:ext cx="152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Slavíková 1984: Morfologie rostl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924360" y="270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34702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rcRect l="0" t="0" r="0" b="3780"/>
          <a:stretch/>
        </p:blipFill>
        <p:spPr>
          <a:xfrm>
            <a:off x="5334120" y="2017800"/>
            <a:ext cx="3352680" cy="2401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80880" y="228600"/>
            <a:ext cx="8534520" cy="30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loupov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k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Fic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rostou z 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v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í se v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me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“, které zakořen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neumatofo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dýchací kořen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xodium, Avicenn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– nad povrc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bahnité neprokysliče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řen s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tvory, aerenchy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de vzdu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o podze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ást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zduš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k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pifytů maj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mohutný velamen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ícevrstev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pok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)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zachycení vzdušné vlhkosti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 vlhka „nasává“ vodu, za sucha nepropouští ve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ové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úpon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anill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ýchací i příchytná funk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ůdovité kořeny mangrovů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ěrná i dýchací funk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rcRect l="923" t="0" r="0" b="0"/>
          <a:stretch/>
        </p:blipFill>
        <p:spPr>
          <a:xfrm>
            <a:off x="2766960" y="3352680"/>
            <a:ext cx="2452680" cy="3200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 flipV="1" rot="10800000">
            <a:off x="2705040" y="6283080"/>
            <a:ext cx="297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ctfs.si.edu/webatlas/findinfo.php?specid=7719&amp;leng=englis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 rot="10800000">
            <a:off x="6781680" y="412956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www.flickr.com/photos/yameza/1322835473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581280" y="2017800"/>
            <a:ext cx="2286000" cy="1622160"/>
          </a:xfrm>
          <a:prstGeom prst="rect">
            <a:avLst/>
          </a:prstGeom>
          <a:ln w="76320">
            <a:solidFill>
              <a:srgbClr val="ccffcc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5334120" y="4495680"/>
            <a:ext cx="3352680" cy="2059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743200" y="3335400"/>
            <a:ext cx="9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Socrate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exorrhi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81280" y="198108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Arial"/>
              </a:rPr>
              <a:t>velamen epifytické orchide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4120" y="41148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Ficus benghalen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778640" y="2571120"/>
            <a:ext cx="1828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www.botgard.ucla.ed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/html/botanytextbooks/generalbotan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/typesofroots/a1128tx.htm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162920" y="6172200"/>
            <a:ext cx="1523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000000"/>
                </a:solidFill>
                <a:latin typeface="Arial"/>
              </a:rPr>
              <a:t>Slavíková 1984: Morfologie rostl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5"/>
          <a:srcRect l="0" t="0" r="11762" b="0"/>
          <a:stretch/>
        </p:blipFill>
        <p:spPr>
          <a:xfrm>
            <a:off x="457200" y="3352680"/>
            <a:ext cx="2209680" cy="3200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V="1" rot="10800000">
            <a:off x="453960" y="6283080"/>
            <a:ext cx="2286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http://www.fullextra.h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00" spc="-1" strike="noStrike">
                <a:solidFill>
                  <a:srgbClr val="ffffff"/>
                </a:solidFill>
                <a:latin typeface="Arial"/>
              </a:rPr>
              <a:t>/modules.php?name=Forums&amp;file=viewtopic&amp;p=12569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3526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ffffff"/>
                </a:solidFill>
                <a:latin typeface="Arial"/>
              </a:rPr>
              <a:t>Vanilla planifo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2411280" y="3357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2843280" y="3789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8"/>
          <a:stretch/>
        </p:blipFill>
        <p:spPr>
          <a:xfrm>
            <a:off x="536400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8388360" y="2060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0"/>
          <a:stretch/>
        </p:blipFill>
        <p:spPr>
          <a:xfrm>
            <a:off x="3635280" y="220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55133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64537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07926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71564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8739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uba</cp:lastModifiedBy>
  <dcterms:modified xsi:type="dcterms:W3CDTF">2020-10-06T11:50:18Z</dcterms:modified>
  <cp:revision>152</cp:revision>
  <dc:subject/>
  <dc:title>Prezentace aplikace PowerPoint</dc:title>
</cp:coreProperties>
</file>