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42.jpeg" ContentType="image/jpeg"/>
  <Override PartName="/ppt/media/image34.jpeg" ContentType="image/jpeg"/>
  <Override PartName="/ppt/media/image1.jpeg" ContentType="image/jpeg"/>
  <Override PartName="/ppt/media/image22.jpeg" ContentType="image/jpeg"/>
  <Override PartName="/ppt/media/image40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37.jpeg" ContentType="image/jpeg"/>
  <Override PartName="/ppt/media/image60.jpeg" ContentType="image/jpeg"/>
  <Override PartName="/ppt/media/image24.jpeg" ContentType="image/jpeg"/>
  <Override PartName="/ppt/media/image2.png" ContentType="image/png"/>
  <Override PartName="/ppt/media/image25.jpeg" ContentType="image/jpeg"/>
  <Override PartName="/ppt/media/image41.jpeg" ContentType="image/jpeg"/>
  <Override PartName="/ppt/media/image14.jpeg" ContentType="image/jpeg"/>
  <Override PartName="/ppt/media/image50.jpeg" ContentType="image/jpeg"/>
  <Override PartName="/ppt/media/image51.jpeg" ContentType="image/jpeg"/>
  <Override PartName="/ppt/media/image26.jpeg" ContentType="image/jpeg"/>
  <Override PartName="/ppt/media/image23.jpeg" ContentType="image/jpeg"/>
  <Override PartName="/ppt/media/image7.png" ContentType="image/png"/>
  <Override PartName="/ppt/media/image62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61.jpeg" ContentType="image/jpeg"/>
  <Override PartName="/ppt/media/image17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5.png" ContentType="image/png"/>
  <Override PartName="/ppt/media/image43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27.jpeg" ContentType="image/jpeg"/>
  <Override PartName="/ppt/media/image10.jpeg" ContentType="image/jpeg"/>
  <Override PartName="/ppt/media/image9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6.jpeg" ContentType="image/jpeg"/>
  <Override PartName="/ppt/media/image36.jpeg" ContentType="image/jpeg"/>
  <Override PartName="/ppt/media/image38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33.png" ContentType="image/png"/>
  <Override PartName="/ppt/media/image54.jpeg" ContentType="image/jpeg"/>
  <Override PartName="/ppt/media/image55.jpeg" ContentType="image/jpeg"/>
  <Override PartName="/ppt/media/image57.jpeg" ContentType="image/jpeg"/>
  <Override PartName="/ppt/media/image5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499680"/>
            <a:ext cx="7770960" cy="63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image" Target="../media/image34.jpeg"/><Relationship Id="rId6" Type="http://schemas.openxmlformats.org/officeDocument/2006/relationships/image" Target="../media/image35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2"/>
          <p:cNvSpPr/>
          <p:nvPr/>
        </p:nvSpPr>
        <p:spPr>
          <a:xfrm>
            <a:off x="380880" y="380880"/>
            <a:ext cx="8458200" cy="60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3. STONE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ást prýt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 neomezený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m, obvykle negativně geotropický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znik z mezo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vršením 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teré z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v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u 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od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dichotomického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vení jedna z 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í 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roste a zat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í druh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o stran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prvé ve vývoji se s tím setkáváme v podobě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seudomonopod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u vran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ků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ánkovaný útvar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vořený uzlinam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d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a články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od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diální so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nost, zpravidla vále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kruhový průřez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dy hranatý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unkce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stonk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mární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s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i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 k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&gt; orientace li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ke s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lu, zdvih k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k opylován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pojení mezi listy a 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y – rozvod vody, minerálií a asimilá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kundární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ásobní funk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imi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í funkc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" name="Picture 5" descr="C:\user\Houba\Škola-obrázky\morfologie\3_stonek\stem_cut_cactus.jpg"/>
          <p:cNvPicPr/>
          <p:nvPr/>
        </p:nvPicPr>
        <p:blipFill>
          <a:blip r:embed="rId1"/>
          <a:stretch/>
        </p:blipFill>
        <p:spPr>
          <a:xfrm>
            <a:off x="3809880" y="3124080"/>
            <a:ext cx="2133720" cy="17290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C:\user\Houba\Škola-obrázky\morfologie\3_stonek\stem_cut_equisetum.bmp"/>
          <p:cNvPicPr/>
          <p:nvPr/>
        </p:nvPicPr>
        <p:blipFill>
          <a:blip r:embed="rId2"/>
          <a:stretch/>
        </p:blipFill>
        <p:spPr>
          <a:xfrm>
            <a:off x="6095880" y="3124080"/>
            <a:ext cx="2576520" cy="17179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6324480" y="4678200"/>
            <a:ext cx="2514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www2.puc.edu/Faculty/Gilbert_Muth/phot0150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80880" y="2971800"/>
            <a:ext cx="33530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ty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ranný 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uchavkovitý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o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ranný 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áchorovitých, mnohohranný u některých kaktusů), rýhovaný (přesličky) nebo křídlatý (kostival, pcháč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733920" y="457200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http://www.dkimages.com/discover/Home/Gardenin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/Gardening-Basics/Propagation/Cacti/Cacti-29.htm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3733920" y="43434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Cactus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sp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7543800" y="3124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Equisetum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sp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7" descr="C:\user\Houba\Škola-obrázky\morfologie\3_stonek\kycelnice_cibulkonosna_pacibulky.jpg"/>
          <p:cNvPicPr/>
          <p:nvPr/>
        </p:nvPicPr>
        <p:blipFill>
          <a:blip r:embed="rId1"/>
          <a:srcRect l="0" t="0" r="0" b="15748"/>
          <a:stretch/>
        </p:blipFill>
        <p:spPr>
          <a:xfrm>
            <a:off x="6553080" y="457200"/>
            <a:ext cx="2127240" cy="26956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8"/>
          <p:cNvSpPr/>
          <p:nvPr/>
        </p:nvSpPr>
        <p:spPr>
          <a:xfrm rot="16200000">
            <a:off x="7221600" y="1652040"/>
            <a:ext cx="2743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www.mezistromy.cz/cz/index.php?page=fotogalerie/byliny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380880" y="2895480"/>
            <a:ext cx="853452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dventivní pupeny vodních rostl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urio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na konci vegetačního období vyrůstají z pupenů výhonky bohaté na živiny, po odumření mateřské rostliny přezimují u dna a na jaře z nich vyrostou noví jedinc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380880" y="380880"/>
            <a:ext cx="6172200" cy="25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ku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dventivní pupe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rostou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hou z nich vyrů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cibul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yčelnice, orse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vegetativní rozmnožovací tělíska (oddělení od mateřské rostliny =&gt; nový jedinec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onkové výmladky („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l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“, zejména na kmenech dřevin, známé u ovocných stromů, ale tvoří je třeba i chme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jde o rychle rostoucí a obvykle sterilní vět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o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ové výmlad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ká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druhotné prýty vyrážející z adventivních pupenů na kořene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11" descr="C:\user\Houba\Škola-obrázky\morfologie\3_stonek\myriophyllum_verticillatum_turion.jpg"/>
          <p:cNvPicPr/>
          <p:nvPr/>
        </p:nvPicPr>
        <p:blipFill>
          <a:blip r:embed="rId2"/>
          <a:stretch/>
        </p:blipFill>
        <p:spPr>
          <a:xfrm>
            <a:off x="2514600" y="40384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2"/>
          <p:cNvSpPr/>
          <p:nvPr/>
        </p:nvSpPr>
        <p:spPr>
          <a:xfrm>
            <a:off x="2514600" y="6172200"/>
            <a:ext cx="3124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cs.wikipedia.org/wiki/Soubor:Myriophyllum_verticillatum_turion.jpe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2514600" y="4038480"/>
            <a:ext cx="320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stolístek přeslenatý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 – Myriophyllum verticillatum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(tur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14" descr="C:\user\Houba\Škola-obrázky\morfologie\3_stonek\utricularia_bremii_hibernacle sprouting.jpg"/>
          <p:cNvPicPr/>
          <p:nvPr/>
        </p:nvPicPr>
        <p:blipFill>
          <a:blip r:embed="rId3"/>
          <a:stretch/>
        </p:blipFill>
        <p:spPr>
          <a:xfrm>
            <a:off x="5638680" y="4038480"/>
            <a:ext cx="3048120" cy="22831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5"/>
          <p:cNvSpPr/>
          <p:nvPr/>
        </p:nvSpPr>
        <p:spPr>
          <a:xfrm>
            <a:off x="5599080" y="617220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cs.wikipedia.org/wiki/Soubor:UtriculariaBremiiHibernacleSprouting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5638680" y="4038480"/>
            <a:ext cx="320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bublinatka vícekvětá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 – Utricularia brehmii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(rašící hibernakulu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380880" y="4156200"/>
            <a:ext cx="20574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ibernaku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pupeny, které se před zimou oddělí a přezimují u dna do další sezón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18"/>
          <p:cNvSpPr/>
          <p:nvPr/>
        </p:nvSpPr>
        <p:spPr>
          <a:xfrm>
            <a:off x="6553080" y="2666880"/>
            <a:ext cx="213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Kyčelnice cibulkonosná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 Dentaria bulbife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615636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11740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2" descr="C:\user\Houba\Škola-obrázky\morfologie\3_stonek\ruscus-aculeatus_fylokladium+kvet.jpg"/>
          <p:cNvPicPr/>
          <p:nvPr/>
        </p:nvPicPr>
        <p:blipFill>
          <a:blip r:embed="rId1"/>
          <a:stretch/>
        </p:blipFill>
        <p:spPr>
          <a:xfrm>
            <a:off x="380880" y="3657600"/>
            <a:ext cx="2340000" cy="20955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4"/>
          <p:cNvSpPr/>
          <p:nvPr/>
        </p:nvSpPr>
        <p:spPr>
          <a:xfrm>
            <a:off x="5181480" y="380880"/>
            <a:ext cx="3657600" cy="62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řeměny stonku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(metamorfóz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tonkového 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od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so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olc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zkrácené postranní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ve =&gt; trni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útva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 (trnka, hloh)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rozdíl od trnů listového původu nejsou ohraničené a snadno oddělitelné od větv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ylokladi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brachyblasty 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jímajíc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var a asimilač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unkci li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sparag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vé listy u těchto rostlin nejsou vyvinuty nebo jsou přeměněny v jiné útvar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kazem stonkového původu může být u někt. rodů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usc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tvorba květů (na listech nikd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úponky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hou být u různých rostlin kořenového, stonkového nebo listového původu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onkové úponky tvoří např.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évovité (réva, loubinec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5" descr="C:\user\Houba\Škola-obrázky\morfologie\3_stonek\asparagus_falcatus.jpg"/>
          <p:cNvPicPr/>
          <p:nvPr/>
        </p:nvPicPr>
        <p:blipFill>
          <a:blip r:embed="rId2"/>
          <a:stretch/>
        </p:blipFill>
        <p:spPr>
          <a:xfrm>
            <a:off x="380880" y="457200"/>
            <a:ext cx="2341800" cy="312408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6"/>
          <p:cNvSpPr/>
          <p:nvPr/>
        </p:nvSpPr>
        <p:spPr>
          <a:xfrm>
            <a:off x="304920" y="3309840"/>
            <a:ext cx="2666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scobak.blog.sme.sk/c/83854/Zajatci-nasich-domovu.htm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Picture 7" descr="C:\user\Houba\Škola-obrázky\morfologie\3_stonek\slivon_trnka.jpg"/>
          <p:cNvPicPr/>
          <p:nvPr/>
        </p:nvPicPr>
        <p:blipFill>
          <a:blip r:embed="rId3"/>
          <a:srcRect l="46121" t="0" r="0" b="0"/>
          <a:stretch/>
        </p:blipFill>
        <p:spPr>
          <a:xfrm>
            <a:off x="2819520" y="457200"/>
            <a:ext cx="2222280" cy="31240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8"/>
          <p:cNvSpPr/>
          <p:nvPr/>
        </p:nvSpPr>
        <p:spPr>
          <a:xfrm>
            <a:off x="2743200" y="415800"/>
            <a:ext cx="1407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f5f5f"/>
                </a:solidFill>
                <a:latin typeface="Arial"/>
              </a:rPr>
              <a:t>Slivoň trnk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5f5f5f"/>
                </a:solidFill>
                <a:latin typeface="Arial"/>
              </a:rPr>
              <a:t>Prunu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5f5f5f"/>
                </a:solidFill>
                <a:latin typeface="Arial"/>
              </a:rPr>
              <a:t>      </a:t>
            </a:r>
            <a:r>
              <a:rPr b="0" i="1" lang="cs-CZ" sz="1200" spc="-1" strike="noStrike">
                <a:solidFill>
                  <a:srgbClr val="5f5f5f"/>
                </a:solidFill>
                <a:latin typeface="Arial"/>
              </a:rPr>
              <a:t>spinos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2743200" y="330984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5f5f5f"/>
                </a:solidFill>
                <a:latin typeface="Arial"/>
              </a:rPr>
              <a:t>http://   www.danihelka.cz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5f5f5f"/>
                </a:solidFill>
                <a:latin typeface="Arial"/>
              </a:rPr>
              <a:t>                   </a:t>
            </a:r>
            <a:r>
              <a:rPr b="0" lang="cs-CZ" sz="700" spc="-1" strike="noStrike">
                <a:solidFill>
                  <a:srgbClr val="5f5f5f"/>
                </a:solidFill>
                <a:latin typeface="Arial"/>
              </a:rPr>
              <a:t>/02.odkazy/06.RUZNE   /lecivky/trnka.jpg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10" descr="C:\user\Houba\Škola-obrázky\morfologie\3_stonek\parthenocissus_tricuspidata.jpg"/>
          <p:cNvPicPr/>
          <p:nvPr/>
        </p:nvPicPr>
        <p:blipFill>
          <a:blip r:embed="rId4"/>
          <a:srcRect l="0" t="0" r="0" b="12155"/>
          <a:stretch/>
        </p:blipFill>
        <p:spPr>
          <a:xfrm>
            <a:off x="2819520" y="3657600"/>
            <a:ext cx="2232000" cy="25909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11"/>
          <p:cNvSpPr/>
          <p:nvPr/>
        </p:nvSpPr>
        <p:spPr>
          <a:xfrm>
            <a:off x="2743200" y="361944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www.baumkunde.de/forum/viewtopic.php?t=282&amp;sid=bf5f622d8246b7db64e2f24f415c9bab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341280" y="415800"/>
            <a:ext cx="15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Asparagus falcat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2819520" y="5791320"/>
            <a:ext cx="213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Loubinec tříprstý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Parthenocissus tricuspi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380880" y="548640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Listnatec –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Ruscus aculeat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304920" y="3619440"/>
            <a:ext cx="2133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www.hegel-system.de/de/v232goethe.htm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468360" y="3860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4716360" y="476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4716360" y="386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68612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17748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45259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380880" y="380880"/>
            <a:ext cx="3962520" cy="26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u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té ston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odojemy“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ukulentních rostl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chykaulo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d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ý stonek, fungující jako zásobárna vody a asimilační orgán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akt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sukulentní pry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e), zatímco listy jsou reduko-vané, přeměněné v trny nebo chybí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té bazál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ánky lodyhy – zásobárna vod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opické orchide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3" descr="C:\user\Houba\Škola-obrázky\morfologie\3_stonek\saguaros_viagras_erectus.jpg"/>
          <p:cNvPicPr/>
          <p:nvPr/>
        </p:nvPicPr>
        <p:blipFill>
          <a:blip r:embed="rId1"/>
          <a:srcRect l="0" t="7874" r="0" b="0"/>
          <a:stretch/>
        </p:blipFill>
        <p:spPr>
          <a:xfrm>
            <a:off x="6553080" y="228600"/>
            <a:ext cx="2129040" cy="27367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"/>
          <p:cNvSpPr/>
          <p:nvPr/>
        </p:nvSpPr>
        <p:spPr>
          <a:xfrm rot="16200000">
            <a:off x="7147080" y="1482120"/>
            <a:ext cx="2895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http://www.ifh.ee.ethz.ch/~ballisti/for_fun/pict_geogr/saguaros.jpe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Picture 7" descr="C:\user\Houba\Škola-obrázky\morfologie\3_stonek\euphorbia_suzannae.jpg"/>
          <p:cNvPicPr/>
          <p:nvPr/>
        </p:nvPicPr>
        <p:blipFill>
          <a:blip r:embed="rId2"/>
          <a:srcRect l="0" t="0" r="0" b="7871"/>
          <a:stretch/>
        </p:blipFill>
        <p:spPr>
          <a:xfrm>
            <a:off x="4495680" y="228600"/>
            <a:ext cx="1976400" cy="27367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8"/>
          <p:cNvSpPr/>
          <p:nvPr/>
        </p:nvSpPr>
        <p:spPr>
          <a:xfrm>
            <a:off x="4495680" y="2819520"/>
            <a:ext cx="1752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www.zooplzen.cz/kvete/kvete.php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11" descr="C:\user\Houba\Škola-obrázky\morfologie\3_stonek\kedlubna_bila.jpg"/>
          <p:cNvPicPr/>
          <p:nvPr/>
        </p:nvPicPr>
        <p:blipFill>
          <a:blip r:embed="rId3"/>
          <a:stretch/>
        </p:blipFill>
        <p:spPr>
          <a:xfrm>
            <a:off x="477720" y="4800600"/>
            <a:ext cx="2438640" cy="17524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12"/>
          <p:cNvSpPr/>
          <p:nvPr/>
        </p:nvSpPr>
        <p:spPr>
          <a:xfrm rot="16200000">
            <a:off x="-318600" y="5652720"/>
            <a:ext cx="1752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kocour.webpark.cz/kedlubny1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Picture 13" descr="C:\user\Houba\Škola-obrázky\morfologie\3_stonek\apium_graveolens_var_rapaceum.jpg"/>
          <p:cNvPicPr/>
          <p:nvPr/>
        </p:nvPicPr>
        <p:blipFill>
          <a:blip r:embed="rId4"/>
          <a:stretch/>
        </p:blipFill>
        <p:spPr>
          <a:xfrm>
            <a:off x="4933800" y="3886200"/>
            <a:ext cx="2133720" cy="26622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4"/>
          <p:cNvSpPr/>
          <p:nvPr/>
        </p:nvSpPr>
        <p:spPr>
          <a:xfrm rot="16200000">
            <a:off x="5523840" y="506448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commons.wikimedia.org/wiki/Image: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Knolselderij_knol_(Apium_graveolens_var._rapaceum)_'Dolvi'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380880" y="3774960"/>
            <a:ext cx="44197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ulv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hlízy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 podíle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onku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ypokotyl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eler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p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20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azální stonkové hlíz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šafrán, ocú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16"/>
          <p:cNvSpPr/>
          <p:nvPr/>
        </p:nvSpPr>
        <p:spPr>
          <a:xfrm>
            <a:off x="380880" y="3048120"/>
            <a:ext cx="8382240" cy="7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lízy nadzem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kedlube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důkaz stonkového původu: růst listů po obvodu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20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líz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l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 hypokoty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první článek stonku nad kořenem) – ředkvičk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Picture 17" descr="C:\user\Houba\Škola-obrázky\morfologie\3_stonek\radish_jane_kozlak.jpg"/>
          <p:cNvPicPr/>
          <p:nvPr/>
        </p:nvPicPr>
        <p:blipFill>
          <a:blip r:embed="rId5"/>
          <a:stretch/>
        </p:blipFill>
        <p:spPr>
          <a:xfrm>
            <a:off x="3011400" y="4800600"/>
            <a:ext cx="1828800" cy="17524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8" descr="C:\user\Houba\Škola-obrázky\morfologie\3_stonek\crocus_vernus.jpg"/>
          <p:cNvPicPr/>
          <p:nvPr/>
        </p:nvPicPr>
        <p:blipFill>
          <a:blip r:embed="rId6"/>
          <a:srcRect l="0" t="4941" r="0" b="7405"/>
          <a:stretch/>
        </p:blipFill>
        <p:spPr>
          <a:xfrm>
            <a:off x="7162920" y="3886200"/>
            <a:ext cx="1496880" cy="26607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19"/>
          <p:cNvSpPr/>
          <p:nvPr/>
        </p:nvSpPr>
        <p:spPr>
          <a:xfrm rot="16200000">
            <a:off x="7491600" y="5461920"/>
            <a:ext cx="2133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http://www.vingpennan.com/pressinfo/krokus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20"/>
          <p:cNvSpPr/>
          <p:nvPr/>
        </p:nvSpPr>
        <p:spPr>
          <a:xfrm rot="16200000">
            <a:off x="3681720" y="5461920"/>
            <a:ext cx="2133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http://www.painted-tiles.com/radishes.htm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4495680" y="25909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Euphorbia suzanna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7"/>
          <a:stretch/>
        </p:blipFill>
        <p:spPr>
          <a:xfrm>
            <a:off x="4140360" y="260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8"/>
          <a:stretch/>
        </p:blipFill>
        <p:spPr>
          <a:xfrm>
            <a:off x="4572000" y="3933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203352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50088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380880" y="304920"/>
            <a:ext cx="8534520" cy="34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líz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dde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kov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rambo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– kromě zásobní funkce i vegetat. rozmnožován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dden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odzemní stonek, setkáme se s ním již u kapradin i u celé řady skupin krytosemenných rostlin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kce: přezimování 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getativ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množován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má listy, al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šupiny s ú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ními pupe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&gt; v další sezóně růst nových prýtů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ětve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nopod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ál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dzemní stonky vyrůstají z bočních větví – vraní o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b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ympod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ál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avní větev =&gt; stonek, odd. pokračuje boční větví – sasan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ykormony mohou být shluky jedinců vzešlých ze společného oddenk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aziv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ýběžky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šlahou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dlouhá internodia, obvykle slouží k veget. rozmn. =&gt; v určité vzdálenosti zakoření =&gt; růst dalšího jedince (jahodník, zběhovec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dobou jsou podzemní výběžky (běžně ozn. jako oddenky – u pýru či rákosu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Picture 6" descr="C:\user\Houba\Škola-obrázky\morfologie\3_stonek\cernohorsky_110_hlizy_brambor.JPG"/>
          <p:cNvPicPr/>
          <p:nvPr/>
        </p:nvPicPr>
        <p:blipFill>
          <a:blip r:embed="rId1"/>
          <a:stretch/>
        </p:blipFill>
        <p:spPr>
          <a:xfrm>
            <a:off x="457200" y="3809880"/>
            <a:ext cx="3429000" cy="2590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C:\user\Houba\Škola-obrázky\morfologie\3_stonek\ajuga_reptans_vybezky.jpg"/>
          <p:cNvPicPr/>
          <p:nvPr/>
        </p:nvPicPr>
        <p:blipFill>
          <a:blip r:embed="rId2"/>
          <a:srcRect l="0" t="15751" r="0" b="15751"/>
          <a:stretch/>
        </p:blipFill>
        <p:spPr>
          <a:xfrm>
            <a:off x="5826240" y="3809880"/>
            <a:ext cx="2819160" cy="259092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8"/>
          <p:cNvSpPr/>
          <p:nvPr/>
        </p:nvSpPr>
        <p:spPr>
          <a:xfrm>
            <a:off x="5791320" y="377496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rostliny.prirodou.cz/?nazvy=c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&amp;rostlina=ajuga_reptans&amp;fotografie=7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11" descr="C:\user\Houba\Škola-obrázky\morfologie\3_stonek\stachys_palustris_oddenek.jpg"/>
          <p:cNvPicPr/>
          <p:nvPr/>
        </p:nvPicPr>
        <p:blipFill>
          <a:blip r:embed="rId3"/>
          <a:stretch/>
        </p:blipFill>
        <p:spPr>
          <a:xfrm>
            <a:off x="3956040" y="3809880"/>
            <a:ext cx="1803240" cy="25909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12"/>
          <p:cNvSpPr/>
          <p:nvPr/>
        </p:nvSpPr>
        <p:spPr>
          <a:xfrm>
            <a:off x="3886200" y="3774960"/>
            <a:ext cx="1943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www.jvsystem.net/app19/FotoBrowser.aspx?pk=10118&amp;fk=1070&amp;lng_user=17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3922560" y="592596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Stachys palustr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Čistec bahenní, oddene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5829480" y="611352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Zběhovec plazivý –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Ajuga rept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609480" y="4857840"/>
            <a:ext cx="2210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Černohorský 1964: Základy rostlinné morfologi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3635280" y="49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169810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380880" y="380880"/>
            <a:ext cx="8458200" cy="9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ibu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tvar stonkovo-listového původu, stonkovou část představu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dp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í, „hrbolek“ na bázi cibu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překry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zd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ým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báz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i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, více u přeměn listu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l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á cibul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n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vznik stroužků z více kolaterálních úžlabních pupenů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Picture 3" descr="C:\user\Houba\Škola-obrázky\morfologie\3_stonek\slavikova_034_kaudex.JPG"/>
          <p:cNvPicPr/>
          <p:nvPr/>
        </p:nvPicPr>
        <p:blipFill>
          <a:blip r:embed="rId1"/>
          <a:stretch/>
        </p:blipFill>
        <p:spPr>
          <a:xfrm>
            <a:off x="457200" y="1482840"/>
            <a:ext cx="3960720" cy="393372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4"/>
          <p:cNvSpPr/>
          <p:nvPr/>
        </p:nvSpPr>
        <p:spPr>
          <a:xfrm>
            <a:off x="4572000" y="1406520"/>
            <a:ext cx="419112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aude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onkovo-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ový orgán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to zd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ý, vertikál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tojící na vrcholu 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vého 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obvyk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jen mír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v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ívající ze ze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 (nebo lze naopak mluvit o bázích stonkových výhonů vtisklých do země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ásobní funkce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povrchu býv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noho pupe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 (i spících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skyt u hvězdnicovitých, bobovitých, miříkovitých, ale i aralkovitých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še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námka: chápání pojmu kaudex (resp. caudex) není zcela jednotné, používá se také pro sloupovité kmeny jednoděložných, cykasů a kaprad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2895480" y="5181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Slavíková 1984: Morfologie rostli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5" descr="C:\user\Houba\Škola-obrázky\morfologie\3_stonek\zensen_LADY.jpg"/>
          <p:cNvPicPr/>
          <p:nvPr/>
        </p:nvPicPr>
        <p:blipFill>
          <a:blip r:embed="rId1"/>
          <a:stretch/>
        </p:blipFill>
        <p:spPr>
          <a:xfrm>
            <a:off x="7391520" y="228600"/>
            <a:ext cx="1054080" cy="18288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6" descr="C:\user\Houba\Škola-obrázky\morfologie\3_stonek\chinovnik_cinchona_calisaya.jpg"/>
          <p:cNvPicPr/>
          <p:nvPr/>
        </p:nvPicPr>
        <p:blipFill>
          <a:blip r:embed="rId2"/>
          <a:stretch/>
        </p:blipFill>
        <p:spPr>
          <a:xfrm>
            <a:off x="4648320" y="3048120"/>
            <a:ext cx="2361960" cy="180972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7"/>
          <p:cNvSpPr/>
          <p:nvPr/>
        </p:nvSpPr>
        <p:spPr>
          <a:xfrm>
            <a:off x="7315200" y="1600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ladyweb.ihned.cz/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c4-10144570-20026330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-l00000_d-zazracne-ucinky-zensenu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10" descr="C:\user\Houba\Škola-obrázky\morfologie\3_stonek\Zingiber_Officinale_Ginger_Root.jpg"/>
          <p:cNvPicPr/>
          <p:nvPr/>
        </p:nvPicPr>
        <p:blipFill>
          <a:blip r:embed="rId3"/>
          <a:stretch/>
        </p:blipFill>
        <p:spPr>
          <a:xfrm>
            <a:off x="4646520" y="228600"/>
            <a:ext cx="2662200" cy="27097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C:\user\Houba\Škola-obrázky\morfologie\3_stonek\asparagus_snop.jpg"/>
          <p:cNvPicPr/>
          <p:nvPr/>
        </p:nvPicPr>
        <p:blipFill>
          <a:blip r:embed="rId4"/>
          <a:stretch/>
        </p:blipFill>
        <p:spPr>
          <a:xfrm>
            <a:off x="7391520" y="2133720"/>
            <a:ext cx="1253880" cy="1828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11"/>
          <p:cNvSpPr/>
          <p:nvPr/>
        </p:nvSpPr>
        <p:spPr>
          <a:xfrm>
            <a:off x="380880" y="492120"/>
            <a:ext cx="4191120" cy="46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aktický význ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trava – stonkov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hypokotylové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ové hlíz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zelenina)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rý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řest, mladé výhonky bambus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oření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denky zázvor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yslo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lod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cukr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řt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ilní vlákna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lýka konopí či ln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ísloviny, barv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řevo: zdroj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eluló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topivo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urovina pr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vozpracující p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mys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rycí pletiva 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ub korkový, skořicovník, chin(in)ovní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y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šovací pletiva – kleje (arabská guma –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ac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rys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alzám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9"/>
          <p:cNvSpPr/>
          <p:nvPr/>
        </p:nvSpPr>
        <p:spPr>
          <a:xfrm rot="16200000">
            <a:off x="6662160" y="3257640"/>
            <a:ext cx="11415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http://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www.moonbattery.com/archives/asparagus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12" descr="C:\user\Houba\Škola-obrázky\morfologie\3_stonek\dub_korkovy_kura.jpg"/>
          <p:cNvPicPr/>
          <p:nvPr/>
        </p:nvPicPr>
        <p:blipFill>
          <a:blip r:embed="rId5"/>
          <a:stretch/>
        </p:blipFill>
        <p:spPr>
          <a:xfrm>
            <a:off x="6858000" y="4191120"/>
            <a:ext cx="1812960" cy="23619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13"/>
          <p:cNvSpPr/>
          <p:nvPr/>
        </p:nvSpPr>
        <p:spPr>
          <a:xfrm>
            <a:off x="6781680" y="628344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www.portugal.sk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/krajina/korok/pix/IM000293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Picture 14" descr="C:\user\Houba\Škola-obrázky\morfologie\3_stonek\skorice_kura_mladych_vetvi.jpg"/>
          <p:cNvPicPr/>
          <p:nvPr/>
        </p:nvPicPr>
        <p:blipFill>
          <a:blip r:embed="rId6"/>
          <a:stretch/>
        </p:blipFill>
        <p:spPr>
          <a:xfrm>
            <a:off x="4648320" y="4952880"/>
            <a:ext cx="2133360" cy="160020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15"/>
          <p:cNvSpPr/>
          <p:nvPr/>
        </p:nvSpPr>
        <p:spPr>
          <a:xfrm rot="16200000">
            <a:off x="5790600" y="559944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yoohoo.euweb.cz/cantor2004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/aktual/aktual6-06/6leknimg/skorice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18"/>
          <p:cNvSpPr/>
          <p:nvPr/>
        </p:nvSpPr>
        <p:spPr>
          <a:xfrm>
            <a:off x="4572000" y="3048120"/>
            <a:ext cx="2590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cs.wikipedia.org/wiki/Soubor:Cinchona.calisaya02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19"/>
          <p:cNvSpPr/>
          <p:nvPr/>
        </p:nvSpPr>
        <p:spPr>
          <a:xfrm>
            <a:off x="4613400" y="457200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Chinovník –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Cinchona calisay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20"/>
          <p:cNvSpPr/>
          <p:nvPr/>
        </p:nvSpPr>
        <p:spPr>
          <a:xfrm>
            <a:off x="6858000" y="419112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Dub korkov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Quercu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su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21"/>
          <p:cNvSpPr/>
          <p:nvPr/>
        </p:nvSpPr>
        <p:spPr>
          <a:xfrm>
            <a:off x="6991200" y="38862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Chřest 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Asparagus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sp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22"/>
          <p:cNvSpPr/>
          <p:nvPr/>
        </p:nvSpPr>
        <p:spPr>
          <a:xfrm rot="16200000">
            <a:off x="3757680" y="1804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ázvor 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Zingiber officinal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23"/>
          <p:cNvSpPr/>
          <p:nvPr/>
        </p:nvSpPr>
        <p:spPr>
          <a:xfrm>
            <a:off x="4613400" y="609588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Skořicovník cejlonsk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Cinnamomum zeylanic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24"/>
          <p:cNvSpPr/>
          <p:nvPr/>
        </p:nvSpPr>
        <p:spPr>
          <a:xfrm>
            <a:off x="4572000" y="18576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www.alibaba.com/catalog/11133331/Ginger_Root_Whole_Zingiber_Officinale_Gan_Jiang_/showimg.htm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26"/>
          <p:cNvSpPr/>
          <p:nvPr/>
        </p:nvSpPr>
        <p:spPr>
          <a:xfrm rot="16200000">
            <a:off x="7621560" y="10429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Ženšen 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anax ginse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7"/>
          <a:stretch/>
        </p:blipFill>
        <p:spPr>
          <a:xfrm>
            <a:off x="4284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57667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2" descr="C:\user\Houba\Škola-obrázky\morfologie\3_stonek\tvary_koruny_stromu.jpg"/>
          <p:cNvPicPr/>
          <p:nvPr/>
        </p:nvPicPr>
        <p:blipFill>
          <a:blip r:embed="rId1"/>
          <a:stretch/>
        </p:blipFill>
        <p:spPr>
          <a:xfrm>
            <a:off x="457200" y="3139920"/>
            <a:ext cx="3809880" cy="3432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61800" y="304920"/>
            <a:ext cx="65725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499"/>
              </a:spcAft>
              <a:buClr>
                <a:srgbClr val="ccffcc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ypy stonk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99"/>
              </a:spcAft>
              <a:buClr>
                <a:srgbClr val="ccffcc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ůž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články natolik zkrácené, že všechny listy vyrůstají jakoby z jednoho místa =&gt; přízemní listová růž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99"/>
              </a:spcAft>
              <a:buClr>
                <a:srgbClr val="ccffcc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vo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nečlánkovaný bezlistý stonek, obvykle prodloužený vrcholový článek, který v době kvetení vyroste z listové růž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99"/>
              </a:spcAft>
              <a:buClr>
                <a:srgbClr val="ccffcc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ébl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stonek trav, články jsou duté a uzliny plné (kolénk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5" descr="C:\user\Houba\Škola-obrázky\morfologie\3_stonek\bylina_ruzice+stvol.bmp"/>
          <p:cNvPicPr/>
          <p:nvPr/>
        </p:nvPicPr>
        <p:blipFill>
          <a:blip r:embed="rId2"/>
          <a:stretch/>
        </p:blipFill>
        <p:spPr>
          <a:xfrm>
            <a:off x="6905520" y="304920"/>
            <a:ext cx="1866960" cy="21333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 rot="5400000">
            <a:off x="7146720" y="1690200"/>
            <a:ext cx="3124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http://www.ped.muni.cz/wchem/sm/dp/davidova/www_zaci1/bylina.bmp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Picture 9" descr="C:\user\Houba\Škola-obrázky\morfologie\3_stonek\steblo_podelny_prurez.bmp"/>
          <p:cNvPicPr/>
          <p:nvPr/>
        </p:nvPicPr>
        <p:blipFill>
          <a:blip r:embed="rId3"/>
          <a:stretch/>
        </p:blipFill>
        <p:spPr>
          <a:xfrm>
            <a:off x="5486400" y="2438280"/>
            <a:ext cx="3159000" cy="1943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 rot="16200000">
            <a:off x="4461480" y="3234600"/>
            <a:ext cx="20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http://etext.czu.cz/php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/skripta/kapitola.php?titul_key=81&amp;idkapitola=4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Picture 7" descr="C:\user\Houba\Škola-obrázky\morfologie\3_stonek\bylina_lodyha.bmp"/>
          <p:cNvPicPr/>
          <p:nvPr/>
        </p:nvPicPr>
        <p:blipFill>
          <a:blip r:embed="rId4"/>
          <a:srcRect l="0" t="0" r="23777" b="12734"/>
          <a:stretch/>
        </p:blipFill>
        <p:spPr>
          <a:xfrm>
            <a:off x="6858000" y="3505320"/>
            <a:ext cx="1901880" cy="30477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1"/>
          <p:cNvSpPr/>
          <p:nvPr/>
        </p:nvSpPr>
        <p:spPr>
          <a:xfrm>
            <a:off x="361800" y="243828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499"/>
              </a:spcAft>
              <a:buClr>
                <a:srgbClr val="ccffcc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dyh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stonek bylin, kde se střídají články s uzlinami (zde vyrůstají listy a dochází k větvení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8"/>
          <p:cNvSpPr/>
          <p:nvPr/>
        </p:nvSpPr>
        <p:spPr>
          <a:xfrm rot="5400000">
            <a:off x="7184880" y="5005080"/>
            <a:ext cx="3048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http://www.ped.muni.cz/wchem/sm/dp/davidova/www_zaci1/lodyha.bmp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4343400" y="480060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499"/>
              </a:spcAft>
              <a:buClr>
                <a:srgbClr val="ccffcc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me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stonek dřevin, ze kterého vyrůstají postranní větve, případně se větví v koruně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609480" y="32767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533520" y="3255840"/>
            <a:ext cx="3352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http://druidova.mysteria.cz/STROMY/STROMY_KROVINY_LESY.htm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4716360" y="371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934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5562720" y="304920"/>
            <a:ext cx="3276360" cy="62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vary stonků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ím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roste kolmo vzhůr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stoupav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spodní část poléhavá, obloukem se zvedá do přímého vrcholu (štírovník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léhav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roste „plazivě“ po povrchu země, ale nekoře-nuje v uzlinách (rdesno ptačí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laziv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tvarově podobný typ s tvorbou adventivních kořenů v uzlinách (mochn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víjiv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šroubovité otáčení kolem opory (neživé či jiné rostliny): typ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evotočiv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při pohledu shora, např. svlačec)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votočiv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chmel) i rostliny kombinující oba typy (dýně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pínavý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roste „plazivě“ po šikmé či kolmé opoře, možné přichycování pomocí úponek či příčepivých kořenů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 rot="16200000">
            <a:off x="-1004400" y="1263240"/>
            <a:ext cx="266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http://www.danihelka.cz/02.odkazy/06.RUZNE/lecivky/lnice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7" descr="C:\user\Houba\Škola-obrázky\morfologie\3_stonek\stirovnik_ruzkaty.jpg"/>
          <p:cNvPicPr/>
          <p:nvPr/>
        </p:nvPicPr>
        <p:blipFill>
          <a:blip r:embed="rId1"/>
          <a:stretch/>
        </p:blipFill>
        <p:spPr>
          <a:xfrm>
            <a:off x="1523880" y="152280"/>
            <a:ext cx="1905120" cy="24386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1447920" y="2438280"/>
            <a:ext cx="2057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www.kvetenacr.cz/detail.asp?IDdetail=60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Picture 8" descr="C:\user\Houba\Škola-obrázky\morfologie\3_stonek\rdesno_truskavec.jpg"/>
          <p:cNvPicPr/>
          <p:nvPr/>
        </p:nvPicPr>
        <p:blipFill>
          <a:blip r:embed="rId2"/>
          <a:stretch/>
        </p:blipFill>
        <p:spPr>
          <a:xfrm>
            <a:off x="304920" y="2666880"/>
            <a:ext cx="2514600" cy="19051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9"/>
          <p:cNvSpPr/>
          <p:nvPr/>
        </p:nvSpPr>
        <p:spPr>
          <a:xfrm>
            <a:off x="1335240" y="2625840"/>
            <a:ext cx="1547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bf.jcu.cz/morfologie/PolygonumArenastrumVel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Picture 10" descr="C:\user\Houba\Škola-obrázky\morfologie\3_stonek\mochna_petilistek.jpg"/>
          <p:cNvPicPr/>
          <p:nvPr/>
        </p:nvPicPr>
        <p:blipFill>
          <a:blip r:embed="rId3"/>
          <a:stretch/>
        </p:blipFill>
        <p:spPr>
          <a:xfrm>
            <a:off x="2895480" y="2666880"/>
            <a:ext cx="2541600" cy="19116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1"/>
          <p:cNvSpPr/>
          <p:nvPr/>
        </p:nvSpPr>
        <p:spPr>
          <a:xfrm>
            <a:off x="2819520" y="4419720"/>
            <a:ext cx="228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eldar.cz/herbar/soubory/mochna_petilistek.htm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Picture 12" descr="C:\user\Houba\Škola-obrázky\morfologie\3_stonek\svlacec_tocenice.jpg"/>
          <p:cNvPicPr/>
          <p:nvPr/>
        </p:nvPicPr>
        <p:blipFill>
          <a:blip r:embed="rId4"/>
          <a:stretch/>
        </p:blipFill>
        <p:spPr>
          <a:xfrm>
            <a:off x="304920" y="4646520"/>
            <a:ext cx="2514600" cy="19065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3"/>
          <p:cNvSpPr/>
          <p:nvPr/>
        </p:nvSpPr>
        <p:spPr>
          <a:xfrm>
            <a:off x="228600" y="4613400"/>
            <a:ext cx="2743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bf.jcu.cz/morfologie/ConvolvulusTocenice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Picture 14" descr="C:\user\Houba\Škola-obrázky\morfologie\3_stonek\chmel_otacivy.jpg"/>
          <p:cNvPicPr/>
          <p:nvPr/>
        </p:nvPicPr>
        <p:blipFill>
          <a:blip r:embed="rId5"/>
          <a:stretch/>
        </p:blipFill>
        <p:spPr>
          <a:xfrm>
            <a:off x="3505320" y="152280"/>
            <a:ext cx="1923840" cy="24368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5"/>
          <p:cNvSpPr/>
          <p:nvPr/>
        </p:nvSpPr>
        <p:spPr>
          <a:xfrm>
            <a:off x="3429000" y="2438280"/>
            <a:ext cx="2133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www.kvetenacr.cz/detail.asp?IDdetail=184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16" descr="C:\user\Houba\Škola-obrázky\morfologie\3_stonek\loubinec_petilisty.jpg"/>
          <p:cNvPicPr/>
          <p:nvPr/>
        </p:nvPicPr>
        <p:blipFill>
          <a:blip r:embed="rId6"/>
          <a:stretch/>
        </p:blipFill>
        <p:spPr>
          <a:xfrm>
            <a:off x="2895480" y="4648320"/>
            <a:ext cx="2541600" cy="1904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7"/>
          <p:cNvSpPr/>
          <p:nvPr/>
        </p:nvSpPr>
        <p:spPr>
          <a:xfrm rot="16200000">
            <a:off x="2171160" y="525636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http://cs.wikipedia.org/wiki/Soubor: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Parthenocissus_quinquefolia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Picture 3" descr="C:\user\Houba\Škola-obrázky\morfologie\3_stonek\lnice_kvetel.jpg"/>
          <p:cNvPicPr/>
          <p:nvPr/>
        </p:nvPicPr>
        <p:blipFill>
          <a:blip r:embed="rId7"/>
          <a:srcRect l="64611" t="0" r="0" b="0"/>
          <a:stretch/>
        </p:blipFill>
        <p:spPr>
          <a:xfrm>
            <a:off x="420840" y="152280"/>
            <a:ext cx="958680" cy="2919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8"/>
          <p:cNvSpPr/>
          <p:nvPr/>
        </p:nvSpPr>
        <p:spPr>
          <a:xfrm>
            <a:off x="2895480" y="6095880"/>
            <a:ext cx="213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Loubinec pětilist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Parthenocissus quinquefol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304920" y="6095880"/>
            <a:ext cx="213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Svlačec rolní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Convolvulus arven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304920" y="4114800"/>
            <a:ext cx="213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Truskavec (rdesno) ptačí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Polygonum avicul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2895480" y="2666880"/>
            <a:ext cx="213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Mochna plazivá (pětilístek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Potentilla rept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23"/>
          <p:cNvSpPr/>
          <p:nvPr/>
        </p:nvSpPr>
        <p:spPr>
          <a:xfrm>
            <a:off x="1523880" y="2057400"/>
            <a:ext cx="213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Štírovník růžkat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Lotus corniculat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24"/>
          <p:cNvSpPr/>
          <p:nvPr/>
        </p:nvSpPr>
        <p:spPr>
          <a:xfrm>
            <a:off x="3505320" y="2057400"/>
            <a:ext cx="213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Chmel otáčiv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Humulus lupul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738036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82454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5"/>
          <p:cNvSpPr/>
          <p:nvPr/>
        </p:nvSpPr>
        <p:spPr>
          <a:xfrm>
            <a:off x="380880" y="380880"/>
            <a:ext cx="8534520" cy="23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Růst a větvení stonk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rcholový růst – stonek dorůstá na vzrostném vrchol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neární růst – prodlužování jednotlivých článků (růst uzlin jen v nepatrné míř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díl oproti kořenu, kde je prodlužovací růst omezen na vrcholovou obla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ůvodní typ větvení stonku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ětvení vidličnat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dichotomické, hemiblastické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ě větve rovnocenné – větvení homobrachiátní (vranec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20" descr="C:\user\Houba\Škola-obrázky\morfologie\3_stonek\pseudomonopodium_lycopodium_clavatum.jpg"/>
          <p:cNvPicPr/>
          <p:nvPr/>
        </p:nvPicPr>
        <p:blipFill>
          <a:blip r:embed="rId1"/>
          <a:stretch/>
        </p:blipFill>
        <p:spPr>
          <a:xfrm>
            <a:off x="3124080" y="2895480"/>
            <a:ext cx="3505320" cy="26305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1"/>
          <p:cNvSpPr/>
          <p:nvPr/>
        </p:nvSpPr>
        <p:spPr>
          <a:xfrm rot="16200000">
            <a:off x="5207040" y="4128480"/>
            <a:ext cx="2667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bf.jcu.cz/morfologie/LycopodiumClavCela1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24" descr="C:\user\Houba\Škola-obrázky\morfologie\3_stonek\huperzia_selago.jpg"/>
          <p:cNvPicPr/>
          <p:nvPr/>
        </p:nvPicPr>
        <p:blipFill>
          <a:blip r:embed="rId2"/>
          <a:stretch/>
        </p:blipFill>
        <p:spPr>
          <a:xfrm>
            <a:off x="6705720" y="2514600"/>
            <a:ext cx="1996920" cy="39146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5"/>
          <p:cNvSpPr/>
          <p:nvPr/>
        </p:nvSpPr>
        <p:spPr>
          <a:xfrm>
            <a:off x="380880" y="2743200"/>
            <a:ext cx="2667240" cy="24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a z větví dominuje a přerůstá druhou – větvení heterobrachiátní (plavuně, vranečky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dličnaté větvení není spojeno s růstem listů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ětve nevyrůstají z paždí žádného list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19"/>
          <p:cNvSpPr/>
          <p:nvPr/>
        </p:nvSpPr>
        <p:spPr>
          <a:xfrm rot="16200000">
            <a:off x="5016600" y="4623840"/>
            <a:ext cx="3505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http://dearkitty.blogsome.com/2008/07/07/rare-plant-discovered-in-the-netherlands/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26"/>
          <p:cNvSpPr/>
          <p:nvPr/>
        </p:nvSpPr>
        <p:spPr>
          <a:xfrm>
            <a:off x="7427880" y="59850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ranec jedlový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Huperzia selag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27"/>
          <p:cNvSpPr/>
          <p:nvPr/>
        </p:nvSpPr>
        <p:spPr>
          <a:xfrm>
            <a:off x="3124080" y="52578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Plavuň vidlačka –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Lycopodium clavat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132000" y="566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07665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380880" y="30492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šinu cévnatých rostlin je charakteristick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ě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vení postran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holoblastické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13" descr="C:\user\Houba\Škola-obrázky\morfologie\3_stonek\slavikova_029_monopodium_sympodium.JPG"/>
          <p:cNvPicPr/>
          <p:nvPr/>
        </p:nvPicPr>
        <p:blipFill>
          <a:blip r:embed="rId1"/>
          <a:stretch/>
        </p:blipFill>
        <p:spPr>
          <a:xfrm>
            <a:off x="457200" y="762120"/>
            <a:ext cx="1868400" cy="38862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4"/>
          <p:cNvSpPr/>
          <p:nvPr/>
        </p:nvSpPr>
        <p:spPr>
          <a:xfrm>
            <a:off x="2438280" y="685800"/>
            <a:ext cx="6477120" cy="26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nopo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jednonoží, větvení hroznovité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lavní stonek pot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je postranní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rchol pokračuje v růst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d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ný list je na t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 stra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jako postranní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ympo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sounoží, větvení vrcholičnaté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stranní stonek pot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je hlavní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růstu pokračuje boční větev, zatímco růst vrcholu je obvykle ukončen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d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ný list je na op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é stra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n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zdánlivá postranní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v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ve skutečnosti konec hlavního stonku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539640" y="407664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Slavíková 1984: Morfologie rostli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16" descr="C:\user\Houba\Škola-obrázky\morfologie\3_stonek\cernohorsky_089_vetveni_stonku.JPG"/>
          <p:cNvPicPr/>
          <p:nvPr/>
        </p:nvPicPr>
        <p:blipFill>
          <a:blip r:embed="rId2"/>
          <a:srcRect l="0" t="0" r="0" b="1790"/>
          <a:stretch/>
        </p:blipFill>
        <p:spPr>
          <a:xfrm>
            <a:off x="3886200" y="3429000"/>
            <a:ext cx="4800600" cy="2994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7"/>
          <p:cNvSpPr/>
          <p:nvPr/>
        </p:nvSpPr>
        <p:spPr>
          <a:xfrm>
            <a:off x="6667560" y="3411360"/>
            <a:ext cx="2209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Černohorský 1964: Základy rostlinné morfologi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380880" y="4800600"/>
            <a:ext cx="3353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drobnější pojetí sympodiálního větvení rozlišuje typ, kde hlavní vrchol ukončuje růst a je přerůstán větvemi, ale zůstává v přímé pozici (2) a typ, kde rostoucí větev zatlačí hlavní vrchol do boční pozice (3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2438280" y="33526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st kombinací monopodia a sympod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596360" y="3645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15077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380880" y="304920"/>
            <a:ext cx="8534520" cy="10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y sympodiálního větvení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nochaz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vyrůstá vždy jedna postranní větev; pokud jsou vytvořeny podpůrné listy (v jejichž paždí větve vyrůstají), jde o listy střídav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5" descr="C:\user\Houba\Škola-obrázky\morfologie\3_stonek\lipa_srdcita_vetev.jpg"/>
          <p:cNvPicPr/>
          <p:nvPr/>
        </p:nvPicPr>
        <p:blipFill>
          <a:blip r:embed="rId1"/>
          <a:srcRect l="0" t="0" r="0" b="5760"/>
          <a:stretch/>
        </p:blipFill>
        <p:spPr>
          <a:xfrm>
            <a:off x="5867280" y="1455840"/>
            <a:ext cx="2819520" cy="8334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380880" y="23209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alší možnosti: hlavní větev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 vyvíjí v k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nství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oli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b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úpo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év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380880" y="137160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sledkem je „cik-cak“ větv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íp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 pokud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lavní pupen odpadne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kračuje v růstu pouze postranní větev a po hlavním pupenu zůstáv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iz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na stonk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6019920" y="2133720"/>
            <a:ext cx="2819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http://www.csop-strakonice.net/obsah/botanika/pupeny/lipa_s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5867280" y="144792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Lípa srdčitá –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Tilia cor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11" descr="C:\user\Houba\Škola-obrázky\morfologie\3_stonek\vincetoxicum_hirundinaria_kvetenstvi.jpg"/>
          <p:cNvPicPr/>
          <p:nvPr/>
        </p:nvPicPr>
        <p:blipFill>
          <a:blip r:embed="rId2"/>
          <a:srcRect l="10501" t="7875" r="21002" b="39373"/>
          <a:stretch/>
        </p:blipFill>
        <p:spPr>
          <a:xfrm>
            <a:off x="457200" y="3581280"/>
            <a:ext cx="2324160" cy="23878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2"/>
          <p:cNvSpPr/>
          <p:nvPr/>
        </p:nvSpPr>
        <p:spPr>
          <a:xfrm rot="16200000">
            <a:off x="1486800" y="468504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rostliny.prirodou.cz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/?rostlina=vincetoxicum_hirundinaria&amp;fotografie=5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13" descr="C:\user\Houba\Škola-obrázky\morfologie\3_stonek\cernohorsky_090_vetveni_revy.JPG"/>
          <p:cNvPicPr/>
          <p:nvPr/>
        </p:nvPicPr>
        <p:blipFill>
          <a:blip r:embed="rId3"/>
          <a:stretch/>
        </p:blipFill>
        <p:spPr>
          <a:xfrm>
            <a:off x="2895480" y="2362320"/>
            <a:ext cx="2184480" cy="35989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4"/>
          <p:cNvSpPr/>
          <p:nvPr/>
        </p:nvSpPr>
        <p:spPr>
          <a:xfrm>
            <a:off x="5257800" y="23623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chaz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vyrůstají dvě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ícné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ve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eřík, jmelí), případně v paždí vstřícných listů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15" descr="C:\user\Houba\Škola-obrázky\morfologie\3_stonek\syringa_vstricne_vetve.jpg"/>
          <p:cNvPicPr/>
          <p:nvPr/>
        </p:nvPicPr>
        <p:blipFill>
          <a:blip r:embed="rId4"/>
          <a:srcRect l="0" t="14824" r="0" b="0"/>
          <a:stretch/>
        </p:blipFill>
        <p:spPr>
          <a:xfrm>
            <a:off x="5334120" y="3352680"/>
            <a:ext cx="3047760" cy="19479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7"/>
          <p:cNvSpPr/>
          <p:nvPr/>
        </p:nvSpPr>
        <p:spPr>
          <a:xfrm>
            <a:off x="380880" y="609588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nikne-li střední pupen, vzniká z dichazia vidlice =&gt; zdánlivě vidličnaté větven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18" descr="C:\user\Houba\Škola-obrázky\morfologie\3_stonek\syringa_vstricne_pupeny.jpg"/>
          <p:cNvPicPr/>
          <p:nvPr/>
        </p:nvPicPr>
        <p:blipFill>
          <a:blip r:embed="rId5"/>
          <a:srcRect l="5563" t="7408" r="5563" b="0"/>
          <a:stretch/>
        </p:blipFill>
        <p:spPr>
          <a:xfrm>
            <a:off x="6934320" y="4724280"/>
            <a:ext cx="1731960" cy="13557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9"/>
          <p:cNvSpPr/>
          <p:nvPr/>
        </p:nvSpPr>
        <p:spPr>
          <a:xfrm>
            <a:off x="5292720" y="53341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Šeřík obecn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Syringa vulgar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6019920" y="3317760"/>
            <a:ext cx="243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bf.jcu.cz/morfologie/MorfologieStonek.htm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21"/>
          <p:cNvSpPr/>
          <p:nvPr/>
        </p:nvSpPr>
        <p:spPr>
          <a:xfrm>
            <a:off x="457200" y="5486400"/>
            <a:ext cx="213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Tolita lékařská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Vincetoxicum hirundina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4114800" y="5029200"/>
            <a:ext cx="9907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Černohorský 1964 Základy rostlinné morfologi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916360" y="4076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65059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4"/>
          <p:cNvSpPr/>
          <p:nvPr/>
        </p:nvSpPr>
        <p:spPr>
          <a:xfrm>
            <a:off x="380880" y="380880"/>
            <a:ext cx="8534520" cy="22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tímco vzrostný vrchol roste z terminálního pupenu, základy postranních větví představují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žlabní pupen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kládají se po stranách vzrostného vrcholu v úžlabí list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dp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né lis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krytosemenný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stlin v úžlabí všech list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nahosemenný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en něk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chran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pupen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šupinam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vzniklými přeměnou list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 chlupy na povrchu /jasan/ nebo vyloučeným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rys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i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ým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át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m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jírovec/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jednoho listu (vrba) nebo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li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ukovit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12760" y="-34920"/>
            <a:ext cx="192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22" descr="C:\user\Houba\Škola-obrázky\morfologie\3_stonek\vrcholovy+uzlabni_pupeny_aesculus.jpg"/>
          <p:cNvPicPr/>
          <p:nvPr/>
        </p:nvPicPr>
        <p:blipFill>
          <a:blip r:embed="rId1"/>
          <a:stretch/>
        </p:blipFill>
        <p:spPr>
          <a:xfrm>
            <a:off x="5070600" y="2478240"/>
            <a:ext cx="1655640" cy="22096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23"/>
          <p:cNvSpPr/>
          <p:nvPr/>
        </p:nvSpPr>
        <p:spPr>
          <a:xfrm rot="16200000">
            <a:off x="5472000" y="3479400"/>
            <a:ext cx="2362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bf.jcu.cz/morfologie/AesculusHipPup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26" descr="C:\user\Houba\Škola-obrázky\morfologie\3_stonek\vrcholovy+uzlabni_pupeny_fraxinus.jpg"/>
          <p:cNvPicPr/>
          <p:nvPr/>
        </p:nvPicPr>
        <p:blipFill>
          <a:blip r:embed="rId2"/>
          <a:stretch/>
        </p:blipFill>
        <p:spPr>
          <a:xfrm>
            <a:off x="3276720" y="2478240"/>
            <a:ext cx="1654200" cy="2209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7" descr="C:\user\Houba\Škola-obrázky\morfologie\3_stonek\kocicky_salix_cinerea.jpg"/>
          <p:cNvPicPr/>
          <p:nvPr/>
        </p:nvPicPr>
        <p:blipFill>
          <a:blip r:embed="rId3"/>
          <a:srcRect l="4956" t="7408" r="9900" b="7408"/>
          <a:stretch/>
        </p:blipFill>
        <p:spPr>
          <a:xfrm>
            <a:off x="6858000" y="2478240"/>
            <a:ext cx="1654200" cy="22096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28"/>
          <p:cNvSpPr/>
          <p:nvPr/>
        </p:nvSpPr>
        <p:spPr>
          <a:xfrm>
            <a:off x="380880" y="2666880"/>
            <a:ext cx="289584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ápovitou báz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íku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ata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upe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lonahé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e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j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šupiny jen na báz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upe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h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typické pr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ylin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29" descr="C:\user\Houba\Škola-obrázky\morfologie\3_stonek\pupen_fagus_sylvatica.jpg"/>
          <p:cNvPicPr/>
          <p:nvPr/>
        </p:nvPicPr>
        <p:blipFill>
          <a:blip r:embed="rId4"/>
          <a:stretch/>
        </p:blipFill>
        <p:spPr>
          <a:xfrm>
            <a:off x="466560" y="4800600"/>
            <a:ext cx="2362320" cy="1716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0" descr="C:\user\Houba\Škola-obrázky\morfologie\3_stonek\pupeny_sambucus_nigra.jpg"/>
          <p:cNvPicPr/>
          <p:nvPr/>
        </p:nvPicPr>
        <p:blipFill>
          <a:blip r:embed="rId5"/>
          <a:srcRect l="0" t="7408" r="0" b="7408"/>
          <a:stretch/>
        </p:blipFill>
        <p:spPr>
          <a:xfrm>
            <a:off x="5846760" y="4800600"/>
            <a:ext cx="2666880" cy="1703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1" descr="C:\user\Houba\Škola-obrázky\morfologie\3_stonek\listovy_pupen_platan_javorolisty.jpg"/>
          <p:cNvPicPr/>
          <p:nvPr/>
        </p:nvPicPr>
        <p:blipFill>
          <a:blip r:embed="rId6"/>
          <a:stretch/>
        </p:blipFill>
        <p:spPr>
          <a:xfrm>
            <a:off x="2965320" y="4800600"/>
            <a:ext cx="2743200" cy="17017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2"/>
          <p:cNvSpPr/>
          <p:nvPr/>
        </p:nvSpPr>
        <p:spPr>
          <a:xfrm rot="16200000">
            <a:off x="7257960" y="3479400"/>
            <a:ext cx="2362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bf.jcu.cz/morfologie/SalixCinerKocic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34"/>
          <p:cNvSpPr/>
          <p:nvPr/>
        </p:nvSpPr>
        <p:spPr>
          <a:xfrm rot="16200000">
            <a:off x="3676680" y="3479400"/>
            <a:ext cx="2362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bf.jcu.cz/morfologie/FraxinusPupen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35"/>
          <p:cNvSpPr/>
          <p:nvPr/>
        </p:nvSpPr>
        <p:spPr>
          <a:xfrm>
            <a:off x="3238560" y="4227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Jasan ztepilý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Fraxinus excelsi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36"/>
          <p:cNvSpPr/>
          <p:nvPr/>
        </p:nvSpPr>
        <p:spPr>
          <a:xfrm>
            <a:off x="5029200" y="4267080"/>
            <a:ext cx="1676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Jírovec maďal </a:t>
            </a:r>
            <a:r>
              <a:rPr b="0" i="1" lang="cs-CZ" sz="1000" spc="-1" strike="noStrike">
                <a:solidFill>
                  <a:srgbClr val="ffffff"/>
                </a:solidFill>
                <a:latin typeface="Arial"/>
              </a:rPr>
              <a:t>Aesculus hippocastanu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37"/>
          <p:cNvSpPr/>
          <p:nvPr/>
        </p:nvSpPr>
        <p:spPr>
          <a:xfrm>
            <a:off x="6823080" y="422748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Vrba sivá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Salix cine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38"/>
          <p:cNvSpPr/>
          <p:nvPr/>
        </p:nvSpPr>
        <p:spPr>
          <a:xfrm>
            <a:off x="420840" y="476424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Buk lesní –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Fagus sylva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39"/>
          <p:cNvSpPr/>
          <p:nvPr/>
        </p:nvSpPr>
        <p:spPr>
          <a:xfrm>
            <a:off x="2935440" y="4764240"/>
            <a:ext cx="27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Platan javorolistý –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Platanus acerifol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40"/>
          <p:cNvSpPr/>
          <p:nvPr/>
        </p:nvSpPr>
        <p:spPr>
          <a:xfrm>
            <a:off x="5829480" y="476424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Bez černý – </a:t>
            </a: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Sambucus nig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41"/>
          <p:cNvSpPr/>
          <p:nvPr/>
        </p:nvSpPr>
        <p:spPr>
          <a:xfrm>
            <a:off x="685800" y="6324480"/>
            <a:ext cx="228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bf.jcu.cz/morfologie/FagusPupen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42"/>
          <p:cNvSpPr/>
          <p:nvPr/>
        </p:nvSpPr>
        <p:spPr>
          <a:xfrm>
            <a:off x="3540240" y="6324480"/>
            <a:ext cx="228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www.uspza.cz/obrazky5/15-platan_02_big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43"/>
          <p:cNvSpPr/>
          <p:nvPr/>
        </p:nvSpPr>
        <p:spPr>
          <a:xfrm>
            <a:off x="6019920" y="6324480"/>
            <a:ext cx="2590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bf.jcu.cz/morfologie/SambucusNigPupeny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2987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66052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380880" y="304920"/>
            <a:ext cx="5029200" cy="26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akládání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pupen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jednoděložných rostlin se úžlabní pupeny zakládaj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vedle sebe 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olaterální pupeny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prostře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lav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po straná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kcesorick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dvouděložných rostlin se úžlabní pupeny zakládaj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d sebou 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riální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pupe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spořádání vzestupné (první se založí nejnižší pupen; příklad: zimolez) neb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estup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se zakládá nejvyšší pupen; příklad: ostružiní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7" descr="C:\user\Houba\Škola-obrázky\morfologie\3_stonek\slavikova_026_uzlabni_pupeny.JPG"/>
          <p:cNvPicPr/>
          <p:nvPr/>
        </p:nvPicPr>
        <p:blipFill>
          <a:blip r:embed="rId1"/>
          <a:stretch/>
        </p:blipFill>
        <p:spPr>
          <a:xfrm>
            <a:off x="5334120" y="228600"/>
            <a:ext cx="3398760" cy="3327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C:\user\Houba\Škola-obrázky\morfologie\3_stonek\slavikova_027_velikost_vetvi.JPG"/>
          <p:cNvPicPr/>
          <p:nvPr/>
        </p:nvPicPr>
        <p:blipFill>
          <a:blip r:embed="rId2"/>
          <a:stretch/>
        </p:blipFill>
        <p:spPr>
          <a:xfrm>
            <a:off x="457200" y="3048120"/>
            <a:ext cx="3124080" cy="20574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9"/>
          <p:cNvSpPr/>
          <p:nvPr/>
        </p:nvSpPr>
        <p:spPr>
          <a:xfrm>
            <a:off x="3733920" y="3619440"/>
            <a:ext cx="5105160" cy="9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stejná velikos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upenů =&gt; různá dél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ví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kroton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1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velké nah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zoton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2) uprostřed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aziton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3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větší větv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d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380880" y="5181480"/>
            <a:ext cx="495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tranní větve zdánlivě nevyrůstají z úžlabí listů v případech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ncaulescen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část. srůst větve s hlavní osou, lilek) či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caulescen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srůst s podpůrným listem nebo listenem, líp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7848720" y="3276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Slavíková 1984: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Morfologie rostli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2093760" y="30114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Slavíková 1984: Morfologie rostli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19" descr="C:\user\Houba\Škola-obrázky\morfologie\3_stonek\concaulescence_solanum_lycopersicum.jpg"/>
          <p:cNvPicPr/>
          <p:nvPr/>
        </p:nvPicPr>
        <p:blipFill>
          <a:blip r:embed="rId3"/>
          <a:srcRect l="16694" t="0" r="5563" b="7408"/>
          <a:stretch/>
        </p:blipFill>
        <p:spPr>
          <a:xfrm>
            <a:off x="5334120" y="4724280"/>
            <a:ext cx="2052360" cy="1836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3" descr="C:\user\Houba\Škola-obrázky\morfologie\3_stonek\concaulescence.bmp"/>
          <p:cNvPicPr/>
          <p:nvPr/>
        </p:nvPicPr>
        <p:blipFill>
          <a:blip r:embed="rId4"/>
          <a:stretch/>
        </p:blipFill>
        <p:spPr>
          <a:xfrm>
            <a:off x="6858000" y="4759200"/>
            <a:ext cx="501480" cy="5335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24"/>
          <p:cNvSpPr/>
          <p:nvPr/>
        </p:nvSpPr>
        <p:spPr>
          <a:xfrm>
            <a:off x="5257800" y="46879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bf.jcu.cz/morfologie/Lycopersicum2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25"/>
          <p:cNvSpPr/>
          <p:nvPr/>
        </p:nvSpPr>
        <p:spPr>
          <a:xfrm rot="16200000">
            <a:off x="6539760" y="5424840"/>
            <a:ext cx="1827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http://en.wikipedia.org/wiki/Inflorescen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26" descr="C:\user\Houba\Škola-obrázky\morfologie\3_stonek\recaulescence_tilia_cordata.jpg"/>
          <p:cNvPicPr/>
          <p:nvPr/>
        </p:nvPicPr>
        <p:blipFill>
          <a:blip r:embed="rId5"/>
          <a:srcRect l="0" t="0" r="53150" b="0"/>
          <a:stretch/>
        </p:blipFill>
        <p:spPr>
          <a:xfrm>
            <a:off x="7543800" y="4724280"/>
            <a:ext cx="1157400" cy="1828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2" descr="C:\user\Houba\Škola-obrázky\morfologie\3_stonek\recaulescence.bmp"/>
          <p:cNvPicPr/>
          <p:nvPr/>
        </p:nvPicPr>
        <p:blipFill>
          <a:blip r:embed="rId6"/>
          <a:stretch/>
        </p:blipFill>
        <p:spPr>
          <a:xfrm>
            <a:off x="7567560" y="4759200"/>
            <a:ext cx="501840" cy="5335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27"/>
          <p:cNvSpPr/>
          <p:nvPr/>
        </p:nvSpPr>
        <p:spPr>
          <a:xfrm rot="16200000">
            <a:off x="7633800" y="5443560"/>
            <a:ext cx="19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en.wikipedia.org/wiki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/Image:Tilia_cordata_Owoce_lipy_656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28"/>
          <p:cNvSpPr/>
          <p:nvPr/>
        </p:nvSpPr>
        <p:spPr>
          <a:xfrm>
            <a:off x="7543800" y="628164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Tilia cor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29"/>
          <p:cNvSpPr/>
          <p:nvPr/>
        </p:nvSpPr>
        <p:spPr>
          <a:xfrm>
            <a:off x="5334120" y="628164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Solanum lycopersic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4932360" y="314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4932360" y="4724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8576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73836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9"/>
          <p:cNvSpPr/>
          <p:nvPr/>
        </p:nvSpPr>
        <p:spPr>
          <a:xfrm>
            <a:off x="380880" y="3809880"/>
            <a:ext cx="853452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ětve, ale jejich růst může být později (i po více letech) vyvolán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nějším podněte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ra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zničení hlavního vrcho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t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vláštním případem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auliflorie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tvorba květů ze spících pupenů na stoncí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ventiv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náhradní)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upe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druhotně zakládají na různých částech rostlin (např. při poškození rostliny nebo jako prostředek vegetativního rozmnožování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 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ech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mpeliš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znik endogenní (jako v případě postranních kořenů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oncích neb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stech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snat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znik exogenní (z povrchových pletiv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 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/na obr. uprostřed vznik adventivního prýtu z povrchu listu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32" descr="C:\user\Houba\Škola-obrázky\morfologie\3_stonek\cauliflory_goethea_strictiflora.jpg"/>
          <p:cNvPicPr/>
          <p:nvPr/>
        </p:nvPicPr>
        <p:blipFill>
          <a:blip r:embed="rId1"/>
          <a:stretch/>
        </p:blipFill>
        <p:spPr>
          <a:xfrm>
            <a:off x="457200" y="1828800"/>
            <a:ext cx="1682640" cy="25146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3"/>
          <p:cNvSpPr/>
          <p:nvPr/>
        </p:nvSpPr>
        <p:spPr>
          <a:xfrm rot="16200000">
            <a:off x="938160" y="3176280"/>
            <a:ext cx="228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flickr.com/photos/42171774@N00/167933102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34" descr="C:\user\Houba\Škola-obrázky\morfologie\3_stonek\adventivni_pryt_drosera_dielsiana.jpg"/>
          <p:cNvPicPr/>
          <p:nvPr/>
        </p:nvPicPr>
        <p:blipFill>
          <a:blip r:embed="rId2"/>
          <a:stretch/>
        </p:blipFill>
        <p:spPr>
          <a:xfrm>
            <a:off x="2286000" y="1828800"/>
            <a:ext cx="2362320" cy="19018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5"/>
          <p:cNvSpPr/>
          <p:nvPr/>
        </p:nvSpPr>
        <p:spPr>
          <a:xfrm>
            <a:off x="2286000" y="3468600"/>
            <a:ext cx="237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www.darwiniana.cz/chramst/view.php?cisloclanku=200501160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36"/>
          <p:cNvSpPr/>
          <p:nvPr/>
        </p:nvSpPr>
        <p:spPr>
          <a:xfrm>
            <a:off x="380880" y="380880"/>
            <a:ext cx="4572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louhé postranní větve 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kroblas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krácené větévky 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rachyblas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malý počet krátkých internodií, zpravidla nevětvené v další postranní větv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37" descr="C:\user\Houba\Škola-obrázky\morfologie\3_stonek\brachyblast_malus.jpg"/>
          <p:cNvPicPr/>
          <p:nvPr/>
        </p:nvPicPr>
        <p:blipFill>
          <a:blip r:embed="rId3"/>
          <a:srcRect l="0" t="0" r="33389" b="0"/>
          <a:stretch/>
        </p:blipFill>
        <p:spPr>
          <a:xfrm>
            <a:off x="7162920" y="380880"/>
            <a:ext cx="1546200" cy="17431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8"/>
          <p:cNvSpPr/>
          <p:nvPr/>
        </p:nvSpPr>
        <p:spPr>
          <a:xfrm>
            <a:off x="7121520" y="184464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bf.jcu.cz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/morfologie/MalusPlodneDrevo.jp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39" descr="C:\user\Houba\Škola-obrázky\morfologie\3_stonek\brachyblast_larix.jpg"/>
          <p:cNvPicPr/>
          <p:nvPr/>
        </p:nvPicPr>
        <p:blipFill>
          <a:blip r:embed="rId4"/>
          <a:stretch/>
        </p:blipFill>
        <p:spPr>
          <a:xfrm>
            <a:off x="4800600" y="380880"/>
            <a:ext cx="2247840" cy="17496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40"/>
          <p:cNvSpPr/>
          <p:nvPr/>
        </p:nvSpPr>
        <p:spPr>
          <a:xfrm>
            <a:off x="4724280" y="184464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www.mineralogiekb.estranky.cz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/stranka/referat-6_---modrin-opadavy-aneb-larix-decidua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1"/>
          <p:cNvSpPr/>
          <p:nvPr/>
        </p:nvSpPr>
        <p:spPr>
          <a:xfrm>
            <a:off x="7162920" y="38088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Malus domes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42"/>
          <p:cNvSpPr/>
          <p:nvPr/>
        </p:nvSpPr>
        <p:spPr>
          <a:xfrm>
            <a:off x="5943600" y="3808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Larix decidu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43"/>
          <p:cNvSpPr/>
          <p:nvPr/>
        </p:nvSpPr>
        <p:spPr>
          <a:xfrm>
            <a:off x="4724280" y="2286000"/>
            <a:ext cx="4114800" cy="16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pící pupe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očka) – utlumený vývoj (tvorba k. abscisové, jako v kořenec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 u rostlin s výraznou dominancí hlavního vegetačního vrchol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vyrostou z nich hned postrann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44"/>
          <p:cNvSpPr/>
          <p:nvPr/>
        </p:nvSpPr>
        <p:spPr>
          <a:xfrm>
            <a:off x="457200" y="40384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Goethea strictiflo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45"/>
          <p:cNvSpPr/>
          <p:nvPr/>
        </p:nvSpPr>
        <p:spPr>
          <a:xfrm>
            <a:off x="2362320" y="190512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Drosera dielsia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4356000" y="141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81151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uba</cp:lastModifiedBy>
  <dcterms:modified xsi:type="dcterms:W3CDTF">2020-10-06T15:10:35Z</dcterms:modified>
  <cp:revision>174</cp:revision>
  <dc:subject/>
  <dc:title>Prezentace aplikace PowerPoint</dc:title>
</cp:coreProperties>
</file>