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AE3FE8-055B-479D-8559-3F62BE396B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5FEFC0-09DC-43EE-9574-0ED072CB1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A1B2DD-0C71-4B95-861D-6900EB1087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A0DC20-D648-4C53-BB71-473ED5E3C3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7071FE-3D1F-498A-A1F1-88FD186970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24BDD5-C5CA-402F-8DC8-21713813B6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7D2442-79F6-481E-BBA0-4DAA1B87FA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48365-6220-447F-BCA7-96247FD0BA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564BD-67EA-475B-94E0-C5E5F60F48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2F50CC-D3FF-4523-ACC6-3857E1EF3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C5F46E-889F-429E-87CC-9F2C3D780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6BFD94-24B7-41AC-B034-5B9EBA6CD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973E0B-E9F9-49B2-B600-115475F07D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F1CBB-4451-456E-BC3D-A4C7516ED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DBAD5A-4469-497A-AEC3-A9CE8062C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403276C-3ADC-4873-9F91-3B5EE2CE4A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92760E3-5EFF-49E4-8A90-F1698E0246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5A390-1F04-4E43-89A7-6D86038B96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9EDE83-3C59-4C0B-9D92-67D69D3ADA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58075-E079-4A58-A028-683A20483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F753AF-0125-4CF0-8A72-C944F6FC7B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B2E6DD-44C8-4A0F-B8CF-376F295B4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03AE6-6228-43DD-B883-5C51802D03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43EF-007F-4D48-AD2F-75B57A8C0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79B5B-EBB8-4867-92DD-45A9BAA4DF5C}"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98226-9698-442B-A864-7FABE93F726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CBAC9-F1D2-41CE-8B5A-153D212243A8}"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56E61-5FDA-4554-96AA-C23614676E4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A4167-FF2F-4C43-942A-CCBB762D43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2FD68-AB75-4482-8F36-51020A4F4FE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7591C-835F-4601-8313-25F3A1E251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EC760F-CE57-4706-9942-83A494D2100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6C9F1-ACC0-4EA3-9478-11ADB28A705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FBDF9-0A98-4BE0-9D3B-C9BDD105900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7E50F-D96E-4BD4-860A-134C9B47BBF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33146-38E3-4A5F-B55D-2D66543049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B724E-4EEE-4FD2-995F-BB5EE10326B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16D1D-EF99-4821-8B7F-C34ED78829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03B00-5875-4F66-ACF0-526294D6DBEB}"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AF2ED-10AC-44FE-AFAB-7A915A502B5B}"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9D841-CF1B-482D-B48E-358C73B023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927AA-29F8-4CBC-9474-82009ED338B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0EB8DE-0681-4F76-B8F2-5E6B734A47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966A7-8CBD-4BA9-A14C-A53F0450EB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C3623-C867-4FB7-920D-C8043DD1D9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F3979-C71A-4602-9E97-787DDC6F730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30385-F216-4AA0-938A-C5B0E7E7E0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C19C4D-9C73-4147-A2FA-00CD16F308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FE2DA-A7F9-4FDA-B0F5-C24F10CEBB1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5AE8E-235E-4238-BABE-E8E1161E9CE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873B5-1682-4CE1-82F2-0929D540AC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EB5E5-4AB4-4EFE-A327-36D9A37A2CA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97F03-DCD3-49E7-830D-F77877B5C4C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84DB2-182A-4AAD-9F52-7E0A97424CB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B02A5-09B5-42FB-BE6D-252F46684F7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F9658-12E2-4541-91A1-15B35C564F6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61D868-7D2A-4F20-9C82-6D4834D6BB2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92F7EF-7D3A-44AC-ACAD-DEC17055C62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E45B-32E7-4FA6-A1CB-8CA7FDFD81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58DB2-ED41-4127-98BE-7D10E119540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D3029-5E2F-42C2-9685-504588A6AC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2D9FD6-2EE6-4D3C-9541-462BB045801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4154B-0FF5-4478-B1B6-46412162A5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55176-BC71-47EE-B427-241343ABC36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5DF5C-C664-4FF0-9083-243FD6690A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ment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30C8-6D45-4B49-A392-C85BB1E9C8A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B40AD-C318-4EFA-AD25-731D563DB9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ment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E870F-2B68-4D1C-8D73-E9556CC8B9A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C616B-6894-4EDF-95B0-6519E78E7BC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21D69-7D26-4FFC-A9DC-CF978D9D9D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C761B-CB6D-4DAA-869E-589DB1B3DAD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3C97E-5EF4-45B4-8934-2AC958BD983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205DD-5602-423B-A129-AEE2BA48B13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D2CF6-5E92-4769-9E64-C1E4319FC2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08BB-5F83-468A-BCE5-2C6837A1983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B1A6-358F-4F1D-84FD-BDD298B7F07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03-13T10:09:49Z</dcterms:modified>
  <cp:revision>303</cp:revision>
  <dc:subject/>
  <dc:title>NMR a energiové hladiny</dc:title>
</cp:coreProperties>
</file>