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B954E-849D-4DAD-82FF-20CBE8D4D9AB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F0ED3-B383-49D3-9020-18839B153B82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D0C3E5-2BE9-4031-99BD-9EA1D618366B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E12B-382F-4EB5-8959-B10F01532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D3F4-F8D4-48A9-912F-9C191C1D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25EA-10C0-4494-8F6B-2B4F46C8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61CA-70C8-490A-996E-EEB74D68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D1A4-6F47-415A-821A-8B9FEC04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9C06-3388-4567-87A3-15ADF696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70B9-5BE5-46D2-90FE-115ACCBC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E183-BEFD-42AF-B7BB-FDB31D16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BF14-1794-45C6-8E40-66DFD2E4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D305-2D49-43C8-B636-E1489E45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2743-D475-4867-A481-125379AD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904B-916B-4341-8DC5-BE5435C8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3440" y="-329760"/>
            <a:ext cx="12185640" cy="7824600"/>
            <a:chOff x="-3043440" y="-329760"/>
            <a:chExt cx="12185640" cy="7824600"/>
          </a:xfrm>
        </p:grpSpPr>
        <p:sp>
          <p:nvSpPr>
            <p:cNvPr id="1" name="Freeform 2"/>
            <p:cNvSpPr/>
            <p:nvPr/>
          </p:nvSpPr>
          <p:spPr>
            <a:xfrm>
              <a:off x="1485720" y="-4320"/>
              <a:ext cx="3221280" cy="69109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1541520" y="-7560"/>
              <a:ext cx="3222000" cy="69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402880" y="-2880"/>
              <a:ext cx="3225600" cy="69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019960" y="-11160"/>
              <a:ext cx="3857760" cy="68965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-1324440" y="157680"/>
              <a:ext cx="649944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 flipH="1" rot="2700000">
              <a:off x="-39240" y="1224720"/>
              <a:ext cx="4718520" cy="1607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-1387440" y="81360"/>
              <a:ext cx="6499440" cy="2449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 rot="18720000">
              <a:off x="-2909160" y="1463760"/>
              <a:ext cx="5588640" cy="2849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 rot="19260000">
              <a:off x="925200" y="1459080"/>
              <a:ext cx="6666120" cy="2767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 flipH="1" rot="2100000">
              <a:off x="1905840" y="1382400"/>
              <a:ext cx="649908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6341400" y="-7560"/>
              <a:ext cx="2019960" cy="3644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-1541520" y="6239520"/>
              <a:ext cx="10683720" cy="68868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485720" y="6312960"/>
              <a:ext cx="3221280" cy="6087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-1541520" y="6312960"/>
              <a:ext cx="3222000" cy="607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5402880" y="6312960"/>
              <a:ext cx="3225600" cy="608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019960" y="6312960"/>
              <a:ext cx="3857760" cy="6073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-1541520" y="6231600"/>
              <a:ext cx="10683720" cy="68868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249360" y="6252120"/>
              <a:ext cx="1921680" cy="66960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 flipH="1" rot="18900000">
              <a:off x="13518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 flipH="1" rot="18900000">
              <a:off x="162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 flipH="1" rot="18900000">
              <a:off x="-1348920" y="6085440"/>
              <a:ext cx="1649160" cy="903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 flipH="1" flipV="1">
              <a:off x="-473040" y="6238800"/>
              <a:ext cx="658800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flipH="1" flipV="1">
              <a:off x="-109620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flipH="1" flipV="1">
              <a:off x="4088880" y="6315840"/>
              <a:ext cx="2470680" cy="61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flipH="1" flipV="1">
              <a:off x="584784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flipH="1" flipV="1">
              <a:off x="4867920" y="6238800"/>
              <a:ext cx="427356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8"/>
            <p:cNvSpPr/>
            <p:nvPr/>
          </p:nvSpPr>
          <p:spPr>
            <a:xfrm>
              <a:off x="-1541520" y="6272640"/>
              <a:ext cx="10683720" cy="2232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EC1368-E5A0-4A5D-BA23-3D12B3661389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Rovnováha v jednosložkové soustavě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684360" y="612720"/>
            <a:ext cx="7527600" cy="563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55640" y="441360"/>
            <a:ext cx="777708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24000" y="219240"/>
            <a:ext cx="828036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133640" y="190440"/>
            <a:ext cx="6876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11-03T11:26:48Z</dcterms:modified>
  <cp:revision>109</cp:revision>
  <dc:subject/>
  <dc:title>C6730 Fázové rovnováhy</dc:title>
</cp:coreProperties>
</file>