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52.png" ContentType="image/png"/>
  <Override PartName="/ppt/media/image51.jpeg" ContentType="image/jpeg"/>
  <Override PartName="/ppt/media/image50.png" ContentType="image/png"/>
  <Override PartName="/ppt/media/image46.png" ContentType="image/pn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png" ContentType="image/png"/>
  <Override PartName="/ppt/media/image43.wmf" ContentType="image/x-wmf"/>
  <Override PartName="/ppt/media/image28.png" ContentType="image/png"/>
  <Override PartName="/ppt/media/image70.png" ContentType="image/png"/>
  <Override PartName="/ppt/media/image31.wmf" ContentType="image/x-wmf"/>
  <Override PartName="/ppt/media/image7.jpeg" ContentType="image/jpeg"/>
  <Override PartName="/ppt/media/image16.png" ContentType="image/png"/>
  <Override PartName="/ppt/media/image53.png" ContentType="image/png"/>
  <Override PartName="/ppt/media/image14.wmf" ContentType="image/x-wmf"/>
  <Override PartName="/ppt/media/image32.wmf" ContentType="image/x-wmf"/>
  <Override PartName="/ppt/media/image18.wmf" ContentType="image/x-wmf"/>
  <Override PartName="/ppt/media/image60.wmf" ContentType="image/x-wmf"/>
  <Override PartName="/ppt/media/image56.png" ContentType="image/png"/>
  <Override PartName="/ppt/media/image17.wmf" ContentType="image/x-wmf"/>
  <Override PartName="/ppt/media/image21.png" ContentType="image/png"/>
  <Override PartName="/ppt/media/image23.png" ContentType="image/png"/>
  <Override PartName="/ppt/media/image69.png" ContentType="image/png"/>
  <Override PartName="/ppt/media/image19.jpeg" ContentType="image/jpeg"/>
  <Override PartName="/ppt/media/image65.wmf" ContentType="image/x-wmf"/>
  <Override PartName="/ppt/media/image25.png" ContentType="image/png"/>
  <Override PartName="/ppt/media/image29.png" ContentType="image/png"/>
  <Override PartName="/ppt/media/image63.jpeg" ContentType="image/jpeg"/>
  <Override PartName="/ppt/media/image66.wmf" ContentType="image/x-wmf"/>
  <Override PartName="/ppt/media/image58.png" ContentType="image/png"/>
  <Override PartName="/ppt/media/image15.wmf" ContentType="image/x-wmf"/>
  <Override PartName="/ppt/media/image64.png" ContentType="image/png"/>
  <Override PartName="/ppt/media/image62.wmf" ContentType="image/x-wmf"/>
  <Override PartName="/ppt/media/image22.png" ContentType="image/png"/>
  <Override PartName="/ppt/media/image27.wmf" ContentType="image/x-wmf"/>
  <Override PartName="/ppt/media/image61.png" ContentType="image/png"/>
  <Override PartName="/ppt/media/image59.wmf" ContentType="image/x-wmf"/>
  <Override PartName="/ppt/media/image67.png" ContentType="image/png"/>
  <Override PartName="/ppt/media/image24.wmf" ContentType="image/x-wmf"/>
  <Override PartName="/ppt/media/image11.png" ContentType="image/png"/>
  <Override PartName="/ppt/media/image3.png" ContentType="image/png"/>
  <Override PartName="/ppt/media/image4.jpeg" ContentType="image/jpeg"/>
  <Override PartName="/ppt/media/image38.wmf" ContentType="image/x-wmf"/>
  <Override PartName="/ppt/media/image10.png" ContentType="image/png"/>
  <Override PartName="/ppt/media/image47.png" ContentType="image/png"/>
  <Override PartName="/ppt/media/image2.gif" ContentType="image/gif"/>
  <Override PartName="/ppt/media/image5.png" ContentType="image/png"/>
  <Override PartName="/ppt/media/image26.png" ContentType="image/png"/>
  <Override PartName="/ppt/media/image8.jpeg" ContentType="image/jpeg"/>
  <Override PartName="/ppt/media/image9.wmf" ContentType="image/x-wmf"/>
  <Override PartName="/ppt/media/image41.png" ContentType="image/png"/>
  <Override PartName="/ppt/media/image12.png" ContentType="image/png"/>
  <Override PartName="/ppt/media/image49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30.wmf" ContentType="image/x-wmf"/>
  <Override PartName="/ppt/media/image33.jpeg" ContentType="image/jpeg"/>
  <Override PartName="/ppt/media/image34.png" ContentType="image/png"/>
  <Override PartName="/ppt/media/image35.wmf" ContentType="image/x-wmf"/>
  <Override PartName="/ppt/media/image68.jpeg" ContentType="image/jpeg"/>
  <Override PartName="/ppt/media/image36.wmf" ContentType="image/x-wmf"/>
  <Override PartName="/ppt/media/image37.png" ContentType="image/png"/>
  <Override PartName="/ppt/media/image40.wmf" ContentType="image/x-wmf"/>
  <Override PartName="/ppt/media/image6.png" ContentType="image/png"/>
  <Override PartName="/ppt/media/image39.png" ContentType="image/pn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861C-3D7F-4524-AC1D-57A6B0ACD1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74B8-25DE-49F6-B751-28A879C712B7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8383-D10D-4F8A-B2CC-6250AF2C37DD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BC9-0FCD-42F4-9FCC-CBBD8836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2D6-42C9-47F4-A8B1-AD70494F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697-139D-4778-B4C4-05869C6A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F4F-ABBF-4ACE-B56B-1FFE708E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1E93-DB84-450D-82FC-30407EA3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1956-41AE-415F-B131-0179CC51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FDA3-23CA-44DD-ACF3-84353372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6E8F-CBB2-426C-9794-AA46A82A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8480-584F-4EE5-BC62-2CDDBD65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9E20-5BD1-4C6F-B4AA-AC6BA7C2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A312-A315-4BEB-BD90-09039D40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5D4-3A73-43BD-8B26-E98226BA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21A1-B0FC-494B-9A5D-4643F3EB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6112-5321-4BE8-BF4F-31A5FE3A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E4E1-284C-43CB-9147-A3D48DC9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82F7-5EDD-4051-B173-56CCF96F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2930-7E0B-4B13-8899-E54C4780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CE0-CC2C-464D-8032-5B1ABC44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EB9-1DC8-47A0-9C2D-31A4CAFD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267-3B8F-49FF-911A-279A9498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78F-69F0-47AD-B6B4-0118F785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CB1-C235-4161-BEAB-4A26A466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1F5-1459-4E57-8816-5A9B0407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9AA-29DD-4CE7-A582-A3B6FCFD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šice září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B666-F6F7-41E5-8275-85B877C5029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58E0-F430-4FB7-9F39-6BE68B18C898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IC_A0008.wa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wmf"/><Relationship Id="rId4" Type="http://schemas.openxmlformats.org/officeDocument/2006/relationships/image" Target="../media/image58.png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6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Rectangle 106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2A79-D523-4225-8325-F8B7350E2F7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156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d4d4d"/>
                </a:solidFill>
                <a:latin typeface="Times New Roman"/>
              </a:rPr>
              <a:t>Difúze ve vícesložkových soustavách 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43000" y="2361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000066"/>
              </a:solidFill>
              <a:latin typeface="Arial"/>
              <a:ea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711440" y="141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711440" y="141444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1798560" y="257508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609480" y="3581280"/>
            <a:ext cx="46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řednášející: doc. Jiří Sopoušek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6934320" y="6094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Audio test: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AutoShape 17">
            <a:hlinkClick r:id="rId1"/>
          </p:cNvPr>
          <p:cNvSpPr/>
          <p:nvPr/>
        </p:nvSpPr>
        <p:spPr>
          <a:xfrm>
            <a:off x="8077320" y="533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8406"/>
                </a:moveTo>
                <a:lnTo>
                  <a:pt x="10017" y="8406"/>
                </a:lnTo>
                <a:lnTo>
                  <a:pt x="14438" y="3794"/>
                </a:lnTo>
                <a:lnTo>
                  <a:pt x="14438" y="17806"/>
                </a:lnTo>
                <a:lnTo>
                  <a:pt x="10017" y="13194"/>
                </a:lnTo>
                <a:lnTo>
                  <a:pt x="5586" y="13194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19599" y="10800"/>
                </a:lnTo>
              </a:path>
              <a:path fill="darken" w="25186" h="21600">
                <a:moveTo>
                  <a:pt x="16092" y="8406"/>
                </a:moveTo>
                <a:lnTo>
                  <a:pt x="19599" y="5639"/>
                </a:lnTo>
              </a:path>
              <a:path fill="darken" w="25186" h="21600">
                <a:moveTo>
                  <a:pt x="16092" y="13194"/>
                </a:moveTo>
                <a:lnTo>
                  <a:pt x="19599" y="15961"/>
                </a:lnTo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8" name="Picture 20" descr="C:\Documents and Settings\Sopoušek\Dokumenty\Obrázky\DICTRA\dictra mob.gif"/>
          <p:cNvPicPr/>
          <p:nvPr/>
        </p:nvPicPr>
        <p:blipFill>
          <a:blip r:embed="rId2"/>
          <a:stretch/>
        </p:blipFill>
        <p:spPr>
          <a:xfrm>
            <a:off x="5943600" y="3505320"/>
            <a:ext cx="262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1D37-90B6-4AC5-9A2F-9BEE4F6FA7EA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e v binárních více fázových soustavác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657600" cy="3646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178080" cy="46767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5562720" y="1676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3300"/>
                </a:solidFill>
                <a:latin typeface="Times New Roman"/>
              </a:rPr>
              <a:t>Změna koncentra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5486400" y="5410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3300"/>
                </a:solidFill>
                <a:latin typeface="Times New Roman"/>
              </a:rPr>
              <a:t>Změna aktivity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539640" y="5950080"/>
            <a:ext cx="41356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latí tzv. lokální rovnováha na fázových hranicích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ovéPole 1"/>
          <p:cNvSpPr/>
          <p:nvPr/>
        </p:nvSpPr>
        <p:spPr>
          <a:xfrm>
            <a:off x="615240" y="524340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1,2…aktivní (operating) tie-lin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ovéPole 2"/>
          <p:cNvSpPr/>
          <p:nvPr/>
        </p:nvSpPr>
        <p:spPr>
          <a:xfrm>
            <a:off x="1562760" y="3203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ovéPole 3"/>
          <p:cNvSpPr/>
          <p:nvPr/>
        </p:nvSpPr>
        <p:spPr>
          <a:xfrm>
            <a:off x="2859840" y="321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ovéPole 4"/>
          <p:cNvSpPr/>
          <p:nvPr/>
        </p:nvSpPr>
        <p:spPr>
          <a:xfrm>
            <a:off x="6229080" y="6118200"/>
            <a:ext cx="930600" cy="36828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ktivita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DE89-C7A3-4EED-ACFE-D86F65D54E12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Cesty vysoké difúzivit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811840" cy="4300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80880" y="57913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Objemová difúze a difúze po hranicích zrn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194520" y="137160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ran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2"/>
          <a:stretch/>
        </p:blipFill>
        <p:spPr>
          <a:xfrm>
            <a:off x="6477120" y="1828800"/>
            <a:ext cx="2011320" cy="7732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8"/>
          <p:cNvSpPr/>
          <p:nvPr/>
        </p:nvSpPr>
        <p:spPr>
          <a:xfrm>
            <a:off x="6172200" y="2819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Volný povrch (v kavitách a trhlinách):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7" name="Picture 9" descr=""/>
          <p:cNvPicPr/>
          <p:nvPr/>
        </p:nvPicPr>
        <p:blipFill>
          <a:blip r:embed="rId3"/>
          <a:stretch/>
        </p:blipFill>
        <p:spPr>
          <a:xfrm>
            <a:off x="6400800" y="3657600"/>
            <a:ext cx="1954080" cy="561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"/>
          <p:cNvPicPr/>
          <p:nvPr/>
        </p:nvPicPr>
        <p:blipFill>
          <a:blip r:embed="rId4"/>
          <a:stretch/>
        </p:blipFill>
        <p:spPr>
          <a:xfrm>
            <a:off x="6705720" y="5410080"/>
            <a:ext cx="1617480" cy="4636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1"/>
          <p:cNvSpPr/>
          <p:nvPr/>
        </p:nvSpPr>
        <p:spPr>
          <a:xfrm>
            <a:off x="6554160" y="4724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rovná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1981080" y="914400"/>
            <a:ext cx="5257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bjem – Volný povrch - hran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6385-8CB7-4AA2-8589-2560057448CB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ulk difúze a difúze po hranicích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4" name="Picture 3" descr="C:\Documents and Settings\Sopoušek\Dokumenty\Obrázky\Difúze\Difúze objemová a po hranicích.jpg"/>
          <p:cNvPicPr/>
          <p:nvPr/>
        </p:nvPicPr>
        <p:blipFill>
          <a:blip r:embed="rId1"/>
          <a:stretch/>
        </p:blipFill>
        <p:spPr>
          <a:xfrm>
            <a:off x="1371600" y="2514600"/>
            <a:ext cx="64357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8E68-6FD9-4AD9-BA35-E44A88FD45FC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uperpozice objemové a hraniční difúz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473640" cy="42894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447840" y="58770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odel stacionární difúze objemové a hranicemi (hranice kolmé na membránu)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3022560" cy="7030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4724280" y="1447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Jednoduché (bez chem. pot .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2" name="Picture 7" descr=""/>
          <p:cNvPicPr/>
          <p:nvPr/>
        </p:nvPicPr>
        <p:blipFill>
          <a:blip r:embed="rId3"/>
          <a:stretch/>
        </p:blipFill>
        <p:spPr>
          <a:xfrm>
            <a:off x="4419720" y="3505320"/>
            <a:ext cx="3922560" cy="6746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8"/>
          <p:cNvSpPr/>
          <p:nvPr/>
        </p:nvSpPr>
        <p:spPr>
          <a:xfrm>
            <a:off x="5057640" y="2711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elkově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4" name="Picture 9" descr=""/>
          <p:cNvPicPr/>
          <p:nvPr/>
        </p:nvPicPr>
        <p:blipFill>
          <a:blip r:embed="rId4"/>
          <a:stretch/>
        </p:blipFill>
        <p:spPr>
          <a:xfrm>
            <a:off x="4343400" y="4800600"/>
            <a:ext cx="2685960" cy="10969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0"/>
          <p:cNvSpPr/>
          <p:nvPr/>
        </p:nvSpPr>
        <p:spPr>
          <a:xfrm>
            <a:off x="4375080" y="426708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Zdánlivý difúzní koeficient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76" name="Přímá spojnice se šipkou 3"/>
          <p:cNvCxnSpPr/>
          <p:nvPr/>
        </p:nvCxnSpPr>
        <p:spPr>
          <a:xfrm flipH="1" flipV="1">
            <a:off x="3995280" y="2255040"/>
            <a:ext cx="1008720" cy="12502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77" name="Přímá spojnice se šipkou 5"/>
          <p:cNvCxnSpPr/>
          <p:nvPr/>
        </p:nvCxnSpPr>
        <p:spPr>
          <a:xfrm flipH="1" flipV="1">
            <a:off x="3923640" y="2895120"/>
            <a:ext cx="1656360" cy="6105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B6B2-0388-4095-9B53-0FC42F923753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e v polykrystalických materiálec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6286320" cy="4908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609480" y="6019920"/>
            <a:ext cx="6400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ůzný nízkoteplotní a vysokoteplotní mechanismus difúze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82CF-3467-473D-A2C7-713EE8A0476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e podél dislokac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60960" cy="2208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4419720" y="3809880"/>
            <a:ext cx="2066760" cy="87156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1066680" y="4038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Zdánlivá difúze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74680" y="173160"/>
            <a:ext cx="84405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Difúze v ternárních soustavách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13CC-C940-44B4-9E7E-020F8C153312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3924360" y="1454040"/>
            <a:ext cx="5037120" cy="5268960"/>
          </a:xfrm>
          <a:prstGeom prst="rect">
            <a:avLst/>
          </a:prstGeom>
          <a:ln w="0">
            <a:noFill/>
          </a:ln>
        </p:spPr>
      </p:pic>
      <p:sp>
        <p:nvSpPr>
          <p:cNvPr id="295" name="TextovéPole 7"/>
          <p:cNvSpPr/>
          <p:nvPr/>
        </p:nvSpPr>
        <p:spPr>
          <a:xfrm>
            <a:off x="617400" y="1131840"/>
            <a:ext cx="2314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ifúzní pá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u-5%Si/Cu-11%Al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539640" y="2205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ifúzní cesta ve FD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46080" y="2708280"/>
            <a:ext cx="3878280" cy="3105000"/>
          </a:xfrm>
          <a:prstGeom prst="rect">
            <a:avLst/>
          </a:prstGeom>
          <a:ln w="0">
            <a:noFill/>
          </a:ln>
        </p:spPr>
      </p:pic>
      <p:sp>
        <p:nvSpPr>
          <p:cNvPr id="298" name="Obdélník 8"/>
          <p:cNvSpPr/>
          <p:nvPr/>
        </p:nvSpPr>
        <p:spPr>
          <a:xfrm>
            <a:off x="485640" y="5837400"/>
            <a:ext cx="3222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s://ac.els-cdn.com/S0925838813005434/1-s2.0-S0925838813005434-main.pdf?_tid=4feac710-dfe8-11e7-a52d-00000aacb361&amp;acdnat=1513157642_47186c0e0acae27dc5de2b99062e0752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587E-B3B0-4E04-9CC4-B4FF2D862806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Up-hill difúze FeSiC/FeC ovlivnění chem. C křemíkem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2649600" y="1844640"/>
            <a:ext cx="3857400" cy="4940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Uphill Diffusion of Carbon in Fe-Si-C Alloy"/>
          <p:cNvPicPr/>
          <p:nvPr/>
        </p:nvPicPr>
        <p:blipFill>
          <a:blip r:embed="rId2"/>
          <a:stretch/>
        </p:blipFill>
        <p:spPr>
          <a:xfrm>
            <a:off x="2124000" y="1177920"/>
            <a:ext cx="5688000" cy="3913200"/>
          </a:xfrm>
          <a:prstGeom prst="rect">
            <a:avLst/>
          </a:prstGeom>
          <a:ln w="0">
            <a:noFill/>
          </a:ln>
        </p:spPr>
      </p:pic>
      <p:sp>
        <p:nvSpPr>
          <p:cNvPr id="304" name="TextovéPole 1"/>
          <p:cNvSpPr/>
          <p:nvPr/>
        </p:nvSpPr>
        <p:spPr>
          <a:xfrm>
            <a:off x="216000" y="1341360"/>
            <a:ext cx="2433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Intersticiální difúze v matrici FeSi/F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1EB7-C0C0-471D-98B0-7DA1E57ED0EB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ffusion path - DICTR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07" name="Picture 3" descr="C:\Documents and Settings\Sopoušek\Dokumenty\Obrázky\DICTRA\DICTRA diffusion path.jpg"/>
          <p:cNvPicPr/>
          <p:nvPr/>
        </p:nvPicPr>
        <p:blipFill>
          <a:blip r:embed="rId1"/>
          <a:stretch/>
        </p:blipFill>
        <p:spPr>
          <a:xfrm>
            <a:off x="685800" y="1676520"/>
            <a:ext cx="5181480" cy="45050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6172200" y="2133720"/>
            <a:ext cx="2792520" cy="1608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1 fázová slitina !!!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 případě koexistence více fází zahrnuje difúzní cesta rozhraní (dle operating tie-line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09" name="Picture 1" descr=""/>
          <p:cNvPicPr/>
          <p:nvPr/>
        </p:nvPicPr>
        <p:blipFill>
          <a:blip r:embed="rId2"/>
          <a:stretch/>
        </p:blipFill>
        <p:spPr>
          <a:xfrm>
            <a:off x="6732720" y="3929040"/>
            <a:ext cx="1333440" cy="1209600"/>
          </a:xfrm>
          <a:prstGeom prst="rect">
            <a:avLst/>
          </a:prstGeom>
          <a:ln w="0">
            <a:noFill/>
          </a:ln>
        </p:spPr>
      </p:pic>
      <p:sp>
        <p:nvSpPr>
          <p:cNvPr id="310" name="TextovéPole 1"/>
          <p:cNvSpPr/>
          <p:nvPr/>
        </p:nvSpPr>
        <p:spPr>
          <a:xfrm>
            <a:off x="2124000" y="321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TextovéPole 8"/>
          <p:cNvSpPr/>
          <p:nvPr/>
        </p:nvSpPr>
        <p:spPr>
          <a:xfrm>
            <a:off x="5457960" y="54579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3"/>
          <a:stretch/>
        </p:blipFill>
        <p:spPr>
          <a:xfrm>
            <a:off x="6738840" y="5300640"/>
            <a:ext cx="1343160" cy="1247760"/>
          </a:xfrm>
          <a:prstGeom prst="rect">
            <a:avLst/>
          </a:prstGeom>
          <a:ln w="0">
            <a:noFill/>
          </a:ln>
        </p:spPr>
      </p:pic>
      <p:sp>
        <p:nvSpPr>
          <p:cNvPr id="313" name="TextovéPole 2"/>
          <p:cNvSpPr/>
          <p:nvPr/>
        </p:nvSpPr>
        <p:spPr>
          <a:xfrm>
            <a:off x="3614760" y="45338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t3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TextovéPole 3"/>
          <p:cNvSpPr/>
          <p:nvPr/>
        </p:nvSpPr>
        <p:spPr>
          <a:xfrm>
            <a:off x="2822760" y="4718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t2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15" name="Přímá spojnice se šipkou 7"/>
          <p:cNvCxnSpPr/>
          <p:nvPr/>
        </p:nvCxnSpPr>
        <p:spPr>
          <a:xfrm flipH="1" flipV="1">
            <a:off x="3611160" y="4717440"/>
            <a:ext cx="3788640" cy="1207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16" name="Přímá spojnice se šipkou 10"/>
          <p:cNvCxnSpPr/>
          <p:nvPr/>
        </p:nvCxnSpPr>
        <p:spPr>
          <a:xfrm flipH="1">
            <a:off x="3196440" y="4365360"/>
            <a:ext cx="4203000" cy="1688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1520" y="3430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fusion path - operating tie-lin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18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0839-20BD-4A1A-8A98-46CB6CBF507A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438840" y="6400800"/>
            <a:ext cx="317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sciencedirect.com/science/article/pii/S0364591609000571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498600" y="200160"/>
            <a:ext cx="1429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498600" y="343080"/>
            <a:ext cx="14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22" name="Picture 11" descr="Full-size image (18 K)"/>
          <p:cNvPicPr/>
          <p:nvPr/>
        </p:nvPicPr>
        <p:blipFill>
          <a:blip r:embed="rId1"/>
          <a:stretch/>
        </p:blipFill>
        <p:spPr>
          <a:xfrm>
            <a:off x="1187280" y="1125360"/>
            <a:ext cx="610092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309F-6113-468F-9523-83CF3227DD1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e k defektům 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1219320"/>
            <a:ext cx="8077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 tuhé fázi existují místa, kde lze nalézt přimísené atomy ve vyšší koncentraci (defekty)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Migrace atomů pokračuje tak dlouho dokud existuje gradient chemického potenciálu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80880" y="2133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ůsledky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04920" y="2590920"/>
            <a:ext cx="80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egregace větších atomů na hranicích, C a N na dislokacích, P As apod na hranicích zrn v ocelích (tzv. teplotní zkřehnutí), …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5" name="Picture 9" descr="C:\Documents and Settings\Sopoušek\Dokumenty\Obrázky\Difúze\Atom probe segregation carbon.jpg"/>
          <p:cNvPicPr/>
          <p:nvPr/>
        </p:nvPicPr>
        <p:blipFill>
          <a:blip r:embed="rId1"/>
          <a:stretch/>
        </p:blipFill>
        <p:spPr>
          <a:xfrm>
            <a:off x="533520" y="3352680"/>
            <a:ext cx="2712960" cy="2819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C:\Documents and Settings\Sopoušek\Dokumenty\Obrázky\Difúze\segregation boron.bmp"/>
          <p:cNvPicPr/>
          <p:nvPr/>
        </p:nvPicPr>
        <p:blipFill>
          <a:blip r:embed="rId2"/>
          <a:stretch/>
        </p:blipFill>
        <p:spPr>
          <a:xfrm>
            <a:off x="4038480" y="3200400"/>
            <a:ext cx="4343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09FA-5937-4949-AD86-38C6D1378798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fúzní cesta ternární soustavo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26" name="Picture 3" descr="C:\Documents and Settings\Sopoušek\Dokumenty\Obrázky\DICTRA\Diffusion path Kodetsov.gif"/>
          <p:cNvPicPr/>
          <p:nvPr/>
        </p:nvPicPr>
        <p:blipFill>
          <a:blip r:embed="rId1"/>
          <a:stretch/>
        </p:blipFill>
        <p:spPr>
          <a:xfrm>
            <a:off x="609480" y="1905120"/>
            <a:ext cx="5867640" cy="42861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6705720" y="388620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Lze použít pro stanovení fázových diagramů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A893-80B1-4CD1-8CF7-A1F2BEC92C08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Experimentální vývoj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413080" y="1314360"/>
            <a:ext cx="1429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2413080" y="1457280"/>
            <a:ext cx="14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3" name="Picture 6" descr="Full-size image (9 K)"/>
          <p:cNvPicPr/>
          <p:nvPr/>
        </p:nvPicPr>
        <p:blipFill>
          <a:blip r:embed="rId1"/>
          <a:stretch/>
        </p:blipFill>
        <p:spPr>
          <a:xfrm>
            <a:off x="685800" y="2057400"/>
            <a:ext cx="4240080" cy="39434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7"/>
          <p:cNvSpPr/>
          <p:nvPr/>
        </p:nvSpPr>
        <p:spPr>
          <a:xfrm>
            <a:off x="2384280" y="-1114560"/>
            <a:ext cx="1429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2384280" y="-971640"/>
            <a:ext cx="14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6" name="Picture 10" descr="Full-size image (90 K)"/>
          <p:cNvPicPr/>
          <p:nvPr/>
        </p:nvPicPr>
        <p:blipFill>
          <a:blip r:embed="rId2"/>
          <a:stretch/>
        </p:blipFill>
        <p:spPr>
          <a:xfrm>
            <a:off x="5867280" y="228600"/>
            <a:ext cx="2554560" cy="52293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1"/>
          <p:cNvSpPr/>
          <p:nvPr/>
        </p:nvSpPr>
        <p:spPr>
          <a:xfrm>
            <a:off x="5791320" y="5715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/Ni/Cr (1150stC/16 a 49hod)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E6CA-4002-435B-9389-0FB54957B1D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CTRA – diffusion path AlCrNi 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41" name="Picture 3" descr="http://www.ecr6.ohio-state.edu/mse/faculty/morral/Phase_1.gif"/>
          <p:cNvPicPr/>
          <p:nvPr/>
        </p:nvPicPr>
        <p:blipFill>
          <a:blip r:embed="rId1"/>
          <a:stretch/>
        </p:blipFill>
        <p:spPr>
          <a:xfrm>
            <a:off x="3124080" y="3352680"/>
            <a:ext cx="2286000" cy="2084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4"/>
          <p:cNvSpPr/>
          <p:nvPr/>
        </p:nvSpPr>
        <p:spPr>
          <a:xfrm>
            <a:off x="3732120" y="2664000"/>
            <a:ext cx="4017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3" name="Picture 5" descr="http://www.ecr6.ohio-state.edu/mse/faculty/morral/Phase_2.gif"/>
          <p:cNvPicPr/>
          <p:nvPr/>
        </p:nvPicPr>
        <p:blipFill>
          <a:blip r:embed="rId2"/>
          <a:stretch/>
        </p:blipFill>
        <p:spPr>
          <a:xfrm>
            <a:off x="380880" y="3276720"/>
            <a:ext cx="2438640" cy="21826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6"/>
          <p:cNvSpPr/>
          <p:nvPr/>
        </p:nvSpPr>
        <p:spPr>
          <a:xfrm>
            <a:off x="3703680" y="2652840"/>
            <a:ext cx="4017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5" name="Picture 7" descr="http://www.ecr6.ohio-state.edu/mse/faculty/morral/Gray_reasearch.jpg"/>
          <p:cNvPicPr/>
          <p:nvPr/>
        </p:nvPicPr>
        <p:blipFill>
          <a:blip r:embed="rId3"/>
          <a:stretch/>
        </p:blipFill>
        <p:spPr>
          <a:xfrm>
            <a:off x="380880" y="914400"/>
            <a:ext cx="5943600" cy="22924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8"/>
          <p:cNvSpPr/>
          <p:nvPr/>
        </p:nvSpPr>
        <p:spPr>
          <a:xfrm>
            <a:off x="2496960" y="2629080"/>
            <a:ext cx="4019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3124080" y="5715000"/>
            <a:ext cx="2414880" cy="914400"/>
          </a:xfrm>
          <a:prstGeom prst="rect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CTRA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 simulation of the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ath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 in a Ni-Cr-Al couple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457200" y="5638680"/>
            <a:ext cx="2160720" cy="974880"/>
          </a:xfrm>
          <a:prstGeom prst="rect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Measured diffusion path for a diffusion couple similar to Fig. 1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6553080" y="990720"/>
            <a:ext cx="2313000" cy="2057400"/>
          </a:xfrm>
          <a:prstGeom prst="rect">
            <a:avLst/>
          </a:prstGeom>
          <a:solidFill>
            <a:srgbClr val="80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terdiffusion microstucture of the Ni-Cr-Al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 couple described in Fig. 2. The dark areas in the gamma layer are Kirkendall porosity.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6162120" y="5943600"/>
            <a:ext cx="242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ecr6.ohio-state.edu/mse/faculty/morral/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5867280" y="3657600"/>
            <a:ext cx="2286000" cy="9169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eúspěšné pro Kirkendalovu porozitu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B013-21FB-4228-B637-BB47B01CF35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rift fázových hranic řízený difúz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5019840" cy="3568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2"/>
          <a:stretch/>
        </p:blipFill>
        <p:spPr>
          <a:xfrm>
            <a:off x="6553080" y="1981080"/>
            <a:ext cx="1447920" cy="534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"/>
          <p:cNvPicPr/>
          <p:nvPr/>
        </p:nvPicPr>
        <p:blipFill>
          <a:blip r:embed="rId3"/>
          <a:stretch/>
        </p:blipFill>
        <p:spPr>
          <a:xfrm>
            <a:off x="1523880" y="5181480"/>
            <a:ext cx="3586320" cy="773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"/>
          <p:cNvPicPr/>
          <p:nvPr/>
        </p:nvPicPr>
        <p:blipFill>
          <a:blip r:embed="rId4"/>
          <a:stretch/>
        </p:blipFill>
        <p:spPr>
          <a:xfrm>
            <a:off x="3886200" y="6099120"/>
            <a:ext cx="4486320" cy="7588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8"/>
          <p:cNvSpPr/>
          <p:nvPr/>
        </p:nvSpPr>
        <p:spPr>
          <a:xfrm>
            <a:off x="380880" y="6095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ychlost pohybu hranice je tedy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97440" y="533412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(J</a:t>
            </a:r>
            <a:r>
              <a:rPr b="1" lang="cs-CZ" sz="1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-J</a:t>
            </a:r>
            <a:r>
              <a:rPr b="1" lang="cs-CZ" sz="1800" spc="-1" strike="noStrike" baseline="30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)dt=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503640" y="4800600"/>
            <a:ext cx="86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aakumulované množství B na hranici difúzí= Množství nutné k posuvu hranice o dx 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2" name="Picture 12" descr=""/>
          <p:cNvPicPr/>
          <p:nvPr/>
        </p:nvPicPr>
        <p:blipFill>
          <a:blip r:embed="rId5"/>
          <a:stretch/>
        </p:blipFill>
        <p:spPr>
          <a:xfrm>
            <a:off x="1600200" y="4267080"/>
            <a:ext cx="1560600" cy="281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"/>
          <p:cNvPicPr/>
          <p:nvPr/>
        </p:nvPicPr>
        <p:blipFill>
          <a:blip r:embed="rId6"/>
          <a:stretch/>
        </p:blipFill>
        <p:spPr>
          <a:xfrm>
            <a:off x="3352680" y="4267080"/>
            <a:ext cx="1447920" cy="281160"/>
          </a:xfrm>
          <a:prstGeom prst="rect">
            <a:avLst/>
          </a:prstGeom>
          <a:ln w="0">
            <a:noFill/>
          </a:ln>
        </p:spPr>
      </p:pic>
      <p:sp>
        <p:nvSpPr>
          <p:cNvPr id="364" name="Line 14"/>
          <p:cNvSpPr/>
          <p:nvPr/>
        </p:nvSpPr>
        <p:spPr>
          <a:xfrm flipH="1">
            <a:off x="3200400" y="2286000"/>
            <a:ext cx="327672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6019920" y="129528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nožství nutné k posuvu 1m2 hranice o dx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5031000" y="54100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7" name="Picture 18" descr=""/>
          <p:cNvPicPr/>
          <p:nvPr/>
        </p:nvPicPr>
        <p:blipFill>
          <a:blip r:embed="rId7"/>
          <a:stretch/>
        </p:blipFill>
        <p:spPr>
          <a:xfrm>
            <a:off x="5334120" y="5257800"/>
            <a:ext cx="144756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AA17-7185-4C76-9AE0-C9E250B717A5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osun mřížky v difúzním páru Ni/P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71" name="Picture 3" descr="http://ars.els-cdn.com/content/image/1-s2.0-S1359645499003754-gr14.gif"/>
          <p:cNvPicPr/>
          <p:nvPr/>
        </p:nvPicPr>
        <p:blipFill>
          <a:blip r:embed="rId1"/>
          <a:stretch/>
        </p:blipFill>
        <p:spPr>
          <a:xfrm>
            <a:off x="380880" y="1143000"/>
            <a:ext cx="5486400" cy="38466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4"/>
          <p:cNvSpPr/>
          <p:nvPr/>
        </p:nvSpPr>
        <p:spPr>
          <a:xfrm>
            <a:off x="762120" y="5105520"/>
            <a:ext cx="784836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rker velocity curve in the Ni/Pd multi-foil diffusion couple annealed at 1100°C for 121 h calculated using experimental data of the present study. Note: the Matano plane is located at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0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5c5c5c"/>
                </a:solidFill>
                <a:latin typeface="Arial Unicode MS"/>
                <a:ea typeface="Arial Unicode MS"/>
              </a:rPr>
              <a:t>http://www.sciencedirect.com/science/article/pii/S1359645499003754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6705720" y="1676520"/>
            <a:ext cx="19810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Kirkendalova rovina (Kirkendal plane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6705720" y="2971800"/>
            <a:ext cx="198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atanova rovina (Matano plane)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7"/>
          <p:cNvSpPr/>
          <p:nvPr/>
        </p:nvSpPr>
        <p:spPr>
          <a:xfrm flipH="1" flipV="1">
            <a:off x="3580920" y="2057400"/>
            <a:ext cx="3124440" cy="76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Line 8"/>
          <p:cNvSpPr/>
          <p:nvPr/>
        </p:nvSpPr>
        <p:spPr>
          <a:xfrm flipH="1" flipV="1">
            <a:off x="3429000" y="3200400"/>
            <a:ext cx="3276720" cy="76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A6A3-0E33-4B31-9D24-34C08C7E2431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atanova rovin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1752480" y="5486400"/>
            <a:ext cx="4992840" cy="7034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C:\Documents and Settings\Sopoušek\Dokumenty\Obrázky\Difúze\Matano plane.jpg"/>
          <p:cNvPicPr/>
          <p:nvPr/>
        </p:nvPicPr>
        <p:blipFill>
          <a:blip r:embed="rId2"/>
          <a:stretch/>
        </p:blipFill>
        <p:spPr>
          <a:xfrm>
            <a:off x="380880" y="1523880"/>
            <a:ext cx="3733920" cy="3659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http://ars.els-cdn.com/content/image/1-s2.0-S1359645403002106-gr8.gif"/>
          <p:cNvPicPr/>
          <p:nvPr/>
        </p:nvPicPr>
        <p:blipFill>
          <a:blip r:embed="rId3"/>
          <a:stretch/>
        </p:blipFill>
        <p:spPr>
          <a:xfrm>
            <a:off x="4343400" y="1523880"/>
            <a:ext cx="4114800" cy="37623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6"/>
          <p:cNvSpPr/>
          <p:nvPr/>
        </p:nvSpPr>
        <p:spPr>
          <a:xfrm>
            <a:off x="5257800" y="243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i-Al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A8C1-634E-4848-9306-7514D1688F7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xtrémní případ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0948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hyb hranice je limitován difúzí (řízen rychlostí difúze). Vlastní reorganizace krystalové mřížky je okamžitá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09480" y="3505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hyb hranice je limitován reorganizací krystalové mřížky (řízen reakční rychlostí vzniku fáze). Difúze je vždy dostačující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10F0-5921-44D0-B0B5-251A4F56109B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í a reorganizací hranice řízený pohyb fázové hran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394160" cy="4648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4191120" cy="249264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5"/>
          <p:cNvSpPr/>
          <p:nvPr/>
        </p:nvSpPr>
        <p:spPr>
          <a:xfrm>
            <a:off x="5181480" y="4343400"/>
            <a:ext cx="21337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Operating tielin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Line 9"/>
          <p:cNvSpPr/>
          <p:nvPr/>
        </p:nvSpPr>
        <p:spPr>
          <a:xfrm>
            <a:off x="5867280" y="2895480"/>
            <a:ext cx="2514600" cy="15264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216F-2D1A-4CF0-A6D2-414D3080B0F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80028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2286000"/>
            <a:ext cx="8915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CTRA: DIffusion Controlled TRAnsform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ozor: Posuv fázové hranice může být řízen reorganizací krystalové mřížku. Tj. Řízen fázovou reakcí. 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F1BE-39FB-4694-B454-9F66BEC1E163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52400" y="1267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íce Kirkendalových rov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403" name="Picture 3" descr="http://ars.els-cdn.com/content/image/1-s2.0-S1359645499003754-gr5.gif"/>
          <p:cNvPicPr/>
          <p:nvPr/>
        </p:nvPicPr>
        <p:blipFill>
          <a:blip r:embed="rId1"/>
          <a:stretch/>
        </p:blipFill>
        <p:spPr>
          <a:xfrm>
            <a:off x="457200" y="1219320"/>
            <a:ext cx="3092400" cy="50338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10"/>
          <p:cNvSpPr/>
          <p:nvPr/>
        </p:nvSpPr>
        <p:spPr>
          <a:xfrm>
            <a:off x="3581280" y="3962520"/>
            <a:ext cx="495324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 Kirkendall velocity in a hypothetical A–B diffusion system, in which the intrinsic diffusion coefficients of A and B are chosen arbitrarily in such a way that on one side of the diffusion zone A is the faster diffusing component and on the other side B has the highest diffusivity. One (a), two (b) or three (c) “Kirkendall” planes (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can emerge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05" name="Picture 12" descr="http://ars.els-cdn.com/content/image/1-s2.0-S1359645499003754-gr1.jpg"/>
          <p:cNvPicPr/>
          <p:nvPr/>
        </p:nvPicPr>
        <p:blipFill>
          <a:blip r:embed="rId2"/>
          <a:stretch/>
        </p:blipFill>
        <p:spPr>
          <a:xfrm>
            <a:off x="5562720" y="1447920"/>
            <a:ext cx="3109680" cy="23461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3"/>
          <p:cNvSpPr/>
          <p:nvPr/>
        </p:nvSpPr>
        <p:spPr>
          <a:xfrm>
            <a:off x="7315200" y="1523880"/>
            <a:ext cx="1371600" cy="211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Ni/Ti diffusion couple annealed at 850°C for 196 h. ThO</a:t>
            </a:r>
            <a:r>
              <a:rPr b="0" lang="cs-CZ" sz="1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 particles. Two “Kirkendall” planes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14"/>
          <p:cNvSpPr/>
          <p:nvPr/>
        </p:nvSpPr>
        <p:spPr>
          <a:xfrm>
            <a:off x="3733920" y="2209680"/>
            <a:ext cx="9144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=x/2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 flipH="1" flipV="1">
            <a:off x="2514240" y="1676160"/>
            <a:ext cx="121932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2971440" y="2438280"/>
            <a:ext cx="76212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Line 17"/>
          <p:cNvSpPr/>
          <p:nvPr/>
        </p:nvSpPr>
        <p:spPr>
          <a:xfrm flipH="1">
            <a:off x="2895120" y="2590920"/>
            <a:ext cx="838440" cy="2361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4280" y="18900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3D atom tomograp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8" name="Zástupný symbol pro zápatí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2EDE-B3CF-4181-9AB1-13AEB57A098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" descr="http://atomprobe.materials.ox.ac.uk/uploads/images/Ni%20superalloy%20gas%20turbine%20together.png"/>
          <p:cNvPicPr/>
          <p:nvPr/>
        </p:nvPicPr>
        <p:blipFill>
          <a:blip r:embed="rId1"/>
          <a:stretch/>
        </p:blipFill>
        <p:spPr>
          <a:xfrm>
            <a:off x="4826160" y="3722760"/>
            <a:ext cx="3816360" cy="2263680"/>
          </a:xfrm>
          <a:prstGeom prst="rect">
            <a:avLst/>
          </a:prstGeom>
          <a:ln w="0">
            <a:noFill/>
          </a:ln>
        </p:spPr>
      </p:pic>
      <p:sp>
        <p:nvSpPr>
          <p:cNvPr id="171" name="Obdélník 4"/>
          <p:cNvSpPr/>
          <p:nvPr/>
        </p:nvSpPr>
        <p:spPr>
          <a:xfrm>
            <a:off x="5344200" y="598644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atomprobe.materials.ox.ac.uk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Obdélník 5"/>
          <p:cNvSpPr/>
          <p:nvPr/>
        </p:nvSpPr>
        <p:spPr>
          <a:xfrm>
            <a:off x="163440" y="4384800"/>
            <a:ext cx="43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www.dierk-raabe.com/atom-probe-tomography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Picture 4" descr="http://www.dierk-raabe.com/s/cc_images/cache_2433351972.jpg?t=1363990582"/>
          <p:cNvPicPr/>
          <p:nvPr/>
        </p:nvPicPr>
        <p:blipFill>
          <a:blip r:embed="rId2"/>
          <a:stretch/>
        </p:blipFill>
        <p:spPr>
          <a:xfrm>
            <a:off x="276120" y="1058760"/>
            <a:ext cx="53802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4E36-FFDE-4952-85C4-8D124A9F3E68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ysvětlení vícce Kirkendalových rov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414" name="Picture 7" descr="Full-size image (9 K)"/>
          <p:cNvPicPr/>
          <p:nvPr/>
        </p:nvPicPr>
        <p:blipFill>
          <a:blip r:embed="rId1"/>
          <a:stretch/>
        </p:blipFill>
        <p:spPr>
          <a:xfrm>
            <a:off x="990720" y="2438280"/>
            <a:ext cx="3886200" cy="274824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8"/>
          <p:cNvSpPr/>
          <p:nvPr/>
        </p:nvSpPr>
        <p:spPr>
          <a:xfrm>
            <a:off x="609480" y="5486400"/>
            <a:ext cx="518184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arker velocity curve in the multiphase Ti/Ni diffusion couple after annealing at 850°C for 196 h calculated using experimental data of Ref.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[21]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Note: the Matano plane is located at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=0 (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-Ti</a:t>
            </a:r>
            <a:r>
              <a:rPr b="0" lang="cs-CZ" sz="1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s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=b.c.c. solid solution)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5562720" y="2514600"/>
            <a:ext cx="213336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Kolik průsečíků f-ce v=x/2t s rychlostmi posunu ve fázích tolik nůže být rovin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5334120" y="4648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eprotína s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11"/>
          <p:cNvSpPr/>
          <p:nvPr/>
        </p:nvSpPr>
        <p:spPr>
          <a:xfrm flipH="1" flipV="1">
            <a:off x="3200400" y="4495320"/>
            <a:ext cx="236232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20" name="Zástupný symbol pro zápatí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073B-DDEC-467E-ACE5-C0C5762786A1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2" descr="Výsledek obrázku pro &quot;trace diffusion&quot; experiment"/>
          <p:cNvPicPr/>
          <p:nvPr/>
        </p:nvPicPr>
        <p:blipFill>
          <a:blip r:embed="rId1"/>
          <a:stretch/>
        </p:blipFill>
        <p:spPr>
          <a:xfrm>
            <a:off x="871560" y="2205000"/>
            <a:ext cx="671508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1247-D6CC-4DDC-9778-E187B21522DD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odel segregace na hranicích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7" name="Picture 3" descr="C:\Documents and Settings\Sopoušek\Dokumenty\Obrázky\Difúze\model segregace v Al kyslík difunduje.jpg"/>
          <p:cNvPicPr/>
          <p:nvPr/>
        </p:nvPicPr>
        <p:blipFill>
          <a:blip r:embed="rId1"/>
          <a:stretch/>
        </p:blipFill>
        <p:spPr>
          <a:xfrm>
            <a:off x="990720" y="1981080"/>
            <a:ext cx="6215040" cy="2241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371600" y="4952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še příliš složité. Proto omezení na BULK difúzi (DICTRA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Zástupný symbol pro číslo snímku 5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4574-B1BA-4638-95D4-46AED827524C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9528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tomární mobilit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1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954080" cy="604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3"/>
          <p:cNvSpPr/>
          <p:nvPr/>
        </p:nvSpPr>
        <p:spPr>
          <a:xfrm>
            <a:off x="380880" y="1143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efini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Picture 15" descr=""/>
          <p:cNvPicPr/>
          <p:nvPr/>
        </p:nvPicPr>
        <p:blipFill>
          <a:blip r:embed="rId2"/>
          <a:stretch/>
        </p:blipFill>
        <p:spPr>
          <a:xfrm>
            <a:off x="3733920" y="1143000"/>
            <a:ext cx="436320" cy="590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6"/>
          <p:cNvSpPr/>
          <p:nvPr/>
        </p:nvSpPr>
        <p:spPr>
          <a:xfrm>
            <a:off x="3048120" y="1295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572000" y="1143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Je termodynamická hnací síla difúz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3"/>
          <a:stretch/>
        </p:blipFill>
        <p:spPr>
          <a:xfrm>
            <a:off x="3657600" y="1905120"/>
            <a:ext cx="324000" cy="352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0"/>
          <p:cNvSpPr/>
          <p:nvPr/>
        </p:nvSpPr>
        <p:spPr>
          <a:xfrm>
            <a:off x="4114800" y="19051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Je atomární mobilita = kinetický faktor difúze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380880" y="24382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 kombinaci s Gibbs-Duhemovou rovnicí a definicí chemického potenciálu získáme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Picture 22" descr=""/>
          <p:cNvPicPr/>
          <p:nvPr/>
        </p:nvPicPr>
        <p:blipFill>
          <a:blip r:embed="rId4"/>
          <a:stretch/>
        </p:blipFill>
        <p:spPr>
          <a:xfrm>
            <a:off x="6477120" y="2819520"/>
            <a:ext cx="2404800" cy="32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"/>
          <p:cNvPicPr/>
          <p:nvPr/>
        </p:nvPicPr>
        <p:blipFill>
          <a:blip r:embed="rId5"/>
          <a:stretch/>
        </p:blipFill>
        <p:spPr>
          <a:xfrm>
            <a:off x="685800" y="3352680"/>
            <a:ext cx="4317840" cy="1716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"/>
          <p:cNvPicPr/>
          <p:nvPr/>
        </p:nvPicPr>
        <p:blipFill>
          <a:blip r:embed="rId6"/>
          <a:stretch/>
        </p:blipFill>
        <p:spPr>
          <a:xfrm>
            <a:off x="3276720" y="5257800"/>
            <a:ext cx="2798640" cy="6746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5"/>
          <p:cNvSpPr/>
          <p:nvPr/>
        </p:nvSpPr>
        <p:spPr>
          <a:xfrm>
            <a:off x="228600" y="5257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o porovnání s 1. Fickovým zákonem platí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5259600" y="601992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esp.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Picture 27" descr=""/>
          <p:cNvPicPr/>
          <p:nvPr/>
        </p:nvPicPr>
        <p:blipFill>
          <a:blip r:embed="rId7"/>
          <a:stretch/>
        </p:blipFill>
        <p:spPr>
          <a:xfrm>
            <a:off x="6172200" y="6019920"/>
            <a:ext cx="2741760" cy="660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28"/>
          <p:cNvSpPr/>
          <p:nvPr/>
        </p:nvSpPr>
        <p:spPr>
          <a:xfrm>
            <a:off x="5867280" y="36576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ktivitní koeficienty </a:t>
            </a:r>
            <a:r>
              <a:rPr b="1" lang="cs-CZ" sz="1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získáváme z experimentu nebo z  termodynamických modelů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Rectangle 29"/>
          <p:cNvSpPr/>
          <p:nvPr/>
        </p:nvSpPr>
        <p:spPr>
          <a:xfrm>
            <a:off x="6081840" y="4952880"/>
            <a:ext cx="30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ýraz ve složené závorce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{} 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= termodynamický fakto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2520" y="2602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Působení jiných sil na chemický potenciál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9" name="Zástupný symbol pro zápatí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0ABF-FD1E-4BFA-A96F-9EC17D302C1A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79280" y="14842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okud je chemický potenciál ovlivněn i přítomností elestických napětí (viz např. dislokace) pak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5818320" y="1811160"/>
            <a:ext cx="2966760" cy="338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"/>
          <p:cNvPicPr/>
          <p:nvPr/>
        </p:nvPicPr>
        <p:blipFill>
          <a:blip r:embed="rId2"/>
          <a:stretch/>
        </p:blipFill>
        <p:spPr>
          <a:xfrm>
            <a:off x="2770200" y="2565360"/>
            <a:ext cx="3192480" cy="7034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"/>
          <p:cNvSpPr/>
          <p:nvPr/>
        </p:nvSpPr>
        <p:spPr>
          <a:xfrm>
            <a:off x="609480" y="357336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odobně je třeba chem. potenciál, pokud atomy difundují v elektrickém poli U (elektromigrace), nebo v místech s teplotním gradientem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574D-6704-4C02-B4B4-E6BE25839429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36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 Black"/>
              </a:rPr>
              <a:t>Termodynamick</a:t>
            </a:r>
            <a:r>
              <a:rPr b="0" lang="cs-CZ" sz="1800" spc="-1" strike="noStrike">
                <a:solidFill>
                  <a:srgbClr val="4d4d4d"/>
                </a:solidFill>
                <a:latin typeface="Arial Black"/>
              </a:rPr>
              <a:t>ý</a:t>
            </a:r>
            <a:r>
              <a:rPr b="0" lang="en-US" sz="1800" spc="-1" strike="noStrike">
                <a:solidFill>
                  <a:srgbClr val="4d4d4d"/>
                </a:solidFill>
                <a:latin typeface="Arial Black"/>
              </a:rPr>
              <a:t> faktor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950760" y="981000"/>
            <a:ext cx="7242480" cy="4894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1905120" y="59436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Fázový diagram Au-Ni a termodynamický faktor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638680" y="13716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F… termodynamický faktor pro 900stC je významný !!!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1" name="Picture 27" descr=""/>
          <p:cNvPicPr/>
          <p:nvPr/>
        </p:nvPicPr>
        <p:blipFill>
          <a:blip r:embed="rId2"/>
          <a:stretch/>
        </p:blipFill>
        <p:spPr>
          <a:xfrm>
            <a:off x="5030640" y="4508640"/>
            <a:ext cx="2741760" cy="660240"/>
          </a:xfrm>
          <a:prstGeom prst="rect">
            <a:avLst/>
          </a:prstGeom>
          <a:ln w="0">
            <a:noFill/>
          </a:ln>
        </p:spPr>
      </p:pic>
      <p:sp>
        <p:nvSpPr>
          <p:cNvPr id="212" name="TextovéPole 1"/>
          <p:cNvSpPr/>
          <p:nvPr/>
        </p:nvSpPr>
        <p:spPr>
          <a:xfrm>
            <a:off x="5030640" y="4605480"/>
            <a:ext cx="127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F=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83D3-A4A0-496F-8716-0E31EF3E1A2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7480" y="189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hermoCalc+DICTR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6" name="Picture 3" descr="C:\Documents and Settings\Sopoušek\Dokumenty\Obrázky\DICTRA\termodynamický faktor SnNi.jpg"/>
          <p:cNvPicPr/>
          <p:nvPr/>
        </p:nvPicPr>
        <p:blipFill>
          <a:blip r:embed="rId1"/>
          <a:stretch/>
        </p:blipFill>
        <p:spPr>
          <a:xfrm>
            <a:off x="5715000" y="1676520"/>
            <a:ext cx="3043080" cy="28969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5176080" y="4572000"/>
            <a:ext cx="40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u-Sn (fcc_a1, tj platí pro </a:t>
            </a:r>
            <a:r>
              <a:rPr b="1" lang="cs-CZ" sz="1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a fázi (Cu)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02640" y="6248520"/>
            <a:ext cx="25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metallurgy.nist.gov/phase/solder/cusn.htm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9" name="Picture 8" descr="Calculated Cu-Sn Phase Diagram (percent of mass fraction) (101 KB)"/>
          <p:cNvPicPr/>
          <p:nvPr/>
        </p:nvPicPr>
        <p:blipFill>
          <a:blip r:embed="rId2"/>
          <a:stretch/>
        </p:blipFill>
        <p:spPr>
          <a:xfrm>
            <a:off x="533520" y="1752480"/>
            <a:ext cx="4572000" cy="43149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5638680" y="5105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1" name="Přímá spojnice se šipkou 3"/>
          <p:cNvCxnSpPr/>
          <p:nvPr/>
        </p:nvCxnSpPr>
        <p:spPr>
          <a:xfrm flipH="1">
            <a:off x="3850920" y="2781360"/>
            <a:ext cx="1658160" cy="792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22" name="Přímá spojnice se šipkou 5"/>
          <p:cNvCxnSpPr/>
          <p:nvPr/>
        </p:nvCxnSpPr>
        <p:spPr>
          <a:xfrm flipH="1">
            <a:off x="4679640" y="2997000"/>
            <a:ext cx="684720" cy="9133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298E-511B-406F-B02F-1BF4B3F4975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jednodušení pro ideální nebo velmi zředěné rozto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6516720" y="682560"/>
            <a:ext cx="772920" cy="309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638280" y="1073160"/>
            <a:ext cx="266760" cy="2952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727200" y="1047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. je konstanta nebo 1.   Tj. vztah: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123840" y="2603520"/>
            <a:ext cx="3733920" cy="642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ýpočet atomárních mobilit v SW DICTRA viz další přednáška.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72120" y="6095880"/>
            <a:ext cx="327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nebo http://rspa.royalsocietypublishing.org/content/463/2088/3347.ful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icture 15" descr=""/>
          <p:cNvPicPr/>
          <p:nvPr/>
        </p:nvPicPr>
        <p:blipFill>
          <a:blip r:embed="rId3"/>
          <a:stretch/>
        </p:blipFill>
        <p:spPr>
          <a:xfrm>
            <a:off x="638280" y="1770120"/>
            <a:ext cx="3219480" cy="609480"/>
          </a:xfrm>
          <a:prstGeom prst="rect">
            <a:avLst/>
          </a:prstGeom>
          <a:ln w="0">
            <a:noFill/>
          </a:ln>
        </p:spPr>
      </p:pic>
      <p:sp>
        <p:nvSpPr>
          <p:cNvPr id="231" name="TextovéPole 1"/>
          <p:cNvSpPr/>
          <p:nvPr/>
        </p:nvSpPr>
        <p:spPr>
          <a:xfrm>
            <a:off x="4278240" y="17701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řejde na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ovéPole 2"/>
          <p:cNvSpPr/>
          <p:nvPr/>
        </p:nvSpPr>
        <p:spPr>
          <a:xfrm>
            <a:off x="6066000" y="125100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if. Koef stopové difúze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33" name="Přímá spojnice se šipkou 4"/>
          <p:cNvCxnSpPr/>
          <p:nvPr/>
        </p:nvCxnSpPr>
        <p:spPr>
          <a:xfrm flipH="1">
            <a:off x="6227280" y="1620360"/>
            <a:ext cx="145440" cy="1501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234" name="Picture 7" descr=""/>
          <p:cNvPicPr/>
          <p:nvPr/>
        </p:nvPicPr>
        <p:blipFill>
          <a:blip r:embed="rId4"/>
          <a:stretch/>
        </p:blipFill>
        <p:spPr>
          <a:xfrm>
            <a:off x="5819760" y="1787400"/>
            <a:ext cx="2460600" cy="408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7" descr=""/>
          <p:cNvPicPr/>
          <p:nvPr/>
        </p:nvPicPr>
        <p:blipFill>
          <a:blip r:embed="rId5"/>
          <a:stretch/>
        </p:blipFill>
        <p:spPr>
          <a:xfrm>
            <a:off x="236520" y="3357720"/>
            <a:ext cx="7400880" cy="1161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8" descr=""/>
          <p:cNvPicPr/>
          <p:nvPr/>
        </p:nvPicPr>
        <p:blipFill>
          <a:blip r:embed="rId6"/>
          <a:stretch/>
        </p:blipFill>
        <p:spPr>
          <a:xfrm>
            <a:off x="270000" y="4653000"/>
            <a:ext cx="7334280" cy="1952640"/>
          </a:xfrm>
          <a:prstGeom prst="rect">
            <a:avLst/>
          </a:prstGeom>
          <a:ln w="0">
            <a:noFill/>
          </a:ln>
        </p:spPr>
      </p:pic>
      <p:sp>
        <p:nvSpPr>
          <p:cNvPr id="237" name="Obdélník 5"/>
          <p:cNvSpPr/>
          <p:nvPr/>
        </p:nvSpPr>
        <p:spPr>
          <a:xfrm>
            <a:off x="4500720" y="632160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s://www.nist.gov/sites/default/files/documents/mml/msed/thermodynamics_kinetics/Final-version-NIST-2010-diffusion-workshop-March-24-2010-Yong-Du-China.pdf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7-12-13T09:50:38Z</dcterms:modified>
  <cp:revision>224</cp:revision>
  <dc:subject/>
  <dc:title>C6730 Fázové rovnováhy</dc:title>
</cp:coreProperties>
</file>