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3.png" ContentType="image/png"/>
  <Override PartName="/ppt/media/image33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0.jpeg" ContentType="image/jpeg"/>
  <Override PartName="/ppt/media/image3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34.png" ContentType="image/png"/>
  <Override PartName="/ppt/media/image17.wmf" ContentType="image/x-wmf"/>
  <Override PartName="/ppt/media/image6.wmf" ContentType="image/x-wmf"/>
  <Override PartName="/ppt/media/image11.wmf" ContentType="image/x-wmf"/>
  <Override PartName="/ppt/media/image36.png" ContentType="image/png"/>
  <Override PartName="/ppt/media/image35.wmf" ContentType="image/x-wmf"/>
  <Override PartName="/ppt/media/image5.wmf" ContentType="image/x-wmf"/>
  <Override PartName="/ppt/media/image27.jpeg" ContentType="image/jpeg"/>
  <Override PartName="/ppt/media/image2.gif" ContentType="image/gi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8.wmf" ContentType="image/x-wmf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9C92-ECBB-426F-A0C6-9532AE43EFA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5428-42B9-4860-A352-A5EA5C66F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DCD9-FF1D-4E57-BD17-5B9D7931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F375-5682-4772-B246-5CE7A777A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002D-FA23-4F11-B670-EFA181D03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4E12-C11E-4F88-A931-C51919403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B796-FE6E-45DB-B0C3-573FCAC8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8482-9158-4BCB-ADB6-4BB40DD3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E822-E441-4771-B25C-4F15A5F9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1D69-DC33-4EA6-9FD0-0F7834A5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13DA-34AB-4E61-86DD-6158BD1A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F07A-AE94-4F0C-9AF0-88192813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716A-07B9-4B34-AA96-73B12ED4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DBEE-7967-4A22-947C-AF82D914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E57B-8BE0-4B23-A74A-0CA5FB2A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60B5A-D0FA-4DA0-8A92-30194FDC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93D9-CB53-4616-AD05-B0C988EEA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C9E8-A5FF-4C2D-8737-87C6110B5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6984-DD7F-4EE6-9502-4FE8A910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6BA4-2279-4969-9AC7-26DBF2F1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63E5-41BA-4ACD-B788-709A7494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64AA-370C-4D59-9E2E-9032F0DA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C3D9-D64F-49E6-ADD8-9FC61295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68A0-52EB-4E58-B2A1-EFB6AC6B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8FD4-57B7-4B27-8362-A1BE6DE2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C0AC-76B4-4B0C-924B-31CFBB05B66D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9483-8653-47FA-B59E-4B8B2B095398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www.google.cz/imgres?q=nucleation+centre&amp;hl=cs&amp;biw=996&amp;bih=522&amp;gbv=2&amp;tbm=isch&amp;tbnid=HX9uUSL_-sqqGM:&amp;imgrefurl=http://www.epj.org/news.html&amp;docid=uVTPgN-MOViRAM&amp;imgurl=http://www.epj.org/_img/news/news_2011-02_5.jpg&amp;w=150&amp;h=197&amp;ei=2KPTTobyFNSYsAbvvYSCBA&amp;zoom=1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7 Kinetika vzniku vícefázových struktu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Rychlost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838080"/>
            <a:ext cx="784836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NewRoman,Bold"/>
              </a:rPr>
              <a:t>Rychlost: r = 1 / t0.5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Platí Arrheniova závislost: </a:t>
            </a: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r = A exp (-</a:t>
            </a:r>
            <a:r>
              <a:rPr b="1" lang="cs-CZ" sz="1800" spc="-1" strike="noStrike">
                <a:solidFill>
                  <a:srgbClr val="008100"/>
                </a:solidFill>
                <a:latin typeface="TimesNewRoman,Bold"/>
              </a:rPr>
              <a:t>QA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kT) = A exp (-</a:t>
            </a:r>
            <a:r>
              <a:rPr b="1" lang="cs-CZ" sz="1800" spc="-1" strike="noStrike">
                <a:solidFill>
                  <a:srgbClr val="3333cd"/>
                </a:solidFill>
                <a:latin typeface="TimesNewRoman,Bold"/>
              </a:rPr>
              <a:t>Qm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 R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594560" cy="3979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90720" y="6172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ekrystalizace měd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805680"/>
            <a:ext cx="3276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TT křivky Fe-C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3368520" cy="3193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733920" y="235080"/>
            <a:ext cx="5132160" cy="6622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228600" y="5148360"/>
            <a:ext cx="1797120" cy="1709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057400" y="60199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erlit Fe-0,8wt%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ikrostruktura a TTT křivk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5607000" cy="41817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324480" y="1905120"/>
            <a:ext cx="2514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he thickness of the ferrite and cementite layers in pearli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s ~ 8:1. The absolute layer thickness depends on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 of the transformation. The higher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, the thicker the layer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aini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5085000" cy="5414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638680" y="1371600"/>
            <a:ext cx="35053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f transformation temperature is low enough (</a:t>
            </a:r>
            <a:r>
              <a:rPr b="0" lang="cs-CZ" sz="1800" spc="-1" strike="noStrike">
                <a:solidFill>
                  <a:srgbClr val="000066"/>
                </a:solidFill>
                <a:latin typeface="SymbolMT"/>
              </a:rPr>
              <a:t>≤</a:t>
            </a: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540°C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bainite rather than fine pearlite form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562720" y="2895480"/>
            <a:ext cx="1542960" cy="1955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238880" y="2895480"/>
            <a:ext cx="1731960" cy="2116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5943600" y="5133960"/>
            <a:ext cx="2666880" cy="17240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5943600"/>
            <a:ext cx="1676520" cy="70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Sferitizace (700st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456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hrnutí difůzně řízených přeměn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1066680"/>
            <a:ext cx="853416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family of S-shaped curves at different T are used to construct the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TTT diagrams are for the 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isothermal 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(constant T) transformations (material is cooled quickly to a given temperature before the transformation occurs, and then keep it at that temperature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low temperatures, the transformation occurs sooner (it is controlled by the rate of nucleation) and grain growth (that is controlled by diffusion) is reduc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Slow diffusion at low temperatures leads to fine-grained microstructure with thin-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fin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higher temperatures, high diffusion rates allow for larger grain growth and formation of thick 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coars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 At compositions other than eutectoid, a proeutectoid phase (ferrite or cementite) coexist with pearlite. Additional curves for proeutectoid transformation must be included on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ezdifúzní přeměn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086080" cy="3517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254560" y="3581280"/>
            <a:ext cx="3889440" cy="2908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600200" y="5867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„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atrenzitické přeměny“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685800"/>
            <a:ext cx="86868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forms when austenite is rapidly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quenched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 to room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The austenite-martensite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does not involve diffusion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→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no thermal activation is needed,this is called an </a:t>
            </a: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athermal transformation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Each atom displaces a small (sub-atomic) distance to transform FCC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γ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Fe (austenite) to martensite which has a Body Centered Tetragonal (BCT) unit cell (like BCC, but one unit cell axis is longer than the other two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is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metastabl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can persist indefinitely at room temperature, but will transform to equilibrium phases on annealing at an elevated temperature. Martensite can coexist with other phases and/or microstructures in Fe-C systém. It does not appear in phase Fe-C phase diagra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248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179880" y="228600"/>
            <a:ext cx="5284800" cy="64771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04920" y="4724280"/>
            <a:ext cx="2819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NewRoman"/>
              </a:rPr>
              <a:t>Austenite-to-martensite is diffusionless and very fast. The amount of martensite formed depends on temperature onl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31800" y="173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31800" y="17398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89440" y="3848040"/>
            <a:ext cx="231300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19280" y="29005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6" name="images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2590920" cy="1940040"/>
          </a:xfrm>
          <a:prstGeom prst="rect">
            <a:avLst/>
          </a:prstGeom>
          <a:ln w="0">
            <a:noFill/>
          </a:ln>
        </p:spPr>
      </p:pic>
      <p:pic>
        <p:nvPicPr>
          <p:cNvPr id="217" name="martensite-1500x" descr=""/>
          <p:cNvPicPr/>
          <p:nvPr/>
        </p:nvPicPr>
        <p:blipFill>
          <a:blip r:embed="rId3"/>
          <a:stretch/>
        </p:blipFill>
        <p:spPr>
          <a:xfrm>
            <a:off x="838080" y="3200400"/>
            <a:ext cx="128448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24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NewRoman"/>
              </a:rPr>
              <a:t>Tepelné zpracován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4849920" cy="6167160"/>
          </a:xfrm>
          <a:prstGeom prst="rect">
            <a:avLst/>
          </a:prstGeom>
          <a:ln w="0">
            <a:noFill/>
          </a:ln>
        </p:spPr>
      </p:pic>
      <p:pic>
        <p:nvPicPr>
          <p:cNvPr id="220" name="44" descr=""/>
          <p:cNvPicPr/>
          <p:nvPr/>
        </p:nvPicPr>
        <p:blipFill>
          <a:blip r:embed="rId2"/>
          <a:stretch/>
        </p:blipFill>
        <p:spPr>
          <a:xfrm>
            <a:off x="304920" y="1627200"/>
            <a:ext cx="3124080" cy="2340000"/>
          </a:xfrm>
          <a:prstGeom prst="rect">
            <a:avLst/>
          </a:prstGeom>
          <a:ln w="0">
            <a:noFill/>
          </a:ln>
        </p:spPr>
      </p:pic>
      <p:pic>
        <p:nvPicPr>
          <p:cNvPr id="221" name="6100CT-heat%20treatment" descr=""/>
          <p:cNvPicPr/>
          <p:nvPr/>
        </p:nvPicPr>
        <p:blipFill>
          <a:blip r:embed="rId3"/>
          <a:stretch/>
        </p:blipFill>
        <p:spPr>
          <a:xfrm>
            <a:off x="228600" y="4191120"/>
            <a:ext cx="312408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Zpracování Fe-C sliti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50292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Termodynamická podmínka vzniku nové fá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Nukleac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fúzní a bezdifúzní přeměn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6200" y="195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6200" y="19526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3680" y="31129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5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3124080"/>
            <a:ext cx="2681280" cy="3505320"/>
          </a:xfrm>
          <a:prstGeom prst="rect">
            <a:avLst/>
          </a:prstGeom>
          <a:ln w="0">
            <a:noFill/>
          </a:ln>
        </p:spPr>
      </p:pic>
      <p:pic>
        <p:nvPicPr>
          <p:cNvPr id="156" name="Soda_bubbles_macro" descr=""/>
          <p:cNvPicPr/>
          <p:nvPr/>
        </p:nvPicPr>
        <p:blipFill>
          <a:blip r:embed="rId7"/>
          <a:stretch/>
        </p:blipFill>
        <p:spPr>
          <a:xfrm>
            <a:off x="5486400" y="1168560"/>
            <a:ext cx="2743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Další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6855120" cy="3168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114800" y="4110120"/>
            <a:ext cx="4784760" cy="2747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0" y="4005360"/>
            <a:ext cx="30481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varová paměť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29" name=""/>
          <p:cNvSpPr/>
          <p:nvPr/>
        </p:nvSpPr>
        <p:spPr>
          <a:xfrm>
            <a:off x="231120" y="1447920"/>
            <a:ext cx="70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hMYC-bLMLZQ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fsBHF_j2FJ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0" name="phase4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4819680" cy="383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943600" y="2666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iTi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1828800"/>
            <a:ext cx="7467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ermodynamická podmínka vzniku nové fáz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868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Energetika kuloviré části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7391160" cy="3913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867280" y="4716360"/>
            <a:ext cx="30211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Nukleace nové fáz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610480" cy="2511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57200" y="5334120"/>
            <a:ext cx="3962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etastabilní stavy: přechlazení a přehřát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4960" y="180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4960" y="18032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24560" y="3902040"/>
            <a:ext cx="245592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2440" y="296388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images" descr=""/>
          <p:cNvPicPr/>
          <p:nvPr/>
        </p:nvPicPr>
        <p:blipFill>
          <a:blip r:embed="rId2"/>
          <a:stretch/>
        </p:blipFill>
        <p:spPr>
          <a:xfrm>
            <a:off x="5181480" y="4216320"/>
            <a:ext cx="32194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ožnosti snížení nukleační bariér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etody usnadňující dosažení rovnovážného stavu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763120" cy="1892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28600" y="4794120"/>
            <a:ext cx="7696080" cy="20638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04920" y="3657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aktory ovlivňující růst nové fáz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sss7-29-08-2008" descr=""/>
          <p:cNvPicPr/>
          <p:nvPr/>
        </p:nvPicPr>
        <p:blipFill>
          <a:blip r:embed="rId3"/>
          <a:stretch/>
        </p:blipFill>
        <p:spPr>
          <a:xfrm>
            <a:off x="6019920" y="2590920"/>
            <a:ext cx="2590560" cy="226368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ázových transforma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676520"/>
            <a:ext cx="7924680" cy="340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bez změny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melting, solidification of pure metal, allotropic transformations, recrystallization, etc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se změnou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Eutectoid transformation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Bezdifúzní transformac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produces a metastable phase by cooperative small displacements of all atoms in structure (e.g. martensitic transformation discussed in later in this chapte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143000"/>
            <a:ext cx="7467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Nucleation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of the new phase - formation of stable small particles (nuclei) of the new phase. Nuclei are often formed at grain boundaries and other defect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Growth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new phase at the expense of the original phas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482616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8T15:54:39Z</dcterms:modified>
  <cp:revision>119</cp:revision>
  <dc:subject/>
  <dc:title>C6730 Fázové rovnováhy</dc:title>
</cp:coreProperties>
</file>