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526374"/>
        <c:axId val="20275496"/>
      </c:scatterChart>
      <c:valAx>
        <c:axId val="9252637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275496"/>
        <c:crosses val="autoZero"/>
        <c:crossBetween val="midCat"/>
        <c:majorUnit val="1"/>
      </c:valAx>
      <c:valAx>
        <c:axId val="2027549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52637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4402485"/>
        <c:axId val="95744425"/>
      </c:scatterChart>
      <c:valAx>
        <c:axId val="5440248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744425"/>
        <c:crosses val="autoZero"/>
        <c:crossBetween val="midCat"/>
        <c:majorUnit val="1"/>
      </c:valAx>
      <c:valAx>
        <c:axId val="95744425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40248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400883"/>
        <c:axId val="52680291"/>
      </c:scatterChart>
      <c:valAx>
        <c:axId val="640088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2680291"/>
        <c:crosses val="autoZero"/>
        <c:crossBetween val="midCat"/>
        <c:majorUnit val="2"/>
        <c:minorUnit val="1"/>
      </c:valAx>
      <c:valAx>
        <c:axId val="5268029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40088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6487434"/>
        <c:axId val="35834023"/>
      </c:scatterChart>
      <c:valAx>
        <c:axId val="764874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834023"/>
        <c:crosses val="autoZero"/>
        <c:crossBetween val="midCat"/>
        <c:majorUnit val="2"/>
        <c:minorUnit val="0.05"/>
      </c:valAx>
      <c:valAx>
        <c:axId val="358340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8743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6777481"/>
        <c:axId val="59221724"/>
      </c:scatterChart>
      <c:valAx>
        <c:axId val="1677748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221724"/>
        <c:crosses val="autoZero"/>
        <c:crossBetween val="midCat"/>
        <c:majorUnit val="2"/>
        <c:minorUnit val="0.05"/>
      </c:valAx>
      <c:valAx>
        <c:axId val="5922172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77748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8540366"/>
        <c:axId val="44287030"/>
      </c:scatterChart>
      <c:valAx>
        <c:axId val="4854036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287030"/>
        <c:crosses val="autoZero"/>
        <c:crossBetween val="midCat"/>
        <c:majorUnit val="2"/>
        <c:minorUnit val="0.05"/>
      </c:valAx>
      <c:valAx>
        <c:axId val="4428703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4036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1676059"/>
        <c:axId val="95681596"/>
      </c:scatterChart>
      <c:valAx>
        <c:axId val="6167605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681596"/>
        <c:crosses val="autoZero"/>
        <c:crossBetween val="midCat"/>
        <c:majorUnit val="2"/>
      </c:valAx>
      <c:valAx>
        <c:axId val="9568159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67605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3497859"/>
        <c:axId val="7523629"/>
      </c:scatterChart>
      <c:valAx>
        <c:axId val="5349785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3629"/>
        <c:crosses val="autoZero"/>
        <c:crossBetween val="midCat"/>
        <c:majorUnit val="2"/>
      </c:valAx>
      <c:valAx>
        <c:axId val="752362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49785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6708193"/>
        <c:axId val="6885163"/>
      </c:scatterChart>
      <c:valAx>
        <c:axId val="1670819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85163"/>
        <c:crosses val="autoZero"/>
        <c:crossBetween val="midCat"/>
        <c:majorUnit val="2"/>
        <c:minorUnit val="0.05"/>
      </c:valAx>
      <c:valAx>
        <c:axId val="688516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70819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9FF55-8EAE-4F82-8B14-7596A8F3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C7AE8-BD9C-4599-8AF8-AC719E3200B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82F34A-538F-4FBD-A243-324CC7F5BB3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9DC19D-AEBB-4801-9FD1-B56048EA303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