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4450354"/>
        <c:axId val="72985057"/>
      </c:scatterChart>
      <c:valAx>
        <c:axId val="2445035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985057"/>
        <c:crosses val="autoZero"/>
        <c:crossBetween val="midCat"/>
        <c:majorUnit val="1"/>
      </c:valAx>
      <c:valAx>
        <c:axId val="72985057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45035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2717030"/>
        <c:axId val="5472619"/>
      </c:scatterChart>
      <c:valAx>
        <c:axId val="2271703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72619"/>
        <c:crosses val="autoZero"/>
        <c:crossBetween val="midCat"/>
        <c:majorUnit val="1"/>
      </c:valAx>
      <c:valAx>
        <c:axId val="547261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71703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1527779"/>
        <c:axId val="29667352"/>
      </c:scatterChart>
      <c:valAx>
        <c:axId val="91527779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9667352"/>
        <c:crosses val="autoZero"/>
        <c:crossBetween val="midCat"/>
        <c:majorUnit val="2"/>
        <c:minorUnit val="1"/>
      </c:valAx>
      <c:valAx>
        <c:axId val="2966735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1527779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9758589"/>
        <c:axId val="30614746"/>
      </c:scatterChart>
      <c:valAx>
        <c:axId val="697585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614746"/>
        <c:crosses val="autoZero"/>
        <c:crossBetween val="midCat"/>
        <c:majorUnit val="2"/>
        <c:minorUnit val="0.05"/>
      </c:valAx>
      <c:valAx>
        <c:axId val="3061474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75858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4199294"/>
        <c:axId val="93700346"/>
      </c:scatterChart>
      <c:valAx>
        <c:axId val="3419929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700346"/>
        <c:crosses val="autoZero"/>
        <c:crossBetween val="midCat"/>
        <c:majorUnit val="2"/>
        <c:minorUnit val="0.05"/>
      </c:valAx>
      <c:valAx>
        <c:axId val="9370034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19929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2953188"/>
        <c:axId val="51753619"/>
      </c:scatterChart>
      <c:valAx>
        <c:axId val="329531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753619"/>
        <c:crosses val="autoZero"/>
        <c:crossBetween val="midCat"/>
        <c:majorUnit val="2"/>
        <c:minorUnit val="0.05"/>
      </c:valAx>
      <c:valAx>
        <c:axId val="5175361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9531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0459794"/>
        <c:axId val="24907539"/>
      </c:scatterChart>
      <c:valAx>
        <c:axId val="4045979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907539"/>
        <c:crosses val="autoZero"/>
        <c:crossBetween val="midCat"/>
        <c:majorUnit val="2"/>
      </c:valAx>
      <c:valAx>
        <c:axId val="2490753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45979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6042490"/>
        <c:axId val="5748810"/>
      </c:scatterChart>
      <c:valAx>
        <c:axId val="6604249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48810"/>
        <c:crosses val="autoZero"/>
        <c:crossBetween val="midCat"/>
        <c:majorUnit val="2"/>
      </c:valAx>
      <c:valAx>
        <c:axId val="574881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04249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9246666"/>
        <c:axId val="22431913"/>
      </c:scatterChart>
      <c:valAx>
        <c:axId val="4924666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431913"/>
        <c:crosses val="autoZero"/>
        <c:crossBetween val="midCat"/>
        <c:majorUnit val="2"/>
        <c:minorUnit val="0.05"/>
      </c:valAx>
      <c:valAx>
        <c:axId val="2243191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24666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93179-01AC-4986-B678-EB5203798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2352BE-1CFE-4C4E-BAD9-35AE163310B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3114CC-8DCD-43BE-862A-16AC0A55E87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A84C55-B6D1-462D-8855-A8EB24B994A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