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F016-52E9-48D9-862E-1B9A1BDCA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20F9-23F4-4B5C-9E8E-D8206D924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8FA0-2D52-4C24-B643-445A5CFB5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AE1B-0B9B-4941-AE4D-0AA533E8B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0FEC1-754C-4ADD-9073-43CEC475F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CC756-98B5-4403-915D-41C694350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D4C38-BFB3-4660-A768-617F1DDBE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68C01-1C9F-4840-B187-4C3DF04E9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BF63A-6EB5-4F79-8C83-7B8CE749D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9E60E-5304-44F5-ACEB-CE7665004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86919-3335-4E50-880B-88EC773ED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CE42-3FB2-494F-8625-26D99E202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59027-AAFB-4E5D-909F-8B57084AA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A3B87-F00C-4715-B78B-955B28B4E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274BC-8AB8-4859-A916-691F56FCF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182F2-F10C-4665-B6C0-49127ABAF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E8E8F-434B-4694-9DF1-8C1E7EAE3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8305-8537-4EEE-B565-FDB73C519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B95E-7786-41EE-ADB5-F12D24335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C2E0-5891-486A-A7F1-F383753AB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ED9A-6151-49D5-9FD4-AFD1BC0C4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6D71-083A-455A-AE12-FA6B5A515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DF9B-F35B-4FB6-9A44-F3BAE9A98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C6C4-6F58-4E13-9660-09C6F7E87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1027"/>
            <p:cNvGrpSpPr/>
            <p:nvPr/>
          </p:nvGrpSpPr>
          <p:grpSpPr>
            <a:xfrm>
              <a:off x="41040" y="-4680"/>
              <a:ext cx="1012680" cy="6858000"/>
              <a:chOff x="41040" y="-4680"/>
              <a:chExt cx="1012680" cy="6858000"/>
            </a:xfrm>
          </p:grpSpPr>
          <p:sp>
            <p:nvSpPr>
              <p:cNvPr id="2" name="Freeform 1028"/>
              <p:cNvSpPr/>
              <p:nvPr/>
            </p:nvSpPr>
            <p:spPr>
              <a:xfrm flipH="1">
                <a:off x="66600" y="-4680"/>
                <a:ext cx="976320" cy="683280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6832800"/>
                  <a:gd name="textAreaBottom" fmla="*/ 6833160 h 6832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0a2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1029"/>
              <p:cNvSpPr/>
              <p:nvPr/>
            </p:nvSpPr>
            <p:spPr>
              <a:xfrm flipH="1">
                <a:off x="61200" y="1697400"/>
                <a:ext cx="976680" cy="5007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1030"/>
              <p:cNvSpPr/>
              <p:nvPr/>
            </p:nvSpPr>
            <p:spPr>
              <a:xfrm flipH="1">
                <a:off x="67320" y="1281240"/>
                <a:ext cx="976680" cy="5029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1031"/>
              <p:cNvSpPr/>
              <p:nvPr/>
            </p:nvSpPr>
            <p:spPr>
              <a:xfrm flipH="1">
                <a:off x="67320" y="145800"/>
                <a:ext cx="976680" cy="3027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1032"/>
              <p:cNvSpPr/>
              <p:nvPr/>
            </p:nvSpPr>
            <p:spPr>
              <a:xfrm flipH="1">
                <a:off x="61200" y="990000"/>
                <a:ext cx="976680" cy="3481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48120"/>
                  <a:gd name="textAreaBottom" fmla="*/ 348480 h 3481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1033"/>
              <p:cNvSpPr/>
              <p:nvPr/>
            </p:nvSpPr>
            <p:spPr>
              <a:xfrm flipH="1">
                <a:off x="63000" y="679680"/>
                <a:ext cx="976680" cy="4327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32720"/>
                  <a:gd name="textAreaBottom" fmla="*/ 433080 h 43272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34"/>
              <p:cNvSpPr/>
              <p:nvPr/>
            </p:nvSpPr>
            <p:spPr>
              <a:xfrm flipH="1">
                <a:off x="64440" y="371880"/>
                <a:ext cx="988920" cy="37548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035"/>
              <p:cNvSpPr/>
              <p:nvPr/>
            </p:nvSpPr>
            <p:spPr>
              <a:xfrm flipH="1">
                <a:off x="47520" y="3930120"/>
                <a:ext cx="976320" cy="49932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036"/>
              <p:cNvSpPr/>
              <p:nvPr/>
            </p:nvSpPr>
            <p:spPr>
              <a:xfrm flipH="1">
                <a:off x="52920" y="3536640"/>
                <a:ext cx="976680" cy="5007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037"/>
              <p:cNvSpPr/>
              <p:nvPr/>
            </p:nvSpPr>
            <p:spPr>
              <a:xfrm flipH="1">
                <a:off x="53280" y="2397960"/>
                <a:ext cx="976680" cy="30420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038"/>
              <p:cNvSpPr/>
              <p:nvPr/>
            </p:nvSpPr>
            <p:spPr>
              <a:xfrm flipH="1">
                <a:off x="52920" y="3228480"/>
                <a:ext cx="976680" cy="34704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47040"/>
                  <a:gd name="textAreaBottom" fmla="*/ 347400 h 34704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039"/>
              <p:cNvSpPr/>
              <p:nvPr/>
            </p:nvSpPr>
            <p:spPr>
              <a:xfrm flipH="1">
                <a:off x="52920" y="2931480"/>
                <a:ext cx="976680" cy="42768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040"/>
              <p:cNvSpPr/>
              <p:nvPr/>
            </p:nvSpPr>
            <p:spPr>
              <a:xfrm flipH="1">
                <a:off x="53280" y="2615760"/>
                <a:ext cx="988920" cy="37548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041"/>
              <p:cNvSpPr/>
              <p:nvPr/>
            </p:nvSpPr>
            <p:spPr>
              <a:xfrm flipH="1">
                <a:off x="48240" y="4962600"/>
                <a:ext cx="976680" cy="4993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042"/>
              <p:cNvSpPr/>
              <p:nvPr/>
            </p:nvSpPr>
            <p:spPr>
              <a:xfrm flipH="1">
                <a:off x="55440" y="4547520"/>
                <a:ext cx="976320" cy="50292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043"/>
              <p:cNvSpPr/>
              <p:nvPr/>
            </p:nvSpPr>
            <p:spPr>
              <a:xfrm flipH="1">
                <a:off x="47520" y="5654520"/>
                <a:ext cx="976320" cy="30276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1044"/>
              <p:cNvSpPr/>
              <p:nvPr/>
            </p:nvSpPr>
            <p:spPr>
              <a:xfrm flipH="1" rot="16200000">
                <a:off x="361440" y="6191280"/>
                <a:ext cx="345960" cy="978120"/>
              </a:xfrm>
              <a:custGeom>
                <a:avLst/>
                <a:gdLst>
                  <a:gd name="textAreaLeft" fmla="*/ 0 w 345960"/>
                  <a:gd name="textAreaRight" fmla="*/ 345960 w 345960"/>
                  <a:gd name="textAreaTop" fmla="*/ 0 h 978120"/>
                  <a:gd name="textAreaBottom" fmla="*/ 978480 h 97812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1045"/>
              <p:cNvSpPr/>
              <p:nvPr/>
            </p:nvSpPr>
            <p:spPr>
              <a:xfrm flipH="1">
                <a:off x="40680" y="6193440"/>
                <a:ext cx="976680" cy="42768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1046"/>
              <p:cNvSpPr/>
              <p:nvPr/>
            </p:nvSpPr>
            <p:spPr>
              <a:xfrm flipH="1">
                <a:off x="40680" y="5883120"/>
                <a:ext cx="988920" cy="37548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1047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>
                <a:gd name="textAreaLeft" fmla="*/ 360 w 6858000"/>
                <a:gd name="textAreaRight" fmla="*/ 6858720 w 68580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1048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>
                <a:gd name="textAreaLeft" fmla="*/ -360 w 6856200"/>
                <a:gd name="textAreaRight" fmla="*/ 6856200 w 685620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0a22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F1A73-8D56-432E-9877-B905BCCE177B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680"/>
              <a:ext cx="9146880" cy="1017360"/>
              <a:chOff x="-3240" y="2479680"/>
              <a:chExt cx="9146880" cy="101736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8880" y="-1575000"/>
                <a:ext cx="990720" cy="91188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9118800"/>
                  <a:gd name="textAreaBottom" fmla="*/ 9119160 h 9118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0a2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0880" y="2650320"/>
                <a:ext cx="990720" cy="6681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89800" y="264960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1480" y="2786760"/>
                <a:ext cx="990360" cy="40428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280"/>
                  <a:gd name="textAreaBottom" fmla="*/ 404640 h 40428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4160" y="2751120"/>
                <a:ext cx="990720" cy="466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200"/>
                  <a:gd name="textAreaBottom" fmla="*/ 466560 h 466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6600" y="2697120"/>
                <a:ext cx="990720" cy="574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74200"/>
                  <a:gd name="textAreaBottom" fmla="*/ 574560 h 57420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2280" y="2745360"/>
                <a:ext cx="1003320" cy="49968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499680"/>
                  <a:gd name="textAreaBottom" fmla="*/ 500040 h 4996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56040" y="2643480"/>
                <a:ext cx="990360" cy="66816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3520" y="264168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8080" y="2778480"/>
                <a:ext cx="990360" cy="40464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098960" y="2743200"/>
                <a:ext cx="990720" cy="466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200"/>
                  <a:gd name="textAreaBottom" fmla="*/ 466560 h 466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4280" y="2691360"/>
                <a:ext cx="990360" cy="57240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572400"/>
                  <a:gd name="textAreaBottom" fmla="*/ 572760 h 57240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3120" y="2731680"/>
                <a:ext cx="1003320" cy="50112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120"/>
                  <a:gd name="textAreaBottom" fmla="*/ 501480 h 50112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80840" y="2650320"/>
                <a:ext cx="990720" cy="6678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7800"/>
                  <a:gd name="textAreaBottom" fmla="*/ 668160 h 6678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8680" y="264960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78400" y="2778480"/>
                <a:ext cx="990360" cy="40464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680"/>
                <a:ext cx="461520" cy="992160"/>
              </a:xfrm>
              <a:custGeom>
                <a:avLst/>
                <a:gdLst>
                  <a:gd name="textAreaLeft" fmla="*/ 360 w 461520"/>
                  <a:gd name="textAreaRight" fmla="*/ 462240 w 461520"/>
                  <a:gd name="textAreaTop" fmla="*/ 0 h 992160"/>
                  <a:gd name="textAreaBottom" fmla="*/ 992520 h 99216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84240" y="2691360"/>
                <a:ext cx="990360" cy="57276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572760"/>
                  <a:gd name="textAreaBottom" fmla="*/ 573120 h 57276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1280" y="2731680"/>
                <a:ext cx="1003320" cy="50148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480"/>
                  <a:gd name="textAreaBottom" fmla="*/ 501840 h 501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4120"/>
            </a:xfrm>
            <a:custGeom>
              <a:avLst/>
              <a:gdLst>
                <a:gd name="textAreaLeft" fmla="*/ -360 w 9145800"/>
                <a:gd name="textAreaRight" fmla="*/ 9145800 w 91458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4360" cy="300240"/>
            </a:xfrm>
            <a:custGeom>
              <a:avLst/>
              <a:gdLst>
                <a:gd name="textAreaLeft" fmla="*/ -360 w 9144360"/>
                <a:gd name="textAreaRight" fmla="*/ 9144360 w 914436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0a22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98A9C-D1C9-4A10-9525-9562AF61ACB4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ndat.org/photo-6593.html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206280"/>
            <a:ext cx="7772400" cy="230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7200" spc="-1" strike="noStrike">
                <a:solidFill>
                  <a:srgbClr val="4e3b30"/>
                </a:solidFill>
                <a:latin typeface="Times New Roman"/>
              </a:rPr>
              <a:t>Matematický milionář </a:t>
            </a:r>
            <a:endParaRPr b="0" lang="en-US" sz="7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357360" y="5857920"/>
            <a:ext cx="214308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Foto: au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5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18"/>
          <p:cNvSpPr/>
          <p:nvPr/>
        </p:nvSpPr>
        <p:spPr>
          <a:xfrm>
            <a:off x="123840" y="27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25"/>
          <p:cNvSpPr/>
          <p:nvPr/>
        </p:nvSpPr>
        <p:spPr>
          <a:xfrm>
            <a:off x="-757080" y="2714760"/>
            <a:ext cx="68752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604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34"/>
          <p:cNvSpPr/>
          <p:nvPr/>
        </p:nvSpPr>
        <p:spPr>
          <a:xfrm>
            <a:off x="-757080" y="2714760"/>
            <a:ext cx="68752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604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43"/>
          <p:cNvSpPr/>
          <p:nvPr/>
        </p:nvSpPr>
        <p:spPr>
          <a:xfrm>
            <a:off x="-757080" y="2714760"/>
            <a:ext cx="68752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604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utoShape 61">
            <a:hlinkClick r:id="rId1"/>
          </p:cNvPr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Obdélník 12"/>
          <p:cNvSpPr/>
          <p:nvPr/>
        </p:nvSpPr>
        <p:spPr>
          <a:xfrm>
            <a:off x="0" y="639612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000000"/>
                </a:solidFill>
                <a:latin typeface="Times New Roman"/>
              </a:rPr>
              <a:t>Dostupné z Metodického portálu www.rvp.cz, ISSN: 1802-4785, financovaného z ESF a státního rozpočtu ČR.</a:t>
            </a:r>
            <a:br>
              <a:rPr sz="1200"/>
            </a:br>
            <a:r>
              <a:rPr b="0" i="1" lang="cs-CZ" sz="1200" spc="-1" strike="noStrike">
                <a:solidFill>
                  <a:srgbClr val="000000"/>
                </a:solidFill>
                <a:latin typeface="Times New Roman"/>
              </a:rPr>
              <a:t> Provozováno Výzkumným ústavem pedagogickým v Pra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17" descr="C:\Katka\Studium Vysoká škola\Foto disertačka\100OLYMP\Pocity z matematiky-fotky\11a - Kopie.JPG"/>
          <p:cNvPicPr/>
          <p:nvPr/>
        </p:nvPicPr>
        <p:blipFill>
          <a:blip r:embed="rId2"/>
          <a:stretch/>
        </p:blipFill>
        <p:spPr>
          <a:xfrm>
            <a:off x="2786040" y="3571920"/>
            <a:ext cx="3286080" cy="22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tangens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ch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ch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tangens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lich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ch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218960" y="19051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efiniční obor funkce kotangens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 - {0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žina všech x ǂ (2k + 1) ·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žina všech x ǂ k ·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193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efiniční obor funkce kotangens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 - {0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žina všech x ǂ (2k + 1) ·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množina všech x ǂ k · 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320" y="20574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terá funkce je v prvním a čtvrté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vadrantu kladná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s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89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terá funkce je v prvním a čtvrté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vadrantu kladná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cos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8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Graf funkce y = sin (x +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)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pr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le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naho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l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8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Graf funkce y = sin (x +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)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pr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 dole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naho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l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6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Liché jso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co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6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Liché jso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co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643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50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Tangens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je pomě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rot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ek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odvěsny prot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ek odvěsny prot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odvěsny př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jádřete velikost úhlu 5 ∙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/6 v míř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tupňov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4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8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5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jádřete velikost úhlu 5 ∙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/6 v míř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tupňov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4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8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15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6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797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aximum neexistuje 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6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797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aximum neexistuje 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 25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Určete hodnotu funkce y = cos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Picture 4" descr=""/>
          <p:cNvPicPr/>
          <p:nvPr/>
        </p:nvPicPr>
        <p:blipFill>
          <a:blip r:embed="rId1"/>
          <a:stretch/>
        </p:blipFill>
        <p:spPr>
          <a:xfrm>
            <a:off x="1857240" y="3214800"/>
            <a:ext cx="500040" cy="54432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6"/>
          <p:cNvSpPr/>
          <p:nvPr/>
        </p:nvSpPr>
        <p:spPr>
          <a:xfrm>
            <a:off x="0" y="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7" descr=""/>
          <p:cNvPicPr/>
          <p:nvPr/>
        </p:nvPicPr>
        <p:blipFill>
          <a:blip r:embed="rId2"/>
          <a:stretch/>
        </p:blipFill>
        <p:spPr>
          <a:xfrm>
            <a:off x="1857240" y="2571840"/>
            <a:ext cx="500040" cy="54432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9"/>
          <p:cNvSpPr/>
          <p:nvPr/>
        </p:nvSpPr>
        <p:spPr>
          <a:xfrm>
            <a:off x="0" y="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Picture 10" descr=""/>
          <p:cNvPicPr/>
          <p:nvPr/>
        </p:nvPicPr>
        <p:blipFill>
          <a:blip r:embed="rId3"/>
          <a:stretch/>
        </p:blipFill>
        <p:spPr>
          <a:xfrm>
            <a:off x="1857240" y="3857760"/>
            <a:ext cx="357480" cy="47124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1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Picture 12" descr=""/>
          <p:cNvPicPr/>
          <p:nvPr/>
        </p:nvPicPr>
        <p:blipFill>
          <a:blip r:embed="rId4"/>
          <a:stretch/>
        </p:blipFill>
        <p:spPr>
          <a:xfrm>
            <a:off x="1857240" y="4429080"/>
            <a:ext cx="357480" cy="4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 25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Určete hodnotu funkce y = cos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4" descr=""/>
          <p:cNvPicPr/>
          <p:nvPr/>
        </p:nvPicPr>
        <p:blipFill>
          <a:blip r:embed="rId1"/>
          <a:stretch/>
        </p:blipFill>
        <p:spPr>
          <a:xfrm>
            <a:off x="1857240" y="3214800"/>
            <a:ext cx="500040" cy="5443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0" descr=""/>
          <p:cNvPicPr/>
          <p:nvPr/>
        </p:nvPicPr>
        <p:blipFill>
          <a:blip r:embed="rId2"/>
          <a:stretch/>
        </p:blipFill>
        <p:spPr>
          <a:xfrm>
            <a:off x="1857240" y="3857760"/>
            <a:ext cx="357480" cy="4712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2" descr=""/>
          <p:cNvPicPr/>
          <p:nvPr/>
        </p:nvPicPr>
        <p:blipFill>
          <a:blip r:embed="rId3"/>
          <a:stretch/>
        </p:blipFill>
        <p:spPr>
          <a:xfrm>
            <a:off x="1857240" y="4429080"/>
            <a:ext cx="357480" cy="47160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4"/>
          <a:stretch/>
        </p:blipFill>
        <p:spPr>
          <a:xfrm>
            <a:off x="1857240" y="2571840"/>
            <a:ext cx="525600" cy="57132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6"/>
          <p:cNvSpPr/>
          <p:nvPr/>
        </p:nvSpPr>
        <p:spPr>
          <a:xfrm>
            <a:off x="0" y="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 5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pravdiv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or hodnot sinx a cos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or hodnot sinx a cosx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cotg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a cotgx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Picture 4" descr=""/>
          <p:cNvPicPr/>
          <p:nvPr/>
        </p:nvPicPr>
        <p:blipFill>
          <a:blip r:embed="rId1"/>
          <a:stretch/>
        </p:blipFill>
        <p:spPr>
          <a:xfrm>
            <a:off x="6786720" y="3282840"/>
            <a:ext cx="1143000" cy="30816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Picture 6" descr=""/>
          <p:cNvPicPr/>
          <p:nvPr/>
        </p:nvPicPr>
        <p:blipFill>
          <a:blip r:embed="rId2"/>
          <a:stretch/>
        </p:blipFill>
        <p:spPr>
          <a:xfrm>
            <a:off x="6929280" y="4500720"/>
            <a:ext cx="1143000" cy="30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 5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pravdiv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or hodnot sinx a cos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obor hodnot sinx a cosx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cotg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a cotgx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>
            <a:off x="6929280" y="4500720"/>
            <a:ext cx="1143000" cy="30780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Picture 6" descr=""/>
          <p:cNvPicPr/>
          <p:nvPr/>
        </p:nvPicPr>
        <p:blipFill>
          <a:blip r:embed="rId2"/>
          <a:stretch/>
        </p:blipFill>
        <p:spPr>
          <a:xfrm>
            <a:off x="6786720" y="3286080"/>
            <a:ext cx="1143000" cy="30816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8"/>
          <p:cNvSpPr/>
          <p:nvPr/>
        </p:nvSpPr>
        <p:spPr>
          <a:xfrm>
            <a:off x="0" y="6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 0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chybn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sinx je lich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sx je sud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tgx je sudá, není omezená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tgx je lichá, není omezena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 0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chybn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sinx je lich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sx je sud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funkce tgx je sudá, není omezená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tgx je lichá, není omezena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143000" y="1643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505800" indent="-50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Tangens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je pomě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rot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ek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odvěsny prot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délek odvěsny protilehlé k úhlu 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a odvěsny př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sin90°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0" y="771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sin90°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tg0º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ní definová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1"/>
          <a:stretch/>
        </p:blipFill>
        <p:spPr>
          <a:xfrm>
            <a:off x="1857240" y="4429080"/>
            <a:ext cx="363600" cy="4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tg0º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ní definová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"/>
          <p:cNvPicPr/>
          <p:nvPr/>
        </p:nvPicPr>
        <p:blipFill>
          <a:blip r:embed="rId1"/>
          <a:stretch/>
        </p:blipFill>
        <p:spPr>
          <a:xfrm>
            <a:off x="1857240" y="4429080"/>
            <a:ext cx="363600" cy="4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sinus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periodick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2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3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sinus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periodick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periodická s periodou 2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3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2T08:41:51Z</dcterms:created>
  <dc:creator>Kateřina Crháková</dc:creator>
  <dc:description>Dostupné z Metodického portálu www.rvp.cz, ISSN: 1802-4785, financovaného z ESF a státního rozpočtu ČR. Provozováno Výzkumným ústavem pedagogickým v Praze.</dc:description>
  <dc:language>en-US</dc:language>
  <cp:lastModifiedBy>Štěpánka</cp:lastModifiedBy>
  <dcterms:modified xsi:type="dcterms:W3CDTF">2010-01-31T19:46:09Z</dcterms:modified>
  <cp:revision>44</cp:revision>
  <dc:subject/>
  <dc:title>Matematický milionář</dc:title>
</cp:coreProperties>
</file>