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1969753"/>
        <c:axId val="62716839"/>
      </c:scatterChart>
      <c:valAx>
        <c:axId val="4196975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716839"/>
        <c:crosses val="autoZero"/>
        <c:crossBetween val="midCat"/>
        <c:majorUnit val="1"/>
      </c:valAx>
      <c:valAx>
        <c:axId val="62716839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96975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6875038"/>
        <c:axId val="56992792"/>
      </c:scatterChart>
      <c:valAx>
        <c:axId val="2687503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992792"/>
        <c:crosses val="autoZero"/>
        <c:crossBetween val="midCat"/>
        <c:majorUnit val="1"/>
      </c:valAx>
      <c:valAx>
        <c:axId val="5699279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87503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0165124"/>
        <c:axId val="98081998"/>
      </c:scatterChart>
      <c:valAx>
        <c:axId val="5016512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8081998"/>
        <c:crosses val="autoZero"/>
        <c:crossBetween val="midCat"/>
        <c:majorUnit val="2"/>
        <c:minorUnit val="1"/>
      </c:valAx>
      <c:valAx>
        <c:axId val="9808199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016512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4427366"/>
        <c:axId val="13692643"/>
      </c:scatterChart>
      <c:valAx>
        <c:axId val="4442736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692643"/>
        <c:crosses val="autoZero"/>
        <c:crossBetween val="midCat"/>
        <c:majorUnit val="2"/>
        <c:minorUnit val="0.05"/>
      </c:valAx>
      <c:valAx>
        <c:axId val="1369264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42736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5526868"/>
        <c:axId val="56341225"/>
      </c:scatterChart>
      <c:valAx>
        <c:axId val="455268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341225"/>
        <c:crosses val="autoZero"/>
        <c:crossBetween val="midCat"/>
        <c:majorUnit val="2"/>
        <c:minorUnit val="0.05"/>
      </c:valAx>
      <c:valAx>
        <c:axId val="5634122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52686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7967121"/>
        <c:axId val="75397364"/>
      </c:scatterChart>
      <c:valAx>
        <c:axId val="7796712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397364"/>
        <c:crosses val="autoZero"/>
        <c:crossBetween val="midCat"/>
        <c:majorUnit val="2"/>
        <c:minorUnit val="0.05"/>
      </c:valAx>
      <c:valAx>
        <c:axId val="7539736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96712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0392559"/>
        <c:axId val="80431987"/>
      </c:scatterChart>
      <c:valAx>
        <c:axId val="3039255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31987"/>
        <c:crosses val="autoZero"/>
        <c:crossBetween val="midCat"/>
        <c:majorUnit val="2"/>
      </c:valAx>
      <c:valAx>
        <c:axId val="8043198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39255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5476191"/>
        <c:axId val="42146841"/>
      </c:scatterChart>
      <c:valAx>
        <c:axId val="1547619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146841"/>
        <c:crosses val="autoZero"/>
        <c:crossBetween val="midCat"/>
        <c:majorUnit val="2"/>
      </c:valAx>
      <c:valAx>
        <c:axId val="4214684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47619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3271157"/>
        <c:axId val="89193642"/>
      </c:scatterChart>
      <c:valAx>
        <c:axId val="832711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193642"/>
        <c:crosses val="autoZero"/>
        <c:crossBetween val="midCat"/>
        <c:majorUnit val="2"/>
        <c:minorUnit val="0.05"/>
      </c:valAx>
      <c:valAx>
        <c:axId val="8919364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2711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13D98-9244-4516-BC10-114C05A7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80A689-3503-42EB-B44B-D490AA4C3A0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EA6B2-18B9-4716-ABB4-BF2DA77AB63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6384EF-6AC7-4B3B-B829-131D37AF682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