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5181747"/>
        <c:axId val="94860947"/>
      </c:scatterChart>
      <c:valAx>
        <c:axId val="3518174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860947"/>
        <c:crosses val="autoZero"/>
        <c:crossBetween val="midCat"/>
        <c:majorUnit val="1"/>
      </c:valAx>
      <c:valAx>
        <c:axId val="94860947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18174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0761158"/>
        <c:axId val="64663101"/>
      </c:scatterChart>
      <c:valAx>
        <c:axId val="5076115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663101"/>
        <c:crosses val="autoZero"/>
        <c:crossBetween val="midCat"/>
        <c:majorUnit val="1"/>
      </c:valAx>
      <c:valAx>
        <c:axId val="6466310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76115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0689100"/>
        <c:axId val="9999286"/>
      </c:scatterChart>
      <c:valAx>
        <c:axId val="6068910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999286"/>
        <c:crosses val="autoZero"/>
        <c:crossBetween val="midCat"/>
        <c:majorUnit val="2"/>
        <c:minorUnit val="1"/>
      </c:valAx>
      <c:valAx>
        <c:axId val="999928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068910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7742193"/>
        <c:axId val="55827879"/>
      </c:scatterChart>
      <c:valAx>
        <c:axId val="9774219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827879"/>
        <c:crosses val="autoZero"/>
        <c:crossBetween val="midCat"/>
        <c:majorUnit val="2"/>
        <c:minorUnit val="0.05"/>
      </c:valAx>
      <c:valAx>
        <c:axId val="5582787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74219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2826302"/>
        <c:axId val="23426568"/>
      </c:scatterChart>
      <c:valAx>
        <c:axId val="5282630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426568"/>
        <c:crosses val="autoZero"/>
        <c:crossBetween val="midCat"/>
        <c:majorUnit val="2"/>
        <c:minorUnit val="0.05"/>
      </c:valAx>
      <c:valAx>
        <c:axId val="2342656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82630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1481082"/>
        <c:axId val="80613903"/>
      </c:scatterChart>
      <c:valAx>
        <c:axId val="4148108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613903"/>
        <c:crosses val="autoZero"/>
        <c:crossBetween val="midCat"/>
        <c:majorUnit val="2"/>
        <c:minorUnit val="0.05"/>
      </c:valAx>
      <c:valAx>
        <c:axId val="8061390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48108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9135736"/>
        <c:axId val="84290394"/>
      </c:scatterChart>
      <c:valAx>
        <c:axId val="9913573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290394"/>
        <c:crosses val="autoZero"/>
        <c:crossBetween val="midCat"/>
        <c:majorUnit val="2"/>
      </c:valAx>
      <c:valAx>
        <c:axId val="8429039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13573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177386"/>
        <c:axId val="39225227"/>
      </c:scatterChart>
      <c:valAx>
        <c:axId val="817738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225227"/>
        <c:crosses val="autoZero"/>
        <c:crossBetween val="midCat"/>
        <c:majorUnit val="2"/>
      </c:valAx>
      <c:valAx>
        <c:axId val="3922522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7738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9253979"/>
        <c:axId val="71206918"/>
      </c:scatterChart>
      <c:valAx>
        <c:axId val="1925397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206918"/>
        <c:crosses val="autoZero"/>
        <c:crossBetween val="midCat"/>
        <c:majorUnit val="2"/>
        <c:minorUnit val="0.05"/>
      </c:valAx>
      <c:valAx>
        <c:axId val="7120691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25397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F59BA0-09EC-481B-B208-878336D97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4CEF07-5AE9-4DEF-A1A0-1658BFFE285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EC3CCC-2D20-4B85-885E-91DACDF3362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4064D7-EE26-4011-8EE8-9CF2821E155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