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charts/chart2.xml" ContentType="application/vnd.openxmlformats-officedocument.drawingml.chart+xml"/>
  <Override PartName="/ppt/charts/chart3.xml" ContentType="application/vnd.openxmlformats-officedocument.drawingml.chart+xml"/>
  <Override PartName="/ppt/charts/chart4.xml" ContentType="application/vnd.openxmlformats-officedocument.drawingml.chart+xml"/>
  <Override PartName="/ppt/charts/chart5.xml" ContentType="application/vnd.openxmlformats-officedocument.drawingml.chart+xml"/>
  <Override PartName="/ppt/charts/chart6.xml" ContentType="application/vnd.openxmlformats-officedocument.drawingml.chart+xml"/>
  <Override PartName="/ppt/charts/chart7.xml" ContentType="application/vnd.openxmlformats-officedocument.drawingml.chart+xml"/>
  <Override PartName="/ppt/charts/chart8.xml" ContentType="application/vnd.openxmlformats-officedocument.drawingml.chart+xml"/>
  <Override PartName="/ppt/charts/chart9.xml" ContentType="application/vnd.openxmlformats-officedocument.drawingml.char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801"/>
                <c:pt idx="0">
                  <c:v>-4</c:v>
                </c:pt>
                <c:pt idx="1">
                  <c:v>-3.99</c:v>
                </c:pt>
                <c:pt idx="2">
                  <c:v>-3.98</c:v>
                </c:pt>
                <c:pt idx="3">
                  <c:v>-3.97</c:v>
                </c:pt>
                <c:pt idx="4">
                  <c:v>-3.96</c:v>
                </c:pt>
                <c:pt idx="5">
                  <c:v>-3.95</c:v>
                </c:pt>
                <c:pt idx="6">
                  <c:v>-3.94</c:v>
                </c:pt>
                <c:pt idx="7">
                  <c:v>-3.93</c:v>
                </c:pt>
                <c:pt idx="8">
                  <c:v>-3.92</c:v>
                </c:pt>
                <c:pt idx="9">
                  <c:v>-3.91</c:v>
                </c:pt>
                <c:pt idx="10">
                  <c:v>-3.9</c:v>
                </c:pt>
                <c:pt idx="11">
                  <c:v>-3.89</c:v>
                </c:pt>
                <c:pt idx="12">
                  <c:v>-3.88</c:v>
                </c:pt>
                <c:pt idx="13">
                  <c:v>-3.87</c:v>
                </c:pt>
                <c:pt idx="14">
                  <c:v>-3.86</c:v>
                </c:pt>
                <c:pt idx="15">
                  <c:v>-3.85</c:v>
                </c:pt>
                <c:pt idx="16">
                  <c:v>-3.84</c:v>
                </c:pt>
                <c:pt idx="17">
                  <c:v>-3.83</c:v>
                </c:pt>
                <c:pt idx="18">
                  <c:v>-3.82</c:v>
                </c:pt>
                <c:pt idx="19">
                  <c:v>-3.81</c:v>
                </c:pt>
                <c:pt idx="20">
                  <c:v>-3.8</c:v>
                </c:pt>
                <c:pt idx="21">
                  <c:v>-3.79</c:v>
                </c:pt>
                <c:pt idx="22">
                  <c:v>-3.78</c:v>
                </c:pt>
                <c:pt idx="23">
                  <c:v>-3.77</c:v>
                </c:pt>
                <c:pt idx="24">
                  <c:v>-3.76</c:v>
                </c:pt>
                <c:pt idx="25">
                  <c:v>-3.75</c:v>
                </c:pt>
                <c:pt idx="26">
                  <c:v>-3.74</c:v>
                </c:pt>
                <c:pt idx="27">
                  <c:v>-3.73</c:v>
                </c:pt>
                <c:pt idx="28">
                  <c:v>-3.72</c:v>
                </c:pt>
                <c:pt idx="29">
                  <c:v>-3.71</c:v>
                </c:pt>
                <c:pt idx="30">
                  <c:v>-3.7</c:v>
                </c:pt>
                <c:pt idx="31">
                  <c:v>-3.69</c:v>
                </c:pt>
                <c:pt idx="32">
                  <c:v>-3.68</c:v>
                </c:pt>
                <c:pt idx="33">
                  <c:v>-3.67</c:v>
                </c:pt>
                <c:pt idx="34">
                  <c:v>-3.66</c:v>
                </c:pt>
                <c:pt idx="35">
                  <c:v>-3.65</c:v>
                </c:pt>
                <c:pt idx="36">
                  <c:v>-3.64</c:v>
                </c:pt>
                <c:pt idx="37">
                  <c:v>-3.63</c:v>
                </c:pt>
                <c:pt idx="38">
                  <c:v>-3.62</c:v>
                </c:pt>
                <c:pt idx="39">
                  <c:v>-3.61</c:v>
                </c:pt>
                <c:pt idx="40">
                  <c:v>-3.6</c:v>
                </c:pt>
                <c:pt idx="41">
                  <c:v>-3.59</c:v>
                </c:pt>
                <c:pt idx="42">
                  <c:v>-3.58</c:v>
                </c:pt>
                <c:pt idx="43">
                  <c:v>-3.57</c:v>
                </c:pt>
                <c:pt idx="44">
                  <c:v>-3.56</c:v>
                </c:pt>
                <c:pt idx="45">
                  <c:v>-3.55</c:v>
                </c:pt>
                <c:pt idx="46">
                  <c:v>-3.54</c:v>
                </c:pt>
                <c:pt idx="47">
                  <c:v>-3.53</c:v>
                </c:pt>
                <c:pt idx="48">
                  <c:v>-3.52</c:v>
                </c:pt>
                <c:pt idx="49">
                  <c:v>-3.51</c:v>
                </c:pt>
                <c:pt idx="50">
                  <c:v>-3.5</c:v>
                </c:pt>
                <c:pt idx="51">
                  <c:v>-3.49</c:v>
                </c:pt>
                <c:pt idx="52">
                  <c:v>-3.48</c:v>
                </c:pt>
                <c:pt idx="53">
                  <c:v>-3.47</c:v>
                </c:pt>
                <c:pt idx="54">
                  <c:v>-3.46</c:v>
                </c:pt>
                <c:pt idx="55">
                  <c:v>-3.45</c:v>
                </c:pt>
                <c:pt idx="56">
                  <c:v>-3.44</c:v>
                </c:pt>
                <c:pt idx="57">
                  <c:v>-3.43</c:v>
                </c:pt>
                <c:pt idx="58">
                  <c:v>-3.42</c:v>
                </c:pt>
                <c:pt idx="59">
                  <c:v>-3.41</c:v>
                </c:pt>
                <c:pt idx="60">
                  <c:v>-3.4</c:v>
                </c:pt>
                <c:pt idx="61">
                  <c:v>-3.39</c:v>
                </c:pt>
                <c:pt idx="62">
                  <c:v>-3.38</c:v>
                </c:pt>
                <c:pt idx="63">
                  <c:v>-3.37</c:v>
                </c:pt>
                <c:pt idx="64">
                  <c:v>-3.36</c:v>
                </c:pt>
                <c:pt idx="65">
                  <c:v>-3.35</c:v>
                </c:pt>
                <c:pt idx="66">
                  <c:v>-3.34</c:v>
                </c:pt>
                <c:pt idx="67">
                  <c:v>-3.33</c:v>
                </c:pt>
                <c:pt idx="68">
                  <c:v>-3.32</c:v>
                </c:pt>
                <c:pt idx="69">
                  <c:v>-3.31</c:v>
                </c:pt>
                <c:pt idx="70">
                  <c:v>-3.3</c:v>
                </c:pt>
                <c:pt idx="71">
                  <c:v>-3.29</c:v>
                </c:pt>
                <c:pt idx="72">
                  <c:v>-3.28</c:v>
                </c:pt>
                <c:pt idx="73">
                  <c:v>-3.27</c:v>
                </c:pt>
                <c:pt idx="74">
                  <c:v>-3.26</c:v>
                </c:pt>
                <c:pt idx="75">
                  <c:v>-3.25</c:v>
                </c:pt>
                <c:pt idx="76">
                  <c:v>-3.24</c:v>
                </c:pt>
                <c:pt idx="77">
                  <c:v>-3.23</c:v>
                </c:pt>
                <c:pt idx="78">
                  <c:v>-3.22</c:v>
                </c:pt>
                <c:pt idx="79">
                  <c:v>-3.21</c:v>
                </c:pt>
                <c:pt idx="80">
                  <c:v>-3.2</c:v>
                </c:pt>
                <c:pt idx="81">
                  <c:v>-3.19</c:v>
                </c:pt>
                <c:pt idx="82">
                  <c:v>-3.18</c:v>
                </c:pt>
                <c:pt idx="83">
                  <c:v>-3.17</c:v>
                </c:pt>
                <c:pt idx="84">
                  <c:v>-3.16</c:v>
                </c:pt>
                <c:pt idx="85">
                  <c:v>-3.15</c:v>
                </c:pt>
                <c:pt idx="86">
                  <c:v>-3.14</c:v>
                </c:pt>
                <c:pt idx="87">
                  <c:v>-3.13</c:v>
                </c:pt>
                <c:pt idx="88">
                  <c:v>-3.12</c:v>
                </c:pt>
                <c:pt idx="89">
                  <c:v>-3.11</c:v>
                </c:pt>
                <c:pt idx="90">
                  <c:v>-3.1</c:v>
                </c:pt>
                <c:pt idx="91">
                  <c:v>-3.09</c:v>
                </c:pt>
                <c:pt idx="92">
                  <c:v>-3.08</c:v>
                </c:pt>
                <c:pt idx="93">
                  <c:v>-3.07</c:v>
                </c:pt>
                <c:pt idx="94">
                  <c:v>-3.06</c:v>
                </c:pt>
                <c:pt idx="95">
                  <c:v>-3.05</c:v>
                </c:pt>
                <c:pt idx="96">
                  <c:v>-3.04</c:v>
                </c:pt>
                <c:pt idx="97">
                  <c:v>-3.03</c:v>
                </c:pt>
                <c:pt idx="98">
                  <c:v>-3.02</c:v>
                </c:pt>
                <c:pt idx="99">
                  <c:v>-3.01</c:v>
                </c:pt>
                <c:pt idx="100">
                  <c:v>-3</c:v>
                </c:pt>
                <c:pt idx="101">
                  <c:v>-2.99</c:v>
                </c:pt>
                <c:pt idx="102">
                  <c:v>-2.98</c:v>
                </c:pt>
                <c:pt idx="103">
                  <c:v>-2.97</c:v>
                </c:pt>
                <c:pt idx="104">
                  <c:v>-2.96</c:v>
                </c:pt>
                <c:pt idx="105">
                  <c:v>-2.95</c:v>
                </c:pt>
                <c:pt idx="106">
                  <c:v>-2.94</c:v>
                </c:pt>
                <c:pt idx="107">
                  <c:v>-2.93</c:v>
                </c:pt>
                <c:pt idx="108">
                  <c:v>-2.92</c:v>
                </c:pt>
                <c:pt idx="109">
                  <c:v>-2.91</c:v>
                </c:pt>
                <c:pt idx="110">
                  <c:v>-2.9</c:v>
                </c:pt>
                <c:pt idx="111">
                  <c:v>-2.89</c:v>
                </c:pt>
                <c:pt idx="112">
                  <c:v>-2.88</c:v>
                </c:pt>
                <c:pt idx="113">
                  <c:v>-2.87</c:v>
                </c:pt>
                <c:pt idx="114">
                  <c:v>-2.86</c:v>
                </c:pt>
                <c:pt idx="115">
                  <c:v>-2.85</c:v>
                </c:pt>
                <c:pt idx="116">
                  <c:v>-2.84</c:v>
                </c:pt>
                <c:pt idx="117">
                  <c:v>-2.83</c:v>
                </c:pt>
                <c:pt idx="118">
                  <c:v>-2.82</c:v>
                </c:pt>
                <c:pt idx="119">
                  <c:v>-2.81</c:v>
                </c:pt>
                <c:pt idx="120">
                  <c:v>-2.8</c:v>
                </c:pt>
                <c:pt idx="121">
                  <c:v>-2.79</c:v>
                </c:pt>
                <c:pt idx="122">
                  <c:v>-2.78</c:v>
                </c:pt>
                <c:pt idx="123">
                  <c:v>-2.77</c:v>
                </c:pt>
                <c:pt idx="124">
                  <c:v>-2.76</c:v>
                </c:pt>
                <c:pt idx="125">
                  <c:v>-2.75</c:v>
                </c:pt>
                <c:pt idx="126">
                  <c:v>-2.74</c:v>
                </c:pt>
                <c:pt idx="127">
                  <c:v>-2.73</c:v>
                </c:pt>
                <c:pt idx="128">
                  <c:v>-2.72</c:v>
                </c:pt>
                <c:pt idx="129">
                  <c:v>-2.71</c:v>
                </c:pt>
                <c:pt idx="130">
                  <c:v>-2.7</c:v>
                </c:pt>
                <c:pt idx="131">
                  <c:v>-2.69</c:v>
                </c:pt>
                <c:pt idx="132">
                  <c:v>-2.68</c:v>
                </c:pt>
                <c:pt idx="133">
                  <c:v>-2.67</c:v>
                </c:pt>
                <c:pt idx="134">
                  <c:v>-2.66</c:v>
                </c:pt>
                <c:pt idx="135">
                  <c:v>-2.65</c:v>
                </c:pt>
                <c:pt idx="136">
                  <c:v>-2.64</c:v>
                </c:pt>
                <c:pt idx="137">
                  <c:v>-2.63</c:v>
                </c:pt>
                <c:pt idx="138">
                  <c:v>-2.62</c:v>
                </c:pt>
                <c:pt idx="139">
                  <c:v>-2.61</c:v>
                </c:pt>
                <c:pt idx="140">
                  <c:v>-2.6</c:v>
                </c:pt>
                <c:pt idx="141">
                  <c:v>-2.59</c:v>
                </c:pt>
                <c:pt idx="142">
                  <c:v>-2.58</c:v>
                </c:pt>
                <c:pt idx="143">
                  <c:v>-2.57</c:v>
                </c:pt>
                <c:pt idx="144">
                  <c:v>-2.56</c:v>
                </c:pt>
                <c:pt idx="145">
                  <c:v>-2.55</c:v>
                </c:pt>
                <c:pt idx="146">
                  <c:v>-2.54</c:v>
                </c:pt>
                <c:pt idx="147">
                  <c:v>-2.53</c:v>
                </c:pt>
                <c:pt idx="148">
                  <c:v>-2.52</c:v>
                </c:pt>
                <c:pt idx="149">
                  <c:v>-2.51</c:v>
                </c:pt>
                <c:pt idx="150">
                  <c:v>-2.5</c:v>
                </c:pt>
                <c:pt idx="151">
                  <c:v>-2.49</c:v>
                </c:pt>
                <c:pt idx="152">
                  <c:v>-2.48</c:v>
                </c:pt>
                <c:pt idx="153">
                  <c:v>-2.47</c:v>
                </c:pt>
                <c:pt idx="154">
                  <c:v>-2.46</c:v>
                </c:pt>
                <c:pt idx="155">
                  <c:v>-2.45</c:v>
                </c:pt>
                <c:pt idx="156">
                  <c:v>-2.44</c:v>
                </c:pt>
                <c:pt idx="157">
                  <c:v>-2.43</c:v>
                </c:pt>
                <c:pt idx="158">
                  <c:v>-2.42</c:v>
                </c:pt>
                <c:pt idx="159">
                  <c:v>-2.41</c:v>
                </c:pt>
                <c:pt idx="160">
                  <c:v>-2.4</c:v>
                </c:pt>
                <c:pt idx="161">
                  <c:v>-2.39</c:v>
                </c:pt>
                <c:pt idx="162">
                  <c:v>-2.38</c:v>
                </c:pt>
                <c:pt idx="163">
                  <c:v>-2.37</c:v>
                </c:pt>
                <c:pt idx="164">
                  <c:v>-2.36</c:v>
                </c:pt>
                <c:pt idx="165">
                  <c:v>-2.35</c:v>
                </c:pt>
                <c:pt idx="166">
                  <c:v>-2.34</c:v>
                </c:pt>
                <c:pt idx="167">
                  <c:v>-2.33</c:v>
                </c:pt>
                <c:pt idx="168">
                  <c:v>-2.32</c:v>
                </c:pt>
                <c:pt idx="169">
                  <c:v>-2.31</c:v>
                </c:pt>
                <c:pt idx="170">
                  <c:v>-2.3</c:v>
                </c:pt>
                <c:pt idx="171">
                  <c:v>-2.29</c:v>
                </c:pt>
                <c:pt idx="172">
                  <c:v>-2.28</c:v>
                </c:pt>
                <c:pt idx="173">
                  <c:v>-2.27</c:v>
                </c:pt>
                <c:pt idx="174">
                  <c:v>-2.26</c:v>
                </c:pt>
                <c:pt idx="175">
                  <c:v>-2.25</c:v>
                </c:pt>
                <c:pt idx="176">
                  <c:v>-2.24</c:v>
                </c:pt>
                <c:pt idx="177">
                  <c:v>-2.23</c:v>
                </c:pt>
                <c:pt idx="178">
                  <c:v>-2.22</c:v>
                </c:pt>
                <c:pt idx="179">
                  <c:v>-2.21</c:v>
                </c:pt>
                <c:pt idx="180">
                  <c:v>-2.2</c:v>
                </c:pt>
                <c:pt idx="181">
                  <c:v>-2.19</c:v>
                </c:pt>
                <c:pt idx="182">
                  <c:v>-2.18</c:v>
                </c:pt>
                <c:pt idx="183">
                  <c:v>-2.17</c:v>
                </c:pt>
                <c:pt idx="184">
                  <c:v>-2.16</c:v>
                </c:pt>
                <c:pt idx="185">
                  <c:v>-2.15</c:v>
                </c:pt>
                <c:pt idx="186">
                  <c:v>-2.14</c:v>
                </c:pt>
                <c:pt idx="187">
                  <c:v>-2.13</c:v>
                </c:pt>
                <c:pt idx="188">
                  <c:v>-2.12</c:v>
                </c:pt>
                <c:pt idx="189">
                  <c:v>-2.11</c:v>
                </c:pt>
                <c:pt idx="190">
                  <c:v>-2.1</c:v>
                </c:pt>
                <c:pt idx="191">
                  <c:v>-2.09</c:v>
                </c:pt>
                <c:pt idx="192">
                  <c:v>-2.08</c:v>
                </c:pt>
                <c:pt idx="193">
                  <c:v>-2.07</c:v>
                </c:pt>
                <c:pt idx="194">
                  <c:v>-2.06</c:v>
                </c:pt>
                <c:pt idx="195">
                  <c:v>-2.05</c:v>
                </c:pt>
                <c:pt idx="196">
                  <c:v>-2.04</c:v>
                </c:pt>
                <c:pt idx="197">
                  <c:v>-2.03</c:v>
                </c:pt>
                <c:pt idx="198">
                  <c:v>-2.02</c:v>
                </c:pt>
                <c:pt idx="199">
                  <c:v>-2.01</c:v>
                </c:pt>
                <c:pt idx="200">
                  <c:v>-2</c:v>
                </c:pt>
                <c:pt idx="201">
                  <c:v>-1.99</c:v>
                </c:pt>
                <c:pt idx="202">
                  <c:v>-1.98</c:v>
                </c:pt>
                <c:pt idx="203">
                  <c:v>-1.97</c:v>
                </c:pt>
                <c:pt idx="204">
                  <c:v>-1.96</c:v>
                </c:pt>
                <c:pt idx="205">
                  <c:v>-1.95</c:v>
                </c:pt>
                <c:pt idx="206">
                  <c:v>-1.94</c:v>
                </c:pt>
                <c:pt idx="207">
                  <c:v>-1.93</c:v>
                </c:pt>
                <c:pt idx="208">
                  <c:v>-1.92</c:v>
                </c:pt>
                <c:pt idx="209">
                  <c:v>-1.91</c:v>
                </c:pt>
                <c:pt idx="210">
                  <c:v>-1.9</c:v>
                </c:pt>
                <c:pt idx="211">
                  <c:v>-1.89</c:v>
                </c:pt>
                <c:pt idx="212">
                  <c:v>-1.88</c:v>
                </c:pt>
                <c:pt idx="213">
                  <c:v>-1.87</c:v>
                </c:pt>
                <c:pt idx="214">
                  <c:v>-1.86</c:v>
                </c:pt>
                <c:pt idx="215">
                  <c:v>-1.85</c:v>
                </c:pt>
                <c:pt idx="216">
                  <c:v>-1.84</c:v>
                </c:pt>
                <c:pt idx="217">
                  <c:v>-1.83</c:v>
                </c:pt>
                <c:pt idx="218">
                  <c:v>-1.82</c:v>
                </c:pt>
                <c:pt idx="219">
                  <c:v>-1.81</c:v>
                </c:pt>
                <c:pt idx="220">
                  <c:v>-1.8</c:v>
                </c:pt>
                <c:pt idx="221">
                  <c:v>-1.79</c:v>
                </c:pt>
                <c:pt idx="222">
                  <c:v>-1.78</c:v>
                </c:pt>
                <c:pt idx="223">
                  <c:v>-1.77</c:v>
                </c:pt>
                <c:pt idx="224">
                  <c:v>-1.76</c:v>
                </c:pt>
                <c:pt idx="225">
                  <c:v>-1.75</c:v>
                </c:pt>
                <c:pt idx="226">
                  <c:v>-1.74</c:v>
                </c:pt>
                <c:pt idx="227">
                  <c:v>-1.73</c:v>
                </c:pt>
                <c:pt idx="228">
                  <c:v>-1.72</c:v>
                </c:pt>
                <c:pt idx="229">
                  <c:v>-1.71</c:v>
                </c:pt>
                <c:pt idx="230">
                  <c:v>-1.7</c:v>
                </c:pt>
                <c:pt idx="231">
                  <c:v>-1.69</c:v>
                </c:pt>
                <c:pt idx="232">
                  <c:v>-1.68</c:v>
                </c:pt>
                <c:pt idx="233">
                  <c:v>-1.67</c:v>
                </c:pt>
                <c:pt idx="234">
                  <c:v>-1.66</c:v>
                </c:pt>
                <c:pt idx="235">
                  <c:v>-1.65</c:v>
                </c:pt>
                <c:pt idx="236">
                  <c:v>-1.64</c:v>
                </c:pt>
                <c:pt idx="237">
                  <c:v>-1.63</c:v>
                </c:pt>
                <c:pt idx="238">
                  <c:v>-1.62</c:v>
                </c:pt>
                <c:pt idx="239">
                  <c:v>-1.61</c:v>
                </c:pt>
                <c:pt idx="240">
                  <c:v>-1.6</c:v>
                </c:pt>
                <c:pt idx="241">
                  <c:v>-1.59</c:v>
                </c:pt>
                <c:pt idx="242">
                  <c:v>-1.58</c:v>
                </c:pt>
                <c:pt idx="243">
                  <c:v>-1.57</c:v>
                </c:pt>
                <c:pt idx="244">
                  <c:v>-1.56</c:v>
                </c:pt>
                <c:pt idx="245">
                  <c:v>-1.55</c:v>
                </c:pt>
                <c:pt idx="246">
                  <c:v>-1.54</c:v>
                </c:pt>
                <c:pt idx="247">
                  <c:v>-1.53</c:v>
                </c:pt>
                <c:pt idx="248">
                  <c:v>-1.52</c:v>
                </c:pt>
                <c:pt idx="249">
                  <c:v>-1.51</c:v>
                </c:pt>
                <c:pt idx="250">
                  <c:v>-1.5</c:v>
                </c:pt>
                <c:pt idx="251">
                  <c:v>-1.49</c:v>
                </c:pt>
                <c:pt idx="252">
                  <c:v>-1.48</c:v>
                </c:pt>
                <c:pt idx="253">
                  <c:v>-1.47</c:v>
                </c:pt>
                <c:pt idx="254">
                  <c:v>-1.46</c:v>
                </c:pt>
                <c:pt idx="255">
                  <c:v>-1.45</c:v>
                </c:pt>
                <c:pt idx="256">
                  <c:v>-1.44</c:v>
                </c:pt>
                <c:pt idx="257">
                  <c:v>-1.43</c:v>
                </c:pt>
                <c:pt idx="258">
                  <c:v>-1.42</c:v>
                </c:pt>
                <c:pt idx="259">
                  <c:v>-1.41</c:v>
                </c:pt>
                <c:pt idx="260">
                  <c:v>-1.4</c:v>
                </c:pt>
                <c:pt idx="261">
                  <c:v>-1.39</c:v>
                </c:pt>
                <c:pt idx="262">
                  <c:v>-1.38</c:v>
                </c:pt>
                <c:pt idx="263">
                  <c:v>-1.37</c:v>
                </c:pt>
                <c:pt idx="264">
                  <c:v>-1.36</c:v>
                </c:pt>
                <c:pt idx="265">
                  <c:v>-1.35</c:v>
                </c:pt>
                <c:pt idx="266">
                  <c:v>-1.34</c:v>
                </c:pt>
                <c:pt idx="267">
                  <c:v>-1.33</c:v>
                </c:pt>
                <c:pt idx="268">
                  <c:v>-1.32</c:v>
                </c:pt>
                <c:pt idx="269">
                  <c:v>-1.31</c:v>
                </c:pt>
                <c:pt idx="270">
                  <c:v>-1.3</c:v>
                </c:pt>
                <c:pt idx="271">
                  <c:v>-1.29</c:v>
                </c:pt>
                <c:pt idx="272">
                  <c:v>-1.28</c:v>
                </c:pt>
                <c:pt idx="273">
                  <c:v>-1.27</c:v>
                </c:pt>
                <c:pt idx="274">
                  <c:v>-1.26</c:v>
                </c:pt>
                <c:pt idx="275">
                  <c:v>-1.25</c:v>
                </c:pt>
                <c:pt idx="276">
                  <c:v>-1.24</c:v>
                </c:pt>
                <c:pt idx="277">
                  <c:v>-1.23</c:v>
                </c:pt>
                <c:pt idx="278">
                  <c:v>-1.22</c:v>
                </c:pt>
                <c:pt idx="279">
                  <c:v>-1.21</c:v>
                </c:pt>
                <c:pt idx="280">
                  <c:v>-1.2</c:v>
                </c:pt>
                <c:pt idx="281">
                  <c:v>-1.19</c:v>
                </c:pt>
                <c:pt idx="282">
                  <c:v>-1.18</c:v>
                </c:pt>
                <c:pt idx="283">
                  <c:v>-1.17</c:v>
                </c:pt>
                <c:pt idx="284">
                  <c:v>-1.16</c:v>
                </c:pt>
                <c:pt idx="285">
                  <c:v>-1.15</c:v>
                </c:pt>
                <c:pt idx="286">
                  <c:v>-1.14</c:v>
                </c:pt>
                <c:pt idx="287">
                  <c:v>-1.13</c:v>
                </c:pt>
                <c:pt idx="288">
                  <c:v>-1.12</c:v>
                </c:pt>
                <c:pt idx="289">
                  <c:v>-1.11</c:v>
                </c:pt>
                <c:pt idx="290">
                  <c:v>-1.1</c:v>
                </c:pt>
                <c:pt idx="291">
                  <c:v>-1.09</c:v>
                </c:pt>
                <c:pt idx="292">
                  <c:v>-1.08</c:v>
                </c:pt>
                <c:pt idx="293">
                  <c:v>-1.07</c:v>
                </c:pt>
                <c:pt idx="294">
                  <c:v>-1.06</c:v>
                </c:pt>
                <c:pt idx="295">
                  <c:v>-1.05</c:v>
                </c:pt>
                <c:pt idx="296">
                  <c:v>-1.04</c:v>
                </c:pt>
                <c:pt idx="297">
                  <c:v>-1.03</c:v>
                </c:pt>
                <c:pt idx="298">
                  <c:v>-1.02</c:v>
                </c:pt>
                <c:pt idx="299">
                  <c:v>-1.01</c:v>
                </c:pt>
                <c:pt idx="300">
                  <c:v>-1</c:v>
                </c:pt>
                <c:pt idx="301">
                  <c:v>-0.99</c:v>
                </c:pt>
                <c:pt idx="302">
                  <c:v>-0.98</c:v>
                </c:pt>
                <c:pt idx="303">
                  <c:v>-0.97</c:v>
                </c:pt>
                <c:pt idx="304">
                  <c:v>-0.96</c:v>
                </c:pt>
                <c:pt idx="305">
                  <c:v>-0.95</c:v>
                </c:pt>
                <c:pt idx="306">
                  <c:v>-0.94</c:v>
                </c:pt>
                <c:pt idx="307">
                  <c:v>-0.93</c:v>
                </c:pt>
                <c:pt idx="308">
                  <c:v>-0.92</c:v>
                </c:pt>
                <c:pt idx="309">
                  <c:v>-0.91</c:v>
                </c:pt>
                <c:pt idx="310">
                  <c:v>-0.9</c:v>
                </c:pt>
                <c:pt idx="311">
                  <c:v>-0.89</c:v>
                </c:pt>
                <c:pt idx="312">
                  <c:v>-0.88</c:v>
                </c:pt>
                <c:pt idx="313">
                  <c:v>-0.87</c:v>
                </c:pt>
                <c:pt idx="314">
                  <c:v>-0.86</c:v>
                </c:pt>
                <c:pt idx="315">
                  <c:v>-0.85</c:v>
                </c:pt>
                <c:pt idx="316">
                  <c:v>-0.84</c:v>
                </c:pt>
                <c:pt idx="317">
                  <c:v>-0.83</c:v>
                </c:pt>
                <c:pt idx="318">
                  <c:v>-0.82</c:v>
                </c:pt>
                <c:pt idx="319">
                  <c:v>-0.81</c:v>
                </c:pt>
                <c:pt idx="320">
                  <c:v>-0.8</c:v>
                </c:pt>
                <c:pt idx="321">
                  <c:v>-0.79</c:v>
                </c:pt>
                <c:pt idx="322">
                  <c:v>-0.78</c:v>
                </c:pt>
                <c:pt idx="323">
                  <c:v>-0.77</c:v>
                </c:pt>
                <c:pt idx="324">
                  <c:v>-0.76</c:v>
                </c:pt>
                <c:pt idx="325">
                  <c:v>-0.75</c:v>
                </c:pt>
                <c:pt idx="326">
                  <c:v>-0.74</c:v>
                </c:pt>
                <c:pt idx="327">
                  <c:v>-0.73</c:v>
                </c:pt>
                <c:pt idx="328">
                  <c:v>-0.72</c:v>
                </c:pt>
                <c:pt idx="329">
                  <c:v>-0.71</c:v>
                </c:pt>
                <c:pt idx="330">
                  <c:v>-0.7</c:v>
                </c:pt>
                <c:pt idx="331">
                  <c:v>-0.69</c:v>
                </c:pt>
                <c:pt idx="332">
                  <c:v>-0.68</c:v>
                </c:pt>
                <c:pt idx="333">
                  <c:v>-0.67</c:v>
                </c:pt>
                <c:pt idx="334">
                  <c:v>-0.66</c:v>
                </c:pt>
                <c:pt idx="335">
                  <c:v>-0.65</c:v>
                </c:pt>
                <c:pt idx="336">
                  <c:v>-0.64</c:v>
                </c:pt>
                <c:pt idx="337">
                  <c:v>-0.63</c:v>
                </c:pt>
                <c:pt idx="338">
                  <c:v>-0.62</c:v>
                </c:pt>
                <c:pt idx="339">
                  <c:v>-0.61</c:v>
                </c:pt>
                <c:pt idx="340">
                  <c:v>-0.6</c:v>
                </c:pt>
                <c:pt idx="341">
                  <c:v>-0.59</c:v>
                </c:pt>
                <c:pt idx="342">
                  <c:v>-0.58</c:v>
                </c:pt>
                <c:pt idx="343">
                  <c:v>-0.57</c:v>
                </c:pt>
                <c:pt idx="344">
                  <c:v>-0.56</c:v>
                </c:pt>
                <c:pt idx="345">
                  <c:v>-0.55</c:v>
                </c:pt>
                <c:pt idx="346">
                  <c:v>-0.54</c:v>
                </c:pt>
                <c:pt idx="347">
                  <c:v>-0.53</c:v>
                </c:pt>
                <c:pt idx="348">
                  <c:v>-0.52</c:v>
                </c:pt>
                <c:pt idx="349">
                  <c:v>-0.51</c:v>
                </c:pt>
                <c:pt idx="350">
                  <c:v>-0.5</c:v>
                </c:pt>
                <c:pt idx="351">
                  <c:v>-0.49</c:v>
                </c:pt>
                <c:pt idx="352">
                  <c:v>-0.48</c:v>
                </c:pt>
                <c:pt idx="353">
                  <c:v>-0.47</c:v>
                </c:pt>
                <c:pt idx="354">
                  <c:v>-0.46</c:v>
                </c:pt>
                <c:pt idx="355">
                  <c:v>-0.45</c:v>
                </c:pt>
                <c:pt idx="356">
                  <c:v>-0.44</c:v>
                </c:pt>
                <c:pt idx="357">
                  <c:v>-0.43</c:v>
                </c:pt>
                <c:pt idx="358">
                  <c:v>-0.42</c:v>
                </c:pt>
                <c:pt idx="359">
                  <c:v>-0.41</c:v>
                </c:pt>
                <c:pt idx="360">
                  <c:v>-0.4</c:v>
                </c:pt>
                <c:pt idx="361">
                  <c:v>-0.39</c:v>
                </c:pt>
                <c:pt idx="362">
                  <c:v>-0.38</c:v>
                </c:pt>
                <c:pt idx="363">
                  <c:v>-0.37</c:v>
                </c:pt>
                <c:pt idx="364">
                  <c:v>-0.36</c:v>
                </c:pt>
                <c:pt idx="365">
                  <c:v>-0.35</c:v>
                </c:pt>
                <c:pt idx="366">
                  <c:v>-0.34</c:v>
                </c:pt>
                <c:pt idx="367">
                  <c:v>-0.33</c:v>
                </c:pt>
                <c:pt idx="368">
                  <c:v>-0.32</c:v>
                </c:pt>
                <c:pt idx="369">
                  <c:v>-0.31</c:v>
                </c:pt>
                <c:pt idx="370">
                  <c:v>-0.3</c:v>
                </c:pt>
                <c:pt idx="371">
                  <c:v>-0.29</c:v>
                </c:pt>
                <c:pt idx="372">
                  <c:v>-0.28</c:v>
                </c:pt>
                <c:pt idx="373">
                  <c:v>-0.27</c:v>
                </c:pt>
                <c:pt idx="374">
                  <c:v>-0.26</c:v>
                </c:pt>
                <c:pt idx="375">
                  <c:v>-0.25</c:v>
                </c:pt>
                <c:pt idx="376">
                  <c:v>-0.24</c:v>
                </c:pt>
                <c:pt idx="377">
                  <c:v>-0.23</c:v>
                </c:pt>
                <c:pt idx="378">
                  <c:v>-0.22</c:v>
                </c:pt>
                <c:pt idx="379">
                  <c:v>-0.21</c:v>
                </c:pt>
                <c:pt idx="380">
                  <c:v>-0.2</c:v>
                </c:pt>
                <c:pt idx="381">
                  <c:v>-0.19</c:v>
                </c:pt>
                <c:pt idx="382">
                  <c:v>-0.18</c:v>
                </c:pt>
                <c:pt idx="383">
                  <c:v>-0.17</c:v>
                </c:pt>
                <c:pt idx="384">
                  <c:v>-0.16</c:v>
                </c:pt>
                <c:pt idx="385">
                  <c:v>-0.15</c:v>
                </c:pt>
                <c:pt idx="386">
                  <c:v>-0.14</c:v>
                </c:pt>
                <c:pt idx="387">
                  <c:v>-0.13</c:v>
                </c:pt>
                <c:pt idx="388">
                  <c:v>-0.12</c:v>
                </c:pt>
                <c:pt idx="389">
                  <c:v>-0.11</c:v>
                </c:pt>
                <c:pt idx="390">
                  <c:v>-0.1</c:v>
                </c:pt>
                <c:pt idx="391">
                  <c:v>-0.0899999999999999</c:v>
                </c:pt>
                <c:pt idx="392">
                  <c:v>-0.0800000000000001</c:v>
                </c:pt>
                <c:pt idx="393">
                  <c:v>-0.0699999999999998</c:v>
                </c:pt>
                <c:pt idx="394">
                  <c:v>-0.0600000000000001</c:v>
                </c:pt>
                <c:pt idx="395">
                  <c:v>-0.0499999999999998</c:v>
                </c:pt>
                <c:pt idx="396">
                  <c:v>-0.04</c:v>
                </c:pt>
                <c:pt idx="397">
                  <c:v>-0.0299999999999998</c:v>
                </c:pt>
                <c:pt idx="398">
                  <c:v>-0.02</c:v>
                </c:pt>
                <c:pt idx="399">
                  <c:v>-0.00999999999999979</c:v>
                </c:pt>
                <c:pt idx="401">
                  <c:v>0.00999999999999979</c:v>
                </c:pt>
                <c:pt idx="402">
                  <c:v>0.0200000000000005</c:v>
                </c:pt>
                <c:pt idx="403">
                  <c:v>0.0300000000000003</c:v>
                </c:pt>
                <c:pt idx="404">
                  <c:v>0.04</c:v>
                </c:pt>
                <c:pt idx="405">
                  <c:v>0.0499999999999998</c:v>
                </c:pt>
                <c:pt idx="406">
                  <c:v>0.0600000000000005</c:v>
                </c:pt>
                <c:pt idx="407">
                  <c:v>0.0700000000000003</c:v>
                </c:pt>
                <c:pt idx="408">
                  <c:v>0.0800000000000001</c:v>
                </c:pt>
                <c:pt idx="409">
                  <c:v>0.0899999999999999</c:v>
                </c:pt>
                <c:pt idx="410">
                  <c:v>0.0999999999999996</c:v>
                </c:pt>
                <c:pt idx="411">
                  <c:v>0.11</c:v>
                </c:pt>
                <c:pt idx="412">
                  <c:v>0.12</c:v>
                </c:pt>
                <c:pt idx="413">
                  <c:v>0.13</c:v>
                </c:pt>
                <c:pt idx="414">
                  <c:v>0.14</c:v>
                </c:pt>
                <c:pt idx="415">
                  <c:v>0.15</c:v>
                </c:pt>
                <c:pt idx="416">
                  <c:v>0.16</c:v>
                </c:pt>
                <c:pt idx="417">
                  <c:v>0.17</c:v>
                </c:pt>
                <c:pt idx="418">
                  <c:v>0.18</c:v>
                </c:pt>
                <c:pt idx="419">
                  <c:v>0.19</c:v>
                </c:pt>
                <c:pt idx="420">
                  <c:v>0.2</c:v>
                </c:pt>
                <c:pt idx="421">
                  <c:v>0.21</c:v>
                </c:pt>
                <c:pt idx="422">
                  <c:v>0.22</c:v>
                </c:pt>
                <c:pt idx="423">
                  <c:v>0.23</c:v>
                </c:pt>
                <c:pt idx="424">
                  <c:v>0.24</c:v>
                </c:pt>
                <c:pt idx="425">
                  <c:v>0.25</c:v>
                </c:pt>
                <c:pt idx="426">
                  <c:v>0.26</c:v>
                </c:pt>
                <c:pt idx="427">
                  <c:v>0.27</c:v>
                </c:pt>
                <c:pt idx="428">
                  <c:v>0.28</c:v>
                </c:pt>
                <c:pt idx="429">
                  <c:v>0.29</c:v>
                </c:pt>
                <c:pt idx="430">
                  <c:v>0.3</c:v>
                </c:pt>
                <c:pt idx="431">
                  <c:v>0.310000000000001</c:v>
                </c:pt>
                <c:pt idx="432">
                  <c:v>0.32</c:v>
                </c:pt>
                <c:pt idx="433">
                  <c:v>0.33</c:v>
                </c:pt>
                <c:pt idx="434">
                  <c:v>0.34</c:v>
                </c:pt>
                <c:pt idx="435">
                  <c:v>0.350000000000001</c:v>
                </c:pt>
                <c:pt idx="436">
                  <c:v>0.36</c:v>
                </c:pt>
                <c:pt idx="437">
                  <c:v>0.37</c:v>
                </c:pt>
                <c:pt idx="438">
                  <c:v>0.38</c:v>
                </c:pt>
                <c:pt idx="439">
                  <c:v>0.39</c:v>
                </c:pt>
                <c:pt idx="440">
                  <c:v>0.4</c:v>
                </c:pt>
                <c:pt idx="441">
                  <c:v>0.41</c:v>
                </c:pt>
                <c:pt idx="442">
                  <c:v>0.42</c:v>
                </c:pt>
                <c:pt idx="443">
                  <c:v>0.43</c:v>
                </c:pt>
                <c:pt idx="444">
                  <c:v>0.44</c:v>
                </c:pt>
                <c:pt idx="445">
                  <c:v>0.45</c:v>
                </c:pt>
                <c:pt idx="446">
                  <c:v>0.46</c:v>
                </c:pt>
                <c:pt idx="447">
                  <c:v>0.47</c:v>
                </c:pt>
                <c:pt idx="448">
                  <c:v>0.48</c:v>
                </c:pt>
                <c:pt idx="449">
                  <c:v>0.49</c:v>
                </c:pt>
                <c:pt idx="450">
                  <c:v>0.5</c:v>
                </c:pt>
                <c:pt idx="451">
                  <c:v>0.51</c:v>
                </c:pt>
                <c:pt idx="452">
                  <c:v>0.520000000000001</c:v>
                </c:pt>
                <c:pt idx="453">
                  <c:v>0.53</c:v>
                </c:pt>
                <c:pt idx="454">
                  <c:v>0.54</c:v>
                </c:pt>
                <c:pt idx="455">
                  <c:v>0.55</c:v>
                </c:pt>
                <c:pt idx="456">
                  <c:v>0.560000000000001</c:v>
                </c:pt>
                <c:pt idx="457">
                  <c:v>0.57</c:v>
                </c:pt>
                <c:pt idx="458">
                  <c:v>0.58</c:v>
                </c:pt>
                <c:pt idx="459">
                  <c:v>0.59</c:v>
                </c:pt>
                <c:pt idx="460">
                  <c:v>0.600000000000001</c:v>
                </c:pt>
                <c:pt idx="461">
                  <c:v>0.61</c:v>
                </c:pt>
                <c:pt idx="462">
                  <c:v>0.62</c:v>
                </c:pt>
                <c:pt idx="463">
                  <c:v>0.63</c:v>
                </c:pt>
                <c:pt idx="464">
                  <c:v>0.64</c:v>
                </c:pt>
                <c:pt idx="465">
                  <c:v>0.65</c:v>
                </c:pt>
                <c:pt idx="466">
                  <c:v>0.66</c:v>
                </c:pt>
                <c:pt idx="467">
                  <c:v>0.67</c:v>
                </c:pt>
                <c:pt idx="468">
                  <c:v>0.68</c:v>
                </c:pt>
                <c:pt idx="469">
                  <c:v>0.69</c:v>
                </c:pt>
                <c:pt idx="470">
                  <c:v>0.7</c:v>
                </c:pt>
                <c:pt idx="471">
                  <c:v>0.71</c:v>
                </c:pt>
                <c:pt idx="472">
                  <c:v>0.72</c:v>
                </c:pt>
                <c:pt idx="473">
                  <c:v>0.73</c:v>
                </c:pt>
                <c:pt idx="474">
                  <c:v>0.74</c:v>
                </c:pt>
                <c:pt idx="475">
                  <c:v>0.75</c:v>
                </c:pt>
                <c:pt idx="476">
                  <c:v>0.76</c:v>
                </c:pt>
                <c:pt idx="477">
                  <c:v>0.770000000000001</c:v>
                </c:pt>
                <c:pt idx="478">
                  <c:v>0.78</c:v>
                </c:pt>
                <c:pt idx="479">
                  <c:v>0.79</c:v>
                </c:pt>
                <c:pt idx="480">
                  <c:v>0.8</c:v>
                </c:pt>
                <c:pt idx="481">
                  <c:v>0.810000000000001</c:v>
                </c:pt>
                <c:pt idx="482">
                  <c:v>0.82</c:v>
                </c:pt>
                <c:pt idx="483">
                  <c:v>0.83</c:v>
                </c:pt>
                <c:pt idx="484">
                  <c:v>0.84</c:v>
                </c:pt>
                <c:pt idx="485">
                  <c:v>0.850000000000001</c:v>
                </c:pt>
                <c:pt idx="486">
                  <c:v>0.86</c:v>
                </c:pt>
                <c:pt idx="487">
                  <c:v>0.87</c:v>
                </c:pt>
                <c:pt idx="488">
                  <c:v>0.88</c:v>
                </c:pt>
                <c:pt idx="489">
                  <c:v>0.89</c:v>
                </c:pt>
                <c:pt idx="490">
                  <c:v>0.9</c:v>
                </c:pt>
                <c:pt idx="491">
                  <c:v>0.91</c:v>
                </c:pt>
                <c:pt idx="492">
                  <c:v>0.92</c:v>
                </c:pt>
                <c:pt idx="493">
                  <c:v>0.93</c:v>
                </c:pt>
                <c:pt idx="494">
                  <c:v>0.94</c:v>
                </c:pt>
                <c:pt idx="495">
                  <c:v>0.95</c:v>
                </c:pt>
                <c:pt idx="496">
                  <c:v>0.96</c:v>
                </c:pt>
                <c:pt idx="497">
                  <c:v>0.97</c:v>
                </c:pt>
                <c:pt idx="498">
                  <c:v>0.98</c:v>
                </c:pt>
                <c:pt idx="499">
                  <c:v>0.99</c:v>
                </c:pt>
                <c:pt idx="500">
                  <c:v>1</c:v>
                </c:pt>
                <c:pt idx="501">
                  <c:v>1.01</c:v>
                </c:pt>
                <c:pt idx="502">
                  <c:v>1.02</c:v>
                </c:pt>
                <c:pt idx="503">
                  <c:v>1.03</c:v>
                </c:pt>
                <c:pt idx="504">
                  <c:v>1.04</c:v>
                </c:pt>
                <c:pt idx="505">
                  <c:v>1.05</c:v>
                </c:pt>
                <c:pt idx="506">
                  <c:v>1.06</c:v>
                </c:pt>
                <c:pt idx="507">
                  <c:v>1.07</c:v>
                </c:pt>
                <c:pt idx="508">
                  <c:v>1.08</c:v>
                </c:pt>
                <c:pt idx="509">
                  <c:v>1.09</c:v>
                </c:pt>
                <c:pt idx="510">
                  <c:v>1.1</c:v>
                </c:pt>
                <c:pt idx="511">
                  <c:v>1.11</c:v>
                </c:pt>
                <c:pt idx="512">
                  <c:v>1.12</c:v>
                </c:pt>
                <c:pt idx="513">
                  <c:v>1.13</c:v>
                </c:pt>
                <c:pt idx="514">
                  <c:v>1.14</c:v>
                </c:pt>
                <c:pt idx="515">
                  <c:v>1.15</c:v>
                </c:pt>
                <c:pt idx="516">
                  <c:v>1.16</c:v>
                </c:pt>
                <c:pt idx="517">
                  <c:v>1.17</c:v>
                </c:pt>
                <c:pt idx="518">
                  <c:v>1.18</c:v>
                </c:pt>
                <c:pt idx="519">
                  <c:v>1.19</c:v>
                </c:pt>
                <c:pt idx="520">
                  <c:v>1.2</c:v>
                </c:pt>
                <c:pt idx="521">
                  <c:v>1.21</c:v>
                </c:pt>
                <c:pt idx="522">
                  <c:v>1.22</c:v>
                </c:pt>
                <c:pt idx="523">
                  <c:v>1.23</c:v>
                </c:pt>
                <c:pt idx="524">
                  <c:v>1.24</c:v>
                </c:pt>
                <c:pt idx="525">
                  <c:v>1.25</c:v>
                </c:pt>
                <c:pt idx="526">
                  <c:v>1.26</c:v>
                </c:pt>
                <c:pt idx="527">
                  <c:v>1.27</c:v>
                </c:pt>
                <c:pt idx="528">
                  <c:v>1.28</c:v>
                </c:pt>
                <c:pt idx="529">
                  <c:v>1.29</c:v>
                </c:pt>
                <c:pt idx="530">
                  <c:v>1.3</c:v>
                </c:pt>
                <c:pt idx="531">
                  <c:v>1.31</c:v>
                </c:pt>
                <c:pt idx="532">
                  <c:v>1.32</c:v>
                </c:pt>
                <c:pt idx="533">
                  <c:v>1.33</c:v>
                </c:pt>
                <c:pt idx="534">
                  <c:v>1.34</c:v>
                </c:pt>
                <c:pt idx="535">
                  <c:v>1.35</c:v>
                </c:pt>
                <c:pt idx="536">
                  <c:v>1.36</c:v>
                </c:pt>
                <c:pt idx="537">
                  <c:v>1.37</c:v>
                </c:pt>
                <c:pt idx="538">
                  <c:v>1.38</c:v>
                </c:pt>
                <c:pt idx="539">
                  <c:v>1.39</c:v>
                </c:pt>
                <c:pt idx="540">
                  <c:v>1.4</c:v>
                </c:pt>
                <c:pt idx="541">
                  <c:v>1.41</c:v>
                </c:pt>
                <c:pt idx="542">
                  <c:v>1.42</c:v>
                </c:pt>
                <c:pt idx="543">
                  <c:v>1.43</c:v>
                </c:pt>
                <c:pt idx="544">
                  <c:v>1.44</c:v>
                </c:pt>
                <c:pt idx="545">
                  <c:v>1.45</c:v>
                </c:pt>
                <c:pt idx="546">
                  <c:v>1.46</c:v>
                </c:pt>
                <c:pt idx="547">
                  <c:v>1.47</c:v>
                </c:pt>
                <c:pt idx="548">
                  <c:v>1.48</c:v>
                </c:pt>
                <c:pt idx="549">
                  <c:v>1.49</c:v>
                </c:pt>
                <c:pt idx="550">
                  <c:v>1.5</c:v>
                </c:pt>
                <c:pt idx="551">
                  <c:v>1.51</c:v>
                </c:pt>
                <c:pt idx="552">
                  <c:v>1.52</c:v>
                </c:pt>
                <c:pt idx="553">
                  <c:v>1.53</c:v>
                </c:pt>
                <c:pt idx="554">
                  <c:v>1.54</c:v>
                </c:pt>
                <c:pt idx="555">
                  <c:v>1.55</c:v>
                </c:pt>
                <c:pt idx="556">
                  <c:v>1.56</c:v>
                </c:pt>
                <c:pt idx="557">
                  <c:v>1.57</c:v>
                </c:pt>
                <c:pt idx="558">
                  <c:v>1.58</c:v>
                </c:pt>
                <c:pt idx="559">
                  <c:v>1.59</c:v>
                </c:pt>
                <c:pt idx="560">
                  <c:v>1.6</c:v>
                </c:pt>
                <c:pt idx="561">
                  <c:v>1.61</c:v>
                </c:pt>
                <c:pt idx="562">
                  <c:v>1.62</c:v>
                </c:pt>
                <c:pt idx="563">
                  <c:v>1.63</c:v>
                </c:pt>
                <c:pt idx="564">
                  <c:v>1.64</c:v>
                </c:pt>
                <c:pt idx="565">
                  <c:v>1.65</c:v>
                </c:pt>
                <c:pt idx="566">
                  <c:v>1.66</c:v>
                </c:pt>
                <c:pt idx="567">
                  <c:v>1.67</c:v>
                </c:pt>
                <c:pt idx="568">
                  <c:v>1.68</c:v>
                </c:pt>
                <c:pt idx="569">
                  <c:v>1.69</c:v>
                </c:pt>
                <c:pt idx="570">
                  <c:v>1.7</c:v>
                </c:pt>
                <c:pt idx="571">
                  <c:v>1.71</c:v>
                </c:pt>
                <c:pt idx="572">
                  <c:v>1.72</c:v>
                </c:pt>
                <c:pt idx="573">
                  <c:v>1.73</c:v>
                </c:pt>
                <c:pt idx="574">
                  <c:v>1.74</c:v>
                </c:pt>
                <c:pt idx="575">
                  <c:v>1.75</c:v>
                </c:pt>
                <c:pt idx="576">
                  <c:v>1.76</c:v>
                </c:pt>
                <c:pt idx="577">
                  <c:v>1.77</c:v>
                </c:pt>
                <c:pt idx="578">
                  <c:v>1.78</c:v>
                </c:pt>
                <c:pt idx="579">
                  <c:v>1.79</c:v>
                </c:pt>
                <c:pt idx="580">
                  <c:v>1.8</c:v>
                </c:pt>
                <c:pt idx="581">
                  <c:v>1.81</c:v>
                </c:pt>
                <c:pt idx="582">
                  <c:v>1.82</c:v>
                </c:pt>
                <c:pt idx="583">
                  <c:v>1.83</c:v>
                </c:pt>
                <c:pt idx="584">
                  <c:v>1.84</c:v>
                </c:pt>
                <c:pt idx="585">
                  <c:v>1.85</c:v>
                </c:pt>
                <c:pt idx="586">
                  <c:v>1.86</c:v>
                </c:pt>
                <c:pt idx="587">
                  <c:v>1.87</c:v>
                </c:pt>
                <c:pt idx="588">
                  <c:v>1.88</c:v>
                </c:pt>
                <c:pt idx="589">
                  <c:v>1.89</c:v>
                </c:pt>
                <c:pt idx="590">
                  <c:v>1.9</c:v>
                </c:pt>
                <c:pt idx="591">
                  <c:v>1.91</c:v>
                </c:pt>
                <c:pt idx="592">
                  <c:v>1.92</c:v>
                </c:pt>
                <c:pt idx="593">
                  <c:v>1.93</c:v>
                </c:pt>
                <c:pt idx="594">
                  <c:v>1.94</c:v>
                </c:pt>
                <c:pt idx="595">
                  <c:v>1.95</c:v>
                </c:pt>
                <c:pt idx="596">
                  <c:v>1.96</c:v>
                </c:pt>
                <c:pt idx="597">
                  <c:v>1.97</c:v>
                </c:pt>
                <c:pt idx="598">
                  <c:v>1.98</c:v>
                </c:pt>
                <c:pt idx="599">
                  <c:v>1.99</c:v>
                </c:pt>
                <c:pt idx="600">
                  <c:v>2</c:v>
                </c:pt>
                <c:pt idx="601">
                  <c:v>2.01</c:v>
                </c:pt>
                <c:pt idx="602">
                  <c:v>2.02</c:v>
                </c:pt>
                <c:pt idx="603">
                  <c:v>2.03</c:v>
                </c:pt>
                <c:pt idx="604">
                  <c:v>2.04</c:v>
                </c:pt>
                <c:pt idx="605">
                  <c:v>2.05</c:v>
                </c:pt>
                <c:pt idx="606">
                  <c:v>2.06</c:v>
                </c:pt>
                <c:pt idx="607">
                  <c:v>2.07</c:v>
                </c:pt>
                <c:pt idx="608">
                  <c:v>2.08</c:v>
                </c:pt>
                <c:pt idx="609">
                  <c:v>2.09</c:v>
                </c:pt>
                <c:pt idx="610">
                  <c:v>2.1</c:v>
                </c:pt>
                <c:pt idx="611">
                  <c:v>2.11</c:v>
                </c:pt>
                <c:pt idx="612">
                  <c:v>2.12</c:v>
                </c:pt>
                <c:pt idx="613">
                  <c:v>2.13</c:v>
                </c:pt>
                <c:pt idx="614">
                  <c:v>2.14</c:v>
                </c:pt>
                <c:pt idx="615">
                  <c:v>2.15</c:v>
                </c:pt>
                <c:pt idx="616">
                  <c:v>2.16</c:v>
                </c:pt>
                <c:pt idx="617">
                  <c:v>2.17</c:v>
                </c:pt>
                <c:pt idx="618">
                  <c:v>2.18</c:v>
                </c:pt>
                <c:pt idx="619">
                  <c:v>2.19</c:v>
                </c:pt>
                <c:pt idx="620">
                  <c:v>2.2</c:v>
                </c:pt>
                <c:pt idx="621">
                  <c:v>2.21</c:v>
                </c:pt>
                <c:pt idx="622">
                  <c:v>2.22</c:v>
                </c:pt>
                <c:pt idx="623">
                  <c:v>2.23</c:v>
                </c:pt>
                <c:pt idx="624">
                  <c:v>2.24</c:v>
                </c:pt>
                <c:pt idx="625">
                  <c:v>2.25</c:v>
                </c:pt>
                <c:pt idx="626">
                  <c:v>2.26</c:v>
                </c:pt>
                <c:pt idx="627">
                  <c:v>2.27</c:v>
                </c:pt>
                <c:pt idx="628">
                  <c:v>2.28</c:v>
                </c:pt>
                <c:pt idx="629">
                  <c:v>2.29</c:v>
                </c:pt>
                <c:pt idx="630">
                  <c:v>2.3</c:v>
                </c:pt>
                <c:pt idx="631">
                  <c:v>2.31</c:v>
                </c:pt>
                <c:pt idx="632">
                  <c:v>2.32</c:v>
                </c:pt>
                <c:pt idx="633">
                  <c:v>2.33</c:v>
                </c:pt>
                <c:pt idx="634">
                  <c:v>2.34</c:v>
                </c:pt>
                <c:pt idx="635">
                  <c:v>2.35</c:v>
                </c:pt>
                <c:pt idx="636">
                  <c:v>2.36</c:v>
                </c:pt>
                <c:pt idx="637">
                  <c:v>2.37</c:v>
                </c:pt>
                <c:pt idx="638">
                  <c:v>2.38</c:v>
                </c:pt>
                <c:pt idx="639">
                  <c:v>2.39</c:v>
                </c:pt>
                <c:pt idx="640">
                  <c:v>2.4</c:v>
                </c:pt>
                <c:pt idx="641">
                  <c:v>2.41</c:v>
                </c:pt>
                <c:pt idx="642">
                  <c:v>2.42</c:v>
                </c:pt>
                <c:pt idx="643">
                  <c:v>2.43</c:v>
                </c:pt>
                <c:pt idx="644">
                  <c:v>2.44</c:v>
                </c:pt>
                <c:pt idx="645">
                  <c:v>2.45</c:v>
                </c:pt>
                <c:pt idx="646">
                  <c:v>2.46</c:v>
                </c:pt>
                <c:pt idx="647">
                  <c:v>2.47</c:v>
                </c:pt>
                <c:pt idx="648">
                  <c:v>2.48</c:v>
                </c:pt>
                <c:pt idx="649">
                  <c:v>2.49</c:v>
                </c:pt>
                <c:pt idx="650">
                  <c:v>2.5</c:v>
                </c:pt>
                <c:pt idx="651">
                  <c:v>2.51</c:v>
                </c:pt>
                <c:pt idx="652">
                  <c:v>2.52</c:v>
                </c:pt>
                <c:pt idx="653">
                  <c:v>2.53</c:v>
                </c:pt>
                <c:pt idx="654">
                  <c:v>2.54</c:v>
                </c:pt>
                <c:pt idx="655">
                  <c:v>2.55</c:v>
                </c:pt>
                <c:pt idx="656">
                  <c:v>2.56</c:v>
                </c:pt>
                <c:pt idx="657">
                  <c:v>2.57</c:v>
                </c:pt>
                <c:pt idx="658">
                  <c:v>2.58</c:v>
                </c:pt>
                <c:pt idx="659">
                  <c:v>2.59</c:v>
                </c:pt>
                <c:pt idx="660">
                  <c:v>2.6</c:v>
                </c:pt>
                <c:pt idx="661">
                  <c:v>2.61</c:v>
                </c:pt>
                <c:pt idx="662">
                  <c:v>2.62</c:v>
                </c:pt>
                <c:pt idx="663">
                  <c:v>2.63</c:v>
                </c:pt>
                <c:pt idx="664">
                  <c:v>2.64</c:v>
                </c:pt>
                <c:pt idx="665">
                  <c:v>2.65</c:v>
                </c:pt>
                <c:pt idx="666">
                  <c:v>2.66</c:v>
                </c:pt>
                <c:pt idx="667">
                  <c:v>2.67</c:v>
                </c:pt>
                <c:pt idx="668">
                  <c:v>2.68</c:v>
                </c:pt>
                <c:pt idx="669">
                  <c:v>2.69</c:v>
                </c:pt>
                <c:pt idx="670">
                  <c:v>2.7</c:v>
                </c:pt>
                <c:pt idx="671">
                  <c:v>2.71</c:v>
                </c:pt>
                <c:pt idx="672">
                  <c:v>2.72</c:v>
                </c:pt>
                <c:pt idx="673">
                  <c:v>2.73</c:v>
                </c:pt>
                <c:pt idx="674">
                  <c:v>2.74</c:v>
                </c:pt>
                <c:pt idx="675">
                  <c:v>2.75</c:v>
                </c:pt>
                <c:pt idx="676">
                  <c:v>2.76</c:v>
                </c:pt>
                <c:pt idx="677">
                  <c:v>2.77</c:v>
                </c:pt>
                <c:pt idx="678">
                  <c:v>2.78</c:v>
                </c:pt>
                <c:pt idx="679">
                  <c:v>2.79</c:v>
                </c:pt>
                <c:pt idx="680">
                  <c:v>2.8</c:v>
                </c:pt>
                <c:pt idx="681">
                  <c:v>2.81</c:v>
                </c:pt>
                <c:pt idx="682">
                  <c:v>2.82</c:v>
                </c:pt>
                <c:pt idx="683">
                  <c:v>2.83</c:v>
                </c:pt>
                <c:pt idx="684">
                  <c:v>2.84</c:v>
                </c:pt>
                <c:pt idx="685">
                  <c:v>2.85</c:v>
                </c:pt>
                <c:pt idx="686">
                  <c:v>2.86</c:v>
                </c:pt>
                <c:pt idx="687">
                  <c:v>2.87</c:v>
                </c:pt>
                <c:pt idx="688">
                  <c:v>2.88</c:v>
                </c:pt>
                <c:pt idx="689">
                  <c:v>2.89</c:v>
                </c:pt>
                <c:pt idx="690">
                  <c:v>2.9</c:v>
                </c:pt>
                <c:pt idx="691">
                  <c:v>2.91</c:v>
                </c:pt>
                <c:pt idx="692">
                  <c:v>2.92</c:v>
                </c:pt>
                <c:pt idx="693">
                  <c:v>2.93</c:v>
                </c:pt>
                <c:pt idx="694">
                  <c:v>2.94</c:v>
                </c:pt>
                <c:pt idx="695">
                  <c:v>2.95</c:v>
                </c:pt>
                <c:pt idx="696">
                  <c:v>2.96</c:v>
                </c:pt>
                <c:pt idx="697">
                  <c:v>2.97</c:v>
                </c:pt>
                <c:pt idx="698">
                  <c:v>2.98</c:v>
                </c:pt>
                <c:pt idx="699">
                  <c:v>2.99</c:v>
                </c:pt>
                <c:pt idx="700">
                  <c:v>3</c:v>
                </c:pt>
                <c:pt idx="701">
                  <c:v>3.01</c:v>
                </c:pt>
                <c:pt idx="702">
                  <c:v>3.02</c:v>
                </c:pt>
                <c:pt idx="703">
                  <c:v>3.03</c:v>
                </c:pt>
                <c:pt idx="704">
                  <c:v>3.04</c:v>
                </c:pt>
                <c:pt idx="705">
                  <c:v>3.05</c:v>
                </c:pt>
                <c:pt idx="706">
                  <c:v>3.06</c:v>
                </c:pt>
                <c:pt idx="707">
                  <c:v>3.07</c:v>
                </c:pt>
                <c:pt idx="708">
                  <c:v>3.08</c:v>
                </c:pt>
                <c:pt idx="709">
                  <c:v>3.09</c:v>
                </c:pt>
                <c:pt idx="710">
                  <c:v>3.1</c:v>
                </c:pt>
                <c:pt idx="711">
                  <c:v>3.11</c:v>
                </c:pt>
                <c:pt idx="712">
                  <c:v>3.12</c:v>
                </c:pt>
                <c:pt idx="713">
                  <c:v>3.13</c:v>
                </c:pt>
                <c:pt idx="714">
                  <c:v>3.14</c:v>
                </c:pt>
                <c:pt idx="715">
                  <c:v>3.15</c:v>
                </c:pt>
                <c:pt idx="716">
                  <c:v>3.16</c:v>
                </c:pt>
                <c:pt idx="717">
                  <c:v>3.17</c:v>
                </c:pt>
                <c:pt idx="718">
                  <c:v>3.18</c:v>
                </c:pt>
                <c:pt idx="719">
                  <c:v>3.19</c:v>
                </c:pt>
                <c:pt idx="720">
                  <c:v>3.2</c:v>
                </c:pt>
                <c:pt idx="721">
                  <c:v>3.21</c:v>
                </c:pt>
                <c:pt idx="722">
                  <c:v>3.22</c:v>
                </c:pt>
                <c:pt idx="723">
                  <c:v>3.23</c:v>
                </c:pt>
                <c:pt idx="724">
                  <c:v>3.24</c:v>
                </c:pt>
                <c:pt idx="725">
                  <c:v>3.25</c:v>
                </c:pt>
                <c:pt idx="726">
                  <c:v>3.26</c:v>
                </c:pt>
                <c:pt idx="727">
                  <c:v>3.27</c:v>
                </c:pt>
                <c:pt idx="728">
                  <c:v>3.28</c:v>
                </c:pt>
                <c:pt idx="729">
                  <c:v>3.29</c:v>
                </c:pt>
                <c:pt idx="730">
                  <c:v>3.3</c:v>
                </c:pt>
                <c:pt idx="731">
                  <c:v>3.31</c:v>
                </c:pt>
                <c:pt idx="732">
                  <c:v>3.32</c:v>
                </c:pt>
                <c:pt idx="733">
                  <c:v>3.33</c:v>
                </c:pt>
                <c:pt idx="734">
                  <c:v>3.34</c:v>
                </c:pt>
                <c:pt idx="735">
                  <c:v>3.35</c:v>
                </c:pt>
                <c:pt idx="736">
                  <c:v>3.36</c:v>
                </c:pt>
                <c:pt idx="737">
                  <c:v>3.37</c:v>
                </c:pt>
                <c:pt idx="738">
                  <c:v>3.38</c:v>
                </c:pt>
                <c:pt idx="739">
                  <c:v>3.39</c:v>
                </c:pt>
                <c:pt idx="740">
                  <c:v>3.4</c:v>
                </c:pt>
                <c:pt idx="741">
                  <c:v>3.41</c:v>
                </c:pt>
                <c:pt idx="742">
                  <c:v>3.42</c:v>
                </c:pt>
                <c:pt idx="743">
                  <c:v>3.43</c:v>
                </c:pt>
                <c:pt idx="744">
                  <c:v>3.44</c:v>
                </c:pt>
                <c:pt idx="745">
                  <c:v>3.45</c:v>
                </c:pt>
                <c:pt idx="746">
                  <c:v>3.46</c:v>
                </c:pt>
                <c:pt idx="747">
                  <c:v>3.47</c:v>
                </c:pt>
                <c:pt idx="748">
                  <c:v>3.48</c:v>
                </c:pt>
                <c:pt idx="749">
                  <c:v>3.49</c:v>
                </c:pt>
                <c:pt idx="750">
                  <c:v>3.5</c:v>
                </c:pt>
                <c:pt idx="751">
                  <c:v>3.51</c:v>
                </c:pt>
                <c:pt idx="752">
                  <c:v>3.52</c:v>
                </c:pt>
                <c:pt idx="753">
                  <c:v>3.53</c:v>
                </c:pt>
                <c:pt idx="754">
                  <c:v>3.54</c:v>
                </c:pt>
                <c:pt idx="755">
                  <c:v>3.55</c:v>
                </c:pt>
                <c:pt idx="756">
                  <c:v>3.56</c:v>
                </c:pt>
                <c:pt idx="757">
                  <c:v>3.57</c:v>
                </c:pt>
                <c:pt idx="758">
                  <c:v>3.58</c:v>
                </c:pt>
                <c:pt idx="759">
                  <c:v>3.59</c:v>
                </c:pt>
                <c:pt idx="760">
                  <c:v>3.6</c:v>
                </c:pt>
                <c:pt idx="761">
                  <c:v>3.61</c:v>
                </c:pt>
                <c:pt idx="762">
                  <c:v>3.62</c:v>
                </c:pt>
                <c:pt idx="763">
                  <c:v>3.63</c:v>
                </c:pt>
                <c:pt idx="764">
                  <c:v>3.64</c:v>
                </c:pt>
                <c:pt idx="765">
                  <c:v>3.65</c:v>
                </c:pt>
                <c:pt idx="766">
                  <c:v>3.66</c:v>
                </c:pt>
                <c:pt idx="767">
                  <c:v>3.67</c:v>
                </c:pt>
                <c:pt idx="768">
                  <c:v>3.68</c:v>
                </c:pt>
                <c:pt idx="769">
                  <c:v>3.69</c:v>
                </c:pt>
                <c:pt idx="770">
                  <c:v>3.7</c:v>
                </c:pt>
                <c:pt idx="771">
                  <c:v>3.71</c:v>
                </c:pt>
                <c:pt idx="772">
                  <c:v>3.72</c:v>
                </c:pt>
                <c:pt idx="773">
                  <c:v>3.73</c:v>
                </c:pt>
                <c:pt idx="774">
                  <c:v>3.74</c:v>
                </c:pt>
                <c:pt idx="775">
                  <c:v>3.75</c:v>
                </c:pt>
                <c:pt idx="776">
                  <c:v>3.76</c:v>
                </c:pt>
                <c:pt idx="777">
                  <c:v>3.77</c:v>
                </c:pt>
                <c:pt idx="778">
                  <c:v>3.78</c:v>
                </c:pt>
                <c:pt idx="779">
                  <c:v>3.79</c:v>
                </c:pt>
                <c:pt idx="780">
                  <c:v>3.8</c:v>
                </c:pt>
                <c:pt idx="781">
                  <c:v>3.81</c:v>
                </c:pt>
                <c:pt idx="782">
                  <c:v>3.82</c:v>
                </c:pt>
                <c:pt idx="783">
                  <c:v>3.83</c:v>
                </c:pt>
                <c:pt idx="784">
                  <c:v>3.84</c:v>
                </c:pt>
                <c:pt idx="785">
                  <c:v>3.85</c:v>
                </c:pt>
                <c:pt idx="786">
                  <c:v>3.86</c:v>
                </c:pt>
                <c:pt idx="787">
                  <c:v>3.87</c:v>
                </c:pt>
                <c:pt idx="788">
                  <c:v>3.88</c:v>
                </c:pt>
                <c:pt idx="789">
                  <c:v>3.89</c:v>
                </c:pt>
                <c:pt idx="790">
                  <c:v>3.9</c:v>
                </c:pt>
                <c:pt idx="791">
                  <c:v>3.91</c:v>
                </c:pt>
                <c:pt idx="792">
                  <c:v>3.92</c:v>
                </c:pt>
                <c:pt idx="793">
                  <c:v>3.93</c:v>
                </c:pt>
                <c:pt idx="794">
                  <c:v>3.94</c:v>
                </c:pt>
                <c:pt idx="795">
                  <c:v>3.95</c:v>
                </c:pt>
                <c:pt idx="796">
                  <c:v>3.96</c:v>
                </c:pt>
                <c:pt idx="797">
                  <c:v>3.97</c:v>
                </c:pt>
                <c:pt idx="798">
                  <c:v>3.98</c:v>
                </c:pt>
                <c:pt idx="799">
                  <c:v>3.99</c:v>
                </c:pt>
                <c:pt idx="800">
                  <c:v>4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801"/>
                <c:pt idx="0">
                  <c:v>0.00390625</c:v>
                </c:pt>
                <c:pt idx="1">
                  <c:v>0.00394555786669014</c:v>
                </c:pt>
                <c:pt idx="2">
                  <c:v>0.00398536141426298</c:v>
                </c:pt>
                <c:pt idx="3">
                  <c:v>0.00402566816244612</c:v>
                </c:pt>
                <c:pt idx="4">
                  <c:v>0.00406648576439538</c:v>
                </c:pt>
                <c:pt idx="5">
                  <c:v>0.00410782200940737</c:v>
                </c:pt>
                <c:pt idx="6">
                  <c:v>0.00414968482569432</c:v>
                </c:pt>
                <c:pt idx="7">
                  <c:v>0.00419208228322264</c:v>
                </c:pt>
                <c:pt idx="8">
                  <c:v>0.00423502259661695</c:v>
                </c:pt>
                <c:pt idx="9">
                  <c:v>0.0042785141281312</c:v>
                </c:pt>
                <c:pt idx="10">
                  <c:v>0.00432256539068859</c:v>
                </c:pt>
                <c:pt idx="11">
                  <c:v>0.00436718505099214</c:v>
                </c:pt>
                <c:pt idx="12">
                  <c:v>0.00441238193270767</c:v>
                </c:pt>
                <c:pt idx="13">
                  <c:v>0.00445816501972102</c:v>
                </c:pt>
                <c:pt idx="14">
                  <c:v>0.00450454345947169</c:v>
                </c:pt>
                <c:pt idx="15">
                  <c:v>0.00455152656636449</c:v>
                </c:pt>
                <c:pt idx="16">
                  <c:v>0.00459912382526162</c:v>
                </c:pt>
                <c:pt idx="17">
                  <c:v>0.00464734489505711</c:v>
                </c:pt>
                <c:pt idx="18">
                  <c:v>0.00469619961233571</c:v>
                </c:pt>
                <c:pt idx="19">
                  <c:v>0.00474569799511868</c:v>
                </c:pt>
                <c:pt idx="20">
                  <c:v>0.00479585024669854</c:v>
                </c:pt>
                <c:pt idx="21">
                  <c:v>0.00484666675956531</c:v>
                </c:pt>
                <c:pt idx="22">
                  <c:v>0.0048981581194266</c:v>
                </c:pt>
                <c:pt idx="23">
                  <c:v>0.00495033510932396</c:v>
                </c:pt>
                <c:pt idx="24">
                  <c:v>0.0050032087138483</c:v>
                </c:pt>
                <c:pt idx="25">
                  <c:v>0.00505679012345679</c:v>
                </c:pt>
                <c:pt idx="26">
                  <c:v>0.00511109073889404</c:v>
                </c:pt>
                <c:pt idx="27">
                  <c:v>0.00516612217572047</c:v>
                </c:pt>
                <c:pt idx="28">
                  <c:v>0.00522189626895061</c:v>
                </c:pt>
                <c:pt idx="29">
                  <c:v>0.00527842507780439</c:v>
                </c:pt>
                <c:pt idx="30">
                  <c:v>0.0053357208905745</c:v>
                </c:pt>
                <c:pt idx="31">
                  <c:v>0.00539379622961293</c:v>
                </c:pt>
                <c:pt idx="32">
                  <c:v>0.00545266385643991</c:v>
                </c:pt>
                <c:pt idx="33">
                  <c:v>0.00551233677697874</c:v>
                </c:pt>
                <c:pt idx="34">
                  <c:v>0.00557282824691981</c:v>
                </c:pt>
                <c:pt idx="35">
                  <c:v>0.00563415177721747</c:v>
                </c:pt>
                <c:pt idx="36">
                  <c:v>0.00569632113972329</c:v>
                </c:pt>
                <c:pt idx="37">
                  <c:v>0.00575935037295967</c:v>
                </c:pt>
                <c:pt idx="38">
                  <c:v>0.00582325378803754</c:v>
                </c:pt>
                <c:pt idx="39">
                  <c:v>0.00588804597472215</c:v>
                </c:pt>
                <c:pt idx="40">
                  <c:v>0.00595374180765127</c:v>
                </c:pt>
                <c:pt idx="41">
                  <c:v>0.00602035645270978</c:v>
                </c:pt>
                <c:pt idx="42">
                  <c:v>0.00608790537356527</c:v>
                </c:pt>
                <c:pt idx="43">
                  <c:v>0.00615640433836911</c:v>
                </c:pt>
                <c:pt idx="44">
                  <c:v>0.00622586942662759</c:v>
                </c:pt>
                <c:pt idx="45">
                  <c:v>0.00629631703624802</c:v>
                </c:pt>
                <c:pt idx="46">
                  <c:v>0.0063677638907647</c:v>
                </c:pt>
                <c:pt idx="47">
                  <c:v>0.00644022704675</c:v>
                </c:pt>
                <c:pt idx="48">
                  <c:v>0.00651372390141555</c:v>
                </c:pt>
                <c:pt idx="49">
                  <c:v>0.00658827220040937</c:v>
                </c:pt>
                <c:pt idx="50">
                  <c:v>0.00666389004581424</c:v>
                </c:pt>
                <c:pt idx="51">
                  <c:v>0.00674059590435322</c:v>
                </c:pt>
                <c:pt idx="52">
                  <c:v>0.00681840861580833</c:v>
                </c:pt>
                <c:pt idx="53">
                  <c:v>0.00689734740165851</c:v>
                </c:pt>
                <c:pt idx="54">
                  <c:v>0.00697743187394325</c:v>
                </c:pt>
                <c:pt idx="55">
                  <c:v>0.00705868204435843</c:v>
                </c:pt>
                <c:pt idx="56">
                  <c:v>0.00714111833359122</c:v>
                </c:pt>
                <c:pt idx="57">
                  <c:v>0.00722476158090089</c:v>
                </c:pt>
                <c:pt idx="58">
                  <c:v>0.00730963305395296</c:v>
                </c:pt>
                <c:pt idx="59">
                  <c:v>0.00739575445891399</c:v>
                </c:pt>
                <c:pt idx="60">
                  <c:v>0.00748314795081477</c:v>
                </c:pt>
                <c:pt idx="61">
                  <c:v>0.00757183614418983</c:v>
                </c:pt>
                <c:pt idx="62">
                  <c:v>0.00766184212400161</c:v>
                </c:pt>
                <c:pt idx="63">
                  <c:v>0.00775318945685748</c:v>
                </c:pt>
                <c:pt idx="64">
                  <c:v>0.00784590220252878</c:v>
                </c:pt>
                <c:pt idx="65">
                  <c:v>0.00794000492578056</c:v>
                </c:pt>
                <c:pt idx="66">
                  <c:v>0.00803552270852153</c:v>
                </c:pt>
                <c:pt idx="67">
                  <c:v>0.00813248116228395</c:v>
                </c:pt>
                <c:pt idx="68">
                  <c:v>0.00823090644104329</c:v>
                </c:pt>
                <c:pt idx="69">
                  <c:v>0.00833082525438801</c:v>
                </c:pt>
                <c:pt idx="70">
                  <c:v>0.00843226488105026</c:v>
                </c:pt>
                <c:pt idx="71">
                  <c:v>0.00853525318280827</c:v>
                </c:pt>
                <c:pt idx="72">
                  <c:v>0.00863981861877207</c:v>
                </c:pt>
                <c:pt idx="73">
                  <c:v>0.00874599026006416</c:v>
                </c:pt>
                <c:pt idx="74">
                  <c:v>0.00885379780490724</c:v>
                </c:pt>
                <c:pt idx="75">
                  <c:v>0.00896327159413186</c:v>
                </c:pt>
                <c:pt idx="76">
                  <c:v>0.00907444262711671</c:v>
                </c:pt>
                <c:pt idx="77">
                  <c:v>0.00918734257817514</c:v>
                </c:pt>
                <c:pt idx="78">
                  <c:v>0.00930200381340186</c:v>
                </c:pt>
                <c:pt idx="79">
                  <c:v>0.00941845940799414</c:v>
                </c:pt>
                <c:pt idx="80">
                  <c:v>0.0095367431640625</c:v>
                </c:pt>
                <c:pt idx="81">
                  <c:v>0.00965688962894622</c:v>
                </c:pt>
                <c:pt idx="82">
                  <c:v>0.00977893411404964</c:v>
                </c:pt>
                <c:pt idx="83">
                  <c:v>0.00990291271421586</c:v>
                </c:pt>
                <c:pt idx="84">
                  <c:v>0.0100288623276547</c:v>
                </c:pt>
                <c:pt idx="85">
                  <c:v>0.010156820676443</c:v>
                </c:pt>
                <c:pt idx="86">
                  <c:v>0.0102868263276148</c:v>
                </c:pt>
                <c:pt idx="87">
                  <c:v>0.0104189187148616</c:v>
                </c:pt>
                <c:pt idx="88">
                  <c:v>0.0105531381608608</c:v>
                </c:pt>
                <c:pt idx="89">
                  <c:v>0.0106895259002542</c:v>
                </c:pt>
                <c:pt idx="90">
                  <c:v>0.010828124103296</c:v>
                </c:pt>
                <c:pt idx="91">
                  <c:v>0.0109689759001937</c:v>
                </c:pt>
                <c:pt idx="92">
                  <c:v>0.0111121254061633</c:v>
                </c:pt>
                <c:pt idx="93">
                  <c:v>0.0112576177472226</c:v>
                </c:pt>
                <c:pt idx="94">
                  <c:v>0.0114054990867471</c:v>
                </c:pt>
                <c:pt idx="95">
                  <c:v>0.0115558166528129</c:v>
                </c:pt>
                <c:pt idx="96">
                  <c:v>0.0117086187663538</c:v>
                </c:pt>
                <c:pt idx="97">
                  <c:v>0.0118639548701582</c:v>
                </c:pt>
                <c:pt idx="98">
                  <c:v>0.0120218755587347</c:v>
                </c:pt>
                <c:pt idx="99">
                  <c:v>0.0121824326090752</c:v>
                </c:pt>
                <c:pt idx="100">
                  <c:v>0.0123456790123457</c:v>
                </c:pt>
                <c:pt idx="101">
                  <c:v>0.012511669006535</c:v>
                </c:pt>
                <c:pt idx="102">
                  <c:v>0.0126804581100955</c:v>
                </c:pt>
                <c:pt idx="103">
                  <c:v>0.0128521031566076</c:v>
                </c:pt>
                <c:pt idx="104">
                  <c:v>0.0130266623305042</c:v>
                </c:pt>
                <c:pt idx="105">
                  <c:v>0.0132041952038897</c:v>
                </c:pt>
                <c:pt idx="106">
                  <c:v>0.0133847627744931</c:v>
                </c:pt>
                <c:pt idx="107">
                  <c:v>0.0135684275047916</c:v>
                </c:pt>
                <c:pt idx="108">
                  <c:v>0.0137552533623473</c:v>
                </c:pt>
                <c:pt idx="109">
                  <c:v>0.0139453058613971</c:v>
                </c:pt>
                <c:pt idx="110">
                  <c:v>0.0141386521057402</c:v>
                </c:pt>
                <c:pt idx="111">
                  <c:v>0.0143353608329685</c:v>
                </c:pt>
                <c:pt idx="112">
                  <c:v>0.0145355024600861</c:v>
                </c:pt>
                <c:pt idx="113">
                  <c:v>0.0147391491305666</c:v>
                </c:pt>
                <c:pt idx="114">
                  <c:v>0.0149463747628994</c:v>
                </c:pt>
                <c:pt idx="115">
                  <c:v>0.0151572551006769</c:v>
                </c:pt>
                <c:pt idx="116">
                  <c:v>0.0153718677642774</c:v>
                </c:pt>
                <c:pt idx="117">
                  <c:v>0.0155902923042004</c:v>
                </c:pt>
                <c:pt idx="118">
                  <c:v>0.0158126102561132</c:v>
                </c:pt>
                <c:pt idx="119">
                  <c:v>0.0160389051976692</c:v>
                </c:pt>
                <c:pt idx="120">
                  <c:v>0.0162692628071637</c:v>
                </c:pt>
                <c:pt idx="121">
                  <c:v>0.0165037709240908</c:v>
                </c:pt>
                <c:pt idx="122">
                  <c:v>0.0167425196116718</c:v>
                </c:pt>
                <c:pt idx="123">
                  <c:v>0.0169856012214262</c:v>
                </c:pt>
                <c:pt idx="124">
                  <c:v>0.0172331104598595</c:v>
                </c:pt>
                <c:pt idx="125">
                  <c:v>0.0174851444573458</c:v>
                </c:pt>
                <c:pt idx="126">
                  <c:v>0.0177418028392851</c:v>
                </c:pt>
                <c:pt idx="127">
                  <c:v>0.0180031877996193</c:v>
                </c:pt>
                <c:pt idx="128">
                  <c:v>0.0182694041767939</c:v>
                </c:pt>
                <c:pt idx="129">
                  <c:v>0.018540559532257</c:v>
                </c:pt>
                <c:pt idx="130">
                  <c:v>0.0188167642315892</c:v>
                </c:pt>
                <c:pt idx="131">
                  <c:v>0.0190981315283624</c:v>
                </c:pt>
                <c:pt idx="132">
                  <c:v>0.0193847776508314</c:v>
                </c:pt>
                <c:pt idx="133">
                  <c:v>0.0196768218915637</c:v>
                </c:pt>
                <c:pt idx="134">
                  <c:v>0.0199743867001189</c:v>
                </c:pt>
                <c:pt idx="135">
                  <c:v>0.0202775977788933</c:v>
                </c:pt>
                <c:pt idx="136">
                  <c:v>0.0205865841822516</c:v>
                </c:pt>
                <c:pt idx="137">
                  <c:v>0.0209014784190686</c:v>
                </c:pt>
                <c:pt idx="138">
                  <c:v>0.0212224165588146</c:v>
                </c:pt>
                <c:pt idx="139">
                  <c:v>0.0215495383413202</c:v>
                </c:pt>
                <c:pt idx="140">
                  <c:v>0.021882987290361</c:v>
                </c:pt>
                <c:pt idx="141">
                  <c:v>0.0222229108312141</c:v>
                </c:pt>
                <c:pt idx="142">
                  <c:v>0.0225694604123377</c:v>
                </c:pt>
                <c:pt idx="143">
                  <c:v>0.0229227916313374</c:v>
                </c:pt>
                <c:pt idx="144">
                  <c:v>0.023283064365387</c:v>
                </c:pt>
                <c:pt idx="145">
                  <c:v>0.0236504429062788</c:v>
                </c:pt>
                <c:pt idx="146">
                  <c:v>0.0240250961002883</c:v>
                </c:pt>
                <c:pt idx="147">
                  <c:v>0.0244071974930432</c:v>
                </c:pt>
                <c:pt idx="148">
                  <c:v>0.0247969254795971</c:v>
                </c:pt>
                <c:pt idx="149">
                  <c:v>0.0251944634599168</c:v>
                </c:pt>
                <c:pt idx="150">
                  <c:v>0.0256</c:v>
                </c:pt>
                <c:pt idx="151">
                  <c:v>0.0260137289988529</c:v>
                </c:pt>
                <c:pt idx="152">
                  <c:v>0.0264358498615624</c:v>
                </c:pt>
                <c:pt idx="153">
                  <c:v>0.0268665676787146</c:v>
                </c:pt>
                <c:pt idx="154">
                  <c:v>0.0273060934124155</c:v>
                </c:pt>
                <c:pt idx="155">
                  <c:v>0.0277546440891888</c:v>
                </c:pt>
                <c:pt idx="156">
                  <c:v>0.0282124430000316</c:v>
                </c:pt>
                <c:pt idx="157">
                  <c:v>0.0286797199079244</c:v>
                </c:pt>
                <c:pt idx="158">
                  <c:v>0.0291567112631083</c:v>
                </c:pt>
                <c:pt idx="159">
                  <c:v>0.0296436604264498</c:v>
                </c:pt>
                <c:pt idx="160">
                  <c:v>0.0301408179012346</c:v>
                </c:pt>
                <c:pt idx="161">
                  <c:v>0.0306484415737454</c:v>
                </c:pt>
                <c:pt idx="162">
                  <c:v>0.0311667969629936</c:v>
                </c:pt>
                <c:pt idx="163">
                  <c:v>0.0316961574799952</c:v>
                </c:pt>
                <c:pt idx="164">
                  <c:v>0.0322368046969963</c:v>
                </c:pt>
                <c:pt idx="165">
                  <c:v>0.0327890286270763</c:v>
                </c:pt>
                <c:pt idx="166">
                  <c:v>0.0333531280145725</c:v>
                </c:pt>
                <c:pt idx="167">
                  <c:v>0.0339294106367965</c:v>
                </c:pt>
                <c:pt idx="168">
                  <c:v>0.0345181936175297</c:v>
                </c:pt>
                <c:pt idx="169">
                  <c:v>0.0351198037528124</c:v>
                </c:pt>
                <c:pt idx="170">
                  <c:v>0.0357345778495646</c:v>
                </c:pt>
                <c:pt idx="171">
                  <c:v>0.0363628630776016</c:v>
                </c:pt>
                <c:pt idx="172">
                  <c:v>0.0370050173356368</c:v>
                </c:pt>
                <c:pt idx="173">
                  <c:v>0.0376614096318914</c:v>
                </c:pt>
                <c:pt idx="174">
                  <c:v>0.0383324204799611</c:v>
                </c:pt>
                <c:pt idx="175">
                  <c:v>0.0390184423106234</c:v>
                </c:pt>
                <c:pt idx="176">
                  <c:v>0.039719879900302</c:v>
                </c:pt>
                <c:pt idx="177">
                  <c:v>0.0404371508169384</c:v>
                </c:pt>
                <c:pt idx="178">
                  <c:v>0.0411706858840625</c:v>
                </c:pt>
                <c:pt idx="179">
                  <c:v>0.04192092966389</c:v>
                </c:pt>
                <c:pt idx="180">
                  <c:v>0.0426883409603169</c:v>
                </c:pt>
                <c:pt idx="181">
                  <c:v>0.0434733933427274</c:v>
                </c:pt>
                <c:pt idx="182">
                  <c:v>0.0442765756915748</c:v>
                </c:pt>
                <c:pt idx="183">
                  <c:v>0.0450983927667471</c:v>
                </c:pt>
                <c:pt idx="184">
                  <c:v>0.0459393657997783</c:v>
                </c:pt>
                <c:pt idx="185">
                  <c:v>0.0468000331110234</c:v>
                </c:pt>
                <c:pt idx="186">
                  <c:v>0.0476809507529704</c:v>
                </c:pt>
                <c:pt idx="187">
                  <c:v>0.0485826931809261</c:v>
                </c:pt>
                <c:pt idx="188">
                  <c:v>0.0495058539523763</c:v>
                </c:pt>
                <c:pt idx="189">
                  <c:v>0.0504510464563876</c:v>
                </c:pt>
                <c:pt idx="190">
                  <c:v>0.0514189046744927</c:v>
                </c:pt>
                <c:pt idx="191">
                  <c:v>0.0524100839745759</c:v>
                </c:pt>
                <c:pt idx="192">
                  <c:v>0.0534252619393579</c:v>
                </c:pt>
                <c:pt idx="193">
                  <c:v>0.0544651392311607</c:v>
                </c:pt>
                <c:pt idx="194">
                  <c:v>0.0555304404947306</c:v>
                </c:pt>
                <c:pt idx="195">
                  <c:v>0.0566219152999847</c:v>
                </c:pt>
                <c:pt idx="196">
                  <c:v>0.0577403391266571</c:v>
                </c:pt>
                <c:pt idx="197">
                  <c:v>0.0588865143929202</c:v>
                </c:pt>
                <c:pt idx="198">
                  <c:v>0.060061271530176</c:v>
                </c:pt>
                <c:pt idx="199">
                  <c:v>0.0612654701063315</c:v>
                </c:pt>
                <c:pt idx="201">
                  <c:v>0.0637657826282077</c:v>
                </c:pt>
                <c:pt idx="202">
                  <c:v>0.0650637722303261</c:v>
                </c:pt>
                <c:pt idx="203">
                  <c:v>0.0663949572111092</c:v>
                </c:pt>
                <c:pt idx="204">
                  <c:v>0.0677603615458712</c:v>
                </c:pt>
                <c:pt idx="205">
                  <c:v>0.0691610462510174</c:v>
                </c:pt>
                <c:pt idx="206">
                  <c:v>0.0705981109233227</c:v>
                </c:pt>
                <c:pt idx="207">
                  <c:v>0.072072695351547</c:v>
                </c:pt>
                <c:pt idx="208">
                  <c:v>0.073585981204186</c:v>
                </c:pt>
                <c:pt idx="209">
                  <c:v>0.0751391937973713</c:v>
                </c:pt>
                <c:pt idx="210">
                  <c:v>0.0767336039471766</c:v>
                </c:pt>
                <c:pt idx="211">
                  <c:v>0.0783705299108255</c:v>
                </c:pt>
                <c:pt idx="212">
                  <c:v>0.0800513394215729</c:v>
                </c:pt>
                <c:pt idx="213">
                  <c:v>0.0817774518223046</c:v>
                </c:pt>
                <c:pt idx="214">
                  <c:v>0.0835503403032097</c:v>
                </c:pt>
                <c:pt idx="215">
                  <c:v>0.085371534249192</c:v>
                </c:pt>
                <c:pt idx="216">
                  <c:v>0.0872426217030385</c:v>
                </c:pt>
                <c:pt idx="217">
                  <c:v>0.089165251950717</c:v>
                </c:pt>
                <c:pt idx="218">
                  <c:v>0.0911411382355726</c:v>
                </c:pt>
                <c:pt idx="219">
                  <c:v>0.0931720606086006</c:v>
                </c:pt>
                <c:pt idx="220">
                  <c:v>0.0952598689224204</c:v>
                </c:pt>
                <c:pt idx="221">
                  <c:v>0.0974064859770443</c:v>
                </c:pt>
                <c:pt idx="222">
                  <c:v>0.0996139108260415</c:v>
                </c:pt>
                <c:pt idx="223">
                  <c:v>0.101884222252235</c:v>
                </c:pt>
                <c:pt idx="224">
                  <c:v>0.104219582422649</c:v>
                </c:pt>
                <c:pt idx="225">
                  <c:v>0.106622240733028</c:v>
                </c:pt>
                <c:pt idx="226">
                  <c:v>0.109094537852933</c:v>
                </c:pt>
                <c:pt idx="227">
                  <c:v>0.111638909983092</c:v>
                </c:pt>
                <c:pt idx="228">
                  <c:v>0.11425789333746</c:v>
                </c:pt>
                <c:pt idx="229">
                  <c:v>0.116954128863247</c:v>
                </c:pt>
                <c:pt idx="230">
                  <c:v>0.119730367213036</c:v>
                </c:pt>
                <c:pt idx="231">
                  <c:v>0.122589473984026</c:v>
                </c:pt>
                <c:pt idx="232">
                  <c:v>0.12553443524046</c:v>
                </c:pt>
                <c:pt idx="233">
                  <c:v>0.128568363336344</c:v>
                </c:pt>
                <c:pt idx="234">
                  <c:v>0.131694503056693</c:v>
                </c:pt>
                <c:pt idx="235">
                  <c:v>0.134916238096804</c:v>
                </c:pt>
                <c:pt idx="236">
                  <c:v>0.138237097900353</c:v>
                </c:pt>
                <c:pt idx="237">
                  <c:v>0.141660764878516</c:v>
                </c:pt>
                <c:pt idx="238">
                  <c:v>0.145191082033867</c:v>
                </c:pt>
                <c:pt idx="239">
                  <c:v>0.14883206101443</c:v>
                </c:pt>
                <c:pt idx="240">
                  <c:v>0.152587890625</c:v>
                </c:pt>
                <c:pt idx="241">
                  <c:v>0.156462945824794</c:v>
                </c:pt>
                <c:pt idx="242">
                  <c:v>0.160461797242476</c:v>
                </c:pt>
                <c:pt idx="243">
                  <c:v>0.164589221241837</c:v>
                </c:pt>
                <c:pt idx="244">
                  <c:v>0.168850210573773</c:v>
                </c:pt>
                <c:pt idx="245">
                  <c:v>0.173249985652736</c:v>
                </c:pt>
                <c:pt idx="246">
                  <c:v>0.177794006498613</c:v>
                </c:pt>
                <c:pt idx="247">
                  <c:v>0.182487985387954</c:v>
                </c:pt>
                <c:pt idx="248">
                  <c:v>0.187337900261662</c:v>
                </c:pt>
                <c:pt idx="249">
                  <c:v>0.192350008939755</c:v>
                </c:pt>
                <c:pt idx="250">
                  <c:v>0.197530864197531</c:v>
                </c:pt>
                <c:pt idx="251">
                  <c:v>0.202887329761528</c:v>
                </c:pt>
                <c:pt idx="252">
                  <c:v>0.208426597288067</c:v>
                </c:pt>
                <c:pt idx="253">
                  <c:v>0.214156204391889</c:v>
                </c:pt>
                <c:pt idx="254">
                  <c:v>0.220084053797557</c:v>
                </c:pt>
                <c:pt idx="255">
                  <c:v>0.226218433691843</c:v>
                </c:pt>
                <c:pt idx="256">
                  <c:v>0.232568039361378</c:v>
                </c:pt>
                <c:pt idx="257">
                  <c:v>0.23914199620639</c:v>
                </c:pt>
                <c:pt idx="258">
                  <c:v>0.245949884228438</c:v>
                </c:pt>
                <c:pt idx="259">
                  <c:v>0.25300176409781</c:v>
                </c:pt>
                <c:pt idx="260">
                  <c:v>0.260308204914619</c:v>
                </c:pt>
                <c:pt idx="261">
                  <c:v>0.267880313786749</c:v>
                </c:pt>
                <c:pt idx="262">
                  <c:v>0.275729767357751</c:v>
                </c:pt>
                <c:pt idx="263">
                  <c:v>0.283868845428562</c:v>
                </c:pt>
                <c:pt idx="264">
                  <c:v>0.292310466828702</c:v>
                </c:pt>
                <c:pt idx="265">
                  <c:v>0.301068227705427</c:v>
                </c:pt>
                <c:pt idx="266">
                  <c:v>0.310156442413303</c:v>
                </c:pt>
                <c:pt idx="267">
                  <c:v>0.319590187201902</c:v>
                </c:pt>
                <c:pt idx="268">
                  <c:v>0.329385346916026</c:v>
                </c:pt>
                <c:pt idx="269">
                  <c:v>0.339558664941034</c:v>
                </c:pt>
                <c:pt idx="270">
                  <c:v>0.350127796645776</c:v>
                </c:pt>
                <c:pt idx="271">
                  <c:v>0.361111366597403</c:v>
                </c:pt>
                <c:pt idx="272">
                  <c:v>0.372529029846192</c:v>
                </c:pt>
                <c:pt idx="273">
                  <c:v>0.384401537604613</c:v>
                </c:pt>
                <c:pt idx="274">
                  <c:v>0.396750807673554</c:v>
                </c:pt>
                <c:pt idx="275">
                  <c:v>0.4096</c:v>
                </c:pt>
                <c:pt idx="276">
                  <c:v>0.422973597784999</c:v>
                </c:pt>
                <c:pt idx="277">
                  <c:v>0.436897494598647</c:v>
                </c:pt>
                <c:pt idx="278">
                  <c:v>0.451399088000505</c:v>
                </c:pt>
                <c:pt idx="279">
                  <c:v>0.466507380209734</c:v>
                </c:pt>
                <c:pt idx="280">
                  <c:v>0.482253086419754</c:v>
                </c:pt>
                <c:pt idx="281">
                  <c:v>0.498668751407898</c:v>
                </c:pt>
                <c:pt idx="282">
                  <c:v>0.515788875151941</c:v>
                </c:pt>
                <c:pt idx="283">
                  <c:v>0.533650048233159</c:v>
                </c:pt>
                <c:pt idx="284">
                  <c:v>0.552291097880474</c:v>
                </c:pt>
                <c:pt idx="285">
                  <c:v>0.571753245593033</c:v>
                </c:pt>
                <c:pt idx="286">
                  <c:v>0.592080277370189</c:v>
                </c:pt>
                <c:pt idx="287">
                  <c:v>0.613318727679377</c:v>
                </c:pt>
                <c:pt idx="288">
                  <c:v>0.635518078404831</c:v>
                </c:pt>
                <c:pt idx="289">
                  <c:v>0.658730974145001</c:v>
                </c:pt>
                <c:pt idx="290">
                  <c:v>0.683013455365071</c:v>
                </c:pt>
                <c:pt idx="291">
                  <c:v>0.708425211065197</c:v>
                </c:pt>
                <c:pt idx="292">
                  <c:v>0.735029852796453</c:v>
                </c:pt>
                <c:pt idx="293">
                  <c:v>0.762895212047526</c:v>
                </c:pt>
                <c:pt idx="294">
                  <c:v>0.79209366323802</c:v>
                </c:pt>
                <c:pt idx="295">
                  <c:v>0.822702474791883</c:v>
                </c:pt>
                <c:pt idx="296">
                  <c:v>0.854804191029726</c:v>
                </c:pt>
                <c:pt idx="297">
                  <c:v>0.88848704791569</c:v>
                </c:pt>
                <c:pt idx="298">
                  <c:v>0.923845426026514</c:v>
                </c:pt>
                <c:pt idx="299">
                  <c:v>0.960980344482817</c:v>
                </c:pt>
                <c:pt idx="300">
                  <c:v>1</c:v>
                </c:pt>
                <c:pt idx="301">
                  <c:v>1.04102035568522</c:v>
                </c:pt>
                <c:pt idx="302">
                  <c:v>1.08416578473394</c:v>
                </c:pt>
                <c:pt idx="303">
                  <c:v>1.12956977477316</c:v>
                </c:pt>
                <c:pt idx="304">
                  <c:v>1.17737569926698</c:v>
                </c:pt>
                <c:pt idx="305">
                  <c:v>1.22773766315483</c:v>
                </c:pt>
                <c:pt idx="306">
                  <c:v>1.28082143074517</c:v>
                </c:pt>
                <c:pt idx="307">
                  <c:v>1.33680544485136</c:v>
                </c:pt>
                <c:pt idx="308">
                  <c:v>1.39588194724862</c:v>
                </c:pt>
                <c:pt idx="309">
                  <c:v>1.45825821176916</c:v>
                </c:pt>
                <c:pt idx="310">
                  <c:v>1.52415790275873</c:v>
                </c:pt>
                <c:pt idx="311">
                  <c:v>1.59382257321666</c:v>
                </c:pt>
                <c:pt idx="312">
                  <c:v>1.66751331876238</c:v>
                </c:pt>
                <c:pt idx="313">
                  <c:v>1.74551260564693</c:v>
                </c:pt>
                <c:pt idx="314">
                  <c:v>1.82812629339935</c:v>
                </c:pt>
                <c:pt idx="315">
                  <c:v>1.91568587540858</c:v>
                </c:pt>
                <c:pt idx="316">
                  <c:v>2.00855096384737</c:v>
                </c:pt>
                <c:pt idx="317">
                  <c:v>2.10711204890708</c:v>
                </c:pt>
                <c:pt idx="318">
                  <c:v>2.21179356640565</c:v>
                </c:pt>
                <c:pt idx="319">
                  <c:v>2.32305731254188</c:v>
                </c:pt>
                <c:pt idx="320">
                  <c:v>2.44140625</c:v>
                </c:pt>
                <c:pt idx="321">
                  <c:v>2.56738875587961</c:v>
                </c:pt>
                <c:pt idx="322">
                  <c:v>2.70160336918037</c:v>
                </c:pt>
                <c:pt idx="323">
                  <c:v>2.8447041039778</c:v>
                </c:pt>
                <c:pt idx="324">
                  <c:v>2.99740640418659</c:v>
                </c:pt>
                <c:pt idx="325">
                  <c:v>3.16049382716049</c:v>
                </c:pt>
                <c:pt idx="326">
                  <c:v>3.33482555660907</c:v>
                </c:pt>
                <c:pt idx="327">
                  <c:v>3.52134486076092</c:v>
                </c:pt>
                <c:pt idx="328">
                  <c:v>3.72108862978205</c:v>
                </c:pt>
                <c:pt idx="329">
                  <c:v>3.93519814765501</c:v>
                </c:pt>
                <c:pt idx="330">
                  <c:v>4.16493127863391</c:v>
                </c:pt>
                <c:pt idx="331">
                  <c:v>4.41167627772402</c:v>
                </c:pt>
                <c:pt idx="332">
                  <c:v>4.67696746925924</c:v>
                </c:pt>
                <c:pt idx="333">
                  <c:v>4.96250307861285</c:v>
                </c:pt>
                <c:pt idx="334">
                  <c:v>5.27016555065641</c:v>
                </c:pt>
                <c:pt idx="335">
                  <c:v>5.60204474633242</c:v>
                </c:pt>
                <c:pt idx="336">
                  <c:v>5.96046447753906</c:v>
                </c:pt>
                <c:pt idx="337">
                  <c:v>6.34801292277687</c:v>
                </c:pt>
                <c:pt idx="338">
                  <c:v>6.76757756455998</c:v>
                </c:pt>
                <c:pt idx="339">
                  <c:v>7.22238540800808</c:v>
                </c:pt>
                <c:pt idx="340">
                  <c:v>7.71604938271605</c:v>
                </c:pt>
                <c:pt idx="341">
                  <c:v>8.25262200243106</c:v>
                </c:pt>
                <c:pt idx="342">
                  <c:v>8.83665756608759</c:v>
                </c:pt>
                <c:pt idx="343">
                  <c:v>9.47328443792305</c:v>
                </c:pt>
                <c:pt idx="344">
                  <c:v>10.1682892544773</c:v>
                </c:pt>
                <c:pt idx="345">
                  <c:v>10.9282152858411</c:v>
                </c:pt>
                <c:pt idx="346">
                  <c:v>11.7604776447433</c:v>
                </c:pt>
                <c:pt idx="347">
                  <c:v>12.6734986118083</c:v>
                </c:pt>
                <c:pt idx="348">
                  <c:v>13.6768670564756</c:v>
                </c:pt>
                <c:pt idx="349">
                  <c:v>14.7815268164243</c:v>
                </c:pt>
                <c:pt idx="350">
                  <c:v>16</c:v>
                </c:pt>
                <c:pt idx="351">
                  <c:v>17.3466525557431</c:v>
                </c:pt>
                <c:pt idx="352">
                  <c:v>18.8380111882716</c:v>
                </c:pt>
                <c:pt idx="353">
                  <c:v>20.4931428919227</c:v>
                </c:pt>
                <c:pt idx="354">
                  <c:v>22.3341111559779</c:v>
                </c:pt>
                <c:pt idx="355">
                  <c:v>24.3865264441397</c:v>
                </c:pt>
                <c:pt idx="356">
                  <c:v>26.6802131001981</c:v>
                </c:pt>
                <c:pt idx="357">
                  <c:v>29.2500206943897</c:v>
                </c:pt>
                <c:pt idx="358">
                  <c:v>32.1368154215579</c:v>
                </c:pt>
                <c:pt idx="359">
                  <c:v>35.3886970624904</c:v>
                </c:pt>
                <c:pt idx="360">
                  <c:v>39.0625</c:v>
                </c:pt>
                <c:pt idx="361">
                  <c:v>43.2256539068858</c:v>
                </c:pt>
                <c:pt idx="362">
                  <c:v>47.9585024669854</c:v>
                </c:pt>
                <c:pt idx="363">
                  <c:v>53.357208905745</c:v>
                </c:pt>
                <c:pt idx="364">
                  <c:v>59.5374180765128</c:v>
                </c:pt>
                <c:pt idx="365">
                  <c:v>66.6389004581424</c:v>
                </c:pt>
                <c:pt idx="366">
                  <c:v>74.8314795081478</c:v>
                </c:pt>
                <c:pt idx="367">
                  <c:v>84.3226488105025</c:v>
                </c:pt>
                <c:pt idx="368">
                  <c:v>95.3674316406252</c:v>
                </c:pt>
                <c:pt idx="369">
                  <c:v>108.28124103296</c:v>
                </c:pt>
                <c:pt idx="370">
                  <c:v>123.456790123457</c:v>
                </c:pt>
                <c:pt idx="371">
                  <c:v>141.386521057401</c:v>
                </c:pt>
                <c:pt idx="372">
                  <c:v>162.692628071637</c:v>
                </c:pt>
                <c:pt idx="373">
                  <c:v>188.167642315892</c:v>
                </c:pt>
                <c:pt idx="374">
                  <c:v>218.829872903611</c:v>
                </c:pt>
                <c:pt idx="375">
                  <c:v>256</c:v>
                </c:pt>
                <c:pt idx="376">
                  <c:v>301.408179012347</c:v>
                </c:pt>
                <c:pt idx="377">
                  <c:v>357.345778495646</c:v>
                </c:pt>
                <c:pt idx="378">
                  <c:v>426.883409603171</c:v>
                </c:pt>
                <c:pt idx="379">
                  <c:v>514.189046744927</c:v>
                </c:pt>
                <c:pt idx="380">
                  <c:v>625.000000000003</c:v>
                </c:pt>
                <c:pt idx="381">
                  <c:v>767.336039471767</c:v>
                </c:pt>
                <c:pt idx="382">
                  <c:v>952.59868922421</c:v>
                </c:pt>
                <c:pt idx="383">
                  <c:v>1197.30367213036</c:v>
                </c:pt>
                <c:pt idx="384">
                  <c:v>1525.87890624999</c:v>
                </c:pt>
                <c:pt idx="385">
                  <c:v>1975.30864197531</c:v>
                </c:pt>
                <c:pt idx="386">
                  <c:v>2603.08204914618</c:v>
                </c:pt>
                <c:pt idx="387">
                  <c:v>3501.27796645777</c:v>
                </c:pt>
                <c:pt idx="388">
                  <c:v>4822.53086419751</c:v>
                </c:pt>
                <c:pt idx="389">
                  <c:v>6830.13455365074</c:v>
                </c:pt>
                <c:pt idx="390">
                  <c:v>9999.99999999996</c:v>
                </c:pt>
                <c:pt idx="391">
                  <c:v>15241.5790275874</c:v>
                </c:pt>
                <c:pt idx="392">
                  <c:v>24414.0624999999</c:v>
                </c:pt>
                <c:pt idx="393">
                  <c:v>41649.3127863394</c:v>
                </c:pt>
                <c:pt idx="394">
                  <c:v>77160.4938271602</c:v>
                </c:pt>
                <c:pt idx="395">
                  <c:v>160000.000000002</c:v>
                </c:pt>
                <c:pt idx="396">
                  <c:v>390624.999999999</c:v>
                </c:pt>
                <c:pt idx="397">
                  <c:v>1234567.9012346</c:v>
                </c:pt>
                <c:pt idx="398">
                  <c:v>6249999.99999998</c:v>
                </c:pt>
                <c:pt idx="399">
                  <c:v>100000000.000009</c:v>
                </c:pt>
                <c:pt idx="400">
                  <c:v>0</c:v>
                </c:pt>
                <c:pt idx="401">
                  <c:v>100000000.000009</c:v>
                </c:pt>
                <c:pt idx="402">
                  <c:v>6249999.99999942</c:v>
                </c:pt>
                <c:pt idx="403">
                  <c:v>1234567.90123453</c:v>
                </c:pt>
                <c:pt idx="404">
                  <c:v>390624.999999999</c:v>
                </c:pt>
                <c:pt idx="405">
                  <c:v>160000.000000002</c:v>
                </c:pt>
                <c:pt idx="406">
                  <c:v>77160.4938271579</c:v>
                </c:pt>
                <c:pt idx="407">
                  <c:v>41649.3127863384</c:v>
                </c:pt>
                <c:pt idx="408">
                  <c:v>24414.0624999999</c:v>
                </c:pt>
                <c:pt idx="409">
                  <c:v>15241.5790275874</c:v>
                </c:pt>
                <c:pt idx="410">
                  <c:v>10000.0000000001</c:v>
                </c:pt>
                <c:pt idx="411">
                  <c:v>6830.13455365063</c:v>
                </c:pt>
                <c:pt idx="412">
                  <c:v>4822.53086419751</c:v>
                </c:pt>
                <c:pt idx="413">
                  <c:v>3501.27796645777</c:v>
                </c:pt>
                <c:pt idx="414">
                  <c:v>2603.08204914621</c:v>
                </c:pt>
                <c:pt idx="415">
                  <c:v>1975.30864197529</c:v>
                </c:pt>
                <c:pt idx="416">
                  <c:v>1525.87890624999</c:v>
                </c:pt>
                <c:pt idx="417">
                  <c:v>1197.30367213036</c:v>
                </c:pt>
                <c:pt idx="418">
                  <c:v>952.59868922421</c:v>
                </c:pt>
                <c:pt idx="419">
                  <c:v>767.33603947176</c:v>
                </c:pt>
                <c:pt idx="420">
                  <c:v>624.999999999998</c:v>
                </c:pt>
                <c:pt idx="421">
                  <c:v>514.189046744927</c:v>
                </c:pt>
                <c:pt idx="422">
                  <c:v>426.883409603171</c:v>
                </c:pt>
                <c:pt idx="423">
                  <c:v>357.345778495643</c:v>
                </c:pt>
                <c:pt idx="424">
                  <c:v>301.408179012345</c:v>
                </c:pt>
                <c:pt idx="425">
                  <c:v>256</c:v>
                </c:pt>
                <c:pt idx="426">
                  <c:v>218.829872903611</c:v>
                </c:pt>
                <c:pt idx="427">
                  <c:v>188.167642315891</c:v>
                </c:pt>
                <c:pt idx="428">
                  <c:v>162.692628071636</c:v>
                </c:pt>
                <c:pt idx="429">
                  <c:v>141.386521057401</c:v>
                </c:pt>
                <c:pt idx="430">
                  <c:v>123.456790123457</c:v>
                </c:pt>
                <c:pt idx="431">
                  <c:v>108.281241032959</c:v>
                </c:pt>
                <c:pt idx="432">
                  <c:v>95.3674316406246</c:v>
                </c:pt>
                <c:pt idx="433">
                  <c:v>84.3226488105025</c:v>
                </c:pt>
                <c:pt idx="434">
                  <c:v>74.8314795081478</c:v>
                </c:pt>
                <c:pt idx="435">
                  <c:v>66.638900458142</c:v>
                </c:pt>
                <c:pt idx="436">
                  <c:v>59.5374180765125</c:v>
                </c:pt>
                <c:pt idx="437">
                  <c:v>53.357208905745</c:v>
                </c:pt>
                <c:pt idx="438">
                  <c:v>47.9585024669854</c:v>
                </c:pt>
                <c:pt idx="439">
                  <c:v>43.225653906886</c:v>
                </c:pt>
                <c:pt idx="440">
                  <c:v>39.0624999999999</c:v>
                </c:pt>
                <c:pt idx="441">
                  <c:v>35.3886970624904</c:v>
                </c:pt>
                <c:pt idx="442">
                  <c:v>32.1368154215579</c:v>
                </c:pt>
                <c:pt idx="443">
                  <c:v>29.2500206943897</c:v>
                </c:pt>
                <c:pt idx="444">
                  <c:v>26.680213100198</c:v>
                </c:pt>
                <c:pt idx="445">
                  <c:v>24.3865264441396</c:v>
                </c:pt>
                <c:pt idx="446">
                  <c:v>22.3341111559779</c:v>
                </c:pt>
                <c:pt idx="447">
                  <c:v>20.4931428919227</c:v>
                </c:pt>
                <c:pt idx="448">
                  <c:v>18.8380111882715</c:v>
                </c:pt>
                <c:pt idx="449">
                  <c:v>17.346652555743</c:v>
                </c:pt>
                <c:pt idx="450">
                  <c:v>16</c:v>
                </c:pt>
                <c:pt idx="451">
                  <c:v>14.7815268164243</c:v>
                </c:pt>
                <c:pt idx="452">
                  <c:v>13.6768670564756</c:v>
                </c:pt>
                <c:pt idx="453">
                  <c:v>12.6734986118083</c:v>
                </c:pt>
                <c:pt idx="454">
                  <c:v>11.7604776447433</c:v>
                </c:pt>
                <c:pt idx="455">
                  <c:v>10.9282152858411</c:v>
                </c:pt>
                <c:pt idx="456">
                  <c:v>10.1682892544773</c:v>
                </c:pt>
                <c:pt idx="457">
                  <c:v>9.47328443792302</c:v>
                </c:pt>
                <c:pt idx="458">
                  <c:v>8.83665756608759</c:v>
                </c:pt>
                <c:pt idx="459">
                  <c:v>8.25262200243106</c:v>
                </c:pt>
                <c:pt idx="460">
                  <c:v>7.71604938271602</c:v>
                </c:pt>
                <c:pt idx="461">
                  <c:v>7.22238540800807</c:v>
                </c:pt>
                <c:pt idx="462">
                  <c:v>6.76757756455998</c:v>
                </c:pt>
                <c:pt idx="463">
                  <c:v>6.34801292277687</c:v>
                </c:pt>
                <c:pt idx="464">
                  <c:v>5.96046447753908</c:v>
                </c:pt>
                <c:pt idx="465">
                  <c:v>5.6020447463324</c:v>
                </c:pt>
                <c:pt idx="466">
                  <c:v>5.27016555065641</c:v>
                </c:pt>
                <c:pt idx="467">
                  <c:v>4.96250307861285</c:v>
                </c:pt>
                <c:pt idx="468">
                  <c:v>4.67696746925924</c:v>
                </c:pt>
                <c:pt idx="469">
                  <c:v>4.41167627772401</c:v>
                </c:pt>
                <c:pt idx="470">
                  <c:v>4.1649312786339</c:v>
                </c:pt>
                <c:pt idx="471">
                  <c:v>3.93519814765501</c:v>
                </c:pt>
                <c:pt idx="472">
                  <c:v>3.72108862978205</c:v>
                </c:pt>
                <c:pt idx="473">
                  <c:v>3.52134486076091</c:v>
                </c:pt>
                <c:pt idx="474">
                  <c:v>3.33482555660906</c:v>
                </c:pt>
                <c:pt idx="475">
                  <c:v>3.16049382716049</c:v>
                </c:pt>
                <c:pt idx="476">
                  <c:v>2.99740640418659</c:v>
                </c:pt>
                <c:pt idx="477">
                  <c:v>2.8447041039778</c:v>
                </c:pt>
                <c:pt idx="478">
                  <c:v>2.70160336918037</c:v>
                </c:pt>
                <c:pt idx="479">
                  <c:v>2.56738875587961</c:v>
                </c:pt>
                <c:pt idx="480">
                  <c:v>2.44140625</c:v>
                </c:pt>
                <c:pt idx="481">
                  <c:v>2.32305731254187</c:v>
                </c:pt>
                <c:pt idx="482">
                  <c:v>2.21179356640565</c:v>
                </c:pt>
                <c:pt idx="483">
                  <c:v>2.10711204890708</c:v>
                </c:pt>
                <c:pt idx="484">
                  <c:v>2.00855096384737</c:v>
                </c:pt>
                <c:pt idx="485">
                  <c:v>1.91568587540858</c:v>
                </c:pt>
                <c:pt idx="486">
                  <c:v>1.82812629339935</c:v>
                </c:pt>
                <c:pt idx="487">
                  <c:v>1.74551260564693</c:v>
                </c:pt>
                <c:pt idx="488">
                  <c:v>1.66751331876238</c:v>
                </c:pt>
                <c:pt idx="489">
                  <c:v>1.59382257321666</c:v>
                </c:pt>
                <c:pt idx="490">
                  <c:v>1.52415790275872</c:v>
                </c:pt>
                <c:pt idx="491">
                  <c:v>1.45825821176916</c:v>
                </c:pt>
                <c:pt idx="492">
                  <c:v>1.39588194724862</c:v>
                </c:pt>
                <c:pt idx="493">
                  <c:v>1.33680544485136</c:v>
                </c:pt>
                <c:pt idx="494">
                  <c:v>1.28082143074516</c:v>
                </c:pt>
                <c:pt idx="495">
                  <c:v>1.22773766315482</c:v>
                </c:pt>
                <c:pt idx="496">
                  <c:v>1.17737569926698</c:v>
                </c:pt>
                <c:pt idx="497">
                  <c:v>1.12956977477316</c:v>
                </c:pt>
                <c:pt idx="498">
                  <c:v>1.08416578473394</c:v>
                </c:pt>
                <c:pt idx="499">
                  <c:v>1.04102035568522</c:v>
                </c:pt>
                <c:pt idx="500">
                  <c:v>1</c:v>
                </c:pt>
                <c:pt idx="501">
                  <c:v>0.960980344482816</c:v>
                </c:pt>
                <c:pt idx="502">
                  <c:v>0.923845426026514</c:v>
                </c:pt>
                <c:pt idx="503">
                  <c:v>0.888487047915689</c:v>
                </c:pt>
                <c:pt idx="504">
                  <c:v>0.854804191029726</c:v>
                </c:pt>
                <c:pt idx="505">
                  <c:v>0.822702474791882</c:v>
                </c:pt>
                <c:pt idx="506">
                  <c:v>0.79209366323802</c:v>
                </c:pt>
                <c:pt idx="507">
                  <c:v>0.762895212047525</c:v>
                </c:pt>
                <c:pt idx="508">
                  <c:v>0.735029852796453</c:v>
                </c:pt>
                <c:pt idx="509">
                  <c:v>0.708425211065196</c:v>
                </c:pt>
                <c:pt idx="510">
                  <c:v>0.683013455365071</c:v>
                </c:pt>
                <c:pt idx="511">
                  <c:v>0.658730974145</c:v>
                </c:pt>
                <c:pt idx="512">
                  <c:v>0.635518078404831</c:v>
                </c:pt>
                <c:pt idx="513">
                  <c:v>0.613318727679377</c:v>
                </c:pt>
                <c:pt idx="514">
                  <c:v>0.592080277370189</c:v>
                </c:pt>
                <c:pt idx="515">
                  <c:v>0.571753245593033</c:v>
                </c:pt>
                <c:pt idx="516">
                  <c:v>0.552291097880475</c:v>
                </c:pt>
                <c:pt idx="517">
                  <c:v>0.533650048233159</c:v>
                </c:pt>
                <c:pt idx="518">
                  <c:v>0.515788875151941</c:v>
                </c:pt>
                <c:pt idx="519">
                  <c:v>0.498668751407898</c:v>
                </c:pt>
                <c:pt idx="520">
                  <c:v>0.482253086419753</c:v>
                </c:pt>
                <c:pt idx="521">
                  <c:v>0.466507380209734</c:v>
                </c:pt>
                <c:pt idx="522">
                  <c:v>0.451399088000505</c:v>
                </c:pt>
                <c:pt idx="523">
                  <c:v>0.436897494598647</c:v>
                </c:pt>
                <c:pt idx="524">
                  <c:v>0.422973597784999</c:v>
                </c:pt>
                <c:pt idx="525">
                  <c:v>0.4096</c:v>
                </c:pt>
                <c:pt idx="526">
                  <c:v>0.396750807673554</c:v>
                </c:pt>
                <c:pt idx="527">
                  <c:v>0.384401537604613</c:v>
                </c:pt>
                <c:pt idx="528">
                  <c:v>0.372529029846191</c:v>
                </c:pt>
                <c:pt idx="529">
                  <c:v>0.361111366597403</c:v>
                </c:pt>
                <c:pt idx="530">
                  <c:v>0.350127796645776</c:v>
                </c:pt>
                <c:pt idx="531">
                  <c:v>0.339558664941034</c:v>
                </c:pt>
                <c:pt idx="532">
                  <c:v>0.329385346916026</c:v>
                </c:pt>
                <c:pt idx="533">
                  <c:v>0.319590187201902</c:v>
                </c:pt>
                <c:pt idx="534">
                  <c:v>0.310156442413303</c:v>
                </c:pt>
                <c:pt idx="535">
                  <c:v>0.301068227705427</c:v>
                </c:pt>
                <c:pt idx="536">
                  <c:v>0.292310466828702</c:v>
                </c:pt>
                <c:pt idx="537">
                  <c:v>0.283868845428562</c:v>
                </c:pt>
                <c:pt idx="538">
                  <c:v>0.275729767357751</c:v>
                </c:pt>
                <c:pt idx="539">
                  <c:v>0.267880313786749</c:v>
                </c:pt>
                <c:pt idx="540">
                  <c:v>0.260308204914619</c:v>
                </c:pt>
                <c:pt idx="541">
                  <c:v>0.25300176409781</c:v>
                </c:pt>
                <c:pt idx="542">
                  <c:v>0.245949884228438</c:v>
                </c:pt>
                <c:pt idx="543">
                  <c:v>0.23914199620639</c:v>
                </c:pt>
                <c:pt idx="544">
                  <c:v>0.232568039361378</c:v>
                </c:pt>
                <c:pt idx="545">
                  <c:v>0.226218433691842</c:v>
                </c:pt>
                <c:pt idx="546">
                  <c:v>0.220084053797557</c:v>
                </c:pt>
                <c:pt idx="547">
                  <c:v>0.214156204391889</c:v>
                </c:pt>
                <c:pt idx="548">
                  <c:v>0.208426597288067</c:v>
                </c:pt>
                <c:pt idx="549">
                  <c:v>0.202887329761528</c:v>
                </c:pt>
                <c:pt idx="550">
                  <c:v>0.197530864197531</c:v>
                </c:pt>
                <c:pt idx="551">
                  <c:v>0.192350008939755</c:v>
                </c:pt>
                <c:pt idx="552">
                  <c:v>0.187337900261662</c:v>
                </c:pt>
                <c:pt idx="553">
                  <c:v>0.182487985387953</c:v>
                </c:pt>
                <c:pt idx="554">
                  <c:v>0.177794006498613</c:v>
                </c:pt>
                <c:pt idx="555">
                  <c:v>0.173249985652736</c:v>
                </c:pt>
                <c:pt idx="556">
                  <c:v>0.168850210573773</c:v>
                </c:pt>
                <c:pt idx="557">
                  <c:v>0.164589221241837</c:v>
                </c:pt>
                <c:pt idx="558">
                  <c:v>0.160461797242476</c:v>
                </c:pt>
                <c:pt idx="559">
                  <c:v>0.156462945824794</c:v>
                </c:pt>
                <c:pt idx="560">
                  <c:v>0.152587890625</c:v>
                </c:pt>
                <c:pt idx="561">
                  <c:v>0.14883206101443</c:v>
                </c:pt>
                <c:pt idx="562">
                  <c:v>0.145191082033867</c:v>
                </c:pt>
                <c:pt idx="563">
                  <c:v>0.141660764878516</c:v>
                </c:pt>
                <c:pt idx="564">
                  <c:v>0.138237097900353</c:v>
                </c:pt>
                <c:pt idx="565">
                  <c:v>0.134916238096804</c:v>
                </c:pt>
                <c:pt idx="566">
                  <c:v>0.131694503056693</c:v>
                </c:pt>
                <c:pt idx="567">
                  <c:v>0.128568363336344</c:v>
                </c:pt>
                <c:pt idx="568">
                  <c:v>0.12553443524046</c:v>
                </c:pt>
                <c:pt idx="569">
                  <c:v>0.122589473984026</c:v>
                </c:pt>
                <c:pt idx="570">
                  <c:v>0.119730367213036</c:v>
                </c:pt>
                <c:pt idx="571">
                  <c:v>0.116954128863247</c:v>
                </c:pt>
                <c:pt idx="572">
                  <c:v>0.11425789333746</c:v>
                </c:pt>
                <c:pt idx="573">
                  <c:v>0.111638909983092</c:v>
                </c:pt>
                <c:pt idx="574">
                  <c:v>0.109094537852933</c:v>
                </c:pt>
                <c:pt idx="575">
                  <c:v>0.106622240733028</c:v>
                </c:pt>
                <c:pt idx="576">
                  <c:v>0.104219582422649</c:v>
                </c:pt>
                <c:pt idx="577">
                  <c:v>0.101884222252235</c:v>
                </c:pt>
                <c:pt idx="578">
                  <c:v>0.0996139108260414</c:v>
                </c:pt>
                <c:pt idx="579">
                  <c:v>0.0974064859770443</c:v>
                </c:pt>
                <c:pt idx="580">
                  <c:v>0.0952598689224204</c:v>
                </c:pt>
                <c:pt idx="581">
                  <c:v>0.0931720606086006</c:v>
                </c:pt>
                <c:pt idx="582">
                  <c:v>0.0911411382355726</c:v>
                </c:pt>
                <c:pt idx="583">
                  <c:v>0.089165251950717</c:v>
                </c:pt>
                <c:pt idx="584">
                  <c:v>0.0872426217030385</c:v>
                </c:pt>
                <c:pt idx="585">
                  <c:v>0.085371534249192</c:v>
                </c:pt>
                <c:pt idx="586">
                  <c:v>0.0835503403032097</c:v>
                </c:pt>
                <c:pt idx="587">
                  <c:v>0.0817774518223046</c:v>
                </c:pt>
                <c:pt idx="588">
                  <c:v>0.0800513394215729</c:v>
                </c:pt>
                <c:pt idx="589">
                  <c:v>0.0783705299108255</c:v>
                </c:pt>
                <c:pt idx="590">
                  <c:v>0.0767336039471766</c:v>
                </c:pt>
                <c:pt idx="591">
                  <c:v>0.0751391937973713</c:v>
                </c:pt>
                <c:pt idx="592">
                  <c:v>0.073585981204186</c:v>
                </c:pt>
                <c:pt idx="593">
                  <c:v>0.072072695351547</c:v>
                </c:pt>
                <c:pt idx="594">
                  <c:v>0.0705981109233227</c:v>
                </c:pt>
                <c:pt idx="595">
                  <c:v>0.0691610462510174</c:v>
                </c:pt>
                <c:pt idx="596">
                  <c:v>0.0677603615458712</c:v>
                </c:pt>
                <c:pt idx="597">
                  <c:v>0.0663949572111092</c:v>
                </c:pt>
                <c:pt idx="598">
                  <c:v>0.0650637722303261</c:v>
                </c:pt>
                <c:pt idx="599">
                  <c:v>0.0637657826282076</c:v>
                </c:pt>
                <c:pt idx="600">
                  <c:v>0.0625</c:v>
                </c:pt>
                <c:pt idx="601">
                  <c:v>0.0612654701063315</c:v>
                </c:pt>
                <c:pt idx="602">
                  <c:v>0.060061271530176</c:v>
                </c:pt>
                <c:pt idx="603">
                  <c:v>0.0588865143929202</c:v>
                </c:pt>
                <c:pt idx="604">
                  <c:v>0.0577403391266571</c:v>
                </c:pt>
                <c:pt idx="605">
                  <c:v>0.0566219152999847</c:v>
                </c:pt>
                <c:pt idx="606">
                  <c:v>0.0555304404947306</c:v>
                </c:pt>
                <c:pt idx="607">
                  <c:v>0.0544651392311607</c:v>
                </c:pt>
                <c:pt idx="608">
                  <c:v>0.0534252619393579</c:v>
                </c:pt>
                <c:pt idx="609">
                  <c:v>0.0524100839745759</c:v>
                </c:pt>
                <c:pt idx="610">
                  <c:v>0.0514189046744926</c:v>
                </c:pt>
                <c:pt idx="611">
                  <c:v>0.0504510464563876</c:v>
                </c:pt>
                <c:pt idx="612">
                  <c:v>0.0495058539523763</c:v>
                </c:pt>
                <c:pt idx="613">
                  <c:v>0.0485826931809261</c:v>
                </c:pt>
                <c:pt idx="614">
                  <c:v>0.0476809507529703</c:v>
                </c:pt>
                <c:pt idx="615">
                  <c:v>0.0468000331110234</c:v>
                </c:pt>
                <c:pt idx="616">
                  <c:v>0.0459393657997783</c:v>
                </c:pt>
                <c:pt idx="617">
                  <c:v>0.0450983927667471</c:v>
                </c:pt>
                <c:pt idx="618">
                  <c:v>0.0442765756915748</c:v>
                </c:pt>
                <c:pt idx="619">
                  <c:v>0.0434733933427274</c:v>
                </c:pt>
                <c:pt idx="620">
                  <c:v>0.0426883409603169</c:v>
                </c:pt>
                <c:pt idx="621">
                  <c:v>0.04192092966389</c:v>
                </c:pt>
                <c:pt idx="622">
                  <c:v>0.0411706858840625</c:v>
                </c:pt>
                <c:pt idx="623">
                  <c:v>0.0404371508169384</c:v>
                </c:pt>
                <c:pt idx="624">
                  <c:v>0.039719879900302</c:v>
                </c:pt>
                <c:pt idx="625">
                  <c:v>0.0390184423106234</c:v>
                </c:pt>
                <c:pt idx="626">
                  <c:v>0.0383324204799611</c:v>
                </c:pt>
                <c:pt idx="627">
                  <c:v>0.0376614096318915</c:v>
                </c:pt>
                <c:pt idx="628">
                  <c:v>0.0370050173356369</c:v>
                </c:pt>
                <c:pt idx="629">
                  <c:v>0.0363628630776016</c:v>
                </c:pt>
                <c:pt idx="630">
                  <c:v>0.0357345778495646</c:v>
                </c:pt>
                <c:pt idx="631">
                  <c:v>0.0351198037528124</c:v>
                </c:pt>
                <c:pt idx="632">
                  <c:v>0.0345181936175297</c:v>
                </c:pt>
                <c:pt idx="633">
                  <c:v>0.0339294106367965</c:v>
                </c:pt>
                <c:pt idx="634">
                  <c:v>0.0333531280145725</c:v>
                </c:pt>
                <c:pt idx="635">
                  <c:v>0.0327890286270763</c:v>
                </c:pt>
                <c:pt idx="636">
                  <c:v>0.0322368046969963</c:v>
                </c:pt>
                <c:pt idx="637">
                  <c:v>0.0316961574799952</c:v>
                </c:pt>
                <c:pt idx="638">
                  <c:v>0.0311667969629936</c:v>
                </c:pt>
                <c:pt idx="639">
                  <c:v>0.0306484415737454</c:v>
                </c:pt>
                <c:pt idx="640">
                  <c:v>0.0301408179012346</c:v>
                </c:pt>
                <c:pt idx="641">
                  <c:v>0.0296436604264498</c:v>
                </c:pt>
                <c:pt idx="642">
                  <c:v>0.0291567112631083</c:v>
                </c:pt>
                <c:pt idx="643">
                  <c:v>0.0286797199079244</c:v>
                </c:pt>
                <c:pt idx="644">
                  <c:v>0.0282124430000316</c:v>
                </c:pt>
                <c:pt idx="645">
                  <c:v>0.0277546440891889</c:v>
                </c:pt>
                <c:pt idx="646">
                  <c:v>0.0273060934124155</c:v>
                </c:pt>
                <c:pt idx="647">
                  <c:v>0.0268665676787146</c:v>
                </c:pt>
                <c:pt idx="648">
                  <c:v>0.0264358498615624</c:v>
                </c:pt>
                <c:pt idx="649">
                  <c:v>0.0260137289988529</c:v>
                </c:pt>
                <c:pt idx="650">
                  <c:v>0.0256</c:v>
                </c:pt>
                <c:pt idx="651">
                  <c:v>0.0251944634599168</c:v>
                </c:pt>
                <c:pt idx="652">
                  <c:v>0.0247969254795972</c:v>
                </c:pt>
                <c:pt idx="653">
                  <c:v>0.0244071974930432</c:v>
                </c:pt>
                <c:pt idx="654">
                  <c:v>0.0240250961002883</c:v>
                </c:pt>
                <c:pt idx="655">
                  <c:v>0.0236504429062788</c:v>
                </c:pt>
                <c:pt idx="656">
                  <c:v>0.023283064365387</c:v>
                </c:pt>
                <c:pt idx="657">
                  <c:v>0.0229227916313374</c:v>
                </c:pt>
                <c:pt idx="658">
                  <c:v>0.0225694604123377</c:v>
                </c:pt>
                <c:pt idx="659">
                  <c:v>0.0222229108312141</c:v>
                </c:pt>
                <c:pt idx="660">
                  <c:v>0.021882987290361</c:v>
                </c:pt>
                <c:pt idx="661">
                  <c:v>0.0215495383413202</c:v>
                </c:pt>
                <c:pt idx="662">
                  <c:v>0.0212224165588146</c:v>
                </c:pt>
                <c:pt idx="663">
                  <c:v>0.0209014784190686</c:v>
                </c:pt>
                <c:pt idx="664">
                  <c:v>0.0205865841822516</c:v>
                </c:pt>
                <c:pt idx="665">
                  <c:v>0.0202775977788933</c:v>
                </c:pt>
                <c:pt idx="666">
                  <c:v>0.0199743867001189</c:v>
                </c:pt>
                <c:pt idx="667">
                  <c:v>0.0196768218915637</c:v>
                </c:pt>
                <c:pt idx="668">
                  <c:v>0.0193847776508314</c:v>
                </c:pt>
                <c:pt idx="669">
                  <c:v>0.0190981315283624</c:v>
                </c:pt>
                <c:pt idx="670">
                  <c:v>0.0188167642315892</c:v>
                </c:pt>
                <c:pt idx="671">
                  <c:v>0.018540559532257</c:v>
                </c:pt>
                <c:pt idx="672">
                  <c:v>0.0182694041767939</c:v>
                </c:pt>
                <c:pt idx="673">
                  <c:v>0.0180031877996193</c:v>
                </c:pt>
                <c:pt idx="674">
                  <c:v>0.0177418028392852</c:v>
                </c:pt>
                <c:pt idx="675">
                  <c:v>0.0174851444573458</c:v>
                </c:pt>
                <c:pt idx="676">
                  <c:v>0.0172331104598595</c:v>
                </c:pt>
                <c:pt idx="677">
                  <c:v>0.0169856012214262</c:v>
                </c:pt>
                <c:pt idx="678">
                  <c:v>0.0167425196116718</c:v>
                </c:pt>
                <c:pt idx="679">
                  <c:v>0.0165037709240908</c:v>
                </c:pt>
                <c:pt idx="680">
                  <c:v>0.0162692628071637</c:v>
                </c:pt>
                <c:pt idx="681">
                  <c:v>0.0160389051976692</c:v>
                </c:pt>
                <c:pt idx="682">
                  <c:v>0.0158126102561132</c:v>
                </c:pt>
                <c:pt idx="683">
                  <c:v>0.0155902923042004</c:v>
                </c:pt>
                <c:pt idx="684">
                  <c:v>0.0153718677642774</c:v>
                </c:pt>
                <c:pt idx="685">
                  <c:v>0.0151572551006769</c:v>
                </c:pt>
                <c:pt idx="686">
                  <c:v>0.0149463747628994</c:v>
                </c:pt>
                <c:pt idx="687">
                  <c:v>0.0147391491305666</c:v>
                </c:pt>
                <c:pt idx="688">
                  <c:v>0.0145355024600861</c:v>
                </c:pt>
                <c:pt idx="689">
                  <c:v>0.0143353608329685</c:v>
                </c:pt>
                <c:pt idx="690">
                  <c:v>0.0141386521057402</c:v>
                </c:pt>
                <c:pt idx="691">
                  <c:v>0.0139453058613971</c:v>
                </c:pt>
                <c:pt idx="692">
                  <c:v>0.0137552533623473</c:v>
                </c:pt>
                <c:pt idx="693">
                  <c:v>0.0135684275047916</c:v>
                </c:pt>
                <c:pt idx="694">
                  <c:v>0.0133847627744931</c:v>
                </c:pt>
                <c:pt idx="695">
                  <c:v>0.0132041952038897</c:v>
                </c:pt>
                <c:pt idx="696">
                  <c:v>0.0130266623305042</c:v>
                </c:pt>
                <c:pt idx="697">
                  <c:v>0.0128521031566076</c:v>
                </c:pt>
                <c:pt idx="698">
                  <c:v>0.0126804581100955</c:v>
                </c:pt>
                <c:pt idx="699">
                  <c:v>0.012511669006535</c:v>
                </c:pt>
                <c:pt idx="700">
                  <c:v>0.0123456790123457</c:v>
                </c:pt>
                <c:pt idx="701">
                  <c:v>0.0121824326090752</c:v>
                </c:pt>
                <c:pt idx="702">
                  <c:v>0.0120218755587347</c:v>
                </c:pt>
                <c:pt idx="703">
                  <c:v>0.0118639548701582</c:v>
                </c:pt>
                <c:pt idx="704">
                  <c:v>0.0117086187663538</c:v>
                </c:pt>
                <c:pt idx="705">
                  <c:v>0.0115558166528129</c:v>
                </c:pt>
                <c:pt idx="706">
                  <c:v>0.0114054990867471</c:v>
                </c:pt>
                <c:pt idx="707">
                  <c:v>0.0112576177472226</c:v>
                </c:pt>
                <c:pt idx="708">
                  <c:v>0.0111121254061633</c:v>
                </c:pt>
                <c:pt idx="709">
                  <c:v>0.0109689759001937</c:v>
                </c:pt>
                <c:pt idx="710">
                  <c:v>0.010828124103296</c:v>
                </c:pt>
                <c:pt idx="711">
                  <c:v>0.0106895259002542</c:v>
                </c:pt>
                <c:pt idx="712">
                  <c:v>0.0105531381608608</c:v>
                </c:pt>
                <c:pt idx="713">
                  <c:v>0.0104189187148616</c:v>
                </c:pt>
                <c:pt idx="714">
                  <c:v>0.0102868263276148</c:v>
                </c:pt>
                <c:pt idx="715">
                  <c:v>0.010156820676443</c:v>
                </c:pt>
                <c:pt idx="716">
                  <c:v>0.0100288623276547</c:v>
                </c:pt>
                <c:pt idx="717">
                  <c:v>0.00990291271421586</c:v>
                </c:pt>
                <c:pt idx="718">
                  <c:v>0.00977893411404964</c:v>
                </c:pt>
                <c:pt idx="719">
                  <c:v>0.00965688962894622</c:v>
                </c:pt>
                <c:pt idx="720">
                  <c:v>0.0095367431640625</c:v>
                </c:pt>
                <c:pt idx="721">
                  <c:v>0.00941845940799414</c:v>
                </c:pt>
                <c:pt idx="722">
                  <c:v>0.00930200381340186</c:v>
                </c:pt>
                <c:pt idx="723">
                  <c:v>0.00918734257817515</c:v>
                </c:pt>
                <c:pt idx="724">
                  <c:v>0.00907444262711671</c:v>
                </c:pt>
                <c:pt idx="725">
                  <c:v>0.00896327159413186</c:v>
                </c:pt>
                <c:pt idx="726">
                  <c:v>0.00885379780490724</c:v>
                </c:pt>
                <c:pt idx="727">
                  <c:v>0.00874599026006416</c:v>
                </c:pt>
                <c:pt idx="728">
                  <c:v>0.00863981861877208</c:v>
                </c:pt>
                <c:pt idx="729">
                  <c:v>0.00853525318280827</c:v>
                </c:pt>
                <c:pt idx="730">
                  <c:v>0.00843226488105026</c:v>
                </c:pt>
                <c:pt idx="731">
                  <c:v>0.00833082525438802</c:v>
                </c:pt>
                <c:pt idx="732">
                  <c:v>0.00823090644104329</c:v>
                </c:pt>
                <c:pt idx="733">
                  <c:v>0.00813248116228395</c:v>
                </c:pt>
                <c:pt idx="734">
                  <c:v>0.00803552270852153</c:v>
                </c:pt>
                <c:pt idx="735">
                  <c:v>0.00794000492578056</c:v>
                </c:pt>
                <c:pt idx="736">
                  <c:v>0.00784590220252878</c:v>
                </c:pt>
                <c:pt idx="737">
                  <c:v>0.00775318945685748</c:v>
                </c:pt>
                <c:pt idx="738">
                  <c:v>0.00766184212400161</c:v>
                </c:pt>
                <c:pt idx="739">
                  <c:v>0.00757183614418984</c:v>
                </c:pt>
                <c:pt idx="740">
                  <c:v>0.00748314795081477</c:v>
                </c:pt>
                <c:pt idx="741">
                  <c:v>0.00739575445891399</c:v>
                </c:pt>
                <c:pt idx="742">
                  <c:v>0.00730963305395296</c:v>
                </c:pt>
                <c:pt idx="743">
                  <c:v>0.00722476158090089</c:v>
                </c:pt>
                <c:pt idx="744">
                  <c:v>0.00714111833359122</c:v>
                </c:pt>
                <c:pt idx="745">
                  <c:v>0.00705868204435844</c:v>
                </c:pt>
                <c:pt idx="746">
                  <c:v>0.00697743187394325</c:v>
                </c:pt>
                <c:pt idx="747">
                  <c:v>0.00689734740165851</c:v>
                </c:pt>
                <c:pt idx="748">
                  <c:v>0.00681840861580833</c:v>
                </c:pt>
                <c:pt idx="749">
                  <c:v>0.00674059590435322</c:v>
                </c:pt>
                <c:pt idx="750">
                  <c:v>0.00666389004581424</c:v>
                </c:pt>
                <c:pt idx="751">
                  <c:v>0.00658827220040937</c:v>
                </c:pt>
                <c:pt idx="752">
                  <c:v>0.00651372390141555</c:v>
                </c:pt>
                <c:pt idx="753">
                  <c:v>0.00644022704675</c:v>
                </c:pt>
                <c:pt idx="754">
                  <c:v>0.0063677638907647</c:v>
                </c:pt>
                <c:pt idx="755">
                  <c:v>0.00629631703624802</c:v>
                </c:pt>
                <c:pt idx="756">
                  <c:v>0.00622586942662759</c:v>
                </c:pt>
                <c:pt idx="757">
                  <c:v>0.00615640433836911</c:v>
                </c:pt>
                <c:pt idx="758">
                  <c:v>0.00608790537356527</c:v>
                </c:pt>
                <c:pt idx="759">
                  <c:v>0.00602035645270978</c:v>
                </c:pt>
                <c:pt idx="760">
                  <c:v>0.00595374180765128</c:v>
                </c:pt>
                <c:pt idx="761">
                  <c:v>0.00588804597472215</c:v>
                </c:pt>
                <c:pt idx="762">
                  <c:v>0.00582325378803754</c:v>
                </c:pt>
                <c:pt idx="763">
                  <c:v>0.00575935037295967</c:v>
                </c:pt>
                <c:pt idx="764">
                  <c:v>0.00569632113972329</c:v>
                </c:pt>
                <c:pt idx="765">
                  <c:v>0.00563415177721747</c:v>
                </c:pt>
                <c:pt idx="766">
                  <c:v>0.00557282824691981</c:v>
                </c:pt>
                <c:pt idx="767">
                  <c:v>0.00551233677697874</c:v>
                </c:pt>
                <c:pt idx="768">
                  <c:v>0.00545266385643991</c:v>
                </c:pt>
                <c:pt idx="769">
                  <c:v>0.00539379622961293</c:v>
                </c:pt>
                <c:pt idx="770">
                  <c:v>0.0053357208905745</c:v>
                </c:pt>
                <c:pt idx="771">
                  <c:v>0.00527842507780439</c:v>
                </c:pt>
                <c:pt idx="772">
                  <c:v>0.00522189626895061</c:v>
                </c:pt>
                <c:pt idx="773">
                  <c:v>0.00516612217572047</c:v>
                </c:pt>
                <c:pt idx="774">
                  <c:v>0.00511109073889404</c:v>
                </c:pt>
                <c:pt idx="775">
                  <c:v>0.00505679012345679</c:v>
                </c:pt>
                <c:pt idx="776">
                  <c:v>0.0050032087138483</c:v>
                </c:pt>
                <c:pt idx="777">
                  <c:v>0.00495033510932396</c:v>
                </c:pt>
                <c:pt idx="778">
                  <c:v>0.0048981581194266</c:v>
                </c:pt>
                <c:pt idx="779">
                  <c:v>0.00484666675956532</c:v>
                </c:pt>
                <c:pt idx="780">
                  <c:v>0.00479585024669854</c:v>
                </c:pt>
                <c:pt idx="781">
                  <c:v>0.00474569799511868</c:v>
                </c:pt>
                <c:pt idx="782">
                  <c:v>0.00469619961233571</c:v>
                </c:pt>
                <c:pt idx="783">
                  <c:v>0.00464734489505711</c:v>
                </c:pt>
                <c:pt idx="784">
                  <c:v>0.00459912382526163</c:v>
                </c:pt>
                <c:pt idx="785">
                  <c:v>0.00455152656636449</c:v>
                </c:pt>
                <c:pt idx="786">
                  <c:v>0.00450454345947169</c:v>
                </c:pt>
                <c:pt idx="787">
                  <c:v>0.00445816501972103</c:v>
                </c:pt>
                <c:pt idx="788">
                  <c:v>0.00441238193270767</c:v>
                </c:pt>
                <c:pt idx="789">
                  <c:v>0.00436718505099215</c:v>
                </c:pt>
                <c:pt idx="790">
                  <c:v>0.00432256539068859</c:v>
                </c:pt>
                <c:pt idx="791">
                  <c:v>0.0042785141281312</c:v>
                </c:pt>
                <c:pt idx="792">
                  <c:v>0.00423502259661695</c:v>
                </c:pt>
                <c:pt idx="793">
                  <c:v>0.00419208228322265</c:v>
                </c:pt>
                <c:pt idx="794">
                  <c:v>0.00414968482569433</c:v>
                </c:pt>
                <c:pt idx="795">
                  <c:v>0.00410782200940738</c:v>
                </c:pt>
                <c:pt idx="796">
                  <c:v>0.00406648576439538</c:v>
                </c:pt>
                <c:pt idx="797">
                  <c:v>0.00402566816244612</c:v>
                </c:pt>
                <c:pt idx="798">
                  <c:v>0.00398536141426298</c:v>
                </c:pt>
                <c:pt idx="799">
                  <c:v>0.00394555786669015</c:v>
                </c:pt>
                <c:pt idx="800">
                  <c:v>0.00390625</c:v>
                </c:pt>
              </c:numCache>
            </c:numRef>
          </c:yVal>
          <c:smooth val="1"/>
        </c:ser>
        <c:axId val="21703312"/>
        <c:axId val="5770706"/>
      </c:scatterChart>
      <c:valAx>
        <c:axId val="21703312"/>
        <c:scaling>
          <c:orientation val="minMax"/>
          <c:max val="4"/>
          <c:min val="-4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5770706"/>
        <c:crosses val="autoZero"/>
        <c:crossBetween val="midCat"/>
        <c:majorUnit val="1"/>
      </c:valAx>
      <c:valAx>
        <c:axId val="5770706"/>
        <c:scaling>
          <c:orientation val="minMax"/>
          <c:max val="8"/>
          <c:min val="-2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21703312"/>
        <c:crosses val="autoZero"/>
        <c:crossBetween val="midCat"/>
        <c:majorUnit val="2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2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801"/>
                <c:pt idx="0">
                  <c:v>-4</c:v>
                </c:pt>
                <c:pt idx="1">
                  <c:v>-3.99</c:v>
                </c:pt>
                <c:pt idx="2">
                  <c:v>-3.98</c:v>
                </c:pt>
                <c:pt idx="3">
                  <c:v>-3.97</c:v>
                </c:pt>
                <c:pt idx="4">
                  <c:v>-3.96</c:v>
                </c:pt>
                <c:pt idx="5">
                  <c:v>-3.95</c:v>
                </c:pt>
                <c:pt idx="6">
                  <c:v>-3.94</c:v>
                </c:pt>
                <c:pt idx="7">
                  <c:v>-3.93</c:v>
                </c:pt>
                <c:pt idx="8">
                  <c:v>-3.92</c:v>
                </c:pt>
                <c:pt idx="9">
                  <c:v>-3.91</c:v>
                </c:pt>
                <c:pt idx="10">
                  <c:v>-3.9</c:v>
                </c:pt>
                <c:pt idx="11">
                  <c:v>-3.89</c:v>
                </c:pt>
                <c:pt idx="12">
                  <c:v>-3.88</c:v>
                </c:pt>
                <c:pt idx="13">
                  <c:v>-3.87</c:v>
                </c:pt>
                <c:pt idx="14">
                  <c:v>-3.86</c:v>
                </c:pt>
                <c:pt idx="15">
                  <c:v>-3.85</c:v>
                </c:pt>
                <c:pt idx="16">
                  <c:v>-3.84</c:v>
                </c:pt>
                <c:pt idx="17">
                  <c:v>-3.83</c:v>
                </c:pt>
                <c:pt idx="18">
                  <c:v>-3.82</c:v>
                </c:pt>
                <c:pt idx="19">
                  <c:v>-3.81</c:v>
                </c:pt>
                <c:pt idx="20">
                  <c:v>-3.8</c:v>
                </c:pt>
                <c:pt idx="21">
                  <c:v>-3.79</c:v>
                </c:pt>
                <c:pt idx="22">
                  <c:v>-3.78</c:v>
                </c:pt>
                <c:pt idx="23">
                  <c:v>-3.77</c:v>
                </c:pt>
                <c:pt idx="24">
                  <c:v>-3.76</c:v>
                </c:pt>
                <c:pt idx="25">
                  <c:v>-3.75</c:v>
                </c:pt>
                <c:pt idx="26">
                  <c:v>-3.74</c:v>
                </c:pt>
                <c:pt idx="27">
                  <c:v>-3.73</c:v>
                </c:pt>
                <c:pt idx="28">
                  <c:v>-3.72</c:v>
                </c:pt>
                <c:pt idx="29">
                  <c:v>-3.71</c:v>
                </c:pt>
                <c:pt idx="30">
                  <c:v>-3.7</c:v>
                </c:pt>
                <c:pt idx="31">
                  <c:v>-3.69</c:v>
                </c:pt>
                <c:pt idx="32">
                  <c:v>-3.68</c:v>
                </c:pt>
                <c:pt idx="33">
                  <c:v>-3.67</c:v>
                </c:pt>
                <c:pt idx="34">
                  <c:v>-3.66</c:v>
                </c:pt>
                <c:pt idx="35">
                  <c:v>-3.65</c:v>
                </c:pt>
                <c:pt idx="36">
                  <c:v>-3.64</c:v>
                </c:pt>
                <c:pt idx="37">
                  <c:v>-3.63</c:v>
                </c:pt>
                <c:pt idx="38">
                  <c:v>-3.62</c:v>
                </c:pt>
                <c:pt idx="39">
                  <c:v>-3.61</c:v>
                </c:pt>
                <c:pt idx="40">
                  <c:v>-3.6</c:v>
                </c:pt>
                <c:pt idx="41">
                  <c:v>-3.59</c:v>
                </c:pt>
                <c:pt idx="42">
                  <c:v>-3.58</c:v>
                </c:pt>
                <c:pt idx="43">
                  <c:v>-3.57</c:v>
                </c:pt>
                <c:pt idx="44">
                  <c:v>-3.56</c:v>
                </c:pt>
                <c:pt idx="45">
                  <c:v>-3.55</c:v>
                </c:pt>
                <c:pt idx="46">
                  <c:v>-3.54</c:v>
                </c:pt>
                <c:pt idx="47">
                  <c:v>-3.53</c:v>
                </c:pt>
                <c:pt idx="48">
                  <c:v>-3.52</c:v>
                </c:pt>
                <c:pt idx="49">
                  <c:v>-3.51</c:v>
                </c:pt>
                <c:pt idx="50">
                  <c:v>-3.5</c:v>
                </c:pt>
                <c:pt idx="51">
                  <c:v>-3.49</c:v>
                </c:pt>
                <c:pt idx="52">
                  <c:v>-3.48</c:v>
                </c:pt>
                <c:pt idx="53">
                  <c:v>-3.47</c:v>
                </c:pt>
                <c:pt idx="54">
                  <c:v>-3.46</c:v>
                </c:pt>
                <c:pt idx="55">
                  <c:v>-3.45</c:v>
                </c:pt>
                <c:pt idx="56">
                  <c:v>-3.44</c:v>
                </c:pt>
                <c:pt idx="57">
                  <c:v>-3.43</c:v>
                </c:pt>
                <c:pt idx="58">
                  <c:v>-3.42</c:v>
                </c:pt>
                <c:pt idx="59">
                  <c:v>-3.41</c:v>
                </c:pt>
                <c:pt idx="60">
                  <c:v>-3.4</c:v>
                </c:pt>
                <c:pt idx="61">
                  <c:v>-3.39</c:v>
                </c:pt>
                <c:pt idx="62">
                  <c:v>-3.38</c:v>
                </c:pt>
                <c:pt idx="63">
                  <c:v>-3.37</c:v>
                </c:pt>
                <c:pt idx="64">
                  <c:v>-3.36</c:v>
                </c:pt>
                <c:pt idx="65">
                  <c:v>-3.35</c:v>
                </c:pt>
                <c:pt idx="66">
                  <c:v>-3.34</c:v>
                </c:pt>
                <c:pt idx="67">
                  <c:v>-3.33</c:v>
                </c:pt>
                <c:pt idx="68">
                  <c:v>-3.32</c:v>
                </c:pt>
                <c:pt idx="69">
                  <c:v>-3.31</c:v>
                </c:pt>
                <c:pt idx="70">
                  <c:v>-3.3</c:v>
                </c:pt>
                <c:pt idx="71">
                  <c:v>-3.29</c:v>
                </c:pt>
                <c:pt idx="72">
                  <c:v>-3.28</c:v>
                </c:pt>
                <c:pt idx="73">
                  <c:v>-3.27</c:v>
                </c:pt>
                <c:pt idx="74">
                  <c:v>-3.26</c:v>
                </c:pt>
                <c:pt idx="75">
                  <c:v>-3.25</c:v>
                </c:pt>
                <c:pt idx="76">
                  <c:v>-3.24</c:v>
                </c:pt>
                <c:pt idx="77">
                  <c:v>-3.23</c:v>
                </c:pt>
                <c:pt idx="78">
                  <c:v>-3.22</c:v>
                </c:pt>
                <c:pt idx="79">
                  <c:v>-3.21</c:v>
                </c:pt>
                <c:pt idx="80">
                  <c:v>-3.2</c:v>
                </c:pt>
                <c:pt idx="81">
                  <c:v>-3.19</c:v>
                </c:pt>
                <c:pt idx="82">
                  <c:v>-3.18</c:v>
                </c:pt>
                <c:pt idx="83">
                  <c:v>-3.17</c:v>
                </c:pt>
                <c:pt idx="84">
                  <c:v>-3.16</c:v>
                </c:pt>
                <c:pt idx="85">
                  <c:v>-3.15</c:v>
                </c:pt>
                <c:pt idx="86">
                  <c:v>-3.14</c:v>
                </c:pt>
                <c:pt idx="87">
                  <c:v>-3.13</c:v>
                </c:pt>
                <c:pt idx="88">
                  <c:v>-3.12</c:v>
                </c:pt>
                <c:pt idx="89">
                  <c:v>-3.11</c:v>
                </c:pt>
                <c:pt idx="90">
                  <c:v>-3.1</c:v>
                </c:pt>
                <c:pt idx="91">
                  <c:v>-3.09</c:v>
                </c:pt>
                <c:pt idx="92">
                  <c:v>-3.08</c:v>
                </c:pt>
                <c:pt idx="93">
                  <c:v>-3.07</c:v>
                </c:pt>
                <c:pt idx="94">
                  <c:v>-3.06</c:v>
                </c:pt>
                <c:pt idx="95">
                  <c:v>-3.05</c:v>
                </c:pt>
                <c:pt idx="96">
                  <c:v>-3.04</c:v>
                </c:pt>
                <c:pt idx="97">
                  <c:v>-3.03</c:v>
                </c:pt>
                <c:pt idx="98">
                  <c:v>-3.02</c:v>
                </c:pt>
                <c:pt idx="99">
                  <c:v>-3.01</c:v>
                </c:pt>
                <c:pt idx="100">
                  <c:v>-3</c:v>
                </c:pt>
                <c:pt idx="101">
                  <c:v>-2.99</c:v>
                </c:pt>
                <c:pt idx="102">
                  <c:v>-2.98</c:v>
                </c:pt>
                <c:pt idx="103">
                  <c:v>-2.97</c:v>
                </c:pt>
                <c:pt idx="104">
                  <c:v>-2.96</c:v>
                </c:pt>
                <c:pt idx="105">
                  <c:v>-2.95</c:v>
                </c:pt>
                <c:pt idx="106">
                  <c:v>-2.94</c:v>
                </c:pt>
                <c:pt idx="107">
                  <c:v>-2.93</c:v>
                </c:pt>
                <c:pt idx="108">
                  <c:v>-2.92</c:v>
                </c:pt>
                <c:pt idx="109">
                  <c:v>-2.91</c:v>
                </c:pt>
                <c:pt idx="110">
                  <c:v>-2.9</c:v>
                </c:pt>
                <c:pt idx="111">
                  <c:v>-2.89</c:v>
                </c:pt>
                <c:pt idx="112">
                  <c:v>-2.88</c:v>
                </c:pt>
                <c:pt idx="113">
                  <c:v>-2.87</c:v>
                </c:pt>
                <c:pt idx="114">
                  <c:v>-2.86</c:v>
                </c:pt>
                <c:pt idx="115">
                  <c:v>-2.85</c:v>
                </c:pt>
                <c:pt idx="116">
                  <c:v>-2.84</c:v>
                </c:pt>
                <c:pt idx="117">
                  <c:v>-2.83</c:v>
                </c:pt>
                <c:pt idx="118">
                  <c:v>-2.82</c:v>
                </c:pt>
                <c:pt idx="119">
                  <c:v>-2.81</c:v>
                </c:pt>
                <c:pt idx="120">
                  <c:v>-2.8</c:v>
                </c:pt>
                <c:pt idx="121">
                  <c:v>-2.79</c:v>
                </c:pt>
                <c:pt idx="122">
                  <c:v>-2.78</c:v>
                </c:pt>
                <c:pt idx="123">
                  <c:v>-2.77</c:v>
                </c:pt>
                <c:pt idx="124">
                  <c:v>-2.76</c:v>
                </c:pt>
                <c:pt idx="125">
                  <c:v>-2.75</c:v>
                </c:pt>
                <c:pt idx="126">
                  <c:v>-2.74</c:v>
                </c:pt>
                <c:pt idx="127">
                  <c:v>-2.73</c:v>
                </c:pt>
                <c:pt idx="128">
                  <c:v>-2.72</c:v>
                </c:pt>
                <c:pt idx="129">
                  <c:v>-2.71</c:v>
                </c:pt>
                <c:pt idx="130">
                  <c:v>-2.7</c:v>
                </c:pt>
                <c:pt idx="131">
                  <c:v>-2.69</c:v>
                </c:pt>
                <c:pt idx="132">
                  <c:v>-2.68</c:v>
                </c:pt>
                <c:pt idx="133">
                  <c:v>-2.67</c:v>
                </c:pt>
                <c:pt idx="134">
                  <c:v>-2.66</c:v>
                </c:pt>
                <c:pt idx="135">
                  <c:v>-2.65</c:v>
                </c:pt>
                <c:pt idx="136">
                  <c:v>-2.64</c:v>
                </c:pt>
                <c:pt idx="137">
                  <c:v>-2.63</c:v>
                </c:pt>
                <c:pt idx="138">
                  <c:v>-2.62</c:v>
                </c:pt>
                <c:pt idx="139">
                  <c:v>-2.61</c:v>
                </c:pt>
                <c:pt idx="140">
                  <c:v>-2.6</c:v>
                </c:pt>
                <c:pt idx="141">
                  <c:v>-2.59</c:v>
                </c:pt>
                <c:pt idx="142">
                  <c:v>-2.58</c:v>
                </c:pt>
                <c:pt idx="143">
                  <c:v>-2.57</c:v>
                </c:pt>
                <c:pt idx="144">
                  <c:v>-2.56</c:v>
                </c:pt>
                <c:pt idx="145">
                  <c:v>-2.55</c:v>
                </c:pt>
                <c:pt idx="146">
                  <c:v>-2.54</c:v>
                </c:pt>
                <c:pt idx="147">
                  <c:v>-2.53</c:v>
                </c:pt>
                <c:pt idx="148">
                  <c:v>-2.52</c:v>
                </c:pt>
                <c:pt idx="149">
                  <c:v>-2.51</c:v>
                </c:pt>
                <c:pt idx="150">
                  <c:v>-2.5</c:v>
                </c:pt>
                <c:pt idx="151">
                  <c:v>-2.49</c:v>
                </c:pt>
                <c:pt idx="152">
                  <c:v>-2.48</c:v>
                </c:pt>
                <c:pt idx="153">
                  <c:v>-2.47</c:v>
                </c:pt>
                <c:pt idx="154">
                  <c:v>-2.46</c:v>
                </c:pt>
                <c:pt idx="155">
                  <c:v>-2.45</c:v>
                </c:pt>
                <c:pt idx="156">
                  <c:v>-2.44</c:v>
                </c:pt>
                <c:pt idx="157">
                  <c:v>-2.43</c:v>
                </c:pt>
                <c:pt idx="158">
                  <c:v>-2.42</c:v>
                </c:pt>
                <c:pt idx="159">
                  <c:v>-2.41</c:v>
                </c:pt>
                <c:pt idx="160">
                  <c:v>-2.4</c:v>
                </c:pt>
                <c:pt idx="161">
                  <c:v>-2.39</c:v>
                </c:pt>
                <c:pt idx="162">
                  <c:v>-2.38</c:v>
                </c:pt>
                <c:pt idx="163">
                  <c:v>-2.37</c:v>
                </c:pt>
                <c:pt idx="164">
                  <c:v>-2.36</c:v>
                </c:pt>
                <c:pt idx="165">
                  <c:v>-2.35</c:v>
                </c:pt>
                <c:pt idx="166">
                  <c:v>-2.34</c:v>
                </c:pt>
                <c:pt idx="167">
                  <c:v>-2.33</c:v>
                </c:pt>
                <c:pt idx="168">
                  <c:v>-2.32</c:v>
                </c:pt>
                <c:pt idx="169">
                  <c:v>-2.31</c:v>
                </c:pt>
                <c:pt idx="170">
                  <c:v>-2.3</c:v>
                </c:pt>
                <c:pt idx="171">
                  <c:v>-2.29</c:v>
                </c:pt>
                <c:pt idx="172">
                  <c:v>-2.28</c:v>
                </c:pt>
                <c:pt idx="173">
                  <c:v>-2.27</c:v>
                </c:pt>
                <c:pt idx="174">
                  <c:v>-2.26</c:v>
                </c:pt>
                <c:pt idx="175">
                  <c:v>-2.25</c:v>
                </c:pt>
                <c:pt idx="176">
                  <c:v>-2.24</c:v>
                </c:pt>
                <c:pt idx="177">
                  <c:v>-2.23</c:v>
                </c:pt>
                <c:pt idx="178">
                  <c:v>-2.22</c:v>
                </c:pt>
                <c:pt idx="179">
                  <c:v>-2.21</c:v>
                </c:pt>
                <c:pt idx="180">
                  <c:v>-2.2</c:v>
                </c:pt>
                <c:pt idx="181">
                  <c:v>-2.19</c:v>
                </c:pt>
                <c:pt idx="182">
                  <c:v>-2.18</c:v>
                </c:pt>
                <c:pt idx="183">
                  <c:v>-2.17</c:v>
                </c:pt>
                <c:pt idx="184">
                  <c:v>-2.16</c:v>
                </c:pt>
                <c:pt idx="185">
                  <c:v>-2.15</c:v>
                </c:pt>
                <c:pt idx="186">
                  <c:v>-2.14</c:v>
                </c:pt>
                <c:pt idx="187">
                  <c:v>-2.13</c:v>
                </c:pt>
                <c:pt idx="188">
                  <c:v>-2.12</c:v>
                </c:pt>
                <c:pt idx="189">
                  <c:v>-2.11</c:v>
                </c:pt>
                <c:pt idx="190">
                  <c:v>-2.1</c:v>
                </c:pt>
                <c:pt idx="191">
                  <c:v>-2.09</c:v>
                </c:pt>
                <c:pt idx="192">
                  <c:v>-2.08</c:v>
                </c:pt>
                <c:pt idx="193">
                  <c:v>-2.07</c:v>
                </c:pt>
                <c:pt idx="194">
                  <c:v>-2.06</c:v>
                </c:pt>
                <c:pt idx="195">
                  <c:v>-2.05</c:v>
                </c:pt>
                <c:pt idx="196">
                  <c:v>-2.04</c:v>
                </c:pt>
                <c:pt idx="197">
                  <c:v>-2.03</c:v>
                </c:pt>
                <c:pt idx="198">
                  <c:v>-2.02</c:v>
                </c:pt>
                <c:pt idx="199">
                  <c:v>-2.01</c:v>
                </c:pt>
                <c:pt idx="200">
                  <c:v>-2</c:v>
                </c:pt>
                <c:pt idx="201">
                  <c:v>-1.99</c:v>
                </c:pt>
                <c:pt idx="202">
                  <c:v>-1.98</c:v>
                </c:pt>
                <c:pt idx="203">
                  <c:v>-1.97</c:v>
                </c:pt>
                <c:pt idx="204">
                  <c:v>-1.96</c:v>
                </c:pt>
                <c:pt idx="205">
                  <c:v>-1.95</c:v>
                </c:pt>
                <c:pt idx="206">
                  <c:v>-1.94</c:v>
                </c:pt>
                <c:pt idx="207">
                  <c:v>-1.93</c:v>
                </c:pt>
                <c:pt idx="208">
                  <c:v>-1.92</c:v>
                </c:pt>
                <c:pt idx="209">
                  <c:v>-1.91</c:v>
                </c:pt>
                <c:pt idx="210">
                  <c:v>-1.9</c:v>
                </c:pt>
                <c:pt idx="211">
                  <c:v>-1.89</c:v>
                </c:pt>
                <c:pt idx="212">
                  <c:v>-1.88</c:v>
                </c:pt>
                <c:pt idx="213">
                  <c:v>-1.87</c:v>
                </c:pt>
                <c:pt idx="214">
                  <c:v>-1.86</c:v>
                </c:pt>
                <c:pt idx="215">
                  <c:v>-1.85</c:v>
                </c:pt>
                <c:pt idx="216">
                  <c:v>-1.84</c:v>
                </c:pt>
                <c:pt idx="217">
                  <c:v>-1.83</c:v>
                </c:pt>
                <c:pt idx="218">
                  <c:v>-1.82</c:v>
                </c:pt>
                <c:pt idx="219">
                  <c:v>-1.81</c:v>
                </c:pt>
                <c:pt idx="220">
                  <c:v>-1.8</c:v>
                </c:pt>
                <c:pt idx="221">
                  <c:v>-1.79</c:v>
                </c:pt>
                <c:pt idx="222">
                  <c:v>-1.78</c:v>
                </c:pt>
                <c:pt idx="223">
                  <c:v>-1.77</c:v>
                </c:pt>
                <c:pt idx="224">
                  <c:v>-1.76</c:v>
                </c:pt>
                <c:pt idx="225">
                  <c:v>-1.75</c:v>
                </c:pt>
                <c:pt idx="226">
                  <c:v>-1.74</c:v>
                </c:pt>
                <c:pt idx="227">
                  <c:v>-1.73</c:v>
                </c:pt>
                <c:pt idx="228">
                  <c:v>-1.72</c:v>
                </c:pt>
                <c:pt idx="229">
                  <c:v>-1.71</c:v>
                </c:pt>
                <c:pt idx="230">
                  <c:v>-1.7</c:v>
                </c:pt>
                <c:pt idx="231">
                  <c:v>-1.69</c:v>
                </c:pt>
                <c:pt idx="232">
                  <c:v>-1.68</c:v>
                </c:pt>
                <c:pt idx="233">
                  <c:v>-1.67</c:v>
                </c:pt>
                <c:pt idx="234">
                  <c:v>-1.66</c:v>
                </c:pt>
                <c:pt idx="235">
                  <c:v>-1.65</c:v>
                </c:pt>
                <c:pt idx="236">
                  <c:v>-1.64</c:v>
                </c:pt>
                <c:pt idx="237">
                  <c:v>-1.63</c:v>
                </c:pt>
                <c:pt idx="238">
                  <c:v>-1.62</c:v>
                </c:pt>
                <c:pt idx="239">
                  <c:v>-1.61</c:v>
                </c:pt>
                <c:pt idx="240">
                  <c:v>-1.6</c:v>
                </c:pt>
                <c:pt idx="241">
                  <c:v>-1.59</c:v>
                </c:pt>
                <c:pt idx="242">
                  <c:v>-1.58</c:v>
                </c:pt>
                <c:pt idx="243">
                  <c:v>-1.57</c:v>
                </c:pt>
                <c:pt idx="244">
                  <c:v>-1.56</c:v>
                </c:pt>
                <c:pt idx="245">
                  <c:v>-1.55</c:v>
                </c:pt>
                <c:pt idx="246">
                  <c:v>-1.54</c:v>
                </c:pt>
                <c:pt idx="247">
                  <c:v>-1.53</c:v>
                </c:pt>
                <c:pt idx="248">
                  <c:v>-1.52</c:v>
                </c:pt>
                <c:pt idx="249">
                  <c:v>-1.51</c:v>
                </c:pt>
                <c:pt idx="250">
                  <c:v>-1.5</c:v>
                </c:pt>
                <c:pt idx="251">
                  <c:v>-1.49</c:v>
                </c:pt>
                <c:pt idx="252">
                  <c:v>-1.48</c:v>
                </c:pt>
                <c:pt idx="253">
                  <c:v>-1.47</c:v>
                </c:pt>
                <c:pt idx="254">
                  <c:v>-1.46</c:v>
                </c:pt>
                <c:pt idx="255">
                  <c:v>-1.45</c:v>
                </c:pt>
                <c:pt idx="256">
                  <c:v>-1.44</c:v>
                </c:pt>
                <c:pt idx="257">
                  <c:v>-1.43</c:v>
                </c:pt>
                <c:pt idx="258">
                  <c:v>-1.42</c:v>
                </c:pt>
                <c:pt idx="259">
                  <c:v>-1.41</c:v>
                </c:pt>
                <c:pt idx="260">
                  <c:v>-1.4</c:v>
                </c:pt>
                <c:pt idx="261">
                  <c:v>-1.39</c:v>
                </c:pt>
                <c:pt idx="262">
                  <c:v>-1.38</c:v>
                </c:pt>
                <c:pt idx="263">
                  <c:v>-1.37</c:v>
                </c:pt>
                <c:pt idx="264">
                  <c:v>-1.36</c:v>
                </c:pt>
                <c:pt idx="265">
                  <c:v>-1.35</c:v>
                </c:pt>
                <c:pt idx="266">
                  <c:v>-1.34</c:v>
                </c:pt>
                <c:pt idx="267">
                  <c:v>-1.33</c:v>
                </c:pt>
                <c:pt idx="268">
                  <c:v>-1.32</c:v>
                </c:pt>
                <c:pt idx="269">
                  <c:v>-1.31</c:v>
                </c:pt>
                <c:pt idx="270">
                  <c:v>-1.3</c:v>
                </c:pt>
                <c:pt idx="271">
                  <c:v>-1.29</c:v>
                </c:pt>
                <c:pt idx="272">
                  <c:v>-1.28</c:v>
                </c:pt>
                <c:pt idx="273">
                  <c:v>-1.27</c:v>
                </c:pt>
                <c:pt idx="274">
                  <c:v>-1.26</c:v>
                </c:pt>
                <c:pt idx="275">
                  <c:v>-1.25</c:v>
                </c:pt>
                <c:pt idx="276">
                  <c:v>-1.24</c:v>
                </c:pt>
                <c:pt idx="277">
                  <c:v>-1.23</c:v>
                </c:pt>
                <c:pt idx="278">
                  <c:v>-1.22</c:v>
                </c:pt>
                <c:pt idx="279">
                  <c:v>-1.21</c:v>
                </c:pt>
                <c:pt idx="280">
                  <c:v>-1.2</c:v>
                </c:pt>
                <c:pt idx="281">
                  <c:v>-1.19</c:v>
                </c:pt>
                <c:pt idx="282">
                  <c:v>-1.18</c:v>
                </c:pt>
                <c:pt idx="283">
                  <c:v>-1.17</c:v>
                </c:pt>
                <c:pt idx="284">
                  <c:v>-1.16</c:v>
                </c:pt>
                <c:pt idx="285">
                  <c:v>-1.15</c:v>
                </c:pt>
                <c:pt idx="286">
                  <c:v>-1.14</c:v>
                </c:pt>
                <c:pt idx="287">
                  <c:v>-1.13</c:v>
                </c:pt>
                <c:pt idx="288">
                  <c:v>-1.12</c:v>
                </c:pt>
                <c:pt idx="289">
                  <c:v>-1.11</c:v>
                </c:pt>
                <c:pt idx="290">
                  <c:v>-1.1</c:v>
                </c:pt>
                <c:pt idx="291">
                  <c:v>-1.09</c:v>
                </c:pt>
                <c:pt idx="292">
                  <c:v>-1.08</c:v>
                </c:pt>
                <c:pt idx="293">
                  <c:v>-1.07</c:v>
                </c:pt>
                <c:pt idx="294">
                  <c:v>-1.06</c:v>
                </c:pt>
                <c:pt idx="295">
                  <c:v>-1.05</c:v>
                </c:pt>
                <c:pt idx="296">
                  <c:v>-1.04</c:v>
                </c:pt>
                <c:pt idx="297">
                  <c:v>-1.03</c:v>
                </c:pt>
                <c:pt idx="298">
                  <c:v>-1.02</c:v>
                </c:pt>
                <c:pt idx="299">
                  <c:v>-1.01</c:v>
                </c:pt>
                <c:pt idx="300">
                  <c:v>-1</c:v>
                </c:pt>
                <c:pt idx="301">
                  <c:v>-0.99</c:v>
                </c:pt>
                <c:pt idx="302">
                  <c:v>-0.98</c:v>
                </c:pt>
                <c:pt idx="303">
                  <c:v>-0.97</c:v>
                </c:pt>
                <c:pt idx="304">
                  <c:v>-0.96</c:v>
                </c:pt>
                <c:pt idx="305">
                  <c:v>-0.95</c:v>
                </c:pt>
                <c:pt idx="306">
                  <c:v>-0.94</c:v>
                </c:pt>
                <c:pt idx="307">
                  <c:v>-0.93</c:v>
                </c:pt>
                <c:pt idx="308">
                  <c:v>-0.92</c:v>
                </c:pt>
                <c:pt idx="309">
                  <c:v>-0.91</c:v>
                </c:pt>
                <c:pt idx="310">
                  <c:v>-0.9</c:v>
                </c:pt>
                <c:pt idx="311">
                  <c:v>-0.89</c:v>
                </c:pt>
                <c:pt idx="312">
                  <c:v>-0.88</c:v>
                </c:pt>
                <c:pt idx="313">
                  <c:v>-0.87</c:v>
                </c:pt>
                <c:pt idx="314">
                  <c:v>-0.86</c:v>
                </c:pt>
                <c:pt idx="315">
                  <c:v>-0.85</c:v>
                </c:pt>
                <c:pt idx="316">
                  <c:v>-0.84</c:v>
                </c:pt>
                <c:pt idx="317">
                  <c:v>-0.83</c:v>
                </c:pt>
                <c:pt idx="318">
                  <c:v>-0.82</c:v>
                </c:pt>
                <c:pt idx="319">
                  <c:v>-0.81</c:v>
                </c:pt>
                <c:pt idx="320">
                  <c:v>-0.8</c:v>
                </c:pt>
                <c:pt idx="321">
                  <c:v>-0.79</c:v>
                </c:pt>
                <c:pt idx="322">
                  <c:v>-0.78</c:v>
                </c:pt>
                <c:pt idx="323">
                  <c:v>-0.77</c:v>
                </c:pt>
                <c:pt idx="324">
                  <c:v>-0.76</c:v>
                </c:pt>
                <c:pt idx="325">
                  <c:v>-0.75</c:v>
                </c:pt>
                <c:pt idx="326">
                  <c:v>-0.74</c:v>
                </c:pt>
                <c:pt idx="327">
                  <c:v>-0.73</c:v>
                </c:pt>
                <c:pt idx="328">
                  <c:v>-0.72</c:v>
                </c:pt>
                <c:pt idx="329">
                  <c:v>-0.71</c:v>
                </c:pt>
                <c:pt idx="330">
                  <c:v>-0.7</c:v>
                </c:pt>
                <c:pt idx="331">
                  <c:v>-0.69</c:v>
                </c:pt>
                <c:pt idx="332">
                  <c:v>-0.68</c:v>
                </c:pt>
                <c:pt idx="333">
                  <c:v>-0.67</c:v>
                </c:pt>
                <c:pt idx="334">
                  <c:v>-0.66</c:v>
                </c:pt>
                <c:pt idx="335">
                  <c:v>-0.65</c:v>
                </c:pt>
                <c:pt idx="336">
                  <c:v>-0.64</c:v>
                </c:pt>
                <c:pt idx="337">
                  <c:v>-0.63</c:v>
                </c:pt>
                <c:pt idx="338">
                  <c:v>-0.62</c:v>
                </c:pt>
                <c:pt idx="339">
                  <c:v>-0.61</c:v>
                </c:pt>
                <c:pt idx="340">
                  <c:v>-0.6</c:v>
                </c:pt>
                <c:pt idx="341">
                  <c:v>-0.59</c:v>
                </c:pt>
                <c:pt idx="342">
                  <c:v>-0.58</c:v>
                </c:pt>
                <c:pt idx="343">
                  <c:v>-0.57</c:v>
                </c:pt>
                <c:pt idx="344">
                  <c:v>-0.56</c:v>
                </c:pt>
                <c:pt idx="345">
                  <c:v>-0.55</c:v>
                </c:pt>
                <c:pt idx="346">
                  <c:v>-0.54</c:v>
                </c:pt>
                <c:pt idx="347">
                  <c:v>-0.53</c:v>
                </c:pt>
                <c:pt idx="348">
                  <c:v>-0.52</c:v>
                </c:pt>
                <c:pt idx="349">
                  <c:v>-0.51</c:v>
                </c:pt>
                <c:pt idx="350">
                  <c:v>-0.5</c:v>
                </c:pt>
                <c:pt idx="351">
                  <c:v>-0.49</c:v>
                </c:pt>
                <c:pt idx="352">
                  <c:v>-0.48</c:v>
                </c:pt>
                <c:pt idx="353">
                  <c:v>-0.47</c:v>
                </c:pt>
                <c:pt idx="354">
                  <c:v>-0.46</c:v>
                </c:pt>
                <c:pt idx="355">
                  <c:v>-0.45</c:v>
                </c:pt>
                <c:pt idx="356">
                  <c:v>-0.44</c:v>
                </c:pt>
                <c:pt idx="357">
                  <c:v>-0.43</c:v>
                </c:pt>
                <c:pt idx="358">
                  <c:v>-0.42</c:v>
                </c:pt>
                <c:pt idx="359">
                  <c:v>-0.41</c:v>
                </c:pt>
                <c:pt idx="360">
                  <c:v>-0.4</c:v>
                </c:pt>
                <c:pt idx="361">
                  <c:v>-0.39</c:v>
                </c:pt>
                <c:pt idx="362">
                  <c:v>-0.38</c:v>
                </c:pt>
                <c:pt idx="363">
                  <c:v>-0.37</c:v>
                </c:pt>
                <c:pt idx="364">
                  <c:v>-0.36</c:v>
                </c:pt>
                <c:pt idx="365">
                  <c:v>-0.35</c:v>
                </c:pt>
                <c:pt idx="366">
                  <c:v>-0.34</c:v>
                </c:pt>
                <c:pt idx="367">
                  <c:v>-0.33</c:v>
                </c:pt>
                <c:pt idx="368">
                  <c:v>-0.32</c:v>
                </c:pt>
                <c:pt idx="369">
                  <c:v>-0.31</c:v>
                </c:pt>
                <c:pt idx="370">
                  <c:v>-0.3</c:v>
                </c:pt>
                <c:pt idx="371">
                  <c:v>-0.29</c:v>
                </c:pt>
                <c:pt idx="372">
                  <c:v>-0.28</c:v>
                </c:pt>
                <c:pt idx="373">
                  <c:v>-0.27</c:v>
                </c:pt>
                <c:pt idx="374">
                  <c:v>-0.26</c:v>
                </c:pt>
                <c:pt idx="375">
                  <c:v>-0.25</c:v>
                </c:pt>
                <c:pt idx="376">
                  <c:v>-0.24</c:v>
                </c:pt>
                <c:pt idx="377">
                  <c:v>-0.23</c:v>
                </c:pt>
                <c:pt idx="378">
                  <c:v>-0.22</c:v>
                </c:pt>
                <c:pt idx="379">
                  <c:v>-0.21</c:v>
                </c:pt>
                <c:pt idx="380">
                  <c:v>-0.2</c:v>
                </c:pt>
                <c:pt idx="381">
                  <c:v>-0.19</c:v>
                </c:pt>
                <c:pt idx="382">
                  <c:v>-0.18</c:v>
                </c:pt>
                <c:pt idx="383">
                  <c:v>-0.17</c:v>
                </c:pt>
                <c:pt idx="384">
                  <c:v>-0.16</c:v>
                </c:pt>
                <c:pt idx="385">
                  <c:v>-0.15</c:v>
                </c:pt>
                <c:pt idx="386">
                  <c:v>-0.14</c:v>
                </c:pt>
                <c:pt idx="387">
                  <c:v>-0.13</c:v>
                </c:pt>
                <c:pt idx="388">
                  <c:v>-0.12</c:v>
                </c:pt>
                <c:pt idx="389">
                  <c:v>-0.11</c:v>
                </c:pt>
                <c:pt idx="390">
                  <c:v>-0.1</c:v>
                </c:pt>
                <c:pt idx="391">
                  <c:v>-0.0899999999999999</c:v>
                </c:pt>
                <c:pt idx="392">
                  <c:v>-0.0800000000000001</c:v>
                </c:pt>
                <c:pt idx="393">
                  <c:v>-0.0699999999999998</c:v>
                </c:pt>
                <c:pt idx="394">
                  <c:v>-0.0600000000000001</c:v>
                </c:pt>
                <c:pt idx="395">
                  <c:v>-0.0499999999999998</c:v>
                </c:pt>
                <c:pt idx="396">
                  <c:v>-0.04</c:v>
                </c:pt>
                <c:pt idx="397">
                  <c:v>-0.0299999999999998</c:v>
                </c:pt>
                <c:pt idx="398">
                  <c:v>-0.02</c:v>
                </c:pt>
                <c:pt idx="399">
                  <c:v>-0.00999999999999979</c:v>
                </c:pt>
                <c:pt idx="401">
                  <c:v>0.00999999999999979</c:v>
                </c:pt>
                <c:pt idx="402">
                  <c:v>0.0200000000000005</c:v>
                </c:pt>
                <c:pt idx="403">
                  <c:v>0.0300000000000003</c:v>
                </c:pt>
                <c:pt idx="404">
                  <c:v>0.04</c:v>
                </c:pt>
                <c:pt idx="405">
                  <c:v>0.0499999999999998</c:v>
                </c:pt>
                <c:pt idx="406">
                  <c:v>0.0600000000000005</c:v>
                </c:pt>
                <c:pt idx="407">
                  <c:v>0.0700000000000003</c:v>
                </c:pt>
                <c:pt idx="408">
                  <c:v>0.0800000000000001</c:v>
                </c:pt>
                <c:pt idx="409">
                  <c:v>0.0899999999999999</c:v>
                </c:pt>
                <c:pt idx="410">
                  <c:v>0.0999999999999996</c:v>
                </c:pt>
                <c:pt idx="411">
                  <c:v>0.11</c:v>
                </c:pt>
                <c:pt idx="412">
                  <c:v>0.12</c:v>
                </c:pt>
                <c:pt idx="413">
                  <c:v>0.13</c:v>
                </c:pt>
                <c:pt idx="414">
                  <c:v>0.14</c:v>
                </c:pt>
                <c:pt idx="415">
                  <c:v>0.15</c:v>
                </c:pt>
                <c:pt idx="416">
                  <c:v>0.16</c:v>
                </c:pt>
                <c:pt idx="417">
                  <c:v>0.17</c:v>
                </c:pt>
                <c:pt idx="418">
                  <c:v>0.18</c:v>
                </c:pt>
                <c:pt idx="419">
                  <c:v>0.19</c:v>
                </c:pt>
                <c:pt idx="420">
                  <c:v>0.2</c:v>
                </c:pt>
                <c:pt idx="421">
                  <c:v>0.21</c:v>
                </c:pt>
                <c:pt idx="422">
                  <c:v>0.22</c:v>
                </c:pt>
                <c:pt idx="423">
                  <c:v>0.23</c:v>
                </c:pt>
                <c:pt idx="424">
                  <c:v>0.24</c:v>
                </c:pt>
                <c:pt idx="425">
                  <c:v>0.25</c:v>
                </c:pt>
                <c:pt idx="426">
                  <c:v>0.26</c:v>
                </c:pt>
                <c:pt idx="427">
                  <c:v>0.27</c:v>
                </c:pt>
                <c:pt idx="428">
                  <c:v>0.28</c:v>
                </c:pt>
                <c:pt idx="429">
                  <c:v>0.29</c:v>
                </c:pt>
                <c:pt idx="430">
                  <c:v>0.3</c:v>
                </c:pt>
                <c:pt idx="431">
                  <c:v>0.310000000000001</c:v>
                </c:pt>
                <c:pt idx="432">
                  <c:v>0.32</c:v>
                </c:pt>
                <c:pt idx="433">
                  <c:v>0.33</c:v>
                </c:pt>
                <c:pt idx="434">
                  <c:v>0.34</c:v>
                </c:pt>
                <c:pt idx="435">
                  <c:v>0.350000000000001</c:v>
                </c:pt>
                <c:pt idx="436">
                  <c:v>0.36</c:v>
                </c:pt>
                <c:pt idx="437">
                  <c:v>0.37</c:v>
                </c:pt>
                <c:pt idx="438">
                  <c:v>0.38</c:v>
                </c:pt>
                <c:pt idx="439">
                  <c:v>0.39</c:v>
                </c:pt>
                <c:pt idx="440">
                  <c:v>0.4</c:v>
                </c:pt>
                <c:pt idx="441">
                  <c:v>0.41</c:v>
                </c:pt>
                <c:pt idx="442">
                  <c:v>0.42</c:v>
                </c:pt>
                <c:pt idx="443">
                  <c:v>0.43</c:v>
                </c:pt>
                <c:pt idx="444">
                  <c:v>0.44</c:v>
                </c:pt>
                <c:pt idx="445">
                  <c:v>0.45</c:v>
                </c:pt>
                <c:pt idx="446">
                  <c:v>0.46</c:v>
                </c:pt>
                <c:pt idx="447">
                  <c:v>0.47</c:v>
                </c:pt>
                <c:pt idx="448">
                  <c:v>0.48</c:v>
                </c:pt>
                <c:pt idx="449">
                  <c:v>0.49</c:v>
                </c:pt>
                <c:pt idx="450">
                  <c:v>0.5</c:v>
                </c:pt>
                <c:pt idx="451">
                  <c:v>0.51</c:v>
                </c:pt>
                <c:pt idx="452">
                  <c:v>0.520000000000001</c:v>
                </c:pt>
                <c:pt idx="453">
                  <c:v>0.53</c:v>
                </c:pt>
                <c:pt idx="454">
                  <c:v>0.54</c:v>
                </c:pt>
                <c:pt idx="455">
                  <c:v>0.55</c:v>
                </c:pt>
                <c:pt idx="456">
                  <c:v>0.560000000000001</c:v>
                </c:pt>
                <c:pt idx="457">
                  <c:v>0.57</c:v>
                </c:pt>
                <c:pt idx="458">
                  <c:v>0.58</c:v>
                </c:pt>
                <c:pt idx="459">
                  <c:v>0.59</c:v>
                </c:pt>
                <c:pt idx="460">
                  <c:v>0.600000000000001</c:v>
                </c:pt>
                <c:pt idx="461">
                  <c:v>0.61</c:v>
                </c:pt>
                <c:pt idx="462">
                  <c:v>0.62</c:v>
                </c:pt>
                <c:pt idx="463">
                  <c:v>0.63</c:v>
                </c:pt>
                <c:pt idx="464">
                  <c:v>0.64</c:v>
                </c:pt>
                <c:pt idx="465">
                  <c:v>0.65</c:v>
                </c:pt>
                <c:pt idx="466">
                  <c:v>0.66</c:v>
                </c:pt>
                <c:pt idx="467">
                  <c:v>0.67</c:v>
                </c:pt>
                <c:pt idx="468">
                  <c:v>0.68</c:v>
                </c:pt>
                <c:pt idx="469">
                  <c:v>0.69</c:v>
                </c:pt>
                <c:pt idx="470">
                  <c:v>0.7</c:v>
                </c:pt>
                <c:pt idx="471">
                  <c:v>0.71</c:v>
                </c:pt>
                <c:pt idx="472">
                  <c:v>0.72</c:v>
                </c:pt>
                <c:pt idx="473">
                  <c:v>0.73</c:v>
                </c:pt>
                <c:pt idx="474">
                  <c:v>0.74</c:v>
                </c:pt>
                <c:pt idx="475">
                  <c:v>0.75</c:v>
                </c:pt>
                <c:pt idx="476">
                  <c:v>0.76</c:v>
                </c:pt>
                <c:pt idx="477">
                  <c:v>0.770000000000001</c:v>
                </c:pt>
                <c:pt idx="478">
                  <c:v>0.78</c:v>
                </c:pt>
                <c:pt idx="479">
                  <c:v>0.79</c:v>
                </c:pt>
                <c:pt idx="480">
                  <c:v>0.8</c:v>
                </c:pt>
                <c:pt idx="481">
                  <c:v>0.810000000000001</c:v>
                </c:pt>
                <c:pt idx="482">
                  <c:v>0.82</c:v>
                </c:pt>
                <c:pt idx="483">
                  <c:v>0.83</c:v>
                </c:pt>
                <c:pt idx="484">
                  <c:v>0.84</c:v>
                </c:pt>
                <c:pt idx="485">
                  <c:v>0.850000000000001</c:v>
                </c:pt>
                <c:pt idx="486">
                  <c:v>0.86</c:v>
                </c:pt>
                <c:pt idx="487">
                  <c:v>0.87</c:v>
                </c:pt>
                <c:pt idx="488">
                  <c:v>0.88</c:v>
                </c:pt>
                <c:pt idx="489">
                  <c:v>0.89</c:v>
                </c:pt>
                <c:pt idx="490">
                  <c:v>0.9</c:v>
                </c:pt>
                <c:pt idx="491">
                  <c:v>0.91</c:v>
                </c:pt>
                <c:pt idx="492">
                  <c:v>0.92</c:v>
                </c:pt>
                <c:pt idx="493">
                  <c:v>0.93</c:v>
                </c:pt>
                <c:pt idx="494">
                  <c:v>0.94</c:v>
                </c:pt>
                <c:pt idx="495">
                  <c:v>0.95</c:v>
                </c:pt>
                <c:pt idx="496">
                  <c:v>0.96</c:v>
                </c:pt>
                <c:pt idx="497">
                  <c:v>0.97</c:v>
                </c:pt>
                <c:pt idx="498">
                  <c:v>0.98</c:v>
                </c:pt>
                <c:pt idx="499">
                  <c:v>0.99</c:v>
                </c:pt>
                <c:pt idx="500">
                  <c:v>1</c:v>
                </c:pt>
                <c:pt idx="501">
                  <c:v>1.01</c:v>
                </c:pt>
                <c:pt idx="502">
                  <c:v>1.02</c:v>
                </c:pt>
                <c:pt idx="503">
                  <c:v>1.03</c:v>
                </c:pt>
                <c:pt idx="504">
                  <c:v>1.04</c:v>
                </c:pt>
                <c:pt idx="505">
                  <c:v>1.05</c:v>
                </c:pt>
                <c:pt idx="506">
                  <c:v>1.06</c:v>
                </c:pt>
                <c:pt idx="507">
                  <c:v>1.07</c:v>
                </c:pt>
                <c:pt idx="508">
                  <c:v>1.08</c:v>
                </c:pt>
                <c:pt idx="509">
                  <c:v>1.09</c:v>
                </c:pt>
                <c:pt idx="510">
                  <c:v>1.1</c:v>
                </c:pt>
                <c:pt idx="511">
                  <c:v>1.11</c:v>
                </c:pt>
                <c:pt idx="512">
                  <c:v>1.12</c:v>
                </c:pt>
                <c:pt idx="513">
                  <c:v>1.13</c:v>
                </c:pt>
                <c:pt idx="514">
                  <c:v>1.14</c:v>
                </c:pt>
                <c:pt idx="515">
                  <c:v>1.15</c:v>
                </c:pt>
                <c:pt idx="516">
                  <c:v>1.16</c:v>
                </c:pt>
                <c:pt idx="517">
                  <c:v>1.17</c:v>
                </c:pt>
                <c:pt idx="518">
                  <c:v>1.18</c:v>
                </c:pt>
                <c:pt idx="519">
                  <c:v>1.19</c:v>
                </c:pt>
                <c:pt idx="520">
                  <c:v>1.2</c:v>
                </c:pt>
                <c:pt idx="521">
                  <c:v>1.21</c:v>
                </c:pt>
                <c:pt idx="522">
                  <c:v>1.22</c:v>
                </c:pt>
                <c:pt idx="523">
                  <c:v>1.23</c:v>
                </c:pt>
                <c:pt idx="524">
                  <c:v>1.24</c:v>
                </c:pt>
                <c:pt idx="525">
                  <c:v>1.25</c:v>
                </c:pt>
                <c:pt idx="526">
                  <c:v>1.26</c:v>
                </c:pt>
                <c:pt idx="527">
                  <c:v>1.27</c:v>
                </c:pt>
                <c:pt idx="528">
                  <c:v>1.28</c:v>
                </c:pt>
                <c:pt idx="529">
                  <c:v>1.29</c:v>
                </c:pt>
                <c:pt idx="530">
                  <c:v>1.3</c:v>
                </c:pt>
                <c:pt idx="531">
                  <c:v>1.31</c:v>
                </c:pt>
                <c:pt idx="532">
                  <c:v>1.32</c:v>
                </c:pt>
                <c:pt idx="533">
                  <c:v>1.33</c:v>
                </c:pt>
                <c:pt idx="534">
                  <c:v>1.34</c:v>
                </c:pt>
                <c:pt idx="535">
                  <c:v>1.35</c:v>
                </c:pt>
                <c:pt idx="536">
                  <c:v>1.36</c:v>
                </c:pt>
                <c:pt idx="537">
                  <c:v>1.37</c:v>
                </c:pt>
                <c:pt idx="538">
                  <c:v>1.38</c:v>
                </c:pt>
                <c:pt idx="539">
                  <c:v>1.39</c:v>
                </c:pt>
                <c:pt idx="540">
                  <c:v>1.4</c:v>
                </c:pt>
                <c:pt idx="541">
                  <c:v>1.41</c:v>
                </c:pt>
                <c:pt idx="542">
                  <c:v>1.42</c:v>
                </c:pt>
                <c:pt idx="543">
                  <c:v>1.43</c:v>
                </c:pt>
                <c:pt idx="544">
                  <c:v>1.44</c:v>
                </c:pt>
                <c:pt idx="545">
                  <c:v>1.45</c:v>
                </c:pt>
                <c:pt idx="546">
                  <c:v>1.46</c:v>
                </c:pt>
                <c:pt idx="547">
                  <c:v>1.47</c:v>
                </c:pt>
                <c:pt idx="548">
                  <c:v>1.48</c:v>
                </c:pt>
                <c:pt idx="549">
                  <c:v>1.49</c:v>
                </c:pt>
                <c:pt idx="550">
                  <c:v>1.5</c:v>
                </c:pt>
                <c:pt idx="551">
                  <c:v>1.51</c:v>
                </c:pt>
                <c:pt idx="552">
                  <c:v>1.52</c:v>
                </c:pt>
                <c:pt idx="553">
                  <c:v>1.53</c:v>
                </c:pt>
                <c:pt idx="554">
                  <c:v>1.54</c:v>
                </c:pt>
                <c:pt idx="555">
                  <c:v>1.55</c:v>
                </c:pt>
                <c:pt idx="556">
                  <c:v>1.56</c:v>
                </c:pt>
                <c:pt idx="557">
                  <c:v>1.57</c:v>
                </c:pt>
                <c:pt idx="558">
                  <c:v>1.58</c:v>
                </c:pt>
                <c:pt idx="559">
                  <c:v>1.59</c:v>
                </c:pt>
                <c:pt idx="560">
                  <c:v>1.6</c:v>
                </c:pt>
                <c:pt idx="561">
                  <c:v>1.61</c:v>
                </c:pt>
                <c:pt idx="562">
                  <c:v>1.62</c:v>
                </c:pt>
                <c:pt idx="563">
                  <c:v>1.63</c:v>
                </c:pt>
                <c:pt idx="564">
                  <c:v>1.64</c:v>
                </c:pt>
                <c:pt idx="565">
                  <c:v>1.65</c:v>
                </c:pt>
                <c:pt idx="566">
                  <c:v>1.66</c:v>
                </c:pt>
                <c:pt idx="567">
                  <c:v>1.67</c:v>
                </c:pt>
                <c:pt idx="568">
                  <c:v>1.68</c:v>
                </c:pt>
                <c:pt idx="569">
                  <c:v>1.69</c:v>
                </c:pt>
                <c:pt idx="570">
                  <c:v>1.7</c:v>
                </c:pt>
                <c:pt idx="571">
                  <c:v>1.71</c:v>
                </c:pt>
                <c:pt idx="572">
                  <c:v>1.72</c:v>
                </c:pt>
                <c:pt idx="573">
                  <c:v>1.73</c:v>
                </c:pt>
                <c:pt idx="574">
                  <c:v>1.74</c:v>
                </c:pt>
                <c:pt idx="575">
                  <c:v>1.75</c:v>
                </c:pt>
                <c:pt idx="576">
                  <c:v>1.76</c:v>
                </c:pt>
                <c:pt idx="577">
                  <c:v>1.77</c:v>
                </c:pt>
                <c:pt idx="578">
                  <c:v>1.78</c:v>
                </c:pt>
                <c:pt idx="579">
                  <c:v>1.79</c:v>
                </c:pt>
                <c:pt idx="580">
                  <c:v>1.8</c:v>
                </c:pt>
                <c:pt idx="581">
                  <c:v>1.81</c:v>
                </c:pt>
                <c:pt idx="582">
                  <c:v>1.82</c:v>
                </c:pt>
                <c:pt idx="583">
                  <c:v>1.83</c:v>
                </c:pt>
                <c:pt idx="584">
                  <c:v>1.84</c:v>
                </c:pt>
                <c:pt idx="585">
                  <c:v>1.85</c:v>
                </c:pt>
                <c:pt idx="586">
                  <c:v>1.86</c:v>
                </c:pt>
                <c:pt idx="587">
                  <c:v>1.87</c:v>
                </c:pt>
                <c:pt idx="588">
                  <c:v>1.88</c:v>
                </c:pt>
                <c:pt idx="589">
                  <c:v>1.89</c:v>
                </c:pt>
                <c:pt idx="590">
                  <c:v>1.9</c:v>
                </c:pt>
                <c:pt idx="591">
                  <c:v>1.91</c:v>
                </c:pt>
                <c:pt idx="592">
                  <c:v>1.92</c:v>
                </c:pt>
                <c:pt idx="593">
                  <c:v>1.93</c:v>
                </c:pt>
                <c:pt idx="594">
                  <c:v>1.94</c:v>
                </c:pt>
                <c:pt idx="595">
                  <c:v>1.95</c:v>
                </c:pt>
                <c:pt idx="596">
                  <c:v>1.96</c:v>
                </c:pt>
                <c:pt idx="597">
                  <c:v>1.97</c:v>
                </c:pt>
                <c:pt idx="598">
                  <c:v>1.98</c:v>
                </c:pt>
                <c:pt idx="599">
                  <c:v>1.99</c:v>
                </c:pt>
                <c:pt idx="600">
                  <c:v>2</c:v>
                </c:pt>
                <c:pt idx="601">
                  <c:v>2.01</c:v>
                </c:pt>
                <c:pt idx="602">
                  <c:v>2.02</c:v>
                </c:pt>
                <c:pt idx="603">
                  <c:v>2.03</c:v>
                </c:pt>
                <c:pt idx="604">
                  <c:v>2.04</c:v>
                </c:pt>
                <c:pt idx="605">
                  <c:v>2.05</c:v>
                </c:pt>
                <c:pt idx="606">
                  <c:v>2.06</c:v>
                </c:pt>
                <c:pt idx="607">
                  <c:v>2.07</c:v>
                </c:pt>
                <c:pt idx="608">
                  <c:v>2.08</c:v>
                </c:pt>
                <c:pt idx="609">
                  <c:v>2.09</c:v>
                </c:pt>
                <c:pt idx="610">
                  <c:v>2.1</c:v>
                </c:pt>
                <c:pt idx="611">
                  <c:v>2.11</c:v>
                </c:pt>
                <c:pt idx="612">
                  <c:v>2.12</c:v>
                </c:pt>
                <c:pt idx="613">
                  <c:v>2.13</c:v>
                </c:pt>
                <c:pt idx="614">
                  <c:v>2.14</c:v>
                </c:pt>
                <c:pt idx="615">
                  <c:v>2.15</c:v>
                </c:pt>
                <c:pt idx="616">
                  <c:v>2.16</c:v>
                </c:pt>
                <c:pt idx="617">
                  <c:v>2.17</c:v>
                </c:pt>
                <c:pt idx="618">
                  <c:v>2.18</c:v>
                </c:pt>
                <c:pt idx="619">
                  <c:v>2.19</c:v>
                </c:pt>
                <c:pt idx="620">
                  <c:v>2.2</c:v>
                </c:pt>
                <c:pt idx="621">
                  <c:v>2.21</c:v>
                </c:pt>
                <c:pt idx="622">
                  <c:v>2.22</c:v>
                </c:pt>
                <c:pt idx="623">
                  <c:v>2.23</c:v>
                </c:pt>
                <c:pt idx="624">
                  <c:v>2.24</c:v>
                </c:pt>
                <c:pt idx="625">
                  <c:v>2.25</c:v>
                </c:pt>
                <c:pt idx="626">
                  <c:v>2.26</c:v>
                </c:pt>
                <c:pt idx="627">
                  <c:v>2.27</c:v>
                </c:pt>
                <c:pt idx="628">
                  <c:v>2.28</c:v>
                </c:pt>
                <c:pt idx="629">
                  <c:v>2.29</c:v>
                </c:pt>
                <c:pt idx="630">
                  <c:v>2.3</c:v>
                </c:pt>
                <c:pt idx="631">
                  <c:v>2.31</c:v>
                </c:pt>
                <c:pt idx="632">
                  <c:v>2.32</c:v>
                </c:pt>
                <c:pt idx="633">
                  <c:v>2.33</c:v>
                </c:pt>
                <c:pt idx="634">
                  <c:v>2.34</c:v>
                </c:pt>
                <c:pt idx="635">
                  <c:v>2.35</c:v>
                </c:pt>
                <c:pt idx="636">
                  <c:v>2.36</c:v>
                </c:pt>
                <c:pt idx="637">
                  <c:v>2.37</c:v>
                </c:pt>
                <c:pt idx="638">
                  <c:v>2.38</c:v>
                </c:pt>
                <c:pt idx="639">
                  <c:v>2.39</c:v>
                </c:pt>
                <c:pt idx="640">
                  <c:v>2.4</c:v>
                </c:pt>
                <c:pt idx="641">
                  <c:v>2.41</c:v>
                </c:pt>
                <c:pt idx="642">
                  <c:v>2.42</c:v>
                </c:pt>
                <c:pt idx="643">
                  <c:v>2.43</c:v>
                </c:pt>
                <c:pt idx="644">
                  <c:v>2.44</c:v>
                </c:pt>
                <c:pt idx="645">
                  <c:v>2.45</c:v>
                </c:pt>
                <c:pt idx="646">
                  <c:v>2.46</c:v>
                </c:pt>
                <c:pt idx="647">
                  <c:v>2.47</c:v>
                </c:pt>
                <c:pt idx="648">
                  <c:v>2.48</c:v>
                </c:pt>
                <c:pt idx="649">
                  <c:v>2.49</c:v>
                </c:pt>
                <c:pt idx="650">
                  <c:v>2.5</c:v>
                </c:pt>
                <c:pt idx="651">
                  <c:v>2.51</c:v>
                </c:pt>
                <c:pt idx="652">
                  <c:v>2.52</c:v>
                </c:pt>
                <c:pt idx="653">
                  <c:v>2.53</c:v>
                </c:pt>
                <c:pt idx="654">
                  <c:v>2.54</c:v>
                </c:pt>
                <c:pt idx="655">
                  <c:v>2.55</c:v>
                </c:pt>
                <c:pt idx="656">
                  <c:v>2.56</c:v>
                </c:pt>
                <c:pt idx="657">
                  <c:v>2.57</c:v>
                </c:pt>
                <c:pt idx="658">
                  <c:v>2.58</c:v>
                </c:pt>
                <c:pt idx="659">
                  <c:v>2.59</c:v>
                </c:pt>
                <c:pt idx="660">
                  <c:v>2.6</c:v>
                </c:pt>
                <c:pt idx="661">
                  <c:v>2.61</c:v>
                </c:pt>
                <c:pt idx="662">
                  <c:v>2.62</c:v>
                </c:pt>
                <c:pt idx="663">
                  <c:v>2.63</c:v>
                </c:pt>
                <c:pt idx="664">
                  <c:v>2.64</c:v>
                </c:pt>
                <c:pt idx="665">
                  <c:v>2.65</c:v>
                </c:pt>
                <c:pt idx="666">
                  <c:v>2.66</c:v>
                </c:pt>
                <c:pt idx="667">
                  <c:v>2.67</c:v>
                </c:pt>
                <c:pt idx="668">
                  <c:v>2.68</c:v>
                </c:pt>
                <c:pt idx="669">
                  <c:v>2.69</c:v>
                </c:pt>
                <c:pt idx="670">
                  <c:v>2.7</c:v>
                </c:pt>
                <c:pt idx="671">
                  <c:v>2.71</c:v>
                </c:pt>
                <c:pt idx="672">
                  <c:v>2.72</c:v>
                </c:pt>
                <c:pt idx="673">
                  <c:v>2.73</c:v>
                </c:pt>
                <c:pt idx="674">
                  <c:v>2.74</c:v>
                </c:pt>
                <c:pt idx="675">
                  <c:v>2.75</c:v>
                </c:pt>
                <c:pt idx="676">
                  <c:v>2.76</c:v>
                </c:pt>
                <c:pt idx="677">
                  <c:v>2.77</c:v>
                </c:pt>
                <c:pt idx="678">
                  <c:v>2.78</c:v>
                </c:pt>
                <c:pt idx="679">
                  <c:v>2.79</c:v>
                </c:pt>
                <c:pt idx="680">
                  <c:v>2.8</c:v>
                </c:pt>
                <c:pt idx="681">
                  <c:v>2.81</c:v>
                </c:pt>
                <c:pt idx="682">
                  <c:v>2.82</c:v>
                </c:pt>
                <c:pt idx="683">
                  <c:v>2.83</c:v>
                </c:pt>
                <c:pt idx="684">
                  <c:v>2.84</c:v>
                </c:pt>
                <c:pt idx="685">
                  <c:v>2.85</c:v>
                </c:pt>
                <c:pt idx="686">
                  <c:v>2.86</c:v>
                </c:pt>
                <c:pt idx="687">
                  <c:v>2.87</c:v>
                </c:pt>
                <c:pt idx="688">
                  <c:v>2.88</c:v>
                </c:pt>
                <c:pt idx="689">
                  <c:v>2.89</c:v>
                </c:pt>
                <c:pt idx="690">
                  <c:v>2.9</c:v>
                </c:pt>
                <c:pt idx="691">
                  <c:v>2.91</c:v>
                </c:pt>
                <c:pt idx="692">
                  <c:v>2.92</c:v>
                </c:pt>
                <c:pt idx="693">
                  <c:v>2.93</c:v>
                </c:pt>
                <c:pt idx="694">
                  <c:v>2.94</c:v>
                </c:pt>
                <c:pt idx="695">
                  <c:v>2.95</c:v>
                </c:pt>
                <c:pt idx="696">
                  <c:v>2.96</c:v>
                </c:pt>
                <c:pt idx="697">
                  <c:v>2.97</c:v>
                </c:pt>
                <c:pt idx="698">
                  <c:v>2.98</c:v>
                </c:pt>
                <c:pt idx="699">
                  <c:v>2.99</c:v>
                </c:pt>
                <c:pt idx="700">
                  <c:v>3</c:v>
                </c:pt>
                <c:pt idx="701">
                  <c:v>3.01</c:v>
                </c:pt>
                <c:pt idx="702">
                  <c:v>3.02</c:v>
                </c:pt>
                <c:pt idx="703">
                  <c:v>3.03</c:v>
                </c:pt>
                <c:pt idx="704">
                  <c:v>3.04</c:v>
                </c:pt>
                <c:pt idx="705">
                  <c:v>3.05</c:v>
                </c:pt>
                <c:pt idx="706">
                  <c:v>3.06</c:v>
                </c:pt>
                <c:pt idx="707">
                  <c:v>3.07</c:v>
                </c:pt>
                <c:pt idx="708">
                  <c:v>3.08</c:v>
                </c:pt>
                <c:pt idx="709">
                  <c:v>3.09</c:v>
                </c:pt>
                <c:pt idx="710">
                  <c:v>3.1</c:v>
                </c:pt>
                <c:pt idx="711">
                  <c:v>3.11</c:v>
                </c:pt>
                <c:pt idx="712">
                  <c:v>3.12</c:v>
                </c:pt>
                <c:pt idx="713">
                  <c:v>3.13</c:v>
                </c:pt>
                <c:pt idx="714">
                  <c:v>3.14</c:v>
                </c:pt>
                <c:pt idx="715">
                  <c:v>3.15</c:v>
                </c:pt>
                <c:pt idx="716">
                  <c:v>3.16</c:v>
                </c:pt>
                <c:pt idx="717">
                  <c:v>3.17</c:v>
                </c:pt>
                <c:pt idx="718">
                  <c:v>3.18</c:v>
                </c:pt>
                <c:pt idx="719">
                  <c:v>3.19</c:v>
                </c:pt>
                <c:pt idx="720">
                  <c:v>3.2</c:v>
                </c:pt>
                <c:pt idx="721">
                  <c:v>3.21</c:v>
                </c:pt>
                <c:pt idx="722">
                  <c:v>3.22</c:v>
                </c:pt>
                <c:pt idx="723">
                  <c:v>3.23</c:v>
                </c:pt>
                <c:pt idx="724">
                  <c:v>3.24</c:v>
                </c:pt>
                <c:pt idx="725">
                  <c:v>3.25</c:v>
                </c:pt>
                <c:pt idx="726">
                  <c:v>3.26</c:v>
                </c:pt>
                <c:pt idx="727">
                  <c:v>3.27</c:v>
                </c:pt>
                <c:pt idx="728">
                  <c:v>3.28</c:v>
                </c:pt>
                <c:pt idx="729">
                  <c:v>3.29</c:v>
                </c:pt>
                <c:pt idx="730">
                  <c:v>3.3</c:v>
                </c:pt>
                <c:pt idx="731">
                  <c:v>3.31</c:v>
                </c:pt>
                <c:pt idx="732">
                  <c:v>3.32</c:v>
                </c:pt>
                <c:pt idx="733">
                  <c:v>3.33</c:v>
                </c:pt>
                <c:pt idx="734">
                  <c:v>3.34</c:v>
                </c:pt>
                <c:pt idx="735">
                  <c:v>3.35</c:v>
                </c:pt>
                <c:pt idx="736">
                  <c:v>3.36</c:v>
                </c:pt>
                <c:pt idx="737">
                  <c:v>3.37</c:v>
                </c:pt>
                <c:pt idx="738">
                  <c:v>3.38</c:v>
                </c:pt>
                <c:pt idx="739">
                  <c:v>3.39</c:v>
                </c:pt>
                <c:pt idx="740">
                  <c:v>3.4</c:v>
                </c:pt>
                <c:pt idx="741">
                  <c:v>3.41</c:v>
                </c:pt>
                <c:pt idx="742">
                  <c:v>3.42</c:v>
                </c:pt>
                <c:pt idx="743">
                  <c:v>3.43</c:v>
                </c:pt>
                <c:pt idx="744">
                  <c:v>3.44</c:v>
                </c:pt>
                <c:pt idx="745">
                  <c:v>3.45</c:v>
                </c:pt>
                <c:pt idx="746">
                  <c:v>3.46</c:v>
                </c:pt>
                <c:pt idx="747">
                  <c:v>3.47</c:v>
                </c:pt>
                <c:pt idx="748">
                  <c:v>3.48</c:v>
                </c:pt>
                <c:pt idx="749">
                  <c:v>3.49</c:v>
                </c:pt>
                <c:pt idx="750">
                  <c:v>3.5</c:v>
                </c:pt>
                <c:pt idx="751">
                  <c:v>3.51</c:v>
                </c:pt>
                <c:pt idx="752">
                  <c:v>3.52</c:v>
                </c:pt>
                <c:pt idx="753">
                  <c:v>3.53</c:v>
                </c:pt>
                <c:pt idx="754">
                  <c:v>3.54</c:v>
                </c:pt>
                <c:pt idx="755">
                  <c:v>3.55</c:v>
                </c:pt>
                <c:pt idx="756">
                  <c:v>3.56</c:v>
                </c:pt>
                <c:pt idx="757">
                  <c:v>3.57</c:v>
                </c:pt>
                <c:pt idx="758">
                  <c:v>3.58</c:v>
                </c:pt>
                <c:pt idx="759">
                  <c:v>3.59</c:v>
                </c:pt>
                <c:pt idx="760">
                  <c:v>3.6</c:v>
                </c:pt>
                <c:pt idx="761">
                  <c:v>3.61</c:v>
                </c:pt>
                <c:pt idx="762">
                  <c:v>3.62</c:v>
                </c:pt>
                <c:pt idx="763">
                  <c:v>3.63</c:v>
                </c:pt>
                <c:pt idx="764">
                  <c:v>3.64</c:v>
                </c:pt>
                <c:pt idx="765">
                  <c:v>3.65</c:v>
                </c:pt>
                <c:pt idx="766">
                  <c:v>3.66</c:v>
                </c:pt>
                <c:pt idx="767">
                  <c:v>3.67</c:v>
                </c:pt>
                <c:pt idx="768">
                  <c:v>3.68</c:v>
                </c:pt>
                <c:pt idx="769">
                  <c:v>3.69</c:v>
                </c:pt>
                <c:pt idx="770">
                  <c:v>3.7</c:v>
                </c:pt>
                <c:pt idx="771">
                  <c:v>3.71</c:v>
                </c:pt>
                <c:pt idx="772">
                  <c:v>3.72</c:v>
                </c:pt>
                <c:pt idx="773">
                  <c:v>3.73</c:v>
                </c:pt>
                <c:pt idx="774">
                  <c:v>3.74</c:v>
                </c:pt>
                <c:pt idx="775">
                  <c:v>3.75</c:v>
                </c:pt>
                <c:pt idx="776">
                  <c:v>3.76</c:v>
                </c:pt>
                <c:pt idx="777">
                  <c:v>3.77</c:v>
                </c:pt>
                <c:pt idx="778">
                  <c:v>3.78</c:v>
                </c:pt>
                <c:pt idx="779">
                  <c:v>3.79</c:v>
                </c:pt>
                <c:pt idx="780">
                  <c:v>3.8</c:v>
                </c:pt>
                <c:pt idx="781">
                  <c:v>3.81</c:v>
                </c:pt>
                <c:pt idx="782">
                  <c:v>3.82</c:v>
                </c:pt>
                <c:pt idx="783">
                  <c:v>3.83</c:v>
                </c:pt>
                <c:pt idx="784">
                  <c:v>3.84</c:v>
                </c:pt>
                <c:pt idx="785">
                  <c:v>3.85</c:v>
                </c:pt>
                <c:pt idx="786">
                  <c:v>3.86</c:v>
                </c:pt>
                <c:pt idx="787">
                  <c:v>3.87</c:v>
                </c:pt>
                <c:pt idx="788">
                  <c:v>3.88</c:v>
                </c:pt>
                <c:pt idx="789">
                  <c:v>3.89</c:v>
                </c:pt>
                <c:pt idx="790">
                  <c:v>3.9</c:v>
                </c:pt>
                <c:pt idx="791">
                  <c:v>3.91</c:v>
                </c:pt>
                <c:pt idx="792">
                  <c:v>3.92</c:v>
                </c:pt>
                <c:pt idx="793">
                  <c:v>3.93</c:v>
                </c:pt>
                <c:pt idx="794">
                  <c:v>3.94</c:v>
                </c:pt>
                <c:pt idx="795">
                  <c:v>3.95</c:v>
                </c:pt>
                <c:pt idx="796">
                  <c:v>3.96</c:v>
                </c:pt>
                <c:pt idx="797">
                  <c:v>3.97</c:v>
                </c:pt>
                <c:pt idx="798">
                  <c:v>3.98</c:v>
                </c:pt>
                <c:pt idx="799">
                  <c:v>3.99</c:v>
                </c:pt>
                <c:pt idx="800">
                  <c:v>4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801"/>
                <c:pt idx="0">
                  <c:v>-0.00390625</c:v>
                </c:pt>
                <c:pt idx="1">
                  <c:v>-0.00394555786669014</c:v>
                </c:pt>
                <c:pt idx="2">
                  <c:v>-0.00398536141426298</c:v>
                </c:pt>
                <c:pt idx="3">
                  <c:v>-0.00402566816244612</c:v>
                </c:pt>
                <c:pt idx="4">
                  <c:v>-0.00406648576439538</c:v>
                </c:pt>
                <c:pt idx="5">
                  <c:v>-0.00410782200940737</c:v>
                </c:pt>
                <c:pt idx="6">
                  <c:v>-0.00414968482569432</c:v>
                </c:pt>
                <c:pt idx="7">
                  <c:v>-0.00419208228322264</c:v>
                </c:pt>
                <c:pt idx="8">
                  <c:v>-0.00423502259661695</c:v>
                </c:pt>
                <c:pt idx="9">
                  <c:v>-0.0042785141281312</c:v>
                </c:pt>
                <c:pt idx="10">
                  <c:v>-0.00432256539068859</c:v>
                </c:pt>
                <c:pt idx="11">
                  <c:v>-0.00436718505099214</c:v>
                </c:pt>
                <c:pt idx="12">
                  <c:v>-0.00441238193270767</c:v>
                </c:pt>
                <c:pt idx="13">
                  <c:v>-0.00445816501972102</c:v>
                </c:pt>
                <c:pt idx="14">
                  <c:v>-0.00450454345947169</c:v>
                </c:pt>
                <c:pt idx="15">
                  <c:v>-0.00455152656636449</c:v>
                </c:pt>
                <c:pt idx="16">
                  <c:v>-0.00459912382526162</c:v>
                </c:pt>
                <c:pt idx="17">
                  <c:v>-0.00464734489505711</c:v>
                </c:pt>
                <c:pt idx="18">
                  <c:v>-0.00469619961233571</c:v>
                </c:pt>
                <c:pt idx="19">
                  <c:v>-0.00474569799511868</c:v>
                </c:pt>
                <c:pt idx="20">
                  <c:v>-0.00479585024669854</c:v>
                </c:pt>
                <c:pt idx="21">
                  <c:v>-0.00484666675956531</c:v>
                </c:pt>
                <c:pt idx="22">
                  <c:v>-0.0048981581194266</c:v>
                </c:pt>
                <c:pt idx="23">
                  <c:v>-0.00495033510932396</c:v>
                </c:pt>
                <c:pt idx="24">
                  <c:v>-0.0050032087138483</c:v>
                </c:pt>
                <c:pt idx="25">
                  <c:v>-0.00505679012345679</c:v>
                </c:pt>
                <c:pt idx="26">
                  <c:v>-0.00511109073889404</c:v>
                </c:pt>
                <c:pt idx="27">
                  <c:v>-0.00516612217572047</c:v>
                </c:pt>
                <c:pt idx="28">
                  <c:v>-0.00522189626895061</c:v>
                </c:pt>
                <c:pt idx="29">
                  <c:v>-0.00527842507780439</c:v>
                </c:pt>
                <c:pt idx="30">
                  <c:v>-0.0053357208905745</c:v>
                </c:pt>
                <c:pt idx="31">
                  <c:v>-0.00539379622961293</c:v>
                </c:pt>
                <c:pt idx="32">
                  <c:v>-0.00545266385643991</c:v>
                </c:pt>
                <c:pt idx="33">
                  <c:v>-0.00551233677697874</c:v>
                </c:pt>
                <c:pt idx="34">
                  <c:v>-0.00557282824691981</c:v>
                </c:pt>
                <c:pt idx="35">
                  <c:v>-0.00563415177721747</c:v>
                </c:pt>
                <c:pt idx="36">
                  <c:v>-0.00569632113972329</c:v>
                </c:pt>
                <c:pt idx="37">
                  <c:v>-0.00575935037295967</c:v>
                </c:pt>
                <c:pt idx="38">
                  <c:v>-0.00582325378803754</c:v>
                </c:pt>
                <c:pt idx="39">
                  <c:v>-0.00588804597472215</c:v>
                </c:pt>
                <c:pt idx="40">
                  <c:v>-0.00595374180765127</c:v>
                </c:pt>
                <c:pt idx="41">
                  <c:v>-0.00602035645270978</c:v>
                </c:pt>
                <c:pt idx="42">
                  <c:v>-0.00608790537356527</c:v>
                </c:pt>
                <c:pt idx="43">
                  <c:v>-0.00615640433836911</c:v>
                </c:pt>
                <c:pt idx="44">
                  <c:v>-0.00622586942662759</c:v>
                </c:pt>
                <c:pt idx="45">
                  <c:v>-0.00629631703624802</c:v>
                </c:pt>
                <c:pt idx="46">
                  <c:v>-0.0063677638907647</c:v>
                </c:pt>
                <c:pt idx="47">
                  <c:v>-0.00644022704675</c:v>
                </c:pt>
                <c:pt idx="48">
                  <c:v>-0.00651372390141555</c:v>
                </c:pt>
                <c:pt idx="49">
                  <c:v>-0.00658827220040937</c:v>
                </c:pt>
                <c:pt idx="50">
                  <c:v>-0.00666389004581424</c:v>
                </c:pt>
                <c:pt idx="51">
                  <c:v>-0.00674059590435322</c:v>
                </c:pt>
                <c:pt idx="52">
                  <c:v>-0.00681840861580833</c:v>
                </c:pt>
                <c:pt idx="53">
                  <c:v>-0.00689734740165851</c:v>
                </c:pt>
                <c:pt idx="54">
                  <c:v>-0.00697743187394325</c:v>
                </c:pt>
                <c:pt idx="55">
                  <c:v>-0.00705868204435843</c:v>
                </c:pt>
                <c:pt idx="56">
                  <c:v>-0.00714111833359122</c:v>
                </c:pt>
                <c:pt idx="57">
                  <c:v>-0.00722476158090089</c:v>
                </c:pt>
                <c:pt idx="58">
                  <c:v>-0.00730963305395296</c:v>
                </c:pt>
                <c:pt idx="59">
                  <c:v>-0.00739575445891399</c:v>
                </c:pt>
                <c:pt idx="60">
                  <c:v>-0.00748314795081477</c:v>
                </c:pt>
                <c:pt idx="61">
                  <c:v>-0.00757183614418983</c:v>
                </c:pt>
                <c:pt idx="62">
                  <c:v>-0.00766184212400161</c:v>
                </c:pt>
                <c:pt idx="63">
                  <c:v>-0.00775318945685748</c:v>
                </c:pt>
                <c:pt idx="64">
                  <c:v>-0.00784590220252878</c:v>
                </c:pt>
                <c:pt idx="65">
                  <c:v>-0.00794000492578056</c:v>
                </c:pt>
                <c:pt idx="66">
                  <c:v>-0.00803552270852153</c:v>
                </c:pt>
                <c:pt idx="67">
                  <c:v>-0.00813248116228395</c:v>
                </c:pt>
                <c:pt idx="68">
                  <c:v>-0.00823090644104329</c:v>
                </c:pt>
                <c:pt idx="69">
                  <c:v>-0.00833082525438801</c:v>
                </c:pt>
                <c:pt idx="70">
                  <c:v>-0.00843226488105026</c:v>
                </c:pt>
                <c:pt idx="71">
                  <c:v>-0.00853525318280827</c:v>
                </c:pt>
                <c:pt idx="72">
                  <c:v>-0.00863981861877207</c:v>
                </c:pt>
                <c:pt idx="73">
                  <c:v>-0.00874599026006416</c:v>
                </c:pt>
                <c:pt idx="74">
                  <c:v>-0.00885379780490724</c:v>
                </c:pt>
                <c:pt idx="75">
                  <c:v>-0.00896327159413186</c:v>
                </c:pt>
                <c:pt idx="76">
                  <c:v>-0.00907444262711671</c:v>
                </c:pt>
                <c:pt idx="77">
                  <c:v>-0.00918734257817514</c:v>
                </c:pt>
                <c:pt idx="78">
                  <c:v>-0.00930200381340186</c:v>
                </c:pt>
                <c:pt idx="79">
                  <c:v>-0.00941845940799414</c:v>
                </c:pt>
                <c:pt idx="80">
                  <c:v>-0.0095367431640625</c:v>
                </c:pt>
                <c:pt idx="81">
                  <c:v>-0.00965688962894622</c:v>
                </c:pt>
                <c:pt idx="82">
                  <c:v>-0.00977893411404964</c:v>
                </c:pt>
                <c:pt idx="83">
                  <c:v>-0.00990291271421586</c:v>
                </c:pt>
                <c:pt idx="84">
                  <c:v>-0.0100288623276547</c:v>
                </c:pt>
                <c:pt idx="85">
                  <c:v>-0.010156820676443</c:v>
                </c:pt>
                <c:pt idx="86">
                  <c:v>-0.0102868263276148</c:v>
                </c:pt>
                <c:pt idx="87">
                  <c:v>-0.0104189187148616</c:v>
                </c:pt>
                <c:pt idx="88">
                  <c:v>-0.0105531381608608</c:v>
                </c:pt>
                <c:pt idx="89">
                  <c:v>-0.0106895259002542</c:v>
                </c:pt>
                <c:pt idx="90">
                  <c:v>-0.010828124103296</c:v>
                </c:pt>
                <c:pt idx="91">
                  <c:v>-0.0109689759001937</c:v>
                </c:pt>
                <c:pt idx="92">
                  <c:v>-0.0111121254061633</c:v>
                </c:pt>
                <c:pt idx="93">
                  <c:v>-0.0112576177472226</c:v>
                </c:pt>
                <c:pt idx="94">
                  <c:v>-0.0114054990867471</c:v>
                </c:pt>
                <c:pt idx="95">
                  <c:v>-0.0115558166528129</c:v>
                </c:pt>
                <c:pt idx="96">
                  <c:v>-0.0117086187663538</c:v>
                </c:pt>
                <c:pt idx="97">
                  <c:v>-0.0118639548701582</c:v>
                </c:pt>
                <c:pt idx="98">
                  <c:v>-0.0120218755587347</c:v>
                </c:pt>
                <c:pt idx="99">
                  <c:v>-0.0121824326090752</c:v>
                </c:pt>
                <c:pt idx="100">
                  <c:v>-0.0123456790123457</c:v>
                </c:pt>
                <c:pt idx="101">
                  <c:v>-0.012511669006535</c:v>
                </c:pt>
                <c:pt idx="102">
                  <c:v>-0.0126804581100955</c:v>
                </c:pt>
                <c:pt idx="103">
                  <c:v>-0.0128521031566076</c:v>
                </c:pt>
                <c:pt idx="104">
                  <c:v>-0.0130266623305042</c:v>
                </c:pt>
                <c:pt idx="105">
                  <c:v>-0.0132041952038897</c:v>
                </c:pt>
                <c:pt idx="106">
                  <c:v>-0.0133847627744931</c:v>
                </c:pt>
                <c:pt idx="107">
                  <c:v>-0.0135684275047916</c:v>
                </c:pt>
                <c:pt idx="108">
                  <c:v>-0.0137552533623473</c:v>
                </c:pt>
                <c:pt idx="109">
                  <c:v>-0.0139453058613971</c:v>
                </c:pt>
                <c:pt idx="110">
                  <c:v>-0.0141386521057402</c:v>
                </c:pt>
                <c:pt idx="111">
                  <c:v>-0.0143353608329685</c:v>
                </c:pt>
                <c:pt idx="112">
                  <c:v>-0.0145355024600861</c:v>
                </c:pt>
                <c:pt idx="113">
                  <c:v>-0.0147391491305666</c:v>
                </c:pt>
                <c:pt idx="114">
                  <c:v>-0.0149463747628994</c:v>
                </c:pt>
                <c:pt idx="115">
                  <c:v>-0.0151572551006769</c:v>
                </c:pt>
                <c:pt idx="116">
                  <c:v>-0.0153718677642774</c:v>
                </c:pt>
                <c:pt idx="117">
                  <c:v>-0.0155902923042004</c:v>
                </c:pt>
                <c:pt idx="118">
                  <c:v>-0.0158126102561132</c:v>
                </c:pt>
                <c:pt idx="119">
                  <c:v>-0.0160389051976692</c:v>
                </c:pt>
                <c:pt idx="120">
                  <c:v>-0.0162692628071637</c:v>
                </c:pt>
                <c:pt idx="121">
                  <c:v>-0.0165037709240908</c:v>
                </c:pt>
                <c:pt idx="122">
                  <c:v>-0.0167425196116718</c:v>
                </c:pt>
                <c:pt idx="123">
                  <c:v>-0.0169856012214262</c:v>
                </c:pt>
                <c:pt idx="124">
                  <c:v>-0.0172331104598595</c:v>
                </c:pt>
                <c:pt idx="125">
                  <c:v>-0.0174851444573458</c:v>
                </c:pt>
                <c:pt idx="126">
                  <c:v>-0.0177418028392851</c:v>
                </c:pt>
                <c:pt idx="127">
                  <c:v>-0.0180031877996193</c:v>
                </c:pt>
                <c:pt idx="128">
                  <c:v>-0.0182694041767939</c:v>
                </c:pt>
                <c:pt idx="129">
                  <c:v>-0.018540559532257</c:v>
                </c:pt>
                <c:pt idx="130">
                  <c:v>-0.0188167642315892</c:v>
                </c:pt>
                <c:pt idx="131">
                  <c:v>-0.0190981315283624</c:v>
                </c:pt>
                <c:pt idx="132">
                  <c:v>-0.0193847776508314</c:v>
                </c:pt>
                <c:pt idx="133">
                  <c:v>-0.0196768218915637</c:v>
                </c:pt>
                <c:pt idx="134">
                  <c:v>-0.0199743867001189</c:v>
                </c:pt>
                <c:pt idx="135">
                  <c:v>-0.0202775977788933</c:v>
                </c:pt>
                <c:pt idx="136">
                  <c:v>-0.0205865841822516</c:v>
                </c:pt>
                <c:pt idx="137">
                  <c:v>-0.0209014784190686</c:v>
                </c:pt>
                <c:pt idx="138">
                  <c:v>-0.0212224165588146</c:v>
                </c:pt>
                <c:pt idx="139">
                  <c:v>-0.0215495383413202</c:v>
                </c:pt>
                <c:pt idx="140">
                  <c:v>-0.021882987290361</c:v>
                </c:pt>
                <c:pt idx="141">
                  <c:v>-0.0222229108312141</c:v>
                </c:pt>
                <c:pt idx="142">
                  <c:v>-0.0225694604123377</c:v>
                </c:pt>
                <c:pt idx="143">
                  <c:v>-0.0229227916313374</c:v>
                </c:pt>
                <c:pt idx="144">
                  <c:v>-0.023283064365387</c:v>
                </c:pt>
                <c:pt idx="145">
                  <c:v>-0.0236504429062788</c:v>
                </c:pt>
                <c:pt idx="146">
                  <c:v>-0.0240250961002883</c:v>
                </c:pt>
                <c:pt idx="147">
                  <c:v>-0.0244071974930432</c:v>
                </c:pt>
                <c:pt idx="148">
                  <c:v>-0.0247969254795971</c:v>
                </c:pt>
                <c:pt idx="149">
                  <c:v>-0.0251944634599168</c:v>
                </c:pt>
                <c:pt idx="150">
                  <c:v>-0.0256</c:v>
                </c:pt>
                <c:pt idx="151">
                  <c:v>-0.0260137289988529</c:v>
                </c:pt>
                <c:pt idx="152">
                  <c:v>-0.0264358498615624</c:v>
                </c:pt>
                <c:pt idx="153">
                  <c:v>-0.0268665676787146</c:v>
                </c:pt>
                <c:pt idx="154">
                  <c:v>-0.0273060934124155</c:v>
                </c:pt>
                <c:pt idx="155">
                  <c:v>-0.0277546440891888</c:v>
                </c:pt>
                <c:pt idx="156">
                  <c:v>-0.0282124430000316</c:v>
                </c:pt>
                <c:pt idx="157">
                  <c:v>-0.0286797199079244</c:v>
                </c:pt>
                <c:pt idx="158">
                  <c:v>-0.0291567112631083</c:v>
                </c:pt>
                <c:pt idx="159">
                  <c:v>-0.0296436604264498</c:v>
                </c:pt>
                <c:pt idx="160">
                  <c:v>-0.0301408179012346</c:v>
                </c:pt>
                <c:pt idx="161">
                  <c:v>-0.0306484415737454</c:v>
                </c:pt>
                <c:pt idx="162">
                  <c:v>-0.0311667969629936</c:v>
                </c:pt>
                <c:pt idx="163">
                  <c:v>-0.0316961574799952</c:v>
                </c:pt>
                <c:pt idx="164">
                  <c:v>-0.0322368046969963</c:v>
                </c:pt>
                <c:pt idx="165">
                  <c:v>-0.0327890286270763</c:v>
                </c:pt>
                <c:pt idx="166">
                  <c:v>-0.0333531280145725</c:v>
                </c:pt>
                <c:pt idx="167">
                  <c:v>-0.0339294106367965</c:v>
                </c:pt>
                <c:pt idx="168">
                  <c:v>-0.0345181936175297</c:v>
                </c:pt>
                <c:pt idx="169">
                  <c:v>-0.0351198037528124</c:v>
                </c:pt>
                <c:pt idx="170">
                  <c:v>-0.0357345778495646</c:v>
                </c:pt>
                <c:pt idx="171">
                  <c:v>-0.0363628630776016</c:v>
                </c:pt>
                <c:pt idx="172">
                  <c:v>-0.0370050173356368</c:v>
                </c:pt>
                <c:pt idx="173">
                  <c:v>-0.0376614096318914</c:v>
                </c:pt>
                <c:pt idx="174">
                  <c:v>-0.0383324204799611</c:v>
                </c:pt>
                <c:pt idx="175">
                  <c:v>-0.0390184423106234</c:v>
                </c:pt>
                <c:pt idx="176">
                  <c:v>-0.039719879900302</c:v>
                </c:pt>
                <c:pt idx="177">
                  <c:v>-0.0404371508169384</c:v>
                </c:pt>
                <c:pt idx="178">
                  <c:v>-0.0411706858840625</c:v>
                </c:pt>
                <c:pt idx="179">
                  <c:v>-0.04192092966389</c:v>
                </c:pt>
                <c:pt idx="180">
                  <c:v>-0.0426883409603169</c:v>
                </c:pt>
                <c:pt idx="181">
                  <c:v>-0.0434733933427274</c:v>
                </c:pt>
                <c:pt idx="182">
                  <c:v>-0.0442765756915748</c:v>
                </c:pt>
                <c:pt idx="183">
                  <c:v>-0.0450983927667471</c:v>
                </c:pt>
                <c:pt idx="184">
                  <c:v>-0.0459393657997783</c:v>
                </c:pt>
                <c:pt idx="185">
                  <c:v>-0.0468000331110234</c:v>
                </c:pt>
                <c:pt idx="186">
                  <c:v>-0.0476809507529704</c:v>
                </c:pt>
                <c:pt idx="187">
                  <c:v>-0.0485826931809261</c:v>
                </c:pt>
                <c:pt idx="188">
                  <c:v>-0.0495058539523763</c:v>
                </c:pt>
                <c:pt idx="189">
                  <c:v>-0.0504510464563876</c:v>
                </c:pt>
                <c:pt idx="190">
                  <c:v>-0.0514189046744927</c:v>
                </c:pt>
                <c:pt idx="191">
                  <c:v>-0.0524100839745759</c:v>
                </c:pt>
                <c:pt idx="192">
                  <c:v>-0.0534252619393579</c:v>
                </c:pt>
                <c:pt idx="193">
                  <c:v>-0.0544651392311607</c:v>
                </c:pt>
                <c:pt idx="194">
                  <c:v>-0.0555304404947306</c:v>
                </c:pt>
                <c:pt idx="195">
                  <c:v>-0.0566219152999847</c:v>
                </c:pt>
                <c:pt idx="196">
                  <c:v>-0.0577403391266571</c:v>
                </c:pt>
                <c:pt idx="197">
                  <c:v>-0.0588865143929202</c:v>
                </c:pt>
                <c:pt idx="198">
                  <c:v>-0.060061271530176</c:v>
                </c:pt>
                <c:pt idx="199">
                  <c:v>-0.0612654701063315</c:v>
                </c:pt>
                <c:pt idx="200">
                  <c:v>-0.0625</c:v>
                </c:pt>
                <c:pt idx="201">
                  <c:v>-0.0637657826282077</c:v>
                </c:pt>
                <c:pt idx="202">
                  <c:v>-0.0650637722303261</c:v>
                </c:pt>
                <c:pt idx="203">
                  <c:v>-0.0663949572111092</c:v>
                </c:pt>
                <c:pt idx="204">
                  <c:v>-0.0677603615458712</c:v>
                </c:pt>
                <c:pt idx="205">
                  <c:v>-0.0691610462510174</c:v>
                </c:pt>
                <c:pt idx="206">
                  <c:v>-0.0705981109233227</c:v>
                </c:pt>
                <c:pt idx="207">
                  <c:v>-0.072072695351547</c:v>
                </c:pt>
                <c:pt idx="208">
                  <c:v>-0.073585981204186</c:v>
                </c:pt>
                <c:pt idx="209">
                  <c:v>-0.0751391937973713</c:v>
                </c:pt>
                <c:pt idx="210">
                  <c:v>-0.0767336039471766</c:v>
                </c:pt>
                <c:pt idx="211">
                  <c:v>-0.0783705299108255</c:v>
                </c:pt>
                <c:pt idx="212">
                  <c:v>-0.0800513394215729</c:v>
                </c:pt>
                <c:pt idx="213">
                  <c:v>-0.0817774518223046</c:v>
                </c:pt>
                <c:pt idx="214">
                  <c:v>-0.0835503403032097</c:v>
                </c:pt>
                <c:pt idx="215">
                  <c:v>-0.085371534249192</c:v>
                </c:pt>
                <c:pt idx="216">
                  <c:v>-0.0872426217030385</c:v>
                </c:pt>
                <c:pt idx="217">
                  <c:v>-0.089165251950717</c:v>
                </c:pt>
                <c:pt idx="218">
                  <c:v>-0.0911411382355726</c:v>
                </c:pt>
                <c:pt idx="219">
                  <c:v>-0.0931720606086006</c:v>
                </c:pt>
                <c:pt idx="220">
                  <c:v>-0.0952598689224204</c:v>
                </c:pt>
                <c:pt idx="221">
                  <c:v>-0.0974064859770443</c:v>
                </c:pt>
                <c:pt idx="222">
                  <c:v>-0.0996139108260415</c:v>
                </c:pt>
                <c:pt idx="223">
                  <c:v>-0.101884222252235</c:v>
                </c:pt>
                <c:pt idx="224">
                  <c:v>-0.104219582422649</c:v>
                </c:pt>
                <c:pt idx="225">
                  <c:v>-0.106622240733028</c:v>
                </c:pt>
                <c:pt idx="226">
                  <c:v>-0.109094537852933</c:v>
                </c:pt>
                <c:pt idx="227">
                  <c:v>-0.111638909983092</c:v>
                </c:pt>
                <c:pt idx="228">
                  <c:v>-0.11425789333746</c:v>
                </c:pt>
                <c:pt idx="229">
                  <c:v>-0.116954128863247</c:v>
                </c:pt>
                <c:pt idx="230">
                  <c:v>-0.119730367213036</c:v>
                </c:pt>
                <c:pt idx="231">
                  <c:v>-0.122589473984026</c:v>
                </c:pt>
                <c:pt idx="232">
                  <c:v>-0.12553443524046</c:v>
                </c:pt>
                <c:pt idx="233">
                  <c:v>-0.128568363336344</c:v>
                </c:pt>
                <c:pt idx="234">
                  <c:v>-0.131694503056693</c:v>
                </c:pt>
                <c:pt idx="235">
                  <c:v>-0.134916238096804</c:v>
                </c:pt>
                <c:pt idx="236">
                  <c:v>-0.138237097900353</c:v>
                </c:pt>
                <c:pt idx="237">
                  <c:v>-0.141660764878516</c:v>
                </c:pt>
                <c:pt idx="238">
                  <c:v>-0.145191082033867</c:v>
                </c:pt>
                <c:pt idx="239">
                  <c:v>-0.14883206101443</c:v>
                </c:pt>
                <c:pt idx="240">
                  <c:v>-0.152587890625</c:v>
                </c:pt>
                <c:pt idx="241">
                  <c:v>-0.156462945824794</c:v>
                </c:pt>
                <c:pt idx="242">
                  <c:v>-0.160461797242476</c:v>
                </c:pt>
                <c:pt idx="243">
                  <c:v>-0.164589221241837</c:v>
                </c:pt>
                <c:pt idx="244">
                  <c:v>-0.168850210573773</c:v>
                </c:pt>
                <c:pt idx="245">
                  <c:v>-0.173249985652736</c:v>
                </c:pt>
                <c:pt idx="246">
                  <c:v>-0.177794006498613</c:v>
                </c:pt>
                <c:pt idx="247">
                  <c:v>-0.182487985387954</c:v>
                </c:pt>
                <c:pt idx="248">
                  <c:v>-0.187337900261662</c:v>
                </c:pt>
                <c:pt idx="249">
                  <c:v>-0.192350008939755</c:v>
                </c:pt>
                <c:pt idx="250">
                  <c:v>-0.197530864197531</c:v>
                </c:pt>
                <c:pt idx="251">
                  <c:v>-0.202887329761528</c:v>
                </c:pt>
                <c:pt idx="252">
                  <c:v>-0.208426597288067</c:v>
                </c:pt>
                <c:pt idx="253">
                  <c:v>-0.214156204391889</c:v>
                </c:pt>
                <c:pt idx="254">
                  <c:v>-0.220084053797557</c:v>
                </c:pt>
                <c:pt idx="255">
                  <c:v>-0.226218433691843</c:v>
                </c:pt>
                <c:pt idx="256">
                  <c:v>-0.232568039361378</c:v>
                </c:pt>
                <c:pt idx="257">
                  <c:v>-0.23914199620639</c:v>
                </c:pt>
                <c:pt idx="258">
                  <c:v>-0.245949884228438</c:v>
                </c:pt>
                <c:pt idx="259">
                  <c:v>-0.25300176409781</c:v>
                </c:pt>
                <c:pt idx="260">
                  <c:v>-0.260308204914619</c:v>
                </c:pt>
                <c:pt idx="261">
                  <c:v>-0.267880313786749</c:v>
                </c:pt>
                <c:pt idx="262">
                  <c:v>-0.275729767357751</c:v>
                </c:pt>
                <c:pt idx="263">
                  <c:v>-0.283868845428562</c:v>
                </c:pt>
                <c:pt idx="264">
                  <c:v>-0.292310466828702</c:v>
                </c:pt>
                <c:pt idx="265">
                  <c:v>-0.301068227705427</c:v>
                </c:pt>
                <c:pt idx="266">
                  <c:v>-0.310156442413303</c:v>
                </c:pt>
                <c:pt idx="267">
                  <c:v>-0.319590187201902</c:v>
                </c:pt>
                <c:pt idx="268">
                  <c:v>-0.329385346916026</c:v>
                </c:pt>
                <c:pt idx="269">
                  <c:v>-0.339558664941034</c:v>
                </c:pt>
                <c:pt idx="270">
                  <c:v>-0.350127796645776</c:v>
                </c:pt>
                <c:pt idx="271">
                  <c:v>-0.361111366597403</c:v>
                </c:pt>
                <c:pt idx="272">
                  <c:v>-0.372529029846192</c:v>
                </c:pt>
                <c:pt idx="273">
                  <c:v>-0.384401537604613</c:v>
                </c:pt>
                <c:pt idx="274">
                  <c:v>-0.396750807673554</c:v>
                </c:pt>
                <c:pt idx="275">
                  <c:v>-0.4096</c:v>
                </c:pt>
                <c:pt idx="276">
                  <c:v>-0.422973597784999</c:v>
                </c:pt>
                <c:pt idx="277">
                  <c:v>-0.436897494598647</c:v>
                </c:pt>
                <c:pt idx="278">
                  <c:v>-0.451399088000505</c:v>
                </c:pt>
                <c:pt idx="279">
                  <c:v>-0.466507380209734</c:v>
                </c:pt>
                <c:pt idx="280">
                  <c:v>-0.482253086419754</c:v>
                </c:pt>
                <c:pt idx="281">
                  <c:v>-0.498668751407898</c:v>
                </c:pt>
                <c:pt idx="282">
                  <c:v>-0.515788875151941</c:v>
                </c:pt>
                <c:pt idx="283">
                  <c:v>-0.533650048233159</c:v>
                </c:pt>
                <c:pt idx="284">
                  <c:v>-0.552291097880474</c:v>
                </c:pt>
                <c:pt idx="285">
                  <c:v>-0.571753245593033</c:v>
                </c:pt>
                <c:pt idx="286">
                  <c:v>-0.592080277370189</c:v>
                </c:pt>
                <c:pt idx="287">
                  <c:v>-0.613318727679377</c:v>
                </c:pt>
                <c:pt idx="288">
                  <c:v>-0.635518078404831</c:v>
                </c:pt>
                <c:pt idx="289">
                  <c:v>-0.658730974145001</c:v>
                </c:pt>
                <c:pt idx="290">
                  <c:v>-0.683013455365071</c:v>
                </c:pt>
                <c:pt idx="291">
                  <c:v>-0.708425211065197</c:v>
                </c:pt>
                <c:pt idx="292">
                  <c:v>-0.735029852796453</c:v>
                </c:pt>
                <c:pt idx="293">
                  <c:v>-0.762895212047526</c:v>
                </c:pt>
                <c:pt idx="294">
                  <c:v>-0.79209366323802</c:v>
                </c:pt>
                <c:pt idx="295">
                  <c:v>-0.822702474791883</c:v>
                </c:pt>
                <c:pt idx="296">
                  <c:v>-0.854804191029726</c:v>
                </c:pt>
                <c:pt idx="297">
                  <c:v>-0.88848704791569</c:v>
                </c:pt>
                <c:pt idx="298">
                  <c:v>-0.923845426026514</c:v>
                </c:pt>
                <c:pt idx="299">
                  <c:v>-0.960980344482817</c:v>
                </c:pt>
                <c:pt idx="300">
                  <c:v>-1</c:v>
                </c:pt>
                <c:pt idx="301">
                  <c:v>-1.04102035568522</c:v>
                </c:pt>
                <c:pt idx="302">
                  <c:v>-1.08416578473394</c:v>
                </c:pt>
                <c:pt idx="303">
                  <c:v>-1.12956977477316</c:v>
                </c:pt>
                <c:pt idx="304">
                  <c:v>-1.17737569926698</c:v>
                </c:pt>
                <c:pt idx="305">
                  <c:v>-1.22773766315483</c:v>
                </c:pt>
                <c:pt idx="306">
                  <c:v>-1.28082143074517</c:v>
                </c:pt>
                <c:pt idx="307">
                  <c:v>-1.33680544485136</c:v>
                </c:pt>
                <c:pt idx="308">
                  <c:v>-1.39588194724862</c:v>
                </c:pt>
                <c:pt idx="309">
                  <c:v>-1.45825821176916</c:v>
                </c:pt>
                <c:pt idx="310">
                  <c:v>-1.52415790275873</c:v>
                </c:pt>
                <c:pt idx="311">
                  <c:v>-1.59382257321666</c:v>
                </c:pt>
                <c:pt idx="312">
                  <c:v>-1.66751331876238</c:v>
                </c:pt>
                <c:pt idx="313">
                  <c:v>-1.74551260564693</c:v>
                </c:pt>
                <c:pt idx="314">
                  <c:v>-1.82812629339935</c:v>
                </c:pt>
                <c:pt idx="315">
                  <c:v>-1.91568587540858</c:v>
                </c:pt>
                <c:pt idx="316">
                  <c:v>-2.00855096384737</c:v>
                </c:pt>
                <c:pt idx="317">
                  <c:v>-2.10711204890708</c:v>
                </c:pt>
                <c:pt idx="318">
                  <c:v>-2.21179356640565</c:v>
                </c:pt>
                <c:pt idx="319">
                  <c:v>-2.32305731254188</c:v>
                </c:pt>
                <c:pt idx="320">
                  <c:v>-2.44140625</c:v>
                </c:pt>
                <c:pt idx="321">
                  <c:v>-2.56738875587961</c:v>
                </c:pt>
                <c:pt idx="322">
                  <c:v>-2.70160336918037</c:v>
                </c:pt>
                <c:pt idx="323">
                  <c:v>-2.8447041039778</c:v>
                </c:pt>
                <c:pt idx="324">
                  <c:v>-2.99740640418659</c:v>
                </c:pt>
                <c:pt idx="325">
                  <c:v>-3.16049382716049</c:v>
                </c:pt>
                <c:pt idx="326">
                  <c:v>-3.33482555660907</c:v>
                </c:pt>
                <c:pt idx="327">
                  <c:v>-3.52134486076092</c:v>
                </c:pt>
                <c:pt idx="328">
                  <c:v>-3.72108862978205</c:v>
                </c:pt>
                <c:pt idx="329">
                  <c:v>-3.93519814765501</c:v>
                </c:pt>
                <c:pt idx="330">
                  <c:v>-4.16493127863391</c:v>
                </c:pt>
                <c:pt idx="331">
                  <c:v>-4.41167627772402</c:v>
                </c:pt>
                <c:pt idx="332">
                  <c:v>-4.67696746925924</c:v>
                </c:pt>
                <c:pt idx="333">
                  <c:v>-4.96250307861285</c:v>
                </c:pt>
                <c:pt idx="334">
                  <c:v>-5.27016555065641</c:v>
                </c:pt>
                <c:pt idx="335">
                  <c:v>-5.60204474633242</c:v>
                </c:pt>
                <c:pt idx="336">
                  <c:v>-5.96046447753906</c:v>
                </c:pt>
                <c:pt idx="337">
                  <c:v>-6.34801292277687</c:v>
                </c:pt>
                <c:pt idx="338">
                  <c:v>-6.76757756455998</c:v>
                </c:pt>
                <c:pt idx="339">
                  <c:v>-7.22238540800808</c:v>
                </c:pt>
                <c:pt idx="340">
                  <c:v>-7.71604938271605</c:v>
                </c:pt>
                <c:pt idx="341">
                  <c:v>-8.25262200243106</c:v>
                </c:pt>
                <c:pt idx="342">
                  <c:v>-8.83665756608759</c:v>
                </c:pt>
                <c:pt idx="343">
                  <c:v>-9.47328443792305</c:v>
                </c:pt>
                <c:pt idx="344">
                  <c:v>-10.1682892544773</c:v>
                </c:pt>
                <c:pt idx="345">
                  <c:v>-10.9282152858411</c:v>
                </c:pt>
                <c:pt idx="346">
                  <c:v>-11.7604776447433</c:v>
                </c:pt>
                <c:pt idx="347">
                  <c:v>-12.6734986118083</c:v>
                </c:pt>
                <c:pt idx="348">
                  <c:v>-13.6768670564756</c:v>
                </c:pt>
                <c:pt idx="349">
                  <c:v>-14.7815268164243</c:v>
                </c:pt>
                <c:pt idx="350">
                  <c:v>-16</c:v>
                </c:pt>
                <c:pt idx="351">
                  <c:v>-17.3466525557431</c:v>
                </c:pt>
                <c:pt idx="352">
                  <c:v>-18.8380111882716</c:v>
                </c:pt>
                <c:pt idx="353">
                  <c:v>-20.4931428919227</c:v>
                </c:pt>
                <c:pt idx="354">
                  <c:v>-22.3341111559779</c:v>
                </c:pt>
                <c:pt idx="355">
                  <c:v>-24.3865264441397</c:v>
                </c:pt>
                <c:pt idx="356">
                  <c:v>-26.6802131001981</c:v>
                </c:pt>
                <c:pt idx="357">
                  <c:v>-29.2500206943897</c:v>
                </c:pt>
                <c:pt idx="358">
                  <c:v>-32.1368154215579</c:v>
                </c:pt>
                <c:pt idx="359">
                  <c:v>-35.3886970624904</c:v>
                </c:pt>
                <c:pt idx="360">
                  <c:v>-39.0625</c:v>
                </c:pt>
                <c:pt idx="361">
                  <c:v>-43.2256539068858</c:v>
                </c:pt>
                <c:pt idx="362">
                  <c:v>-47.9585024669854</c:v>
                </c:pt>
                <c:pt idx="363">
                  <c:v>-53.357208905745</c:v>
                </c:pt>
                <c:pt idx="364">
                  <c:v>-59.5374180765128</c:v>
                </c:pt>
                <c:pt idx="365">
                  <c:v>-66.6389004581424</c:v>
                </c:pt>
                <c:pt idx="366">
                  <c:v>-74.8314795081478</c:v>
                </c:pt>
                <c:pt idx="367">
                  <c:v>-84.3226488105025</c:v>
                </c:pt>
                <c:pt idx="368">
                  <c:v>-95.3674316406252</c:v>
                </c:pt>
                <c:pt idx="369">
                  <c:v>-108.28124103296</c:v>
                </c:pt>
                <c:pt idx="370">
                  <c:v>-123.456790123457</c:v>
                </c:pt>
                <c:pt idx="371">
                  <c:v>-141.386521057401</c:v>
                </c:pt>
                <c:pt idx="372">
                  <c:v>-162.692628071637</c:v>
                </c:pt>
                <c:pt idx="373">
                  <c:v>-188.167642315892</c:v>
                </c:pt>
                <c:pt idx="374">
                  <c:v>-218.829872903611</c:v>
                </c:pt>
                <c:pt idx="375">
                  <c:v>-256</c:v>
                </c:pt>
                <c:pt idx="376">
                  <c:v>-301.408179012347</c:v>
                </c:pt>
                <c:pt idx="377">
                  <c:v>-357.345778495646</c:v>
                </c:pt>
                <c:pt idx="378">
                  <c:v>-426.883409603171</c:v>
                </c:pt>
                <c:pt idx="379">
                  <c:v>-514.189046744927</c:v>
                </c:pt>
                <c:pt idx="380">
                  <c:v>-625.000000000003</c:v>
                </c:pt>
                <c:pt idx="381">
                  <c:v>-767.336039471767</c:v>
                </c:pt>
                <c:pt idx="382">
                  <c:v>-952.59868922421</c:v>
                </c:pt>
                <c:pt idx="383">
                  <c:v>-1197.30367213036</c:v>
                </c:pt>
                <c:pt idx="384">
                  <c:v>-1525.87890624999</c:v>
                </c:pt>
                <c:pt idx="385">
                  <c:v>-1975.30864197531</c:v>
                </c:pt>
                <c:pt idx="386">
                  <c:v>-2603.08204914618</c:v>
                </c:pt>
                <c:pt idx="387">
                  <c:v>-3501.27796645777</c:v>
                </c:pt>
                <c:pt idx="388">
                  <c:v>-4822.53086419751</c:v>
                </c:pt>
                <c:pt idx="389">
                  <c:v>-6830.13455365074</c:v>
                </c:pt>
                <c:pt idx="390">
                  <c:v>-9999.99999999996</c:v>
                </c:pt>
                <c:pt idx="391">
                  <c:v>-15241.5790275874</c:v>
                </c:pt>
                <c:pt idx="392">
                  <c:v>-24414.0624999999</c:v>
                </c:pt>
                <c:pt idx="393">
                  <c:v>-41649.3127863394</c:v>
                </c:pt>
                <c:pt idx="394">
                  <c:v>-77160.4938271602</c:v>
                </c:pt>
                <c:pt idx="395">
                  <c:v>-160000.000000002</c:v>
                </c:pt>
                <c:pt idx="396">
                  <c:v>-390624.999999999</c:v>
                </c:pt>
                <c:pt idx="397">
                  <c:v>-1234567.9012346</c:v>
                </c:pt>
                <c:pt idx="398">
                  <c:v>-6249999.99999998</c:v>
                </c:pt>
                <c:pt idx="399">
                  <c:v>-100000000.000009</c:v>
                </c:pt>
                <c:pt idx="400">
                  <c:v>0</c:v>
                </c:pt>
                <c:pt idx="401">
                  <c:v>-100000000.000009</c:v>
                </c:pt>
                <c:pt idx="402">
                  <c:v>-6249999.99999942</c:v>
                </c:pt>
                <c:pt idx="403">
                  <c:v>-1234567.90123453</c:v>
                </c:pt>
                <c:pt idx="404">
                  <c:v>-390624.999999999</c:v>
                </c:pt>
                <c:pt idx="405">
                  <c:v>-160000.000000002</c:v>
                </c:pt>
                <c:pt idx="406">
                  <c:v>-77160.4938271579</c:v>
                </c:pt>
                <c:pt idx="407">
                  <c:v>-41649.3127863384</c:v>
                </c:pt>
                <c:pt idx="408">
                  <c:v>-24414.0624999999</c:v>
                </c:pt>
                <c:pt idx="409">
                  <c:v>-15241.5790275874</c:v>
                </c:pt>
                <c:pt idx="410">
                  <c:v>-10000.0000000001</c:v>
                </c:pt>
                <c:pt idx="411">
                  <c:v>-6830.13455365063</c:v>
                </c:pt>
                <c:pt idx="412">
                  <c:v>-4822.53086419751</c:v>
                </c:pt>
                <c:pt idx="413">
                  <c:v>-3501.27796645777</c:v>
                </c:pt>
                <c:pt idx="414">
                  <c:v>-2603.08204914621</c:v>
                </c:pt>
                <c:pt idx="415">
                  <c:v>-1975.30864197529</c:v>
                </c:pt>
                <c:pt idx="416">
                  <c:v>-1525.87890624999</c:v>
                </c:pt>
                <c:pt idx="417">
                  <c:v>-1197.30367213036</c:v>
                </c:pt>
                <c:pt idx="418">
                  <c:v>-952.59868922421</c:v>
                </c:pt>
                <c:pt idx="419">
                  <c:v>-767.33603947176</c:v>
                </c:pt>
                <c:pt idx="420">
                  <c:v>-624.999999999998</c:v>
                </c:pt>
                <c:pt idx="421">
                  <c:v>-514.189046744927</c:v>
                </c:pt>
                <c:pt idx="422">
                  <c:v>-426.883409603171</c:v>
                </c:pt>
                <c:pt idx="423">
                  <c:v>-357.345778495643</c:v>
                </c:pt>
                <c:pt idx="424">
                  <c:v>-301.408179012345</c:v>
                </c:pt>
                <c:pt idx="425">
                  <c:v>-256</c:v>
                </c:pt>
                <c:pt idx="426">
                  <c:v>-218.829872903611</c:v>
                </c:pt>
                <c:pt idx="427">
                  <c:v>-188.167642315891</c:v>
                </c:pt>
                <c:pt idx="428">
                  <c:v>-162.692628071636</c:v>
                </c:pt>
                <c:pt idx="429">
                  <c:v>-141.386521057401</c:v>
                </c:pt>
                <c:pt idx="430">
                  <c:v>-123.456790123457</c:v>
                </c:pt>
                <c:pt idx="431">
                  <c:v>-108.281241032959</c:v>
                </c:pt>
                <c:pt idx="432">
                  <c:v>-95.3674316406246</c:v>
                </c:pt>
                <c:pt idx="433">
                  <c:v>-84.3226488105025</c:v>
                </c:pt>
                <c:pt idx="434">
                  <c:v>-74.8314795081478</c:v>
                </c:pt>
                <c:pt idx="435">
                  <c:v>-66.638900458142</c:v>
                </c:pt>
                <c:pt idx="436">
                  <c:v>-59.5374180765125</c:v>
                </c:pt>
                <c:pt idx="437">
                  <c:v>-53.357208905745</c:v>
                </c:pt>
                <c:pt idx="438">
                  <c:v>-47.9585024669854</c:v>
                </c:pt>
                <c:pt idx="439">
                  <c:v>-43.225653906886</c:v>
                </c:pt>
                <c:pt idx="440">
                  <c:v>-39.0624999999999</c:v>
                </c:pt>
                <c:pt idx="441">
                  <c:v>-35.3886970624904</c:v>
                </c:pt>
                <c:pt idx="442">
                  <c:v>-32.1368154215579</c:v>
                </c:pt>
                <c:pt idx="443">
                  <c:v>-29.2500206943897</c:v>
                </c:pt>
                <c:pt idx="444">
                  <c:v>-26.680213100198</c:v>
                </c:pt>
                <c:pt idx="445">
                  <c:v>-24.3865264441396</c:v>
                </c:pt>
                <c:pt idx="446">
                  <c:v>-22.3341111559779</c:v>
                </c:pt>
                <c:pt idx="447">
                  <c:v>-20.4931428919227</c:v>
                </c:pt>
                <c:pt idx="448">
                  <c:v>-18.8380111882715</c:v>
                </c:pt>
                <c:pt idx="449">
                  <c:v>-17.346652555743</c:v>
                </c:pt>
                <c:pt idx="450">
                  <c:v>-16</c:v>
                </c:pt>
                <c:pt idx="451">
                  <c:v>-14.7815268164243</c:v>
                </c:pt>
                <c:pt idx="452">
                  <c:v>-13.6768670564756</c:v>
                </c:pt>
                <c:pt idx="453">
                  <c:v>-12.6734986118083</c:v>
                </c:pt>
                <c:pt idx="454">
                  <c:v>-11.7604776447433</c:v>
                </c:pt>
                <c:pt idx="455">
                  <c:v>-10.9282152858411</c:v>
                </c:pt>
                <c:pt idx="456">
                  <c:v>-10.1682892544773</c:v>
                </c:pt>
                <c:pt idx="457">
                  <c:v>-9.47328443792302</c:v>
                </c:pt>
                <c:pt idx="458">
                  <c:v>-8.83665756608759</c:v>
                </c:pt>
                <c:pt idx="459">
                  <c:v>-8.25262200243106</c:v>
                </c:pt>
                <c:pt idx="460">
                  <c:v>-7.71604938271602</c:v>
                </c:pt>
                <c:pt idx="461">
                  <c:v>-7.22238540800807</c:v>
                </c:pt>
                <c:pt idx="462">
                  <c:v>-6.76757756455998</c:v>
                </c:pt>
                <c:pt idx="463">
                  <c:v>-6.34801292277687</c:v>
                </c:pt>
                <c:pt idx="464">
                  <c:v>-5.96046447753908</c:v>
                </c:pt>
                <c:pt idx="465">
                  <c:v>-5.6020447463324</c:v>
                </c:pt>
                <c:pt idx="466">
                  <c:v>-5.27016555065641</c:v>
                </c:pt>
                <c:pt idx="467">
                  <c:v>-4.96250307861285</c:v>
                </c:pt>
                <c:pt idx="468">
                  <c:v>-4.67696746925924</c:v>
                </c:pt>
                <c:pt idx="469">
                  <c:v>-4.41167627772401</c:v>
                </c:pt>
                <c:pt idx="470">
                  <c:v>-4.1649312786339</c:v>
                </c:pt>
                <c:pt idx="471">
                  <c:v>-3.93519814765501</c:v>
                </c:pt>
                <c:pt idx="472">
                  <c:v>-3.72108862978205</c:v>
                </c:pt>
                <c:pt idx="473">
                  <c:v>-3.52134486076091</c:v>
                </c:pt>
                <c:pt idx="474">
                  <c:v>-3.33482555660906</c:v>
                </c:pt>
                <c:pt idx="475">
                  <c:v>-3.16049382716049</c:v>
                </c:pt>
                <c:pt idx="476">
                  <c:v>-2.99740640418659</c:v>
                </c:pt>
                <c:pt idx="477">
                  <c:v>-2.8447041039778</c:v>
                </c:pt>
                <c:pt idx="478">
                  <c:v>-2.70160336918037</c:v>
                </c:pt>
                <c:pt idx="479">
                  <c:v>-2.56738875587961</c:v>
                </c:pt>
                <c:pt idx="480">
                  <c:v>-2.44140625</c:v>
                </c:pt>
                <c:pt idx="481">
                  <c:v>-2.32305731254187</c:v>
                </c:pt>
                <c:pt idx="482">
                  <c:v>-2.21179356640565</c:v>
                </c:pt>
                <c:pt idx="483">
                  <c:v>-2.10711204890708</c:v>
                </c:pt>
                <c:pt idx="484">
                  <c:v>-2.00855096384737</c:v>
                </c:pt>
                <c:pt idx="485">
                  <c:v>-1.91568587540858</c:v>
                </c:pt>
                <c:pt idx="486">
                  <c:v>-1.82812629339935</c:v>
                </c:pt>
                <c:pt idx="487">
                  <c:v>-1.74551260564693</c:v>
                </c:pt>
                <c:pt idx="488">
                  <c:v>-1.66751331876238</c:v>
                </c:pt>
                <c:pt idx="489">
                  <c:v>-1.59382257321666</c:v>
                </c:pt>
                <c:pt idx="490">
                  <c:v>-1.52415790275872</c:v>
                </c:pt>
                <c:pt idx="491">
                  <c:v>-1.45825821176916</c:v>
                </c:pt>
                <c:pt idx="492">
                  <c:v>-1.39588194724862</c:v>
                </c:pt>
                <c:pt idx="493">
                  <c:v>-1.33680544485136</c:v>
                </c:pt>
                <c:pt idx="494">
                  <c:v>-1.28082143074516</c:v>
                </c:pt>
                <c:pt idx="495">
                  <c:v>-1.22773766315482</c:v>
                </c:pt>
                <c:pt idx="496">
                  <c:v>-1.17737569926698</c:v>
                </c:pt>
                <c:pt idx="497">
                  <c:v>-1.12956977477316</c:v>
                </c:pt>
                <c:pt idx="498">
                  <c:v>-1.08416578473394</c:v>
                </c:pt>
                <c:pt idx="499">
                  <c:v>-1.04102035568522</c:v>
                </c:pt>
                <c:pt idx="500">
                  <c:v>-1</c:v>
                </c:pt>
                <c:pt idx="501">
                  <c:v>-0.960980344482816</c:v>
                </c:pt>
                <c:pt idx="502">
                  <c:v>-0.923845426026514</c:v>
                </c:pt>
                <c:pt idx="503">
                  <c:v>-0.888487047915689</c:v>
                </c:pt>
                <c:pt idx="504">
                  <c:v>-0.854804191029726</c:v>
                </c:pt>
                <c:pt idx="505">
                  <c:v>-0.822702474791882</c:v>
                </c:pt>
                <c:pt idx="506">
                  <c:v>-0.79209366323802</c:v>
                </c:pt>
                <c:pt idx="507">
                  <c:v>-0.762895212047525</c:v>
                </c:pt>
                <c:pt idx="508">
                  <c:v>-0.735029852796453</c:v>
                </c:pt>
                <c:pt idx="509">
                  <c:v>-0.708425211065196</c:v>
                </c:pt>
                <c:pt idx="510">
                  <c:v>-0.683013455365071</c:v>
                </c:pt>
                <c:pt idx="511">
                  <c:v>-0.658730974145</c:v>
                </c:pt>
                <c:pt idx="512">
                  <c:v>-0.635518078404831</c:v>
                </c:pt>
                <c:pt idx="513">
                  <c:v>-0.613318727679377</c:v>
                </c:pt>
                <c:pt idx="514">
                  <c:v>-0.592080277370189</c:v>
                </c:pt>
                <c:pt idx="515">
                  <c:v>-0.571753245593033</c:v>
                </c:pt>
                <c:pt idx="516">
                  <c:v>-0.552291097880475</c:v>
                </c:pt>
                <c:pt idx="517">
                  <c:v>-0.533650048233159</c:v>
                </c:pt>
                <c:pt idx="518">
                  <c:v>-0.515788875151941</c:v>
                </c:pt>
                <c:pt idx="519">
                  <c:v>-0.498668751407898</c:v>
                </c:pt>
                <c:pt idx="520">
                  <c:v>-0.482253086419753</c:v>
                </c:pt>
                <c:pt idx="521">
                  <c:v>-0.466507380209734</c:v>
                </c:pt>
                <c:pt idx="522">
                  <c:v>-0.451399088000505</c:v>
                </c:pt>
                <c:pt idx="523">
                  <c:v>-0.436897494598647</c:v>
                </c:pt>
                <c:pt idx="524">
                  <c:v>-0.422973597784999</c:v>
                </c:pt>
                <c:pt idx="525">
                  <c:v>-0.4096</c:v>
                </c:pt>
                <c:pt idx="526">
                  <c:v>-0.396750807673554</c:v>
                </c:pt>
                <c:pt idx="527">
                  <c:v>-0.384401537604613</c:v>
                </c:pt>
                <c:pt idx="528">
                  <c:v>-0.372529029846191</c:v>
                </c:pt>
                <c:pt idx="529">
                  <c:v>-0.361111366597403</c:v>
                </c:pt>
                <c:pt idx="530">
                  <c:v>-0.350127796645776</c:v>
                </c:pt>
                <c:pt idx="531">
                  <c:v>-0.339558664941034</c:v>
                </c:pt>
                <c:pt idx="532">
                  <c:v>-0.329385346916026</c:v>
                </c:pt>
                <c:pt idx="533">
                  <c:v>-0.319590187201902</c:v>
                </c:pt>
                <c:pt idx="534">
                  <c:v>-0.310156442413303</c:v>
                </c:pt>
                <c:pt idx="535">
                  <c:v>-0.301068227705427</c:v>
                </c:pt>
                <c:pt idx="536">
                  <c:v>-0.292310466828702</c:v>
                </c:pt>
                <c:pt idx="537">
                  <c:v>-0.283868845428562</c:v>
                </c:pt>
                <c:pt idx="538">
                  <c:v>-0.275729767357751</c:v>
                </c:pt>
                <c:pt idx="539">
                  <c:v>-0.267880313786749</c:v>
                </c:pt>
                <c:pt idx="540">
                  <c:v>-0.260308204914619</c:v>
                </c:pt>
                <c:pt idx="541">
                  <c:v>-0.25300176409781</c:v>
                </c:pt>
                <c:pt idx="542">
                  <c:v>-0.245949884228438</c:v>
                </c:pt>
                <c:pt idx="543">
                  <c:v>-0.23914199620639</c:v>
                </c:pt>
                <c:pt idx="544">
                  <c:v>-0.232568039361378</c:v>
                </c:pt>
                <c:pt idx="545">
                  <c:v>-0.226218433691842</c:v>
                </c:pt>
                <c:pt idx="546">
                  <c:v>-0.220084053797557</c:v>
                </c:pt>
                <c:pt idx="547">
                  <c:v>-0.214156204391889</c:v>
                </c:pt>
                <c:pt idx="548">
                  <c:v>-0.208426597288067</c:v>
                </c:pt>
                <c:pt idx="549">
                  <c:v>-0.202887329761528</c:v>
                </c:pt>
                <c:pt idx="550">
                  <c:v>-0.197530864197531</c:v>
                </c:pt>
                <c:pt idx="551">
                  <c:v>-0.192350008939755</c:v>
                </c:pt>
                <c:pt idx="552">
                  <c:v>-0.187337900261662</c:v>
                </c:pt>
                <c:pt idx="553">
                  <c:v>-0.182487985387953</c:v>
                </c:pt>
                <c:pt idx="554">
                  <c:v>-0.177794006498613</c:v>
                </c:pt>
                <c:pt idx="555">
                  <c:v>-0.173249985652736</c:v>
                </c:pt>
                <c:pt idx="556">
                  <c:v>-0.168850210573773</c:v>
                </c:pt>
                <c:pt idx="557">
                  <c:v>-0.164589221241837</c:v>
                </c:pt>
                <c:pt idx="558">
                  <c:v>-0.160461797242476</c:v>
                </c:pt>
                <c:pt idx="559">
                  <c:v>-0.156462945824794</c:v>
                </c:pt>
                <c:pt idx="560">
                  <c:v>-0.152587890625</c:v>
                </c:pt>
                <c:pt idx="561">
                  <c:v>-0.14883206101443</c:v>
                </c:pt>
                <c:pt idx="562">
                  <c:v>-0.145191082033867</c:v>
                </c:pt>
                <c:pt idx="563">
                  <c:v>-0.141660764878516</c:v>
                </c:pt>
                <c:pt idx="564">
                  <c:v>-0.138237097900353</c:v>
                </c:pt>
                <c:pt idx="565">
                  <c:v>-0.134916238096804</c:v>
                </c:pt>
                <c:pt idx="566">
                  <c:v>-0.131694503056693</c:v>
                </c:pt>
                <c:pt idx="567">
                  <c:v>-0.128568363336344</c:v>
                </c:pt>
                <c:pt idx="568">
                  <c:v>-0.12553443524046</c:v>
                </c:pt>
                <c:pt idx="569">
                  <c:v>-0.122589473984026</c:v>
                </c:pt>
                <c:pt idx="570">
                  <c:v>-0.119730367213036</c:v>
                </c:pt>
                <c:pt idx="571">
                  <c:v>-0.116954128863247</c:v>
                </c:pt>
                <c:pt idx="572">
                  <c:v>-0.11425789333746</c:v>
                </c:pt>
                <c:pt idx="573">
                  <c:v>-0.111638909983092</c:v>
                </c:pt>
                <c:pt idx="574">
                  <c:v>-0.109094537852933</c:v>
                </c:pt>
                <c:pt idx="575">
                  <c:v>-0.106622240733028</c:v>
                </c:pt>
                <c:pt idx="576">
                  <c:v>-0.104219582422649</c:v>
                </c:pt>
                <c:pt idx="577">
                  <c:v>-0.101884222252235</c:v>
                </c:pt>
                <c:pt idx="578">
                  <c:v>-0.0996139108260414</c:v>
                </c:pt>
                <c:pt idx="579">
                  <c:v>-0.0974064859770443</c:v>
                </c:pt>
                <c:pt idx="580">
                  <c:v>-0.0952598689224204</c:v>
                </c:pt>
                <c:pt idx="581">
                  <c:v>-0.0931720606086006</c:v>
                </c:pt>
                <c:pt idx="582">
                  <c:v>-0.0911411382355726</c:v>
                </c:pt>
                <c:pt idx="583">
                  <c:v>-0.089165251950717</c:v>
                </c:pt>
                <c:pt idx="584">
                  <c:v>-0.0872426217030385</c:v>
                </c:pt>
                <c:pt idx="585">
                  <c:v>-0.085371534249192</c:v>
                </c:pt>
                <c:pt idx="586">
                  <c:v>-0.0835503403032097</c:v>
                </c:pt>
                <c:pt idx="587">
                  <c:v>-0.0817774518223046</c:v>
                </c:pt>
                <c:pt idx="588">
                  <c:v>-0.0800513394215729</c:v>
                </c:pt>
                <c:pt idx="589">
                  <c:v>-0.0783705299108255</c:v>
                </c:pt>
                <c:pt idx="590">
                  <c:v>-0.0767336039471766</c:v>
                </c:pt>
                <c:pt idx="591">
                  <c:v>-0.0751391937973713</c:v>
                </c:pt>
                <c:pt idx="592">
                  <c:v>-0.073585981204186</c:v>
                </c:pt>
                <c:pt idx="593">
                  <c:v>-0.072072695351547</c:v>
                </c:pt>
                <c:pt idx="594">
                  <c:v>-0.0705981109233227</c:v>
                </c:pt>
                <c:pt idx="595">
                  <c:v>-0.0691610462510174</c:v>
                </c:pt>
                <c:pt idx="596">
                  <c:v>-0.0677603615458712</c:v>
                </c:pt>
                <c:pt idx="597">
                  <c:v>-0.0663949572111092</c:v>
                </c:pt>
                <c:pt idx="598">
                  <c:v>-0.0650637722303261</c:v>
                </c:pt>
                <c:pt idx="599">
                  <c:v>-0.0637657826282076</c:v>
                </c:pt>
                <c:pt idx="600">
                  <c:v>-0.0625</c:v>
                </c:pt>
                <c:pt idx="601">
                  <c:v>-0.0612654701063315</c:v>
                </c:pt>
                <c:pt idx="602">
                  <c:v>-0.060061271530176</c:v>
                </c:pt>
                <c:pt idx="603">
                  <c:v>-0.0588865143929202</c:v>
                </c:pt>
                <c:pt idx="604">
                  <c:v>-0.0577403391266571</c:v>
                </c:pt>
                <c:pt idx="605">
                  <c:v>-0.0566219152999847</c:v>
                </c:pt>
                <c:pt idx="606">
                  <c:v>-0.0555304404947306</c:v>
                </c:pt>
                <c:pt idx="607">
                  <c:v>-0.0544651392311607</c:v>
                </c:pt>
                <c:pt idx="608">
                  <c:v>-0.0534252619393579</c:v>
                </c:pt>
                <c:pt idx="609">
                  <c:v>-0.0524100839745759</c:v>
                </c:pt>
                <c:pt idx="610">
                  <c:v>-0.0514189046744926</c:v>
                </c:pt>
                <c:pt idx="611">
                  <c:v>-0.0504510464563876</c:v>
                </c:pt>
                <c:pt idx="612">
                  <c:v>-0.0495058539523763</c:v>
                </c:pt>
                <c:pt idx="613">
                  <c:v>-0.0485826931809261</c:v>
                </c:pt>
                <c:pt idx="614">
                  <c:v>-0.0476809507529703</c:v>
                </c:pt>
                <c:pt idx="615">
                  <c:v>-0.0468000331110234</c:v>
                </c:pt>
                <c:pt idx="616">
                  <c:v>-0.0459393657997783</c:v>
                </c:pt>
                <c:pt idx="617">
                  <c:v>-0.0450983927667471</c:v>
                </c:pt>
                <c:pt idx="618">
                  <c:v>-0.0442765756915748</c:v>
                </c:pt>
                <c:pt idx="619">
                  <c:v>-0.0434733933427274</c:v>
                </c:pt>
                <c:pt idx="620">
                  <c:v>-0.0426883409603169</c:v>
                </c:pt>
                <c:pt idx="621">
                  <c:v>-0.04192092966389</c:v>
                </c:pt>
                <c:pt idx="622">
                  <c:v>-0.0411706858840625</c:v>
                </c:pt>
                <c:pt idx="623">
                  <c:v>-0.0404371508169384</c:v>
                </c:pt>
                <c:pt idx="624">
                  <c:v>-0.039719879900302</c:v>
                </c:pt>
                <c:pt idx="625">
                  <c:v>-0.0390184423106234</c:v>
                </c:pt>
                <c:pt idx="626">
                  <c:v>-0.0383324204799611</c:v>
                </c:pt>
                <c:pt idx="627">
                  <c:v>-0.0376614096318915</c:v>
                </c:pt>
                <c:pt idx="628">
                  <c:v>-0.0370050173356369</c:v>
                </c:pt>
                <c:pt idx="629">
                  <c:v>-0.0363628630776016</c:v>
                </c:pt>
                <c:pt idx="630">
                  <c:v>-0.0357345778495646</c:v>
                </c:pt>
                <c:pt idx="631">
                  <c:v>-0.0351198037528124</c:v>
                </c:pt>
                <c:pt idx="632">
                  <c:v>-0.0345181936175297</c:v>
                </c:pt>
                <c:pt idx="633">
                  <c:v>-0.0339294106367965</c:v>
                </c:pt>
                <c:pt idx="634">
                  <c:v>-0.0333531280145725</c:v>
                </c:pt>
                <c:pt idx="635">
                  <c:v>-0.0327890286270763</c:v>
                </c:pt>
                <c:pt idx="636">
                  <c:v>-0.0322368046969963</c:v>
                </c:pt>
                <c:pt idx="637">
                  <c:v>-0.0316961574799952</c:v>
                </c:pt>
                <c:pt idx="638">
                  <c:v>-0.0311667969629936</c:v>
                </c:pt>
                <c:pt idx="639">
                  <c:v>-0.0306484415737454</c:v>
                </c:pt>
                <c:pt idx="640">
                  <c:v>-0.0301408179012346</c:v>
                </c:pt>
                <c:pt idx="641">
                  <c:v>-0.0296436604264498</c:v>
                </c:pt>
                <c:pt idx="642">
                  <c:v>-0.0291567112631083</c:v>
                </c:pt>
                <c:pt idx="643">
                  <c:v>-0.0286797199079244</c:v>
                </c:pt>
                <c:pt idx="644">
                  <c:v>-0.0282124430000316</c:v>
                </c:pt>
                <c:pt idx="645">
                  <c:v>-0.0277546440891889</c:v>
                </c:pt>
                <c:pt idx="646">
                  <c:v>-0.0273060934124155</c:v>
                </c:pt>
                <c:pt idx="647">
                  <c:v>-0.0268665676787146</c:v>
                </c:pt>
                <c:pt idx="648">
                  <c:v>-0.0264358498615624</c:v>
                </c:pt>
                <c:pt idx="649">
                  <c:v>-0.0260137289988529</c:v>
                </c:pt>
                <c:pt idx="650">
                  <c:v>-0.0256</c:v>
                </c:pt>
                <c:pt idx="651">
                  <c:v>-0.0251944634599168</c:v>
                </c:pt>
                <c:pt idx="652">
                  <c:v>-0.0247969254795972</c:v>
                </c:pt>
                <c:pt idx="653">
                  <c:v>-0.0244071974930432</c:v>
                </c:pt>
                <c:pt idx="654">
                  <c:v>-0.0240250961002883</c:v>
                </c:pt>
                <c:pt idx="655">
                  <c:v>-0.0236504429062788</c:v>
                </c:pt>
                <c:pt idx="656">
                  <c:v>-0.023283064365387</c:v>
                </c:pt>
                <c:pt idx="657">
                  <c:v>-0.0229227916313374</c:v>
                </c:pt>
                <c:pt idx="658">
                  <c:v>-0.0225694604123377</c:v>
                </c:pt>
                <c:pt idx="659">
                  <c:v>-0.0222229108312141</c:v>
                </c:pt>
                <c:pt idx="660">
                  <c:v>-0.021882987290361</c:v>
                </c:pt>
                <c:pt idx="661">
                  <c:v>-0.0215495383413202</c:v>
                </c:pt>
                <c:pt idx="662">
                  <c:v>-0.0212224165588146</c:v>
                </c:pt>
                <c:pt idx="663">
                  <c:v>-0.0209014784190686</c:v>
                </c:pt>
                <c:pt idx="664">
                  <c:v>-0.0205865841822516</c:v>
                </c:pt>
                <c:pt idx="665">
                  <c:v>-0.0202775977788933</c:v>
                </c:pt>
                <c:pt idx="666">
                  <c:v>-0.0199743867001189</c:v>
                </c:pt>
                <c:pt idx="667">
                  <c:v>-0.0196768218915637</c:v>
                </c:pt>
                <c:pt idx="668">
                  <c:v>-0.0193847776508314</c:v>
                </c:pt>
                <c:pt idx="669">
                  <c:v>-0.0190981315283624</c:v>
                </c:pt>
                <c:pt idx="670">
                  <c:v>-0.0188167642315892</c:v>
                </c:pt>
                <c:pt idx="671">
                  <c:v>-0.018540559532257</c:v>
                </c:pt>
                <c:pt idx="672">
                  <c:v>-0.0182694041767939</c:v>
                </c:pt>
                <c:pt idx="673">
                  <c:v>-0.0180031877996193</c:v>
                </c:pt>
                <c:pt idx="674">
                  <c:v>-0.0177418028392852</c:v>
                </c:pt>
                <c:pt idx="675">
                  <c:v>-0.0174851444573458</c:v>
                </c:pt>
                <c:pt idx="676">
                  <c:v>-0.0172331104598595</c:v>
                </c:pt>
                <c:pt idx="677">
                  <c:v>-0.0169856012214262</c:v>
                </c:pt>
                <c:pt idx="678">
                  <c:v>-0.0167425196116718</c:v>
                </c:pt>
                <c:pt idx="679">
                  <c:v>-0.0165037709240908</c:v>
                </c:pt>
                <c:pt idx="680">
                  <c:v>-0.0162692628071637</c:v>
                </c:pt>
                <c:pt idx="681">
                  <c:v>-0.0160389051976692</c:v>
                </c:pt>
                <c:pt idx="682">
                  <c:v>-0.0158126102561132</c:v>
                </c:pt>
                <c:pt idx="683">
                  <c:v>-0.0155902923042004</c:v>
                </c:pt>
                <c:pt idx="684">
                  <c:v>-0.0153718677642774</c:v>
                </c:pt>
                <c:pt idx="685">
                  <c:v>-0.0151572551006769</c:v>
                </c:pt>
                <c:pt idx="686">
                  <c:v>-0.0149463747628994</c:v>
                </c:pt>
                <c:pt idx="687">
                  <c:v>-0.0147391491305666</c:v>
                </c:pt>
                <c:pt idx="688">
                  <c:v>-0.0145355024600861</c:v>
                </c:pt>
                <c:pt idx="689">
                  <c:v>-0.0143353608329685</c:v>
                </c:pt>
                <c:pt idx="690">
                  <c:v>-0.0141386521057402</c:v>
                </c:pt>
                <c:pt idx="691">
                  <c:v>-0.0139453058613971</c:v>
                </c:pt>
                <c:pt idx="692">
                  <c:v>-0.0137552533623473</c:v>
                </c:pt>
                <c:pt idx="693">
                  <c:v>-0.0135684275047916</c:v>
                </c:pt>
                <c:pt idx="694">
                  <c:v>-0.0133847627744931</c:v>
                </c:pt>
                <c:pt idx="695">
                  <c:v>-0.0132041952038897</c:v>
                </c:pt>
                <c:pt idx="696">
                  <c:v>-0.0130266623305042</c:v>
                </c:pt>
                <c:pt idx="697">
                  <c:v>-0.0128521031566076</c:v>
                </c:pt>
                <c:pt idx="698">
                  <c:v>-0.0126804581100955</c:v>
                </c:pt>
                <c:pt idx="699">
                  <c:v>-0.012511669006535</c:v>
                </c:pt>
                <c:pt idx="700">
                  <c:v>-0.0123456790123457</c:v>
                </c:pt>
                <c:pt idx="701">
                  <c:v>-0.0121824326090752</c:v>
                </c:pt>
                <c:pt idx="702">
                  <c:v>-0.0120218755587347</c:v>
                </c:pt>
                <c:pt idx="703">
                  <c:v>-0.0118639548701582</c:v>
                </c:pt>
                <c:pt idx="704">
                  <c:v>-0.0117086187663538</c:v>
                </c:pt>
                <c:pt idx="705">
                  <c:v>-0.0115558166528129</c:v>
                </c:pt>
                <c:pt idx="706">
                  <c:v>-0.0114054990867471</c:v>
                </c:pt>
                <c:pt idx="707">
                  <c:v>-0.0112576177472226</c:v>
                </c:pt>
                <c:pt idx="708">
                  <c:v>-0.0111121254061633</c:v>
                </c:pt>
                <c:pt idx="709">
                  <c:v>-0.0109689759001937</c:v>
                </c:pt>
                <c:pt idx="710">
                  <c:v>-0.010828124103296</c:v>
                </c:pt>
                <c:pt idx="711">
                  <c:v>-0.0106895259002542</c:v>
                </c:pt>
                <c:pt idx="712">
                  <c:v>-0.0105531381608608</c:v>
                </c:pt>
                <c:pt idx="713">
                  <c:v>-0.0104189187148616</c:v>
                </c:pt>
                <c:pt idx="714">
                  <c:v>-0.0102868263276148</c:v>
                </c:pt>
                <c:pt idx="715">
                  <c:v>-0.010156820676443</c:v>
                </c:pt>
                <c:pt idx="716">
                  <c:v>-0.0100288623276547</c:v>
                </c:pt>
                <c:pt idx="717">
                  <c:v>-0.00990291271421586</c:v>
                </c:pt>
                <c:pt idx="718">
                  <c:v>-0.00977893411404964</c:v>
                </c:pt>
                <c:pt idx="719">
                  <c:v>-0.00965688962894622</c:v>
                </c:pt>
                <c:pt idx="720">
                  <c:v>-0.0095367431640625</c:v>
                </c:pt>
                <c:pt idx="721">
                  <c:v>-0.00941845940799414</c:v>
                </c:pt>
                <c:pt idx="722">
                  <c:v>-0.00930200381340186</c:v>
                </c:pt>
                <c:pt idx="723">
                  <c:v>-0.00918734257817515</c:v>
                </c:pt>
                <c:pt idx="724">
                  <c:v>-0.00907444262711671</c:v>
                </c:pt>
                <c:pt idx="725">
                  <c:v>-0.00896327159413186</c:v>
                </c:pt>
                <c:pt idx="726">
                  <c:v>-0.00885379780490724</c:v>
                </c:pt>
                <c:pt idx="727">
                  <c:v>-0.00874599026006416</c:v>
                </c:pt>
                <c:pt idx="728">
                  <c:v>-0.00863981861877208</c:v>
                </c:pt>
                <c:pt idx="729">
                  <c:v>-0.00853525318280827</c:v>
                </c:pt>
                <c:pt idx="730">
                  <c:v>-0.00843226488105026</c:v>
                </c:pt>
                <c:pt idx="731">
                  <c:v>-0.00833082525438802</c:v>
                </c:pt>
                <c:pt idx="732">
                  <c:v>-0.00823090644104329</c:v>
                </c:pt>
                <c:pt idx="733">
                  <c:v>-0.00813248116228395</c:v>
                </c:pt>
                <c:pt idx="734">
                  <c:v>-0.00803552270852153</c:v>
                </c:pt>
                <c:pt idx="735">
                  <c:v>-0.00794000492578056</c:v>
                </c:pt>
                <c:pt idx="736">
                  <c:v>-0.00784590220252878</c:v>
                </c:pt>
                <c:pt idx="737">
                  <c:v>-0.00775318945685748</c:v>
                </c:pt>
                <c:pt idx="738">
                  <c:v>-0.00766184212400161</c:v>
                </c:pt>
                <c:pt idx="739">
                  <c:v>-0.00757183614418984</c:v>
                </c:pt>
                <c:pt idx="740">
                  <c:v>-0.00748314795081477</c:v>
                </c:pt>
                <c:pt idx="741">
                  <c:v>-0.00739575445891399</c:v>
                </c:pt>
                <c:pt idx="742">
                  <c:v>-0.00730963305395296</c:v>
                </c:pt>
                <c:pt idx="743">
                  <c:v>-0.00722476158090089</c:v>
                </c:pt>
                <c:pt idx="744">
                  <c:v>-0.00714111833359122</c:v>
                </c:pt>
                <c:pt idx="745">
                  <c:v>-0.00705868204435844</c:v>
                </c:pt>
                <c:pt idx="746">
                  <c:v>-0.00697743187394325</c:v>
                </c:pt>
                <c:pt idx="747">
                  <c:v>-0.00689734740165851</c:v>
                </c:pt>
                <c:pt idx="748">
                  <c:v>-0.00681840861580833</c:v>
                </c:pt>
                <c:pt idx="749">
                  <c:v>-0.00674059590435322</c:v>
                </c:pt>
                <c:pt idx="750">
                  <c:v>-0.00666389004581424</c:v>
                </c:pt>
                <c:pt idx="751">
                  <c:v>-0.00658827220040937</c:v>
                </c:pt>
                <c:pt idx="752">
                  <c:v>-0.00651372390141555</c:v>
                </c:pt>
                <c:pt idx="753">
                  <c:v>-0.00644022704675</c:v>
                </c:pt>
                <c:pt idx="754">
                  <c:v>-0.0063677638907647</c:v>
                </c:pt>
                <c:pt idx="755">
                  <c:v>-0.00629631703624802</c:v>
                </c:pt>
                <c:pt idx="756">
                  <c:v>-0.00622586942662759</c:v>
                </c:pt>
                <c:pt idx="757">
                  <c:v>-0.00615640433836911</c:v>
                </c:pt>
                <c:pt idx="758">
                  <c:v>-0.00608790537356527</c:v>
                </c:pt>
                <c:pt idx="759">
                  <c:v>-0.00602035645270978</c:v>
                </c:pt>
                <c:pt idx="760">
                  <c:v>-0.00595374180765128</c:v>
                </c:pt>
                <c:pt idx="761">
                  <c:v>-0.00588804597472215</c:v>
                </c:pt>
                <c:pt idx="762">
                  <c:v>-0.00582325378803754</c:v>
                </c:pt>
                <c:pt idx="763">
                  <c:v>-0.00575935037295967</c:v>
                </c:pt>
                <c:pt idx="764">
                  <c:v>-0.00569632113972329</c:v>
                </c:pt>
                <c:pt idx="765">
                  <c:v>-0.00563415177721747</c:v>
                </c:pt>
                <c:pt idx="766">
                  <c:v>-0.00557282824691981</c:v>
                </c:pt>
                <c:pt idx="767">
                  <c:v>-0.00551233677697874</c:v>
                </c:pt>
                <c:pt idx="768">
                  <c:v>-0.00545266385643991</c:v>
                </c:pt>
                <c:pt idx="769">
                  <c:v>-0.00539379622961293</c:v>
                </c:pt>
                <c:pt idx="770">
                  <c:v>-0.0053357208905745</c:v>
                </c:pt>
                <c:pt idx="771">
                  <c:v>-0.00527842507780439</c:v>
                </c:pt>
                <c:pt idx="772">
                  <c:v>-0.00522189626895061</c:v>
                </c:pt>
                <c:pt idx="773">
                  <c:v>-0.00516612217572047</c:v>
                </c:pt>
                <c:pt idx="774">
                  <c:v>-0.00511109073889404</c:v>
                </c:pt>
                <c:pt idx="775">
                  <c:v>-0.00505679012345679</c:v>
                </c:pt>
                <c:pt idx="776">
                  <c:v>-0.0050032087138483</c:v>
                </c:pt>
                <c:pt idx="777">
                  <c:v>-0.00495033510932396</c:v>
                </c:pt>
                <c:pt idx="778">
                  <c:v>-0.0048981581194266</c:v>
                </c:pt>
                <c:pt idx="779">
                  <c:v>-0.00484666675956532</c:v>
                </c:pt>
                <c:pt idx="780">
                  <c:v>-0.00479585024669854</c:v>
                </c:pt>
                <c:pt idx="781">
                  <c:v>-0.00474569799511868</c:v>
                </c:pt>
                <c:pt idx="782">
                  <c:v>-0.00469619961233571</c:v>
                </c:pt>
                <c:pt idx="783">
                  <c:v>-0.00464734489505711</c:v>
                </c:pt>
                <c:pt idx="784">
                  <c:v>-0.00459912382526163</c:v>
                </c:pt>
                <c:pt idx="785">
                  <c:v>-0.00455152656636449</c:v>
                </c:pt>
                <c:pt idx="786">
                  <c:v>-0.00450454345947169</c:v>
                </c:pt>
                <c:pt idx="787">
                  <c:v>-0.00445816501972103</c:v>
                </c:pt>
                <c:pt idx="788">
                  <c:v>-0.00441238193270767</c:v>
                </c:pt>
                <c:pt idx="789">
                  <c:v>-0.00436718505099215</c:v>
                </c:pt>
                <c:pt idx="790">
                  <c:v>-0.00432256539068859</c:v>
                </c:pt>
                <c:pt idx="791">
                  <c:v>-0.0042785141281312</c:v>
                </c:pt>
                <c:pt idx="792">
                  <c:v>-0.00423502259661695</c:v>
                </c:pt>
                <c:pt idx="793">
                  <c:v>-0.00419208228322265</c:v>
                </c:pt>
                <c:pt idx="794">
                  <c:v>-0.00414968482569433</c:v>
                </c:pt>
                <c:pt idx="795">
                  <c:v>-0.00410782200940738</c:v>
                </c:pt>
                <c:pt idx="796">
                  <c:v>-0.00406648576439538</c:v>
                </c:pt>
                <c:pt idx="797">
                  <c:v>-0.00402566816244612</c:v>
                </c:pt>
                <c:pt idx="798">
                  <c:v>-0.00398536141426298</c:v>
                </c:pt>
                <c:pt idx="799">
                  <c:v>-0.00394555786669015</c:v>
                </c:pt>
                <c:pt idx="800">
                  <c:v>-0.00390625</c:v>
                </c:pt>
              </c:numCache>
            </c:numRef>
          </c:yVal>
          <c:smooth val="1"/>
        </c:ser>
        <c:axId val="64253443"/>
        <c:axId val="9252780"/>
      </c:scatterChart>
      <c:valAx>
        <c:axId val="64253443"/>
        <c:scaling>
          <c:orientation val="minMax"/>
          <c:max val="4"/>
          <c:min val="-4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9252780"/>
        <c:crosses val="autoZero"/>
        <c:crossBetween val="midCat"/>
        <c:majorUnit val="1"/>
      </c:valAx>
      <c:valAx>
        <c:axId val="9252780"/>
        <c:scaling>
          <c:orientation val="minMax"/>
          <c:max val="2"/>
          <c:min val="-8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64253443"/>
        <c:crosses val="autoZero"/>
        <c:crossBetween val="midCat"/>
        <c:majorUnit val="2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3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layout>
        <c:manualLayout>
          <c:layoutTarget val="inner"/>
          <c:xMode val="edge"/>
          <c:yMode val="edge"/>
          <c:x val="0.0264666960741068"/>
          <c:y val="0.0282320271521135"/>
          <c:w val="0.950448463461256"/>
          <c:h val="0.946775686516507"/>
        </c:manualLayout>
      </c:layout>
      <c:scatterChart>
        <c:scatterStyle val="line"/>
        <c:varyColors val="0"/>
        <c:ser>
          <c:idx val="0"/>
          <c:order val="0"/>
          <c:spPr>
            <a:solidFill>
              <a:srgbClr val="0000ff"/>
            </a:solidFill>
            <a:ln w="25560">
              <a:solidFill>
                <a:srgbClr val="0000ff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15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2001"/>
                <c:pt idx="0">
                  <c:v>0.777777777777778</c:v>
                </c:pt>
                <c:pt idx="1">
                  <c:v>0.777530589543938</c:v>
                </c:pt>
                <c:pt idx="2">
                  <c:v>0.77728285077951</c:v>
                </c:pt>
                <c:pt idx="3">
                  <c:v>0.777034559643255</c:v>
                </c:pt>
                <c:pt idx="4">
                  <c:v>0.776785714285714</c:v>
                </c:pt>
                <c:pt idx="5">
                  <c:v>0.776536312849162</c:v>
                </c:pt>
                <c:pt idx="6">
                  <c:v>0.776286353467562</c:v>
                </c:pt>
                <c:pt idx="7">
                  <c:v>0.776035834266517</c:v>
                </c:pt>
                <c:pt idx="8">
                  <c:v>0.775784753363229</c:v>
                </c:pt>
                <c:pt idx="9">
                  <c:v>0.775533108866442</c:v>
                </c:pt>
                <c:pt idx="10">
                  <c:v>0.775280898876405</c:v>
                </c:pt>
                <c:pt idx="11">
                  <c:v>0.775028121484814</c:v>
                </c:pt>
                <c:pt idx="12">
                  <c:v>0.774774774774775</c:v>
                </c:pt>
                <c:pt idx="13">
                  <c:v>0.774520856820744</c:v>
                </c:pt>
                <c:pt idx="14">
                  <c:v>0.774266365688488</c:v>
                </c:pt>
                <c:pt idx="15">
                  <c:v>0.774011299435028</c:v>
                </c:pt>
                <c:pt idx="16">
                  <c:v>0.773755656108597</c:v>
                </c:pt>
                <c:pt idx="17">
                  <c:v>0.773499433748584</c:v>
                </c:pt>
                <c:pt idx="18">
                  <c:v>0.773242630385488</c:v>
                </c:pt>
                <c:pt idx="19">
                  <c:v>0.772985244040863</c:v>
                </c:pt>
                <c:pt idx="20">
                  <c:v>0.772727272727273</c:v>
                </c:pt>
                <c:pt idx="21">
                  <c:v>0.772468714448237</c:v>
                </c:pt>
                <c:pt idx="22">
                  <c:v>0.772209567198178</c:v>
                </c:pt>
                <c:pt idx="23">
                  <c:v>0.771949828962372</c:v>
                </c:pt>
                <c:pt idx="24">
                  <c:v>0.771689497716895</c:v>
                </c:pt>
                <c:pt idx="25">
                  <c:v>0.771428571428572</c:v>
                </c:pt>
                <c:pt idx="26">
                  <c:v>0.77116704805492</c:v>
                </c:pt>
                <c:pt idx="27">
                  <c:v>0.770904925544101</c:v>
                </c:pt>
                <c:pt idx="28">
                  <c:v>0.770642201834862</c:v>
                </c:pt>
                <c:pt idx="29">
                  <c:v>0.770378874856487</c:v>
                </c:pt>
                <c:pt idx="30">
                  <c:v>0.770114942528736</c:v>
                </c:pt>
                <c:pt idx="31">
                  <c:v>0.769850402761795</c:v>
                </c:pt>
                <c:pt idx="32">
                  <c:v>0.769585253456221</c:v>
                </c:pt>
                <c:pt idx="33">
                  <c:v>0.769319492502884</c:v>
                </c:pt>
                <c:pt idx="34">
                  <c:v>0.76905311778291</c:v>
                </c:pt>
                <c:pt idx="35">
                  <c:v>0.76878612716763</c:v>
                </c:pt>
                <c:pt idx="36">
                  <c:v>0.768518518518519</c:v>
                </c:pt>
                <c:pt idx="37">
                  <c:v>0.768250289687138</c:v>
                </c:pt>
                <c:pt idx="38">
                  <c:v>0.767981438515081</c:v>
                </c:pt>
                <c:pt idx="39">
                  <c:v>0.767711962833914</c:v>
                </c:pt>
                <c:pt idx="40">
                  <c:v>0.767441860465116</c:v>
                </c:pt>
                <c:pt idx="41">
                  <c:v>0.767171129220023</c:v>
                </c:pt>
                <c:pt idx="42">
                  <c:v>0.766899766899767</c:v>
                </c:pt>
                <c:pt idx="43">
                  <c:v>0.766627771295216</c:v>
                </c:pt>
                <c:pt idx="44">
                  <c:v>0.766355140186916</c:v>
                </c:pt>
                <c:pt idx="45">
                  <c:v>0.766081871345029</c:v>
                </c:pt>
                <c:pt idx="46">
                  <c:v>0.765807962529274</c:v>
                </c:pt>
                <c:pt idx="47">
                  <c:v>0.765533411488863</c:v>
                </c:pt>
                <c:pt idx="48">
                  <c:v>0.765258215962441</c:v>
                </c:pt>
                <c:pt idx="49">
                  <c:v>0.764982373678026</c:v>
                </c:pt>
                <c:pt idx="50">
                  <c:v>0.764705882352941</c:v>
                </c:pt>
                <c:pt idx="51">
                  <c:v>0.764428739693757</c:v>
                </c:pt>
                <c:pt idx="52">
                  <c:v>0.764150943396227</c:v>
                </c:pt>
                <c:pt idx="53">
                  <c:v>0.763872491145219</c:v>
                </c:pt>
                <c:pt idx="54">
                  <c:v>0.763593380614657</c:v>
                </c:pt>
                <c:pt idx="55">
                  <c:v>0.763313609467456</c:v>
                </c:pt>
                <c:pt idx="56">
                  <c:v>0.76303317535545</c:v>
                </c:pt>
                <c:pt idx="57">
                  <c:v>0.762752075919336</c:v>
                </c:pt>
                <c:pt idx="58">
                  <c:v>0.762470308788599</c:v>
                </c:pt>
                <c:pt idx="59">
                  <c:v>0.762187871581451</c:v>
                </c:pt>
                <c:pt idx="60">
                  <c:v>0.761904761904762</c:v>
                </c:pt>
                <c:pt idx="61">
                  <c:v>0.761620977353993</c:v>
                </c:pt>
                <c:pt idx="62">
                  <c:v>0.761336515513127</c:v>
                </c:pt>
                <c:pt idx="63">
                  <c:v>0.7610513739546</c:v>
                </c:pt>
                <c:pt idx="64">
                  <c:v>0.760765550239234</c:v>
                </c:pt>
                <c:pt idx="65">
                  <c:v>0.760479041916168</c:v>
                </c:pt>
                <c:pt idx="66">
                  <c:v>0.760191846522782</c:v>
                </c:pt>
                <c:pt idx="67">
                  <c:v>0.759903961584634</c:v>
                </c:pt>
                <c:pt idx="68">
                  <c:v>0.759615384615385</c:v>
                </c:pt>
                <c:pt idx="69">
                  <c:v>0.759326113116727</c:v>
                </c:pt>
                <c:pt idx="70">
                  <c:v>0.759036144578313</c:v>
                </c:pt>
                <c:pt idx="71">
                  <c:v>0.758745476477684</c:v>
                </c:pt>
                <c:pt idx="72">
                  <c:v>0.758454106280193</c:v>
                </c:pt>
                <c:pt idx="73">
                  <c:v>0.758162031438936</c:v>
                </c:pt>
                <c:pt idx="74">
                  <c:v>0.757869249394673</c:v>
                </c:pt>
                <c:pt idx="75">
                  <c:v>0.757575757575758</c:v>
                </c:pt>
                <c:pt idx="76">
                  <c:v>0.757281553398058</c:v>
                </c:pt>
                <c:pt idx="77">
                  <c:v>0.756986634264885</c:v>
                </c:pt>
                <c:pt idx="78">
                  <c:v>0.75669099756691</c:v>
                </c:pt>
                <c:pt idx="79">
                  <c:v>0.756394640682095</c:v>
                </c:pt>
                <c:pt idx="80">
                  <c:v>0.75609756097561</c:v>
                </c:pt>
                <c:pt idx="81">
                  <c:v>0.755799755799756</c:v>
                </c:pt>
                <c:pt idx="82">
                  <c:v>0.755501222493888</c:v>
                </c:pt>
                <c:pt idx="83">
                  <c:v>0.755201958384333</c:v>
                </c:pt>
                <c:pt idx="84">
                  <c:v>0.754901960784314</c:v>
                </c:pt>
                <c:pt idx="85">
                  <c:v>0.754601226993865</c:v>
                </c:pt>
                <c:pt idx="86">
                  <c:v>0.754299754299754</c:v>
                </c:pt>
                <c:pt idx="87">
                  <c:v>0.7539975399754</c:v>
                </c:pt>
                <c:pt idx="88">
                  <c:v>0.753694581280788</c:v>
                </c:pt>
                <c:pt idx="89">
                  <c:v>0.753390875462392</c:v>
                </c:pt>
                <c:pt idx="90">
                  <c:v>0.753086419753086</c:v>
                </c:pt>
                <c:pt idx="91">
                  <c:v>0.752781211372064</c:v>
                </c:pt>
                <c:pt idx="92">
                  <c:v>0.752475247524753</c:v>
                </c:pt>
                <c:pt idx="93">
                  <c:v>0.752168525402726</c:v>
                </c:pt>
                <c:pt idx="94">
                  <c:v>0.751861042183623</c:v>
                </c:pt>
                <c:pt idx="95">
                  <c:v>0.751552795031056</c:v>
                </c:pt>
                <c:pt idx="96">
                  <c:v>0.751243781094527</c:v>
                </c:pt>
                <c:pt idx="97">
                  <c:v>0.75093399750934</c:v>
                </c:pt>
                <c:pt idx="98">
                  <c:v>0.750623441396509</c:v>
                </c:pt>
                <c:pt idx="99">
                  <c:v>0.750312109862672</c:v>
                </c:pt>
                <c:pt idx="100">
                  <c:v>0.75</c:v>
                </c:pt>
                <c:pt idx="101">
                  <c:v>0.749687108886108</c:v>
                </c:pt>
                <c:pt idx="102">
                  <c:v>0.74937343358396</c:v>
                </c:pt>
                <c:pt idx="103">
                  <c:v>0.749058971141782</c:v>
                </c:pt>
                <c:pt idx="104">
                  <c:v>0.748743718592965</c:v>
                </c:pt>
                <c:pt idx="105">
                  <c:v>0.748427672955975</c:v>
                </c:pt>
                <c:pt idx="106">
                  <c:v>0.748110831234257</c:v>
                </c:pt>
                <c:pt idx="107">
                  <c:v>0.747793190416141</c:v>
                </c:pt>
                <c:pt idx="108">
                  <c:v>0.747474747474748</c:v>
                </c:pt>
                <c:pt idx="109">
                  <c:v>0.747155499367889</c:v>
                </c:pt>
                <c:pt idx="110">
                  <c:v>0.746835443037975</c:v>
                </c:pt>
                <c:pt idx="111">
                  <c:v>0.746514575411914</c:v>
                </c:pt>
                <c:pt idx="112">
                  <c:v>0.746192893401015</c:v>
                </c:pt>
                <c:pt idx="113">
                  <c:v>0.745870393900889</c:v>
                </c:pt>
                <c:pt idx="114">
                  <c:v>0.745547073791349</c:v>
                </c:pt>
                <c:pt idx="115">
                  <c:v>0.745222929936306</c:v>
                </c:pt>
                <c:pt idx="116">
                  <c:v>0.744897959183674</c:v>
                </c:pt>
                <c:pt idx="117">
                  <c:v>0.744572158365262</c:v>
                </c:pt>
                <c:pt idx="118">
                  <c:v>0.744245524296675</c:v>
                </c:pt>
                <c:pt idx="119">
                  <c:v>0.743918053777209</c:v>
                </c:pt>
                <c:pt idx="120">
                  <c:v>0.743589743589744</c:v>
                </c:pt>
                <c:pt idx="121">
                  <c:v>0.743260590500642</c:v>
                </c:pt>
                <c:pt idx="122">
                  <c:v>0.74293059125964</c:v>
                </c:pt>
                <c:pt idx="123">
                  <c:v>0.742599742599743</c:v>
                </c:pt>
                <c:pt idx="124">
                  <c:v>0.742268041237113</c:v>
                </c:pt>
                <c:pt idx="125">
                  <c:v>0.741935483870968</c:v>
                </c:pt>
                <c:pt idx="126">
                  <c:v>0.741602067183463</c:v>
                </c:pt>
                <c:pt idx="127">
                  <c:v>0.741267787839586</c:v>
                </c:pt>
                <c:pt idx="128">
                  <c:v>0.740932642487047</c:v>
                </c:pt>
                <c:pt idx="129">
                  <c:v>0.740596627756161</c:v>
                </c:pt>
                <c:pt idx="130">
                  <c:v>0.74025974025974</c:v>
                </c:pt>
                <c:pt idx="131">
                  <c:v>0.739921976592978</c:v>
                </c:pt>
                <c:pt idx="132">
                  <c:v>0.739583333333333</c:v>
                </c:pt>
                <c:pt idx="133">
                  <c:v>0.739243807040417</c:v>
                </c:pt>
                <c:pt idx="134">
                  <c:v>0.738903394255875</c:v>
                </c:pt>
                <c:pt idx="135">
                  <c:v>0.738562091503268</c:v>
                </c:pt>
                <c:pt idx="136">
                  <c:v>0.738219895287958</c:v>
                </c:pt>
                <c:pt idx="137">
                  <c:v>0.737876802096986</c:v>
                </c:pt>
                <c:pt idx="138">
                  <c:v>0.73753280839895</c:v>
                </c:pt>
                <c:pt idx="139">
                  <c:v>0.73718791064389</c:v>
                </c:pt>
                <c:pt idx="140">
                  <c:v>0.736842105263158</c:v>
                </c:pt>
                <c:pt idx="141">
                  <c:v>0.736495388669302</c:v>
                </c:pt>
                <c:pt idx="142">
                  <c:v>0.736147757255937</c:v>
                </c:pt>
                <c:pt idx="143">
                  <c:v>0.735799207397622</c:v>
                </c:pt>
                <c:pt idx="144">
                  <c:v>0.735449735449736</c:v>
                </c:pt>
                <c:pt idx="145">
                  <c:v>0.735099337748344</c:v>
                </c:pt>
                <c:pt idx="146">
                  <c:v>0.73474801061008</c:v>
                </c:pt>
                <c:pt idx="147">
                  <c:v>0.734395750332005</c:v>
                </c:pt>
                <c:pt idx="148">
                  <c:v>0.734042553191489</c:v>
                </c:pt>
                <c:pt idx="149">
                  <c:v>0.733688415446072</c:v>
                </c:pt>
                <c:pt idx="150">
                  <c:v>0.733333333333333</c:v>
                </c:pt>
                <c:pt idx="151">
                  <c:v>0.732977303070761</c:v>
                </c:pt>
                <c:pt idx="152">
                  <c:v>0.732620320855615</c:v>
                </c:pt>
                <c:pt idx="153">
                  <c:v>0.732262382864793</c:v>
                </c:pt>
                <c:pt idx="154">
                  <c:v>0.731903485254692</c:v>
                </c:pt>
                <c:pt idx="155">
                  <c:v>0.731543624161074</c:v>
                </c:pt>
                <c:pt idx="156">
                  <c:v>0.731182795698925</c:v>
                </c:pt>
                <c:pt idx="157">
                  <c:v>0.730820995962315</c:v>
                </c:pt>
                <c:pt idx="158">
                  <c:v>0.730458221024259</c:v>
                </c:pt>
                <c:pt idx="159">
                  <c:v>0.730094466936572</c:v>
                </c:pt>
                <c:pt idx="160">
                  <c:v>0.72972972972973</c:v>
                </c:pt>
                <c:pt idx="161">
                  <c:v>0.72936400541272</c:v>
                </c:pt>
                <c:pt idx="162">
                  <c:v>0.7289972899729</c:v>
                </c:pt>
                <c:pt idx="163">
                  <c:v>0.728629579375848</c:v>
                </c:pt>
                <c:pt idx="164">
                  <c:v>0.728260869565217</c:v>
                </c:pt>
                <c:pt idx="165">
                  <c:v>0.727891156462585</c:v>
                </c:pt>
                <c:pt idx="166">
                  <c:v>0.727520435967302</c:v>
                </c:pt>
                <c:pt idx="167">
                  <c:v>0.727148703956344</c:v>
                </c:pt>
                <c:pt idx="168">
                  <c:v>0.726775956284153</c:v>
                </c:pt>
                <c:pt idx="169">
                  <c:v>0.72640218878249</c:v>
                </c:pt>
                <c:pt idx="170">
                  <c:v>0.726027397260274</c:v>
                </c:pt>
                <c:pt idx="171">
                  <c:v>0.725651577503429</c:v>
                </c:pt>
                <c:pt idx="172">
                  <c:v>0.725274725274725</c:v>
                </c:pt>
                <c:pt idx="173">
                  <c:v>0.724896836313618</c:v>
                </c:pt>
                <c:pt idx="174">
                  <c:v>0.724517906336088</c:v>
                </c:pt>
                <c:pt idx="175">
                  <c:v>0.724137931034483</c:v>
                </c:pt>
                <c:pt idx="176">
                  <c:v>0.723756906077348</c:v>
                </c:pt>
                <c:pt idx="177">
                  <c:v>0.723374827109267</c:v>
                </c:pt>
                <c:pt idx="178">
                  <c:v>0.722991689750693</c:v>
                </c:pt>
                <c:pt idx="179">
                  <c:v>0.722607489597781</c:v>
                </c:pt>
                <c:pt idx="180">
                  <c:v>0.722222222222222</c:v>
                </c:pt>
                <c:pt idx="181">
                  <c:v>0.721835883171071</c:v>
                </c:pt>
                <c:pt idx="182">
                  <c:v>0.721448467966574</c:v>
                </c:pt>
                <c:pt idx="183">
                  <c:v>0.721059972105997</c:v>
                </c:pt>
                <c:pt idx="184">
                  <c:v>0.720670391061453</c:v>
                </c:pt>
                <c:pt idx="185">
                  <c:v>0.72027972027972</c:v>
                </c:pt>
                <c:pt idx="186">
                  <c:v>0.719887955182073</c:v>
                </c:pt>
                <c:pt idx="187">
                  <c:v>0.719495091164095</c:v>
                </c:pt>
                <c:pt idx="188">
                  <c:v>0.719101123595506</c:v>
                </c:pt>
                <c:pt idx="189">
                  <c:v>0.718706047819972</c:v>
                </c:pt>
                <c:pt idx="190">
                  <c:v>0.71830985915493</c:v>
                </c:pt>
                <c:pt idx="191">
                  <c:v>0.717912552891396</c:v>
                </c:pt>
                <c:pt idx="192">
                  <c:v>0.717514124293785</c:v>
                </c:pt>
                <c:pt idx="193">
                  <c:v>0.717114568599717</c:v>
                </c:pt>
                <c:pt idx="194">
                  <c:v>0.71671388101983</c:v>
                </c:pt>
                <c:pt idx="195">
                  <c:v>0.716312056737589</c:v>
                </c:pt>
                <c:pt idx="196">
                  <c:v>0.715909090909091</c:v>
                </c:pt>
                <c:pt idx="197">
                  <c:v>0.715504978662873</c:v>
                </c:pt>
                <c:pt idx="198">
                  <c:v>0.715099715099715</c:v>
                </c:pt>
                <c:pt idx="199">
                  <c:v>0.714693295292439</c:v>
                </c:pt>
                <c:pt idx="200">
                  <c:v>0.714285714285714</c:v>
                </c:pt>
                <c:pt idx="201">
                  <c:v>0.713876967095851</c:v>
                </c:pt>
                <c:pt idx="202">
                  <c:v>0.713467048710602</c:v>
                </c:pt>
                <c:pt idx="203">
                  <c:v>0.713055954088953</c:v>
                </c:pt>
                <c:pt idx="204">
                  <c:v>0.71264367816092</c:v>
                </c:pt>
                <c:pt idx="205">
                  <c:v>0.712230215827338</c:v>
                </c:pt>
                <c:pt idx="206">
                  <c:v>0.711815561959654</c:v>
                </c:pt>
                <c:pt idx="207">
                  <c:v>0.711399711399711</c:v>
                </c:pt>
                <c:pt idx="208">
                  <c:v>0.710982658959538</c:v>
                </c:pt>
                <c:pt idx="209">
                  <c:v>0.710564399421129</c:v>
                </c:pt>
                <c:pt idx="210">
                  <c:v>0.710144927536232</c:v>
                </c:pt>
                <c:pt idx="211">
                  <c:v>0.709724238026125</c:v>
                </c:pt>
                <c:pt idx="212">
                  <c:v>0.709302325581395</c:v>
                </c:pt>
                <c:pt idx="213">
                  <c:v>0.708879184861718</c:v>
                </c:pt>
                <c:pt idx="214">
                  <c:v>0.708454810495627</c:v>
                </c:pt>
                <c:pt idx="215">
                  <c:v>0.708029197080292</c:v>
                </c:pt>
                <c:pt idx="216">
                  <c:v>0.707602339181287</c:v>
                </c:pt>
                <c:pt idx="217">
                  <c:v>0.707174231332357</c:v>
                </c:pt>
                <c:pt idx="218">
                  <c:v>0.706744868035191</c:v>
                </c:pt>
                <c:pt idx="219">
                  <c:v>0.706314243759178</c:v>
                </c:pt>
                <c:pt idx="220">
                  <c:v>0.705882352941177</c:v>
                </c:pt>
                <c:pt idx="221">
                  <c:v>0.705449189985273</c:v>
                </c:pt>
                <c:pt idx="222">
                  <c:v>0.705014749262537</c:v>
                </c:pt>
                <c:pt idx="223">
                  <c:v>0.704579025110783</c:v>
                </c:pt>
                <c:pt idx="224">
                  <c:v>0.70414201183432</c:v>
                </c:pt>
                <c:pt idx="225">
                  <c:v>0.703703703703704</c:v>
                </c:pt>
                <c:pt idx="226">
                  <c:v>0.70326409495549</c:v>
                </c:pt>
                <c:pt idx="227">
                  <c:v>0.702823179791976</c:v>
                </c:pt>
                <c:pt idx="228">
                  <c:v>0.702380952380952</c:v>
                </c:pt>
                <c:pt idx="229">
                  <c:v>0.70193740685544</c:v>
                </c:pt>
                <c:pt idx="230">
                  <c:v>0.701492537313433</c:v>
                </c:pt>
                <c:pt idx="231">
                  <c:v>0.701046337817638</c:v>
                </c:pt>
                <c:pt idx="232">
                  <c:v>0.70059880239521</c:v>
                </c:pt>
                <c:pt idx="233">
                  <c:v>0.700149925037481</c:v>
                </c:pt>
                <c:pt idx="234">
                  <c:v>0.6996996996997</c:v>
                </c:pt>
                <c:pt idx="235">
                  <c:v>0.699248120300752</c:v>
                </c:pt>
                <c:pt idx="236">
                  <c:v>0.698795180722892</c:v>
                </c:pt>
                <c:pt idx="237">
                  <c:v>0.698340874811463</c:v>
                </c:pt>
                <c:pt idx="238">
                  <c:v>0.697885196374622</c:v>
                </c:pt>
                <c:pt idx="239">
                  <c:v>0.697428139183056</c:v>
                </c:pt>
                <c:pt idx="240">
                  <c:v>0.696969696969697</c:v>
                </c:pt>
                <c:pt idx="241">
                  <c:v>0.696509863429439</c:v>
                </c:pt>
                <c:pt idx="242">
                  <c:v>0.696048632218845</c:v>
                </c:pt>
                <c:pt idx="243">
                  <c:v>0.69558599695586</c:v>
                </c:pt>
                <c:pt idx="244">
                  <c:v>0.695121951219512</c:v>
                </c:pt>
                <c:pt idx="245">
                  <c:v>0.694656488549618</c:v>
                </c:pt>
                <c:pt idx="246">
                  <c:v>0.694189602446483</c:v>
                </c:pt>
                <c:pt idx="247">
                  <c:v>0.693721286370597</c:v>
                </c:pt>
                <c:pt idx="248">
                  <c:v>0.693251533742331</c:v>
                </c:pt>
                <c:pt idx="249">
                  <c:v>0.692780337941628</c:v>
                </c:pt>
                <c:pt idx="250">
                  <c:v>0.692307692307692</c:v>
                </c:pt>
                <c:pt idx="251">
                  <c:v>0.691833590138675</c:v>
                </c:pt>
                <c:pt idx="252">
                  <c:v>0.691358024691358</c:v>
                </c:pt>
                <c:pt idx="253">
                  <c:v>0.690880989180835</c:v>
                </c:pt>
                <c:pt idx="254">
                  <c:v>0.690402476780186</c:v>
                </c:pt>
                <c:pt idx="255">
                  <c:v>0.689922480620155</c:v>
                </c:pt>
                <c:pt idx="256">
                  <c:v>0.68944099378882</c:v>
                </c:pt>
                <c:pt idx="257">
                  <c:v>0.68895800933126</c:v>
                </c:pt>
                <c:pt idx="258">
                  <c:v>0.688473520249221</c:v>
                </c:pt>
                <c:pt idx="259">
                  <c:v>0.68798751950078</c:v>
                </c:pt>
                <c:pt idx="260">
                  <c:v>0.6875</c:v>
                </c:pt>
                <c:pt idx="261">
                  <c:v>0.687010954616589</c:v>
                </c:pt>
                <c:pt idx="262">
                  <c:v>0.686520376175549</c:v>
                </c:pt>
                <c:pt idx="263">
                  <c:v>0.686028257456829</c:v>
                </c:pt>
                <c:pt idx="264">
                  <c:v>0.685534591194969</c:v>
                </c:pt>
                <c:pt idx="265">
                  <c:v>0.68503937007874</c:v>
                </c:pt>
                <c:pt idx="266">
                  <c:v>0.684542586750789</c:v>
                </c:pt>
                <c:pt idx="267">
                  <c:v>0.684044233807267</c:v>
                </c:pt>
                <c:pt idx="268">
                  <c:v>0.683544303797468</c:v>
                </c:pt>
                <c:pt idx="269">
                  <c:v>0.683042789223455</c:v>
                </c:pt>
                <c:pt idx="270">
                  <c:v>0.682539682539683</c:v>
                </c:pt>
                <c:pt idx="271">
                  <c:v>0.682034976152623</c:v>
                </c:pt>
                <c:pt idx="272">
                  <c:v>0.681528662420382</c:v>
                </c:pt>
                <c:pt idx="273">
                  <c:v>0.681020733652313</c:v>
                </c:pt>
                <c:pt idx="274">
                  <c:v>0.680511182108626</c:v>
                </c:pt>
                <c:pt idx="275">
                  <c:v>0.68</c:v>
                </c:pt>
                <c:pt idx="276">
                  <c:v>0.67948717948718</c:v>
                </c:pt>
                <c:pt idx="277">
                  <c:v>0.678972712680578</c:v>
                </c:pt>
                <c:pt idx="278">
                  <c:v>0.678456591639871</c:v>
                </c:pt>
                <c:pt idx="279">
                  <c:v>0.677938808373591</c:v>
                </c:pt>
                <c:pt idx="280">
                  <c:v>0.67741935483871</c:v>
                </c:pt>
                <c:pt idx="281">
                  <c:v>0.676898222940226</c:v>
                </c:pt>
                <c:pt idx="282">
                  <c:v>0.676375404530744</c:v>
                </c:pt>
                <c:pt idx="283">
                  <c:v>0.675850891410049</c:v>
                </c:pt>
                <c:pt idx="284">
                  <c:v>0.675324675324675</c:v>
                </c:pt>
                <c:pt idx="285">
                  <c:v>0.67479674796748</c:v>
                </c:pt>
                <c:pt idx="286">
                  <c:v>0.674267100977199</c:v>
                </c:pt>
                <c:pt idx="287">
                  <c:v>0.67373572593801</c:v>
                </c:pt>
                <c:pt idx="288">
                  <c:v>0.673202614379085</c:v>
                </c:pt>
                <c:pt idx="289">
                  <c:v>0.672667757774141</c:v>
                </c:pt>
                <c:pt idx="290">
                  <c:v>0.672131147540984</c:v>
                </c:pt>
                <c:pt idx="291">
                  <c:v>0.671592775041051</c:v>
                </c:pt>
                <c:pt idx="292">
                  <c:v>0.671052631578947</c:v>
                </c:pt>
                <c:pt idx="293">
                  <c:v>0.670510708401977</c:v>
                </c:pt>
                <c:pt idx="294">
                  <c:v>0.66996699669967</c:v>
                </c:pt>
                <c:pt idx="295">
                  <c:v>0.669421487603306</c:v>
                </c:pt>
                <c:pt idx="296">
                  <c:v>0.66887417218543</c:v>
                </c:pt>
                <c:pt idx="297">
                  <c:v>0.66832504145937</c:v>
                </c:pt>
                <c:pt idx="298">
                  <c:v>0.667774086378738</c:v>
                </c:pt>
                <c:pt idx="299">
                  <c:v>0.667221297836938</c:v>
                </c:pt>
                <c:pt idx="300">
                  <c:v>0.666666666666667</c:v>
                </c:pt>
                <c:pt idx="301">
                  <c:v>0.666110183639399</c:v>
                </c:pt>
                <c:pt idx="302">
                  <c:v>0.665551839464883</c:v>
                </c:pt>
                <c:pt idx="303">
                  <c:v>0.66499162479062</c:v>
                </c:pt>
                <c:pt idx="304">
                  <c:v>0.664429530201342</c:v>
                </c:pt>
                <c:pt idx="305">
                  <c:v>0.663865546218487</c:v>
                </c:pt>
                <c:pt idx="306">
                  <c:v>0.663299663299663</c:v>
                </c:pt>
                <c:pt idx="307">
                  <c:v>0.662731871838111</c:v>
                </c:pt>
                <c:pt idx="308">
                  <c:v>0.662162162162162</c:v>
                </c:pt>
                <c:pt idx="309">
                  <c:v>0.661590524534687</c:v>
                </c:pt>
                <c:pt idx="310">
                  <c:v>0.661016949152542</c:v>
                </c:pt>
                <c:pt idx="311">
                  <c:v>0.66044142614601</c:v>
                </c:pt>
                <c:pt idx="312">
                  <c:v>0.659863945578231</c:v>
                </c:pt>
                <c:pt idx="313">
                  <c:v>0.659284497444634</c:v>
                </c:pt>
                <c:pt idx="314">
                  <c:v>0.658703071672355</c:v>
                </c:pt>
                <c:pt idx="315">
                  <c:v>0.658119658119658</c:v>
                </c:pt>
                <c:pt idx="316">
                  <c:v>0.657534246575342</c:v>
                </c:pt>
                <c:pt idx="317">
                  <c:v>0.656946826758148</c:v>
                </c:pt>
                <c:pt idx="318">
                  <c:v>0.656357388316151</c:v>
                </c:pt>
                <c:pt idx="319">
                  <c:v>0.655765920826162</c:v>
                </c:pt>
                <c:pt idx="320">
                  <c:v>0.655172413793103</c:v>
                </c:pt>
                <c:pt idx="321">
                  <c:v>0.654576856649396</c:v>
                </c:pt>
                <c:pt idx="322">
                  <c:v>0.653979238754325</c:v>
                </c:pt>
                <c:pt idx="323">
                  <c:v>0.653379549393414</c:v>
                </c:pt>
                <c:pt idx="324">
                  <c:v>0.652777777777778</c:v>
                </c:pt>
                <c:pt idx="325">
                  <c:v>0.652173913043478</c:v>
                </c:pt>
                <c:pt idx="326">
                  <c:v>0.651567944250871</c:v>
                </c:pt>
                <c:pt idx="327">
                  <c:v>0.650959860383944</c:v>
                </c:pt>
                <c:pt idx="328">
                  <c:v>0.65034965034965</c:v>
                </c:pt>
                <c:pt idx="329">
                  <c:v>0.649737302977233</c:v>
                </c:pt>
                <c:pt idx="330">
                  <c:v>0.649122807017544</c:v>
                </c:pt>
                <c:pt idx="331">
                  <c:v>0.648506151142355</c:v>
                </c:pt>
                <c:pt idx="332">
                  <c:v>0.647887323943662</c:v>
                </c:pt>
                <c:pt idx="333">
                  <c:v>0.647266313932981</c:v>
                </c:pt>
                <c:pt idx="334">
                  <c:v>0.646643109540636</c:v>
                </c:pt>
                <c:pt idx="335">
                  <c:v>0.646017699115044</c:v>
                </c:pt>
                <c:pt idx="336">
                  <c:v>0.645390070921986</c:v>
                </c:pt>
                <c:pt idx="337">
                  <c:v>0.644760213143872</c:v>
                </c:pt>
                <c:pt idx="338">
                  <c:v>0.644128113879004</c:v>
                </c:pt>
                <c:pt idx="339">
                  <c:v>0.64349376114082</c:v>
                </c:pt>
                <c:pt idx="340">
                  <c:v>0.642857142857143</c:v>
                </c:pt>
                <c:pt idx="341">
                  <c:v>0.64221824686941</c:v>
                </c:pt>
                <c:pt idx="342">
                  <c:v>0.6415770609319</c:v>
                </c:pt>
                <c:pt idx="343">
                  <c:v>0.640933572710952</c:v>
                </c:pt>
                <c:pt idx="344">
                  <c:v>0.640287769784173</c:v>
                </c:pt>
                <c:pt idx="345">
                  <c:v>0.63963963963964</c:v>
                </c:pt>
                <c:pt idx="346">
                  <c:v>0.63898916967509</c:v>
                </c:pt>
                <c:pt idx="347">
                  <c:v>0.638336347197107</c:v>
                </c:pt>
                <c:pt idx="348">
                  <c:v>0.63768115942029</c:v>
                </c:pt>
                <c:pt idx="349">
                  <c:v>0.637023593466425</c:v>
                </c:pt>
                <c:pt idx="350">
                  <c:v>0.636363636363636</c:v>
                </c:pt>
                <c:pt idx="351">
                  <c:v>0.635701275045537</c:v>
                </c:pt>
                <c:pt idx="352">
                  <c:v>0.635036496350365</c:v>
                </c:pt>
                <c:pt idx="353">
                  <c:v>0.63436928702011</c:v>
                </c:pt>
                <c:pt idx="354">
                  <c:v>0.633699633699634</c:v>
                </c:pt>
                <c:pt idx="355">
                  <c:v>0.63302752293578</c:v>
                </c:pt>
                <c:pt idx="356">
                  <c:v>0.632352941176471</c:v>
                </c:pt>
                <c:pt idx="357">
                  <c:v>0.631675874769797</c:v>
                </c:pt>
                <c:pt idx="358">
                  <c:v>0.6309963099631</c:v>
                </c:pt>
                <c:pt idx="359">
                  <c:v>0.630314232902033</c:v>
                </c:pt>
                <c:pt idx="360">
                  <c:v>0.62962962962963</c:v>
                </c:pt>
                <c:pt idx="361">
                  <c:v>0.628942486085343</c:v>
                </c:pt>
                <c:pt idx="362">
                  <c:v>0.628252788104089</c:v>
                </c:pt>
                <c:pt idx="363">
                  <c:v>0.62756052141527</c:v>
                </c:pt>
                <c:pt idx="364">
                  <c:v>0.626865671641791</c:v>
                </c:pt>
                <c:pt idx="365">
                  <c:v>0.626168224299065</c:v>
                </c:pt>
                <c:pt idx="366">
                  <c:v>0.625468164794008</c:v>
                </c:pt>
                <c:pt idx="367">
                  <c:v>0.624765478424015</c:v>
                </c:pt>
                <c:pt idx="368">
                  <c:v>0.62406015037594</c:v>
                </c:pt>
                <c:pt idx="369">
                  <c:v>0.623352165725047</c:v>
                </c:pt>
                <c:pt idx="370">
                  <c:v>0.622641509433962</c:v>
                </c:pt>
                <c:pt idx="371">
                  <c:v>0.621928166351607</c:v>
                </c:pt>
                <c:pt idx="372">
                  <c:v>0.621212121212121</c:v>
                </c:pt>
                <c:pt idx="373">
                  <c:v>0.620493358633776</c:v>
                </c:pt>
                <c:pt idx="374">
                  <c:v>0.619771863117871</c:v>
                </c:pt>
                <c:pt idx="375">
                  <c:v>0.619047619047619</c:v>
                </c:pt>
                <c:pt idx="376">
                  <c:v>0.618320610687023</c:v>
                </c:pt>
                <c:pt idx="377">
                  <c:v>0.617590822179732</c:v>
                </c:pt>
                <c:pt idx="378">
                  <c:v>0.616858237547893</c:v>
                </c:pt>
                <c:pt idx="379">
                  <c:v>0.616122840690979</c:v>
                </c:pt>
                <c:pt idx="380">
                  <c:v>0.615384615384615</c:v>
                </c:pt>
                <c:pt idx="381">
                  <c:v>0.614643545279383</c:v>
                </c:pt>
                <c:pt idx="382">
                  <c:v>0.613899613899614</c:v>
                </c:pt>
                <c:pt idx="383">
                  <c:v>0.613152804642166</c:v>
                </c:pt>
                <c:pt idx="384">
                  <c:v>0.612403100775194</c:v>
                </c:pt>
                <c:pt idx="385">
                  <c:v>0.611650485436893</c:v>
                </c:pt>
                <c:pt idx="386">
                  <c:v>0.610894941634241</c:v>
                </c:pt>
                <c:pt idx="387">
                  <c:v>0.610136452241715</c:v>
                </c:pt>
                <c:pt idx="388">
                  <c:v>0.609375</c:v>
                </c:pt>
                <c:pt idx="389">
                  <c:v>0.608610567514677</c:v>
                </c:pt>
                <c:pt idx="390">
                  <c:v>0.607843137254902</c:v>
                </c:pt>
                <c:pt idx="391">
                  <c:v>0.607072691552063</c:v>
                </c:pt>
                <c:pt idx="392">
                  <c:v>0.606299212598425</c:v>
                </c:pt>
                <c:pt idx="393">
                  <c:v>0.605522682445759</c:v>
                </c:pt>
                <c:pt idx="394">
                  <c:v>0.604743083003953</c:v>
                </c:pt>
                <c:pt idx="395">
                  <c:v>0.603960396039604</c:v>
                </c:pt>
                <c:pt idx="396">
                  <c:v>0.603174603174603</c:v>
                </c:pt>
                <c:pt idx="397">
                  <c:v>0.602385685884692</c:v>
                </c:pt>
                <c:pt idx="398">
                  <c:v>0.601593625498008</c:v>
                </c:pt>
                <c:pt idx="399">
                  <c:v>0.600798403193613</c:v>
                </c:pt>
                <c:pt idx="400">
                  <c:v>0.6</c:v>
                </c:pt>
                <c:pt idx="401">
                  <c:v>0.599198396793587</c:v>
                </c:pt>
                <c:pt idx="402">
                  <c:v>0.598393574297189</c:v>
                </c:pt>
                <c:pt idx="403">
                  <c:v>0.597585513078471</c:v>
                </c:pt>
                <c:pt idx="404">
                  <c:v>0.596774193548387</c:v>
                </c:pt>
                <c:pt idx="405">
                  <c:v>0.595959595959596</c:v>
                </c:pt>
                <c:pt idx="406">
                  <c:v>0.595141700404858</c:v>
                </c:pt>
                <c:pt idx="407">
                  <c:v>0.594320486815416</c:v>
                </c:pt>
                <c:pt idx="408">
                  <c:v>0.59349593495935</c:v>
                </c:pt>
                <c:pt idx="409">
                  <c:v>0.592668024439919</c:v>
                </c:pt>
                <c:pt idx="410">
                  <c:v>0.591836734693878</c:v>
                </c:pt>
                <c:pt idx="411">
                  <c:v>0.591002044989775</c:v>
                </c:pt>
                <c:pt idx="412">
                  <c:v>0.59016393442623</c:v>
                </c:pt>
                <c:pt idx="413">
                  <c:v>0.589322381930185</c:v>
                </c:pt>
                <c:pt idx="414">
                  <c:v>0.588477366255144</c:v>
                </c:pt>
                <c:pt idx="415">
                  <c:v>0.587628865979382</c:v>
                </c:pt>
                <c:pt idx="416">
                  <c:v>0.586776859504132</c:v>
                </c:pt>
                <c:pt idx="417">
                  <c:v>0.58592132505176</c:v>
                </c:pt>
                <c:pt idx="418">
                  <c:v>0.5850622406639</c:v>
                </c:pt>
                <c:pt idx="419">
                  <c:v>0.584199584199584</c:v>
                </c:pt>
                <c:pt idx="420">
                  <c:v>0.583333333333333</c:v>
                </c:pt>
                <c:pt idx="421">
                  <c:v>0.582463465553236</c:v>
                </c:pt>
                <c:pt idx="422">
                  <c:v>0.581589958158996</c:v>
                </c:pt>
                <c:pt idx="423">
                  <c:v>0.580712788259958</c:v>
                </c:pt>
                <c:pt idx="424">
                  <c:v>0.579831932773109</c:v>
                </c:pt>
                <c:pt idx="425">
                  <c:v>0.578947368421053</c:v>
                </c:pt>
                <c:pt idx="426">
                  <c:v>0.578059071729958</c:v>
                </c:pt>
                <c:pt idx="427">
                  <c:v>0.577167019027484</c:v>
                </c:pt>
                <c:pt idx="428">
                  <c:v>0.576271186440678</c:v>
                </c:pt>
                <c:pt idx="429">
                  <c:v>0.575371549893843</c:v>
                </c:pt>
                <c:pt idx="430">
                  <c:v>0.574468085106383</c:v>
                </c:pt>
                <c:pt idx="431">
                  <c:v>0.573560767590618</c:v>
                </c:pt>
                <c:pt idx="432">
                  <c:v>0.572649572649573</c:v>
                </c:pt>
                <c:pt idx="433">
                  <c:v>0.571734475374732</c:v>
                </c:pt>
                <c:pt idx="434">
                  <c:v>0.570815450643777</c:v>
                </c:pt>
                <c:pt idx="435">
                  <c:v>0.56989247311828</c:v>
                </c:pt>
                <c:pt idx="436">
                  <c:v>0.568965517241379</c:v>
                </c:pt>
                <c:pt idx="437">
                  <c:v>0.568034557235421</c:v>
                </c:pt>
                <c:pt idx="438">
                  <c:v>0.567099567099567</c:v>
                </c:pt>
                <c:pt idx="439">
                  <c:v>0.566160520607375</c:v>
                </c:pt>
                <c:pt idx="440">
                  <c:v>0.565217391304348</c:v>
                </c:pt>
                <c:pt idx="441">
                  <c:v>0.564270152505447</c:v>
                </c:pt>
                <c:pt idx="442">
                  <c:v>0.563318777292576</c:v>
                </c:pt>
                <c:pt idx="443">
                  <c:v>0.562363238512035</c:v>
                </c:pt>
                <c:pt idx="444">
                  <c:v>0.56140350877193</c:v>
                </c:pt>
                <c:pt idx="445">
                  <c:v>0.56043956043956</c:v>
                </c:pt>
                <c:pt idx="446">
                  <c:v>0.559471365638767</c:v>
                </c:pt>
                <c:pt idx="447">
                  <c:v>0.558498896247241</c:v>
                </c:pt>
                <c:pt idx="448">
                  <c:v>0.557522123893805</c:v>
                </c:pt>
                <c:pt idx="449">
                  <c:v>0.556541019955654</c:v>
                </c:pt>
                <c:pt idx="450">
                  <c:v>0.555555555555556</c:v>
                </c:pt>
                <c:pt idx="451">
                  <c:v>0.55456570155902</c:v>
                </c:pt>
                <c:pt idx="452">
                  <c:v>0.553571428571429</c:v>
                </c:pt>
                <c:pt idx="453">
                  <c:v>0.552572706935123</c:v>
                </c:pt>
                <c:pt idx="454">
                  <c:v>0.551569506726457</c:v>
                </c:pt>
                <c:pt idx="455">
                  <c:v>0.550561797752809</c:v>
                </c:pt>
                <c:pt idx="456">
                  <c:v>0.54954954954955</c:v>
                </c:pt>
                <c:pt idx="457">
                  <c:v>0.548532731376975</c:v>
                </c:pt>
                <c:pt idx="458">
                  <c:v>0.547511312217195</c:v>
                </c:pt>
                <c:pt idx="459">
                  <c:v>0.546485260770975</c:v>
                </c:pt>
                <c:pt idx="460">
                  <c:v>0.545454545454545</c:v>
                </c:pt>
                <c:pt idx="461">
                  <c:v>0.544419134396355</c:v>
                </c:pt>
                <c:pt idx="462">
                  <c:v>0.54337899543379</c:v>
                </c:pt>
                <c:pt idx="463">
                  <c:v>0.54233409610984</c:v>
                </c:pt>
                <c:pt idx="464">
                  <c:v>0.541284403669725</c:v>
                </c:pt>
                <c:pt idx="465">
                  <c:v>0.540229885057471</c:v>
                </c:pt>
                <c:pt idx="466">
                  <c:v>0.539170506912442</c:v>
                </c:pt>
                <c:pt idx="467">
                  <c:v>0.53810623556582</c:v>
                </c:pt>
                <c:pt idx="468">
                  <c:v>0.537037037037037</c:v>
                </c:pt>
                <c:pt idx="469">
                  <c:v>0.535962877030162</c:v>
                </c:pt>
                <c:pt idx="470">
                  <c:v>0.534883720930233</c:v>
                </c:pt>
                <c:pt idx="471">
                  <c:v>0.533799533799534</c:v>
                </c:pt>
                <c:pt idx="472">
                  <c:v>0.532710280373832</c:v>
                </c:pt>
                <c:pt idx="473">
                  <c:v>0.531615925058548</c:v>
                </c:pt>
                <c:pt idx="474">
                  <c:v>0.530516431924883</c:v>
                </c:pt>
                <c:pt idx="475">
                  <c:v>0.529411764705882</c:v>
                </c:pt>
                <c:pt idx="476">
                  <c:v>0.528301886792453</c:v>
                </c:pt>
                <c:pt idx="477">
                  <c:v>0.527186761229314</c:v>
                </c:pt>
                <c:pt idx="478">
                  <c:v>0.526066350710901</c:v>
                </c:pt>
                <c:pt idx="479">
                  <c:v>0.524940617577197</c:v>
                </c:pt>
                <c:pt idx="480">
                  <c:v>0.523809523809524</c:v>
                </c:pt>
                <c:pt idx="481">
                  <c:v>0.522673031026253</c:v>
                </c:pt>
                <c:pt idx="482">
                  <c:v>0.521531100478469</c:v>
                </c:pt>
                <c:pt idx="483">
                  <c:v>0.520383693045564</c:v>
                </c:pt>
                <c:pt idx="484">
                  <c:v>0.519230769230769</c:v>
                </c:pt>
                <c:pt idx="485">
                  <c:v>0.518072289156626</c:v>
                </c:pt>
                <c:pt idx="486">
                  <c:v>0.516908212560386</c:v>
                </c:pt>
                <c:pt idx="487">
                  <c:v>0.515738498789346</c:v>
                </c:pt>
                <c:pt idx="488">
                  <c:v>0.514563106796117</c:v>
                </c:pt>
                <c:pt idx="489">
                  <c:v>0.51338199513382</c:v>
                </c:pt>
                <c:pt idx="490">
                  <c:v>0.51219512195122</c:v>
                </c:pt>
                <c:pt idx="491">
                  <c:v>0.511002444987775</c:v>
                </c:pt>
                <c:pt idx="492">
                  <c:v>0.509803921568627</c:v>
                </c:pt>
                <c:pt idx="493">
                  <c:v>0.508599508599509</c:v>
                </c:pt>
                <c:pt idx="494">
                  <c:v>0.507389162561576</c:v>
                </c:pt>
                <c:pt idx="495">
                  <c:v>0.506172839506173</c:v>
                </c:pt>
                <c:pt idx="496">
                  <c:v>0.504950495049505</c:v>
                </c:pt>
                <c:pt idx="497">
                  <c:v>0.503722084367246</c:v>
                </c:pt>
                <c:pt idx="498">
                  <c:v>0.502487562189055</c:v>
                </c:pt>
                <c:pt idx="499">
                  <c:v>0.501246882793017</c:v>
                </c:pt>
                <c:pt idx="500">
                  <c:v>0.5</c:v>
                </c:pt>
                <c:pt idx="501">
                  <c:v>0.49874686716792</c:v>
                </c:pt>
                <c:pt idx="502">
                  <c:v>0.49748743718593</c:v>
                </c:pt>
                <c:pt idx="503">
                  <c:v>0.496221662468514</c:v>
                </c:pt>
                <c:pt idx="504">
                  <c:v>0.494949494949495</c:v>
                </c:pt>
                <c:pt idx="505">
                  <c:v>0.493670886075949</c:v>
                </c:pt>
                <c:pt idx="506">
                  <c:v>0.49238578680203</c:v>
                </c:pt>
                <c:pt idx="507">
                  <c:v>0.491094147582697</c:v>
                </c:pt>
                <c:pt idx="508">
                  <c:v>0.489795918367347</c:v>
                </c:pt>
                <c:pt idx="509">
                  <c:v>0.48849104859335</c:v>
                </c:pt>
                <c:pt idx="510">
                  <c:v>0.487179487179487</c:v>
                </c:pt>
                <c:pt idx="511">
                  <c:v>0.48586118251928</c:v>
                </c:pt>
                <c:pt idx="512">
                  <c:v>0.484536082474227</c:v>
                </c:pt>
                <c:pt idx="513">
                  <c:v>0.483204134366925</c:v>
                </c:pt>
                <c:pt idx="514">
                  <c:v>0.481865284974093</c:v>
                </c:pt>
                <c:pt idx="515">
                  <c:v>0.48051948051948</c:v>
                </c:pt>
                <c:pt idx="516">
                  <c:v>0.479166666666667</c:v>
                </c:pt>
                <c:pt idx="517">
                  <c:v>0.477806788511749</c:v>
                </c:pt>
                <c:pt idx="518">
                  <c:v>0.476439790575916</c:v>
                </c:pt>
                <c:pt idx="519">
                  <c:v>0.4750656167979</c:v>
                </c:pt>
                <c:pt idx="520">
                  <c:v>0.473684210526316</c:v>
                </c:pt>
                <c:pt idx="521">
                  <c:v>0.472295514511873</c:v>
                </c:pt>
                <c:pt idx="522">
                  <c:v>0.470899470899471</c:v>
                </c:pt>
                <c:pt idx="523">
                  <c:v>0.469496021220159</c:v>
                </c:pt>
                <c:pt idx="524">
                  <c:v>0.468085106382979</c:v>
                </c:pt>
                <c:pt idx="525">
                  <c:v>0.466666666666667</c:v>
                </c:pt>
                <c:pt idx="526">
                  <c:v>0.46524064171123</c:v>
                </c:pt>
                <c:pt idx="527">
                  <c:v>0.463806970509383</c:v>
                </c:pt>
                <c:pt idx="528">
                  <c:v>0.462365591397849</c:v>
                </c:pt>
                <c:pt idx="529">
                  <c:v>0.460916442048518</c:v>
                </c:pt>
                <c:pt idx="530">
                  <c:v>0.45945945945946</c:v>
                </c:pt>
                <c:pt idx="531">
                  <c:v>0.457994579945799</c:v>
                </c:pt>
                <c:pt idx="532">
                  <c:v>0.456521739130435</c:v>
                </c:pt>
                <c:pt idx="533">
                  <c:v>0.455040871934605</c:v>
                </c:pt>
                <c:pt idx="534">
                  <c:v>0.453551912568306</c:v>
                </c:pt>
                <c:pt idx="535">
                  <c:v>0.452054794520548</c:v>
                </c:pt>
                <c:pt idx="536">
                  <c:v>0.450549450549451</c:v>
                </c:pt>
                <c:pt idx="537">
                  <c:v>0.449035812672176</c:v>
                </c:pt>
                <c:pt idx="538">
                  <c:v>0.447513812154696</c:v>
                </c:pt>
                <c:pt idx="539">
                  <c:v>0.445983379501385</c:v>
                </c:pt>
                <c:pt idx="540">
                  <c:v>0.444444444444444</c:v>
                </c:pt>
                <c:pt idx="541">
                  <c:v>0.442896935933148</c:v>
                </c:pt>
                <c:pt idx="542">
                  <c:v>0.441340782122905</c:v>
                </c:pt>
                <c:pt idx="543">
                  <c:v>0.439775910364146</c:v>
                </c:pt>
                <c:pt idx="544">
                  <c:v>0.438202247191011</c:v>
                </c:pt>
                <c:pt idx="545">
                  <c:v>0.436619718309859</c:v>
                </c:pt>
                <c:pt idx="546">
                  <c:v>0.435028248587571</c:v>
                </c:pt>
                <c:pt idx="547">
                  <c:v>0.43342776203966</c:v>
                </c:pt>
                <c:pt idx="548">
                  <c:v>0.431818181818182</c:v>
                </c:pt>
                <c:pt idx="549">
                  <c:v>0.43019943019943</c:v>
                </c:pt>
                <c:pt idx="550">
                  <c:v>0.428571428571429</c:v>
                </c:pt>
                <c:pt idx="551">
                  <c:v>0.426934097421204</c:v>
                </c:pt>
                <c:pt idx="552">
                  <c:v>0.425287356321839</c:v>
                </c:pt>
                <c:pt idx="553">
                  <c:v>0.423631123919308</c:v>
                </c:pt>
                <c:pt idx="554">
                  <c:v>0.421965317919075</c:v>
                </c:pt>
                <c:pt idx="555">
                  <c:v>0.420289855072464</c:v>
                </c:pt>
                <c:pt idx="556">
                  <c:v>0.418604651162791</c:v>
                </c:pt>
                <c:pt idx="557">
                  <c:v>0.416909620991254</c:v>
                </c:pt>
                <c:pt idx="558">
                  <c:v>0.415204678362573</c:v>
                </c:pt>
                <c:pt idx="559">
                  <c:v>0.413489736070381</c:v>
                </c:pt>
                <c:pt idx="560">
                  <c:v>0.411764705882353</c:v>
                </c:pt>
                <c:pt idx="561">
                  <c:v>0.410029498525074</c:v>
                </c:pt>
                <c:pt idx="562">
                  <c:v>0.408284023668639</c:v>
                </c:pt>
                <c:pt idx="563">
                  <c:v>0.406528189910979</c:v>
                </c:pt>
                <c:pt idx="564">
                  <c:v>0.404761904761905</c:v>
                </c:pt>
                <c:pt idx="565">
                  <c:v>0.402985074626866</c:v>
                </c:pt>
                <c:pt idx="566">
                  <c:v>0.401197604790419</c:v>
                </c:pt>
                <c:pt idx="567">
                  <c:v>0.399399399399399</c:v>
                </c:pt>
                <c:pt idx="568">
                  <c:v>0.397590361445783</c:v>
                </c:pt>
                <c:pt idx="569">
                  <c:v>0.395770392749245</c:v>
                </c:pt>
                <c:pt idx="570">
                  <c:v>0.393939393939394</c:v>
                </c:pt>
                <c:pt idx="571">
                  <c:v>0.39209726443769</c:v>
                </c:pt>
                <c:pt idx="572">
                  <c:v>0.390243902439024</c:v>
                </c:pt>
                <c:pt idx="573">
                  <c:v>0.388379204892966</c:v>
                </c:pt>
                <c:pt idx="574">
                  <c:v>0.386503067484663</c:v>
                </c:pt>
                <c:pt idx="575">
                  <c:v>0.384615384615385</c:v>
                </c:pt>
                <c:pt idx="576">
                  <c:v>0.382716049382716</c:v>
                </c:pt>
                <c:pt idx="577">
                  <c:v>0.380804953560371</c:v>
                </c:pt>
                <c:pt idx="578">
                  <c:v>0.37888198757764</c:v>
                </c:pt>
                <c:pt idx="579">
                  <c:v>0.376947040498442</c:v>
                </c:pt>
                <c:pt idx="580">
                  <c:v>0.375</c:v>
                </c:pt>
                <c:pt idx="581">
                  <c:v>0.373040752351097</c:v>
                </c:pt>
                <c:pt idx="582">
                  <c:v>0.371069182389937</c:v>
                </c:pt>
                <c:pt idx="583">
                  <c:v>0.369085173501577</c:v>
                </c:pt>
                <c:pt idx="584">
                  <c:v>0.367088607594937</c:v>
                </c:pt>
                <c:pt idx="585">
                  <c:v>0.365079365079365</c:v>
                </c:pt>
                <c:pt idx="586">
                  <c:v>0.363057324840764</c:v>
                </c:pt>
                <c:pt idx="587">
                  <c:v>0.361022364217252</c:v>
                </c:pt>
                <c:pt idx="588">
                  <c:v>0.358974358974359</c:v>
                </c:pt>
                <c:pt idx="589">
                  <c:v>0.356913183279743</c:v>
                </c:pt>
                <c:pt idx="590">
                  <c:v>0.354838709677419</c:v>
                </c:pt>
                <c:pt idx="591">
                  <c:v>0.352750809061489</c:v>
                </c:pt>
                <c:pt idx="592">
                  <c:v>0.350649350649351</c:v>
                </c:pt>
                <c:pt idx="593">
                  <c:v>0.348534201954397</c:v>
                </c:pt>
                <c:pt idx="594">
                  <c:v>0.34640522875817</c:v>
                </c:pt>
                <c:pt idx="595">
                  <c:v>0.344262295081967</c:v>
                </c:pt>
                <c:pt idx="596">
                  <c:v>0.342105263157895</c:v>
                </c:pt>
                <c:pt idx="597">
                  <c:v>0.33993399339934</c:v>
                </c:pt>
                <c:pt idx="598">
                  <c:v>0.337748344370861</c:v>
                </c:pt>
                <c:pt idx="599">
                  <c:v>0.335548172757475</c:v>
                </c:pt>
                <c:pt idx="600">
                  <c:v>0.333333333333333</c:v>
                </c:pt>
                <c:pt idx="601">
                  <c:v>0.331103678929766</c:v>
                </c:pt>
                <c:pt idx="602">
                  <c:v>0.328859060402685</c:v>
                </c:pt>
                <c:pt idx="603">
                  <c:v>0.326599326599327</c:v>
                </c:pt>
                <c:pt idx="604">
                  <c:v>0.324324324324324</c:v>
                </c:pt>
                <c:pt idx="605">
                  <c:v>0.322033898305085</c:v>
                </c:pt>
                <c:pt idx="606">
                  <c:v>0.319727891156463</c:v>
                </c:pt>
                <c:pt idx="607">
                  <c:v>0.31740614334471</c:v>
                </c:pt>
                <c:pt idx="608">
                  <c:v>0.315068493150685</c:v>
                </c:pt>
                <c:pt idx="609">
                  <c:v>0.312714776632302</c:v>
                </c:pt>
                <c:pt idx="610">
                  <c:v>0.310344827586207</c:v>
                </c:pt>
                <c:pt idx="611">
                  <c:v>0.30795847750865</c:v>
                </c:pt>
                <c:pt idx="612">
                  <c:v>0.305555555555556</c:v>
                </c:pt>
                <c:pt idx="613">
                  <c:v>0.303135888501742</c:v>
                </c:pt>
                <c:pt idx="614">
                  <c:v>0.300699300699301</c:v>
                </c:pt>
                <c:pt idx="615">
                  <c:v>0.298245614035088</c:v>
                </c:pt>
                <c:pt idx="616">
                  <c:v>0.295774647887324</c:v>
                </c:pt>
                <c:pt idx="617">
                  <c:v>0.293286219081272</c:v>
                </c:pt>
                <c:pt idx="618">
                  <c:v>0.290780141843972</c:v>
                </c:pt>
                <c:pt idx="619">
                  <c:v>0.288256227758007</c:v>
                </c:pt>
                <c:pt idx="620">
                  <c:v>0.285714285714286</c:v>
                </c:pt>
                <c:pt idx="621">
                  <c:v>0.283154121863799</c:v>
                </c:pt>
                <c:pt idx="622">
                  <c:v>0.280575539568345</c:v>
                </c:pt>
                <c:pt idx="623">
                  <c:v>0.27797833935018</c:v>
                </c:pt>
                <c:pt idx="624">
                  <c:v>0.27536231884058</c:v>
                </c:pt>
                <c:pt idx="625">
                  <c:v>0.272727272727273</c:v>
                </c:pt>
                <c:pt idx="626">
                  <c:v>0.27007299270073</c:v>
                </c:pt>
                <c:pt idx="627">
                  <c:v>0.267399267399267</c:v>
                </c:pt>
                <c:pt idx="628">
                  <c:v>0.264705882352941</c:v>
                </c:pt>
                <c:pt idx="629">
                  <c:v>0.261992619926199</c:v>
                </c:pt>
                <c:pt idx="630">
                  <c:v>0.259259259259259</c:v>
                </c:pt>
                <c:pt idx="631">
                  <c:v>0.256505576208178</c:v>
                </c:pt>
                <c:pt idx="632">
                  <c:v>0.253731343283582</c:v>
                </c:pt>
                <c:pt idx="633">
                  <c:v>0.250936329588015</c:v>
                </c:pt>
                <c:pt idx="634">
                  <c:v>0.24812030075188</c:v>
                </c:pt>
                <c:pt idx="635">
                  <c:v>0.245283018867924</c:v>
                </c:pt>
                <c:pt idx="636">
                  <c:v>0.242424242424242</c:v>
                </c:pt>
                <c:pt idx="637">
                  <c:v>0.239543726235741</c:v>
                </c:pt>
                <c:pt idx="638">
                  <c:v>0.236641221374046</c:v>
                </c:pt>
                <c:pt idx="639">
                  <c:v>0.233716475095785</c:v>
                </c:pt>
                <c:pt idx="640">
                  <c:v>0.230769230769231</c:v>
                </c:pt>
                <c:pt idx="641">
                  <c:v>0.227799227799228</c:v>
                </c:pt>
                <c:pt idx="642">
                  <c:v>0.224806201550388</c:v>
                </c:pt>
                <c:pt idx="643">
                  <c:v>0.221789883268483</c:v>
                </c:pt>
                <c:pt idx="644">
                  <c:v>0.21875</c:v>
                </c:pt>
                <c:pt idx="645">
                  <c:v>0.215686274509804</c:v>
                </c:pt>
                <c:pt idx="646">
                  <c:v>0.21259842519685</c:v>
                </c:pt>
                <c:pt idx="647">
                  <c:v>0.209486166007905</c:v>
                </c:pt>
                <c:pt idx="648">
                  <c:v>0.206349206349206</c:v>
                </c:pt>
                <c:pt idx="649">
                  <c:v>0.203187250996016</c:v>
                </c:pt>
                <c:pt idx="650">
                  <c:v>0.2</c:v>
                </c:pt>
                <c:pt idx="651">
                  <c:v>0.196787148594378</c:v>
                </c:pt>
                <c:pt idx="652">
                  <c:v>0.193548387096774</c:v>
                </c:pt>
                <c:pt idx="653">
                  <c:v>0.190283400809717</c:v>
                </c:pt>
                <c:pt idx="654">
                  <c:v>0.186991869918699</c:v>
                </c:pt>
                <c:pt idx="655">
                  <c:v>0.183673469387755</c:v>
                </c:pt>
                <c:pt idx="656">
                  <c:v>0.180327868852459</c:v>
                </c:pt>
                <c:pt idx="657">
                  <c:v>0.176954732510288</c:v>
                </c:pt>
                <c:pt idx="658">
                  <c:v>0.173553719008264</c:v>
                </c:pt>
                <c:pt idx="659">
                  <c:v>0.170124481327801</c:v>
                </c:pt>
                <c:pt idx="660">
                  <c:v>0.166666666666667</c:v>
                </c:pt>
                <c:pt idx="661">
                  <c:v>0.163179916317992</c:v>
                </c:pt>
                <c:pt idx="662">
                  <c:v>0.159663865546218</c:v>
                </c:pt>
                <c:pt idx="663">
                  <c:v>0.156118143459916</c:v>
                </c:pt>
                <c:pt idx="664">
                  <c:v>0.152542372881356</c:v>
                </c:pt>
                <c:pt idx="665">
                  <c:v>0.148936170212766</c:v>
                </c:pt>
                <c:pt idx="666">
                  <c:v>0.145299145299145</c:v>
                </c:pt>
                <c:pt idx="667">
                  <c:v>0.141630901287554</c:v>
                </c:pt>
                <c:pt idx="668">
                  <c:v>0.137931034482759</c:v>
                </c:pt>
                <c:pt idx="669">
                  <c:v>0.134199134199134</c:v>
                </c:pt>
                <c:pt idx="670">
                  <c:v>0.130434782608696</c:v>
                </c:pt>
                <c:pt idx="671">
                  <c:v>0.126637554585153</c:v>
                </c:pt>
                <c:pt idx="672">
                  <c:v>0.12280701754386</c:v>
                </c:pt>
                <c:pt idx="673">
                  <c:v>0.118942731277533</c:v>
                </c:pt>
                <c:pt idx="674">
                  <c:v>0.115044247787611</c:v>
                </c:pt>
                <c:pt idx="675">
                  <c:v>0.111111111111111</c:v>
                </c:pt>
                <c:pt idx="676">
                  <c:v>0.107142857142857</c:v>
                </c:pt>
                <c:pt idx="677">
                  <c:v>0.103139013452915</c:v>
                </c:pt>
                <c:pt idx="678">
                  <c:v>0.099099099099099</c:v>
                </c:pt>
                <c:pt idx="679">
                  <c:v>0.0950226244343891</c:v>
                </c:pt>
                <c:pt idx="680">
                  <c:v>0.090909090909091</c:v>
                </c:pt>
                <c:pt idx="681">
                  <c:v>0.0867579908675797</c:v>
                </c:pt>
                <c:pt idx="682">
                  <c:v>0.0825688073394494</c:v>
                </c:pt>
                <c:pt idx="683">
                  <c:v>0.0783410138248848</c:v>
                </c:pt>
                <c:pt idx="684">
                  <c:v>0.0740740740740741</c:v>
                </c:pt>
                <c:pt idx="685">
                  <c:v>0.0697674418604649</c:v>
                </c:pt>
                <c:pt idx="686">
                  <c:v>0.0654205607476634</c:v>
                </c:pt>
                <c:pt idx="687">
                  <c:v>0.0610328638497652</c:v>
                </c:pt>
                <c:pt idx="688">
                  <c:v>0.0566037735849057</c:v>
                </c:pt>
                <c:pt idx="689">
                  <c:v>0.0521327014218007</c:v>
                </c:pt>
                <c:pt idx="690">
                  <c:v>0.0476190476190475</c:v>
                </c:pt>
                <c:pt idx="691">
                  <c:v>0.0430622009569377</c:v>
                </c:pt>
                <c:pt idx="692">
                  <c:v>0.0384615384615385</c:v>
                </c:pt>
                <c:pt idx="693">
                  <c:v>0.0338164251207731</c:v>
                </c:pt>
                <c:pt idx="694">
                  <c:v>0.0291262135922328</c:v>
                </c:pt>
                <c:pt idx="695">
                  <c:v>0.0243902439024389</c:v>
                </c:pt>
                <c:pt idx="696">
                  <c:v>0.0196078431372549</c:v>
                </c:pt>
                <c:pt idx="697">
                  <c:v>0.0147783251231528</c:v>
                </c:pt>
                <c:pt idx="698">
                  <c:v>0.00990099009900969</c:v>
                </c:pt>
                <c:pt idx="699">
                  <c:v>0.00497512437810935</c:v>
                </c:pt>
                <c:pt idx="700">
                  <c:v>0</c:v>
                </c:pt>
                <c:pt idx="701">
                  <c:v>-0.0050251256281406</c:v>
                </c:pt>
                <c:pt idx="702">
                  <c:v>-0.0101010101010103</c:v>
                </c:pt>
                <c:pt idx="703">
                  <c:v>-0.0152284263959392</c:v>
                </c:pt>
                <c:pt idx="704">
                  <c:v>-0.0204081632653061</c:v>
                </c:pt>
                <c:pt idx="705">
                  <c:v>-0.0256410256410255</c:v>
                </c:pt>
                <c:pt idx="706">
                  <c:v>-0.0309278350515467</c:v>
                </c:pt>
                <c:pt idx="707">
                  <c:v>-0.0362694300518136</c:v>
                </c:pt>
                <c:pt idx="708">
                  <c:v>-0.0416666666666667</c:v>
                </c:pt>
                <c:pt idx="709">
                  <c:v>-0.0471204188481675</c:v>
                </c:pt>
                <c:pt idx="710">
                  <c:v>-0.0526315789473687</c:v>
                </c:pt>
                <c:pt idx="711">
                  <c:v>-0.0582010582010584</c:v>
                </c:pt>
                <c:pt idx="712">
                  <c:v>-0.0638297872340426</c:v>
                </c:pt>
                <c:pt idx="713">
                  <c:v>-0.0695187165775401</c:v>
                </c:pt>
                <c:pt idx="714">
                  <c:v>-0.0752688172043014</c:v>
                </c:pt>
                <c:pt idx="715">
                  <c:v>-0.0810810810810813</c:v>
                </c:pt>
                <c:pt idx="716">
                  <c:v>-0.0869565217391305</c:v>
                </c:pt>
                <c:pt idx="717">
                  <c:v>-0.0928961748633879</c:v>
                </c:pt>
                <c:pt idx="718">
                  <c:v>-0.0989010989010987</c:v>
                </c:pt>
                <c:pt idx="719">
                  <c:v>-0.104972375690608</c:v>
                </c:pt>
                <c:pt idx="720">
                  <c:v>-0.111111111111111</c:v>
                </c:pt>
                <c:pt idx="721">
                  <c:v>-0.11731843575419</c:v>
                </c:pt>
                <c:pt idx="722">
                  <c:v>-0.123595505617977</c:v>
                </c:pt>
                <c:pt idx="723">
                  <c:v>-0.129943502824859</c:v>
                </c:pt>
                <c:pt idx="724">
                  <c:v>-0.136363636363637</c:v>
                </c:pt>
                <c:pt idx="725">
                  <c:v>-0.142857142857143</c:v>
                </c:pt>
                <c:pt idx="726">
                  <c:v>-0.149425287356322</c:v>
                </c:pt>
                <c:pt idx="727">
                  <c:v>-0.15606936416185</c:v>
                </c:pt>
                <c:pt idx="728">
                  <c:v>-0.162790697674419</c:v>
                </c:pt>
                <c:pt idx="729">
                  <c:v>-0.169590643274854</c:v>
                </c:pt>
                <c:pt idx="730">
                  <c:v>-0.176470588235294</c:v>
                </c:pt>
                <c:pt idx="731">
                  <c:v>-0.183431952662722</c:v>
                </c:pt>
                <c:pt idx="732">
                  <c:v>-0.190476190476191</c:v>
                </c:pt>
                <c:pt idx="733">
                  <c:v>-0.197604790419162</c:v>
                </c:pt>
                <c:pt idx="734">
                  <c:v>-0.204819277108434</c:v>
                </c:pt>
                <c:pt idx="735">
                  <c:v>-0.212121212121213</c:v>
                </c:pt>
                <c:pt idx="736">
                  <c:v>-0.219512195121951</c:v>
                </c:pt>
                <c:pt idx="737">
                  <c:v>-0.226993865030675</c:v>
                </c:pt>
                <c:pt idx="738">
                  <c:v>-0.234567901234568</c:v>
                </c:pt>
                <c:pt idx="739">
                  <c:v>-0.242236024844721</c:v>
                </c:pt>
                <c:pt idx="740">
                  <c:v>-0.25</c:v>
                </c:pt>
                <c:pt idx="741">
                  <c:v>-0.257861635220126</c:v>
                </c:pt>
                <c:pt idx="742">
                  <c:v>-0.265822784810127</c:v>
                </c:pt>
                <c:pt idx="743">
                  <c:v>-0.273885350318471</c:v>
                </c:pt>
                <c:pt idx="744">
                  <c:v>-0.282051282051282</c:v>
                </c:pt>
                <c:pt idx="745">
                  <c:v>-0.290322580645161</c:v>
                </c:pt>
                <c:pt idx="746">
                  <c:v>-0.298701298701299</c:v>
                </c:pt>
                <c:pt idx="747">
                  <c:v>-0.30718954248366</c:v>
                </c:pt>
                <c:pt idx="748">
                  <c:v>-0.315789473684211</c:v>
                </c:pt>
                <c:pt idx="749">
                  <c:v>-0.324503311258278</c:v>
                </c:pt>
                <c:pt idx="750">
                  <c:v>-0.333333333333333</c:v>
                </c:pt>
                <c:pt idx="751">
                  <c:v>-0.342281879194631</c:v>
                </c:pt>
                <c:pt idx="752">
                  <c:v>-0.351351351351352</c:v>
                </c:pt>
                <c:pt idx="753">
                  <c:v>-0.360544217687075</c:v>
                </c:pt>
                <c:pt idx="754">
                  <c:v>-0.36986301369863</c:v>
                </c:pt>
                <c:pt idx="755">
                  <c:v>-0.379310344827586</c:v>
                </c:pt>
                <c:pt idx="756">
                  <c:v>-0.388888888888889</c:v>
                </c:pt>
                <c:pt idx="757">
                  <c:v>-0.398601398601399</c:v>
                </c:pt>
                <c:pt idx="758">
                  <c:v>-0.408450704225352</c:v>
                </c:pt>
                <c:pt idx="759">
                  <c:v>-0.418439716312057</c:v>
                </c:pt>
                <c:pt idx="760">
                  <c:v>-0.428571428571429</c:v>
                </c:pt>
                <c:pt idx="761">
                  <c:v>-0.43884892086331</c:v>
                </c:pt>
                <c:pt idx="762">
                  <c:v>-0.449275362318841</c:v>
                </c:pt>
                <c:pt idx="763">
                  <c:v>-0.45985401459854</c:v>
                </c:pt>
                <c:pt idx="764">
                  <c:v>-0.470588235294118</c:v>
                </c:pt>
                <c:pt idx="765">
                  <c:v>-0.481481481481482</c:v>
                </c:pt>
                <c:pt idx="766">
                  <c:v>-0.492537313432836</c:v>
                </c:pt>
                <c:pt idx="767">
                  <c:v>-0.503759398496241</c:v>
                </c:pt>
                <c:pt idx="768">
                  <c:v>-0.515151515151515</c:v>
                </c:pt>
                <c:pt idx="769">
                  <c:v>-0.526717557251909</c:v>
                </c:pt>
                <c:pt idx="770">
                  <c:v>-0.538461538461539</c:v>
                </c:pt>
                <c:pt idx="771">
                  <c:v>-0.550387596899225</c:v>
                </c:pt>
                <c:pt idx="772">
                  <c:v>-0.5625</c:v>
                </c:pt>
                <c:pt idx="773">
                  <c:v>-0.5748031496063</c:v>
                </c:pt>
                <c:pt idx="774">
                  <c:v>-0.587301587301588</c:v>
                </c:pt>
                <c:pt idx="775">
                  <c:v>-0.6</c:v>
                </c:pt>
                <c:pt idx="776">
                  <c:v>-0.612903225806451</c:v>
                </c:pt>
                <c:pt idx="777">
                  <c:v>-0.626016260162602</c:v>
                </c:pt>
                <c:pt idx="778">
                  <c:v>-0.639344262295082</c:v>
                </c:pt>
                <c:pt idx="779">
                  <c:v>-0.652892561983471</c:v>
                </c:pt>
                <c:pt idx="780">
                  <c:v>-0.666666666666666</c:v>
                </c:pt>
                <c:pt idx="781">
                  <c:v>-0.680672268907564</c:v>
                </c:pt>
                <c:pt idx="782">
                  <c:v>-0.694915254237289</c:v>
                </c:pt>
                <c:pt idx="783">
                  <c:v>-0.70940170940171</c:v>
                </c:pt>
                <c:pt idx="784">
                  <c:v>-0.724137931034483</c:v>
                </c:pt>
                <c:pt idx="785">
                  <c:v>-0.73913043478261</c:v>
                </c:pt>
                <c:pt idx="786">
                  <c:v>-0.754385964912281</c:v>
                </c:pt>
                <c:pt idx="787">
                  <c:v>-0.769911504424779</c:v>
                </c:pt>
                <c:pt idx="788">
                  <c:v>-0.785714285714286</c:v>
                </c:pt>
                <c:pt idx="789">
                  <c:v>-0.801801801801803</c:v>
                </c:pt>
                <c:pt idx="790">
                  <c:v>-0.818181818181819</c:v>
                </c:pt>
                <c:pt idx="791">
                  <c:v>-0.834862385321101</c:v>
                </c:pt>
                <c:pt idx="792">
                  <c:v>-0.851851851851852</c:v>
                </c:pt>
                <c:pt idx="793">
                  <c:v>-0.869158878504674</c:v>
                </c:pt>
                <c:pt idx="794">
                  <c:v>-0.886792452830189</c:v>
                </c:pt>
                <c:pt idx="795">
                  <c:v>-0.904761904761905</c:v>
                </c:pt>
                <c:pt idx="796">
                  <c:v>-0.923076923076923</c:v>
                </c:pt>
                <c:pt idx="797">
                  <c:v>-0.941747572815534</c:v>
                </c:pt>
                <c:pt idx="798">
                  <c:v>-0.960784313725491</c:v>
                </c:pt>
                <c:pt idx="799">
                  <c:v>-0.980198019801981</c:v>
                </c:pt>
                <c:pt idx="800">
                  <c:v>-1</c:v>
                </c:pt>
                <c:pt idx="801">
                  <c:v>-1.02020202020202</c:v>
                </c:pt>
                <c:pt idx="802">
                  <c:v>-1.04081632653061</c:v>
                </c:pt>
                <c:pt idx="803">
                  <c:v>-1.06185567010309</c:v>
                </c:pt>
                <c:pt idx="804">
                  <c:v>-1.08333333333334</c:v>
                </c:pt>
                <c:pt idx="805">
                  <c:v>-1.10526315789474</c:v>
                </c:pt>
                <c:pt idx="806">
                  <c:v>-1.12765957446809</c:v>
                </c:pt>
                <c:pt idx="807">
                  <c:v>-1.1505376344086</c:v>
                </c:pt>
                <c:pt idx="808">
                  <c:v>-1.17391304347826</c:v>
                </c:pt>
                <c:pt idx="809">
                  <c:v>-1.1978021978022</c:v>
                </c:pt>
                <c:pt idx="810">
                  <c:v>-1.22222222222222</c:v>
                </c:pt>
                <c:pt idx="811">
                  <c:v>-1.24719101123595</c:v>
                </c:pt>
                <c:pt idx="812">
                  <c:v>-1.27272727272728</c:v>
                </c:pt>
                <c:pt idx="813">
                  <c:v>-1.29885057471265</c:v>
                </c:pt>
                <c:pt idx="814">
                  <c:v>-1.32558139534884</c:v>
                </c:pt>
                <c:pt idx="815">
                  <c:v>-1.35294117647059</c:v>
                </c:pt>
                <c:pt idx="816">
                  <c:v>-1.38095238095238</c:v>
                </c:pt>
                <c:pt idx="817">
                  <c:v>-1.40963855421687</c:v>
                </c:pt>
                <c:pt idx="818">
                  <c:v>-1.4390243902439</c:v>
                </c:pt>
                <c:pt idx="819">
                  <c:v>-1.46913580246913</c:v>
                </c:pt>
                <c:pt idx="820">
                  <c:v>-1.5</c:v>
                </c:pt>
                <c:pt idx="821">
                  <c:v>-1.53164556962026</c:v>
                </c:pt>
                <c:pt idx="822">
                  <c:v>-1.56410256410257</c:v>
                </c:pt>
                <c:pt idx="823">
                  <c:v>-1.5974025974026</c:v>
                </c:pt>
                <c:pt idx="824">
                  <c:v>-1.63157894736842</c:v>
                </c:pt>
                <c:pt idx="825">
                  <c:v>-1.66666666666667</c:v>
                </c:pt>
                <c:pt idx="826">
                  <c:v>-1.7027027027027</c:v>
                </c:pt>
                <c:pt idx="827">
                  <c:v>-1.73972602739726</c:v>
                </c:pt>
                <c:pt idx="828">
                  <c:v>-1.77777777777778</c:v>
                </c:pt>
                <c:pt idx="829">
                  <c:v>-1.81690140845071</c:v>
                </c:pt>
                <c:pt idx="830">
                  <c:v>-1.85714285714286</c:v>
                </c:pt>
                <c:pt idx="831">
                  <c:v>-1.89855072463768</c:v>
                </c:pt>
                <c:pt idx="832">
                  <c:v>-1.94117647058824</c:v>
                </c:pt>
                <c:pt idx="833">
                  <c:v>-1.98507462686567</c:v>
                </c:pt>
                <c:pt idx="834">
                  <c:v>-2.03030303030303</c:v>
                </c:pt>
                <c:pt idx="835">
                  <c:v>-2.07692307692308</c:v>
                </c:pt>
                <c:pt idx="836">
                  <c:v>-2.125</c:v>
                </c:pt>
                <c:pt idx="837">
                  <c:v>-2.17460317460318</c:v>
                </c:pt>
                <c:pt idx="838">
                  <c:v>-2.22580645161291</c:v>
                </c:pt>
                <c:pt idx="839">
                  <c:v>-2.27868852459017</c:v>
                </c:pt>
                <c:pt idx="840">
                  <c:v>-2.33333333333334</c:v>
                </c:pt>
                <c:pt idx="841">
                  <c:v>-2.38983050847458</c:v>
                </c:pt>
                <c:pt idx="842">
                  <c:v>-2.44827586206897</c:v>
                </c:pt>
                <c:pt idx="843">
                  <c:v>-2.50877192982456</c:v>
                </c:pt>
                <c:pt idx="844">
                  <c:v>-2.57142857142857</c:v>
                </c:pt>
                <c:pt idx="845">
                  <c:v>-2.63636363636363</c:v>
                </c:pt>
                <c:pt idx="846">
                  <c:v>-2.70370370370371</c:v>
                </c:pt>
                <c:pt idx="847">
                  <c:v>-2.77358490566038</c:v>
                </c:pt>
                <c:pt idx="848">
                  <c:v>-2.84615384615385</c:v>
                </c:pt>
                <c:pt idx="849">
                  <c:v>-2.92156862745098</c:v>
                </c:pt>
                <c:pt idx="850">
                  <c:v>-3</c:v>
                </c:pt>
                <c:pt idx="851">
                  <c:v>-3.08163265306122</c:v>
                </c:pt>
                <c:pt idx="852">
                  <c:v>-3.16666666666666</c:v>
                </c:pt>
                <c:pt idx="853">
                  <c:v>-3.25531914893616</c:v>
                </c:pt>
                <c:pt idx="854">
                  <c:v>-3.34782608695653</c:v>
                </c:pt>
                <c:pt idx="855">
                  <c:v>-3.44444444444445</c:v>
                </c:pt>
                <c:pt idx="856">
                  <c:v>-3.54545454545455</c:v>
                </c:pt>
                <c:pt idx="857">
                  <c:v>-3.65116279069768</c:v>
                </c:pt>
                <c:pt idx="858">
                  <c:v>-3.76190476190476</c:v>
                </c:pt>
                <c:pt idx="859">
                  <c:v>-3.8780487804878</c:v>
                </c:pt>
                <c:pt idx="860">
                  <c:v>-4</c:v>
                </c:pt>
                <c:pt idx="861">
                  <c:v>-4.12820512820512</c:v>
                </c:pt>
                <c:pt idx="862">
                  <c:v>-4.26315789473686</c:v>
                </c:pt>
                <c:pt idx="863">
                  <c:v>-4.40540540540542</c:v>
                </c:pt>
                <c:pt idx="864">
                  <c:v>-4.55555555555556</c:v>
                </c:pt>
                <c:pt idx="865">
                  <c:v>-4.71428571428572</c:v>
                </c:pt>
                <c:pt idx="866">
                  <c:v>-4.88235294117647</c:v>
                </c:pt>
                <c:pt idx="867">
                  <c:v>-5.06060606060606</c:v>
                </c:pt>
                <c:pt idx="868">
                  <c:v>-5.25</c:v>
                </c:pt>
                <c:pt idx="869">
                  <c:v>-5.4516129032258</c:v>
                </c:pt>
                <c:pt idx="870">
                  <c:v>-5.66666666666669</c:v>
                </c:pt>
                <c:pt idx="871">
                  <c:v>-5.89655172413795</c:v>
                </c:pt>
                <c:pt idx="872">
                  <c:v>-6.14285714285716</c:v>
                </c:pt>
                <c:pt idx="873">
                  <c:v>-6.40740740740742</c:v>
                </c:pt>
                <c:pt idx="874">
                  <c:v>-6.6923076923077</c:v>
                </c:pt>
                <c:pt idx="875">
                  <c:v>-7</c:v>
                </c:pt>
                <c:pt idx="876">
                  <c:v>-7.33333333333333</c:v>
                </c:pt>
                <c:pt idx="877">
                  <c:v>-7.69565217391303</c:v>
                </c:pt>
                <c:pt idx="878">
                  <c:v>-8.09090909090907</c:v>
                </c:pt>
                <c:pt idx="879">
                  <c:v>-8.52380952380957</c:v>
                </c:pt>
                <c:pt idx="880">
                  <c:v>-9.00000000000004</c:v>
                </c:pt>
                <c:pt idx="881">
                  <c:v>-9.52631578947371</c:v>
                </c:pt>
                <c:pt idx="882">
                  <c:v>-10.1111111111111</c:v>
                </c:pt>
                <c:pt idx="883">
                  <c:v>-10.7647058823529</c:v>
                </c:pt>
                <c:pt idx="884">
                  <c:v>-11.5</c:v>
                </c:pt>
                <c:pt idx="885">
                  <c:v>-12.3333333333333</c:v>
                </c:pt>
                <c:pt idx="886">
                  <c:v>-13.2857142857142</c:v>
                </c:pt>
                <c:pt idx="887">
                  <c:v>-14.3846153846155</c:v>
                </c:pt>
                <c:pt idx="888">
                  <c:v>-15.6666666666668</c:v>
                </c:pt>
                <c:pt idx="889">
                  <c:v>-17.1818181818183</c:v>
                </c:pt>
                <c:pt idx="890">
                  <c:v>-19.0000000000001</c:v>
                </c:pt>
                <c:pt idx="891">
                  <c:v>-21.2222222222223</c:v>
                </c:pt>
                <c:pt idx="892">
                  <c:v>-24</c:v>
                </c:pt>
                <c:pt idx="893">
                  <c:v>-27.5714285714285</c:v>
                </c:pt>
                <c:pt idx="894">
                  <c:v>-32.3333333333331</c:v>
                </c:pt>
                <c:pt idx="895">
                  <c:v>-39.0000000000009</c:v>
                </c:pt>
                <c:pt idx="896">
                  <c:v>-49.0000000000011</c:v>
                </c:pt>
                <c:pt idx="897">
                  <c:v>-65.6666666666681</c:v>
                </c:pt>
                <c:pt idx="898">
                  <c:v>-99.0000000000021</c:v>
                </c:pt>
                <c:pt idx="899">
                  <c:v>-199.000000000004</c:v>
                </c:pt>
                <c:pt idx="901">
                  <c:v>201.000000000004</c:v>
                </c:pt>
                <c:pt idx="902">
                  <c:v>101.000000000002</c:v>
                </c:pt>
                <c:pt idx="903">
                  <c:v>67.6666666666681</c:v>
                </c:pt>
                <c:pt idx="904">
                  <c:v>50.9999999999989</c:v>
                </c:pt>
                <c:pt idx="905">
                  <c:v>40.9999999999994</c:v>
                </c:pt>
                <c:pt idx="906">
                  <c:v>34.3333333333331</c:v>
                </c:pt>
                <c:pt idx="907">
                  <c:v>29.5714285714285</c:v>
                </c:pt>
                <c:pt idx="908">
                  <c:v>26</c:v>
                </c:pt>
                <c:pt idx="909">
                  <c:v>23.2222222222223</c:v>
                </c:pt>
                <c:pt idx="910">
                  <c:v>21.0000000000001</c:v>
                </c:pt>
                <c:pt idx="911">
                  <c:v>19.1818181818183</c:v>
                </c:pt>
                <c:pt idx="912">
                  <c:v>17.6666666666665</c:v>
                </c:pt>
                <c:pt idx="913">
                  <c:v>16.3846153846153</c:v>
                </c:pt>
                <c:pt idx="914">
                  <c:v>15.2857142857142</c:v>
                </c:pt>
                <c:pt idx="915">
                  <c:v>14.3333333333333</c:v>
                </c:pt>
                <c:pt idx="916">
                  <c:v>13.5</c:v>
                </c:pt>
                <c:pt idx="917">
                  <c:v>12.7647058823529</c:v>
                </c:pt>
                <c:pt idx="918">
                  <c:v>12.1111111111111</c:v>
                </c:pt>
                <c:pt idx="919">
                  <c:v>11.5263157894737</c:v>
                </c:pt>
                <c:pt idx="920">
                  <c:v>10.9999999999999</c:v>
                </c:pt>
                <c:pt idx="921">
                  <c:v>10.5238095238095</c:v>
                </c:pt>
                <c:pt idx="922">
                  <c:v>10.0909090909091</c:v>
                </c:pt>
                <c:pt idx="923">
                  <c:v>9.69565217391303</c:v>
                </c:pt>
                <c:pt idx="924">
                  <c:v>9.33333333333333</c:v>
                </c:pt>
                <c:pt idx="925">
                  <c:v>9</c:v>
                </c:pt>
                <c:pt idx="926">
                  <c:v>8.6923076923077</c:v>
                </c:pt>
                <c:pt idx="927">
                  <c:v>8.40740740740742</c:v>
                </c:pt>
                <c:pt idx="928">
                  <c:v>8.14285714285716</c:v>
                </c:pt>
                <c:pt idx="929">
                  <c:v>7.89655172413791</c:v>
                </c:pt>
                <c:pt idx="930">
                  <c:v>7.66666666666665</c:v>
                </c:pt>
                <c:pt idx="931">
                  <c:v>7.4516129032258</c:v>
                </c:pt>
                <c:pt idx="932">
                  <c:v>7.25</c:v>
                </c:pt>
                <c:pt idx="933">
                  <c:v>7.06060606060606</c:v>
                </c:pt>
                <c:pt idx="934">
                  <c:v>6.88235294117647</c:v>
                </c:pt>
                <c:pt idx="935">
                  <c:v>6.71428571428572</c:v>
                </c:pt>
                <c:pt idx="936">
                  <c:v>6.55555555555556</c:v>
                </c:pt>
                <c:pt idx="937">
                  <c:v>6.40540540540539</c:v>
                </c:pt>
                <c:pt idx="938">
                  <c:v>6.26315789473683</c:v>
                </c:pt>
                <c:pt idx="939">
                  <c:v>6.12820512820512</c:v>
                </c:pt>
                <c:pt idx="940">
                  <c:v>6</c:v>
                </c:pt>
                <c:pt idx="941">
                  <c:v>5.8780487804878</c:v>
                </c:pt>
                <c:pt idx="942">
                  <c:v>5.76190476190476</c:v>
                </c:pt>
                <c:pt idx="943">
                  <c:v>5.65116279069768</c:v>
                </c:pt>
                <c:pt idx="944">
                  <c:v>5.54545454545455</c:v>
                </c:pt>
                <c:pt idx="945">
                  <c:v>5.44444444444443</c:v>
                </c:pt>
                <c:pt idx="946">
                  <c:v>5.34782608695651</c:v>
                </c:pt>
                <c:pt idx="947">
                  <c:v>5.25531914893617</c:v>
                </c:pt>
                <c:pt idx="948">
                  <c:v>5.16666666666666</c:v>
                </c:pt>
                <c:pt idx="949">
                  <c:v>5.08163265306122</c:v>
                </c:pt>
                <c:pt idx="950">
                  <c:v>3</c:v>
                </c:pt>
                <c:pt idx="951">
                  <c:v>4.92156862745098</c:v>
                </c:pt>
                <c:pt idx="952">
                  <c:v>4.84615384615385</c:v>
                </c:pt>
                <c:pt idx="953">
                  <c:v>4.77358490566038</c:v>
                </c:pt>
                <c:pt idx="954">
                  <c:v>4.7037037037037</c:v>
                </c:pt>
                <c:pt idx="955">
                  <c:v>4.63636363636363</c:v>
                </c:pt>
                <c:pt idx="956">
                  <c:v>4.57142857142857</c:v>
                </c:pt>
                <c:pt idx="957">
                  <c:v>4.50877192982456</c:v>
                </c:pt>
                <c:pt idx="958">
                  <c:v>4.44827586206897</c:v>
                </c:pt>
                <c:pt idx="959">
                  <c:v>4.38983050847458</c:v>
                </c:pt>
                <c:pt idx="960">
                  <c:v>4.33333333333334</c:v>
                </c:pt>
                <c:pt idx="961">
                  <c:v>4.27868852459017</c:v>
                </c:pt>
                <c:pt idx="962">
                  <c:v>4.2258064516129</c:v>
                </c:pt>
                <c:pt idx="963">
                  <c:v>4.17460317460317</c:v>
                </c:pt>
                <c:pt idx="964">
                  <c:v>4.125</c:v>
                </c:pt>
                <c:pt idx="965">
                  <c:v>4.07692307692308</c:v>
                </c:pt>
                <c:pt idx="966">
                  <c:v>4.03030303030303</c:v>
                </c:pt>
                <c:pt idx="967">
                  <c:v>3.98507462686567</c:v>
                </c:pt>
                <c:pt idx="968">
                  <c:v>3.94117647058824</c:v>
                </c:pt>
                <c:pt idx="969">
                  <c:v>3.89855072463768</c:v>
                </c:pt>
                <c:pt idx="970">
                  <c:v>3.85714285714285</c:v>
                </c:pt>
                <c:pt idx="971">
                  <c:v>3.8169014084507</c:v>
                </c:pt>
                <c:pt idx="972">
                  <c:v>3.77777777777778</c:v>
                </c:pt>
                <c:pt idx="973">
                  <c:v>3.73972602739726</c:v>
                </c:pt>
                <c:pt idx="974">
                  <c:v>3.7027027027027</c:v>
                </c:pt>
                <c:pt idx="975">
                  <c:v>3.66666666666667</c:v>
                </c:pt>
                <c:pt idx="976">
                  <c:v>3.63157894736842</c:v>
                </c:pt>
                <c:pt idx="977">
                  <c:v>3.5974025974026</c:v>
                </c:pt>
                <c:pt idx="978">
                  <c:v>3.56410256410257</c:v>
                </c:pt>
                <c:pt idx="979">
                  <c:v>3.53164556962025</c:v>
                </c:pt>
                <c:pt idx="980">
                  <c:v>3.5</c:v>
                </c:pt>
                <c:pt idx="981">
                  <c:v>3.46913580246913</c:v>
                </c:pt>
                <c:pt idx="982">
                  <c:v>3.4390243902439</c:v>
                </c:pt>
                <c:pt idx="983">
                  <c:v>3.40963855421687</c:v>
                </c:pt>
                <c:pt idx="984">
                  <c:v>3.38095238095238</c:v>
                </c:pt>
                <c:pt idx="985">
                  <c:v>3.35294117647059</c:v>
                </c:pt>
                <c:pt idx="986">
                  <c:v>3.32558139534884</c:v>
                </c:pt>
                <c:pt idx="987">
                  <c:v>3.29885057471264</c:v>
                </c:pt>
                <c:pt idx="988">
                  <c:v>3.27272727272727</c:v>
                </c:pt>
                <c:pt idx="989">
                  <c:v>3.24719101123595</c:v>
                </c:pt>
                <c:pt idx="990">
                  <c:v>3.22222222222222</c:v>
                </c:pt>
                <c:pt idx="991">
                  <c:v>3.1978021978022</c:v>
                </c:pt>
                <c:pt idx="992">
                  <c:v>3.17391304347826</c:v>
                </c:pt>
                <c:pt idx="993">
                  <c:v>3.1505376344086</c:v>
                </c:pt>
                <c:pt idx="994">
                  <c:v>3.12765957446809</c:v>
                </c:pt>
                <c:pt idx="995">
                  <c:v>3.10526315789473</c:v>
                </c:pt>
                <c:pt idx="996">
                  <c:v>3.08333333333333</c:v>
                </c:pt>
                <c:pt idx="997">
                  <c:v>3.06185567010309</c:v>
                </c:pt>
                <c:pt idx="998">
                  <c:v>3.04081632653061</c:v>
                </c:pt>
                <c:pt idx="999">
                  <c:v>3.02020202020202</c:v>
                </c:pt>
                <c:pt idx="1000">
                  <c:v>3</c:v>
                </c:pt>
                <c:pt idx="1001">
                  <c:v>2.98019801980198</c:v>
                </c:pt>
                <c:pt idx="1002">
                  <c:v>2.96078431372549</c:v>
                </c:pt>
                <c:pt idx="1003">
                  <c:v>2.94174757281554</c:v>
                </c:pt>
                <c:pt idx="1004">
                  <c:v>2.92307692307692</c:v>
                </c:pt>
                <c:pt idx="1005">
                  <c:v>2.9047619047619</c:v>
                </c:pt>
                <c:pt idx="1006">
                  <c:v>2.88679245283019</c:v>
                </c:pt>
                <c:pt idx="1007">
                  <c:v>2.86915887850467</c:v>
                </c:pt>
                <c:pt idx="1008">
                  <c:v>2.85185185185185</c:v>
                </c:pt>
                <c:pt idx="1009">
                  <c:v>2.8348623853211</c:v>
                </c:pt>
                <c:pt idx="1010">
                  <c:v>2.81818181818182</c:v>
                </c:pt>
                <c:pt idx="1011">
                  <c:v>2.8018018018018</c:v>
                </c:pt>
                <c:pt idx="1012">
                  <c:v>2.78571428571428</c:v>
                </c:pt>
                <c:pt idx="1013">
                  <c:v>2.76991150442478</c:v>
                </c:pt>
                <c:pt idx="1014">
                  <c:v>2.75438596491228</c:v>
                </c:pt>
                <c:pt idx="1015">
                  <c:v>2.73913043478261</c:v>
                </c:pt>
                <c:pt idx="1016">
                  <c:v>2.72413793103448</c:v>
                </c:pt>
                <c:pt idx="1017">
                  <c:v>2.70940170940171</c:v>
                </c:pt>
                <c:pt idx="1018">
                  <c:v>2.69491525423729</c:v>
                </c:pt>
                <c:pt idx="1019">
                  <c:v>2.68067226890756</c:v>
                </c:pt>
                <c:pt idx="1020">
                  <c:v>2.66666666666667</c:v>
                </c:pt>
                <c:pt idx="1021">
                  <c:v>2.65289256198347</c:v>
                </c:pt>
                <c:pt idx="1022">
                  <c:v>2.63934426229508</c:v>
                </c:pt>
                <c:pt idx="1023">
                  <c:v>2.6260162601626</c:v>
                </c:pt>
                <c:pt idx="1024">
                  <c:v>2.61290322580645</c:v>
                </c:pt>
                <c:pt idx="1025">
                  <c:v>2.6</c:v>
                </c:pt>
                <c:pt idx="1026">
                  <c:v>2.58730158730159</c:v>
                </c:pt>
                <c:pt idx="1027">
                  <c:v>2.5748031496063</c:v>
                </c:pt>
                <c:pt idx="1028">
                  <c:v>2.5625</c:v>
                </c:pt>
                <c:pt idx="1029">
                  <c:v>2.55038759689922</c:v>
                </c:pt>
                <c:pt idx="1030">
                  <c:v>2.53846153846154</c:v>
                </c:pt>
                <c:pt idx="1031">
                  <c:v>2.52671755725191</c:v>
                </c:pt>
                <c:pt idx="1032">
                  <c:v>2.51515151515151</c:v>
                </c:pt>
                <c:pt idx="1033">
                  <c:v>2.50375939849624</c:v>
                </c:pt>
                <c:pt idx="1034">
                  <c:v>2.49253731343284</c:v>
                </c:pt>
                <c:pt idx="1035">
                  <c:v>2.48148148148148</c:v>
                </c:pt>
                <c:pt idx="1036">
                  <c:v>2.47058823529412</c:v>
                </c:pt>
                <c:pt idx="1037">
                  <c:v>2.45985401459854</c:v>
                </c:pt>
                <c:pt idx="1038">
                  <c:v>2.44927536231884</c:v>
                </c:pt>
                <c:pt idx="1039">
                  <c:v>2.43884892086331</c:v>
                </c:pt>
                <c:pt idx="1040">
                  <c:v>2.42857142857143</c:v>
                </c:pt>
                <c:pt idx="1041">
                  <c:v>2.41843971631206</c:v>
                </c:pt>
                <c:pt idx="1042">
                  <c:v>2.40845070422535</c:v>
                </c:pt>
                <c:pt idx="1043">
                  <c:v>2.3986013986014</c:v>
                </c:pt>
                <c:pt idx="1044">
                  <c:v>2.38888888888889</c:v>
                </c:pt>
                <c:pt idx="1045">
                  <c:v>2.37931034482759</c:v>
                </c:pt>
                <c:pt idx="1046">
                  <c:v>2.36986301369863</c:v>
                </c:pt>
                <c:pt idx="1047">
                  <c:v>2.36054421768707</c:v>
                </c:pt>
                <c:pt idx="1048">
                  <c:v>2.35135135135135</c:v>
                </c:pt>
                <c:pt idx="1049">
                  <c:v>2.34228187919463</c:v>
                </c:pt>
                <c:pt idx="1050">
                  <c:v>2.33333333333333</c:v>
                </c:pt>
                <c:pt idx="1051">
                  <c:v>2.32450331125828</c:v>
                </c:pt>
                <c:pt idx="1052">
                  <c:v>2.31578947368421</c:v>
                </c:pt>
                <c:pt idx="1053">
                  <c:v>2.30718954248366</c:v>
                </c:pt>
                <c:pt idx="1054">
                  <c:v>2.2987012987013</c:v>
                </c:pt>
                <c:pt idx="1055">
                  <c:v>2.29032258064516</c:v>
                </c:pt>
                <c:pt idx="1056">
                  <c:v>2.28205128205128</c:v>
                </c:pt>
                <c:pt idx="1057">
                  <c:v>2.27388535031847</c:v>
                </c:pt>
                <c:pt idx="1058">
                  <c:v>2.26582278481013</c:v>
                </c:pt>
                <c:pt idx="1059">
                  <c:v>2.25786163522013</c:v>
                </c:pt>
                <c:pt idx="1060">
                  <c:v>2.25</c:v>
                </c:pt>
                <c:pt idx="1061">
                  <c:v>2.24223602484472</c:v>
                </c:pt>
                <c:pt idx="1062">
                  <c:v>2.23456790123457</c:v>
                </c:pt>
                <c:pt idx="1063">
                  <c:v>2.22699386503067</c:v>
                </c:pt>
                <c:pt idx="1064">
                  <c:v>2.21951219512195</c:v>
                </c:pt>
                <c:pt idx="1065">
                  <c:v>2.21212121212121</c:v>
                </c:pt>
                <c:pt idx="1066">
                  <c:v>2.20481927710843</c:v>
                </c:pt>
                <c:pt idx="1067">
                  <c:v>2.19760479041916</c:v>
                </c:pt>
                <c:pt idx="1068">
                  <c:v>2.19047619047619</c:v>
                </c:pt>
                <c:pt idx="1069">
                  <c:v>2.18343195266272</c:v>
                </c:pt>
                <c:pt idx="1070">
                  <c:v>2.17647058823529</c:v>
                </c:pt>
                <c:pt idx="1071">
                  <c:v>2.16959064327485</c:v>
                </c:pt>
                <c:pt idx="1072">
                  <c:v>2.16279069767442</c:v>
                </c:pt>
                <c:pt idx="1073">
                  <c:v>2.15606936416185</c:v>
                </c:pt>
                <c:pt idx="1074">
                  <c:v>2.14942528735632</c:v>
                </c:pt>
                <c:pt idx="1075">
                  <c:v>2.14285714285714</c:v>
                </c:pt>
                <c:pt idx="1076">
                  <c:v>2.13636363636364</c:v>
                </c:pt>
                <c:pt idx="1077">
                  <c:v>2.12994350282486</c:v>
                </c:pt>
                <c:pt idx="1078">
                  <c:v>2.12359550561798</c:v>
                </c:pt>
                <c:pt idx="1079">
                  <c:v>2.11731843575419</c:v>
                </c:pt>
                <c:pt idx="1080">
                  <c:v>2.11111111111111</c:v>
                </c:pt>
                <c:pt idx="1081">
                  <c:v>2.10497237569061</c:v>
                </c:pt>
                <c:pt idx="1082">
                  <c:v>2.0989010989011</c:v>
                </c:pt>
                <c:pt idx="1083">
                  <c:v>2.09289617486339</c:v>
                </c:pt>
                <c:pt idx="1084">
                  <c:v>2.08695652173913</c:v>
                </c:pt>
                <c:pt idx="1085">
                  <c:v>2.08108108108108</c:v>
                </c:pt>
                <c:pt idx="1086">
                  <c:v>2.0752688172043</c:v>
                </c:pt>
                <c:pt idx="1087">
                  <c:v>2.06951871657754</c:v>
                </c:pt>
                <c:pt idx="1088">
                  <c:v>2.06382978723404</c:v>
                </c:pt>
                <c:pt idx="1089">
                  <c:v>2.05820105820106</c:v>
                </c:pt>
                <c:pt idx="1090">
                  <c:v>2.05263157894737</c:v>
                </c:pt>
                <c:pt idx="1091">
                  <c:v>2.04712041884817</c:v>
                </c:pt>
                <c:pt idx="1092">
                  <c:v>2.04166666666667</c:v>
                </c:pt>
                <c:pt idx="1093">
                  <c:v>2.03626943005181</c:v>
                </c:pt>
                <c:pt idx="1094">
                  <c:v>2.03092783505155</c:v>
                </c:pt>
                <c:pt idx="1095">
                  <c:v>2.02564102564103</c:v>
                </c:pt>
                <c:pt idx="1096">
                  <c:v>2.02040816326531</c:v>
                </c:pt>
                <c:pt idx="1097">
                  <c:v>2.01522842639594</c:v>
                </c:pt>
                <c:pt idx="1098">
                  <c:v>2.01010101010101</c:v>
                </c:pt>
                <c:pt idx="1099">
                  <c:v>2.00502512562814</c:v>
                </c:pt>
                <c:pt idx="1100">
                  <c:v>2</c:v>
                </c:pt>
                <c:pt idx="1101">
                  <c:v>1.99502487562189</c:v>
                </c:pt>
                <c:pt idx="1102">
                  <c:v>1.99009900990099</c:v>
                </c:pt>
                <c:pt idx="1103">
                  <c:v>1.98522167487685</c:v>
                </c:pt>
                <c:pt idx="1104">
                  <c:v>1.98039215686274</c:v>
                </c:pt>
                <c:pt idx="1105">
                  <c:v>1.97560975609756</c:v>
                </c:pt>
                <c:pt idx="1106">
                  <c:v>1.97087378640777</c:v>
                </c:pt>
                <c:pt idx="1107">
                  <c:v>1.96618357487923</c:v>
                </c:pt>
                <c:pt idx="1108">
                  <c:v>1.96153846153846</c:v>
                </c:pt>
                <c:pt idx="1109">
                  <c:v>1.95693779904306</c:v>
                </c:pt>
                <c:pt idx="1110">
                  <c:v>1.95238095238095</c:v>
                </c:pt>
                <c:pt idx="1111">
                  <c:v>1.9478672985782</c:v>
                </c:pt>
                <c:pt idx="1112">
                  <c:v>1.94339622641509</c:v>
                </c:pt>
                <c:pt idx="1113">
                  <c:v>1.93896713615023</c:v>
                </c:pt>
                <c:pt idx="1114">
                  <c:v>1.93457943925234</c:v>
                </c:pt>
                <c:pt idx="1115">
                  <c:v>1.93023255813953</c:v>
                </c:pt>
                <c:pt idx="1116">
                  <c:v>1.92592592592593</c:v>
                </c:pt>
                <c:pt idx="1117">
                  <c:v>1.92165898617512</c:v>
                </c:pt>
                <c:pt idx="1118">
                  <c:v>1.91743119266055</c:v>
                </c:pt>
                <c:pt idx="1119">
                  <c:v>1.91324200913242</c:v>
                </c:pt>
                <c:pt idx="1120">
                  <c:v>1.90909090909091</c:v>
                </c:pt>
                <c:pt idx="1121">
                  <c:v>1.90497737556561</c:v>
                </c:pt>
                <c:pt idx="1122">
                  <c:v>1.9009009009009</c:v>
                </c:pt>
                <c:pt idx="1123">
                  <c:v>1.89686098654709</c:v>
                </c:pt>
                <c:pt idx="1124">
                  <c:v>1.89285714285714</c:v>
                </c:pt>
                <c:pt idx="1125">
                  <c:v>1.88888888888889</c:v>
                </c:pt>
                <c:pt idx="1126">
                  <c:v>1.88495575221239</c:v>
                </c:pt>
                <c:pt idx="1127">
                  <c:v>1.88105726872247</c:v>
                </c:pt>
                <c:pt idx="1128">
                  <c:v>1.87719298245614</c:v>
                </c:pt>
                <c:pt idx="1129">
                  <c:v>1.87336244541485</c:v>
                </c:pt>
                <c:pt idx="1130">
                  <c:v>1.8695652173913</c:v>
                </c:pt>
                <c:pt idx="1131">
                  <c:v>1.86580086580087</c:v>
                </c:pt>
                <c:pt idx="1132">
                  <c:v>1.86206896551724</c:v>
                </c:pt>
                <c:pt idx="1133">
                  <c:v>1.85836909871245</c:v>
                </c:pt>
                <c:pt idx="1134">
                  <c:v>1.85470085470085</c:v>
                </c:pt>
                <c:pt idx="1135">
                  <c:v>1.85106382978723</c:v>
                </c:pt>
                <c:pt idx="1136">
                  <c:v>1.84745762711864</c:v>
                </c:pt>
                <c:pt idx="1137">
                  <c:v>1.84388185654008</c:v>
                </c:pt>
                <c:pt idx="1138">
                  <c:v>1.84033613445378</c:v>
                </c:pt>
                <c:pt idx="1139">
                  <c:v>1.83682008368201</c:v>
                </c:pt>
                <c:pt idx="1140">
                  <c:v>1.83333333333333</c:v>
                </c:pt>
                <c:pt idx="1141">
                  <c:v>1.8298755186722</c:v>
                </c:pt>
                <c:pt idx="1142">
                  <c:v>1.82644628099174</c:v>
                </c:pt>
                <c:pt idx="1143">
                  <c:v>1.82304526748971</c:v>
                </c:pt>
                <c:pt idx="1144">
                  <c:v>1.81967213114754</c:v>
                </c:pt>
                <c:pt idx="1145">
                  <c:v>1.81632653061224</c:v>
                </c:pt>
                <c:pt idx="1146">
                  <c:v>1.8130081300813</c:v>
                </c:pt>
                <c:pt idx="1147">
                  <c:v>1.80971659919028</c:v>
                </c:pt>
                <c:pt idx="1148">
                  <c:v>1.80645161290323</c:v>
                </c:pt>
                <c:pt idx="1149">
                  <c:v>1.80321285140562</c:v>
                </c:pt>
                <c:pt idx="1150">
                  <c:v>1.8</c:v>
                </c:pt>
                <c:pt idx="1151">
                  <c:v>1.79681274900398</c:v>
                </c:pt>
                <c:pt idx="1152">
                  <c:v>1.79365079365079</c:v>
                </c:pt>
                <c:pt idx="1153">
                  <c:v>1.7905138339921</c:v>
                </c:pt>
                <c:pt idx="1154">
                  <c:v>1.78740157480315</c:v>
                </c:pt>
                <c:pt idx="1155">
                  <c:v>1.7843137254902</c:v>
                </c:pt>
                <c:pt idx="1156">
                  <c:v>1.78125</c:v>
                </c:pt>
                <c:pt idx="1157">
                  <c:v>1.77821011673152</c:v>
                </c:pt>
                <c:pt idx="1158">
                  <c:v>1.77519379844961</c:v>
                </c:pt>
                <c:pt idx="1159">
                  <c:v>1.77220077220077</c:v>
                </c:pt>
                <c:pt idx="1160">
                  <c:v>1.76923076923077</c:v>
                </c:pt>
                <c:pt idx="1161">
                  <c:v>1.76628352490421</c:v>
                </c:pt>
                <c:pt idx="1162">
                  <c:v>1.76335877862595</c:v>
                </c:pt>
                <c:pt idx="1163">
                  <c:v>1.76045627376426</c:v>
                </c:pt>
                <c:pt idx="1164">
                  <c:v>1.75757575757576</c:v>
                </c:pt>
                <c:pt idx="1165">
                  <c:v>1.75471698113208</c:v>
                </c:pt>
                <c:pt idx="1166">
                  <c:v>1.75187969924812</c:v>
                </c:pt>
                <c:pt idx="1167">
                  <c:v>1.74906367041199</c:v>
                </c:pt>
                <c:pt idx="1168">
                  <c:v>1.74626865671642</c:v>
                </c:pt>
                <c:pt idx="1169">
                  <c:v>1.74349442379182</c:v>
                </c:pt>
                <c:pt idx="1170">
                  <c:v>1.74074074074074</c:v>
                </c:pt>
                <c:pt idx="1171">
                  <c:v>1.7380073800738</c:v>
                </c:pt>
                <c:pt idx="1172">
                  <c:v>1.73529411764706</c:v>
                </c:pt>
                <c:pt idx="1173">
                  <c:v>1.73260073260073</c:v>
                </c:pt>
                <c:pt idx="1174">
                  <c:v>1.72992700729927</c:v>
                </c:pt>
                <c:pt idx="1175">
                  <c:v>1.72727272727273</c:v>
                </c:pt>
                <c:pt idx="1176">
                  <c:v>1.72463768115942</c:v>
                </c:pt>
                <c:pt idx="1177">
                  <c:v>1.72202166064982</c:v>
                </c:pt>
                <c:pt idx="1178">
                  <c:v>1.71942446043165</c:v>
                </c:pt>
                <c:pt idx="1179">
                  <c:v>1.7168458781362</c:v>
                </c:pt>
                <c:pt idx="1180">
                  <c:v>1.71428571428571</c:v>
                </c:pt>
                <c:pt idx="1181">
                  <c:v>1.71174377224199</c:v>
                </c:pt>
                <c:pt idx="1182">
                  <c:v>1.70921985815603</c:v>
                </c:pt>
                <c:pt idx="1183">
                  <c:v>1.70671378091873</c:v>
                </c:pt>
                <c:pt idx="1184">
                  <c:v>1.70422535211268</c:v>
                </c:pt>
                <c:pt idx="1185">
                  <c:v>1.70175438596491</c:v>
                </c:pt>
                <c:pt idx="1186">
                  <c:v>1.6993006993007</c:v>
                </c:pt>
                <c:pt idx="1187">
                  <c:v>1.69686411149826</c:v>
                </c:pt>
                <c:pt idx="1188">
                  <c:v>1.69444444444444</c:v>
                </c:pt>
                <c:pt idx="1189">
                  <c:v>1.69204152249135</c:v>
                </c:pt>
                <c:pt idx="1190">
                  <c:v>1.68965517241379</c:v>
                </c:pt>
                <c:pt idx="1191">
                  <c:v>1.6872852233677</c:v>
                </c:pt>
                <c:pt idx="1192">
                  <c:v>1.68493150684932</c:v>
                </c:pt>
                <c:pt idx="1193">
                  <c:v>1.68259385665529</c:v>
                </c:pt>
                <c:pt idx="1194">
                  <c:v>1.68027210884354</c:v>
                </c:pt>
                <c:pt idx="1195">
                  <c:v>1.67796610169492</c:v>
                </c:pt>
                <c:pt idx="1196">
                  <c:v>1.67567567567568</c:v>
                </c:pt>
                <c:pt idx="1197">
                  <c:v>1.67340067340067</c:v>
                </c:pt>
                <c:pt idx="1198">
                  <c:v>1.67114093959732</c:v>
                </c:pt>
                <c:pt idx="1199">
                  <c:v>1.66889632107023</c:v>
                </c:pt>
                <c:pt idx="1200">
                  <c:v>1.66666666666667</c:v>
                </c:pt>
                <c:pt idx="1201">
                  <c:v>1.66445182724253</c:v>
                </c:pt>
                <c:pt idx="1202">
                  <c:v>1.66225165562914</c:v>
                </c:pt>
                <c:pt idx="1203">
                  <c:v>1.66006600660066</c:v>
                </c:pt>
                <c:pt idx="1204">
                  <c:v>1.65789473684211</c:v>
                </c:pt>
                <c:pt idx="1205">
                  <c:v>1.65573770491803</c:v>
                </c:pt>
                <c:pt idx="1206">
                  <c:v>1.65359477124183</c:v>
                </c:pt>
                <c:pt idx="1207">
                  <c:v>1.6514657980456</c:v>
                </c:pt>
                <c:pt idx="1208">
                  <c:v>1.64935064935065</c:v>
                </c:pt>
                <c:pt idx="1209">
                  <c:v>1.64724919093851</c:v>
                </c:pt>
                <c:pt idx="1210">
                  <c:v>1.64516129032258</c:v>
                </c:pt>
                <c:pt idx="1211">
                  <c:v>1.64308681672026</c:v>
                </c:pt>
                <c:pt idx="1212">
                  <c:v>1.64102564102564</c:v>
                </c:pt>
                <c:pt idx="1213">
                  <c:v>1.63897763578275</c:v>
                </c:pt>
                <c:pt idx="1214">
                  <c:v>1.63694267515924</c:v>
                </c:pt>
                <c:pt idx="1215">
                  <c:v>1.63492063492063</c:v>
                </c:pt>
                <c:pt idx="1216">
                  <c:v>1.63291139240506</c:v>
                </c:pt>
                <c:pt idx="1217">
                  <c:v>1.63091482649842</c:v>
                </c:pt>
                <c:pt idx="1218">
                  <c:v>1.62893081761006</c:v>
                </c:pt>
                <c:pt idx="1219">
                  <c:v>1.6269592476489</c:v>
                </c:pt>
                <c:pt idx="1220">
                  <c:v>1.625</c:v>
                </c:pt>
                <c:pt idx="1221">
                  <c:v>1.62305295950156</c:v>
                </c:pt>
                <c:pt idx="1222">
                  <c:v>1.62111801242236</c:v>
                </c:pt>
                <c:pt idx="1223">
                  <c:v>1.61919504643963</c:v>
                </c:pt>
                <c:pt idx="1224">
                  <c:v>1.61728395061728</c:v>
                </c:pt>
                <c:pt idx="1225">
                  <c:v>1.61538461538462</c:v>
                </c:pt>
                <c:pt idx="1226">
                  <c:v>1.61349693251534</c:v>
                </c:pt>
                <c:pt idx="1227">
                  <c:v>1.61162079510703</c:v>
                </c:pt>
                <c:pt idx="1228">
                  <c:v>1.60975609756098</c:v>
                </c:pt>
                <c:pt idx="1229">
                  <c:v>1.60790273556231</c:v>
                </c:pt>
                <c:pt idx="1230">
                  <c:v>1.60606060606061</c:v>
                </c:pt>
                <c:pt idx="1231">
                  <c:v>1.60422960725076</c:v>
                </c:pt>
                <c:pt idx="1232">
                  <c:v>1.60240963855422</c:v>
                </c:pt>
                <c:pt idx="1233">
                  <c:v>1.6006006006006</c:v>
                </c:pt>
                <c:pt idx="1234">
                  <c:v>1.59880239520958</c:v>
                </c:pt>
                <c:pt idx="1235">
                  <c:v>1.59701492537313</c:v>
                </c:pt>
                <c:pt idx="1236">
                  <c:v>1.5952380952381</c:v>
                </c:pt>
                <c:pt idx="1237">
                  <c:v>1.59347181008902</c:v>
                </c:pt>
                <c:pt idx="1238">
                  <c:v>1.59171597633136</c:v>
                </c:pt>
                <c:pt idx="1239">
                  <c:v>1.58997050147493</c:v>
                </c:pt>
                <c:pt idx="1240">
                  <c:v>1.58823529411765</c:v>
                </c:pt>
                <c:pt idx="1241">
                  <c:v>1.58651026392962</c:v>
                </c:pt>
                <c:pt idx="1242">
                  <c:v>1.58479532163743</c:v>
                </c:pt>
                <c:pt idx="1243">
                  <c:v>1.58309037900875</c:v>
                </c:pt>
                <c:pt idx="1244">
                  <c:v>1.58139534883721</c:v>
                </c:pt>
                <c:pt idx="1245">
                  <c:v>1.57971014492754</c:v>
                </c:pt>
                <c:pt idx="1246">
                  <c:v>1.57803468208092</c:v>
                </c:pt>
                <c:pt idx="1247">
                  <c:v>1.57636887608069</c:v>
                </c:pt>
                <c:pt idx="1248">
                  <c:v>1.57471264367816</c:v>
                </c:pt>
                <c:pt idx="1249">
                  <c:v>1.5730659025788</c:v>
                </c:pt>
                <c:pt idx="1250">
                  <c:v>1.57142857142857</c:v>
                </c:pt>
                <c:pt idx="1251">
                  <c:v>1.56980056980057</c:v>
                </c:pt>
                <c:pt idx="1252">
                  <c:v>1.56818181818182</c:v>
                </c:pt>
                <c:pt idx="1253">
                  <c:v>1.56657223796034</c:v>
                </c:pt>
                <c:pt idx="1254">
                  <c:v>1.56497175141243</c:v>
                </c:pt>
                <c:pt idx="1255">
                  <c:v>1.56338028169014</c:v>
                </c:pt>
                <c:pt idx="1256">
                  <c:v>1.56179775280899</c:v>
                </c:pt>
                <c:pt idx="1257">
                  <c:v>1.56022408963585</c:v>
                </c:pt>
                <c:pt idx="1258">
                  <c:v>1.5586592178771</c:v>
                </c:pt>
                <c:pt idx="1259">
                  <c:v>1.55710306406685</c:v>
                </c:pt>
                <c:pt idx="1260">
                  <c:v>1.55555555555556</c:v>
                </c:pt>
                <c:pt idx="1261">
                  <c:v>1.55401662049862</c:v>
                </c:pt>
                <c:pt idx="1262">
                  <c:v>1.5524861878453</c:v>
                </c:pt>
                <c:pt idx="1263">
                  <c:v>1.55096418732782</c:v>
                </c:pt>
                <c:pt idx="1264">
                  <c:v>1.54945054945055</c:v>
                </c:pt>
                <c:pt idx="1265">
                  <c:v>1.54794520547945</c:v>
                </c:pt>
                <c:pt idx="1266">
                  <c:v>1.54644808743169</c:v>
                </c:pt>
                <c:pt idx="1267">
                  <c:v>1.5449591280654</c:v>
                </c:pt>
                <c:pt idx="1268">
                  <c:v>1.54347826086957</c:v>
                </c:pt>
                <c:pt idx="1269">
                  <c:v>1.5420054200542</c:v>
                </c:pt>
                <c:pt idx="1270">
                  <c:v>1.54054054054054</c:v>
                </c:pt>
                <c:pt idx="1271">
                  <c:v>1.53908355795148</c:v>
                </c:pt>
                <c:pt idx="1272">
                  <c:v>1.53763440860215</c:v>
                </c:pt>
                <c:pt idx="1273">
                  <c:v>1.53619302949062</c:v>
                </c:pt>
                <c:pt idx="1274">
                  <c:v>1.53475935828877</c:v>
                </c:pt>
                <c:pt idx="1275">
                  <c:v>1.53333333333333</c:v>
                </c:pt>
                <c:pt idx="1276">
                  <c:v>1.53191489361702</c:v>
                </c:pt>
                <c:pt idx="1277">
                  <c:v>1.53050397877984</c:v>
                </c:pt>
                <c:pt idx="1278">
                  <c:v>1.52910052910053</c:v>
                </c:pt>
                <c:pt idx="1279">
                  <c:v>1.52770448548813</c:v>
                </c:pt>
                <c:pt idx="1280">
                  <c:v>1.52631578947368</c:v>
                </c:pt>
                <c:pt idx="1281">
                  <c:v>1.5249343832021</c:v>
                </c:pt>
                <c:pt idx="1282">
                  <c:v>1.52356020942408</c:v>
                </c:pt>
                <c:pt idx="1283">
                  <c:v>1.52219321148825</c:v>
                </c:pt>
                <c:pt idx="1284">
                  <c:v>1.52083333333333</c:v>
                </c:pt>
                <c:pt idx="1285">
                  <c:v>1.51948051948052</c:v>
                </c:pt>
                <c:pt idx="1286">
                  <c:v>1.51813471502591</c:v>
                </c:pt>
                <c:pt idx="1287">
                  <c:v>1.51679586563308</c:v>
                </c:pt>
                <c:pt idx="1288">
                  <c:v>1.51546391752577</c:v>
                </c:pt>
                <c:pt idx="1289">
                  <c:v>1.51413881748072</c:v>
                </c:pt>
                <c:pt idx="1290">
                  <c:v>1.51282051282051</c:v>
                </c:pt>
                <c:pt idx="1291">
                  <c:v>1.51150895140665</c:v>
                </c:pt>
                <c:pt idx="1292">
                  <c:v>1.51020408163265</c:v>
                </c:pt>
                <c:pt idx="1293">
                  <c:v>1.5089058524173</c:v>
                </c:pt>
                <c:pt idx="1294">
                  <c:v>1.50761421319797</c:v>
                </c:pt>
                <c:pt idx="1295">
                  <c:v>1.50632911392405</c:v>
                </c:pt>
                <c:pt idx="1296">
                  <c:v>1.50505050505051</c:v>
                </c:pt>
                <c:pt idx="1297">
                  <c:v>1.50377833753149</c:v>
                </c:pt>
                <c:pt idx="1298">
                  <c:v>1.50251256281407</c:v>
                </c:pt>
                <c:pt idx="1299">
                  <c:v>1.50125313283208</c:v>
                </c:pt>
                <c:pt idx="1300">
                  <c:v>1.5</c:v>
                </c:pt>
                <c:pt idx="1301">
                  <c:v>1.49875311720698</c:v>
                </c:pt>
                <c:pt idx="1302">
                  <c:v>1.49751243781095</c:v>
                </c:pt>
                <c:pt idx="1303">
                  <c:v>1.49627791563275</c:v>
                </c:pt>
                <c:pt idx="1304">
                  <c:v>1.4950495049505</c:v>
                </c:pt>
                <c:pt idx="1305">
                  <c:v>1.49382716049383</c:v>
                </c:pt>
                <c:pt idx="1306">
                  <c:v>1.49261083743842</c:v>
                </c:pt>
                <c:pt idx="1307">
                  <c:v>1.49140049140049</c:v>
                </c:pt>
                <c:pt idx="1308">
                  <c:v>1.49019607843137</c:v>
                </c:pt>
                <c:pt idx="1309">
                  <c:v>1.48899755501223</c:v>
                </c:pt>
                <c:pt idx="1310">
                  <c:v>1.48780487804878</c:v>
                </c:pt>
                <c:pt idx="1311">
                  <c:v>1.48661800486618</c:v>
                </c:pt>
                <c:pt idx="1312">
                  <c:v>1.48543689320388</c:v>
                </c:pt>
                <c:pt idx="1313">
                  <c:v>1.48426150121065</c:v>
                </c:pt>
                <c:pt idx="1314">
                  <c:v>1.48309178743961</c:v>
                </c:pt>
                <c:pt idx="1315">
                  <c:v>1.48192771084337</c:v>
                </c:pt>
                <c:pt idx="1316">
                  <c:v>1.48076923076923</c:v>
                </c:pt>
                <c:pt idx="1317">
                  <c:v>1.47961630695444</c:v>
                </c:pt>
                <c:pt idx="1318">
                  <c:v>1.47846889952153</c:v>
                </c:pt>
                <c:pt idx="1319">
                  <c:v>1.47732696897375</c:v>
                </c:pt>
                <c:pt idx="1320">
                  <c:v>1.47619047619048</c:v>
                </c:pt>
                <c:pt idx="1321">
                  <c:v>1.4750593824228</c:v>
                </c:pt>
                <c:pt idx="1322">
                  <c:v>1.4739336492891</c:v>
                </c:pt>
                <c:pt idx="1323">
                  <c:v>1.47281323877069</c:v>
                </c:pt>
                <c:pt idx="1324">
                  <c:v>1.47169811320755</c:v>
                </c:pt>
                <c:pt idx="1325">
                  <c:v>1.47058823529412</c:v>
                </c:pt>
                <c:pt idx="1326">
                  <c:v>1.46948356807512</c:v>
                </c:pt>
                <c:pt idx="1327">
                  <c:v>1.46838407494145</c:v>
                </c:pt>
                <c:pt idx="1328">
                  <c:v>1.46728971962617</c:v>
                </c:pt>
                <c:pt idx="1329">
                  <c:v>1.46620046620047</c:v>
                </c:pt>
                <c:pt idx="1330">
                  <c:v>1.46511627906977</c:v>
                </c:pt>
                <c:pt idx="1331">
                  <c:v>1.46403712296984</c:v>
                </c:pt>
                <c:pt idx="1332">
                  <c:v>1.46296296296296</c:v>
                </c:pt>
                <c:pt idx="1333">
                  <c:v>1.46189376443418</c:v>
                </c:pt>
                <c:pt idx="1334">
                  <c:v>1.46082949308756</c:v>
                </c:pt>
                <c:pt idx="1335">
                  <c:v>1.45977011494253</c:v>
                </c:pt>
                <c:pt idx="1336">
                  <c:v>1.45871559633028</c:v>
                </c:pt>
                <c:pt idx="1337">
                  <c:v>1.45766590389016</c:v>
                </c:pt>
                <c:pt idx="1338">
                  <c:v>1.45662100456621</c:v>
                </c:pt>
                <c:pt idx="1339">
                  <c:v>1.45558086560364</c:v>
                </c:pt>
                <c:pt idx="1340">
                  <c:v>1.45454545454545</c:v>
                </c:pt>
                <c:pt idx="1341">
                  <c:v>1.45351473922902</c:v>
                </c:pt>
                <c:pt idx="1342">
                  <c:v>1.45248868778281</c:v>
                </c:pt>
                <c:pt idx="1343">
                  <c:v>1.45146726862302</c:v>
                </c:pt>
                <c:pt idx="1344">
                  <c:v>1.45045045045045</c:v>
                </c:pt>
                <c:pt idx="1345">
                  <c:v>1.44943820224719</c:v>
                </c:pt>
                <c:pt idx="1346">
                  <c:v>1.44843049327354</c:v>
                </c:pt>
                <c:pt idx="1347">
                  <c:v>1.44742729306488</c:v>
                </c:pt>
                <c:pt idx="1348">
                  <c:v>1.44642857142857</c:v>
                </c:pt>
                <c:pt idx="1349">
                  <c:v>1.44543429844098</c:v>
                </c:pt>
                <c:pt idx="1350">
                  <c:v>1.44444444444444</c:v>
                </c:pt>
                <c:pt idx="1351">
                  <c:v>1.44345898004435</c:v>
                </c:pt>
                <c:pt idx="1352">
                  <c:v>1.44247787610619</c:v>
                </c:pt>
                <c:pt idx="1353">
                  <c:v>1.44150110375276</c:v>
                </c:pt>
                <c:pt idx="1354">
                  <c:v>1.44052863436123</c:v>
                </c:pt>
                <c:pt idx="1355">
                  <c:v>1.43956043956044</c:v>
                </c:pt>
                <c:pt idx="1356">
                  <c:v>1.43859649122807</c:v>
                </c:pt>
                <c:pt idx="1357">
                  <c:v>1.43763676148797</c:v>
                </c:pt>
                <c:pt idx="1358">
                  <c:v>1.43668122270742</c:v>
                </c:pt>
                <c:pt idx="1359">
                  <c:v>1.43572984749455</c:v>
                </c:pt>
                <c:pt idx="1360">
                  <c:v>1.43478260869565</c:v>
                </c:pt>
                <c:pt idx="1361">
                  <c:v>1.43383947939262</c:v>
                </c:pt>
                <c:pt idx="1362">
                  <c:v>1.43290043290043</c:v>
                </c:pt>
                <c:pt idx="1363">
                  <c:v>1.43196544276458</c:v>
                </c:pt>
                <c:pt idx="1364">
                  <c:v>1.43103448275862</c:v>
                </c:pt>
                <c:pt idx="1365">
                  <c:v>1.43010752688172</c:v>
                </c:pt>
                <c:pt idx="1366">
                  <c:v>1.42918454935622</c:v>
                </c:pt>
                <c:pt idx="1367">
                  <c:v>1.42826552462527</c:v>
                </c:pt>
                <c:pt idx="1368">
                  <c:v>1.42735042735043</c:v>
                </c:pt>
                <c:pt idx="1369">
                  <c:v>1.42643923240938</c:v>
                </c:pt>
                <c:pt idx="1370">
                  <c:v>1.42553191489362</c:v>
                </c:pt>
                <c:pt idx="1371">
                  <c:v>1.42462845010616</c:v>
                </c:pt>
                <c:pt idx="1372">
                  <c:v>1.42372881355932</c:v>
                </c:pt>
                <c:pt idx="1373">
                  <c:v>1.42283298097252</c:v>
                </c:pt>
                <c:pt idx="1374">
                  <c:v>1.42194092827004</c:v>
                </c:pt>
                <c:pt idx="1375">
                  <c:v>1.42105263157895</c:v>
                </c:pt>
                <c:pt idx="1376">
                  <c:v>1.42016806722689</c:v>
                </c:pt>
                <c:pt idx="1377">
                  <c:v>1.41928721174004</c:v>
                </c:pt>
                <c:pt idx="1378">
                  <c:v>1.418410041841</c:v>
                </c:pt>
                <c:pt idx="1379">
                  <c:v>1.41753653444676</c:v>
                </c:pt>
                <c:pt idx="1380">
                  <c:v>1.41666666666667</c:v>
                </c:pt>
                <c:pt idx="1381">
                  <c:v>1.41580041580042</c:v>
                </c:pt>
                <c:pt idx="1382">
                  <c:v>1.4149377593361</c:v>
                </c:pt>
                <c:pt idx="1383">
                  <c:v>1.41407867494824</c:v>
                </c:pt>
                <c:pt idx="1384">
                  <c:v>1.41322314049587</c:v>
                </c:pt>
                <c:pt idx="1385">
                  <c:v>1.41237113402062</c:v>
                </c:pt>
                <c:pt idx="1386">
                  <c:v>1.41152263374486</c:v>
                </c:pt>
                <c:pt idx="1387">
                  <c:v>1.41067761806982</c:v>
                </c:pt>
                <c:pt idx="1388">
                  <c:v>1.40983606557377</c:v>
                </c:pt>
                <c:pt idx="1389">
                  <c:v>1.40899795501023</c:v>
                </c:pt>
                <c:pt idx="1390">
                  <c:v>1.40816326530612</c:v>
                </c:pt>
                <c:pt idx="1391">
                  <c:v>1.40733197556008</c:v>
                </c:pt>
                <c:pt idx="1392">
                  <c:v>1.40650406504065</c:v>
                </c:pt>
                <c:pt idx="1393">
                  <c:v>1.40567951318458</c:v>
                </c:pt>
                <c:pt idx="1394">
                  <c:v>1.40485829959514</c:v>
                </c:pt>
                <c:pt idx="1395">
                  <c:v>1.4040404040404</c:v>
                </c:pt>
                <c:pt idx="1396">
                  <c:v>1.40322580645161</c:v>
                </c:pt>
                <c:pt idx="1397">
                  <c:v>1.40241448692153</c:v>
                </c:pt>
                <c:pt idx="1398">
                  <c:v>1.40160642570281</c:v>
                </c:pt>
                <c:pt idx="1399">
                  <c:v>1.40080160320641</c:v>
                </c:pt>
                <c:pt idx="1400">
                  <c:v>1.4</c:v>
                </c:pt>
                <c:pt idx="1401">
                  <c:v>1.39920159680639</c:v>
                </c:pt>
                <c:pt idx="1402">
                  <c:v>1.39840637450199</c:v>
                </c:pt>
                <c:pt idx="1403">
                  <c:v>1.39761431411531</c:v>
                </c:pt>
                <c:pt idx="1404">
                  <c:v>1.3968253968254</c:v>
                </c:pt>
                <c:pt idx="1405">
                  <c:v>1.3960396039604</c:v>
                </c:pt>
                <c:pt idx="1406">
                  <c:v>1.39525691699605</c:v>
                </c:pt>
                <c:pt idx="1407">
                  <c:v>1.39447731755424</c:v>
                </c:pt>
                <c:pt idx="1408">
                  <c:v>1.39370078740157</c:v>
                </c:pt>
                <c:pt idx="1409">
                  <c:v>1.39292730844794</c:v>
                </c:pt>
                <c:pt idx="1410">
                  <c:v>1.3921568627451</c:v>
                </c:pt>
                <c:pt idx="1411">
                  <c:v>1.39138943248532</c:v>
                </c:pt>
                <c:pt idx="1412">
                  <c:v>1.390625</c:v>
                </c:pt>
                <c:pt idx="1413">
                  <c:v>1.38986354775828</c:v>
                </c:pt>
                <c:pt idx="1414">
                  <c:v>1.38910505836576</c:v>
                </c:pt>
                <c:pt idx="1415">
                  <c:v>1.38834951456311</c:v>
                </c:pt>
                <c:pt idx="1416">
                  <c:v>1.38759689922481</c:v>
                </c:pt>
                <c:pt idx="1417">
                  <c:v>1.38684719535783</c:v>
                </c:pt>
                <c:pt idx="1418">
                  <c:v>1.38610038610039</c:v>
                </c:pt>
                <c:pt idx="1419">
                  <c:v>1.38535645472062</c:v>
                </c:pt>
                <c:pt idx="1420">
                  <c:v>1.38461538461538</c:v>
                </c:pt>
                <c:pt idx="1421">
                  <c:v>1.38387715930902</c:v>
                </c:pt>
                <c:pt idx="1422">
                  <c:v>1.38314176245211</c:v>
                </c:pt>
                <c:pt idx="1423">
                  <c:v>1.38240917782027</c:v>
                </c:pt>
                <c:pt idx="1424">
                  <c:v>1.38167938931298</c:v>
                </c:pt>
                <c:pt idx="1425">
                  <c:v>1.38095238095238</c:v>
                </c:pt>
                <c:pt idx="1426">
                  <c:v>1.38022813688213</c:v>
                </c:pt>
                <c:pt idx="1427">
                  <c:v>1.37950664136622</c:v>
                </c:pt>
                <c:pt idx="1428">
                  <c:v>1.37878787878788</c:v>
                </c:pt>
                <c:pt idx="1429">
                  <c:v>1.37807183364839</c:v>
                </c:pt>
                <c:pt idx="1430">
                  <c:v>1.37735849056604</c:v>
                </c:pt>
                <c:pt idx="1431">
                  <c:v>1.37664783427495</c:v>
                </c:pt>
                <c:pt idx="1432">
                  <c:v>1.37593984962406</c:v>
                </c:pt>
                <c:pt idx="1433">
                  <c:v>1.37523452157599</c:v>
                </c:pt>
                <c:pt idx="1434">
                  <c:v>1.37453183520599</c:v>
                </c:pt>
                <c:pt idx="1435">
                  <c:v>1.37383177570093</c:v>
                </c:pt>
                <c:pt idx="1436">
                  <c:v>1.37313432835821</c:v>
                </c:pt>
                <c:pt idx="1437">
                  <c:v>1.37243947858473</c:v>
                </c:pt>
                <c:pt idx="1438">
                  <c:v>1.37174721189591</c:v>
                </c:pt>
                <c:pt idx="1439">
                  <c:v>1.37105751391466</c:v>
                </c:pt>
                <c:pt idx="1440">
                  <c:v>1.37037037037037</c:v>
                </c:pt>
                <c:pt idx="1441">
                  <c:v>1.36968576709797</c:v>
                </c:pt>
                <c:pt idx="1442">
                  <c:v>1.3690036900369</c:v>
                </c:pt>
                <c:pt idx="1443">
                  <c:v>1.3683241252302</c:v>
                </c:pt>
                <c:pt idx="1444">
                  <c:v>1.36764705882353</c:v>
                </c:pt>
                <c:pt idx="1445">
                  <c:v>1.36697247706422</c:v>
                </c:pt>
                <c:pt idx="1446">
                  <c:v>1.36630036630037</c:v>
                </c:pt>
                <c:pt idx="1447">
                  <c:v>1.36563071297989</c:v>
                </c:pt>
                <c:pt idx="1448">
                  <c:v>1.36496350364964</c:v>
                </c:pt>
                <c:pt idx="1449">
                  <c:v>1.36429872495446</c:v>
                </c:pt>
                <c:pt idx="1450">
                  <c:v>1.36363636363636</c:v>
                </c:pt>
                <c:pt idx="1451">
                  <c:v>1.36297640653358</c:v>
                </c:pt>
                <c:pt idx="1452">
                  <c:v>1.36231884057971</c:v>
                </c:pt>
                <c:pt idx="1453">
                  <c:v>1.36166365280289</c:v>
                </c:pt>
                <c:pt idx="1454">
                  <c:v>1.36101083032491</c:v>
                </c:pt>
                <c:pt idx="1455">
                  <c:v>1.36036036036036</c:v>
                </c:pt>
                <c:pt idx="1456">
                  <c:v>1.35971223021583</c:v>
                </c:pt>
                <c:pt idx="1457">
                  <c:v>1.35906642728905</c:v>
                </c:pt>
                <c:pt idx="1458">
                  <c:v>1.3584229390681</c:v>
                </c:pt>
                <c:pt idx="1459">
                  <c:v>1.35778175313059</c:v>
                </c:pt>
                <c:pt idx="1460">
                  <c:v>1.35714285714286</c:v>
                </c:pt>
                <c:pt idx="1461">
                  <c:v>1.35650623885918</c:v>
                </c:pt>
                <c:pt idx="1462">
                  <c:v>1.355871886121</c:v>
                </c:pt>
                <c:pt idx="1463">
                  <c:v>1.35523978685613</c:v>
                </c:pt>
                <c:pt idx="1464">
                  <c:v>1.35460992907801</c:v>
                </c:pt>
                <c:pt idx="1465">
                  <c:v>1.35398230088496</c:v>
                </c:pt>
                <c:pt idx="1466">
                  <c:v>1.35335689045936</c:v>
                </c:pt>
                <c:pt idx="1467">
                  <c:v>1.35273368606702</c:v>
                </c:pt>
                <c:pt idx="1468">
                  <c:v>1.35211267605634</c:v>
                </c:pt>
                <c:pt idx="1469">
                  <c:v>1.35149384885765</c:v>
                </c:pt>
                <c:pt idx="1470">
                  <c:v>1.35087719298246</c:v>
                </c:pt>
                <c:pt idx="1471">
                  <c:v>1.35026269702277</c:v>
                </c:pt>
                <c:pt idx="1472">
                  <c:v>1.34965034965035</c:v>
                </c:pt>
                <c:pt idx="1473">
                  <c:v>1.34904013961606</c:v>
                </c:pt>
                <c:pt idx="1474">
                  <c:v>1.34843205574913</c:v>
                </c:pt>
                <c:pt idx="1475">
                  <c:v>1.34782608695652</c:v>
                </c:pt>
                <c:pt idx="1476">
                  <c:v>1.34722222222222</c:v>
                </c:pt>
                <c:pt idx="1477">
                  <c:v>1.34662045060659</c:v>
                </c:pt>
                <c:pt idx="1478">
                  <c:v>1.34602076124567</c:v>
                </c:pt>
                <c:pt idx="1479">
                  <c:v>1.3454231433506</c:v>
                </c:pt>
                <c:pt idx="1480">
                  <c:v>1.3448275862069</c:v>
                </c:pt>
                <c:pt idx="1481">
                  <c:v>1.34423407917384</c:v>
                </c:pt>
                <c:pt idx="1482">
                  <c:v>1.34364261168385</c:v>
                </c:pt>
                <c:pt idx="1483">
                  <c:v>1.34305317324185</c:v>
                </c:pt>
                <c:pt idx="1484">
                  <c:v>1.34246575342466</c:v>
                </c:pt>
                <c:pt idx="1485">
                  <c:v>1.34188034188034</c:v>
                </c:pt>
                <c:pt idx="1486">
                  <c:v>1.34129692832765</c:v>
                </c:pt>
                <c:pt idx="1487">
                  <c:v>1.34071550255537</c:v>
                </c:pt>
                <c:pt idx="1488">
                  <c:v>1.34013605442177</c:v>
                </c:pt>
                <c:pt idx="1489">
                  <c:v>1.33955857385399</c:v>
                </c:pt>
                <c:pt idx="1490">
                  <c:v>1.33898305084746</c:v>
                </c:pt>
                <c:pt idx="1491">
                  <c:v>1.33840947546531</c:v>
                </c:pt>
                <c:pt idx="1492">
                  <c:v>1.33783783783784</c:v>
                </c:pt>
                <c:pt idx="1493">
                  <c:v>1.33726812816189</c:v>
                </c:pt>
                <c:pt idx="1494">
                  <c:v>1.33670033670034</c:v>
                </c:pt>
                <c:pt idx="1495">
                  <c:v>1.33613445378151</c:v>
                </c:pt>
                <c:pt idx="1496">
                  <c:v>1.33557046979866</c:v>
                </c:pt>
                <c:pt idx="1497">
                  <c:v>1.33500837520938</c:v>
                </c:pt>
                <c:pt idx="1498">
                  <c:v>1.33444816053512</c:v>
                </c:pt>
                <c:pt idx="1499">
                  <c:v>1.3338898163606</c:v>
                </c:pt>
                <c:pt idx="1500">
                  <c:v>1.33333333333333</c:v>
                </c:pt>
                <c:pt idx="1501">
                  <c:v>1.33277870216306</c:v>
                </c:pt>
                <c:pt idx="1502">
                  <c:v>1.33222591362126</c:v>
                </c:pt>
                <c:pt idx="1503">
                  <c:v>1.33167495854063</c:v>
                </c:pt>
                <c:pt idx="1504">
                  <c:v>1.33112582781457</c:v>
                </c:pt>
                <c:pt idx="1505">
                  <c:v>1.33057851239669</c:v>
                </c:pt>
                <c:pt idx="1506">
                  <c:v>1.33003300330033</c:v>
                </c:pt>
                <c:pt idx="1507">
                  <c:v>1.32948929159802</c:v>
                </c:pt>
                <c:pt idx="1508">
                  <c:v>1.32894736842105</c:v>
                </c:pt>
                <c:pt idx="1509">
                  <c:v>1.32840722495895</c:v>
                </c:pt>
                <c:pt idx="1510">
                  <c:v>1.32786885245902</c:v>
                </c:pt>
                <c:pt idx="1511">
                  <c:v>1.32733224222586</c:v>
                </c:pt>
                <c:pt idx="1512">
                  <c:v>1.32679738562092</c:v>
                </c:pt>
                <c:pt idx="1513">
                  <c:v>1.32626427406199</c:v>
                </c:pt>
                <c:pt idx="1514">
                  <c:v>1.3257328990228</c:v>
                </c:pt>
                <c:pt idx="1515">
                  <c:v>1.32520325203252</c:v>
                </c:pt>
                <c:pt idx="1516">
                  <c:v>1.32467532467532</c:v>
                </c:pt>
                <c:pt idx="1517">
                  <c:v>1.32414910858995</c:v>
                </c:pt>
                <c:pt idx="1518">
                  <c:v>1.32362459546926</c:v>
                </c:pt>
                <c:pt idx="1519">
                  <c:v>1.32310177705977</c:v>
                </c:pt>
                <c:pt idx="1520">
                  <c:v>1.32258064516129</c:v>
                </c:pt>
                <c:pt idx="1521">
                  <c:v>1.32206119162641</c:v>
                </c:pt>
                <c:pt idx="1522">
                  <c:v>1.32154340836013</c:v>
                </c:pt>
                <c:pt idx="1523">
                  <c:v>1.32102728731942</c:v>
                </c:pt>
                <c:pt idx="1524">
                  <c:v>1.32051282051282</c:v>
                </c:pt>
                <c:pt idx="1525">
                  <c:v>1.32</c:v>
                </c:pt>
                <c:pt idx="1526">
                  <c:v>1.31948881789137</c:v>
                </c:pt>
                <c:pt idx="1527">
                  <c:v>1.31897926634769</c:v>
                </c:pt>
                <c:pt idx="1528">
                  <c:v>1.31847133757962</c:v>
                </c:pt>
                <c:pt idx="1529">
                  <c:v>1.31796502384738</c:v>
                </c:pt>
                <c:pt idx="1530">
                  <c:v>1.31746031746032</c:v>
                </c:pt>
                <c:pt idx="1531">
                  <c:v>1.31695721077655</c:v>
                </c:pt>
                <c:pt idx="1532">
                  <c:v>1.31645569620253</c:v>
                </c:pt>
                <c:pt idx="1533">
                  <c:v>1.31595576619273</c:v>
                </c:pt>
                <c:pt idx="1534">
                  <c:v>1.31545741324921</c:v>
                </c:pt>
                <c:pt idx="1535">
                  <c:v>1.31496062992126</c:v>
                </c:pt>
                <c:pt idx="1536">
                  <c:v>1.31446540880503</c:v>
                </c:pt>
                <c:pt idx="1537">
                  <c:v>1.31397174254317</c:v>
                </c:pt>
                <c:pt idx="1538">
                  <c:v>1.31347962382445</c:v>
                </c:pt>
                <c:pt idx="1539">
                  <c:v>1.31298904538341</c:v>
                </c:pt>
                <c:pt idx="1540">
                  <c:v>1.3125</c:v>
                </c:pt>
                <c:pt idx="1541">
                  <c:v>1.31201248049922</c:v>
                </c:pt>
                <c:pt idx="1542">
                  <c:v>1.31152647975078</c:v>
                </c:pt>
                <c:pt idx="1543">
                  <c:v>1.31104199066874</c:v>
                </c:pt>
                <c:pt idx="1544">
                  <c:v>1.31055900621118</c:v>
                </c:pt>
                <c:pt idx="1545">
                  <c:v>1.31007751937984</c:v>
                </c:pt>
                <c:pt idx="1546">
                  <c:v>1.30959752321981</c:v>
                </c:pt>
                <c:pt idx="1547">
                  <c:v>1.30911901081917</c:v>
                </c:pt>
                <c:pt idx="1548">
                  <c:v>1.30864197530864</c:v>
                </c:pt>
                <c:pt idx="1549">
                  <c:v>1.30816640986133</c:v>
                </c:pt>
                <c:pt idx="1550">
                  <c:v>1.30769230769231</c:v>
                </c:pt>
                <c:pt idx="1551">
                  <c:v>1.30721966205837</c:v>
                </c:pt>
                <c:pt idx="1552">
                  <c:v>1.30674846625767</c:v>
                </c:pt>
                <c:pt idx="1553">
                  <c:v>1.3062787136294</c:v>
                </c:pt>
                <c:pt idx="1554">
                  <c:v>1.30581039755352</c:v>
                </c:pt>
                <c:pt idx="1555">
                  <c:v>1.30534351145038</c:v>
                </c:pt>
                <c:pt idx="1556">
                  <c:v>1.30487804878049</c:v>
                </c:pt>
                <c:pt idx="1557">
                  <c:v>1.30441400304414</c:v>
                </c:pt>
                <c:pt idx="1558">
                  <c:v>1.30395136778116</c:v>
                </c:pt>
                <c:pt idx="1559">
                  <c:v>1.30349013657056</c:v>
                </c:pt>
                <c:pt idx="1560">
                  <c:v>1.3030303030303</c:v>
                </c:pt>
                <c:pt idx="1561">
                  <c:v>1.30257186081694</c:v>
                </c:pt>
                <c:pt idx="1562">
                  <c:v>1.30211480362538</c:v>
                </c:pt>
                <c:pt idx="1563">
                  <c:v>1.30165912518854</c:v>
                </c:pt>
                <c:pt idx="1564">
                  <c:v>1.30120481927711</c:v>
                </c:pt>
                <c:pt idx="1565">
                  <c:v>1.30075187969925</c:v>
                </c:pt>
                <c:pt idx="1566">
                  <c:v>1.3003003003003</c:v>
                </c:pt>
                <c:pt idx="1567">
                  <c:v>1.29985007496252</c:v>
                </c:pt>
                <c:pt idx="1568">
                  <c:v>1.29940119760479</c:v>
                </c:pt>
                <c:pt idx="1569">
                  <c:v>1.29895366218236</c:v>
                </c:pt>
                <c:pt idx="1570">
                  <c:v>1.29850746268657</c:v>
                </c:pt>
                <c:pt idx="1571">
                  <c:v>1.29806259314456</c:v>
                </c:pt>
                <c:pt idx="1572">
                  <c:v>1.29761904761905</c:v>
                </c:pt>
                <c:pt idx="1573">
                  <c:v>1.29717682020802</c:v>
                </c:pt>
                <c:pt idx="1574">
                  <c:v>1.29673590504451</c:v>
                </c:pt>
                <c:pt idx="1575">
                  <c:v>1.2962962962963</c:v>
                </c:pt>
                <c:pt idx="1576">
                  <c:v>1.29585798816568</c:v>
                </c:pt>
                <c:pt idx="1577">
                  <c:v>1.29542097488922</c:v>
                </c:pt>
                <c:pt idx="1578">
                  <c:v>1.29498525073746</c:v>
                </c:pt>
                <c:pt idx="1579">
                  <c:v>1.29455081001473</c:v>
                </c:pt>
                <c:pt idx="1580">
                  <c:v>1.29411764705882</c:v>
                </c:pt>
                <c:pt idx="1581">
                  <c:v>1.29368575624082</c:v>
                </c:pt>
                <c:pt idx="1582">
                  <c:v>1.29325513196481</c:v>
                </c:pt>
                <c:pt idx="1583">
                  <c:v>1.29282576866764</c:v>
                </c:pt>
                <c:pt idx="1584">
                  <c:v>1.29239766081871</c:v>
                </c:pt>
                <c:pt idx="1585">
                  <c:v>1.29197080291971</c:v>
                </c:pt>
                <c:pt idx="1586">
                  <c:v>1.29154518950437</c:v>
                </c:pt>
                <c:pt idx="1587">
                  <c:v>1.29112081513828</c:v>
                </c:pt>
                <c:pt idx="1588">
                  <c:v>1.2906976744186</c:v>
                </c:pt>
                <c:pt idx="1589">
                  <c:v>1.29027576197388</c:v>
                </c:pt>
                <c:pt idx="1590">
                  <c:v>1.28985507246377</c:v>
                </c:pt>
                <c:pt idx="1591">
                  <c:v>1.28943560057887</c:v>
                </c:pt>
                <c:pt idx="1592">
                  <c:v>1.28901734104046</c:v>
                </c:pt>
                <c:pt idx="1593">
                  <c:v>1.28860028860029</c:v>
                </c:pt>
                <c:pt idx="1594">
                  <c:v>1.28818443804035</c:v>
                </c:pt>
                <c:pt idx="1595">
                  <c:v>1.28776978417266</c:v>
                </c:pt>
                <c:pt idx="1596">
                  <c:v>1.28735632183908</c:v>
                </c:pt>
                <c:pt idx="1597">
                  <c:v>1.28694404591105</c:v>
                </c:pt>
                <c:pt idx="1598">
                  <c:v>1.2865329512894</c:v>
                </c:pt>
                <c:pt idx="1599">
                  <c:v>1.28612303290415</c:v>
                </c:pt>
                <c:pt idx="1600">
                  <c:v>1.28571428571429</c:v>
                </c:pt>
                <c:pt idx="1601">
                  <c:v>1.28530670470756</c:v>
                </c:pt>
                <c:pt idx="1602">
                  <c:v>1.28490028490028</c:v>
                </c:pt>
                <c:pt idx="1603">
                  <c:v>1.28449502133713</c:v>
                </c:pt>
                <c:pt idx="1604">
                  <c:v>1.28409090909091</c:v>
                </c:pt>
                <c:pt idx="1605">
                  <c:v>1.28368794326241</c:v>
                </c:pt>
                <c:pt idx="1606">
                  <c:v>1.28328611898017</c:v>
                </c:pt>
                <c:pt idx="1607">
                  <c:v>1.28288543140028</c:v>
                </c:pt>
                <c:pt idx="1608">
                  <c:v>1.28248587570621</c:v>
                </c:pt>
                <c:pt idx="1609">
                  <c:v>1.2820874471086</c:v>
                </c:pt>
                <c:pt idx="1610">
                  <c:v>1.28169014084507</c:v>
                </c:pt>
                <c:pt idx="1611">
                  <c:v>1.28129395218003</c:v>
                </c:pt>
                <c:pt idx="1612">
                  <c:v>1.28089887640449</c:v>
                </c:pt>
                <c:pt idx="1613">
                  <c:v>1.2805049088359</c:v>
                </c:pt>
                <c:pt idx="1614">
                  <c:v>1.28011204481793</c:v>
                </c:pt>
                <c:pt idx="1615">
                  <c:v>1.27972027972028</c:v>
                </c:pt>
                <c:pt idx="1616">
                  <c:v>1.27932960893855</c:v>
                </c:pt>
                <c:pt idx="1617">
                  <c:v>1.278940027894</c:v>
                </c:pt>
                <c:pt idx="1618">
                  <c:v>1.27855153203343</c:v>
                </c:pt>
                <c:pt idx="1619">
                  <c:v>1.27816411682893</c:v>
                </c:pt>
                <c:pt idx="1620">
                  <c:v>1.27777777777778</c:v>
                </c:pt>
                <c:pt idx="1621">
                  <c:v>1.27739251040222</c:v>
                </c:pt>
                <c:pt idx="1622">
                  <c:v>1.27700831024931</c:v>
                </c:pt>
                <c:pt idx="1623">
                  <c:v>1.27662517289073</c:v>
                </c:pt>
                <c:pt idx="1624">
                  <c:v>1.27624309392265</c:v>
                </c:pt>
                <c:pt idx="1625">
                  <c:v>1.27586206896552</c:v>
                </c:pt>
                <c:pt idx="1626">
                  <c:v>1.27548209366391</c:v>
                </c:pt>
                <c:pt idx="1627">
                  <c:v>1.27510316368638</c:v>
                </c:pt>
                <c:pt idx="1628">
                  <c:v>1.27472527472527</c:v>
                </c:pt>
                <c:pt idx="1629">
                  <c:v>1.27434842249657</c:v>
                </c:pt>
                <c:pt idx="1630">
                  <c:v>1.27397260273973</c:v>
                </c:pt>
                <c:pt idx="1631">
                  <c:v>1.27359781121751</c:v>
                </c:pt>
                <c:pt idx="1632">
                  <c:v>1.27322404371585</c:v>
                </c:pt>
                <c:pt idx="1633">
                  <c:v>1.27285129604366</c:v>
                </c:pt>
                <c:pt idx="1634">
                  <c:v>1.2724795640327</c:v>
                </c:pt>
                <c:pt idx="1635">
                  <c:v>1.27210884353741</c:v>
                </c:pt>
                <c:pt idx="1636">
                  <c:v>1.27173913043478</c:v>
                </c:pt>
                <c:pt idx="1637">
                  <c:v>1.27137042062415</c:v>
                </c:pt>
                <c:pt idx="1638">
                  <c:v>1.2710027100271</c:v>
                </c:pt>
                <c:pt idx="1639">
                  <c:v>1.27063599458728</c:v>
                </c:pt>
                <c:pt idx="1640">
                  <c:v>1.27027027027027</c:v>
                </c:pt>
                <c:pt idx="1641">
                  <c:v>1.26990553306343</c:v>
                </c:pt>
                <c:pt idx="1642">
                  <c:v>1.26954177897574</c:v>
                </c:pt>
                <c:pt idx="1643">
                  <c:v>1.26917900403769</c:v>
                </c:pt>
                <c:pt idx="1644">
                  <c:v>1.26881720430108</c:v>
                </c:pt>
                <c:pt idx="1645">
                  <c:v>1.26845637583893</c:v>
                </c:pt>
                <c:pt idx="1646">
                  <c:v>1.26809651474531</c:v>
                </c:pt>
                <c:pt idx="1647">
                  <c:v>1.26773761713521</c:v>
                </c:pt>
                <c:pt idx="1648">
                  <c:v>1.26737967914439</c:v>
                </c:pt>
                <c:pt idx="1649">
                  <c:v>1.26702269692924</c:v>
                </c:pt>
                <c:pt idx="1650">
                  <c:v>1.26666666666667</c:v>
                </c:pt>
                <c:pt idx="1651">
                  <c:v>1.26631158455393</c:v>
                </c:pt>
                <c:pt idx="1652">
                  <c:v>1.26595744680851</c:v>
                </c:pt>
                <c:pt idx="1653">
                  <c:v>1.26560424966799</c:v>
                </c:pt>
                <c:pt idx="1654">
                  <c:v>1.26525198938992</c:v>
                </c:pt>
                <c:pt idx="1655">
                  <c:v>1.26490066225166</c:v>
                </c:pt>
                <c:pt idx="1656">
                  <c:v>1.26455026455026</c:v>
                </c:pt>
                <c:pt idx="1657">
                  <c:v>1.26420079260238</c:v>
                </c:pt>
                <c:pt idx="1658">
                  <c:v>1.26385224274406</c:v>
                </c:pt>
                <c:pt idx="1659">
                  <c:v>1.2635046113307</c:v>
                </c:pt>
                <c:pt idx="1660">
                  <c:v>1.26315789473684</c:v>
                </c:pt>
                <c:pt idx="1661">
                  <c:v>1.26281208935611</c:v>
                </c:pt>
                <c:pt idx="1662">
                  <c:v>1.26246719160105</c:v>
                </c:pt>
                <c:pt idx="1663">
                  <c:v>1.26212319790301</c:v>
                </c:pt>
                <c:pt idx="1664">
                  <c:v>1.26178010471204</c:v>
                </c:pt>
                <c:pt idx="1665">
                  <c:v>1.26143790849673</c:v>
                </c:pt>
                <c:pt idx="1666">
                  <c:v>1.26109660574413</c:v>
                </c:pt>
                <c:pt idx="1667">
                  <c:v>1.26075619295958</c:v>
                </c:pt>
                <c:pt idx="1668">
                  <c:v>1.26041666666667</c:v>
                </c:pt>
                <c:pt idx="1669">
                  <c:v>1.26007802340702</c:v>
                </c:pt>
                <c:pt idx="1670">
                  <c:v>1.25974025974026</c:v>
                </c:pt>
                <c:pt idx="1671">
                  <c:v>1.25940337224384</c:v>
                </c:pt>
                <c:pt idx="1672">
                  <c:v>1.25906735751295</c:v>
                </c:pt>
                <c:pt idx="1673">
                  <c:v>1.25873221216041</c:v>
                </c:pt>
                <c:pt idx="1674">
                  <c:v>1.25839793281654</c:v>
                </c:pt>
                <c:pt idx="1675">
                  <c:v>1.25806451612903</c:v>
                </c:pt>
                <c:pt idx="1676">
                  <c:v>1.25773195876289</c:v>
                </c:pt>
                <c:pt idx="1677">
                  <c:v>1.25740025740026</c:v>
                </c:pt>
                <c:pt idx="1678">
                  <c:v>1.25706940874036</c:v>
                </c:pt>
                <c:pt idx="1679">
                  <c:v>1.25673940949936</c:v>
                </c:pt>
                <c:pt idx="1680">
                  <c:v>1.25641025641026</c:v>
                </c:pt>
                <c:pt idx="1681">
                  <c:v>1.25608194622279</c:v>
                </c:pt>
                <c:pt idx="1682">
                  <c:v>1.25575447570332</c:v>
                </c:pt>
                <c:pt idx="1683">
                  <c:v>1.25542784163474</c:v>
                </c:pt>
                <c:pt idx="1684">
                  <c:v>1.25510204081633</c:v>
                </c:pt>
                <c:pt idx="1685">
                  <c:v>1.25477707006369</c:v>
                </c:pt>
                <c:pt idx="1686">
                  <c:v>1.25445292620865</c:v>
                </c:pt>
                <c:pt idx="1687">
                  <c:v>1.25412960609911</c:v>
                </c:pt>
                <c:pt idx="1688">
                  <c:v>1.25380710659898</c:v>
                </c:pt>
                <c:pt idx="1689">
                  <c:v>1.25348542458809</c:v>
                </c:pt>
                <c:pt idx="1690">
                  <c:v>1.25316455696203</c:v>
                </c:pt>
                <c:pt idx="1691">
                  <c:v>1.25284450063211</c:v>
                </c:pt>
                <c:pt idx="1692">
                  <c:v>1.25252525252525</c:v>
                </c:pt>
                <c:pt idx="1693">
                  <c:v>1.25220680958386</c:v>
                </c:pt>
                <c:pt idx="1694">
                  <c:v>1.25188916876574</c:v>
                </c:pt>
                <c:pt idx="1695">
                  <c:v>1.25157232704403</c:v>
                </c:pt>
                <c:pt idx="1696">
                  <c:v>1.25125628140704</c:v>
                </c:pt>
                <c:pt idx="1697">
                  <c:v>1.25094102885822</c:v>
                </c:pt>
                <c:pt idx="1698">
                  <c:v>1.25062656641604</c:v>
                </c:pt>
                <c:pt idx="1699">
                  <c:v>1.25031289111389</c:v>
                </c:pt>
                <c:pt idx="1700">
                  <c:v>1.25</c:v>
                </c:pt>
                <c:pt idx="1701">
                  <c:v>1.24968789013733</c:v>
                </c:pt>
                <c:pt idx="1702">
                  <c:v>1.24937655860349</c:v>
                </c:pt>
                <c:pt idx="1703">
                  <c:v>1.24906600249066</c:v>
                </c:pt>
                <c:pt idx="1704">
                  <c:v>1.24875621890547</c:v>
                </c:pt>
                <c:pt idx="1705">
                  <c:v>1.24844720496894</c:v>
                </c:pt>
                <c:pt idx="1706">
                  <c:v>1.24813895781638</c:v>
                </c:pt>
                <c:pt idx="1707">
                  <c:v>1.24783147459727</c:v>
                </c:pt>
                <c:pt idx="1708">
                  <c:v>1.24752475247525</c:v>
                </c:pt>
                <c:pt idx="1709">
                  <c:v>1.24721878862794</c:v>
                </c:pt>
                <c:pt idx="1710">
                  <c:v>1.24691358024691</c:v>
                </c:pt>
                <c:pt idx="1711">
                  <c:v>1.24660912453761</c:v>
                </c:pt>
                <c:pt idx="1712">
                  <c:v>1.24630541871921</c:v>
                </c:pt>
                <c:pt idx="1713">
                  <c:v>1.2460024600246</c:v>
                </c:pt>
                <c:pt idx="1714">
                  <c:v>1.24570024570025</c:v>
                </c:pt>
                <c:pt idx="1715">
                  <c:v>1.24539877300613</c:v>
                </c:pt>
                <c:pt idx="1716">
                  <c:v>1.24509803921569</c:v>
                </c:pt>
                <c:pt idx="1717">
                  <c:v>1.24479804161567</c:v>
                </c:pt>
                <c:pt idx="1718">
                  <c:v>1.24449877750611</c:v>
                </c:pt>
                <c:pt idx="1719">
                  <c:v>1.24420024420024</c:v>
                </c:pt>
                <c:pt idx="1720">
                  <c:v>1.24390243902439</c:v>
                </c:pt>
                <c:pt idx="1721">
                  <c:v>1.24360535931791</c:v>
                </c:pt>
                <c:pt idx="1722">
                  <c:v>1.24330900243309</c:v>
                </c:pt>
                <c:pt idx="1723">
                  <c:v>1.24301336573512</c:v>
                </c:pt>
                <c:pt idx="1724">
                  <c:v>1.24271844660194</c:v>
                </c:pt>
                <c:pt idx="1725">
                  <c:v>1.24242424242424</c:v>
                </c:pt>
                <c:pt idx="1726">
                  <c:v>1.24213075060533</c:v>
                </c:pt>
                <c:pt idx="1727">
                  <c:v>1.24183796856106</c:v>
                </c:pt>
                <c:pt idx="1728">
                  <c:v>1.24154589371981</c:v>
                </c:pt>
                <c:pt idx="1729">
                  <c:v>1.24125452352232</c:v>
                </c:pt>
                <c:pt idx="1730">
                  <c:v>1.24096385542169</c:v>
                </c:pt>
                <c:pt idx="1731">
                  <c:v>1.24067388688327</c:v>
                </c:pt>
                <c:pt idx="1732">
                  <c:v>1.24038461538462</c:v>
                </c:pt>
                <c:pt idx="1733">
                  <c:v>1.24009603841537</c:v>
                </c:pt>
                <c:pt idx="1734">
                  <c:v>1.23980815347722</c:v>
                </c:pt>
                <c:pt idx="1735">
                  <c:v>1.23952095808383</c:v>
                </c:pt>
                <c:pt idx="1736">
                  <c:v>1.23923444976077</c:v>
                </c:pt>
                <c:pt idx="1737">
                  <c:v>1.2389486260454</c:v>
                </c:pt>
                <c:pt idx="1738">
                  <c:v>1.23866348448687</c:v>
                </c:pt>
                <c:pt idx="1739">
                  <c:v>1.23837902264601</c:v>
                </c:pt>
                <c:pt idx="1740">
                  <c:v>1.23809523809524</c:v>
                </c:pt>
                <c:pt idx="1741">
                  <c:v>1.23781212841855</c:v>
                </c:pt>
                <c:pt idx="1742">
                  <c:v>1.2375296912114</c:v>
                </c:pt>
                <c:pt idx="1743">
                  <c:v>1.23724792408066</c:v>
                </c:pt>
                <c:pt idx="1744">
                  <c:v>1.23696682464455</c:v>
                </c:pt>
                <c:pt idx="1745">
                  <c:v>1.23668639053254</c:v>
                </c:pt>
                <c:pt idx="1746">
                  <c:v>1.23640661938534</c:v>
                </c:pt>
                <c:pt idx="1747">
                  <c:v>1.23612750885478</c:v>
                </c:pt>
                <c:pt idx="1748">
                  <c:v>1.23584905660377</c:v>
                </c:pt>
                <c:pt idx="1749">
                  <c:v>1.23557126030624</c:v>
                </c:pt>
                <c:pt idx="1750">
                  <c:v>1.23529411764706</c:v>
                </c:pt>
                <c:pt idx="1751">
                  <c:v>1.23501762632197</c:v>
                </c:pt>
                <c:pt idx="1752">
                  <c:v>1.23474178403756</c:v>
                </c:pt>
                <c:pt idx="1753">
                  <c:v>1.23446658851114</c:v>
                </c:pt>
                <c:pt idx="1754">
                  <c:v>1.23419203747073</c:v>
                </c:pt>
                <c:pt idx="1755">
                  <c:v>1.23391812865497</c:v>
                </c:pt>
                <c:pt idx="1756">
                  <c:v>1.23364485981308</c:v>
                </c:pt>
                <c:pt idx="1757">
                  <c:v>1.23337222870478</c:v>
                </c:pt>
                <c:pt idx="1758">
                  <c:v>1.23310023310023</c:v>
                </c:pt>
                <c:pt idx="1759">
                  <c:v>1.23282887077998</c:v>
                </c:pt>
                <c:pt idx="1760">
                  <c:v>1.23255813953488</c:v>
                </c:pt>
                <c:pt idx="1761">
                  <c:v>1.23228803716609</c:v>
                </c:pt>
                <c:pt idx="1762">
                  <c:v>1.23201856148492</c:v>
                </c:pt>
                <c:pt idx="1763">
                  <c:v>1.23174971031286</c:v>
                </c:pt>
                <c:pt idx="1764">
                  <c:v>1.23148148148148</c:v>
                </c:pt>
                <c:pt idx="1765">
                  <c:v>1.23121387283237</c:v>
                </c:pt>
                <c:pt idx="1766">
                  <c:v>1.23094688221709</c:v>
                </c:pt>
                <c:pt idx="1767">
                  <c:v>1.23068050749712</c:v>
                </c:pt>
                <c:pt idx="1768">
                  <c:v>1.23041474654378</c:v>
                </c:pt>
                <c:pt idx="1769">
                  <c:v>1.2301495972382</c:v>
                </c:pt>
                <c:pt idx="1770">
                  <c:v>1.22988505747126</c:v>
                </c:pt>
                <c:pt idx="1771">
                  <c:v>1.22962112514351</c:v>
                </c:pt>
                <c:pt idx="1772">
                  <c:v>1.22935779816514</c:v>
                </c:pt>
                <c:pt idx="1773">
                  <c:v>1.2290950744559</c:v>
                </c:pt>
                <c:pt idx="1774">
                  <c:v>1.22883295194508</c:v>
                </c:pt>
                <c:pt idx="1775">
                  <c:v>1.22857142857143</c:v>
                </c:pt>
                <c:pt idx="1776">
                  <c:v>1.22831050228311</c:v>
                </c:pt>
                <c:pt idx="1777">
                  <c:v>1.22805017103763</c:v>
                </c:pt>
                <c:pt idx="1778">
                  <c:v>1.22779043280182</c:v>
                </c:pt>
                <c:pt idx="1779">
                  <c:v>1.22753128555176</c:v>
                </c:pt>
                <c:pt idx="1780">
                  <c:v>1.22727272727273</c:v>
                </c:pt>
                <c:pt idx="1781">
                  <c:v>1.22701475595914</c:v>
                </c:pt>
                <c:pt idx="1782">
                  <c:v>1.22675736961451</c:v>
                </c:pt>
                <c:pt idx="1783">
                  <c:v>1.22650056625142</c:v>
                </c:pt>
                <c:pt idx="1784">
                  <c:v>1.2262443438914</c:v>
                </c:pt>
                <c:pt idx="1785">
                  <c:v>1.22598870056497</c:v>
                </c:pt>
                <c:pt idx="1786">
                  <c:v>1.22573363431151</c:v>
                </c:pt>
                <c:pt idx="1787">
                  <c:v>1.22547914317926</c:v>
                </c:pt>
                <c:pt idx="1788">
                  <c:v>1.22522522522523</c:v>
                </c:pt>
                <c:pt idx="1789">
                  <c:v>1.22497187851519</c:v>
                </c:pt>
                <c:pt idx="1790">
                  <c:v>1.2247191011236</c:v>
                </c:pt>
                <c:pt idx="1791">
                  <c:v>1.22446689113356</c:v>
                </c:pt>
                <c:pt idx="1792">
                  <c:v>1.22421524663677</c:v>
                </c:pt>
                <c:pt idx="1793">
                  <c:v>1.22396416573348</c:v>
                </c:pt>
                <c:pt idx="1794">
                  <c:v>1.22371364653244</c:v>
                </c:pt>
                <c:pt idx="1795">
                  <c:v>1.22346368715084</c:v>
                </c:pt>
                <c:pt idx="1796">
                  <c:v>1.22321428571429</c:v>
                </c:pt>
                <c:pt idx="1797">
                  <c:v>1.22296544035674</c:v>
                </c:pt>
                <c:pt idx="1798">
                  <c:v>1.22271714922049</c:v>
                </c:pt>
                <c:pt idx="1799">
                  <c:v>1.22246941045606</c:v>
                </c:pt>
                <c:pt idx="1800">
                  <c:v>1.22222222222222</c:v>
                </c:pt>
                <c:pt idx="1801">
                  <c:v>1.2219755826859</c:v>
                </c:pt>
                <c:pt idx="1802">
                  <c:v>1.22172949002217</c:v>
                </c:pt>
                <c:pt idx="1803">
                  <c:v>1.22148394241418</c:v>
                </c:pt>
                <c:pt idx="1804">
                  <c:v>1.2212389380531</c:v>
                </c:pt>
                <c:pt idx="1805">
                  <c:v>1.22099447513812</c:v>
                </c:pt>
                <c:pt idx="1806">
                  <c:v>1.22075055187638</c:v>
                </c:pt>
                <c:pt idx="1807">
                  <c:v>1.22050716648291</c:v>
                </c:pt>
                <c:pt idx="1808">
                  <c:v>1.22026431718062</c:v>
                </c:pt>
                <c:pt idx="1809">
                  <c:v>1.22002200220022</c:v>
                </c:pt>
                <c:pt idx="1810">
                  <c:v>1.21978021978022</c:v>
                </c:pt>
                <c:pt idx="1811">
                  <c:v>1.21953896816685</c:v>
                </c:pt>
                <c:pt idx="1812">
                  <c:v>1.21929824561404</c:v>
                </c:pt>
                <c:pt idx="1813">
                  <c:v>1.21905805038335</c:v>
                </c:pt>
                <c:pt idx="1814">
                  <c:v>1.21881838074398</c:v>
                </c:pt>
                <c:pt idx="1815">
                  <c:v>1.21857923497268</c:v>
                </c:pt>
                <c:pt idx="1816">
                  <c:v>1.21834061135371</c:v>
                </c:pt>
                <c:pt idx="1817">
                  <c:v>1.21810250817884</c:v>
                </c:pt>
                <c:pt idx="1818">
                  <c:v>1.21786492374728</c:v>
                </c:pt>
                <c:pt idx="1819">
                  <c:v>1.21762785636561</c:v>
                </c:pt>
                <c:pt idx="1820">
                  <c:v>1.21739130434783</c:v>
                </c:pt>
                <c:pt idx="1821">
                  <c:v>1.2171552660152</c:v>
                </c:pt>
                <c:pt idx="1822">
                  <c:v>1.21691973969631</c:v>
                </c:pt>
                <c:pt idx="1823">
                  <c:v>1.21668472372698</c:v>
                </c:pt>
                <c:pt idx="1824">
                  <c:v>1.21645021645022</c:v>
                </c:pt>
                <c:pt idx="1825">
                  <c:v>1.21621621621622</c:v>
                </c:pt>
                <c:pt idx="1826">
                  <c:v>1.21598272138229</c:v>
                </c:pt>
                <c:pt idx="1827">
                  <c:v>1.21574973031284</c:v>
                </c:pt>
                <c:pt idx="1828">
                  <c:v>1.21551724137931</c:v>
                </c:pt>
                <c:pt idx="1829">
                  <c:v>1.21528525296017</c:v>
                </c:pt>
                <c:pt idx="1830">
                  <c:v>1.21505376344086</c:v>
                </c:pt>
                <c:pt idx="1831">
                  <c:v>1.21482277121375</c:v>
                </c:pt>
                <c:pt idx="1832">
                  <c:v>1.21459227467811</c:v>
                </c:pt>
                <c:pt idx="1833">
                  <c:v>1.21436227224009</c:v>
                </c:pt>
                <c:pt idx="1834">
                  <c:v>1.21413276231263</c:v>
                </c:pt>
                <c:pt idx="1835">
                  <c:v>1.21390374331551</c:v>
                </c:pt>
                <c:pt idx="1836">
                  <c:v>1.21367521367521</c:v>
                </c:pt>
                <c:pt idx="1837">
                  <c:v>1.21344717182497</c:v>
                </c:pt>
                <c:pt idx="1838">
                  <c:v>1.21321961620469</c:v>
                </c:pt>
                <c:pt idx="1839">
                  <c:v>1.21299254526092</c:v>
                </c:pt>
                <c:pt idx="1840">
                  <c:v>1.21276595744681</c:v>
                </c:pt>
                <c:pt idx="1841">
                  <c:v>1.2125398512221</c:v>
                </c:pt>
                <c:pt idx="1842">
                  <c:v>1.21231422505308</c:v>
                </c:pt>
                <c:pt idx="1843">
                  <c:v>1.21208907741251</c:v>
                </c:pt>
                <c:pt idx="1844">
                  <c:v>1.21186440677966</c:v>
                </c:pt>
                <c:pt idx="1845">
                  <c:v>1.21164021164021</c:v>
                </c:pt>
                <c:pt idx="1846">
                  <c:v>1.21141649048626</c:v>
                </c:pt>
                <c:pt idx="1847">
                  <c:v>1.21119324181626</c:v>
                </c:pt>
                <c:pt idx="1848">
                  <c:v>1.21097046413502</c:v>
                </c:pt>
                <c:pt idx="1849">
                  <c:v>1.21074815595364</c:v>
                </c:pt>
                <c:pt idx="1850">
                  <c:v>1.21052631578947</c:v>
                </c:pt>
                <c:pt idx="1851">
                  <c:v>1.21030494216614</c:v>
                </c:pt>
                <c:pt idx="1852">
                  <c:v>1.21008403361345</c:v>
                </c:pt>
                <c:pt idx="1853">
                  <c:v>1.20986358866737</c:v>
                </c:pt>
                <c:pt idx="1854">
                  <c:v>1.20964360587002</c:v>
                </c:pt>
                <c:pt idx="1855">
                  <c:v>1.20942408376963</c:v>
                </c:pt>
                <c:pt idx="1856">
                  <c:v>1.2092050209205</c:v>
                </c:pt>
                <c:pt idx="1857">
                  <c:v>1.20898641588297</c:v>
                </c:pt>
                <c:pt idx="1858">
                  <c:v>1.20876826722338</c:v>
                </c:pt>
                <c:pt idx="1859">
                  <c:v>1.20855057351408</c:v>
                </c:pt>
                <c:pt idx="1860">
                  <c:v>1.20833333333333</c:v>
                </c:pt>
                <c:pt idx="1861">
                  <c:v>1.20811654526535</c:v>
                </c:pt>
                <c:pt idx="1862">
                  <c:v>1.20790020790021</c:v>
                </c:pt>
                <c:pt idx="1863">
                  <c:v>1.20768431983385</c:v>
                </c:pt>
                <c:pt idx="1864">
                  <c:v>1.20746887966805</c:v>
                </c:pt>
                <c:pt idx="1865">
                  <c:v>1.20725388601036</c:v>
                </c:pt>
                <c:pt idx="1866">
                  <c:v>1.20703933747412</c:v>
                </c:pt>
                <c:pt idx="1867">
                  <c:v>1.20682523267839</c:v>
                </c:pt>
                <c:pt idx="1868">
                  <c:v>1.20661157024793</c:v>
                </c:pt>
                <c:pt idx="1869">
                  <c:v>1.20639834881321</c:v>
                </c:pt>
                <c:pt idx="1870">
                  <c:v>1.20618556701031</c:v>
                </c:pt>
                <c:pt idx="1871">
                  <c:v>1.20597322348095</c:v>
                </c:pt>
                <c:pt idx="1872">
                  <c:v>1.20576131687243</c:v>
                </c:pt>
                <c:pt idx="1873">
                  <c:v>1.20554984583762</c:v>
                </c:pt>
                <c:pt idx="1874">
                  <c:v>1.20533880903491</c:v>
                </c:pt>
                <c:pt idx="1875">
                  <c:v>1.20512820512821</c:v>
                </c:pt>
                <c:pt idx="1876">
                  <c:v>1.20491803278689</c:v>
                </c:pt>
                <c:pt idx="1877">
                  <c:v>1.20470829068577</c:v>
                </c:pt>
                <c:pt idx="1878">
                  <c:v>1.20449897750511</c:v>
                </c:pt>
                <c:pt idx="1879">
                  <c:v>1.20429009193054</c:v>
                </c:pt>
                <c:pt idx="1880">
                  <c:v>1.20408163265306</c:v>
                </c:pt>
                <c:pt idx="1881">
                  <c:v>1.20387359836901</c:v>
                </c:pt>
                <c:pt idx="1882">
                  <c:v>1.20366598778004</c:v>
                </c:pt>
                <c:pt idx="1883">
                  <c:v>1.20345879959308</c:v>
                </c:pt>
                <c:pt idx="1884">
                  <c:v>1.20325203252033</c:v>
                </c:pt>
                <c:pt idx="1885">
                  <c:v>1.20304568527919</c:v>
                </c:pt>
                <c:pt idx="1886">
                  <c:v>1.20283975659229</c:v>
                </c:pt>
                <c:pt idx="1887">
                  <c:v>1.20263424518744</c:v>
                </c:pt>
                <c:pt idx="1888">
                  <c:v>1.20242914979757</c:v>
                </c:pt>
                <c:pt idx="1889">
                  <c:v>1.20222446916077</c:v>
                </c:pt>
                <c:pt idx="1890">
                  <c:v>1.2020202020202</c:v>
                </c:pt>
                <c:pt idx="1891">
                  <c:v>1.20181634712412</c:v>
                </c:pt>
                <c:pt idx="1892">
                  <c:v>1.20161290322581</c:v>
                </c:pt>
                <c:pt idx="1893">
                  <c:v>1.20140986908359</c:v>
                </c:pt>
                <c:pt idx="1894">
                  <c:v>1.20120724346076</c:v>
                </c:pt>
                <c:pt idx="1895">
                  <c:v>1.20100502512563</c:v>
                </c:pt>
                <c:pt idx="1896">
                  <c:v>1.20080321285141</c:v>
                </c:pt>
                <c:pt idx="1897">
                  <c:v>1.20060180541625</c:v>
                </c:pt>
                <c:pt idx="1898">
                  <c:v>1.20040080160321</c:v>
                </c:pt>
                <c:pt idx="1899">
                  <c:v>1.2002002002002</c:v>
                </c:pt>
                <c:pt idx="1900">
                  <c:v>1.2</c:v>
                </c:pt>
                <c:pt idx="1901">
                  <c:v>1.1998001998002</c:v>
                </c:pt>
                <c:pt idx="1902">
                  <c:v>1.19960079840319</c:v>
                </c:pt>
                <c:pt idx="1903">
                  <c:v>1.19940179461615</c:v>
                </c:pt>
                <c:pt idx="1904">
                  <c:v>1.199203187251</c:v>
                </c:pt>
                <c:pt idx="1905">
                  <c:v>1.19900497512438</c:v>
                </c:pt>
                <c:pt idx="1906">
                  <c:v>1.19880715705765</c:v>
                </c:pt>
                <c:pt idx="1907">
                  <c:v>1.19860973187686</c:v>
                </c:pt>
                <c:pt idx="1908">
                  <c:v>1.1984126984127</c:v>
                </c:pt>
                <c:pt idx="1909">
                  <c:v>1.1982160555005</c:v>
                </c:pt>
                <c:pt idx="1910">
                  <c:v>1.1980198019802</c:v>
                </c:pt>
                <c:pt idx="1911">
                  <c:v>1.19782393669634</c:v>
                </c:pt>
                <c:pt idx="1912">
                  <c:v>1.19762845849802</c:v>
                </c:pt>
                <c:pt idx="1913">
                  <c:v>1.19743336623889</c:v>
                </c:pt>
                <c:pt idx="1914">
                  <c:v>1.19723865877712</c:v>
                </c:pt>
                <c:pt idx="1915">
                  <c:v>1.19704433497537</c:v>
                </c:pt>
                <c:pt idx="1916">
                  <c:v>1.19685039370079</c:v>
                </c:pt>
                <c:pt idx="1917">
                  <c:v>1.19665683382498</c:v>
                </c:pt>
                <c:pt idx="1918">
                  <c:v>1.19646365422397</c:v>
                </c:pt>
                <c:pt idx="1919">
                  <c:v>1.19627085377821</c:v>
                </c:pt>
                <c:pt idx="1920">
                  <c:v>1.19607843137255</c:v>
                </c:pt>
                <c:pt idx="1921">
                  <c:v>1.19588638589618</c:v>
                </c:pt>
                <c:pt idx="1922">
                  <c:v>1.19569471624266</c:v>
                </c:pt>
                <c:pt idx="1923">
                  <c:v>1.19550342130987</c:v>
                </c:pt>
                <c:pt idx="1924">
                  <c:v>1.1953125</c:v>
                </c:pt>
                <c:pt idx="1925">
                  <c:v>1.19512195121951</c:v>
                </c:pt>
                <c:pt idx="1926">
                  <c:v>1.19493177387914</c:v>
                </c:pt>
                <c:pt idx="1927">
                  <c:v>1.19474196689387</c:v>
                </c:pt>
                <c:pt idx="1928">
                  <c:v>1.19455252918288</c:v>
                </c:pt>
                <c:pt idx="1929">
                  <c:v>1.19436345966958</c:v>
                </c:pt>
                <c:pt idx="1930">
                  <c:v>1.19417475728155</c:v>
                </c:pt>
                <c:pt idx="1931">
                  <c:v>1.19398642095053</c:v>
                </c:pt>
                <c:pt idx="1932">
                  <c:v>1.1937984496124</c:v>
                </c:pt>
                <c:pt idx="1933">
                  <c:v>1.19361084220716</c:v>
                </c:pt>
                <c:pt idx="1934">
                  <c:v>1.19342359767892</c:v>
                </c:pt>
                <c:pt idx="1935">
                  <c:v>1.19323671497585</c:v>
                </c:pt>
                <c:pt idx="1936">
                  <c:v>1.19305019305019</c:v>
                </c:pt>
                <c:pt idx="1937">
                  <c:v>1.19286403085825</c:v>
                </c:pt>
                <c:pt idx="1938">
                  <c:v>1.19267822736031</c:v>
                </c:pt>
                <c:pt idx="1939">
                  <c:v>1.19249278152069</c:v>
                </c:pt>
                <c:pt idx="1940">
                  <c:v>1.19230769230769</c:v>
                </c:pt>
                <c:pt idx="1941">
                  <c:v>1.19212295869356</c:v>
                </c:pt>
                <c:pt idx="1942">
                  <c:v>1.19193857965451</c:v>
                </c:pt>
                <c:pt idx="1943">
                  <c:v>1.19175455417066</c:v>
                </c:pt>
                <c:pt idx="1944">
                  <c:v>1.19157088122605</c:v>
                </c:pt>
                <c:pt idx="1945">
                  <c:v>1.19138755980861</c:v>
                </c:pt>
                <c:pt idx="1946">
                  <c:v>1.19120458891013</c:v>
                </c:pt>
                <c:pt idx="1947">
                  <c:v>1.19102196752627</c:v>
                </c:pt>
                <c:pt idx="1948">
                  <c:v>1.19083969465649</c:v>
                </c:pt>
                <c:pt idx="1949">
                  <c:v>1.1906577693041</c:v>
                </c:pt>
                <c:pt idx="1950">
                  <c:v>1.19047619047619</c:v>
                </c:pt>
                <c:pt idx="1951">
                  <c:v>1.19029495718363</c:v>
                </c:pt>
                <c:pt idx="1952">
                  <c:v>1.19011406844106</c:v>
                </c:pt>
                <c:pt idx="1953">
                  <c:v>1.18993352326686</c:v>
                </c:pt>
                <c:pt idx="1954">
                  <c:v>1.18975332068311</c:v>
                </c:pt>
                <c:pt idx="1955">
                  <c:v>1.18957345971564</c:v>
                </c:pt>
                <c:pt idx="1956">
                  <c:v>1.18939393939394</c:v>
                </c:pt>
                <c:pt idx="1957">
                  <c:v>1.18921475875118</c:v>
                </c:pt>
                <c:pt idx="1958">
                  <c:v>1.1890359168242</c:v>
                </c:pt>
                <c:pt idx="1959">
                  <c:v>1.18885741265345</c:v>
                </c:pt>
                <c:pt idx="1960">
                  <c:v>1.18867924528302</c:v>
                </c:pt>
                <c:pt idx="1961">
                  <c:v>1.1885014137606</c:v>
                </c:pt>
                <c:pt idx="1962">
                  <c:v>1.18832391713748</c:v>
                </c:pt>
                <c:pt idx="1963">
                  <c:v>1.18814675446849</c:v>
                </c:pt>
                <c:pt idx="1964">
                  <c:v>1.18796992481203</c:v>
                </c:pt>
                <c:pt idx="1965">
                  <c:v>1.18779342723005</c:v>
                </c:pt>
                <c:pt idx="1966">
                  <c:v>1.18761726078799</c:v>
                </c:pt>
                <c:pt idx="1967">
                  <c:v>1.18744142455483</c:v>
                </c:pt>
                <c:pt idx="1968">
                  <c:v>1.187265917603</c:v>
                </c:pt>
                <c:pt idx="1969">
                  <c:v>1.18709073900842</c:v>
                </c:pt>
                <c:pt idx="1970">
                  <c:v>1.18691588785047</c:v>
                </c:pt>
                <c:pt idx="1971">
                  <c:v>1.18674136321195</c:v>
                </c:pt>
                <c:pt idx="1972">
                  <c:v>1.1865671641791</c:v>
                </c:pt>
                <c:pt idx="1973">
                  <c:v>1.18639328984157</c:v>
                </c:pt>
                <c:pt idx="1974">
                  <c:v>1.18621973929237</c:v>
                </c:pt>
                <c:pt idx="1975">
                  <c:v>1.18604651162791</c:v>
                </c:pt>
                <c:pt idx="1976">
                  <c:v>1.18587360594796</c:v>
                </c:pt>
                <c:pt idx="1977">
                  <c:v>1.18570102135562</c:v>
                </c:pt>
                <c:pt idx="1978">
                  <c:v>1.18552875695733</c:v>
                </c:pt>
                <c:pt idx="1979">
                  <c:v>1.18535681186284</c:v>
                </c:pt>
                <c:pt idx="1980">
                  <c:v>1.18518518518519</c:v>
                </c:pt>
                <c:pt idx="1981">
                  <c:v>1.1850138760407</c:v>
                </c:pt>
                <c:pt idx="1982">
                  <c:v>1.18484288354898</c:v>
                </c:pt>
                <c:pt idx="1983">
                  <c:v>1.18467220683287</c:v>
                </c:pt>
                <c:pt idx="1984">
                  <c:v>1.18450184501845</c:v>
                </c:pt>
                <c:pt idx="1985">
                  <c:v>1.18433179723502</c:v>
                </c:pt>
                <c:pt idx="1986">
                  <c:v>1.1841620626151</c:v>
                </c:pt>
                <c:pt idx="1987">
                  <c:v>1.18399264029439</c:v>
                </c:pt>
                <c:pt idx="1988">
                  <c:v>1.18382352941176</c:v>
                </c:pt>
                <c:pt idx="1989">
                  <c:v>1.18365472910927</c:v>
                </c:pt>
                <c:pt idx="1990">
                  <c:v>1.18348623853211</c:v>
                </c:pt>
                <c:pt idx="1991">
                  <c:v>1.1833180568286</c:v>
                </c:pt>
                <c:pt idx="1992">
                  <c:v>1.18315018315018</c:v>
                </c:pt>
                <c:pt idx="1993">
                  <c:v>1.18298261665142</c:v>
                </c:pt>
                <c:pt idx="1994">
                  <c:v>1.18281535648995</c:v>
                </c:pt>
                <c:pt idx="1995">
                  <c:v>1.18264840182648</c:v>
                </c:pt>
                <c:pt idx="1996">
                  <c:v>1.18248175182482</c:v>
                </c:pt>
                <c:pt idx="1997">
                  <c:v>1.18231540565178</c:v>
                </c:pt>
                <c:pt idx="1998">
                  <c:v>1.18214936247723</c:v>
                </c:pt>
                <c:pt idx="1999">
                  <c:v>1.18198362147407</c:v>
                </c:pt>
                <c:pt idx="2000">
                  <c:v>1.18181818181818</c:v>
                </c:pt>
              </c:numCache>
            </c:numRef>
          </c:yVal>
          <c:smooth val="1"/>
        </c:ser>
        <c:axId val="4391360"/>
        <c:axId val="86114042"/>
      </c:scatterChart>
      <c:valAx>
        <c:axId val="4391360"/>
        <c:scaling>
          <c:orientation val="minMax"/>
          <c:max val="6"/>
          <c:min val="-6"/>
        </c:scaling>
        <c:delete val="0"/>
        <c:axPos val="b"/>
        <c:title>
          <c:tx>
            <c:rich>
              <a:bodyPr rot="0"/>
              <a:lstStyle/>
              <a:p>
                <a:pPr>
                  <a:defRPr b="1" lang="cs-CZ" sz="1200" spc="-1" strike="noStrike">
                    <a:solidFill>
                      <a:srgbClr val="000000"/>
                    </a:solidFill>
                    <a:latin typeface="Arial"/>
                    <a:ea typeface="Arial"/>
                  </a:defRPr>
                </a:pPr>
                <a:r>
                  <a:rPr b="1" lang="cs-CZ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x</a:t>
                </a:r>
              </a:p>
            </c:rich>
          </c:tx>
          <c:layout>
            <c:manualLayout>
              <c:xMode val="edge"/>
              <c:yMode val="edge"/>
              <c:x val="0.943537715041906"/>
              <c:y val="0.452175254551065"/>
            </c:manualLayout>
          </c:layout>
          <c:overlay val="0"/>
          <c:spPr>
            <a:noFill/>
            <a:ln w="25560">
              <a:noFill/>
            </a:ln>
          </c:spPr>
        </c:title>
        <c:numFmt formatCode="General" sourceLinked="0"/>
        <c:majorTickMark val="out"/>
        <c:minorTickMark val="none"/>
        <c:tickLblPos val="nextTo"/>
        <c:spPr>
          <a:ln w="3240">
            <a:solidFill>
              <a:srgbClr val="000000"/>
            </a:solidFill>
            <a:round/>
          </a:ln>
        </c:spPr>
        <c:txPr>
          <a:bodyPr/>
          <a:lstStyle/>
          <a:p>
            <a:pPr>
              <a:defRPr b="0" sz="850" spc="-1" strike="noStrike">
                <a:solidFill>
                  <a:srgbClr val="000000"/>
                </a:solidFill>
                <a:latin typeface="Arial"/>
                <a:ea typeface="Arial"/>
              </a:defRPr>
            </a:pPr>
          </a:p>
        </c:txPr>
        <c:crossAx val="86114042"/>
        <c:crosses val="autoZero"/>
        <c:crossBetween val="midCat"/>
        <c:majorUnit val="2"/>
        <c:minorUnit val="1"/>
      </c:valAx>
      <c:valAx>
        <c:axId val="86114042"/>
        <c:scaling>
          <c:orientation val="minMax"/>
          <c:max val="10"/>
          <c:min val="-10"/>
        </c:scaling>
        <c:delete val="0"/>
        <c:axPos val="l"/>
        <c:title>
          <c:tx>
            <c:rich>
              <a:bodyPr rot="0"/>
              <a:lstStyle/>
              <a:p>
                <a:pPr>
                  <a:defRPr b="1" lang="cs-CZ" sz="1200" spc="-1" strike="noStrike">
                    <a:solidFill>
                      <a:srgbClr val="000000"/>
                    </a:solidFill>
                    <a:latin typeface="Arial"/>
                    <a:ea typeface="Arial"/>
                  </a:defRPr>
                </a:pPr>
                <a:r>
                  <a:rPr b="1" lang="cs-CZ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y</a:t>
                </a:r>
              </a:p>
            </c:rich>
          </c:tx>
          <c:layout>
            <c:manualLayout>
              <c:xMode val="edge"/>
              <c:yMode val="edge"/>
              <c:x val="0.514189089839729"/>
              <c:y val="0.019438444924406"/>
            </c:manualLayout>
          </c:layout>
          <c:overlay val="0"/>
          <c:spPr>
            <a:noFill/>
            <a:ln w="25560">
              <a:noFill/>
            </a:ln>
          </c:spPr>
        </c:title>
        <c:numFmt formatCode="General" sourceLinked="0"/>
        <c:majorTickMark val="out"/>
        <c:minorTickMark val="none"/>
        <c:tickLblPos val="nextTo"/>
        <c:spPr>
          <a:ln w="3240">
            <a:solidFill>
              <a:srgbClr val="000000"/>
            </a:solidFill>
            <a:round/>
          </a:ln>
        </c:spPr>
        <c:txPr>
          <a:bodyPr/>
          <a:lstStyle/>
          <a:p>
            <a:pPr>
              <a:defRPr b="0" sz="850" spc="-1" strike="noStrike">
                <a:solidFill>
                  <a:srgbClr val="000000"/>
                </a:solidFill>
                <a:latin typeface="Arial"/>
                <a:ea typeface="Arial"/>
              </a:defRPr>
            </a:pPr>
          </a:p>
        </c:txPr>
        <c:crossAx val="4391360"/>
        <c:crosses val="autoZero"/>
        <c:crossBetween val="midCat"/>
        <c:majorUnit val="2"/>
        <c:minorUnit val="1"/>
      </c:valAx>
      <c:spPr>
        <a:noFill/>
        <a:ln w="0">
          <a:noFill/>
        </a:ln>
      </c:spPr>
    </c:plotArea>
    <c:plotVisOnly val="1"/>
    <c:dispBlanksAs val="gap"/>
  </c:chart>
  <c:spPr>
    <a:noFill/>
    <a:ln w="3240">
      <a:noFill/>
    </a:ln>
  </c:spPr>
</c:chartSpace>
</file>

<file path=ppt/charts/chart4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2001"/>
                <c:pt idx="0">
                  <c:v>-10.1</c:v>
                </c:pt>
                <c:pt idx="1">
                  <c:v>-10.0901001001001</c:v>
                </c:pt>
                <c:pt idx="2">
                  <c:v>-10.0802004008016</c:v>
                </c:pt>
                <c:pt idx="3">
                  <c:v>-10.0703009027081</c:v>
                </c:pt>
                <c:pt idx="4">
                  <c:v>-10.0604016064257</c:v>
                </c:pt>
                <c:pt idx="5">
                  <c:v>-10.0505025125628</c:v>
                </c:pt>
                <c:pt idx="6">
                  <c:v>-10.0406036217304</c:v>
                </c:pt>
                <c:pt idx="7">
                  <c:v>-10.0307049345418</c:v>
                </c:pt>
                <c:pt idx="8">
                  <c:v>-10.0208064516129</c:v>
                </c:pt>
                <c:pt idx="9">
                  <c:v>-10.0109081735621</c:v>
                </c:pt>
                <c:pt idx="10">
                  <c:v>-10.0010101010101</c:v>
                </c:pt>
                <c:pt idx="11">
                  <c:v>-9.99111223458039</c:v>
                </c:pt>
                <c:pt idx="12">
                  <c:v>-9.98121457489879</c:v>
                </c:pt>
                <c:pt idx="13">
                  <c:v>-9.97131712259372</c:v>
                </c:pt>
                <c:pt idx="14">
                  <c:v>-9.96141987829615</c:v>
                </c:pt>
                <c:pt idx="15">
                  <c:v>-9.95152284263959</c:v>
                </c:pt>
                <c:pt idx="16">
                  <c:v>-9.94162601626016</c:v>
                </c:pt>
                <c:pt idx="17">
                  <c:v>-9.93172939979654</c:v>
                </c:pt>
                <c:pt idx="18">
                  <c:v>-9.92183299389002</c:v>
                </c:pt>
                <c:pt idx="19">
                  <c:v>-9.91193679918451</c:v>
                </c:pt>
                <c:pt idx="20">
                  <c:v>-9.90204081632653</c:v>
                </c:pt>
                <c:pt idx="21">
                  <c:v>-9.89214504596527</c:v>
                </c:pt>
                <c:pt idx="22">
                  <c:v>-9.88224948875256</c:v>
                </c:pt>
                <c:pt idx="23">
                  <c:v>-9.87235414534289</c:v>
                </c:pt>
                <c:pt idx="24">
                  <c:v>-9.86245901639344</c:v>
                </c:pt>
                <c:pt idx="25">
                  <c:v>-9.8525641025641</c:v>
                </c:pt>
                <c:pt idx="26">
                  <c:v>-9.84266940451745</c:v>
                </c:pt>
                <c:pt idx="27">
                  <c:v>-9.83277492291881</c:v>
                </c:pt>
                <c:pt idx="28">
                  <c:v>-9.82288065843622</c:v>
                </c:pt>
                <c:pt idx="29">
                  <c:v>-9.81298661174047</c:v>
                </c:pt>
                <c:pt idx="30">
                  <c:v>-9.80309278350515</c:v>
                </c:pt>
                <c:pt idx="31">
                  <c:v>-9.7931991744066</c:v>
                </c:pt>
                <c:pt idx="32">
                  <c:v>-9.78330578512397</c:v>
                </c:pt>
                <c:pt idx="33">
                  <c:v>-9.77341261633919</c:v>
                </c:pt>
                <c:pt idx="34">
                  <c:v>-9.76351966873706</c:v>
                </c:pt>
                <c:pt idx="35">
                  <c:v>-9.75362694300518</c:v>
                </c:pt>
                <c:pt idx="36">
                  <c:v>-9.74373443983403</c:v>
                </c:pt>
                <c:pt idx="37">
                  <c:v>-9.73384215991693</c:v>
                </c:pt>
                <c:pt idx="38">
                  <c:v>-9.7239501039501</c:v>
                </c:pt>
                <c:pt idx="39">
                  <c:v>-9.71405827263267</c:v>
                </c:pt>
                <c:pt idx="40">
                  <c:v>-9.70416666666667</c:v>
                </c:pt>
                <c:pt idx="41">
                  <c:v>-9.69427528675704</c:v>
                </c:pt>
                <c:pt idx="42">
                  <c:v>-9.68438413361169</c:v>
                </c:pt>
                <c:pt idx="43">
                  <c:v>-9.67449320794148</c:v>
                </c:pt>
                <c:pt idx="44">
                  <c:v>-9.66460251046025</c:v>
                </c:pt>
                <c:pt idx="45">
                  <c:v>-9.65471204188482</c:v>
                </c:pt>
                <c:pt idx="46">
                  <c:v>-9.64482180293501</c:v>
                </c:pt>
                <c:pt idx="47">
                  <c:v>-9.63493179433368</c:v>
                </c:pt>
                <c:pt idx="48">
                  <c:v>-9.62504201680672</c:v>
                </c:pt>
                <c:pt idx="49">
                  <c:v>-9.61515247108307</c:v>
                </c:pt>
                <c:pt idx="50">
                  <c:v>-9.60526315789474</c:v>
                </c:pt>
                <c:pt idx="51">
                  <c:v>-9.59537407797682</c:v>
                </c:pt>
                <c:pt idx="52">
                  <c:v>-9.58548523206751</c:v>
                </c:pt>
                <c:pt idx="53">
                  <c:v>-9.57559662090813</c:v>
                </c:pt>
                <c:pt idx="54">
                  <c:v>-9.56570824524313</c:v>
                </c:pt>
                <c:pt idx="55">
                  <c:v>-9.55582010582011</c:v>
                </c:pt>
                <c:pt idx="56">
                  <c:v>-9.54593220338983</c:v>
                </c:pt>
                <c:pt idx="57">
                  <c:v>-9.53604453870626</c:v>
                </c:pt>
                <c:pt idx="58">
                  <c:v>-9.52615711252654</c:v>
                </c:pt>
                <c:pt idx="59">
                  <c:v>-9.51626992561105</c:v>
                </c:pt>
                <c:pt idx="60">
                  <c:v>-9.50638297872341</c:v>
                </c:pt>
                <c:pt idx="61">
                  <c:v>-9.49649627263046</c:v>
                </c:pt>
                <c:pt idx="62">
                  <c:v>-9.48660980810235</c:v>
                </c:pt>
                <c:pt idx="63">
                  <c:v>-9.47672358591249</c:v>
                </c:pt>
                <c:pt idx="64">
                  <c:v>-9.46683760683761</c:v>
                </c:pt>
                <c:pt idx="65">
                  <c:v>-9.45695187165775</c:v>
                </c:pt>
                <c:pt idx="66">
                  <c:v>-9.44706638115632</c:v>
                </c:pt>
                <c:pt idx="67">
                  <c:v>-9.43718113612004</c:v>
                </c:pt>
                <c:pt idx="68">
                  <c:v>-9.42729613733906</c:v>
                </c:pt>
                <c:pt idx="69">
                  <c:v>-9.41741138560687</c:v>
                </c:pt>
                <c:pt idx="70">
                  <c:v>-9.40752688172043</c:v>
                </c:pt>
                <c:pt idx="71">
                  <c:v>-9.39764262648009</c:v>
                </c:pt>
                <c:pt idx="72">
                  <c:v>-9.38775862068965</c:v>
                </c:pt>
                <c:pt idx="73">
                  <c:v>-9.37787486515642</c:v>
                </c:pt>
                <c:pt idx="74">
                  <c:v>-9.36799136069114</c:v>
                </c:pt>
                <c:pt idx="75">
                  <c:v>-9.35810810810811</c:v>
                </c:pt>
                <c:pt idx="76">
                  <c:v>-9.34822510822511</c:v>
                </c:pt>
                <c:pt idx="77">
                  <c:v>-9.33834236186349</c:v>
                </c:pt>
                <c:pt idx="78">
                  <c:v>-9.32845986984816</c:v>
                </c:pt>
                <c:pt idx="79">
                  <c:v>-9.3185776330076</c:v>
                </c:pt>
                <c:pt idx="80">
                  <c:v>-9.30869565217391</c:v>
                </c:pt>
                <c:pt idx="81">
                  <c:v>-9.29881392818281</c:v>
                </c:pt>
                <c:pt idx="82">
                  <c:v>-9.28893246187364</c:v>
                </c:pt>
                <c:pt idx="83">
                  <c:v>-9.27905125408942</c:v>
                </c:pt>
                <c:pt idx="84">
                  <c:v>-9.26917030567686</c:v>
                </c:pt>
                <c:pt idx="85">
                  <c:v>-9.25928961748634</c:v>
                </c:pt>
                <c:pt idx="86">
                  <c:v>-9.24940919037199</c:v>
                </c:pt>
                <c:pt idx="87">
                  <c:v>-9.23952902519168</c:v>
                </c:pt>
                <c:pt idx="88">
                  <c:v>-9.22964912280702</c:v>
                </c:pt>
                <c:pt idx="89">
                  <c:v>-9.21976948408342</c:v>
                </c:pt>
                <c:pt idx="90">
                  <c:v>-9.20989010989011</c:v>
                </c:pt>
                <c:pt idx="91">
                  <c:v>-9.20001100110011</c:v>
                </c:pt>
                <c:pt idx="92">
                  <c:v>-9.19013215859031</c:v>
                </c:pt>
                <c:pt idx="93">
                  <c:v>-9.18025358324146</c:v>
                </c:pt>
                <c:pt idx="94">
                  <c:v>-9.17037527593819</c:v>
                </c:pt>
                <c:pt idx="95">
                  <c:v>-9.16049723756906</c:v>
                </c:pt>
                <c:pt idx="96">
                  <c:v>-9.15061946902655</c:v>
                </c:pt>
                <c:pt idx="97">
                  <c:v>-9.14074197120709</c:v>
                </c:pt>
                <c:pt idx="98">
                  <c:v>-9.13086474501109</c:v>
                </c:pt>
                <c:pt idx="99">
                  <c:v>-9.12098779134295</c:v>
                </c:pt>
                <c:pt idx="100">
                  <c:v>-9.11111111111111</c:v>
                </c:pt>
                <c:pt idx="101">
                  <c:v>-9.10123470522803</c:v>
                </c:pt>
                <c:pt idx="102">
                  <c:v>-9.09135857461025</c:v>
                </c:pt>
                <c:pt idx="103">
                  <c:v>-9.08148272017837</c:v>
                </c:pt>
                <c:pt idx="104">
                  <c:v>-9.07160714285714</c:v>
                </c:pt>
                <c:pt idx="105">
                  <c:v>-9.06173184357542</c:v>
                </c:pt>
                <c:pt idx="106">
                  <c:v>-9.05185682326622</c:v>
                </c:pt>
                <c:pt idx="107">
                  <c:v>-9.04198208286674</c:v>
                </c:pt>
                <c:pt idx="108">
                  <c:v>-9.03210762331839</c:v>
                </c:pt>
                <c:pt idx="109">
                  <c:v>-9.02223344556678</c:v>
                </c:pt>
                <c:pt idx="110">
                  <c:v>-9.0123595505618</c:v>
                </c:pt>
                <c:pt idx="111">
                  <c:v>-9.00248593925759</c:v>
                </c:pt>
                <c:pt idx="112">
                  <c:v>-8.99261261261261</c:v>
                </c:pt>
                <c:pt idx="113">
                  <c:v>-8.98273957158963</c:v>
                </c:pt>
                <c:pt idx="114">
                  <c:v>-8.97286681715576</c:v>
                </c:pt>
                <c:pt idx="115">
                  <c:v>-8.96299435028249</c:v>
                </c:pt>
                <c:pt idx="116">
                  <c:v>-8.9531221719457</c:v>
                </c:pt>
                <c:pt idx="117">
                  <c:v>-8.94325028312571</c:v>
                </c:pt>
                <c:pt idx="118">
                  <c:v>-8.93337868480726</c:v>
                </c:pt>
                <c:pt idx="119">
                  <c:v>-8.92350737797957</c:v>
                </c:pt>
                <c:pt idx="120">
                  <c:v>-8.91363636363636</c:v>
                </c:pt>
                <c:pt idx="121">
                  <c:v>-8.90376564277588</c:v>
                </c:pt>
                <c:pt idx="122">
                  <c:v>-8.89389521640091</c:v>
                </c:pt>
                <c:pt idx="123">
                  <c:v>-8.88402508551882</c:v>
                </c:pt>
                <c:pt idx="124">
                  <c:v>-8.87415525114155</c:v>
                </c:pt>
                <c:pt idx="125">
                  <c:v>-8.86428571428571</c:v>
                </c:pt>
                <c:pt idx="126">
                  <c:v>-8.85441647597254</c:v>
                </c:pt>
                <c:pt idx="127">
                  <c:v>-8.84454753722795</c:v>
                </c:pt>
                <c:pt idx="128">
                  <c:v>-8.83467889908257</c:v>
                </c:pt>
                <c:pt idx="129">
                  <c:v>-8.82481056257176</c:v>
                </c:pt>
                <c:pt idx="130">
                  <c:v>-8.81494252873563</c:v>
                </c:pt>
                <c:pt idx="131">
                  <c:v>-8.8050747986191</c:v>
                </c:pt>
                <c:pt idx="132">
                  <c:v>-8.79520737327189</c:v>
                </c:pt>
                <c:pt idx="133">
                  <c:v>-8.78534025374856</c:v>
                </c:pt>
                <c:pt idx="134">
                  <c:v>-8.77547344110855</c:v>
                </c:pt>
                <c:pt idx="135">
                  <c:v>-8.76560693641619</c:v>
                </c:pt>
                <c:pt idx="136">
                  <c:v>-8.75574074074074</c:v>
                </c:pt>
                <c:pt idx="137">
                  <c:v>-8.74587485515643</c:v>
                </c:pt>
                <c:pt idx="138">
                  <c:v>-8.73600928074246</c:v>
                </c:pt>
                <c:pt idx="139">
                  <c:v>-8.72614401858304</c:v>
                </c:pt>
                <c:pt idx="140">
                  <c:v>-8.71627906976744</c:v>
                </c:pt>
                <c:pt idx="141">
                  <c:v>-8.70641443538999</c:v>
                </c:pt>
                <c:pt idx="142">
                  <c:v>-8.69655011655012</c:v>
                </c:pt>
                <c:pt idx="143">
                  <c:v>-8.68668611435239</c:v>
                </c:pt>
                <c:pt idx="144">
                  <c:v>-8.67682242990654</c:v>
                </c:pt>
                <c:pt idx="145">
                  <c:v>-8.66695906432749</c:v>
                </c:pt>
                <c:pt idx="146">
                  <c:v>-8.65709601873536</c:v>
                </c:pt>
                <c:pt idx="147">
                  <c:v>-8.64723329425557</c:v>
                </c:pt>
                <c:pt idx="148">
                  <c:v>-8.63737089201878</c:v>
                </c:pt>
                <c:pt idx="149">
                  <c:v>-8.62750881316099</c:v>
                </c:pt>
                <c:pt idx="150">
                  <c:v>-8.61764705882353</c:v>
                </c:pt>
                <c:pt idx="151">
                  <c:v>-8.60778563015312</c:v>
                </c:pt>
                <c:pt idx="152">
                  <c:v>-8.59792452830189</c:v>
                </c:pt>
                <c:pt idx="153">
                  <c:v>-8.58806375442739</c:v>
                </c:pt>
                <c:pt idx="154">
                  <c:v>-8.57820330969267</c:v>
                </c:pt>
                <c:pt idx="155">
                  <c:v>-8.56834319526627</c:v>
                </c:pt>
                <c:pt idx="156">
                  <c:v>-8.55848341232228</c:v>
                </c:pt>
                <c:pt idx="157">
                  <c:v>-8.54862396204033</c:v>
                </c:pt>
                <c:pt idx="158">
                  <c:v>-8.5387648456057</c:v>
                </c:pt>
                <c:pt idx="159">
                  <c:v>-8.52890606420928</c:v>
                </c:pt>
                <c:pt idx="160">
                  <c:v>-8.51904761904762</c:v>
                </c:pt>
                <c:pt idx="161">
                  <c:v>-8.509189511323</c:v>
                </c:pt>
                <c:pt idx="162">
                  <c:v>-8.49933174224344</c:v>
                </c:pt>
                <c:pt idx="163">
                  <c:v>-8.4894743130227</c:v>
                </c:pt>
                <c:pt idx="164">
                  <c:v>-8.47961722488038</c:v>
                </c:pt>
                <c:pt idx="165">
                  <c:v>-8.46976047904192</c:v>
                </c:pt>
                <c:pt idx="166">
                  <c:v>-8.45990407673861</c:v>
                </c:pt>
                <c:pt idx="167">
                  <c:v>-8.45004801920768</c:v>
                </c:pt>
                <c:pt idx="168">
                  <c:v>-8.44019230769231</c:v>
                </c:pt>
                <c:pt idx="169">
                  <c:v>-8.43033694344164</c:v>
                </c:pt>
                <c:pt idx="170">
                  <c:v>-8.42048192771084</c:v>
                </c:pt>
                <c:pt idx="171">
                  <c:v>-8.41062726176116</c:v>
                </c:pt>
                <c:pt idx="172">
                  <c:v>-8.4007729468599</c:v>
                </c:pt>
                <c:pt idx="173">
                  <c:v>-8.39091898428053</c:v>
                </c:pt>
                <c:pt idx="174">
                  <c:v>-8.38106537530266</c:v>
                </c:pt>
                <c:pt idx="175">
                  <c:v>-8.37121212121212</c:v>
                </c:pt>
                <c:pt idx="176">
                  <c:v>-8.36135922330097</c:v>
                </c:pt>
                <c:pt idx="177">
                  <c:v>-8.35150668286756</c:v>
                </c:pt>
                <c:pt idx="178">
                  <c:v>-8.34165450121655</c:v>
                </c:pt>
                <c:pt idx="179">
                  <c:v>-8.33180267965895</c:v>
                </c:pt>
                <c:pt idx="180">
                  <c:v>-8.32195121951219</c:v>
                </c:pt>
                <c:pt idx="181">
                  <c:v>-8.31210012210012</c:v>
                </c:pt>
                <c:pt idx="182">
                  <c:v>-8.30224938875306</c:v>
                </c:pt>
                <c:pt idx="183">
                  <c:v>-8.29239902080783</c:v>
                </c:pt>
                <c:pt idx="184">
                  <c:v>-8.28254901960784</c:v>
                </c:pt>
                <c:pt idx="185">
                  <c:v>-8.27269938650307</c:v>
                </c:pt>
                <c:pt idx="186">
                  <c:v>-8.26285012285012</c:v>
                </c:pt>
                <c:pt idx="187">
                  <c:v>-8.2530012300123</c:v>
                </c:pt>
                <c:pt idx="188">
                  <c:v>-8.24315270935961</c:v>
                </c:pt>
                <c:pt idx="189">
                  <c:v>-8.2333045622688</c:v>
                </c:pt>
                <c:pt idx="190">
                  <c:v>-8.22345679012346</c:v>
                </c:pt>
                <c:pt idx="191">
                  <c:v>-8.21360939431397</c:v>
                </c:pt>
                <c:pt idx="192">
                  <c:v>-8.20376237623762</c:v>
                </c:pt>
                <c:pt idx="193">
                  <c:v>-8.19391573729864</c:v>
                </c:pt>
                <c:pt idx="194">
                  <c:v>-8.18406947890819</c:v>
                </c:pt>
                <c:pt idx="195">
                  <c:v>-8.17422360248447</c:v>
                </c:pt>
                <c:pt idx="196">
                  <c:v>-8.16437810945274</c:v>
                </c:pt>
                <c:pt idx="197">
                  <c:v>-8.15453300124533</c:v>
                </c:pt>
                <c:pt idx="198">
                  <c:v>-8.14468827930175</c:v>
                </c:pt>
                <c:pt idx="199">
                  <c:v>-8.13484394506866</c:v>
                </c:pt>
                <c:pt idx="200">
                  <c:v>-8.125</c:v>
                </c:pt>
                <c:pt idx="201">
                  <c:v>-8.11515644555695</c:v>
                </c:pt>
                <c:pt idx="202">
                  <c:v>-8.10531328320802</c:v>
                </c:pt>
                <c:pt idx="203">
                  <c:v>-8.09547051442911</c:v>
                </c:pt>
                <c:pt idx="204">
                  <c:v>-8.08562814070352</c:v>
                </c:pt>
                <c:pt idx="205">
                  <c:v>-8.07578616352201</c:v>
                </c:pt>
                <c:pt idx="206">
                  <c:v>-8.06594458438287</c:v>
                </c:pt>
                <c:pt idx="207">
                  <c:v>-8.05610340479193</c:v>
                </c:pt>
                <c:pt idx="208">
                  <c:v>-8.04626262626263</c:v>
                </c:pt>
                <c:pt idx="209">
                  <c:v>-8.03642225031606</c:v>
                </c:pt>
                <c:pt idx="210">
                  <c:v>-8.02658227848101</c:v>
                </c:pt>
                <c:pt idx="211">
                  <c:v>-8.01674271229404</c:v>
                </c:pt>
                <c:pt idx="212">
                  <c:v>-8.00690355329949</c:v>
                </c:pt>
                <c:pt idx="213">
                  <c:v>-7.99706480304956</c:v>
                </c:pt>
                <c:pt idx="214">
                  <c:v>-7.98722646310433</c:v>
                </c:pt>
                <c:pt idx="215">
                  <c:v>-7.97738853503185</c:v>
                </c:pt>
                <c:pt idx="216">
                  <c:v>-7.96755102040816</c:v>
                </c:pt>
                <c:pt idx="217">
                  <c:v>-7.95771392081737</c:v>
                </c:pt>
                <c:pt idx="218">
                  <c:v>-7.94787723785166</c:v>
                </c:pt>
                <c:pt idx="219">
                  <c:v>-7.9380409731114</c:v>
                </c:pt>
                <c:pt idx="220">
                  <c:v>-7.92820512820513</c:v>
                </c:pt>
                <c:pt idx="221">
                  <c:v>-7.91836970474968</c:v>
                </c:pt>
                <c:pt idx="222">
                  <c:v>-7.90853470437018</c:v>
                </c:pt>
                <c:pt idx="223">
                  <c:v>-7.89870012870013</c:v>
                </c:pt>
                <c:pt idx="224">
                  <c:v>-7.88886597938144</c:v>
                </c:pt>
                <c:pt idx="225">
                  <c:v>-7.87903225806452</c:v>
                </c:pt>
                <c:pt idx="226">
                  <c:v>-7.86919896640827</c:v>
                </c:pt>
                <c:pt idx="227">
                  <c:v>-7.85936610608021</c:v>
                </c:pt>
                <c:pt idx="228">
                  <c:v>-7.84953367875648</c:v>
                </c:pt>
                <c:pt idx="229">
                  <c:v>-7.83970168612192</c:v>
                </c:pt>
                <c:pt idx="230">
                  <c:v>-7.82987012987013</c:v>
                </c:pt>
                <c:pt idx="231">
                  <c:v>-7.82003901170351</c:v>
                </c:pt>
                <c:pt idx="232">
                  <c:v>-7.81020833333333</c:v>
                </c:pt>
                <c:pt idx="233">
                  <c:v>-7.80037809647979</c:v>
                </c:pt>
                <c:pt idx="234">
                  <c:v>-7.79054830287206</c:v>
                </c:pt>
                <c:pt idx="235">
                  <c:v>-7.78071895424837</c:v>
                </c:pt>
                <c:pt idx="236">
                  <c:v>-7.77089005235602</c:v>
                </c:pt>
                <c:pt idx="237">
                  <c:v>-7.76106159895151</c:v>
                </c:pt>
                <c:pt idx="238">
                  <c:v>-7.75123359580053</c:v>
                </c:pt>
                <c:pt idx="239">
                  <c:v>-7.74140604467806</c:v>
                </c:pt>
                <c:pt idx="240">
                  <c:v>-7.73157894736842</c:v>
                </c:pt>
                <c:pt idx="241">
                  <c:v>-7.72175230566535</c:v>
                </c:pt>
                <c:pt idx="242">
                  <c:v>-7.71192612137203</c:v>
                </c:pt>
                <c:pt idx="243">
                  <c:v>-7.70210039630119</c:v>
                </c:pt>
                <c:pt idx="244">
                  <c:v>-7.69227513227513</c:v>
                </c:pt>
                <c:pt idx="245">
                  <c:v>-7.68245033112583</c:v>
                </c:pt>
                <c:pt idx="246">
                  <c:v>-7.67262599469496</c:v>
                </c:pt>
                <c:pt idx="247">
                  <c:v>-7.662802124834</c:v>
                </c:pt>
                <c:pt idx="248">
                  <c:v>-7.65297872340426</c:v>
                </c:pt>
                <c:pt idx="249">
                  <c:v>-7.64315579227696</c:v>
                </c:pt>
                <c:pt idx="250">
                  <c:v>-7.63333333333333</c:v>
                </c:pt>
                <c:pt idx="251">
                  <c:v>-7.62351134846462</c:v>
                </c:pt>
                <c:pt idx="252">
                  <c:v>-7.61368983957219</c:v>
                </c:pt>
                <c:pt idx="253">
                  <c:v>-7.6038688085676</c:v>
                </c:pt>
                <c:pt idx="254">
                  <c:v>-7.59404825737265</c:v>
                </c:pt>
                <c:pt idx="255">
                  <c:v>-7.58422818791946</c:v>
                </c:pt>
                <c:pt idx="256">
                  <c:v>-7.57440860215054</c:v>
                </c:pt>
                <c:pt idx="257">
                  <c:v>-7.56458950201884</c:v>
                </c:pt>
                <c:pt idx="258">
                  <c:v>-7.55477088948787</c:v>
                </c:pt>
                <c:pt idx="259">
                  <c:v>-7.54495276653171</c:v>
                </c:pt>
                <c:pt idx="260">
                  <c:v>-7.53513513513514</c:v>
                </c:pt>
                <c:pt idx="261">
                  <c:v>-7.52531799729364</c:v>
                </c:pt>
                <c:pt idx="262">
                  <c:v>-7.51550135501355</c:v>
                </c:pt>
                <c:pt idx="263">
                  <c:v>-7.50568521031208</c:v>
                </c:pt>
                <c:pt idx="264">
                  <c:v>-7.49586956521739</c:v>
                </c:pt>
                <c:pt idx="265">
                  <c:v>-7.48605442176871</c:v>
                </c:pt>
                <c:pt idx="266">
                  <c:v>-7.47623978201635</c:v>
                </c:pt>
                <c:pt idx="267">
                  <c:v>-7.46642564802183</c:v>
                </c:pt>
                <c:pt idx="268">
                  <c:v>-7.45661202185792</c:v>
                </c:pt>
                <c:pt idx="269">
                  <c:v>-7.44679890560876</c:v>
                </c:pt>
                <c:pt idx="270">
                  <c:v>-7.43698630136986</c:v>
                </c:pt>
                <c:pt idx="271">
                  <c:v>-7.42717421124829</c:v>
                </c:pt>
                <c:pt idx="272">
                  <c:v>-7.41736263736264</c:v>
                </c:pt>
                <c:pt idx="273">
                  <c:v>-7.40755158184319</c:v>
                </c:pt>
                <c:pt idx="274">
                  <c:v>-7.39774104683196</c:v>
                </c:pt>
                <c:pt idx="275">
                  <c:v>-7.38793103448276</c:v>
                </c:pt>
                <c:pt idx="276">
                  <c:v>-7.37812154696133</c:v>
                </c:pt>
                <c:pt idx="277">
                  <c:v>-7.36831258644537</c:v>
                </c:pt>
                <c:pt idx="278">
                  <c:v>-7.35850415512465</c:v>
                </c:pt>
                <c:pt idx="279">
                  <c:v>-7.34869625520111</c:v>
                </c:pt>
                <c:pt idx="280">
                  <c:v>-7.33888888888889</c:v>
                </c:pt>
                <c:pt idx="281">
                  <c:v>-7.32908205841446</c:v>
                </c:pt>
                <c:pt idx="282">
                  <c:v>-7.31927576601671</c:v>
                </c:pt>
                <c:pt idx="283">
                  <c:v>-7.309470013947</c:v>
                </c:pt>
                <c:pt idx="284">
                  <c:v>-7.29966480446927</c:v>
                </c:pt>
                <c:pt idx="285">
                  <c:v>-7.28986013986014</c:v>
                </c:pt>
                <c:pt idx="286">
                  <c:v>-7.28005602240896</c:v>
                </c:pt>
                <c:pt idx="287">
                  <c:v>-7.27025245441795</c:v>
                </c:pt>
                <c:pt idx="288">
                  <c:v>-7.26044943820225</c:v>
                </c:pt>
                <c:pt idx="289">
                  <c:v>-7.25064697609001</c:v>
                </c:pt>
                <c:pt idx="290">
                  <c:v>-7.24084507042254</c:v>
                </c:pt>
                <c:pt idx="291">
                  <c:v>-7.2310437235543</c:v>
                </c:pt>
                <c:pt idx="292">
                  <c:v>-7.22124293785311</c:v>
                </c:pt>
                <c:pt idx="293">
                  <c:v>-7.21144271570014</c:v>
                </c:pt>
                <c:pt idx="294">
                  <c:v>-7.20164305949009</c:v>
                </c:pt>
                <c:pt idx="295">
                  <c:v>-7.19184397163121</c:v>
                </c:pt>
                <c:pt idx="296">
                  <c:v>-7.18204545454545</c:v>
                </c:pt>
                <c:pt idx="297">
                  <c:v>-7.17224751066856</c:v>
                </c:pt>
                <c:pt idx="298">
                  <c:v>-7.16245014245014</c:v>
                </c:pt>
                <c:pt idx="299">
                  <c:v>-7.15265335235378</c:v>
                </c:pt>
                <c:pt idx="300">
                  <c:v>-7.14285714285714</c:v>
                </c:pt>
                <c:pt idx="301">
                  <c:v>-7.13306151645207</c:v>
                </c:pt>
                <c:pt idx="302">
                  <c:v>-7.1232664756447</c:v>
                </c:pt>
                <c:pt idx="303">
                  <c:v>-7.11347202295552</c:v>
                </c:pt>
                <c:pt idx="304">
                  <c:v>-7.10367816091954</c:v>
                </c:pt>
                <c:pt idx="305">
                  <c:v>-7.09388489208633</c:v>
                </c:pt>
                <c:pt idx="306">
                  <c:v>-7.08409221902017</c:v>
                </c:pt>
                <c:pt idx="307">
                  <c:v>-7.07430014430014</c:v>
                </c:pt>
                <c:pt idx="308">
                  <c:v>-7.06450867052023</c:v>
                </c:pt>
                <c:pt idx="309">
                  <c:v>-7.05471780028944</c:v>
                </c:pt>
                <c:pt idx="310">
                  <c:v>-7.04492753623188</c:v>
                </c:pt>
                <c:pt idx="311">
                  <c:v>-7.03513788098694</c:v>
                </c:pt>
                <c:pt idx="312">
                  <c:v>-7.0253488372093</c:v>
                </c:pt>
                <c:pt idx="313">
                  <c:v>-7.01556040756914</c:v>
                </c:pt>
                <c:pt idx="314">
                  <c:v>-7.00577259475219</c:v>
                </c:pt>
                <c:pt idx="315">
                  <c:v>-6.99598540145985</c:v>
                </c:pt>
                <c:pt idx="316">
                  <c:v>-6.98619883040936</c:v>
                </c:pt>
                <c:pt idx="317">
                  <c:v>-6.97641288433382</c:v>
                </c:pt>
                <c:pt idx="318">
                  <c:v>-6.96662756598241</c:v>
                </c:pt>
                <c:pt idx="319">
                  <c:v>-6.95684287812041</c:v>
                </c:pt>
                <c:pt idx="320">
                  <c:v>-6.94705882352941</c:v>
                </c:pt>
                <c:pt idx="321">
                  <c:v>-6.93727540500736</c:v>
                </c:pt>
                <c:pt idx="322">
                  <c:v>-6.92749262536873</c:v>
                </c:pt>
                <c:pt idx="323">
                  <c:v>-6.91771048744461</c:v>
                </c:pt>
                <c:pt idx="324">
                  <c:v>-6.90792899408284</c:v>
                </c:pt>
                <c:pt idx="325">
                  <c:v>-6.89814814814815</c:v>
                </c:pt>
                <c:pt idx="326">
                  <c:v>-6.88836795252226</c:v>
                </c:pt>
                <c:pt idx="327">
                  <c:v>-6.87858841010401</c:v>
                </c:pt>
                <c:pt idx="328">
                  <c:v>-6.86880952380952</c:v>
                </c:pt>
                <c:pt idx="329">
                  <c:v>-6.85903129657228</c:v>
                </c:pt>
                <c:pt idx="330">
                  <c:v>-6.84925373134328</c:v>
                </c:pt>
                <c:pt idx="331">
                  <c:v>-6.83947683109118</c:v>
                </c:pt>
                <c:pt idx="332">
                  <c:v>-6.8297005988024</c:v>
                </c:pt>
                <c:pt idx="333">
                  <c:v>-6.81992503748126</c:v>
                </c:pt>
                <c:pt idx="334">
                  <c:v>-6.81015015015015</c:v>
                </c:pt>
                <c:pt idx="335">
                  <c:v>-6.80037593984963</c:v>
                </c:pt>
                <c:pt idx="336">
                  <c:v>-6.79060240963856</c:v>
                </c:pt>
                <c:pt idx="337">
                  <c:v>-6.78082956259427</c:v>
                </c:pt>
                <c:pt idx="338">
                  <c:v>-6.77105740181269</c:v>
                </c:pt>
                <c:pt idx="339">
                  <c:v>-6.76128593040847</c:v>
                </c:pt>
                <c:pt idx="340">
                  <c:v>-6.75151515151515</c:v>
                </c:pt>
                <c:pt idx="341">
                  <c:v>-6.74174506828528</c:v>
                </c:pt>
                <c:pt idx="342">
                  <c:v>-6.73197568389058</c:v>
                </c:pt>
                <c:pt idx="343">
                  <c:v>-6.72220700152207</c:v>
                </c:pt>
                <c:pt idx="344">
                  <c:v>-6.71243902439024</c:v>
                </c:pt>
                <c:pt idx="345">
                  <c:v>-6.70267175572519</c:v>
                </c:pt>
                <c:pt idx="346">
                  <c:v>-6.69290519877676</c:v>
                </c:pt>
                <c:pt idx="347">
                  <c:v>-6.6831393568147</c:v>
                </c:pt>
                <c:pt idx="348">
                  <c:v>-6.67337423312883</c:v>
                </c:pt>
                <c:pt idx="349">
                  <c:v>-6.66360983102919</c:v>
                </c:pt>
                <c:pt idx="350">
                  <c:v>-6.65384615384615</c:v>
                </c:pt>
                <c:pt idx="351">
                  <c:v>-6.64408320493066</c:v>
                </c:pt>
                <c:pt idx="352">
                  <c:v>-6.63432098765432</c:v>
                </c:pt>
                <c:pt idx="353">
                  <c:v>-6.62455950540958</c:v>
                </c:pt>
                <c:pt idx="354">
                  <c:v>-6.61479876160991</c:v>
                </c:pt>
                <c:pt idx="355">
                  <c:v>-6.60503875968992</c:v>
                </c:pt>
                <c:pt idx="356">
                  <c:v>-6.59527950310559</c:v>
                </c:pt>
                <c:pt idx="357">
                  <c:v>-6.58552099533437</c:v>
                </c:pt>
                <c:pt idx="358">
                  <c:v>-6.57576323987539</c:v>
                </c:pt>
                <c:pt idx="359">
                  <c:v>-6.56600624024961</c:v>
                </c:pt>
                <c:pt idx="360">
                  <c:v>-6.55625</c:v>
                </c:pt>
                <c:pt idx="361">
                  <c:v>-6.54649452269171</c:v>
                </c:pt>
                <c:pt idx="362">
                  <c:v>-6.53673981191223</c:v>
                </c:pt>
                <c:pt idx="363">
                  <c:v>-6.52698587127159</c:v>
                </c:pt>
                <c:pt idx="364">
                  <c:v>-6.51723270440252</c:v>
                </c:pt>
                <c:pt idx="365">
                  <c:v>-6.50748031496063</c:v>
                </c:pt>
                <c:pt idx="366">
                  <c:v>-6.49772870662461</c:v>
                </c:pt>
                <c:pt idx="367">
                  <c:v>-6.48797788309637</c:v>
                </c:pt>
                <c:pt idx="368">
                  <c:v>-6.47822784810127</c:v>
                </c:pt>
                <c:pt idx="369">
                  <c:v>-6.46847860538827</c:v>
                </c:pt>
                <c:pt idx="370">
                  <c:v>-6.45873015873016</c:v>
                </c:pt>
                <c:pt idx="371">
                  <c:v>-6.44898251192369</c:v>
                </c:pt>
                <c:pt idx="372">
                  <c:v>-6.43923566878981</c:v>
                </c:pt>
                <c:pt idx="373">
                  <c:v>-6.42948963317384</c:v>
                </c:pt>
                <c:pt idx="374">
                  <c:v>-6.41974440894569</c:v>
                </c:pt>
                <c:pt idx="375">
                  <c:v>-6.41</c:v>
                </c:pt>
                <c:pt idx="376">
                  <c:v>-6.40025641025641</c:v>
                </c:pt>
                <c:pt idx="377">
                  <c:v>-6.39051364365971</c:v>
                </c:pt>
                <c:pt idx="378">
                  <c:v>-6.38077170418006</c:v>
                </c:pt>
                <c:pt idx="379">
                  <c:v>-6.3710305958132</c:v>
                </c:pt>
                <c:pt idx="380">
                  <c:v>-6.36129032258064</c:v>
                </c:pt>
                <c:pt idx="381">
                  <c:v>-6.35155088852989</c:v>
                </c:pt>
                <c:pt idx="382">
                  <c:v>-6.34181229773463</c:v>
                </c:pt>
                <c:pt idx="383">
                  <c:v>-6.33207455429498</c:v>
                </c:pt>
                <c:pt idx="384">
                  <c:v>-6.32233766233766</c:v>
                </c:pt>
                <c:pt idx="385">
                  <c:v>-6.31260162601626</c:v>
                </c:pt>
                <c:pt idx="386">
                  <c:v>-6.3028664495114</c:v>
                </c:pt>
                <c:pt idx="387">
                  <c:v>-6.293132137031</c:v>
                </c:pt>
                <c:pt idx="388">
                  <c:v>-6.28339869281046</c:v>
                </c:pt>
                <c:pt idx="389">
                  <c:v>-6.27366612111293</c:v>
                </c:pt>
                <c:pt idx="390">
                  <c:v>-6.26393442622951</c:v>
                </c:pt>
                <c:pt idx="391">
                  <c:v>-6.25420361247948</c:v>
                </c:pt>
                <c:pt idx="392">
                  <c:v>-6.24447368421053</c:v>
                </c:pt>
                <c:pt idx="393">
                  <c:v>-6.23474464579901</c:v>
                </c:pt>
                <c:pt idx="394">
                  <c:v>-6.22501650165017</c:v>
                </c:pt>
                <c:pt idx="395">
                  <c:v>-6.21528925619835</c:v>
                </c:pt>
                <c:pt idx="396">
                  <c:v>-6.20556291390728</c:v>
                </c:pt>
                <c:pt idx="397">
                  <c:v>-6.19583747927031</c:v>
                </c:pt>
                <c:pt idx="398">
                  <c:v>-6.18611295681063</c:v>
                </c:pt>
                <c:pt idx="399">
                  <c:v>-6.17638935108153</c:v>
                </c:pt>
                <c:pt idx="400">
                  <c:v>-6.16666666666667</c:v>
                </c:pt>
                <c:pt idx="401">
                  <c:v>-6.1569449081803</c:v>
                </c:pt>
                <c:pt idx="402">
                  <c:v>-6.14722408026756</c:v>
                </c:pt>
                <c:pt idx="403">
                  <c:v>-6.13750418760469</c:v>
                </c:pt>
                <c:pt idx="404">
                  <c:v>-6.12778523489933</c:v>
                </c:pt>
                <c:pt idx="405">
                  <c:v>-6.11806722689076</c:v>
                </c:pt>
                <c:pt idx="406">
                  <c:v>-6.10835016835017</c:v>
                </c:pt>
                <c:pt idx="407">
                  <c:v>-6.09863406408094</c:v>
                </c:pt>
                <c:pt idx="408">
                  <c:v>-6.08891891891892</c:v>
                </c:pt>
                <c:pt idx="409">
                  <c:v>-6.07920473773266</c:v>
                </c:pt>
                <c:pt idx="410">
                  <c:v>-6.06949152542373</c:v>
                </c:pt>
                <c:pt idx="411">
                  <c:v>-6.059779286927</c:v>
                </c:pt>
                <c:pt idx="412">
                  <c:v>-6.05006802721089</c:v>
                </c:pt>
                <c:pt idx="413">
                  <c:v>-6.04035775127768</c:v>
                </c:pt>
                <c:pt idx="414">
                  <c:v>-6.03064846416382</c:v>
                </c:pt>
                <c:pt idx="415">
                  <c:v>-6.02094017094017</c:v>
                </c:pt>
                <c:pt idx="416">
                  <c:v>-6.01123287671233</c:v>
                </c:pt>
                <c:pt idx="417">
                  <c:v>-6.00152658662093</c:v>
                </c:pt>
                <c:pt idx="418">
                  <c:v>-5.99182130584193</c:v>
                </c:pt>
                <c:pt idx="419">
                  <c:v>-5.98211703958692</c:v>
                </c:pt>
                <c:pt idx="420">
                  <c:v>-5.97241379310345</c:v>
                </c:pt>
                <c:pt idx="421">
                  <c:v>-5.9627115716753</c:v>
                </c:pt>
                <c:pt idx="422">
                  <c:v>-5.95301038062284</c:v>
                </c:pt>
                <c:pt idx="423">
                  <c:v>-5.94331022530329</c:v>
                </c:pt>
                <c:pt idx="424">
                  <c:v>-5.93361111111111</c:v>
                </c:pt>
                <c:pt idx="425">
                  <c:v>-5.92391304347826</c:v>
                </c:pt>
                <c:pt idx="426">
                  <c:v>-5.91421602787457</c:v>
                </c:pt>
                <c:pt idx="427">
                  <c:v>-5.90452006980803</c:v>
                </c:pt>
                <c:pt idx="428">
                  <c:v>-5.89482517482518</c:v>
                </c:pt>
                <c:pt idx="429">
                  <c:v>-5.88513134851138</c:v>
                </c:pt>
                <c:pt idx="430">
                  <c:v>-5.87543859649123</c:v>
                </c:pt>
                <c:pt idx="431">
                  <c:v>-5.86574692442882</c:v>
                </c:pt>
                <c:pt idx="432">
                  <c:v>-5.85605633802817</c:v>
                </c:pt>
                <c:pt idx="433">
                  <c:v>-5.84636684303351</c:v>
                </c:pt>
                <c:pt idx="434">
                  <c:v>-5.83667844522968</c:v>
                </c:pt>
                <c:pt idx="435">
                  <c:v>-5.82699115044248</c:v>
                </c:pt>
                <c:pt idx="436">
                  <c:v>-5.81730496453901</c:v>
                </c:pt>
                <c:pt idx="437">
                  <c:v>-5.80761989342806</c:v>
                </c:pt>
                <c:pt idx="438">
                  <c:v>-5.7979359430605</c:v>
                </c:pt>
                <c:pt idx="439">
                  <c:v>-5.78825311942959</c:v>
                </c:pt>
                <c:pt idx="440">
                  <c:v>-5.77857142857143</c:v>
                </c:pt>
                <c:pt idx="441">
                  <c:v>-5.7688908765653</c:v>
                </c:pt>
                <c:pt idx="442">
                  <c:v>-5.75921146953405</c:v>
                </c:pt>
                <c:pt idx="443">
                  <c:v>-5.74953321364453</c:v>
                </c:pt>
                <c:pt idx="444">
                  <c:v>-5.73985611510791</c:v>
                </c:pt>
                <c:pt idx="445">
                  <c:v>-5.73018018018018</c:v>
                </c:pt>
                <c:pt idx="446">
                  <c:v>-5.72050541516246</c:v>
                </c:pt>
                <c:pt idx="447">
                  <c:v>-5.71083182640145</c:v>
                </c:pt>
                <c:pt idx="448">
                  <c:v>-5.70115942028986</c:v>
                </c:pt>
                <c:pt idx="449">
                  <c:v>-5.69148820326679</c:v>
                </c:pt>
                <c:pt idx="450">
                  <c:v>-5.68181818181818</c:v>
                </c:pt>
                <c:pt idx="451">
                  <c:v>-5.67214936247723</c:v>
                </c:pt>
                <c:pt idx="452">
                  <c:v>-5.66248175182482</c:v>
                </c:pt>
                <c:pt idx="453">
                  <c:v>-5.65281535648995</c:v>
                </c:pt>
                <c:pt idx="454">
                  <c:v>-5.64315018315018</c:v>
                </c:pt>
                <c:pt idx="455">
                  <c:v>-5.63348623853211</c:v>
                </c:pt>
                <c:pt idx="456">
                  <c:v>-5.62382352941176</c:v>
                </c:pt>
                <c:pt idx="457">
                  <c:v>-5.6141620626151</c:v>
                </c:pt>
                <c:pt idx="458">
                  <c:v>-5.60450184501845</c:v>
                </c:pt>
                <c:pt idx="459">
                  <c:v>-5.59484288354898</c:v>
                </c:pt>
                <c:pt idx="460">
                  <c:v>-5.58518518518519</c:v>
                </c:pt>
                <c:pt idx="461">
                  <c:v>-5.57552875695733</c:v>
                </c:pt>
                <c:pt idx="462">
                  <c:v>-5.56587360594796</c:v>
                </c:pt>
                <c:pt idx="463">
                  <c:v>-5.55621973929237</c:v>
                </c:pt>
                <c:pt idx="464">
                  <c:v>-5.54656716417911</c:v>
                </c:pt>
                <c:pt idx="465">
                  <c:v>-5.53691588785047</c:v>
                </c:pt>
                <c:pt idx="466">
                  <c:v>-5.527265917603</c:v>
                </c:pt>
                <c:pt idx="467">
                  <c:v>-5.51761726078799</c:v>
                </c:pt>
                <c:pt idx="468">
                  <c:v>-5.50796992481203</c:v>
                </c:pt>
                <c:pt idx="469">
                  <c:v>-5.49832391713748</c:v>
                </c:pt>
                <c:pt idx="470">
                  <c:v>-5.48867924528302</c:v>
                </c:pt>
                <c:pt idx="471">
                  <c:v>-5.4790359168242</c:v>
                </c:pt>
                <c:pt idx="472">
                  <c:v>-5.46939393939394</c:v>
                </c:pt>
                <c:pt idx="473">
                  <c:v>-5.45975332068311</c:v>
                </c:pt>
                <c:pt idx="474">
                  <c:v>-5.45011406844106</c:v>
                </c:pt>
                <c:pt idx="475">
                  <c:v>-5.44047619047619</c:v>
                </c:pt>
                <c:pt idx="476">
                  <c:v>-5.43083969465649</c:v>
                </c:pt>
                <c:pt idx="477">
                  <c:v>-5.42120458891013</c:v>
                </c:pt>
                <c:pt idx="478">
                  <c:v>-5.41157088122605</c:v>
                </c:pt>
                <c:pt idx="479">
                  <c:v>-5.40193857965451</c:v>
                </c:pt>
                <c:pt idx="480">
                  <c:v>-5.39230769230769</c:v>
                </c:pt>
                <c:pt idx="481">
                  <c:v>-5.38267822736031</c:v>
                </c:pt>
                <c:pt idx="482">
                  <c:v>-5.37305019305019</c:v>
                </c:pt>
                <c:pt idx="483">
                  <c:v>-5.36342359767892</c:v>
                </c:pt>
                <c:pt idx="484">
                  <c:v>-5.3537984496124</c:v>
                </c:pt>
                <c:pt idx="485">
                  <c:v>-5.34417475728155</c:v>
                </c:pt>
                <c:pt idx="486">
                  <c:v>-5.33455252918288</c:v>
                </c:pt>
                <c:pt idx="487">
                  <c:v>-5.32493177387914</c:v>
                </c:pt>
                <c:pt idx="488">
                  <c:v>-5.3153125</c:v>
                </c:pt>
                <c:pt idx="489">
                  <c:v>-5.30569471624266</c:v>
                </c:pt>
                <c:pt idx="490">
                  <c:v>-5.29607843137255</c:v>
                </c:pt>
                <c:pt idx="491">
                  <c:v>-5.28646365422397</c:v>
                </c:pt>
                <c:pt idx="492">
                  <c:v>-5.27685039370079</c:v>
                </c:pt>
                <c:pt idx="493">
                  <c:v>-5.26723865877712</c:v>
                </c:pt>
                <c:pt idx="494">
                  <c:v>-5.25762845849802</c:v>
                </c:pt>
                <c:pt idx="495">
                  <c:v>-5.2480198019802</c:v>
                </c:pt>
                <c:pt idx="496">
                  <c:v>-5.2384126984127</c:v>
                </c:pt>
                <c:pt idx="497">
                  <c:v>-5.22880715705766</c:v>
                </c:pt>
                <c:pt idx="498">
                  <c:v>-5.219203187251</c:v>
                </c:pt>
                <c:pt idx="499">
                  <c:v>-5.20960079840319</c:v>
                </c:pt>
                <c:pt idx="500">
                  <c:v>-5.2</c:v>
                </c:pt>
                <c:pt idx="501">
                  <c:v>-5.19040080160321</c:v>
                </c:pt>
                <c:pt idx="502">
                  <c:v>-5.18080321285141</c:v>
                </c:pt>
                <c:pt idx="503">
                  <c:v>-5.17120724346076</c:v>
                </c:pt>
                <c:pt idx="504">
                  <c:v>-5.16161290322581</c:v>
                </c:pt>
                <c:pt idx="505">
                  <c:v>-5.1520202020202</c:v>
                </c:pt>
                <c:pt idx="506">
                  <c:v>-5.14242914979757</c:v>
                </c:pt>
                <c:pt idx="507">
                  <c:v>-5.13283975659229</c:v>
                </c:pt>
                <c:pt idx="508">
                  <c:v>-5.12325203252033</c:v>
                </c:pt>
                <c:pt idx="509">
                  <c:v>-5.11366598778004</c:v>
                </c:pt>
                <c:pt idx="510">
                  <c:v>-5.10408163265306</c:v>
                </c:pt>
                <c:pt idx="511">
                  <c:v>-5.09449897750511</c:v>
                </c:pt>
                <c:pt idx="512">
                  <c:v>-5.08491803278689</c:v>
                </c:pt>
                <c:pt idx="513">
                  <c:v>-5.07533880903491</c:v>
                </c:pt>
                <c:pt idx="514">
                  <c:v>-5.06576131687243</c:v>
                </c:pt>
                <c:pt idx="515">
                  <c:v>-5.05618556701031</c:v>
                </c:pt>
                <c:pt idx="516">
                  <c:v>-5.04661157024793</c:v>
                </c:pt>
                <c:pt idx="517">
                  <c:v>-5.03703933747412</c:v>
                </c:pt>
                <c:pt idx="518">
                  <c:v>-5.02746887966805</c:v>
                </c:pt>
                <c:pt idx="519">
                  <c:v>-5.01790020790021</c:v>
                </c:pt>
                <c:pt idx="520">
                  <c:v>-5.00833333333333</c:v>
                </c:pt>
                <c:pt idx="521">
                  <c:v>-4.99876826722338</c:v>
                </c:pt>
                <c:pt idx="522">
                  <c:v>-4.9892050209205</c:v>
                </c:pt>
                <c:pt idx="523">
                  <c:v>-4.97964360587002</c:v>
                </c:pt>
                <c:pt idx="524">
                  <c:v>-4.97008403361345</c:v>
                </c:pt>
                <c:pt idx="525">
                  <c:v>-4.96052631578947</c:v>
                </c:pt>
                <c:pt idx="526">
                  <c:v>-4.95097046413502</c:v>
                </c:pt>
                <c:pt idx="527">
                  <c:v>-4.94141649048626</c:v>
                </c:pt>
                <c:pt idx="528">
                  <c:v>-4.93186440677966</c:v>
                </c:pt>
                <c:pt idx="529">
                  <c:v>-4.92231422505308</c:v>
                </c:pt>
                <c:pt idx="530">
                  <c:v>-4.91276595744681</c:v>
                </c:pt>
                <c:pt idx="531">
                  <c:v>-4.90321961620469</c:v>
                </c:pt>
                <c:pt idx="532">
                  <c:v>-4.89367521367521</c:v>
                </c:pt>
                <c:pt idx="533">
                  <c:v>-4.88413276231263</c:v>
                </c:pt>
                <c:pt idx="534">
                  <c:v>-4.87459227467811</c:v>
                </c:pt>
                <c:pt idx="535">
                  <c:v>-4.86505376344086</c:v>
                </c:pt>
                <c:pt idx="536">
                  <c:v>-4.85551724137931</c:v>
                </c:pt>
                <c:pt idx="537">
                  <c:v>-4.84598272138229</c:v>
                </c:pt>
                <c:pt idx="538">
                  <c:v>-4.83645021645022</c:v>
                </c:pt>
                <c:pt idx="539">
                  <c:v>-4.82691973969631</c:v>
                </c:pt>
                <c:pt idx="540">
                  <c:v>-4.81739130434783</c:v>
                </c:pt>
                <c:pt idx="541">
                  <c:v>-4.80786492374728</c:v>
                </c:pt>
                <c:pt idx="542">
                  <c:v>-4.79834061135371</c:v>
                </c:pt>
                <c:pt idx="543">
                  <c:v>-4.78881838074398</c:v>
                </c:pt>
                <c:pt idx="544">
                  <c:v>-4.77929824561404</c:v>
                </c:pt>
                <c:pt idx="545">
                  <c:v>-4.76978021978022</c:v>
                </c:pt>
                <c:pt idx="546">
                  <c:v>-4.76026431718062</c:v>
                </c:pt>
                <c:pt idx="547">
                  <c:v>-4.75075055187638</c:v>
                </c:pt>
                <c:pt idx="548">
                  <c:v>-4.7412389380531</c:v>
                </c:pt>
                <c:pt idx="549">
                  <c:v>-4.73172949002217</c:v>
                </c:pt>
                <c:pt idx="550">
                  <c:v>-4.72222222222222</c:v>
                </c:pt>
                <c:pt idx="551">
                  <c:v>-4.71271714922049</c:v>
                </c:pt>
                <c:pt idx="552">
                  <c:v>-4.70321428571429</c:v>
                </c:pt>
                <c:pt idx="553">
                  <c:v>-4.69371364653244</c:v>
                </c:pt>
                <c:pt idx="554">
                  <c:v>-4.68421524663677</c:v>
                </c:pt>
                <c:pt idx="555">
                  <c:v>-4.6747191011236</c:v>
                </c:pt>
                <c:pt idx="556">
                  <c:v>-4.66522522522523</c:v>
                </c:pt>
                <c:pt idx="557">
                  <c:v>-4.65573363431151</c:v>
                </c:pt>
                <c:pt idx="558">
                  <c:v>-4.6462443438914</c:v>
                </c:pt>
                <c:pt idx="559">
                  <c:v>-4.63675736961451</c:v>
                </c:pt>
                <c:pt idx="560">
                  <c:v>-4.62727272727273</c:v>
                </c:pt>
                <c:pt idx="561">
                  <c:v>-4.61779043280182</c:v>
                </c:pt>
                <c:pt idx="562">
                  <c:v>-4.60831050228311</c:v>
                </c:pt>
                <c:pt idx="563">
                  <c:v>-4.59883295194508</c:v>
                </c:pt>
                <c:pt idx="564">
                  <c:v>-4.58935779816514</c:v>
                </c:pt>
                <c:pt idx="565">
                  <c:v>-4.57988505747126</c:v>
                </c:pt>
                <c:pt idx="566">
                  <c:v>-4.57041474654378</c:v>
                </c:pt>
                <c:pt idx="567">
                  <c:v>-4.56094688221709</c:v>
                </c:pt>
                <c:pt idx="568">
                  <c:v>-4.55148148148148</c:v>
                </c:pt>
                <c:pt idx="569">
                  <c:v>-4.54201856148492</c:v>
                </c:pt>
                <c:pt idx="570">
                  <c:v>-4.53255813953488</c:v>
                </c:pt>
                <c:pt idx="571">
                  <c:v>-4.52310023310023</c:v>
                </c:pt>
                <c:pt idx="572">
                  <c:v>-4.51364485981308</c:v>
                </c:pt>
                <c:pt idx="573">
                  <c:v>-4.50419203747073</c:v>
                </c:pt>
                <c:pt idx="574">
                  <c:v>-4.49474178403756</c:v>
                </c:pt>
                <c:pt idx="575">
                  <c:v>-4.48529411764706</c:v>
                </c:pt>
                <c:pt idx="576">
                  <c:v>-4.47584905660377</c:v>
                </c:pt>
                <c:pt idx="577">
                  <c:v>-4.46640661938534</c:v>
                </c:pt>
                <c:pt idx="578">
                  <c:v>-4.45696682464455</c:v>
                </c:pt>
                <c:pt idx="579">
                  <c:v>-4.4475296912114</c:v>
                </c:pt>
                <c:pt idx="580">
                  <c:v>-4.43809523809524</c:v>
                </c:pt>
                <c:pt idx="581">
                  <c:v>-4.42866348448687</c:v>
                </c:pt>
                <c:pt idx="582">
                  <c:v>-4.41923444976077</c:v>
                </c:pt>
                <c:pt idx="583">
                  <c:v>-4.40980815347722</c:v>
                </c:pt>
                <c:pt idx="584">
                  <c:v>-4.40038461538462</c:v>
                </c:pt>
                <c:pt idx="585">
                  <c:v>-4.39096385542169</c:v>
                </c:pt>
                <c:pt idx="586">
                  <c:v>-4.38154589371981</c:v>
                </c:pt>
                <c:pt idx="587">
                  <c:v>-4.37213075060533</c:v>
                </c:pt>
                <c:pt idx="588">
                  <c:v>-4.36271844660194</c:v>
                </c:pt>
                <c:pt idx="589">
                  <c:v>-4.35330900243309</c:v>
                </c:pt>
                <c:pt idx="590">
                  <c:v>-4.34390243902439</c:v>
                </c:pt>
                <c:pt idx="591">
                  <c:v>-4.33449877750611</c:v>
                </c:pt>
                <c:pt idx="592">
                  <c:v>-4.32509803921569</c:v>
                </c:pt>
                <c:pt idx="593">
                  <c:v>-4.31570024570025</c:v>
                </c:pt>
                <c:pt idx="594">
                  <c:v>-4.30630541871921</c:v>
                </c:pt>
                <c:pt idx="595">
                  <c:v>-4.29691358024691</c:v>
                </c:pt>
                <c:pt idx="596">
                  <c:v>-4.28752475247525</c:v>
                </c:pt>
                <c:pt idx="597">
                  <c:v>-4.27813895781638</c:v>
                </c:pt>
                <c:pt idx="598">
                  <c:v>-4.26875621890547</c:v>
                </c:pt>
                <c:pt idx="599">
                  <c:v>-4.25937655860349</c:v>
                </c:pt>
                <c:pt idx="600">
                  <c:v>-4.25</c:v>
                </c:pt>
                <c:pt idx="601">
                  <c:v>-4.24062656641604</c:v>
                </c:pt>
                <c:pt idx="602">
                  <c:v>-4.23125628140704</c:v>
                </c:pt>
                <c:pt idx="603">
                  <c:v>-4.22188916876574</c:v>
                </c:pt>
                <c:pt idx="604">
                  <c:v>-4.21252525252525</c:v>
                </c:pt>
                <c:pt idx="605">
                  <c:v>-4.20316455696203</c:v>
                </c:pt>
                <c:pt idx="606">
                  <c:v>-4.19380710659898</c:v>
                </c:pt>
                <c:pt idx="607">
                  <c:v>-4.18445292620865</c:v>
                </c:pt>
                <c:pt idx="608">
                  <c:v>-4.17510204081633</c:v>
                </c:pt>
                <c:pt idx="609">
                  <c:v>-4.16575447570333</c:v>
                </c:pt>
                <c:pt idx="610">
                  <c:v>-4.15641025641026</c:v>
                </c:pt>
                <c:pt idx="611">
                  <c:v>-4.14706940874036</c:v>
                </c:pt>
                <c:pt idx="612">
                  <c:v>-4.13773195876289</c:v>
                </c:pt>
                <c:pt idx="613">
                  <c:v>-4.12839793281654</c:v>
                </c:pt>
                <c:pt idx="614">
                  <c:v>-4.11906735751295</c:v>
                </c:pt>
                <c:pt idx="615">
                  <c:v>-4.10974025974026</c:v>
                </c:pt>
                <c:pt idx="616">
                  <c:v>-4.10041666666667</c:v>
                </c:pt>
                <c:pt idx="617">
                  <c:v>-4.09109660574413</c:v>
                </c:pt>
                <c:pt idx="618">
                  <c:v>-4.08178010471204</c:v>
                </c:pt>
                <c:pt idx="619">
                  <c:v>-4.07246719160105</c:v>
                </c:pt>
                <c:pt idx="620">
                  <c:v>-4.06315789473684</c:v>
                </c:pt>
                <c:pt idx="621">
                  <c:v>-4.05385224274406</c:v>
                </c:pt>
                <c:pt idx="622">
                  <c:v>-4.04455026455026</c:v>
                </c:pt>
                <c:pt idx="623">
                  <c:v>-4.03525198938992</c:v>
                </c:pt>
                <c:pt idx="624">
                  <c:v>-4.02595744680851</c:v>
                </c:pt>
                <c:pt idx="625">
                  <c:v>-4.01666666666667</c:v>
                </c:pt>
                <c:pt idx="626">
                  <c:v>-4.00737967914439</c:v>
                </c:pt>
                <c:pt idx="627">
                  <c:v>-3.99809651474531</c:v>
                </c:pt>
                <c:pt idx="628">
                  <c:v>-3.98881720430108</c:v>
                </c:pt>
                <c:pt idx="629">
                  <c:v>-3.97954177897574</c:v>
                </c:pt>
                <c:pt idx="630">
                  <c:v>-3.97027027027027</c:v>
                </c:pt>
                <c:pt idx="631">
                  <c:v>-3.9610027100271</c:v>
                </c:pt>
                <c:pt idx="632">
                  <c:v>-3.95173913043478</c:v>
                </c:pt>
                <c:pt idx="633">
                  <c:v>-3.9424795640327</c:v>
                </c:pt>
                <c:pt idx="634">
                  <c:v>-3.93322404371585</c:v>
                </c:pt>
                <c:pt idx="635">
                  <c:v>-3.92397260273973</c:v>
                </c:pt>
                <c:pt idx="636">
                  <c:v>-3.91472527472527</c:v>
                </c:pt>
                <c:pt idx="637">
                  <c:v>-3.90548209366391</c:v>
                </c:pt>
                <c:pt idx="638">
                  <c:v>-3.89624309392265</c:v>
                </c:pt>
                <c:pt idx="639">
                  <c:v>-3.88700831024931</c:v>
                </c:pt>
                <c:pt idx="640">
                  <c:v>-3.87777777777778</c:v>
                </c:pt>
                <c:pt idx="641">
                  <c:v>-3.86855153203343</c:v>
                </c:pt>
                <c:pt idx="642">
                  <c:v>-3.85932960893855</c:v>
                </c:pt>
                <c:pt idx="643">
                  <c:v>-3.85011204481793</c:v>
                </c:pt>
                <c:pt idx="644">
                  <c:v>-3.84089887640449</c:v>
                </c:pt>
                <c:pt idx="645">
                  <c:v>-3.83169014084507</c:v>
                </c:pt>
                <c:pt idx="646">
                  <c:v>-3.82248587570621</c:v>
                </c:pt>
                <c:pt idx="647">
                  <c:v>-3.81328611898017</c:v>
                </c:pt>
                <c:pt idx="648">
                  <c:v>-3.80409090909091</c:v>
                </c:pt>
                <c:pt idx="649">
                  <c:v>-3.79490028490029</c:v>
                </c:pt>
                <c:pt idx="650">
                  <c:v>-3.78571428571429</c:v>
                </c:pt>
                <c:pt idx="651">
                  <c:v>-3.7765329512894</c:v>
                </c:pt>
                <c:pt idx="652">
                  <c:v>-3.76735632183908</c:v>
                </c:pt>
                <c:pt idx="653">
                  <c:v>-3.75818443804035</c:v>
                </c:pt>
                <c:pt idx="654">
                  <c:v>-3.74901734104046</c:v>
                </c:pt>
                <c:pt idx="655">
                  <c:v>-3.73985507246377</c:v>
                </c:pt>
                <c:pt idx="656">
                  <c:v>-3.7306976744186</c:v>
                </c:pt>
                <c:pt idx="657">
                  <c:v>-3.72154518950437</c:v>
                </c:pt>
                <c:pt idx="658">
                  <c:v>-3.71239766081871</c:v>
                </c:pt>
                <c:pt idx="659">
                  <c:v>-3.70325513196481</c:v>
                </c:pt>
                <c:pt idx="660">
                  <c:v>-3.69411764705882</c:v>
                </c:pt>
                <c:pt idx="661">
                  <c:v>-3.68498525073746</c:v>
                </c:pt>
                <c:pt idx="662">
                  <c:v>-3.67585798816568</c:v>
                </c:pt>
                <c:pt idx="663">
                  <c:v>-3.66673590504451</c:v>
                </c:pt>
                <c:pt idx="664">
                  <c:v>-3.65761904761905</c:v>
                </c:pt>
                <c:pt idx="665">
                  <c:v>-3.64850746268657</c:v>
                </c:pt>
                <c:pt idx="666">
                  <c:v>-3.63940119760479</c:v>
                </c:pt>
                <c:pt idx="667">
                  <c:v>-3.6303003003003</c:v>
                </c:pt>
                <c:pt idx="668">
                  <c:v>-3.62120481927711</c:v>
                </c:pt>
                <c:pt idx="669">
                  <c:v>-3.61211480362538</c:v>
                </c:pt>
                <c:pt idx="670">
                  <c:v>-3.6030303030303</c:v>
                </c:pt>
                <c:pt idx="671">
                  <c:v>-3.59395136778116</c:v>
                </c:pt>
                <c:pt idx="672">
                  <c:v>-3.58487804878049</c:v>
                </c:pt>
                <c:pt idx="673">
                  <c:v>-3.57581039755352</c:v>
                </c:pt>
                <c:pt idx="674">
                  <c:v>-3.56674846625767</c:v>
                </c:pt>
                <c:pt idx="675">
                  <c:v>-3.55769230769231</c:v>
                </c:pt>
                <c:pt idx="676">
                  <c:v>-3.54864197530864</c:v>
                </c:pt>
                <c:pt idx="677">
                  <c:v>-3.53959752321981</c:v>
                </c:pt>
                <c:pt idx="678">
                  <c:v>-3.53055900621118</c:v>
                </c:pt>
                <c:pt idx="679">
                  <c:v>-3.52152647975078</c:v>
                </c:pt>
                <c:pt idx="680">
                  <c:v>-3.5125</c:v>
                </c:pt>
                <c:pt idx="681">
                  <c:v>-3.50347962382445</c:v>
                </c:pt>
                <c:pt idx="682">
                  <c:v>-3.49446540880503</c:v>
                </c:pt>
                <c:pt idx="683">
                  <c:v>-3.48545741324921</c:v>
                </c:pt>
                <c:pt idx="684">
                  <c:v>-3.47645569620253</c:v>
                </c:pt>
                <c:pt idx="685">
                  <c:v>-3.46746031746032</c:v>
                </c:pt>
                <c:pt idx="686">
                  <c:v>-3.45847133757962</c:v>
                </c:pt>
                <c:pt idx="687">
                  <c:v>-3.44948881789137</c:v>
                </c:pt>
                <c:pt idx="688">
                  <c:v>-3.44051282051282</c:v>
                </c:pt>
                <c:pt idx="689">
                  <c:v>-3.43154340836013</c:v>
                </c:pt>
                <c:pt idx="690">
                  <c:v>-3.42258064516129</c:v>
                </c:pt>
                <c:pt idx="691">
                  <c:v>-3.41362459546926</c:v>
                </c:pt>
                <c:pt idx="692">
                  <c:v>-3.40467532467533</c:v>
                </c:pt>
                <c:pt idx="693">
                  <c:v>-3.3957328990228</c:v>
                </c:pt>
                <c:pt idx="694">
                  <c:v>-3.38679738562092</c:v>
                </c:pt>
                <c:pt idx="695">
                  <c:v>-3.37786885245902</c:v>
                </c:pt>
                <c:pt idx="696">
                  <c:v>-3.36894736842105</c:v>
                </c:pt>
                <c:pt idx="697">
                  <c:v>-3.36003300330033</c:v>
                </c:pt>
                <c:pt idx="698">
                  <c:v>-3.35112582781457</c:v>
                </c:pt>
                <c:pt idx="699">
                  <c:v>-3.34222591362126</c:v>
                </c:pt>
                <c:pt idx="700">
                  <c:v>-3.33333333333333</c:v>
                </c:pt>
                <c:pt idx="701">
                  <c:v>-3.32444816053512</c:v>
                </c:pt>
                <c:pt idx="702">
                  <c:v>-3.31557046979866</c:v>
                </c:pt>
                <c:pt idx="703">
                  <c:v>-3.30670033670034</c:v>
                </c:pt>
                <c:pt idx="704">
                  <c:v>-3.29783783783784</c:v>
                </c:pt>
                <c:pt idx="705">
                  <c:v>-3.28898305084746</c:v>
                </c:pt>
                <c:pt idx="706">
                  <c:v>-3.28013605442177</c:v>
                </c:pt>
                <c:pt idx="707">
                  <c:v>-3.27129692832765</c:v>
                </c:pt>
                <c:pt idx="708">
                  <c:v>-3.26246575342466</c:v>
                </c:pt>
                <c:pt idx="709">
                  <c:v>-3.25364261168385</c:v>
                </c:pt>
                <c:pt idx="710">
                  <c:v>-3.2448275862069</c:v>
                </c:pt>
                <c:pt idx="711">
                  <c:v>-3.23602076124567</c:v>
                </c:pt>
                <c:pt idx="712">
                  <c:v>-3.22722222222222</c:v>
                </c:pt>
                <c:pt idx="713">
                  <c:v>-3.21843205574913</c:v>
                </c:pt>
                <c:pt idx="714">
                  <c:v>-3.20965034965035</c:v>
                </c:pt>
                <c:pt idx="715">
                  <c:v>-3.20087719298246</c:v>
                </c:pt>
                <c:pt idx="716">
                  <c:v>-3.19211267605634</c:v>
                </c:pt>
                <c:pt idx="717">
                  <c:v>-3.18335689045936</c:v>
                </c:pt>
                <c:pt idx="718">
                  <c:v>-3.17460992907801</c:v>
                </c:pt>
                <c:pt idx="719">
                  <c:v>-3.165871886121</c:v>
                </c:pt>
                <c:pt idx="720">
                  <c:v>-3.15714285714286</c:v>
                </c:pt>
                <c:pt idx="721">
                  <c:v>-3.1484229390681</c:v>
                </c:pt>
                <c:pt idx="722">
                  <c:v>-3.13971223021583</c:v>
                </c:pt>
                <c:pt idx="723">
                  <c:v>-3.13101083032491</c:v>
                </c:pt>
                <c:pt idx="724">
                  <c:v>-3.12231884057971</c:v>
                </c:pt>
                <c:pt idx="725">
                  <c:v>-3.11363636363636</c:v>
                </c:pt>
                <c:pt idx="726">
                  <c:v>-3.10496350364964</c:v>
                </c:pt>
                <c:pt idx="727">
                  <c:v>-3.09630036630037</c:v>
                </c:pt>
                <c:pt idx="728">
                  <c:v>-3.08764705882353</c:v>
                </c:pt>
                <c:pt idx="729">
                  <c:v>-3.0790036900369</c:v>
                </c:pt>
                <c:pt idx="730">
                  <c:v>-3.07037037037037</c:v>
                </c:pt>
                <c:pt idx="731">
                  <c:v>-3.06174721189591</c:v>
                </c:pt>
                <c:pt idx="732">
                  <c:v>-3.05313432835821</c:v>
                </c:pt>
                <c:pt idx="733">
                  <c:v>-3.04453183520599</c:v>
                </c:pt>
                <c:pt idx="734">
                  <c:v>-3.03593984962406</c:v>
                </c:pt>
                <c:pt idx="735">
                  <c:v>-3.02735849056604</c:v>
                </c:pt>
                <c:pt idx="736">
                  <c:v>-3.01878787878788</c:v>
                </c:pt>
                <c:pt idx="737">
                  <c:v>-3.01022813688213</c:v>
                </c:pt>
                <c:pt idx="738">
                  <c:v>-3.00167938931298</c:v>
                </c:pt>
                <c:pt idx="739">
                  <c:v>-2.99314176245211</c:v>
                </c:pt>
                <c:pt idx="740">
                  <c:v>-2.98461538461538</c:v>
                </c:pt>
                <c:pt idx="741">
                  <c:v>-2.97610038610039</c:v>
                </c:pt>
                <c:pt idx="742">
                  <c:v>-2.96759689922481</c:v>
                </c:pt>
                <c:pt idx="743">
                  <c:v>-2.95910505836576</c:v>
                </c:pt>
                <c:pt idx="744">
                  <c:v>-2.950625</c:v>
                </c:pt>
                <c:pt idx="745">
                  <c:v>-2.9421568627451</c:v>
                </c:pt>
                <c:pt idx="746">
                  <c:v>-2.93370078740158</c:v>
                </c:pt>
                <c:pt idx="747">
                  <c:v>-2.92525691699605</c:v>
                </c:pt>
                <c:pt idx="748">
                  <c:v>-2.9168253968254</c:v>
                </c:pt>
                <c:pt idx="749">
                  <c:v>-2.90840637450199</c:v>
                </c:pt>
                <c:pt idx="750">
                  <c:v>-2.9</c:v>
                </c:pt>
                <c:pt idx="751">
                  <c:v>-2.89160642570281</c:v>
                </c:pt>
                <c:pt idx="752">
                  <c:v>-2.88322580645161</c:v>
                </c:pt>
                <c:pt idx="753">
                  <c:v>-2.87485829959514</c:v>
                </c:pt>
                <c:pt idx="754">
                  <c:v>-2.86650406504065</c:v>
                </c:pt>
                <c:pt idx="755">
                  <c:v>-2.85816326530612</c:v>
                </c:pt>
                <c:pt idx="756">
                  <c:v>-2.84983606557377</c:v>
                </c:pt>
                <c:pt idx="757">
                  <c:v>-2.84152263374486</c:v>
                </c:pt>
                <c:pt idx="758">
                  <c:v>-2.83322314049587</c:v>
                </c:pt>
                <c:pt idx="759">
                  <c:v>-2.8249377593361</c:v>
                </c:pt>
                <c:pt idx="760">
                  <c:v>-2.81666666666667</c:v>
                </c:pt>
                <c:pt idx="761">
                  <c:v>-2.808410041841</c:v>
                </c:pt>
                <c:pt idx="762">
                  <c:v>-2.80016806722689</c:v>
                </c:pt>
                <c:pt idx="763">
                  <c:v>-2.79194092827004</c:v>
                </c:pt>
                <c:pt idx="764">
                  <c:v>-2.78372881355932</c:v>
                </c:pt>
                <c:pt idx="765">
                  <c:v>-2.77553191489362</c:v>
                </c:pt>
                <c:pt idx="766">
                  <c:v>-2.76735042735043</c:v>
                </c:pt>
                <c:pt idx="767">
                  <c:v>-2.75918454935622</c:v>
                </c:pt>
                <c:pt idx="768">
                  <c:v>-2.75103448275862</c:v>
                </c:pt>
                <c:pt idx="769">
                  <c:v>-2.74290043290043</c:v>
                </c:pt>
                <c:pt idx="770">
                  <c:v>-2.73478260869565</c:v>
                </c:pt>
                <c:pt idx="771">
                  <c:v>-2.72668122270742</c:v>
                </c:pt>
                <c:pt idx="772">
                  <c:v>-2.71859649122807</c:v>
                </c:pt>
                <c:pt idx="773">
                  <c:v>-2.71052863436123</c:v>
                </c:pt>
                <c:pt idx="774">
                  <c:v>-2.70247787610619</c:v>
                </c:pt>
                <c:pt idx="775">
                  <c:v>-2.69444444444444</c:v>
                </c:pt>
                <c:pt idx="776">
                  <c:v>-2.68642857142857</c:v>
                </c:pt>
                <c:pt idx="777">
                  <c:v>-2.67843049327354</c:v>
                </c:pt>
                <c:pt idx="778">
                  <c:v>-2.67045045045045</c:v>
                </c:pt>
                <c:pt idx="779">
                  <c:v>-2.66248868778281</c:v>
                </c:pt>
                <c:pt idx="780">
                  <c:v>-2.65454545454545</c:v>
                </c:pt>
                <c:pt idx="781">
                  <c:v>-2.64662100456621</c:v>
                </c:pt>
                <c:pt idx="782">
                  <c:v>-2.63871559633028</c:v>
                </c:pt>
                <c:pt idx="783">
                  <c:v>-2.63082949308756</c:v>
                </c:pt>
                <c:pt idx="784">
                  <c:v>-2.62296296296296</c:v>
                </c:pt>
                <c:pt idx="785">
                  <c:v>-2.61511627906977</c:v>
                </c:pt>
                <c:pt idx="786">
                  <c:v>-2.60728971962617</c:v>
                </c:pt>
                <c:pt idx="787">
                  <c:v>-2.59948356807512</c:v>
                </c:pt>
                <c:pt idx="788">
                  <c:v>-2.59169811320755</c:v>
                </c:pt>
                <c:pt idx="789">
                  <c:v>-2.5839336492891</c:v>
                </c:pt>
                <c:pt idx="790">
                  <c:v>-2.57619047619048</c:v>
                </c:pt>
                <c:pt idx="791">
                  <c:v>-2.56846889952153</c:v>
                </c:pt>
                <c:pt idx="792">
                  <c:v>-2.56076923076923</c:v>
                </c:pt>
                <c:pt idx="793">
                  <c:v>-2.55309178743961</c:v>
                </c:pt>
                <c:pt idx="794">
                  <c:v>-2.54543689320388</c:v>
                </c:pt>
                <c:pt idx="795">
                  <c:v>-2.53780487804878</c:v>
                </c:pt>
                <c:pt idx="796">
                  <c:v>-2.53019607843137</c:v>
                </c:pt>
                <c:pt idx="797">
                  <c:v>-2.52261083743842</c:v>
                </c:pt>
                <c:pt idx="798">
                  <c:v>-2.51504950495049</c:v>
                </c:pt>
                <c:pt idx="799">
                  <c:v>-2.50751243781095</c:v>
                </c:pt>
                <c:pt idx="800">
                  <c:v>-2.5</c:v>
                </c:pt>
                <c:pt idx="801">
                  <c:v>-2.49251256281407</c:v>
                </c:pt>
                <c:pt idx="802">
                  <c:v>-2.48505050505051</c:v>
                </c:pt>
                <c:pt idx="803">
                  <c:v>-2.47761421319797</c:v>
                </c:pt>
                <c:pt idx="804">
                  <c:v>-2.47020408163265</c:v>
                </c:pt>
                <c:pt idx="805">
                  <c:v>-2.46282051282051</c:v>
                </c:pt>
                <c:pt idx="806">
                  <c:v>-2.45546391752577</c:v>
                </c:pt>
                <c:pt idx="807">
                  <c:v>-2.44813471502591</c:v>
                </c:pt>
                <c:pt idx="808">
                  <c:v>-2.44083333333333</c:v>
                </c:pt>
                <c:pt idx="809">
                  <c:v>-2.43356020942408</c:v>
                </c:pt>
                <c:pt idx="810">
                  <c:v>-2.42631578947368</c:v>
                </c:pt>
                <c:pt idx="811">
                  <c:v>-2.41910052910053</c:v>
                </c:pt>
                <c:pt idx="812">
                  <c:v>-2.41191489361702</c:v>
                </c:pt>
                <c:pt idx="813">
                  <c:v>-2.40475935828877</c:v>
                </c:pt>
                <c:pt idx="814">
                  <c:v>-2.39763440860215</c:v>
                </c:pt>
                <c:pt idx="815">
                  <c:v>-2.39054054054054</c:v>
                </c:pt>
                <c:pt idx="816">
                  <c:v>-2.38347826086957</c:v>
                </c:pt>
                <c:pt idx="817">
                  <c:v>-2.37644808743169</c:v>
                </c:pt>
                <c:pt idx="818">
                  <c:v>-2.36945054945055</c:v>
                </c:pt>
                <c:pt idx="819">
                  <c:v>-2.3624861878453</c:v>
                </c:pt>
                <c:pt idx="820">
                  <c:v>-2.35555555555556</c:v>
                </c:pt>
                <c:pt idx="821">
                  <c:v>-2.34865921787709</c:v>
                </c:pt>
                <c:pt idx="822">
                  <c:v>-2.34179775280899</c:v>
                </c:pt>
                <c:pt idx="823">
                  <c:v>-2.33497175141243</c:v>
                </c:pt>
                <c:pt idx="824">
                  <c:v>-2.32818181818182</c:v>
                </c:pt>
                <c:pt idx="825">
                  <c:v>-2.32142857142857</c:v>
                </c:pt>
                <c:pt idx="826">
                  <c:v>-2.31471264367816</c:v>
                </c:pt>
                <c:pt idx="827">
                  <c:v>-2.30803468208093</c:v>
                </c:pt>
                <c:pt idx="828">
                  <c:v>-2.30139534883721</c:v>
                </c:pt>
                <c:pt idx="829">
                  <c:v>-2.29479532163743</c:v>
                </c:pt>
                <c:pt idx="830">
                  <c:v>-2.28823529411765</c:v>
                </c:pt>
                <c:pt idx="831">
                  <c:v>-2.28171597633136</c:v>
                </c:pt>
                <c:pt idx="832">
                  <c:v>-2.2752380952381</c:v>
                </c:pt>
                <c:pt idx="833">
                  <c:v>-2.26880239520958</c:v>
                </c:pt>
                <c:pt idx="834">
                  <c:v>-2.26240963855422</c:v>
                </c:pt>
                <c:pt idx="835">
                  <c:v>-2.25606060606061</c:v>
                </c:pt>
                <c:pt idx="836">
                  <c:v>-2.24975609756098</c:v>
                </c:pt>
                <c:pt idx="837">
                  <c:v>-2.24349693251534</c:v>
                </c:pt>
                <c:pt idx="838">
                  <c:v>-2.23728395061728</c:v>
                </c:pt>
                <c:pt idx="839">
                  <c:v>-2.23111801242236</c:v>
                </c:pt>
                <c:pt idx="840">
                  <c:v>-2.225</c:v>
                </c:pt>
                <c:pt idx="841">
                  <c:v>-2.21893081761006</c:v>
                </c:pt>
                <c:pt idx="842">
                  <c:v>-2.21291139240506</c:v>
                </c:pt>
                <c:pt idx="843">
                  <c:v>-2.20694267515924</c:v>
                </c:pt>
                <c:pt idx="844">
                  <c:v>-2.20102564102564</c:v>
                </c:pt>
                <c:pt idx="845">
                  <c:v>-2.19516129032258</c:v>
                </c:pt>
                <c:pt idx="846">
                  <c:v>-2.18935064935065</c:v>
                </c:pt>
                <c:pt idx="847">
                  <c:v>-2.18359477124183</c:v>
                </c:pt>
                <c:pt idx="848">
                  <c:v>-2.17789473684211</c:v>
                </c:pt>
                <c:pt idx="849">
                  <c:v>-2.17225165562914</c:v>
                </c:pt>
                <c:pt idx="850">
                  <c:v>-2.16666666666667</c:v>
                </c:pt>
                <c:pt idx="851">
                  <c:v>-2.16114093959732</c:v>
                </c:pt>
                <c:pt idx="852">
                  <c:v>-2.15567567567568</c:v>
                </c:pt>
                <c:pt idx="853">
                  <c:v>-2.15027210884354</c:v>
                </c:pt>
                <c:pt idx="854">
                  <c:v>-2.14493150684931</c:v>
                </c:pt>
                <c:pt idx="855">
                  <c:v>-2.13965517241379</c:v>
                </c:pt>
                <c:pt idx="856">
                  <c:v>-2.13444444444444</c:v>
                </c:pt>
                <c:pt idx="857">
                  <c:v>-2.1293006993007</c:v>
                </c:pt>
                <c:pt idx="858">
                  <c:v>-2.12422535211268</c:v>
                </c:pt>
                <c:pt idx="859">
                  <c:v>-2.11921985815603</c:v>
                </c:pt>
                <c:pt idx="860">
                  <c:v>-2.11428571428571</c:v>
                </c:pt>
                <c:pt idx="861">
                  <c:v>-2.10942446043166</c:v>
                </c:pt>
                <c:pt idx="862">
                  <c:v>-2.10463768115942</c:v>
                </c:pt>
                <c:pt idx="863">
                  <c:v>-2.09992700729927</c:v>
                </c:pt>
                <c:pt idx="864">
                  <c:v>-2.09529411764706</c:v>
                </c:pt>
                <c:pt idx="865">
                  <c:v>-2.09074074074074</c:v>
                </c:pt>
                <c:pt idx="866">
                  <c:v>-2.08626865671642</c:v>
                </c:pt>
                <c:pt idx="867">
                  <c:v>-2.08187969924812</c:v>
                </c:pt>
                <c:pt idx="868">
                  <c:v>-2.07757575757576</c:v>
                </c:pt>
                <c:pt idx="869">
                  <c:v>-2.07335877862595</c:v>
                </c:pt>
                <c:pt idx="870">
                  <c:v>-2.06923076923077</c:v>
                </c:pt>
                <c:pt idx="871">
                  <c:v>-2.06519379844961</c:v>
                </c:pt>
                <c:pt idx="872">
                  <c:v>-2.06125</c:v>
                </c:pt>
                <c:pt idx="873">
                  <c:v>-2.05740157480315</c:v>
                </c:pt>
                <c:pt idx="874">
                  <c:v>-2.05365079365079</c:v>
                </c:pt>
                <c:pt idx="875">
                  <c:v>-2.05</c:v>
                </c:pt>
                <c:pt idx="876">
                  <c:v>-2.04645161290323</c:v>
                </c:pt>
                <c:pt idx="877">
                  <c:v>-2.0430081300813</c:v>
                </c:pt>
                <c:pt idx="878">
                  <c:v>-2.03967213114754</c:v>
                </c:pt>
                <c:pt idx="879">
                  <c:v>-2.03644628099174</c:v>
                </c:pt>
                <c:pt idx="880">
                  <c:v>-2.03333333333333</c:v>
                </c:pt>
                <c:pt idx="881">
                  <c:v>-2.03033613445378</c:v>
                </c:pt>
                <c:pt idx="882">
                  <c:v>-2.02745762711864</c:v>
                </c:pt>
                <c:pt idx="883">
                  <c:v>-2.02470085470085</c:v>
                </c:pt>
                <c:pt idx="884">
                  <c:v>-2.02206896551724</c:v>
                </c:pt>
                <c:pt idx="885">
                  <c:v>-2.0195652173913</c:v>
                </c:pt>
                <c:pt idx="886">
                  <c:v>-2.01719298245614</c:v>
                </c:pt>
                <c:pt idx="887">
                  <c:v>-2.01495575221239</c:v>
                </c:pt>
                <c:pt idx="888">
                  <c:v>-2.01285714285714</c:v>
                </c:pt>
                <c:pt idx="889">
                  <c:v>-2.0109009009009</c:v>
                </c:pt>
                <c:pt idx="890">
                  <c:v>-2.00909090909091</c:v>
                </c:pt>
                <c:pt idx="891">
                  <c:v>-2.00743119266055</c:v>
                </c:pt>
                <c:pt idx="892">
                  <c:v>-2.00592592592593</c:v>
                </c:pt>
                <c:pt idx="893">
                  <c:v>-2.00457943925234</c:v>
                </c:pt>
                <c:pt idx="894">
                  <c:v>-2.00339622641509</c:v>
                </c:pt>
                <c:pt idx="895">
                  <c:v>-2.00238095238095</c:v>
                </c:pt>
                <c:pt idx="896">
                  <c:v>-2.00153846153846</c:v>
                </c:pt>
                <c:pt idx="897">
                  <c:v>-2.00087378640777</c:v>
                </c:pt>
                <c:pt idx="898">
                  <c:v>-2.00039215686275</c:v>
                </c:pt>
                <c:pt idx="899">
                  <c:v>-2.00009900990099</c:v>
                </c:pt>
                <c:pt idx="900">
                  <c:v>-2</c:v>
                </c:pt>
                <c:pt idx="901">
                  <c:v>-2.00010101010101</c:v>
                </c:pt>
                <c:pt idx="902">
                  <c:v>-2.00040816326531</c:v>
                </c:pt>
                <c:pt idx="903">
                  <c:v>-2.00092783505155</c:v>
                </c:pt>
                <c:pt idx="904">
                  <c:v>-2.00166666666667</c:v>
                </c:pt>
                <c:pt idx="905">
                  <c:v>-2.00263157894737</c:v>
                </c:pt>
                <c:pt idx="906">
                  <c:v>-2.00382978723404</c:v>
                </c:pt>
                <c:pt idx="907">
                  <c:v>-2.0052688172043</c:v>
                </c:pt>
                <c:pt idx="908">
                  <c:v>-2.00695652173913</c:v>
                </c:pt>
                <c:pt idx="909">
                  <c:v>-2.0089010989011</c:v>
                </c:pt>
                <c:pt idx="910">
                  <c:v>-2.01111111111111</c:v>
                </c:pt>
                <c:pt idx="911">
                  <c:v>-2.01359550561798</c:v>
                </c:pt>
                <c:pt idx="912">
                  <c:v>-2.01636363636364</c:v>
                </c:pt>
                <c:pt idx="913">
                  <c:v>-2.01942528735632</c:v>
                </c:pt>
                <c:pt idx="914">
                  <c:v>-2.02279069767442</c:v>
                </c:pt>
                <c:pt idx="915">
                  <c:v>-2.02647058823529</c:v>
                </c:pt>
                <c:pt idx="916">
                  <c:v>-2.03047619047619</c:v>
                </c:pt>
                <c:pt idx="917">
                  <c:v>-2.03481927710843</c:v>
                </c:pt>
                <c:pt idx="918">
                  <c:v>-2.03951219512195</c:v>
                </c:pt>
                <c:pt idx="919">
                  <c:v>-2.04456790123457</c:v>
                </c:pt>
                <c:pt idx="920">
                  <c:v>-2.05</c:v>
                </c:pt>
                <c:pt idx="921">
                  <c:v>-2.05582278481013</c:v>
                </c:pt>
                <c:pt idx="922">
                  <c:v>-2.06205128205128</c:v>
                </c:pt>
                <c:pt idx="923">
                  <c:v>-2.0687012987013</c:v>
                </c:pt>
                <c:pt idx="924">
                  <c:v>-2.07578947368421</c:v>
                </c:pt>
                <c:pt idx="925">
                  <c:v>-2.08333333333333</c:v>
                </c:pt>
                <c:pt idx="926">
                  <c:v>-2.09135135135135</c:v>
                </c:pt>
                <c:pt idx="927">
                  <c:v>-2.09986301369863</c:v>
                </c:pt>
                <c:pt idx="928">
                  <c:v>-2.10888888888889</c:v>
                </c:pt>
                <c:pt idx="929">
                  <c:v>-2.11845070422535</c:v>
                </c:pt>
                <c:pt idx="930">
                  <c:v>-2.12857142857143</c:v>
                </c:pt>
                <c:pt idx="931">
                  <c:v>-2.13927536231884</c:v>
                </c:pt>
                <c:pt idx="932">
                  <c:v>-2.15058823529412</c:v>
                </c:pt>
                <c:pt idx="933">
                  <c:v>-2.16253731343284</c:v>
                </c:pt>
                <c:pt idx="934">
                  <c:v>-2.17515151515152</c:v>
                </c:pt>
                <c:pt idx="935">
                  <c:v>-2.18846153846154</c:v>
                </c:pt>
                <c:pt idx="936">
                  <c:v>-2.2025</c:v>
                </c:pt>
                <c:pt idx="937">
                  <c:v>-2.21730158730159</c:v>
                </c:pt>
                <c:pt idx="938">
                  <c:v>-2.23290322580645</c:v>
                </c:pt>
                <c:pt idx="939">
                  <c:v>-2.24934426229508</c:v>
                </c:pt>
                <c:pt idx="940">
                  <c:v>-2.26666666666667</c:v>
                </c:pt>
                <c:pt idx="941">
                  <c:v>-2.28491525423729</c:v>
                </c:pt>
                <c:pt idx="942">
                  <c:v>-2.30413793103448</c:v>
                </c:pt>
                <c:pt idx="943">
                  <c:v>-2.32438596491228</c:v>
                </c:pt>
                <c:pt idx="944">
                  <c:v>-2.34571428571428</c:v>
                </c:pt>
                <c:pt idx="945">
                  <c:v>-2.36818181818182</c:v>
                </c:pt>
                <c:pt idx="946">
                  <c:v>-2.39185185185185</c:v>
                </c:pt>
                <c:pt idx="947">
                  <c:v>-2.41679245283019</c:v>
                </c:pt>
                <c:pt idx="948">
                  <c:v>-2.44307692307692</c:v>
                </c:pt>
                <c:pt idx="949">
                  <c:v>-2.47078431372549</c:v>
                </c:pt>
                <c:pt idx="950">
                  <c:v>-2.5</c:v>
                </c:pt>
                <c:pt idx="951">
                  <c:v>-2.53081632653061</c:v>
                </c:pt>
                <c:pt idx="952">
                  <c:v>-2.56333333333333</c:v>
                </c:pt>
                <c:pt idx="953">
                  <c:v>-2.59765957446808</c:v>
                </c:pt>
                <c:pt idx="954">
                  <c:v>-2.63391304347826</c:v>
                </c:pt>
                <c:pt idx="955">
                  <c:v>-2.67222222222223</c:v>
                </c:pt>
                <c:pt idx="956">
                  <c:v>-2.71272727272727</c:v>
                </c:pt>
                <c:pt idx="957">
                  <c:v>-2.75558139534884</c:v>
                </c:pt>
                <c:pt idx="958">
                  <c:v>-2.80095238095238</c:v>
                </c:pt>
                <c:pt idx="959">
                  <c:v>-2.8490243902439</c:v>
                </c:pt>
                <c:pt idx="960">
                  <c:v>-2.9</c:v>
                </c:pt>
                <c:pt idx="961">
                  <c:v>-2.95410256410256</c:v>
                </c:pt>
                <c:pt idx="962">
                  <c:v>-3.01157894736843</c:v>
                </c:pt>
                <c:pt idx="963">
                  <c:v>-3.07270270270271</c:v>
                </c:pt>
                <c:pt idx="964">
                  <c:v>-3.13777777777778</c:v>
                </c:pt>
                <c:pt idx="965">
                  <c:v>-3.20714285714286</c:v>
                </c:pt>
                <c:pt idx="966">
                  <c:v>-3.28117647058824</c:v>
                </c:pt>
                <c:pt idx="967">
                  <c:v>-3.36030303030303</c:v>
                </c:pt>
                <c:pt idx="968">
                  <c:v>-3.445</c:v>
                </c:pt>
                <c:pt idx="969">
                  <c:v>-3.5358064516129</c:v>
                </c:pt>
                <c:pt idx="970">
                  <c:v>-3.63333333333334</c:v>
                </c:pt>
                <c:pt idx="971">
                  <c:v>-3.73827586206897</c:v>
                </c:pt>
                <c:pt idx="972">
                  <c:v>-3.85142857142858</c:v>
                </c:pt>
                <c:pt idx="973">
                  <c:v>-3.97370370370371</c:v>
                </c:pt>
                <c:pt idx="974">
                  <c:v>-4.10615384615385</c:v>
                </c:pt>
                <c:pt idx="975">
                  <c:v>-4.25</c:v>
                </c:pt>
                <c:pt idx="976">
                  <c:v>-4.40666666666666</c:v>
                </c:pt>
                <c:pt idx="977">
                  <c:v>-4.57782608695651</c:v>
                </c:pt>
                <c:pt idx="978">
                  <c:v>-4.76545454545453</c:v>
                </c:pt>
                <c:pt idx="979">
                  <c:v>-4.97190476190478</c:v>
                </c:pt>
                <c:pt idx="980">
                  <c:v>-5.20000000000002</c:v>
                </c:pt>
                <c:pt idx="981">
                  <c:v>-5.45315789473686</c:v>
                </c:pt>
                <c:pt idx="982">
                  <c:v>-5.73555555555556</c:v>
                </c:pt>
                <c:pt idx="983">
                  <c:v>-6.05235294117647</c:v>
                </c:pt>
                <c:pt idx="984">
                  <c:v>-6.41</c:v>
                </c:pt>
                <c:pt idx="985">
                  <c:v>-6.81666666666665</c:v>
                </c:pt>
                <c:pt idx="986">
                  <c:v>-7.28285714285711</c:v>
                </c:pt>
                <c:pt idx="987">
                  <c:v>-7.82230769230775</c:v>
                </c:pt>
                <c:pt idx="988">
                  <c:v>-8.45333333333339</c:v>
                </c:pt>
                <c:pt idx="989">
                  <c:v>-9.20090909090914</c:v>
                </c:pt>
                <c:pt idx="990">
                  <c:v>-10.1</c:v>
                </c:pt>
                <c:pt idx="991">
                  <c:v>-11.2011111111111</c:v>
                </c:pt>
                <c:pt idx="992">
                  <c:v>-12.58</c:v>
                </c:pt>
                <c:pt idx="993">
                  <c:v>-14.3557142857142</c:v>
                </c:pt>
                <c:pt idx="994">
                  <c:v>-16.7266666666665</c:v>
                </c:pt>
                <c:pt idx="995">
                  <c:v>-20.0500000000004</c:v>
                </c:pt>
                <c:pt idx="996">
                  <c:v>-25.0400000000005</c:v>
                </c:pt>
                <c:pt idx="997">
                  <c:v>-33.3633333333341</c:v>
                </c:pt>
                <c:pt idx="998">
                  <c:v>-50.0200000000011</c:v>
                </c:pt>
                <c:pt idx="999">
                  <c:v>-100.010000000002</c:v>
                </c:pt>
                <c:pt idx="1001">
                  <c:v>100.010000000002</c:v>
                </c:pt>
                <c:pt idx="1002">
                  <c:v>50.0200000000011</c:v>
                </c:pt>
                <c:pt idx="1003">
                  <c:v>33.3633333333341</c:v>
                </c:pt>
                <c:pt idx="1004">
                  <c:v>25.0399999999994</c:v>
                </c:pt>
                <c:pt idx="1005">
                  <c:v>20.0499999999997</c:v>
                </c:pt>
                <c:pt idx="1006">
                  <c:v>16.7266666666665</c:v>
                </c:pt>
                <c:pt idx="1007">
                  <c:v>14.3557142857142</c:v>
                </c:pt>
                <c:pt idx="1008">
                  <c:v>12.58</c:v>
                </c:pt>
                <c:pt idx="1009">
                  <c:v>11.2011111111111</c:v>
                </c:pt>
                <c:pt idx="1010">
                  <c:v>10.1</c:v>
                </c:pt>
                <c:pt idx="1011">
                  <c:v>9.20090909090914</c:v>
                </c:pt>
                <c:pt idx="1012">
                  <c:v>8.45333333333327</c:v>
                </c:pt>
                <c:pt idx="1013">
                  <c:v>7.82230769230765</c:v>
                </c:pt>
                <c:pt idx="1014">
                  <c:v>7.28285714285711</c:v>
                </c:pt>
                <c:pt idx="1015">
                  <c:v>6.81666666666665</c:v>
                </c:pt>
                <c:pt idx="1016">
                  <c:v>6.41</c:v>
                </c:pt>
                <c:pt idx="1017">
                  <c:v>6.05235294117647</c:v>
                </c:pt>
                <c:pt idx="1018">
                  <c:v>5.73555555555556</c:v>
                </c:pt>
                <c:pt idx="1019">
                  <c:v>5.45315789473686</c:v>
                </c:pt>
                <c:pt idx="1020">
                  <c:v>5.19999999999997</c:v>
                </c:pt>
                <c:pt idx="1021">
                  <c:v>4.97190476190474</c:v>
                </c:pt>
                <c:pt idx="1022">
                  <c:v>4.76545454545453</c:v>
                </c:pt>
                <c:pt idx="1023">
                  <c:v>4.57782608695651</c:v>
                </c:pt>
                <c:pt idx="1024">
                  <c:v>4.40666666666666</c:v>
                </c:pt>
                <c:pt idx="1025">
                  <c:v>4.25</c:v>
                </c:pt>
                <c:pt idx="1026">
                  <c:v>4.10615384615385</c:v>
                </c:pt>
                <c:pt idx="1027">
                  <c:v>3.97370370370371</c:v>
                </c:pt>
                <c:pt idx="1028">
                  <c:v>3.85142857142858</c:v>
                </c:pt>
                <c:pt idx="1029">
                  <c:v>3.73827586206896</c:v>
                </c:pt>
                <c:pt idx="1030">
                  <c:v>3.63333333333333</c:v>
                </c:pt>
                <c:pt idx="1031">
                  <c:v>3.5358064516129</c:v>
                </c:pt>
                <c:pt idx="1032">
                  <c:v>3.445</c:v>
                </c:pt>
                <c:pt idx="1033">
                  <c:v>3.36030303030303</c:v>
                </c:pt>
                <c:pt idx="1034">
                  <c:v>3.28117647058824</c:v>
                </c:pt>
                <c:pt idx="1035">
                  <c:v>3.20714285714286</c:v>
                </c:pt>
                <c:pt idx="1036">
                  <c:v>3.13777777777778</c:v>
                </c:pt>
                <c:pt idx="1037">
                  <c:v>3.0727027027027</c:v>
                </c:pt>
                <c:pt idx="1038">
                  <c:v>3.01157894736842</c:v>
                </c:pt>
                <c:pt idx="1039">
                  <c:v>2.95410256410256</c:v>
                </c:pt>
                <c:pt idx="1040">
                  <c:v>2.9</c:v>
                </c:pt>
                <c:pt idx="1041">
                  <c:v>2.8490243902439</c:v>
                </c:pt>
                <c:pt idx="1042">
                  <c:v>2.80095238095238</c:v>
                </c:pt>
                <c:pt idx="1043">
                  <c:v>2.75558139534884</c:v>
                </c:pt>
                <c:pt idx="1044">
                  <c:v>2.71272727272727</c:v>
                </c:pt>
                <c:pt idx="1045">
                  <c:v>2.67222222222222</c:v>
                </c:pt>
                <c:pt idx="1046">
                  <c:v>2.63391304347826</c:v>
                </c:pt>
                <c:pt idx="1047">
                  <c:v>2.59765957446808</c:v>
                </c:pt>
                <c:pt idx="1048">
                  <c:v>2.56333333333333</c:v>
                </c:pt>
                <c:pt idx="1049">
                  <c:v>2.53081632653061</c:v>
                </c:pt>
                <c:pt idx="1050">
                  <c:v>2.5</c:v>
                </c:pt>
                <c:pt idx="1051">
                  <c:v>2.47078431372549</c:v>
                </c:pt>
                <c:pt idx="1052">
                  <c:v>2.44307692307692</c:v>
                </c:pt>
                <c:pt idx="1053">
                  <c:v>2.41679245283019</c:v>
                </c:pt>
                <c:pt idx="1054">
                  <c:v>2.39185185185185</c:v>
                </c:pt>
                <c:pt idx="1055">
                  <c:v>2.36818181818182</c:v>
                </c:pt>
                <c:pt idx="1056">
                  <c:v>2.34571428571428</c:v>
                </c:pt>
                <c:pt idx="1057">
                  <c:v>2.32438596491228</c:v>
                </c:pt>
                <c:pt idx="1058">
                  <c:v>2.30413793103448</c:v>
                </c:pt>
                <c:pt idx="1059">
                  <c:v>2.28491525423729</c:v>
                </c:pt>
                <c:pt idx="1060">
                  <c:v>2.26666666666667</c:v>
                </c:pt>
                <c:pt idx="1061">
                  <c:v>2.24934426229508</c:v>
                </c:pt>
                <c:pt idx="1062">
                  <c:v>2.23290322580645</c:v>
                </c:pt>
                <c:pt idx="1063">
                  <c:v>2.21730158730159</c:v>
                </c:pt>
                <c:pt idx="1064">
                  <c:v>2.2025</c:v>
                </c:pt>
                <c:pt idx="1065">
                  <c:v>2.18846153846154</c:v>
                </c:pt>
                <c:pt idx="1066">
                  <c:v>2.17515151515152</c:v>
                </c:pt>
                <c:pt idx="1067">
                  <c:v>2.16253731343284</c:v>
                </c:pt>
                <c:pt idx="1068">
                  <c:v>2.15058823529412</c:v>
                </c:pt>
                <c:pt idx="1069">
                  <c:v>2.13927536231884</c:v>
                </c:pt>
                <c:pt idx="1070">
                  <c:v>2.12857142857143</c:v>
                </c:pt>
                <c:pt idx="1071">
                  <c:v>2.11845070422535</c:v>
                </c:pt>
                <c:pt idx="1072">
                  <c:v>2.10888888888889</c:v>
                </c:pt>
                <c:pt idx="1073">
                  <c:v>2.09986301369863</c:v>
                </c:pt>
                <c:pt idx="1074">
                  <c:v>2.09135135135135</c:v>
                </c:pt>
                <c:pt idx="1075">
                  <c:v>2.08333333333333</c:v>
                </c:pt>
                <c:pt idx="1076">
                  <c:v>2.07578947368421</c:v>
                </c:pt>
                <c:pt idx="1077">
                  <c:v>2.0687012987013</c:v>
                </c:pt>
                <c:pt idx="1078">
                  <c:v>2.06205128205128</c:v>
                </c:pt>
                <c:pt idx="1079">
                  <c:v>2.05582278481013</c:v>
                </c:pt>
                <c:pt idx="1080">
                  <c:v>2.05</c:v>
                </c:pt>
                <c:pt idx="1081">
                  <c:v>2.04456790123457</c:v>
                </c:pt>
                <c:pt idx="1082">
                  <c:v>2.03951219512195</c:v>
                </c:pt>
                <c:pt idx="1083">
                  <c:v>2.03481927710843</c:v>
                </c:pt>
                <c:pt idx="1084">
                  <c:v>2.03047619047619</c:v>
                </c:pt>
                <c:pt idx="1085">
                  <c:v>2.02647058823529</c:v>
                </c:pt>
                <c:pt idx="1086">
                  <c:v>2.02279069767442</c:v>
                </c:pt>
                <c:pt idx="1087">
                  <c:v>2.01942528735632</c:v>
                </c:pt>
                <c:pt idx="1088">
                  <c:v>2.01636363636364</c:v>
                </c:pt>
                <c:pt idx="1089">
                  <c:v>2.01359550561798</c:v>
                </c:pt>
                <c:pt idx="1090">
                  <c:v>2.01111111111111</c:v>
                </c:pt>
                <c:pt idx="1091">
                  <c:v>2.0089010989011</c:v>
                </c:pt>
                <c:pt idx="1092">
                  <c:v>2.00695652173913</c:v>
                </c:pt>
                <c:pt idx="1093">
                  <c:v>2.0052688172043</c:v>
                </c:pt>
                <c:pt idx="1094">
                  <c:v>2.00382978723404</c:v>
                </c:pt>
                <c:pt idx="1095">
                  <c:v>2.00263157894737</c:v>
                </c:pt>
                <c:pt idx="1096">
                  <c:v>2.00166666666667</c:v>
                </c:pt>
                <c:pt idx="1097">
                  <c:v>2.00092783505155</c:v>
                </c:pt>
                <c:pt idx="1098">
                  <c:v>2.00040816326531</c:v>
                </c:pt>
                <c:pt idx="1099">
                  <c:v>2.00010101010101</c:v>
                </c:pt>
                <c:pt idx="1100">
                  <c:v>2</c:v>
                </c:pt>
                <c:pt idx="1101">
                  <c:v>2.00009900990099</c:v>
                </c:pt>
                <c:pt idx="1102">
                  <c:v>2.00039215686275</c:v>
                </c:pt>
                <c:pt idx="1103">
                  <c:v>2.00087378640777</c:v>
                </c:pt>
                <c:pt idx="1104">
                  <c:v>2.00153846153846</c:v>
                </c:pt>
                <c:pt idx="1105">
                  <c:v>2.00238095238095</c:v>
                </c:pt>
                <c:pt idx="1106">
                  <c:v>2.00339622641509</c:v>
                </c:pt>
                <c:pt idx="1107">
                  <c:v>2.00457943925234</c:v>
                </c:pt>
                <c:pt idx="1108">
                  <c:v>2.00592592592593</c:v>
                </c:pt>
                <c:pt idx="1109">
                  <c:v>2.00743119266055</c:v>
                </c:pt>
                <c:pt idx="1110">
                  <c:v>2.00909090909091</c:v>
                </c:pt>
                <c:pt idx="1111">
                  <c:v>2.0109009009009</c:v>
                </c:pt>
                <c:pt idx="1112">
                  <c:v>2.01285714285714</c:v>
                </c:pt>
                <c:pt idx="1113">
                  <c:v>2.01495575221239</c:v>
                </c:pt>
                <c:pt idx="1114">
                  <c:v>2.01719298245614</c:v>
                </c:pt>
                <c:pt idx="1115">
                  <c:v>2.0195652173913</c:v>
                </c:pt>
                <c:pt idx="1116">
                  <c:v>2.02206896551724</c:v>
                </c:pt>
                <c:pt idx="1117">
                  <c:v>2.02470085470085</c:v>
                </c:pt>
                <c:pt idx="1118">
                  <c:v>2.02745762711864</c:v>
                </c:pt>
                <c:pt idx="1119">
                  <c:v>2.03033613445378</c:v>
                </c:pt>
                <c:pt idx="1120">
                  <c:v>2.03333333333333</c:v>
                </c:pt>
                <c:pt idx="1121">
                  <c:v>2.03644628099174</c:v>
                </c:pt>
                <c:pt idx="1122">
                  <c:v>2.03967213114754</c:v>
                </c:pt>
                <c:pt idx="1123">
                  <c:v>2.0430081300813</c:v>
                </c:pt>
                <c:pt idx="1124">
                  <c:v>2.04645161290323</c:v>
                </c:pt>
                <c:pt idx="1125">
                  <c:v>2.05</c:v>
                </c:pt>
                <c:pt idx="1126">
                  <c:v>2.05365079365079</c:v>
                </c:pt>
                <c:pt idx="1127">
                  <c:v>2.05740157480315</c:v>
                </c:pt>
                <c:pt idx="1128">
                  <c:v>2.06125</c:v>
                </c:pt>
                <c:pt idx="1129">
                  <c:v>2.06519379844961</c:v>
                </c:pt>
                <c:pt idx="1130">
                  <c:v>2.06923076923077</c:v>
                </c:pt>
                <c:pt idx="1131">
                  <c:v>2.07335877862595</c:v>
                </c:pt>
                <c:pt idx="1132">
                  <c:v>2.07757575757576</c:v>
                </c:pt>
                <c:pt idx="1133">
                  <c:v>2.08187969924812</c:v>
                </c:pt>
                <c:pt idx="1134">
                  <c:v>2.08626865671642</c:v>
                </c:pt>
                <c:pt idx="1135">
                  <c:v>2.09074074074074</c:v>
                </c:pt>
                <c:pt idx="1136">
                  <c:v>2.09529411764706</c:v>
                </c:pt>
                <c:pt idx="1137">
                  <c:v>2.09992700729927</c:v>
                </c:pt>
                <c:pt idx="1138">
                  <c:v>2.10463768115942</c:v>
                </c:pt>
                <c:pt idx="1139">
                  <c:v>2.10942446043166</c:v>
                </c:pt>
                <c:pt idx="1140">
                  <c:v>2.11428571428571</c:v>
                </c:pt>
                <c:pt idx="1141">
                  <c:v>2.11921985815603</c:v>
                </c:pt>
                <c:pt idx="1142">
                  <c:v>2.12422535211268</c:v>
                </c:pt>
                <c:pt idx="1143">
                  <c:v>2.1293006993007</c:v>
                </c:pt>
                <c:pt idx="1144">
                  <c:v>2.13444444444444</c:v>
                </c:pt>
                <c:pt idx="1145">
                  <c:v>2.13965517241379</c:v>
                </c:pt>
                <c:pt idx="1146">
                  <c:v>2.14493150684932</c:v>
                </c:pt>
                <c:pt idx="1147">
                  <c:v>2.15027210884354</c:v>
                </c:pt>
                <c:pt idx="1148">
                  <c:v>2.15567567567568</c:v>
                </c:pt>
                <c:pt idx="1149">
                  <c:v>2.16114093959732</c:v>
                </c:pt>
                <c:pt idx="1150">
                  <c:v>2.16666666666667</c:v>
                </c:pt>
                <c:pt idx="1151">
                  <c:v>2.17225165562914</c:v>
                </c:pt>
                <c:pt idx="1152">
                  <c:v>2.17789473684211</c:v>
                </c:pt>
                <c:pt idx="1153">
                  <c:v>2.18359477124183</c:v>
                </c:pt>
                <c:pt idx="1154">
                  <c:v>2.18935064935065</c:v>
                </c:pt>
                <c:pt idx="1155">
                  <c:v>2.19516129032258</c:v>
                </c:pt>
                <c:pt idx="1156">
                  <c:v>2.20102564102564</c:v>
                </c:pt>
                <c:pt idx="1157">
                  <c:v>2.20694267515924</c:v>
                </c:pt>
                <c:pt idx="1158">
                  <c:v>2.21291139240506</c:v>
                </c:pt>
                <c:pt idx="1159">
                  <c:v>2.21893081761006</c:v>
                </c:pt>
                <c:pt idx="1160">
                  <c:v>2.225</c:v>
                </c:pt>
                <c:pt idx="1161">
                  <c:v>2.23111801242236</c:v>
                </c:pt>
                <c:pt idx="1162">
                  <c:v>2.23728395061728</c:v>
                </c:pt>
                <c:pt idx="1163">
                  <c:v>2.24349693251534</c:v>
                </c:pt>
                <c:pt idx="1164">
                  <c:v>2.24975609756098</c:v>
                </c:pt>
                <c:pt idx="1165">
                  <c:v>2.25606060606061</c:v>
                </c:pt>
                <c:pt idx="1166">
                  <c:v>2.26240963855422</c:v>
                </c:pt>
                <c:pt idx="1167">
                  <c:v>2.26880239520958</c:v>
                </c:pt>
                <c:pt idx="1168">
                  <c:v>2.2752380952381</c:v>
                </c:pt>
                <c:pt idx="1169">
                  <c:v>2.28171597633136</c:v>
                </c:pt>
                <c:pt idx="1170">
                  <c:v>2.28823529411765</c:v>
                </c:pt>
                <c:pt idx="1171">
                  <c:v>2.29479532163743</c:v>
                </c:pt>
                <c:pt idx="1172">
                  <c:v>2.30139534883721</c:v>
                </c:pt>
                <c:pt idx="1173">
                  <c:v>2.30803468208093</c:v>
                </c:pt>
                <c:pt idx="1174">
                  <c:v>2.31471264367816</c:v>
                </c:pt>
                <c:pt idx="1175">
                  <c:v>2.32142857142857</c:v>
                </c:pt>
                <c:pt idx="1176">
                  <c:v>2.32818181818182</c:v>
                </c:pt>
                <c:pt idx="1177">
                  <c:v>2.33497175141243</c:v>
                </c:pt>
                <c:pt idx="1178">
                  <c:v>2.34179775280899</c:v>
                </c:pt>
                <c:pt idx="1179">
                  <c:v>2.3486592178771</c:v>
                </c:pt>
                <c:pt idx="1180">
                  <c:v>2.35555555555556</c:v>
                </c:pt>
                <c:pt idx="1181">
                  <c:v>2.3624861878453</c:v>
                </c:pt>
                <c:pt idx="1182">
                  <c:v>2.36945054945055</c:v>
                </c:pt>
                <c:pt idx="1183">
                  <c:v>2.37644808743169</c:v>
                </c:pt>
                <c:pt idx="1184">
                  <c:v>2.38347826086957</c:v>
                </c:pt>
                <c:pt idx="1185">
                  <c:v>2.39054054054054</c:v>
                </c:pt>
                <c:pt idx="1186">
                  <c:v>2.39763440860215</c:v>
                </c:pt>
                <c:pt idx="1187">
                  <c:v>2.40475935828877</c:v>
                </c:pt>
                <c:pt idx="1188">
                  <c:v>2.41191489361702</c:v>
                </c:pt>
                <c:pt idx="1189">
                  <c:v>2.41910052910053</c:v>
                </c:pt>
                <c:pt idx="1190">
                  <c:v>2.42631578947368</c:v>
                </c:pt>
                <c:pt idx="1191">
                  <c:v>2.43356020942408</c:v>
                </c:pt>
                <c:pt idx="1192">
                  <c:v>2.44083333333333</c:v>
                </c:pt>
                <c:pt idx="1193">
                  <c:v>2.44813471502591</c:v>
                </c:pt>
                <c:pt idx="1194">
                  <c:v>2.45546391752577</c:v>
                </c:pt>
                <c:pt idx="1195">
                  <c:v>2.46282051282051</c:v>
                </c:pt>
                <c:pt idx="1196">
                  <c:v>2.47020408163265</c:v>
                </c:pt>
                <c:pt idx="1197">
                  <c:v>2.47761421319797</c:v>
                </c:pt>
                <c:pt idx="1198">
                  <c:v>2.48505050505051</c:v>
                </c:pt>
                <c:pt idx="1199">
                  <c:v>2.49251256281407</c:v>
                </c:pt>
                <c:pt idx="1200">
                  <c:v>2.5</c:v>
                </c:pt>
                <c:pt idx="1201">
                  <c:v>2.50751243781095</c:v>
                </c:pt>
                <c:pt idx="1202">
                  <c:v>2.51504950495049</c:v>
                </c:pt>
                <c:pt idx="1203">
                  <c:v>2.52261083743842</c:v>
                </c:pt>
                <c:pt idx="1204">
                  <c:v>2.53019607843137</c:v>
                </c:pt>
                <c:pt idx="1205">
                  <c:v>2.53780487804878</c:v>
                </c:pt>
                <c:pt idx="1206">
                  <c:v>2.54543689320388</c:v>
                </c:pt>
                <c:pt idx="1207">
                  <c:v>2.55309178743961</c:v>
                </c:pt>
                <c:pt idx="1208">
                  <c:v>2.56076923076923</c:v>
                </c:pt>
                <c:pt idx="1209">
                  <c:v>2.56846889952153</c:v>
                </c:pt>
                <c:pt idx="1210">
                  <c:v>2.57619047619048</c:v>
                </c:pt>
                <c:pt idx="1211">
                  <c:v>2.5839336492891</c:v>
                </c:pt>
                <c:pt idx="1212">
                  <c:v>2.59169811320755</c:v>
                </c:pt>
                <c:pt idx="1213">
                  <c:v>2.59948356807512</c:v>
                </c:pt>
                <c:pt idx="1214">
                  <c:v>2.60728971962617</c:v>
                </c:pt>
                <c:pt idx="1215">
                  <c:v>2.61511627906977</c:v>
                </c:pt>
                <c:pt idx="1216">
                  <c:v>2.62296296296296</c:v>
                </c:pt>
                <c:pt idx="1217">
                  <c:v>2.63082949308756</c:v>
                </c:pt>
                <c:pt idx="1218">
                  <c:v>2.63871559633028</c:v>
                </c:pt>
                <c:pt idx="1219">
                  <c:v>2.64662100456621</c:v>
                </c:pt>
                <c:pt idx="1220">
                  <c:v>2.65454545454546</c:v>
                </c:pt>
                <c:pt idx="1221">
                  <c:v>2.66248868778281</c:v>
                </c:pt>
                <c:pt idx="1222">
                  <c:v>2.67045045045045</c:v>
                </c:pt>
                <c:pt idx="1223">
                  <c:v>2.67843049327354</c:v>
                </c:pt>
                <c:pt idx="1224">
                  <c:v>2.68642857142857</c:v>
                </c:pt>
                <c:pt idx="1225">
                  <c:v>2.69444444444444</c:v>
                </c:pt>
                <c:pt idx="1226">
                  <c:v>2.70247787610619</c:v>
                </c:pt>
                <c:pt idx="1227">
                  <c:v>2.71052863436123</c:v>
                </c:pt>
                <c:pt idx="1228">
                  <c:v>2.71859649122807</c:v>
                </c:pt>
                <c:pt idx="1229">
                  <c:v>2.72668122270742</c:v>
                </c:pt>
                <c:pt idx="1230">
                  <c:v>2.73478260869565</c:v>
                </c:pt>
                <c:pt idx="1231">
                  <c:v>2.74290043290043</c:v>
                </c:pt>
                <c:pt idx="1232">
                  <c:v>2.75103448275862</c:v>
                </c:pt>
                <c:pt idx="1233">
                  <c:v>2.75918454935622</c:v>
                </c:pt>
                <c:pt idx="1234">
                  <c:v>2.76735042735043</c:v>
                </c:pt>
                <c:pt idx="1235">
                  <c:v>2.77553191489362</c:v>
                </c:pt>
                <c:pt idx="1236">
                  <c:v>2.78372881355932</c:v>
                </c:pt>
                <c:pt idx="1237">
                  <c:v>2.79194092827004</c:v>
                </c:pt>
                <c:pt idx="1238">
                  <c:v>2.80016806722689</c:v>
                </c:pt>
                <c:pt idx="1239">
                  <c:v>2.808410041841</c:v>
                </c:pt>
                <c:pt idx="1240">
                  <c:v>2.81666666666667</c:v>
                </c:pt>
                <c:pt idx="1241">
                  <c:v>2.8249377593361</c:v>
                </c:pt>
                <c:pt idx="1242">
                  <c:v>2.83322314049587</c:v>
                </c:pt>
                <c:pt idx="1243">
                  <c:v>2.84152263374486</c:v>
                </c:pt>
                <c:pt idx="1244">
                  <c:v>2.84983606557377</c:v>
                </c:pt>
                <c:pt idx="1245">
                  <c:v>2.85816326530612</c:v>
                </c:pt>
                <c:pt idx="1246">
                  <c:v>2.86650406504065</c:v>
                </c:pt>
                <c:pt idx="1247">
                  <c:v>2.87485829959514</c:v>
                </c:pt>
                <c:pt idx="1248">
                  <c:v>2.88322580645161</c:v>
                </c:pt>
                <c:pt idx="1249">
                  <c:v>2.89160642570281</c:v>
                </c:pt>
                <c:pt idx="1250">
                  <c:v>2.9</c:v>
                </c:pt>
                <c:pt idx="1251">
                  <c:v>2.90840637450199</c:v>
                </c:pt>
                <c:pt idx="1252">
                  <c:v>2.9168253968254</c:v>
                </c:pt>
                <c:pt idx="1253">
                  <c:v>2.92525691699605</c:v>
                </c:pt>
                <c:pt idx="1254">
                  <c:v>2.93370078740158</c:v>
                </c:pt>
                <c:pt idx="1255">
                  <c:v>2.9421568627451</c:v>
                </c:pt>
                <c:pt idx="1256">
                  <c:v>2.950625</c:v>
                </c:pt>
                <c:pt idx="1257">
                  <c:v>2.95910505836576</c:v>
                </c:pt>
                <c:pt idx="1258">
                  <c:v>2.96759689922481</c:v>
                </c:pt>
                <c:pt idx="1259">
                  <c:v>2.97610038610039</c:v>
                </c:pt>
                <c:pt idx="1260">
                  <c:v>2.98461538461538</c:v>
                </c:pt>
                <c:pt idx="1261">
                  <c:v>2.99314176245211</c:v>
                </c:pt>
                <c:pt idx="1262">
                  <c:v>3.00167938931298</c:v>
                </c:pt>
                <c:pt idx="1263">
                  <c:v>3.01022813688213</c:v>
                </c:pt>
                <c:pt idx="1264">
                  <c:v>3.01878787878788</c:v>
                </c:pt>
                <c:pt idx="1265">
                  <c:v>3.02735849056604</c:v>
                </c:pt>
                <c:pt idx="1266">
                  <c:v>3.03593984962406</c:v>
                </c:pt>
                <c:pt idx="1267">
                  <c:v>3.04453183520599</c:v>
                </c:pt>
                <c:pt idx="1268">
                  <c:v>3.05313432835821</c:v>
                </c:pt>
                <c:pt idx="1269">
                  <c:v>3.06174721189591</c:v>
                </c:pt>
                <c:pt idx="1270">
                  <c:v>3.07037037037037</c:v>
                </c:pt>
                <c:pt idx="1271">
                  <c:v>3.0790036900369</c:v>
                </c:pt>
                <c:pt idx="1272">
                  <c:v>3.08764705882353</c:v>
                </c:pt>
                <c:pt idx="1273">
                  <c:v>3.09630036630037</c:v>
                </c:pt>
                <c:pt idx="1274">
                  <c:v>3.10496350364964</c:v>
                </c:pt>
                <c:pt idx="1275">
                  <c:v>3.11363636363636</c:v>
                </c:pt>
                <c:pt idx="1276">
                  <c:v>3.12231884057971</c:v>
                </c:pt>
                <c:pt idx="1277">
                  <c:v>3.13101083032491</c:v>
                </c:pt>
                <c:pt idx="1278">
                  <c:v>3.13971223021583</c:v>
                </c:pt>
                <c:pt idx="1279">
                  <c:v>3.1484229390681</c:v>
                </c:pt>
                <c:pt idx="1280">
                  <c:v>3.15714285714286</c:v>
                </c:pt>
                <c:pt idx="1281">
                  <c:v>3.165871886121</c:v>
                </c:pt>
                <c:pt idx="1282">
                  <c:v>3.17460992907801</c:v>
                </c:pt>
                <c:pt idx="1283">
                  <c:v>3.18335689045936</c:v>
                </c:pt>
                <c:pt idx="1284">
                  <c:v>3.19211267605634</c:v>
                </c:pt>
                <c:pt idx="1285">
                  <c:v>3.20087719298246</c:v>
                </c:pt>
                <c:pt idx="1286">
                  <c:v>3.20965034965035</c:v>
                </c:pt>
                <c:pt idx="1287">
                  <c:v>3.21843205574913</c:v>
                </c:pt>
                <c:pt idx="1288">
                  <c:v>3.22722222222222</c:v>
                </c:pt>
                <c:pt idx="1289">
                  <c:v>3.23602076124568</c:v>
                </c:pt>
                <c:pt idx="1290">
                  <c:v>3.2448275862069</c:v>
                </c:pt>
                <c:pt idx="1291">
                  <c:v>3.25364261168385</c:v>
                </c:pt>
                <c:pt idx="1292">
                  <c:v>3.26246575342466</c:v>
                </c:pt>
                <c:pt idx="1293">
                  <c:v>3.27129692832765</c:v>
                </c:pt>
                <c:pt idx="1294">
                  <c:v>3.28013605442177</c:v>
                </c:pt>
                <c:pt idx="1295">
                  <c:v>3.28898305084746</c:v>
                </c:pt>
                <c:pt idx="1296">
                  <c:v>3.29783783783784</c:v>
                </c:pt>
                <c:pt idx="1297">
                  <c:v>3.30670033670034</c:v>
                </c:pt>
                <c:pt idx="1298">
                  <c:v>3.31557046979866</c:v>
                </c:pt>
                <c:pt idx="1299">
                  <c:v>3.32444816053512</c:v>
                </c:pt>
                <c:pt idx="1300">
                  <c:v>3.33333333333333</c:v>
                </c:pt>
                <c:pt idx="1301">
                  <c:v>3.34222591362126</c:v>
                </c:pt>
                <c:pt idx="1302">
                  <c:v>3.35112582781457</c:v>
                </c:pt>
                <c:pt idx="1303">
                  <c:v>3.36003300330033</c:v>
                </c:pt>
                <c:pt idx="1304">
                  <c:v>3.36894736842105</c:v>
                </c:pt>
                <c:pt idx="1305">
                  <c:v>3.37786885245902</c:v>
                </c:pt>
                <c:pt idx="1306">
                  <c:v>3.38679738562092</c:v>
                </c:pt>
                <c:pt idx="1307">
                  <c:v>3.3957328990228</c:v>
                </c:pt>
                <c:pt idx="1308">
                  <c:v>3.40467532467533</c:v>
                </c:pt>
                <c:pt idx="1309">
                  <c:v>3.41362459546926</c:v>
                </c:pt>
                <c:pt idx="1310">
                  <c:v>3.42258064516129</c:v>
                </c:pt>
                <c:pt idx="1311">
                  <c:v>3.43154340836013</c:v>
                </c:pt>
                <c:pt idx="1312">
                  <c:v>3.44051282051282</c:v>
                </c:pt>
                <c:pt idx="1313">
                  <c:v>3.44948881789137</c:v>
                </c:pt>
                <c:pt idx="1314">
                  <c:v>3.45847133757962</c:v>
                </c:pt>
                <c:pt idx="1315">
                  <c:v>3.46746031746032</c:v>
                </c:pt>
                <c:pt idx="1316">
                  <c:v>3.47645569620253</c:v>
                </c:pt>
                <c:pt idx="1317">
                  <c:v>3.48545741324921</c:v>
                </c:pt>
                <c:pt idx="1318">
                  <c:v>3.49446540880503</c:v>
                </c:pt>
                <c:pt idx="1319">
                  <c:v>3.50347962382445</c:v>
                </c:pt>
                <c:pt idx="1320">
                  <c:v>3.5125</c:v>
                </c:pt>
                <c:pt idx="1321">
                  <c:v>3.52152647975078</c:v>
                </c:pt>
                <c:pt idx="1322">
                  <c:v>3.53055900621118</c:v>
                </c:pt>
                <c:pt idx="1323">
                  <c:v>3.53959752321981</c:v>
                </c:pt>
                <c:pt idx="1324">
                  <c:v>3.54864197530864</c:v>
                </c:pt>
                <c:pt idx="1325">
                  <c:v>3.55769230769231</c:v>
                </c:pt>
                <c:pt idx="1326">
                  <c:v>3.56674846625767</c:v>
                </c:pt>
                <c:pt idx="1327">
                  <c:v>3.57581039755352</c:v>
                </c:pt>
                <c:pt idx="1328">
                  <c:v>3.58487804878049</c:v>
                </c:pt>
                <c:pt idx="1329">
                  <c:v>3.59395136778116</c:v>
                </c:pt>
                <c:pt idx="1330">
                  <c:v>3.6030303030303</c:v>
                </c:pt>
                <c:pt idx="1331">
                  <c:v>3.61211480362538</c:v>
                </c:pt>
                <c:pt idx="1332">
                  <c:v>3.62120481927711</c:v>
                </c:pt>
                <c:pt idx="1333">
                  <c:v>3.6303003003003</c:v>
                </c:pt>
                <c:pt idx="1334">
                  <c:v>3.63940119760479</c:v>
                </c:pt>
                <c:pt idx="1335">
                  <c:v>3.64850746268657</c:v>
                </c:pt>
                <c:pt idx="1336">
                  <c:v>3.65761904761905</c:v>
                </c:pt>
                <c:pt idx="1337">
                  <c:v>3.66673590504451</c:v>
                </c:pt>
                <c:pt idx="1338">
                  <c:v>3.67585798816568</c:v>
                </c:pt>
                <c:pt idx="1339">
                  <c:v>3.68498525073746</c:v>
                </c:pt>
                <c:pt idx="1340">
                  <c:v>3.69411764705882</c:v>
                </c:pt>
                <c:pt idx="1341">
                  <c:v>3.70325513196481</c:v>
                </c:pt>
                <c:pt idx="1342">
                  <c:v>3.71239766081871</c:v>
                </c:pt>
                <c:pt idx="1343">
                  <c:v>3.72154518950437</c:v>
                </c:pt>
                <c:pt idx="1344">
                  <c:v>3.7306976744186</c:v>
                </c:pt>
                <c:pt idx="1345">
                  <c:v>3.73985507246377</c:v>
                </c:pt>
                <c:pt idx="1346">
                  <c:v>3.74901734104046</c:v>
                </c:pt>
                <c:pt idx="1347">
                  <c:v>3.75818443804035</c:v>
                </c:pt>
                <c:pt idx="1348">
                  <c:v>3.76735632183908</c:v>
                </c:pt>
                <c:pt idx="1349">
                  <c:v>3.7765329512894</c:v>
                </c:pt>
                <c:pt idx="1350">
                  <c:v>3.78571428571429</c:v>
                </c:pt>
                <c:pt idx="1351">
                  <c:v>3.79490028490029</c:v>
                </c:pt>
                <c:pt idx="1352">
                  <c:v>3.80409090909091</c:v>
                </c:pt>
                <c:pt idx="1353">
                  <c:v>3.81328611898017</c:v>
                </c:pt>
                <c:pt idx="1354">
                  <c:v>3.82248587570622</c:v>
                </c:pt>
                <c:pt idx="1355">
                  <c:v>3.83169014084507</c:v>
                </c:pt>
                <c:pt idx="1356">
                  <c:v>3.8408988764045</c:v>
                </c:pt>
                <c:pt idx="1357">
                  <c:v>3.85011204481793</c:v>
                </c:pt>
                <c:pt idx="1358">
                  <c:v>3.85932960893855</c:v>
                </c:pt>
                <c:pt idx="1359">
                  <c:v>3.86855153203343</c:v>
                </c:pt>
                <c:pt idx="1360">
                  <c:v>3.87777777777778</c:v>
                </c:pt>
                <c:pt idx="1361">
                  <c:v>3.88700831024931</c:v>
                </c:pt>
                <c:pt idx="1362">
                  <c:v>3.89624309392265</c:v>
                </c:pt>
                <c:pt idx="1363">
                  <c:v>3.90548209366391</c:v>
                </c:pt>
                <c:pt idx="1364">
                  <c:v>3.91472527472528</c:v>
                </c:pt>
                <c:pt idx="1365">
                  <c:v>3.92397260273973</c:v>
                </c:pt>
                <c:pt idx="1366">
                  <c:v>3.93322404371585</c:v>
                </c:pt>
                <c:pt idx="1367">
                  <c:v>3.9424795640327</c:v>
                </c:pt>
                <c:pt idx="1368">
                  <c:v>3.95173913043478</c:v>
                </c:pt>
                <c:pt idx="1369">
                  <c:v>3.9610027100271</c:v>
                </c:pt>
                <c:pt idx="1370">
                  <c:v>3.97027027027027</c:v>
                </c:pt>
                <c:pt idx="1371">
                  <c:v>3.97954177897574</c:v>
                </c:pt>
                <c:pt idx="1372">
                  <c:v>3.98881720430108</c:v>
                </c:pt>
                <c:pt idx="1373">
                  <c:v>3.99809651474531</c:v>
                </c:pt>
                <c:pt idx="1374">
                  <c:v>4.00737967914439</c:v>
                </c:pt>
                <c:pt idx="1375">
                  <c:v>4.01666666666667</c:v>
                </c:pt>
                <c:pt idx="1376">
                  <c:v>4.02595744680851</c:v>
                </c:pt>
                <c:pt idx="1377">
                  <c:v>4.03525198938992</c:v>
                </c:pt>
                <c:pt idx="1378">
                  <c:v>4.04455026455027</c:v>
                </c:pt>
                <c:pt idx="1379">
                  <c:v>4.05385224274406</c:v>
                </c:pt>
                <c:pt idx="1380">
                  <c:v>4.06315789473684</c:v>
                </c:pt>
                <c:pt idx="1381">
                  <c:v>4.07246719160105</c:v>
                </c:pt>
                <c:pt idx="1382">
                  <c:v>4.08178010471204</c:v>
                </c:pt>
                <c:pt idx="1383">
                  <c:v>4.09109660574413</c:v>
                </c:pt>
                <c:pt idx="1384">
                  <c:v>4.10041666666667</c:v>
                </c:pt>
                <c:pt idx="1385">
                  <c:v>4.10974025974026</c:v>
                </c:pt>
                <c:pt idx="1386">
                  <c:v>4.11906735751295</c:v>
                </c:pt>
                <c:pt idx="1387">
                  <c:v>4.12839793281654</c:v>
                </c:pt>
                <c:pt idx="1388">
                  <c:v>4.13773195876289</c:v>
                </c:pt>
                <c:pt idx="1389">
                  <c:v>4.14706940874036</c:v>
                </c:pt>
                <c:pt idx="1390">
                  <c:v>4.15641025641026</c:v>
                </c:pt>
                <c:pt idx="1391">
                  <c:v>4.16575447570333</c:v>
                </c:pt>
                <c:pt idx="1392">
                  <c:v>4.17510204081633</c:v>
                </c:pt>
                <c:pt idx="1393">
                  <c:v>4.18445292620865</c:v>
                </c:pt>
                <c:pt idx="1394">
                  <c:v>4.19380710659898</c:v>
                </c:pt>
                <c:pt idx="1395">
                  <c:v>4.20316455696203</c:v>
                </c:pt>
                <c:pt idx="1396">
                  <c:v>4.21252525252525</c:v>
                </c:pt>
                <c:pt idx="1397">
                  <c:v>4.22188916876574</c:v>
                </c:pt>
                <c:pt idx="1398">
                  <c:v>4.23125628140704</c:v>
                </c:pt>
                <c:pt idx="1399">
                  <c:v>4.24062656641604</c:v>
                </c:pt>
                <c:pt idx="1400">
                  <c:v>4.25</c:v>
                </c:pt>
                <c:pt idx="1401">
                  <c:v>4.25937655860349</c:v>
                </c:pt>
                <c:pt idx="1402">
                  <c:v>4.26875621890547</c:v>
                </c:pt>
                <c:pt idx="1403">
                  <c:v>4.27813895781638</c:v>
                </c:pt>
                <c:pt idx="1404">
                  <c:v>4.28752475247525</c:v>
                </c:pt>
                <c:pt idx="1405">
                  <c:v>4.29691358024691</c:v>
                </c:pt>
                <c:pt idx="1406">
                  <c:v>4.30630541871921</c:v>
                </c:pt>
                <c:pt idx="1407">
                  <c:v>4.31570024570025</c:v>
                </c:pt>
                <c:pt idx="1408">
                  <c:v>4.32509803921569</c:v>
                </c:pt>
                <c:pt idx="1409">
                  <c:v>4.33449877750611</c:v>
                </c:pt>
                <c:pt idx="1410">
                  <c:v>4.34390243902439</c:v>
                </c:pt>
                <c:pt idx="1411">
                  <c:v>4.35330900243309</c:v>
                </c:pt>
                <c:pt idx="1412">
                  <c:v>4.36271844660194</c:v>
                </c:pt>
                <c:pt idx="1413">
                  <c:v>4.37213075060533</c:v>
                </c:pt>
                <c:pt idx="1414">
                  <c:v>4.38154589371981</c:v>
                </c:pt>
                <c:pt idx="1415">
                  <c:v>4.39096385542169</c:v>
                </c:pt>
                <c:pt idx="1416">
                  <c:v>4.40038461538462</c:v>
                </c:pt>
                <c:pt idx="1417">
                  <c:v>4.40980815347722</c:v>
                </c:pt>
                <c:pt idx="1418">
                  <c:v>4.41923444976077</c:v>
                </c:pt>
                <c:pt idx="1419">
                  <c:v>4.42866348448687</c:v>
                </c:pt>
                <c:pt idx="1420">
                  <c:v>4.43809523809524</c:v>
                </c:pt>
                <c:pt idx="1421">
                  <c:v>4.4475296912114</c:v>
                </c:pt>
                <c:pt idx="1422">
                  <c:v>4.45696682464455</c:v>
                </c:pt>
                <c:pt idx="1423">
                  <c:v>4.46640661938534</c:v>
                </c:pt>
                <c:pt idx="1424">
                  <c:v>4.47584905660377</c:v>
                </c:pt>
                <c:pt idx="1425">
                  <c:v>4.48529411764706</c:v>
                </c:pt>
                <c:pt idx="1426">
                  <c:v>4.49474178403756</c:v>
                </c:pt>
                <c:pt idx="1427">
                  <c:v>4.50419203747073</c:v>
                </c:pt>
                <c:pt idx="1428">
                  <c:v>4.51364485981309</c:v>
                </c:pt>
                <c:pt idx="1429">
                  <c:v>4.52310023310023</c:v>
                </c:pt>
                <c:pt idx="1430">
                  <c:v>4.53255813953489</c:v>
                </c:pt>
                <c:pt idx="1431">
                  <c:v>4.54201856148492</c:v>
                </c:pt>
                <c:pt idx="1432">
                  <c:v>4.55148148148148</c:v>
                </c:pt>
                <c:pt idx="1433">
                  <c:v>4.56094688221709</c:v>
                </c:pt>
                <c:pt idx="1434">
                  <c:v>4.57041474654378</c:v>
                </c:pt>
                <c:pt idx="1435">
                  <c:v>4.57988505747126</c:v>
                </c:pt>
                <c:pt idx="1436">
                  <c:v>4.58935779816514</c:v>
                </c:pt>
                <c:pt idx="1437">
                  <c:v>4.59883295194508</c:v>
                </c:pt>
                <c:pt idx="1438">
                  <c:v>4.60831050228311</c:v>
                </c:pt>
                <c:pt idx="1439">
                  <c:v>4.61779043280182</c:v>
                </c:pt>
                <c:pt idx="1440">
                  <c:v>4.62727272727273</c:v>
                </c:pt>
                <c:pt idx="1441">
                  <c:v>4.63675736961451</c:v>
                </c:pt>
                <c:pt idx="1442">
                  <c:v>4.6462443438914</c:v>
                </c:pt>
                <c:pt idx="1443">
                  <c:v>4.65573363431151</c:v>
                </c:pt>
                <c:pt idx="1444">
                  <c:v>4.66522522522523</c:v>
                </c:pt>
                <c:pt idx="1445">
                  <c:v>4.6747191011236</c:v>
                </c:pt>
                <c:pt idx="1446">
                  <c:v>4.68421524663677</c:v>
                </c:pt>
                <c:pt idx="1447">
                  <c:v>4.69371364653244</c:v>
                </c:pt>
                <c:pt idx="1448">
                  <c:v>4.70321428571429</c:v>
                </c:pt>
                <c:pt idx="1449">
                  <c:v>4.71271714922049</c:v>
                </c:pt>
                <c:pt idx="1450">
                  <c:v>4.72222222222222</c:v>
                </c:pt>
                <c:pt idx="1451">
                  <c:v>4.73172949002217</c:v>
                </c:pt>
                <c:pt idx="1452">
                  <c:v>4.7412389380531</c:v>
                </c:pt>
                <c:pt idx="1453">
                  <c:v>4.75075055187638</c:v>
                </c:pt>
                <c:pt idx="1454">
                  <c:v>4.76026431718062</c:v>
                </c:pt>
                <c:pt idx="1455">
                  <c:v>4.76978021978022</c:v>
                </c:pt>
                <c:pt idx="1456">
                  <c:v>4.77929824561404</c:v>
                </c:pt>
                <c:pt idx="1457">
                  <c:v>4.78881838074398</c:v>
                </c:pt>
                <c:pt idx="1458">
                  <c:v>4.79834061135371</c:v>
                </c:pt>
                <c:pt idx="1459">
                  <c:v>4.80786492374728</c:v>
                </c:pt>
                <c:pt idx="1460">
                  <c:v>4.81739130434783</c:v>
                </c:pt>
                <c:pt idx="1461">
                  <c:v>4.82691973969631</c:v>
                </c:pt>
                <c:pt idx="1462">
                  <c:v>4.83645021645022</c:v>
                </c:pt>
                <c:pt idx="1463">
                  <c:v>4.84598272138229</c:v>
                </c:pt>
                <c:pt idx="1464">
                  <c:v>4.85551724137931</c:v>
                </c:pt>
                <c:pt idx="1465">
                  <c:v>4.86505376344086</c:v>
                </c:pt>
                <c:pt idx="1466">
                  <c:v>4.87459227467811</c:v>
                </c:pt>
                <c:pt idx="1467">
                  <c:v>4.88413276231263</c:v>
                </c:pt>
                <c:pt idx="1468">
                  <c:v>4.89367521367521</c:v>
                </c:pt>
                <c:pt idx="1469">
                  <c:v>4.90321961620469</c:v>
                </c:pt>
                <c:pt idx="1470">
                  <c:v>4.91276595744681</c:v>
                </c:pt>
                <c:pt idx="1471">
                  <c:v>4.92231422505308</c:v>
                </c:pt>
                <c:pt idx="1472">
                  <c:v>4.93186440677966</c:v>
                </c:pt>
                <c:pt idx="1473">
                  <c:v>4.94141649048626</c:v>
                </c:pt>
                <c:pt idx="1474">
                  <c:v>4.95097046413502</c:v>
                </c:pt>
                <c:pt idx="1475">
                  <c:v>4.96052631578947</c:v>
                </c:pt>
                <c:pt idx="1476">
                  <c:v>4.97008403361345</c:v>
                </c:pt>
                <c:pt idx="1477">
                  <c:v>4.97964360587002</c:v>
                </c:pt>
                <c:pt idx="1478">
                  <c:v>4.9892050209205</c:v>
                </c:pt>
                <c:pt idx="1479">
                  <c:v>4.99876826722338</c:v>
                </c:pt>
                <c:pt idx="1480">
                  <c:v>5.00833333333333</c:v>
                </c:pt>
                <c:pt idx="1481">
                  <c:v>5.01790020790021</c:v>
                </c:pt>
                <c:pt idx="1482">
                  <c:v>5.02746887966805</c:v>
                </c:pt>
                <c:pt idx="1483">
                  <c:v>5.03703933747412</c:v>
                </c:pt>
                <c:pt idx="1484">
                  <c:v>5.04661157024793</c:v>
                </c:pt>
                <c:pt idx="1485">
                  <c:v>5.05618556701031</c:v>
                </c:pt>
                <c:pt idx="1486">
                  <c:v>5.06576131687243</c:v>
                </c:pt>
                <c:pt idx="1487">
                  <c:v>5.07533880903491</c:v>
                </c:pt>
                <c:pt idx="1488">
                  <c:v>5.08491803278689</c:v>
                </c:pt>
                <c:pt idx="1489">
                  <c:v>5.09449897750511</c:v>
                </c:pt>
                <c:pt idx="1490">
                  <c:v>5.10408163265306</c:v>
                </c:pt>
                <c:pt idx="1491">
                  <c:v>5.11366598778004</c:v>
                </c:pt>
                <c:pt idx="1492">
                  <c:v>5.12325203252033</c:v>
                </c:pt>
                <c:pt idx="1493">
                  <c:v>5.13283975659229</c:v>
                </c:pt>
                <c:pt idx="1494">
                  <c:v>5.14242914979757</c:v>
                </c:pt>
                <c:pt idx="1495">
                  <c:v>5.1520202020202</c:v>
                </c:pt>
                <c:pt idx="1496">
                  <c:v>5.16161290322581</c:v>
                </c:pt>
                <c:pt idx="1497">
                  <c:v>5.17120724346077</c:v>
                </c:pt>
                <c:pt idx="1498">
                  <c:v>5.18080321285141</c:v>
                </c:pt>
                <c:pt idx="1499">
                  <c:v>5.19040080160321</c:v>
                </c:pt>
                <c:pt idx="1500">
                  <c:v>5.2</c:v>
                </c:pt>
                <c:pt idx="1501">
                  <c:v>5.20960079840319</c:v>
                </c:pt>
                <c:pt idx="1502">
                  <c:v>5.219203187251</c:v>
                </c:pt>
                <c:pt idx="1503">
                  <c:v>5.22880715705766</c:v>
                </c:pt>
                <c:pt idx="1504">
                  <c:v>5.2384126984127</c:v>
                </c:pt>
                <c:pt idx="1505">
                  <c:v>5.2480198019802</c:v>
                </c:pt>
                <c:pt idx="1506">
                  <c:v>5.25762845849802</c:v>
                </c:pt>
                <c:pt idx="1507">
                  <c:v>5.26723865877712</c:v>
                </c:pt>
                <c:pt idx="1508">
                  <c:v>5.27685039370079</c:v>
                </c:pt>
                <c:pt idx="1509">
                  <c:v>5.28646365422397</c:v>
                </c:pt>
                <c:pt idx="1510">
                  <c:v>5.29607843137255</c:v>
                </c:pt>
                <c:pt idx="1511">
                  <c:v>5.30569471624266</c:v>
                </c:pt>
                <c:pt idx="1512">
                  <c:v>5.3153125</c:v>
                </c:pt>
                <c:pt idx="1513">
                  <c:v>5.32493177387914</c:v>
                </c:pt>
                <c:pt idx="1514">
                  <c:v>5.33455252918288</c:v>
                </c:pt>
                <c:pt idx="1515">
                  <c:v>5.34417475728155</c:v>
                </c:pt>
                <c:pt idx="1516">
                  <c:v>5.3537984496124</c:v>
                </c:pt>
                <c:pt idx="1517">
                  <c:v>5.36342359767892</c:v>
                </c:pt>
                <c:pt idx="1518">
                  <c:v>5.37305019305019</c:v>
                </c:pt>
                <c:pt idx="1519">
                  <c:v>5.38267822736031</c:v>
                </c:pt>
                <c:pt idx="1520">
                  <c:v>5.39230769230769</c:v>
                </c:pt>
                <c:pt idx="1521">
                  <c:v>5.40193857965451</c:v>
                </c:pt>
                <c:pt idx="1522">
                  <c:v>5.41157088122605</c:v>
                </c:pt>
                <c:pt idx="1523">
                  <c:v>5.42120458891013</c:v>
                </c:pt>
                <c:pt idx="1524">
                  <c:v>5.43083969465649</c:v>
                </c:pt>
                <c:pt idx="1525">
                  <c:v>5.44047619047619</c:v>
                </c:pt>
                <c:pt idx="1526">
                  <c:v>5.45011406844106</c:v>
                </c:pt>
                <c:pt idx="1527">
                  <c:v>5.45975332068311</c:v>
                </c:pt>
                <c:pt idx="1528">
                  <c:v>5.46939393939394</c:v>
                </c:pt>
                <c:pt idx="1529">
                  <c:v>5.4790359168242</c:v>
                </c:pt>
                <c:pt idx="1530">
                  <c:v>5.48867924528302</c:v>
                </c:pt>
                <c:pt idx="1531">
                  <c:v>5.49832391713748</c:v>
                </c:pt>
                <c:pt idx="1532">
                  <c:v>5.50796992481203</c:v>
                </c:pt>
                <c:pt idx="1533">
                  <c:v>5.51761726078799</c:v>
                </c:pt>
                <c:pt idx="1534">
                  <c:v>5.527265917603</c:v>
                </c:pt>
                <c:pt idx="1535">
                  <c:v>5.53691588785047</c:v>
                </c:pt>
                <c:pt idx="1536">
                  <c:v>5.5465671641791</c:v>
                </c:pt>
                <c:pt idx="1537">
                  <c:v>5.55621973929237</c:v>
                </c:pt>
                <c:pt idx="1538">
                  <c:v>5.56587360594796</c:v>
                </c:pt>
                <c:pt idx="1539">
                  <c:v>5.57552875695733</c:v>
                </c:pt>
                <c:pt idx="1540">
                  <c:v>5.58518518518519</c:v>
                </c:pt>
                <c:pt idx="1541">
                  <c:v>5.59484288354898</c:v>
                </c:pt>
                <c:pt idx="1542">
                  <c:v>5.60450184501845</c:v>
                </c:pt>
                <c:pt idx="1543">
                  <c:v>5.6141620626151</c:v>
                </c:pt>
                <c:pt idx="1544">
                  <c:v>5.62382352941176</c:v>
                </c:pt>
                <c:pt idx="1545">
                  <c:v>5.63348623853211</c:v>
                </c:pt>
                <c:pt idx="1546">
                  <c:v>5.64315018315018</c:v>
                </c:pt>
                <c:pt idx="1547">
                  <c:v>5.65281535648995</c:v>
                </c:pt>
                <c:pt idx="1548">
                  <c:v>5.66248175182482</c:v>
                </c:pt>
                <c:pt idx="1549">
                  <c:v>5.67214936247723</c:v>
                </c:pt>
                <c:pt idx="1550">
                  <c:v>5.68181818181818</c:v>
                </c:pt>
                <c:pt idx="1551">
                  <c:v>5.69148820326679</c:v>
                </c:pt>
                <c:pt idx="1552">
                  <c:v>5.70115942028986</c:v>
                </c:pt>
                <c:pt idx="1553">
                  <c:v>5.71083182640145</c:v>
                </c:pt>
                <c:pt idx="1554">
                  <c:v>5.72050541516246</c:v>
                </c:pt>
                <c:pt idx="1555">
                  <c:v>5.73018018018018</c:v>
                </c:pt>
                <c:pt idx="1556">
                  <c:v>5.73985611510791</c:v>
                </c:pt>
                <c:pt idx="1557">
                  <c:v>5.74953321364453</c:v>
                </c:pt>
                <c:pt idx="1558">
                  <c:v>5.75921146953405</c:v>
                </c:pt>
                <c:pt idx="1559">
                  <c:v>5.7688908765653</c:v>
                </c:pt>
                <c:pt idx="1560">
                  <c:v>5.77857142857143</c:v>
                </c:pt>
                <c:pt idx="1561">
                  <c:v>5.78825311942959</c:v>
                </c:pt>
                <c:pt idx="1562">
                  <c:v>5.7979359430605</c:v>
                </c:pt>
                <c:pt idx="1563">
                  <c:v>5.80761989342807</c:v>
                </c:pt>
                <c:pt idx="1564">
                  <c:v>5.81730496453901</c:v>
                </c:pt>
                <c:pt idx="1565">
                  <c:v>5.82699115044248</c:v>
                </c:pt>
                <c:pt idx="1566">
                  <c:v>5.83667844522968</c:v>
                </c:pt>
                <c:pt idx="1567">
                  <c:v>5.84636684303351</c:v>
                </c:pt>
                <c:pt idx="1568">
                  <c:v>5.85605633802817</c:v>
                </c:pt>
                <c:pt idx="1569">
                  <c:v>5.86574692442882</c:v>
                </c:pt>
                <c:pt idx="1570">
                  <c:v>5.87543859649123</c:v>
                </c:pt>
                <c:pt idx="1571">
                  <c:v>5.88513134851138</c:v>
                </c:pt>
                <c:pt idx="1572">
                  <c:v>5.89482517482518</c:v>
                </c:pt>
                <c:pt idx="1573">
                  <c:v>5.90452006980803</c:v>
                </c:pt>
                <c:pt idx="1574">
                  <c:v>5.91421602787457</c:v>
                </c:pt>
                <c:pt idx="1575">
                  <c:v>5.92391304347826</c:v>
                </c:pt>
                <c:pt idx="1576">
                  <c:v>5.93361111111111</c:v>
                </c:pt>
                <c:pt idx="1577">
                  <c:v>5.94331022530329</c:v>
                </c:pt>
                <c:pt idx="1578">
                  <c:v>5.95301038062284</c:v>
                </c:pt>
                <c:pt idx="1579">
                  <c:v>5.9627115716753</c:v>
                </c:pt>
                <c:pt idx="1580">
                  <c:v>5.97241379310345</c:v>
                </c:pt>
                <c:pt idx="1581">
                  <c:v>5.98211703958692</c:v>
                </c:pt>
                <c:pt idx="1582">
                  <c:v>5.99182130584193</c:v>
                </c:pt>
                <c:pt idx="1583">
                  <c:v>6.00152658662093</c:v>
                </c:pt>
                <c:pt idx="1584">
                  <c:v>6.01123287671233</c:v>
                </c:pt>
                <c:pt idx="1585">
                  <c:v>6.02094017094017</c:v>
                </c:pt>
                <c:pt idx="1586">
                  <c:v>6.03064846416382</c:v>
                </c:pt>
                <c:pt idx="1587">
                  <c:v>6.04035775127768</c:v>
                </c:pt>
                <c:pt idx="1588">
                  <c:v>6.05006802721089</c:v>
                </c:pt>
                <c:pt idx="1589">
                  <c:v>6.059779286927</c:v>
                </c:pt>
                <c:pt idx="1590">
                  <c:v>6.06949152542373</c:v>
                </c:pt>
                <c:pt idx="1591">
                  <c:v>6.07920473773266</c:v>
                </c:pt>
                <c:pt idx="1592">
                  <c:v>6.08891891891892</c:v>
                </c:pt>
                <c:pt idx="1593">
                  <c:v>6.09863406408094</c:v>
                </c:pt>
                <c:pt idx="1594">
                  <c:v>6.10835016835017</c:v>
                </c:pt>
                <c:pt idx="1595">
                  <c:v>6.11806722689076</c:v>
                </c:pt>
                <c:pt idx="1596">
                  <c:v>6.12778523489933</c:v>
                </c:pt>
                <c:pt idx="1597">
                  <c:v>6.13750418760469</c:v>
                </c:pt>
                <c:pt idx="1598">
                  <c:v>6.14722408026756</c:v>
                </c:pt>
                <c:pt idx="1599">
                  <c:v>6.1569449081803</c:v>
                </c:pt>
                <c:pt idx="1600">
                  <c:v>6.16666666666667</c:v>
                </c:pt>
                <c:pt idx="1601">
                  <c:v>6.17638935108153</c:v>
                </c:pt>
                <c:pt idx="1602">
                  <c:v>6.18611295681063</c:v>
                </c:pt>
                <c:pt idx="1603">
                  <c:v>6.19583747927032</c:v>
                </c:pt>
                <c:pt idx="1604">
                  <c:v>6.20556291390728</c:v>
                </c:pt>
                <c:pt idx="1605">
                  <c:v>6.21528925619835</c:v>
                </c:pt>
                <c:pt idx="1606">
                  <c:v>6.22501650165016</c:v>
                </c:pt>
                <c:pt idx="1607">
                  <c:v>6.23474464579901</c:v>
                </c:pt>
                <c:pt idx="1608">
                  <c:v>6.24447368421053</c:v>
                </c:pt>
                <c:pt idx="1609">
                  <c:v>6.25420361247948</c:v>
                </c:pt>
                <c:pt idx="1610">
                  <c:v>6.26393442622951</c:v>
                </c:pt>
                <c:pt idx="1611">
                  <c:v>6.27366612111293</c:v>
                </c:pt>
                <c:pt idx="1612">
                  <c:v>6.28339869281046</c:v>
                </c:pt>
                <c:pt idx="1613">
                  <c:v>6.29313213703099</c:v>
                </c:pt>
                <c:pt idx="1614">
                  <c:v>6.3028664495114</c:v>
                </c:pt>
                <c:pt idx="1615">
                  <c:v>6.31260162601626</c:v>
                </c:pt>
                <c:pt idx="1616">
                  <c:v>6.32233766233766</c:v>
                </c:pt>
                <c:pt idx="1617">
                  <c:v>6.33207455429498</c:v>
                </c:pt>
                <c:pt idx="1618">
                  <c:v>6.34181229773463</c:v>
                </c:pt>
                <c:pt idx="1619">
                  <c:v>6.35155088852989</c:v>
                </c:pt>
                <c:pt idx="1620">
                  <c:v>6.36129032258064</c:v>
                </c:pt>
                <c:pt idx="1621">
                  <c:v>6.37103059581321</c:v>
                </c:pt>
                <c:pt idx="1622">
                  <c:v>6.38077170418006</c:v>
                </c:pt>
                <c:pt idx="1623">
                  <c:v>6.39051364365971</c:v>
                </c:pt>
                <c:pt idx="1624">
                  <c:v>6.40025641025641</c:v>
                </c:pt>
                <c:pt idx="1625">
                  <c:v>6.41</c:v>
                </c:pt>
                <c:pt idx="1626">
                  <c:v>6.41974440894569</c:v>
                </c:pt>
                <c:pt idx="1627">
                  <c:v>6.42948963317384</c:v>
                </c:pt>
                <c:pt idx="1628">
                  <c:v>6.43923566878981</c:v>
                </c:pt>
                <c:pt idx="1629">
                  <c:v>6.44898251192369</c:v>
                </c:pt>
                <c:pt idx="1630">
                  <c:v>6.45873015873016</c:v>
                </c:pt>
                <c:pt idx="1631">
                  <c:v>6.46847860538827</c:v>
                </c:pt>
                <c:pt idx="1632">
                  <c:v>6.47822784810127</c:v>
                </c:pt>
                <c:pt idx="1633">
                  <c:v>6.48797788309637</c:v>
                </c:pt>
                <c:pt idx="1634">
                  <c:v>6.49772870662461</c:v>
                </c:pt>
                <c:pt idx="1635">
                  <c:v>6.50748031496063</c:v>
                </c:pt>
                <c:pt idx="1636">
                  <c:v>6.51723270440252</c:v>
                </c:pt>
                <c:pt idx="1637">
                  <c:v>6.52698587127159</c:v>
                </c:pt>
                <c:pt idx="1638">
                  <c:v>6.53673981191222</c:v>
                </c:pt>
                <c:pt idx="1639">
                  <c:v>6.54649452269171</c:v>
                </c:pt>
                <c:pt idx="1640">
                  <c:v>6.55625</c:v>
                </c:pt>
                <c:pt idx="1641">
                  <c:v>6.56600624024961</c:v>
                </c:pt>
                <c:pt idx="1642">
                  <c:v>6.57576323987539</c:v>
                </c:pt>
                <c:pt idx="1643">
                  <c:v>6.58552099533437</c:v>
                </c:pt>
                <c:pt idx="1644">
                  <c:v>6.59527950310559</c:v>
                </c:pt>
                <c:pt idx="1645">
                  <c:v>6.60503875968992</c:v>
                </c:pt>
                <c:pt idx="1646">
                  <c:v>6.61479876160991</c:v>
                </c:pt>
                <c:pt idx="1647">
                  <c:v>6.62455950540958</c:v>
                </c:pt>
                <c:pt idx="1648">
                  <c:v>6.63432098765432</c:v>
                </c:pt>
                <c:pt idx="1649">
                  <c:v>6.64408320493067</c:v>
                </c:pt>
                <c:pt idx="1650">
                  <c:v>6.65384615384615</c:v>
                </c:pt>
                <c:pt idx="1651">
                  <c:v>6.66360983102919</c:v>
                </c:pt>
                <c:pt idx="1652">
                  <c:v>6.67337423312883</c:v>
                </c:pt>
                <c:pt idx="1653">
                  <c:v>6.6831393568147</c:v>
                </c:pt>
                <c:pt idx="1654">
                  <c:v>6.69290519877676</c:v>
                </c:pt>
                <c:pt idx="1655">
                  <c:v>6.70267175572519</c:v>
                </c:pt>
                <c:pt idx="1656">
                  <c:v>6.71243902439024</c:v>
                </c:pt>
                <c:pt idx="1657">
                  <c:v>6.72220700152207</c:v>
                </c:pt>
                <c:pt idx="1658">
                  <c:v>6.73197568389058</c:v>
                </c:pt>
                <c:pt idx="1659">
                  <c:v>6.74174506828528</c:v>
                </c:pt>
                <c:pt idx="1660">
                  <c:v>6.75151515151515</c:v>
                </c:pt>
                <c:pt idx="1661">
                  <c:v>6.76128593040847</c:v>
                </c:pt>
                <c:pt idx="1662">
                  <c:v>6.77105740181269</c:v>
                </c:pt>
                <c:pt idx="1663">
                  <c:v>6.78082956259427</c:v>
                </c:pt>
                <c:pt idx="1664">
                  <c:v>6.79060240963856</c:v>
                </c:pt>
                <c:pt idx="1665">
                  <c:v>6.80037593984962</c:v>
                </c:pt>
                <c:pt idx="1666">
                  <c:v>6.81015015015015</c:v>
                </c:pt>
                <c:pt idx="1667">
                  <c:v>6.81992503748126</c:v>
                </c:pt>
                <c:pt idx="1668">
                  <c:v>6.8297005988024</c:v>
                </c:pt>
                <c:pt idx="1669">
                  <c:v>6.83947683109118</c:v>
                </c:pt>
                <c:pt idx="1670">
                  <c:v>6.84925373134328</c:v>
                </c:pt>
                <c:pt idx="1671">
                  <c:v>6.85903129657228</c:v>
                </c:pt>
                <c:pt idx="1672">
                  <c:v>6.86880952380952</c:v>
                </c:pt>
                <c:pt idx="1673">
                  <c:v>6.87858841010401</c:v>
                </c:pt>
                <c:pt idx="1674">
                  <c:v>6.88836795252226</c:v>
                </c:pt>
                <c:pt idx="1675">
                  <c:v>6.89814814814815</c:v>
                </c:pt>
                <c:pt idx="1676">
                  <c:v>6.90792899408284</c:v>
                </c:pt>
                <c:pt idx="1677">
                  <c:v>6.91771048744461</c:v>
                </c:pt>
                <c:pt idx="1678">
                  <c:v>6.92749262536873</c:v>
                </c:pt>
                <c:pt idx="1679">
                  <c:v>6.93727540500736</c:v>
                </c:pt>
                <c:pt idx="1680">
                  <c:v>6.94705882352941</c:v>
                </c:pt>
                <c:pt idx="1681">
                  <c:v>6.95684287812041</c:v>
                </c:pt>
                <c:pt idx="1682">
                  <c:v>6.96662756598241</c:v>
                </c:pt>
                <c:pt idx="1683">
                  <c:v>6.97641288433382</c:v>
                </c:pt>
                <c:pt idx="1684">
                  <c:v>6.98619883040936</c:v>
                </c:pt>
                <c:pt idx="1685">
                  <c:v>6.99598540145986</c:v>
                </c:pt>
                <c:pt idx="1686">
                  <c:v>7.00577259475219</c:v>
                </c:pt>
                <c:pt idx="1687">
                  <c:v>7.01556040756914</c:v>
                </c:pt>
                <c:pt idx="1688">
                  <c:v>7.0253488372093</c:v>
                </c:pt>
                <c:pt idx="1689">
                  <c:v>7.03513788098694</c:v>
                </c:pt>
                <c:pt idx="1690">
                  <c:v>7.04492753623188</c:v>
                </c:pt>
                <c:pt idx="1691">
                  <c:v>7.05471780028944</c:v>
                </c:pt>
                <c:pt idx="1692">
                  <c:v>7.06450867052023</c:v>
                </c:pt>
                <c:pt idx="1693">
                  <c:v>7.07430014430014</c:v>
                </c:pt>
                <c:pt idx="1694">
                  <c:v>7.08409221902017</c:v>
                </c:pt>
                <c:pt idx="1695">
                  <c:v>7.09388489208633</c:v>
                </c:pt>
                <c:pt idx="1696">
                  <c:v>7.10367816091954</c:v>
                </c:pt>
                <c:pt idx="1697">
                  <c:v>7.11347202295552</c:v>
                </c:pt>
                <c:pt idx="1698">
                  <c:v>7.1232664756447</c:v>
                </c:pt>
                <c:pt idx="1699">
                  <c:v>7.13306151645208</c:v>
                </c:pt>
                <c:pt idx="1700">
                  <c:v>7.14285714285714</c:v>
                </c:pt>
                <c:pt idx="1701">
                  <c:v>7.15265335235378</c:v>
                </c:pt>
                <c:pt idx="1702">
                  <c:v>7.16245014245014</c:v>
                </c:pt>
                <c:pt idx="1703">
                  <c:v>7.17224751066857</c:v>
                </c:pt>
                <c:pt idx="1704">
                  <c:v>7.18204545454545</c:v>
                </c:pt>
                <c:pt idx="1705">
                  <c:v>7.19184397163121</c:v>
                </c:pt>
                <c:pt idx="1706">
                  <c:v>7.20164305949008</c:v>
                </c:pt>
                <c:pt idx="1707">
                  <c:v>7.21144271570014</c:v>
                </c:pt>
                <c:pt idx="1708">
                  <c:v>7.22124293785311</c:v>
                </c:pt>
                <c:pt idx="1709">
                  <c:v>7.2310437235543</c:v>
                </c:pt>
                <c:pt idx="1710">
                  <c:v>7.24084507042254</c:v>
                </c:pt>
                <c:pt idx="1711">
                  <c:v>7.25064697609001</c:v>
                </c:pt>
                <c:pt idx="1712">
                  <c:v>7.26044943820225</c:v>
                </c:pt>
                <c:pt idx="1713">
                  <c:v>7.27025245441795</c:v>
                </c:pt>
                <c:pt idx="1714">
                  <c:v>7.28005602240896</c:v>
                </c:pt>
                <c:pt idx="1715">
                  <c:v>7.28986013986014</c:v>
                </c:pt>
                <c:pt idx="1716">
                  <c:v>7.29966480446927</c:v>
                </c:pt>
                <c:pt idx="1717">
                  <c:v>7.309470013947</c:v>
                </c:pt>
                <c:pt idx="1718">
                  <c:v>7.31927576601671</c:v>
                </c:pt>
                <c:pt idx="1719">
                  <c:v>7.32908205841447</c:v>
                </c:pt>
                <c:pt idx="1720">
                  <c:v>7.33888888888889</c:v>
                </c:pt>
                <c:pt idx="1721">
                  <c:v>7.34869625520111</c:v>
                </c:pt>
                <c:pt idx="1722">
                  <c:v>7.35850415512465</c:v>
                </c:pt>
                <c:pt idx="1723">
                  <c:v>7.36831258644537</c:v>
                </c:pt>
                <c:pt idx="1724">
                  <c:v>7.37812154696133</c:v>
                </c:pt>
                <c:pt idx="1725">
                  <c:v>7.38793103448276</c:v>
                </c:pt>
                <c:pt idx="1726">
                  <c:v>7.39774104683196</c:v>
                </c:pt>
                <c:pt idx="1727">
                  <c:v>7.40755158184319</c:v>
                </c:pt>
                <c:pt idx="1728">
                  <c:v>7.41736263736264</c:v>
                </c:pt>
                <c:pt idx="1729">
                  <c:v>7.42717421124829</c:v>
                </c:pt>
                <c:pt idx="1730">
                  <c:v>7.43698630136986</c:v>
                </c:pt>
                <c:pt idx="1731">
                  <c:v>7.44679890560875</c:v>
                </c:pt>
                <c:pt idx="1732">
                  <c:v>7.45661202185792</c:v>
                </c:pt>
                <c:pt idx="1733">
                  <c:v>7.46642564802183</c:v>
                </c:pt>
                <c:pt idx="1734">
                  <c:v>7.47623978201635</c:v>
                </c:pt>
                <c:pt idx="1735">
                  <c:v>7.48605442176871</c:v>
                </c:pt>
                <c:pt idx="1736">
                  <c:v>7.49586956521739</c:v>
                </c:pt>
                <c:pt idx="1737">
                  <c:v>7.50568521031208</c:v>
                </c:pt>
                <c:pt idx="1738">
                  <c:v>7.51550135501355</c:v>
                </c:pt>
                <c:pt idx="1739">
                  <c:v>7.52531799729364</c:v>
                </c:pt>
                <c:pt idx="1740">
                  <c:v>7.53513513513514</c:v>
                </c:pt>
                <c:pt idx="1741">
                  <c:v>7.54495276653171</c:v>
                </c:pt>
                <c:pt idx="1742">
                  <c:v>7.55477088948787</c:v>
                </c:pt>
                <c:pt idx="1743">
                  <c:v>7.56458950201884</c:v>
                </c:pt>
                <c:pt idx="1744">
                  <c:v>7.57440860215054</c:v>
                </c:pt>
                <c:pt idx="1745">
                  <c:v>7.58422818791946</c:v>
                </c:pt>
                <c:pt idx="1746">
                  <c:v>7.59404825737266</c:v>
                </c:pt>
                <c:pt idx="1747">
                  <c:v>7.6038688085676</c:v>
                </c:pt>
                <c:pt idx="1748">
                  <c:v>7.61368983957219</c:v>
                </c:pt>
                <c:pt idx="1749">
                  <c:v>7.62351134846462</c:v>
                </c:pt>
                <c:pt idx="1750">
                  <c:v>7.63333333333333</c:v>
                </c:pt>
                <c:pt idx="1751">
                  <c:v>7.64315579227697</c:v>
                </c:pt>
                <c:pt idx="1752">
                  <c:v>7.65297872340426</c:v>
                </c:pt>
                <c:pt idx="1753">
                  <c:v>7.662802124834</c:v>
                </c:pt>
                <c:pt idx="1754">
                  <c:v>7.67262599469496</c:v>
                </c:pt>
                <c:pt idx="1755">
                  <c:v>7.68245033112583</c:v>
                </c:pt>
                <c:pt idx="1756">
                  <c:v>7.69227513227513</c:v>
                </c:pt>
                <c:pt idx="1757">
                  <c:v>7.70210039630119</c:v>
                </c:pt>
                <c:pt idx="1758">
                  <c:v>7.71192612137203</c:v>
                </c:pt>
                <c:pt idx="1759">
                  <c:v>7.72175230566535</c:v>
                </c:pt>
                <c:pt idx="1760">
                  <c:v>7.73157894736842</c:v>
                </c:pt>
                <c:pt idx="1761">
                  <c:v>7.74140604467806</c:v>
                </c:pt>
                <c:pt idx="1762">
                  <c:v>7.75123359580053</c:v>
                </c:pt>
                <c:pt idx="1763">
                  <c:v>7.76106159895151</c:v>
                </c:pt>
                <c:pt idx="1764">
                  <c:v>7.77089005235602</c:v>
                </c:pt>
                <c:pt idx="1765">
                  <c:v>7.78071895424837</c:v>
                </c:pt>
                <c:pt idx="1766">
                  <c:v>7.79054830287206</c:v>
                </c:pt>
                <c:pt idx="1767">
                  <c:v>7.80037809647979</c:v>
                </c:pt>
                <c:pt idx="1768">
                  <c:v>7.81020833333333</c:v>
                </c:pt>
                <c:pt idx="1769">
                  <c:v>7.82003901170351</c:v>
                </c:pt>
                <c:pt idx="1770">
                  <c:v>7.82987012987013</c:v>
                </c:pt>
                <c:pt idx="1771">
                  <c:v>7.83970168612192</c:v>
                </c:pt>
                <c:pt idx="1772">
                  <c:v>7.84953367875648</c:v>
                </c:pt>
                <c:pt idx="1773">
                  <c:v>7.85936610608021</c:v>
                </c:pt>
                <c:pt idx="1774">
                  <c:v>7.86919896640827</c:v>
                </c:pt>
                <c:pt idx="1775">
                  <c:v>7.87903225806452</c:v>
                </c:pt>
                <c:pt idx="1776">
                  <c:v>7.88886597938144</c:v>
                </c:pt>
                <c:pt idx="1777">
                  <c:v>7.89870012870013</c:v>
                </c:pt>
                <c:pt idx="1778">
                  <c:v>7.90853470437018</c:v>
                </c:pt>
                <c:pt idx="1779">
                  <c:v>7.91836970474968</c:v>
                </c:pt>
                <c:pt idx="1780">
                  <c:v>7.92820512820513</c:v>
                </c:pt>
                <c:pt idx="1781">
                  <c:v>7.93804097311139</c:v>
                </c:pt>
                <c:pt idx="1782">
                  <c:v>7.94787723785166</c:v>
                </c:pt>
                <c:pt idx="1783">
                  <c:v>7.95771392081737</c:v>
                </c:pt>
                <c:pt idx="1784">
                  <c:v>7.96755102040816</c:v>
                </c:pt>
                <c:pt idx="1785">
                  <c:v>7.97738853503185</c:v>
                </c:pt>
                <c:pt idx="1786">
                  <c:v>7.98722646310433</c:v>
                </c:pt>
                <c:pt idx="1787">
                  <c:v>7.99706480304956</c:v>
                </c:pt>
                <c:pt idx="1788">
                  <c:v>8.00690355329949</c:v>
                </c:pt>
                <c:pt idx="1789">
                  <c:v>8.01674271229404</c:v>
                </c:pt>
                <c:pt idx="1790">
                  <c:v>8.02658227848102</c:v>
                </c:pt>
                <c:pt idx="1791">
                  <c:v>8.03642225031606</c:v>
                </c:pt>
                <c:pt idx="1792">
                  <c:v>8.04626262626263</c:v>
                </c:pt>
                <c:pt idx="1793">
                  <c:v>8.05610340479193</c:v>
                </c:pt>
                <c:pt idx="1794">
                  <c:v>8.06594458438287</c:v>
                </c:pt>
                <c:pt idx="1795">
                  <c:v>8.07578616352201</c:v>
                </c:pt>
                <c:pt idx="1796">
                  <c:v>8.08562814070352</c:v>
                </c:pt>
                <c:pt idx="1797">
                  <c:v>8.09547051442911</c:v>
                </c:pt>
                <c:pt idx="1798">
                  <c:v>8.10531328320802</c:v>
                </c:pt>
                <c:pt idx="1799">
                  <c:v>8.11515644555695</c:v>
                </c:pt>
                <c:pt idx="1800">
                  <c:v>8.125</c:v>
                </c:pt>
                <c:pt idx="1801">
                  <c:v>8.13484394506867</c:v>
                </c:pt>
                <c:pt idx="1802">
                  <c:v>8.14468827930175</c:v>
                </c:pt>
                <c:pt idx="1803">
                  <c:v>8.15453300124533</c:v>
                </c:pt>
                <c:pt idx="1804">
                  <c:v>8.16437810945274</c:v>
                </c:pt>
                <c:pt idx="1805">
                  <c:v>8.17422360248447</c:v>
                </c:pt>
                <c:pt idx="1806">
                  <c:v>8.18406947890819</c:v>
                </c:pt>
                <c:pt idx="1807">
                  <c:v>8.19391573729864</c:v>
                </c:pt>
                <c:pt idx="1808">
                  <c:v>8.20376237623763</c:v>
                </c:pt>
                <c:pt idx="1809">
                  <c:v>8.21360939431397</c:v>
                </c:pt>
                <c:pt idx="1810">
                  <c:v>8.22345679012346</c:v>
                </c:pt>
                <c:pt idx="1811">
                  <c:v>8.2333045622688</c:v>
                </c:pt>
                <c:pt idx="1812">
                  <c:v>8.24315270935961</c:v>
                </c:pt>
                <c:pt idx="1813">
                  <c:v>8.2530012300123</c:v>
                </c:pt>
                <c:pt idx="1814">
                  <c:v>8.26285012285012</c:v>
                </c:pt>
                <c:pt idx="1815">
                  <c:v>8.27269938650307</c:v>
                </c:pt>
                <c:pt idx="1816">
                  <c:v>8.28254901960784</c:v>
                </c:pt>
                <c:pt idx="1817">
                  <c:v>8.29239902080784</c:v>
                </c:pt>
                <c:pt idx="1818">
                  <c:v>8.30224938875306</c:v>
                </c:pt>
                <c:pt idx="1819">
                  <c:v>8.31210012210012</c:v>
                </c:pt>
                <c:pt idx="1820">
                  <c:v>8.32195121951219</c:v>
                </c:pt>
                <c:pt idx="1821">
                  <c:v>8.33180267965895</c:v>
                </c:pt>
                <c:pt idx="1822">
                  <c:v>8.34165450121654</c:v>
                </c:pt>
                <c:pt idx="1823">
                  <c:v>8.35150668286756</c:v>
                </c:pt>
                <c:pt idx="1824">
                  <c:v>8.36135922330097</c:v>
                </c:pt>
                <c:pt idx="1825">
                  <c:v>8.37121212121212</c:v>
                </c:pt>
                <c:pt idx="1826">
                  <c:v>8.38106537530267</c:v>
                </c:pt>
                <c:pt idx="1827">
                  <c:v>8.39091898428053</c:v>
                </c:pt>
                <c:pt idx="1828">
                  <c:v>8.4007729468599</c:v>
                </c:pt>
                <c:pt idx="1829">
                  <c:v>8.41062726176116</c:v>
                </c:pt>
                <c:pt idx="1830">
                  <c:v>8.42048192771084</c:v>
                </c:pt>
                <c:pt idx="1831">
                  <c:v>8.43033694344164</c:v>
                </c:pt>
                <c:pt idx="1832">
                  <c:v>8.44019230769231</c:v>
                </c:pt>
                <c:pt idx="1833">
                  <c:v>8.45004801920769</c:v>
                </c:pt>
                <c:pt idx="1834">
                  <c:v>8.45990407673861</c:v>
                </c:pt>
                <c:pt idx="1835">
                  <c:v>8.46976047904192</c:v>
                </c:pt>
                <c:pt idx="1836">
                  <c:v>8.47961722488038</c:v>
                </c:pt>
                <c:pt idx="1837">
                  <c:v>8.4894743130227</c:v>
                </c:pt>
                <c:pt idx="1838">
                  <c:v>8.49933174224344</c:v>
                </c:pt>
                <c:pt idx="1839">
                  <c:v>8.509189511323</c:v>
                </c:pt>
                <c:pt idx="1840">
                  <c:v>8.51904761904762</c:v>
                </c:pt>
                <c:pt idx="1841">
                  <c:v>8.52890606420928</c:v>
                </c:pt>
                <c:pt idx="1842">
                  <c:v>8.5387648456057</c:v>
                </c:pt>
                <c:pt idx="1843">
                  <c:v>8.54862396204033</c:v>
                </c:pt>
                <c:pt idx="1844">
                  <c:v>8.55848341232228</c:v>
                </c:pt>
                <c:pt idx="1845">
                  <c:v>8.56834319526627</c:v>
                </c:pt>
                <c:pt idx="1846">
                  <c:v>8.57820330969267</c:v>
                </c:pt>
                <c:pt idx="1847">
                  <c:v>8.58806375442739</c:v>
                </c:pt>
                <c:pt idx="1848">
                  <c:v>8.59792452830189</c:v>
                </c:pt>
                <c:pt idx="1849">
                  <c:v>8.60778563015312</c:v>
                </c:pt>
                <c:pt idx="1850">
                  <c:v>8.61764705882353</c:v>
                </c:pt>
                <c:pt idx="1851">
                  <c:v>8.62750881316099</c:v>
                </c:pt>
                <c:pt idx="1852">
                  <c:v>8.63737089201878</c:v>
                </c:pt>
                <c:pt idx="1853">
                  <c:v>8.64723329425557</c:v>
                </c:pt>
                <c:pt idx="1854">
                  <c:v>8.65709601873536</c:v>
                </c:pt>
                <c:pt idx="1855">
                  <c:v>8.66695906432749</c:v>
                </c:pt>
                <c:pt idx="1856">
                  <c:v>8.67682242990654</c:v>
                </c:pt>
                <c:pt idx="1857">
                  <c:v>8.68668611435239</c:v>
                </c:pt>
                <c:pt idx="1858">
                  <c:v>8.69655011655012</c:v>
                </c:pt>
                <c:pt idx="1859">
                  <c:v>8.70641443538999</c:v>
                </c:pt>
                <c:pt idx="1860">
                  <c:v>8.71627906976744</c:v>
                </c:pt>
                <c:pt idx="1861">
                  <c:v>8.72614401858304</c:v>
                </c:pt>
                <c:pt idx="1862">
                  <c:v>8.73600928074246</c:v>
                </c:pt>
                <c:pt idx="1863">
                  <c:v>8.74587485515643</c:v>
                </c:pt>
                <c:pt idx="1864">
                  <c:v>8.75574074074074</c:v>
                </c:pt>
                <c:pt idx="1865">
                  <c:v>8.76560693641619</c:v>
                </c:pt>
                <c:pt idx="1866">
                  <c:v>8.77547344110855</c:v>
                </c:pt>
                <c:pt idx="1867">
                  <c:v>8.78534025374856</c:v>
                </c:pt>
                <c:pt idx="1868">
                  <c:v>8.79520737327189</c:v>
                </c:pt>
                <c:pt idx="1869">
                  <c:v>8.8050747986191</c:v>
                </c:pt>
                <c:pt idx="1870">
                  <c:v>8.81494252873563</c:v>
                </c:pt>
                <c:pt idx="1871">
                  <c:v>8.82481056257176</c:v>
                </c:pt>
                <c:pt idx="1872">
                  <c:v>8.83467889908257</c:v>
                </c:pt>
                <c:pt idx="1873">
                  <c:v>8.84454753722795</c:v>
                </c:pt>
                <c:pt idx="1874">
                  <c:v>8.85441647597254</c:v>
                </c:pt>
                <c:pt idx="1875">
                  <c:v>8.86428571428571</c:v>
                </c:pt>
                <c:pt idx="1876">
                  <c:v>8.87415525114155</c:v>
                </c:pt>
                <c:pt idx="1877">
                  <c:v>8.88402508551882</c:v>
                </c:pt>
                <c:pt idx="1878">
                  <c:v>8.89389521640091</c:v>
                </c:pt>
                <c:pt idx="1879">
                  <c:v>8.90376564277588</c:v>
                </c:pt>
                <c:pt idx="1880">
                  <c:v>8.91363636363636</c:v>
                </c:pt>
                <c:pt idx="1881">
                  <c:v>8.92350737797957</c:v>
                </c:pt>
                <c:pt idx="1882">
                  <c:v>8.93337868480726</c:v>
                </c:pt>
                <c:pt idx="1883">
                  <c:v>8.94325028312571</c:v>
                </c:pt>
                <c:pt idx="1884">
                  <c:v>8.9531221719457</c:v>
                </c:pt>
                <c:pt idx="1885">
                  <c:v>8.96299435028249</c:v>
                </c:pt>
                <c:pt idx="1886">
                  <c:v>8.97286681715576</c:v>
                </c:pt>
                <c:pt idx="1887">
                  <c:v>8.98273957158963</c:v>
                </c:pt>
                <c:pt idx="1888">
                  <c:v>8.99261261261261</c:v>
                </c:pt>
                <c:pt idx="1889">
                  <c:v>9.00248593925759</c:v>
                </c:pt>
                <c:pt idx="1890">
                  <c:v>9.0123595505618</c:v>
                </c:pt>
                <c:pt idx="1891">
                  <c:v>9.02223344556678</c:v>
                </c:pt>
                <c:pt idx="1892">
                  <c:v>9.03210762331839</c:v>
                </c:pt>
                <c:pt idx="1893">
                  <c:v>9.04198208286674</c:v>
                </c:pt>
                <c:pt idx="1894">
                  <c:v>9.05185682326622</c:v>
                </c:pt>
                <c:pt idx="1895">
                  <c:v>9.06173184357542</c:v>
                </c:pt>
                <c:pt idx="1896">
                  <c:v>9.07160714285714</c:v>
                </c:pt>
                <c:pt idx="1897">
                  <c:v>9.08148272017837</c:v>
                </c:pt>
                <c:pt idx="1898">
                  <c:v>9.09135857461025</c:v>
                </c:pt>
                <c:pt idx="1899">
                  <c:v>9.10123470522803</c:v>
                </c:pt>
                <c:pt idx="1900">
                  <c:v>9.11111111111111</c:v>
                </c:pt>
                <c:pt idx="1901">
                  <c:v>9.12098779134295</c:v>
                </c:pt>
                <c:pt idx="1902">
                  <c:v>9.13086474501109</c:v>
                </c:pt>
                <c:pt idx="1903">
                  <c:v>9.14074197120709</c:v>
                </c:pt>
                <c:pt idx="1904">
                  <c:v>9.15061946902655</c:v>
                </c:pt>
                <c:pt idx="1905">
                  <c:v>9.16049723756906</c:v>
                </c:pt>
                <c:pt idx="1906">
                  <c:v>9.17037527593819</c:v>
                </c:pt>
                <c:pt idx="1907">
                  <c:v>9.18025358324146</c:v>
                </c:pt>
                <c:pt idx="1908">
                  <c:v>9.19013215859031</c:v>
                </c:pt>
                <c:pt idx="1909">
                  <c:v>9.20001100110011</c:v>
                </c:pt>
                <c:pt idx="1910">
                  <c:v>9.20989010989011</c:v>
                </c:pt>
                <c:pt idx="1911">
                  <c:v>9.21976948408342</c:v>
                </c:pt>
                <c:pt idx="1912">
                  <c:v>9.22964912280702</c:v>
                </c:pt>
                <c:pt idx="1913">
                  <c:v>9.23952902519168</c:v>
                </c:pt>
                <c:pt idx="1914">
                  <c:v>9.24940919037199</c:v>
                </c:pt>
                <c:pt idx="1915">
                  <c:v>9.25928961748634</c:v>
                </c:pt>
                <c:pt idx="1916">
                  <c:v>9.26917030567686</c:v>
                </c:pt>
                <c:pt idx="1917">
                  <c:v>9.27905125408942</c:v>
                </c:pt>
                <c:pt idx="1918">
                  <c:v>9.28893246187364</c:v>
                </c:pt>
                <c:pt idx="1919">
                  <c:v>9.29881392818281</c:v>
                </c:pt>
                <c:pt idx="1920">
                  <c:v>9.30869565217391</c:v>
                </c:pt>
                <c:pt idx="1921">
                  <c:v>9.3185776330076</c:v>
                </c:pt>
                <c:pt idx="1922">
                  <c:v>9.32845986984816</c:v>
                </c:pt>
                <c:pt idx="1923">
                  <c:v>9.33834236186349</c:v>
                </c:pt>
                <c:pt idx="1924">
                  <c:v>9.34822510822511</c:v>
                </c:pt>
                <c:pt idx="1925">
                  <c:v>9.35810810810811</c:v>
                </c:pt>
                <c:pt idx="1926">
                  <c:v>9.36799136069115</c:v>
                </c:pt>
                <c:pt idx="1927">
                  <c:v>9.37787486515642</c:v>
                </c:pt>
                <c:pt idx="1928">
                  <c:v>9.38775862068966</c:v>
                </c:pt>
                <c:pt idx="1929">
                  <c:v>9.39764262648009</c:v>
                </c:pt>
                <c:pt idx="1930">
                  <c:v>9.40752688172043</c:v>
                </c:pt>
                <c:pt idx="1931">
                  <c:v>9.41741138560687</c:v>
                </c:pt>
                <c:pt idx="1932">
                  <c:v>9.42729613733906</c:v>
                </c:pt>
                <c:pt idx="1933">
                  <c:v>9.43718113612004</c:v>
                </c:pt>
                <c:pt idx="1934">
                  <c:v>9.44706638115632</c:v>
                </c:pt>
                <c:pt idx="1935">
                  <c:v>9.45695187165776</c:v>
                </c:pt>
                <c:pt idx="1936">
                  <c:v>9.46683760683761</c:v>
                </c:pt>
                <c:pt idx="1937">
                  <c:v>9.47672358591249</c:v>
                </c:pt>
                <c:pt idx="1938">
                  <c:v>9.48660980810234</c:v>
                </c:pt>
                <c:pt idx="1939">
                  <c:v>9.49649627263046</c:v>
                </c:pt>
                <c:pt idx="1940">
                  <c:v>9.50638297872341</c:v>
                </c:pt>
                <c:pt idx="1941">
                  <c:v>9.51626992561105</c:v>
                </c:pt>
                <c:pt idx="1942">
                  <c:v>9.52615711252654</c:v>
                </c:pt>
                <c:pt idx="1943">
                  <c:v>9.53604453870626</c:v>
                </c:pt>
                <c:pt idx="1944">
                  <c:v>9.54593220338983</c:v>
                </c:pt>
                <c:pt idx="1945">
                  <c:v>9.55582010582011</c:v>
                </c:pt>
                <c:pt idx="1946">
                  <c:v>9.56570824524313</c:v>
                </c:pt>
                <c:pt idx="1947">
                  <c:v>9.57559662090813</c:v>
                </c:pt>
                <c:pt idx="1948">
                  <c:v>9.58548523206751</c:v>
                </c:pt>
                <c:pt idx="1949">
                  <c:v>9.59537407797682</c:v>
                </c:pt>
                <c:pt idx="1950">
                  <c:v>9.60526315789474</c:v>
                </c:pt>
                <c:pt idx="1951">
                  <c:v>9.61515247108307</c:v>
                </c:pt>
                <c:pt idx="1952">
                  <c:v>9.62504201680672</c:v>
                </c:pt>
                <c:pt idx="1953">
                  <c:v>9.63493179433369</c:v>
                </c:pt>
                <c:pt idx="1954">
                  <c:v>9.64482180293501</c:v>
                </c:pt>
                <c:pt idx="1955">
                  <c:v>9.65471204188482</c:v>
                </c:pt>
                <c:pt idx="1956">
                  <c:v>9.66460251046025</c:v>
                </c:pt>
                <c:pt idx="1957">
                  <c:v>9.67449320794148</c:v>
                </c:pt>
                <c:pt idx="1958">
                  <c:v>9.68438413361169</c:v>
                </c:pt>
                <c:pt idx="1959">
                  <c:v>9.69427528675704</c:v>
                </c:pt>
                <c:pt idx="1960">
                  <c:v>9.70416666666667</c:v>
                </c:pt>
                <c:pt idx="1961">
                  <c:v>9.71405827263267</c:v>
                </c:pt>
                <c:pt idx="1962">
                  <c:v>9.72395010395011</c:v>
                </c:pt>
                <c:pt idx="1963">
                  <c:v>9.73384215991693</c:v>
                </c:pt>
                <c:pt idx="1964">
                  <c:v>9.74373443983403</c:v>
                </c:pt>
                <c:pt idx="1965">
                  <c:v>9.75362694300518</c:v>
                </c:pt>
                <c:pt idx="1966">
                  <c:v>9.76351966873706</c:v>
                </c:pt>
                <c:pt idx="1967">
                  <c:v>9.7734126163392</c:v>
                </c:pt>
                <c:pt idx="1968">
                  <c:v>9.78330578512397</c:v>
                </c:pt>
                <c:pt idx="1969">
                  <c:v>9.79319917440661</c:v>
                </c:pt>
                <c:pt idx="1970">
                  <c:v>9.80309278350515</c:v>
                </c:pt>
                <c:pt idx="1971">
                  <c:v>9.81298661174047</c:v>
                </c:pt>
                <c:pt idx="1972">
                  <c:v>9.82288065843621</c:v>
                </c:pt>
                <c:pt idx="1973">
                  <c:v>9.83277492291881</c:v>
                </c:pt>
                <c:pt idx="1974">
                  <c:v>9.84266940451746</c:v>
                </c:pt>
                <c:pt idx="1975">
                  <c:v>9.8525641025641</c:v>
                </c:pt>
                <c:pt idx="1976">
                  <c:v>9.86245901639344</c:v>
                </c:pt>
                <c:pt idx="1977">
                  <c:v>9.87235414534289</c:v>
                </c:pt>
                <c:pt idx="1978">
                  <c:v>9.88224948875256</c:v>
                </c:pt>
                <c:pt idx="1979">
                  <c:v>9.89214504596527</c:v>
                </c:pt>
                <c:pt idx="1980">
                  <c:v>9.90204081632653</c:v>
                </c:pt>
                <c:pt idx="1981">
                  <c:v>9.9119367991845</c:v>
                </c:pt>
                <c:pt idx="1982">
                  <c:v>9.92183299389002</c:v>
                </c:pt>
                <c:pt idx="1983">
                  <c:v>9.93172939979654</c:v>
                </c:pt>
                <c:pt idx="1984">
                  <c:v>9.94162601626016</c:v>
                </c:pt>
                <c:pt idx="1985">
                  <c:v>9.9515228426396</c:v>
                </c:pt>
                <c:pt idx="1986">
                  <c:v>9.96141987829615</c:v>
                </c:pt>
                <c:pt idx="1987">
                  <c:v>9.97131712259372</c:v>
                </c:pt>
                <c:pt idx="1988">
                  <c:v>9.98121457489878</c:v>
                </c:pt>
                <c:pt idx="1989">
                  <c:v>9.99111223458039</c:v>
                </c:pt>
                <c:pt idx="1990">
                  <c:v>10.0010101010101</c:v>
                </c:pt>
                <c:pt idx="1991">
                  <c:v>10.0109081735621</c:v>
                </c:pt>
                <c:pt idx="1992">
                  <c:v>10.0208064516129</c:v>
                </c:pt>
                <c:pt idx="1993">
                  <c:v>10.0307049345418</c:v>
                </c:pt>
                <c:pt idx="1994">
                  <c:v>10.0406036217304</c:v>
                </c:pt>
                <c:pt idx="1995">
                  <c:v>10.0505025125628</c:v>
                </c:pt>
                <c:pt idx="1996">
                  <c:v>10.0604016064257</c:v>
                </c:pt>
                <c:pt idx="1997">
                  <c:v>10.0703009027081</c:v>
                </c:pt>
                <c:pt idx="1998">
                  <c:v>10.0802004008016</c:v>
                </c:pt>
                <c:pt idx="1999">
                  <c:v>10.0901001001001</c:v>
                </c:pt>
                <c:pt idx="2000">
                  <c:v>10.1</c:v>
                </c:pt>
              </c:numCache>
            </c:numRef>
          </c:yVal>
          <c:smooth val="1"/>
        </c:ser>
        <c:ser>
          <c:idx val="1"/>
          <c:order val="1"/>
          <c:tx>
            <c:strRef>
              <c:f>label 2</c:f>
              <c:strCache>
                <c:ptCount val="1"/>
                <c:pt idx="0">
                  <c:v>Sloupec1</c:v>
                </c:pt>
              </c:strCache>
            </c:strRef>
          </c:tx>
          <c:spPr>
            <a:solidFill>
              <a:srgbClr val="be4b48"/>
            </a:solidFill>
            <a:ln w="28440">
              <a:solidFill>
                <a:srgbClr val="be4b48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3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2</c:f>
              <c:numCache>
                <c:formatCode>General</c:formatCode>
                <c:ptCount val="2001"/>
                <c:pt idx="0">
                  <c:v>1.125</c:v>
                </c:pt>
                <c:pt idx="1">
                  <c:v>1.12515644555695</c:v>
                </c:pt>
                <c:pt idx="2">
                  <c:v>1.12531328320802</c:v>
                </c:pt>
                <c:pt idx="3">
                  <c:v>1.12547051442911</c:v>
                </c:pt>
                <c:pt idx="4">
                  <c:v>1.12562814070352</c:v>
                </c:pt>
                <c:pt idx="5">
                  <c:v>1.12578616352201</c:v>
                </c:pt>
                <c:pt idx="6">
                  <c:v>1.12594458438287</c:v>
                </c:pt>
                <c:pt idx="7">
                  <c:v>1.12610340479193</c:v>
                </c:pt>
                <c:pt idx="8">
                  <c:v>1.12626262626263</c:v>
                </c:pt>
                <c:pt idx="9">
                  <c:v>1.12642225031606</c:v>
                </c:pt>
                <c:pt idx="10">
                  <c:v>1.12658227848101</c:v>
                </c:pt>
                <c:pt idx="11">
                  <c:v>1.12674271229404</c:v>
                </c:pt>
                <c:pt idx="12">
                  <c:v>1.12690355329949</c:v>
                </c:pt>
                <c:pt idx="13">
                  <c:v>1.12706480304956</c:v>
                </c:pt>
                <c:pt idx="14">
                  <c:v>1.12722646310433</c:v>
                </c:pt>
                <c:pt idx="15">
                  <c:v>1.12738853503185</c:v>
                </c:pt>
                <c:pt idx="16">
                  <c:v>1.12755102040816</c:v>
                </c:pt>
                <c:pt idx="17">
                  <c:v>1.12771392081737</c:v>
                </c:pt>
                <c:pt idx="18">
                  <c:v>1.12787723785166</c:v>
                </c:pt>
                <c:pt idx="19">
                  <c:v>1.1280409731114</c:v>
                </c:pt>
                <c:pt idx="20">
                  <c:v>1.12820512820513</c:v>
                </c:pt>
                <c:pt idx="21">
                  <c:v>1.12836970474968</c:v>
                </c:pt>
                <c:pt idx="22">
                  <c:v>1.12853470437018</c:v>
                </c:pt>
                <c:pt idx="23">
                  <c:v>1.12870012870013</c:v>
                </c:pt>
                <c:pt idx="24">
                  <c:v>1.12886597938144</c:v>
                </c:pt>
                <c:pt idx="25">
                  <c:v>1.12903225806452</c:v>
                </c:pt>
                <c:pt idx="26">
                  <c:v>1.12919896640827</c:v>
                </c:pt>
                <c:pt idx="27">
                  <c:v>1.12936610608021</c:v>
                </c:pt>
                <c:pt idx="28">
                  <c:v>1.12953367875648</c:v>
                </c:pt>
                <c:pt idx="29">
                  <c:v>1.12970168612192</c:v>
                </c:pt>
                <c:pt idx="30">
                  <c:v>1.12987012987013</c:v>
                </c:pt>
                <c:pt idx="31">
                  <c:v>1.13003901170351</c:v>
                </c:pt>
                <c:pt idx="32">
                  <c:v>1.13020833333333</c:v>
                </c:pt>
                <c:pt idx="33">
                  <c:v>1.13037809647979</c:v>
                </c:pt>
                <c:pt idx="34">
                  <c:v>1.13054830287206</c:v>
                </c:pt>
                <c:pt idx="35">
                  <c:v>1.13071895424837</c:v>
                </c:pt>
                <c:pt idx="36">
                  <c:v>1.13089005235602</c:v>
                </c:pt>
                <c:pt idx="37">
                  <c:v>1.13106159895151</c:v>
                </c:pt>
                <c:pt idx="38">
                  <c:v>1.13123359580052</c:v>
                </c:pt>
                <c:pt idx="39">
                  <c:v>1.13140604467806</c:v>
                </c:pt>
                <c:pt idx="40">
                  <c:v>1.13157894736842</c:v>
                </c:pt>
                <c:pt idx="41">
                  <c:v>1.13175230566535</c:v>
                </c:pt>
                <c:pt idx="42">
                  <c:v>1.13192612137203</c:v>
                </c:pt>
                <c:pt idx="43">
                  <c:v>1.13210039630119</c:v>
                </c:pt>
                <c:pt idx="44">
                  <c:v>1.13227513227513</c:v>
                </c:pt>
                <c:pt idx="45">
                  <c:v>1.13245033112583</c:v>
                </c:pt>
                <c:pt idx="46">
                  <c:v>1.13262599469496</c:v>
                </c:pt>
                <c:pt idx="47">
                  <c:v>1.132802124834</c:v>
                </c:pt>
                <c:pt idx="48">
                  <c:v>1.13297872340426</c:v>
                </c:pt>
                <c:pt idx="49">
                  <c:v>1.13315579227696</c:v>
                </c:pt>
                <c:pt idx="50">
                  <c:v>1.13333333333333</c:v>
                </c:pt>
                <c:pt idx="51">
                  <c:v>1.13351134846462</c:v>
                </c:pt>
                <c:pt idx="52">
                  <c:v>1.13368983957219</c:v>
                </c:pt>
                <c:pt idx="53">
                  <c:v>1.1338688085676</c:v>
                </c:pt>
                <c:pt idx="54">
                  <c:v>1.13404825737265</c:v>
                </c:pt>
                <c:pt idx="55">
                  <c:v>1.13422818791946</c:v>
                </c:pt>
                <c:pt idx="56">
                  <c:v>1.13440860215054</c:v>
                </c:pt>
                <c:pt idx="57">
                  <c:v>1.13458950201884</c:v>
                </c:pt>
                <c:pt idx="58">
                  <c:v>1.13477088948787</c:v>
                </c:pt>
                <c:pt idx="59">
                  <c:v>1.13495276653171</c:v>
                </c:pt>
                <c:pt idx="60">
                  <c:v>1.13513513513514</c:v>
                </c:pt>
                <c:pt idx="61">
                  <c:v>1.13531799729364</c:v>
                </c:pt>
                <c:pt idx="62">
                  <c:v>1.13550135501355</c:v>
                </c:pt>
                <c:pt idx="63">
                  <c:v>1.13568521031208</c:v>
                </c:pt>
                <c:pt idx="64">
                  <c:v>1.13586956521739</c:v>
                </c:pt>
                <c:pt idx="65">
                  <c:v>1.13605442176871</c:v>
                </c:pt>
                <c:pt idx="66">
                  <c:v>1.13623978201635</c:v>
                </c:pt>
                <c:pt idx="67">
                  <c:v>1.13642564802183</c:v>
                </c:pt>
                <c:pt idx="68">
                  <c:v>1.13661202185792</c:v>
                </c:pt>
                <c:pt idx="69">
                  <c:v>1.13679890560876</c:v>
                </c:pt>
                <c:pt idx="70">
                  <c:v>1.13698630136986</c:v>
                </c:pt>
                <c:pt idx="71">
                  <c:v>1.13717421124829</c:v>
                </c:pt>
                <c:pt idx="72">
                  <c:v>1.13736263736264</c:v>
                </c:pt>
                <c:pt idx="73">
                  <c:v>1.13755158184319</c:v>
                </c:pt>
                <c:pt idx="74">
                  <c:v>1.13774104683196</c:v>
                </c:pt>
                <c:pt idx="75">
                  <c:v>1.13793103448276</c:v>
                </c:pt>
                <c:pt idx="76">
                  <c:v>1.13812154696133</c:v>
                </c:pt>
                <c:pt idx="77">
                  <c:v>1.13831258644537</c:v>
                </c:pt>
                <c:pt idx="78">
                  <c:v>1.13850415512465</c:v>
                </c:pt>
                <c:pt idx="79">
                  <c:v>1.13869625520111</c:v>
                </c:pt>
                <c:pt idx="80">
                  <c:v>1.13888888888889</c:v>
                </c:pt>
                <c:pt idx="81">
                  <c:v>1.13908205841446</c:v>
                </c:pt>
                <c:pt idx="82">
                  <c:v>1.13927576601671</c:v>
                </c:pt>
                <c:pt idx="83">
                  <c:v>1.139470013947</c:v>
                </c:pt>
                <c:pt idx="84">
                  <c:v>1.13966480446927</c:v>
                </c:pt>
                <c:pt idx="85">
                  <c:v>1.13986013986014</c:v>
                </c:pt>
                <c:pt idx="86">
                  <c:v>1.14005602240896</c:v>
                </c:pt>
                <c:pt idx="87">
                  <c:v>1.14025245441795</c:v>
                </c:pt>
                <c:pt idx="88">
                  <c:v>1.14044943820225</c:v>
                </c:pt>
                <c:pt idx="89">
                  <c:v>1.14064697609001</c:v>
                </c:pt>
                <c:pt idx="90">
                  <c:v>1.14084507042254</c:v>
                </c:pt>
                <c:pt idx="91">
                  <c:v>1.1410437235543</c:v>
                </c:pt>
                <c:pt idx="92">
                  <c:v>1.14124293785311</c:v>
                </c:pt>
                <c:pt idx="93">
                  <c:v>1.14144271570014</c:v>
                </c:pt>
                <c:pt idx="94">
                  <c:v>1.14164305949009</c:v>
                </c:pt>
                <c:pt idx="95">
                  <c:v>1.14184397163121</c:v>
                </c:pt>
                <c:pt idx="96">
                  <c:v>1.14204545454545</c:v>
                </c:pt>
                <c:pt idx="97">
                  <c:v>1.14224751066856</c:v>
                </c:pt>
                <c:pt idx="98">
                  <c:v>1.14245014245014</c:v>
                </c:pt>
                <c:pt idx="99">
                  <c:v>1.14265335235378</c:v>
                </c:pt>
                <c:pt idx="100">
                  <c:v>1.14285714285714</c:v>
                </c:pt>
                <c:pt idx="101">
                  <c:v>1.14306151645207</c:v>
                </c:pt>
                <c:pt idx="102">
                  <c:v>1.1432664756447</c:v>
                </c:pt>
                <c:pt idx="103">
                  <c:v>1.14347202295552</c:v>
                </c:pt>
                <c:pt idx="104">
                  <c:v>1.14367816091954</c:v>
                </c:pt>
                <c:pt idx="105">
                  <c:v>1.14388489208633</c:v>
                </c:pt>
                <c:pt idx="106">
                  <c:v>1.14409221902017</c:v>
                </c:pt>
                <c:pt idx="107">
                  <c:v>1.14430014430014</c:v>
                </c:pt>
                <c:pt idx="108">
                  <c:v>1.14450867052023</c:v>
                </c:pt>
                <c:pt idx="109">
                  <c:v>1.14471780028944</c:v>
                </c:pt>
                <c:pt idx="110">
                  <c:v>1.14492753623188</c:v>
                </c:pt>
                <c:pt idx="111">
                  <c:v>1.14513788098694</c:v>
                </c:pt>
                <c:pt idx="112">
                  <c:v>1.1453488372093</c:v>
                </c:pt>
                <c:pt idx="113">
                  <c:v>1.14556040756914</c:v>
                </c:pt>
                <c:pt idx="114">
                  <c:v>1.14577259475219</c:v>
                </c:pt>
                <c:pt idx="115">
                  <c:v>1.14598540145985</c:v>
                </c:pt>
                <c:pt idx="116">
                  <c:v>1.14619883040936</c:v>
                </c:pt>
                <c:pt idx="117">
                  <c:v>1.14641288433382</c:v>
                </c:pt>
                <c:pt idx="118">
                  <c:v>1.1466275659824</c:v>
                </c:pt>
                <c:pt idx="119">
                  <c:v>1.14684287812041</c:v>
                </c:pt>
                <c:pt idx="120">
                  <c:v>1.14705882352941</c:v>
                </c:pt>
                <c:pt idx="121">
                  <c:v>1.14727540500736</c:v>
                </c:pt>
                <c:pt idx="122">
                  <c:v>1.14749262536873</c:v>
                </c:pt>
                <c:pt idx="123">
                  <c:v>1.14771048744461</c:v>
                </c:pt>
                <c:pt idx="124">
                  <c:v>1.14792899408284</c:v>
                </c:pt>
                <c:pt idx="125">
                  <c:v>1.14814814814815</c:v>
                </c:pt>
                <c:pt idx="126">
                  <c:v>1.14836795252226</c:v>
                </c:pt>
                <c:pt idx="127">
                  <c:v>1.14858841010401</c:v>
                </c:pt>
                <c:pt idx="128">
                  <c:v>1.14880952380952</c:v>
                </c:pt>
                <c:pt idx="129">
                  <c:v>1.14903129657228</c:v>
                </c:pt>
                <c:pt idx="130">
                  <c:v>1.14925373134328</c:v>
                </c:pt>
                <c:pt idx="131">
                  <c:v>1.14947683109118</c:v>
                </c:pt>
                <c:pt idx="132">
                  <c:v>1.1497005988024</c:v>
                </c:pt>
                <c:pt idx="133">
                  <c:v>1.14992503748126</c:v>
                </c:pt>
                <c:pt idx="134">
                  <c:v>1.15015015015015</c:v>
                </c:pt>
                <c:pt idx="135">
                  <c:v>1.15037593984962</c:v>
                </c:pt>
                <c:pt idx="136">
                  <c:v>1.15060240963855</c:v>
                </c:pt>
                <c:pt idx="137">
                  <c:v>1.15082956259427</c:v>
                </c:pt>
                <c:pt idx="138">
                  <c:v>1.15105740181269</c:v>
                </c:pt>
                <c:pt idx="139">
                  <c:v>1.15128593040847</c:v>
                </c:pt>
                <c:pt idx="140">
                  <c:v>1.15151515151515</c:v>
                </c:pt>
                <c:pt idx="141">
                  <c:v>1.15174506828528</c:v>
                </c:pt>
                <c:pt idx="142">
                  <c:v>1.15197568389058</c:v>
                </c:pt>
                <c:pt idx="143">
                  <c:v>1.15220700152207</c:v>
                </c:pt>
                <c:pt idx="144">
                  <c:v>1.15243902439024</c:v>
                </c:pt>
                <c:pt idx="145">
                  <c:v>1.15267175572519</c:v>
                </c:pt>
                <c:pt idx="146">
                  <c:v>1.15290519877676</c:v>
                </c:pt>
                <c:pt idx="147">
                  <c:v>1.1531393568147</c:v>
                </c:pt>
                <c:pt idx="148">
                  <c:v>1.15337423312883</c:v>
                </c:pt>
                <c:pt idx="149">
                  <c:v>1.15360983102919</c:v>
                </c:pt>
                <c:pt idx="150">
                  <c:v>1.15384615384615</c:v>
                </c:pt>
                <c:pt idx="151">
                  <c:v>1.15408320493066</c:v>
                </c:pt>
                <c:pt idx="152">
                  <c:v>1.15432098765432</c:v>
                </c:pt>
                <c:pt idx="153">
                  <c:v>1.15455950540958</c:v>
                </c:pt>
                <c:pt idx="154">
                  <c:v>1.15479876160991</c:v>
                </c:pt>
                <c:pt idx="155">
                  <c:v>1.15503875968992</c:v>
                </c:pt>
                <c:pt idx="156">
                  <c:v>1.15527950310559</c:v>
                </c:pt>
                <c:pt idx="157">
                  <c:v>1.15552099533437</c:v>
                </c:pt>
                <c:pt idx="158">
                  <c:v>1.15576323987539</c:v>
                </c:pt>
                <c:pt idx="159">
                  <c:v>1.15600624024961</c:v>
                </c:pt>
                <c:pt idx="160">
                  <c:v>1.15625</c:v>
                </c:pt>
                <c:pt idx="161">
                  <c:v>1.15649452269171</c:v>
                </c:pt>
                <c:pt idx="162">
                  <c:v>1.15673981191223</c:v>
                </c:pt>
                <c:pt idx="163">
                  <c:v>1.15698587127159</c:v>
                </c:pt>
                <c:pt idx="164">
                  <c:v>1.15723270440252</c:v>
                </c:pt>
                <c:pt idx="165">
                  <c:v>1.15748031496063</c:v>
                </c:pt>
                <c:pt idx="166">
                  <c:v>1.15772870662461</c:v>
                </c:pt>
                <c:pt idx="167">
                  <c:v>1.15797788309637</c:v>
                </c:pt>
                <c:pt idx="168">
                  <c:v>1.15822784810127</c:v>
                </c:pt>
                <c:pt idx="169">
                  <c:v>1.15847860538827</c:v>
                </c:pt>
                <c:pt idx="170">
                  <c:v>1.15873015873016</c:v>
                </c:pt>
                <c:pt idx="171">
                  <c:v>1.15898251192369</c:v>
                </c:pt>
                <c:pt idx="172">
                  <c:v>1.15923566878981</c:v>
                </c:pt>
                <c:pt idx="173">
                  <c:v>1.15948963317384</c:v>
                </c:pt>
                <c:pt idx="174">
                  <c:v>1.15974440894569</c:v>
                </c:pt>
                <c:pt idx="175">
                  <c:v>1.16</c:v>
                </c:pt>
                <c:pt idx="176">
                  <c:v>1.16025641025641</c:v>
                </c:pt>
                <c:pt idx="177">
                  <c:v>1.16051364365971</c:v>
                </c:pt>
                <c:pt idx="178">
                  <c:v>1.16077170418006</c:v>
                </c:pt>
                <c:pt idx="179">
                  <c:v>1.1610305958132</c:v>
                </c:pt>
                <c:pt idx="180">
                  <c:v>1.16129032258065</c:v>
                </c:pt>
                <c:pt idx="181">
                  <c:v>1.16155088852989</c:v>
                </c:pt>
                <c:pt idx="182">
                  <c:v>1.16181229773463</c:v>
                </c:pt>
                <c:pt idx="183">
                  <c:v>1.16207455429498</c:v>
                </c:pt>
                <c:pt idx="184">
                  <c:v>1.16233766233766</c:v>
                </c:pt>
                <c:pt idx="185">
                  <c:v>1.16260162601626</c:v>
                </c:pt>
                <c:pt idx="186">
                  <c:v>1.1628664495114</c:v>
                </c:pt>
                <c:pt idx="187">
                  <c:v>1.163132137031</c:v>
                </c:pt>
                <c:pt idx="188">
                  <c:v>1.16339869281046</c:v>
                </c:pt>
                <c:pt idx="189">
                  <c:v>1.16366612111293</c:v>
                </c:pt>
                <c:pt idx="190">
                  <c:v>1.16393442622951</c:v>
                </c:pt>
                <c:pt idx="191">
                  <c:v>1.16420361247947</c:v>
                </c:pt>
                <c:pt idx="192">
                  <c:v>1.16447368421053</c:v>
                </c:pt>
                <c:pt idx="193">
                  <c:v>1.16474464579901</c:v>
                </c:pt>
                <c:pt idx="194">
                  <c:v>1.16501650165017</c:v>
                </c:pt>
                <c:pt idx="195">
                  <c:v>1.16528925619835</c:v>
                </c:pt>
                <c:pt idx="196">
                  <c:v>1.16556291390728</c:v>
                </c:pt>
                <c:pt idx="197">
                  <c:v>1.16583747927032</c:v>
                </c:pt>
                <c:pt idx="198">
                  <c:v>1.16611295681063</c:v>
                </c:pt>
                <c:pt idx="199">
                  <c:v>1.16638935108153</c:v>
                </c:pt>
                <c:pt idx="200">
                  <c:v>1.16666666666667</c:v>
                </c:pt>
                <c:pt idx="201">
                  <c:v>1.1669449081803</c:v>
                </c:pt>
                <c:pt idx="202">
                  <c:v>1.16722408026756</c:v>
                </c:pt>
                <c:pt idx="203">
                  <c:v>1.16750418760469</c:v>
                </c:pt>
                <c:pt idx="204">
                  <c:v>1.16778523489933</c:v>
                </c:pt>
                <c:pt idx="205">
                  <c:v>1.16806722689076</c:v>
                </c:pt>
                <c:pt idx="206">
                  <c:v>1.16835016835017</c:v>
                </c:pt>
                <c:pt idx="207">
                  <c:v>1.16863406408094</c:v>
                </c:pt>
                <c:pt idx="208">
                  <c:v>1.16891891891892</c:v>
                </c:pt>
                <c:pt idx="209">
                  <c:v>1.16920473773266</c:v>
                </c:pt>
                <c:pt idx="210">
                  <c:v>1.16949152542373</c:v>
                </c:pt>
                <c:pt idx="211">
                  <c:v>1.169779286927</c:v>
                </c:pt>
                <c:pt idx="212">
                  <c:v>1.17006802721088</c:v>
                </c:pt>
                <c:pt idx="213">
                  <c:v>1.17035775127768</c:v>
                </c:pt>
                <c:pt idx="214">
                  <c:v>1.17064846416382</c:v>
                </c:pt>
                <c:pt idx="215">
                  <c:v>1.17094017094017</c:v>
                </c:pt>
                <c:pt idx="216">
                  <c:v>1.17123287671233</c:v>
                </c:pt>
                <c:pt idx="217">
                  <c:v>1.17152658662093</c:v>
                </c:pt>
                <c:pt idx="218">
                  <c:v>1.17182130584192</c:v>
                </c:pt>
                <c:pt idx="219">
                  <c:v>1.17211703958692</c:v>
                </c:pt>
                <c:pt idx="220">
                  <c:v>1.17241379310345</c:v>
                </c:pt>
                <c:pt idx="221">
                  <c:v>1.1727115716753</c:v>
                </c:pt>
                <c:pt idx="222">
                  <c:v>1.17301038062284</c:v>
                </c:pt>
                <c:pt idx="223">
                  <c:v>1.17331022530329</c:v>
                </c:pt>
                <c:pt idx="224">
                  <c:v>1.17361111111111</c:v>
                </c:pt>
                <c:pt idx="225">
                  <c:v>1.17391304347826</c:v>
                </c:pt>
                <c:pt idx="226">
                  <c:v>1.17421602787456</c:v>
                </c:pt>
                <c:pt idx="227">
                  <c:v>1.17452006980803</c:v>
                </c:pt>
                <c:pt idx="228">
                  <c:v>1.17482517482517</c:v>
                </c:pt>
                <c:pt idx="229">
                  <c:v>1.17513134851138</c:v>
                </c:pt>
                <c:pt idx="230">
                  <c:v>1.17543859649123</c:v>
                </c:pt>
                <c:pt idx="231">
                  <c:v>1.17574692442882</c:v>
                </c:pt>
                <c:pt idx="232">
                  <c:v>1.17605633802817</c:v>
                </c:pt>
                <c:pt idx="233">
                  <c:v>1.17636684303351</c:v>
                </c:pt>
                <c:pt idx="234">
                  <c:v>1.17667844522968</c:v>
                </c:pt>
                <c:pt idx="235">
                  <c:v>1.17699115044248</c:v>
                </c:pt>
                <c:pt idx="236">
                  <c:v>1.17730496453901</c:v>
                </c:pt>
                <c:pt idx="237">
                  <c:v>1.17761989342806</c:v>
                </c:pt>
                <c:pt idx="238">
                  <c:v>1.1779359430605</c:v>
                </c:pt>
                <c:pt idx="239">
                  <c:v>1.17825311942959</c:v>
                </c:pt>
                <c:pt idx="240">
                  <c:v>1.17857142857143</c:v>
                </c:pt>
                <c:pt idx="241">
                  <c:v>1.1788908765653</c:v>
                </c:pt>
                <c:pt idx="242">
                  <c:v>1.17921146953405</c:v>
                </c:pt>
                <c:pt idx="243">
                  <c:v>1.17953321364452</c:v>
                </c:pt>
                <c:pt idx="244">
                  <c:v>1.17985611510791</c:v>
                </c:pt>
                <c:pt idx="245">
                  <c:v>1.18018018018018</c:v>
                </c:pt>
                <c:pt idx="246">
                  <c:v>1.18050541516245</c:v>
                </c:pt>
                <c:pt idx="247">
                  <c:v>1.18083182640145</c:v>
                </c:pt>
                <c:pt idx="248">
                  <c:v>1.18115942028986</c:v>
                </c:pt>
                <c:pt idx="249">
                  <c:v>1.18148820326679</c:v>
                </c:pt>
                <c:pt idx="250">
                  <c:v>1.18181818181818</c:v>
                </c:pt>
                <c:pt idx="251">
                  <c:v>1.18214936247723</c:v>
                </c:pt>
                <c:pt idx="252">
                  <c:v>1.18248175182482</c:v>
                </c:pt>
                <c:pt idx="253">
                  <c:v>1.18281535648995</c:v>
                </c:pt>
                <c:pt idx="254">
                  <c:v>1.18315018315018</c:v>
                </c:pt>
                <c:pt idx="255">
                  <c:v>1.18348623853211</c:v>
                </c:pt>
                <c:pt idx="256">
                  <c:v>1.18382352941176</c:v>
                </c:pt>
                <c:pt idx="257">
                  <c:v>1.1841620626151</c:v>
                </c:pt>
                <c:pt idx="258">
                  <c:v>1.18450184501845</c:v>
                </c:pt>
                <c:pt idx="259">
                  <c:v>1.18484288354898</c:v>
                </c:pt>
                <c:pt idx="260">
                  <c:v>1.18518518518519</c:v>
                </c:pt>
                <c:pt idx="261">
                  <c:v>1.18552875695733</c:v>
                </c:pt>
                <c:pt idx="262">
                  <c:v>1.18587360594796</c:v>
                </c:pt>
                <c:pt idx="263">
                  <c:v>1.18621973929237</c:v>
                </c:pt>
                <c:pt idx="264">
                  <c:v>1.1865671641791</c:v>
                </c:pt>
                <c:pt idx="265">
                  <c:v>1.18691588785047</c:v>
                </c:pt>
                <c:pt idx="266">
                  <c:v>1.187265917603</c:v>
                </c:pt>
                <c:pt idx="267">
                  <c:v>1.18761726078799</c:v>
                </c:pt>
                <c:pt idx="268">
                  <c:v>1.18796992481203</c:v>
                </c:pt>
                <c:pt idx="269">
                  <c:v>1.18832391713748</c:v>
                </c:pt>
                <c:pt idx="270">
                  <c:v>1.18867924528302</c:v>
                </c:pt>
                <c:pt idx="271">
                  <c:v>1.1890359168242</c:v>
                </c:pt>
                <c:pt idx="272">
                  <c:v>1.18939393939394</c:v>
                </c:pt>
                <c:pt idx="273">
                  <c:v>1.18975332068311</c:v>
                </c:pt>
                <c:pt idx="274">
                  <c:v>1.19011406844106</c:v>
                </c:pt>
                <c:pt idx="275">
                  <c:v>1.19047619047619</c:v>
                </c:pt>
                <c:pt idx="276">
                  <c:v>1.19083969465649</c:v>
                </c:pt>
                <c:pt idx="277">
                  <c:v>1.19120458891013</c:v>
                </c:pt>
                <c:pt idx="278">
                  <c:v>1.19157088122605</c:v>
                </c:pt>
                <c:pt idx="279">
                  <c:v>1.19193857965451</c:v>
                </c:pt>
                <c:pt idx="280">
                  <c:v>1.19230769230769</c:v>
                </c:pt>
                <c:pt idx="281">
                  <c:v>1.19267822736031</c:v>
                </c:pt>
                <c:pt idx="282">
                  <c:v>1.19305019305019</c:v>
                </c:pt>
                <c:pt idx="283">
                  <c:v>1.19342359767892</c:v>
                </c:pt>
                <c:pt idx="284">
                  <c:v>1.1937984496124</c:v>
                </c:pt>
                <c:pt idx="285">
                  <c:v>1.19417475728155</c:v>
                </c:pt>
                <c:pt idx="286">
                  <c:v>1.19455252918288</c:v>
                </c:pt>
                <c:pt idx="287">
                  <c:v>1.19493177387914</c:v>
                </c:pt>
                <c:pt idx="288">
                  <c:v>1.1953125</c:v>
                </c:pt>
                <c:pt idx="289">
                  <c:v>1.19569471624266</c:v>
                </c:pt>
                <c:pt idx="290">
                  <c:v>1.19607843137255</c:v>
                </c:pt>
                <c:pt idx="291">
                  <c:v>1.19646365422397</c:v>
                </c:pt>
                <c:pt idx="292">
                  <c:v>1.19685039370079</c:v>
                </c:pt>
                <c:pt idx="293">
                  <c:v>1.19723865877712</c:v>
                </c:pt>
                <c:pt idx="294">
                  <c:v>1.19762845849802</c:v>
                </c:pt>
                <c:pt idx="295">
                  <c:v>1.1980198019802</c:v>
                </c:pt>
                <c:pt idx="296">
                  <c:v>1.1984126984127</c:v>
                </c:pt>
                <c:pt idx="297">
                  <c:v>1.19880715705765</c:v>
                </c:pt>
                <c:pt idx="298">
                  <c:v>1.199203187251</c:v>
                </c:pt>
                <c:pt idx="299">
                  <c:v>1.19960079840319</c:v>
                </c:pt>
                <c:pt idx="300">
                  <c:v>1.2</c:v>
                </c:pt>
                <c:pt idx="301">
                  <c:v>1.20040080160321</c:v>
                </c:pt>
                <c:pt idx="302">
                  <c:v>1.20080321285141</c:v>
                </c:pt>
                <c:pt idx="303">
                  <c:v>1.20120724346076</c:v>
                </c:pt>
                <c:pt idx="304">
                  <c:v>1.20161290322581</c:v>
                </c:pt>
                <c:pt idx="305">
                  <c:v>1.2020202020202</c:v>
                </c:pt>
                <c:pt idx="306">
                  <c:v>1.20242914979757</c:v>
                </c:pt>
                <c:pt idx="307">
                  <c:v>1.20283975659229</c:v>
                </c:pt>
                <c:pt idx="308">
                  <c:v>1.20325203252033</c:v>
                </c:pt>
                <c:pt idx="309">
                  <c:v>1.20366598778004</c:v>
                </c:pt>
                <c:pt idx="310">
                  <c:v>1.20408163265306</c:v>
                </c:pt>
                <c:pt idx="311">
                  <c:v>1.20449897750511</c:v>
                </c:pt>
                <c:pt idx="312">
                  <c:v>1.20491803278689</c:v>
                </c:pt>
                <c:pt idx="313">
                  <c:v>1.20533880903491</c:v>
                </c:pt>
                <c:pt idx="314">
                  <c:v>1.20576131687243</c:v>
                </c:pt>
                <c:pt idx="315">
                  <c:v>1.20618556701031</c:v>
                </c:pt>
                <c:pt idx="316">
                  <c:v>1.20661157024793</c:v>
                </c:pt>
                <c:pt idx="317">
                  <c:v>1.20703933747412</c:v>
                </c:pt>
                <c:pt idx="318">
                  <c:v>1.20746887966805</c:v>
                </c:pt>
                <c:pt idx="319">
                  <c:v>1.20790020790021</c:v>
                </c:pt>
                <c:pt idx="320">
                  <c:v>1.20833333333333</c:v>
                </c:pt>
                <c:pt idx="321">
                  <c:v>1.20876826722338</c:v>
                </c:pt>
                <c:pt idx="322">
                  <c:v>1.2092050209205</c:v>
                </c:pt>
                <c:pt idx="323">
                  <c:v>1.20964360587002</c:v>
                </c:pt>
                <c:pt idx="324">
                  <c:v>1.21008403361345</c:v>
                </c:pt>
                <c:pt idx="325">
                  <c:v>1.21052631578947</c:v>
                </c:pt>
                <c:pt idx="326">
                  <c:v>1.21097046413502</c:v>
                </c:pt>
                <c:pt idx="327">
                  <c:v>1.21141649048626</c:v>
                </c:pt>
                <c:pt idx="328">
                  <c:v>1.21186440677966</c:v>
                </c:pt>
                <c:pt idx="329">
                  <c:v>1.21231422505308</c:v>
                </c:pt>
                <c:pt idx="330">
                  <c:v>1.21276595744681</c:v>
                </c:pt>
                <c:pt idx="331">
                  <c:v>1.21321961620469</c:v>
                </c:pt>
                <c:pt idx="332">
                  <c:v>1.21367521367521</c:v>
                </c:pt>
                <c:pt idx="333">
                  <c:v>1.21413276231263</c:v>
                </c:pt>
                <c:pt idx="334">
                  <c:v>1.21459227467811</c:v>
                </c:pt>
                <c:pt idx="335">
                  <c:v>1.21505376344086</c:v>
                </c:pt>
                <c:pt idx="336">
                  <c:v>1.21551724137931</c:v>
                </c:pt>
                <c:pt idx="337">
                  <c:v>1.21598272138229</c:v>
                </c:pt>
                <c:pt idx="338">
                  <c:v>1.21645021645022</c:v>
                </c:pt>
                <c:pt idx="339">
                  <c:v>1.21691973969631</c:v>
                </c:pt>
                <c:pt idx="340">
                  <c:v>1.21739130434783</c:v>
                </c:pt>
                <c:pt idx="341">
                  <c:v>1.21786492374728</c:v>
                </c:pt>
                <c:pt idx="342">
                  <c:v>1.21834061135371</c:v>
                </c:pt>
                <c:pt idx="343">
                  <c:v>1.21881838074398</c:v>
                </c:pt>
                <c:pt idx="344">
                  <c:v>1.21929824561404</c:v>
                </c:pt>
                <c:pt idx="345">
                  <c:v>1.21978021978022</c:v>
                </c:pt>
                <c:pt idx="346">
                  <c:v>1.22026431718062</c:v>
                </c:pt>
                <c:pt idx="347">
                  <c:v>1.22075055187638</c:v>
                </c:pt>
                <c:pt idx="348">
                  <c:v>1.2212389380531</c:v>
                </c:pt>
                <c:pt idx="349">
                  <c:v>1.22172949002217</c:v>
                </c:pt>
                <c:pt idx="350">
                  <c:v>1.22222222222222</c:v>
                </c:pt>
                <c:pt idx="351">
                  <c:v>1.22271714922049</c:v>
                </c:pt>
                <c:pt idx="352">
                  <c:v>1.22321428571429</c:v>
                </c:pt>
                <c:pt idx="353">
                  <c:v>1.22371364653244</c:v>
                </c:pt>
                <c:pt idx="354">
                  <c:v>1.22421524663677</c:v>
                </c:pt>
                <c:pt idx="355">
                  <c:v>1.2247191011236</c:v>
                </c:pt>
                <c:pt idx="356">
                  <c:v>1.22522522522523</c:v>
                </c:pt>
                <c:pt idx="357">
                  <c:v>1.22573363431151</c:v>
                </c:pt>
                <c:pt idx="358">
                  <c:v>1.2262443438914</c:v>
                </c:pt>
                <c:pt idx="359">
                  <c:v>1.22675736961451</c:v>
                </c:pt>
                <c:pt idx="360">
                  <c:v>1.22727272727273</c:v>
                </c:pt>
                <c:pt idx="361">
                  <c:v>1.22779043280182</c:v>
                </c:pt>
                <c:pt idx="362">
                  <c:v>1.22831050228311</c:v>
                </c:pt>
                <c:pt idx="363">
                  <c:v>1.22883295194508</c:v>
                </c:pt>
                <c:pt idx="364">
                  <c:v>1.22935779816514</c:v>
                </c:pt>
                <c:pt idx="365">
                  <c:v>1.22988505747126</c:v>
                </c:pt>
                <c:pt idx="366">
                  <c:v>1.23041474654378</c:v>
                </c:pt>
                <c:pt idx="367">
                  <c:v>1.23094688221709</c:v>
                </c:pt>
                <c:pt idx="368">
                  <c:v>1.23148148148148</c:v>
                </c:pt>
                <c:pt idx="369">
                  <c:v>1.23201856148492</c:v>
                </c:pt>
                <c:pt idx="370">
                  <c:v>1.23255813953488</c:v>
                </c:pt>
                <c:pt idx="371">
                  <c:v>1.23310023310023</c:v>
                </c:pt>
                <c:pt idx="372">
                  <c:v>1.23364485981308</c:v>
                </c:pt>
                <c:pt idx="373">
                  <c:v>1.23419203747073</c:v>
                </c:pt>
                <c:pt idx="374">
                  <c:v>1.23474178403756</c:v>
                </c:pt>
                <c:pt idx="375">
                  <c:v>1.23529411764706</c:v>
                </c:pt>
                <c:pt idx="376">
                  <c:v>1.23584905660377</c:v>
                </c:pt>
                <c:pt idx="377">
                  <c:v>1.23640661938534</c:v>
                </c:pt>
                <c:pt idx="378">
                  <c:v>1.23696682464455</c:v>
                </c:pt>
                <c:pt idx="379">
                  <c:v>1.2375296912114</c:v>
                </c:pt>
                <c:pt idx="380">
                  <c:v>1.23809523809524</c:v>
                </c:pt>
                <c:pt idx="381">
                  <c:v>1.23866348448687</c:v>
                </c:pt>
                <c:pt idx="382">
                  <c:v>1.23923444976077</c:v>
                </c:pt>
                <c:pt idx="383">
                  <c:v>1.23980815347722</c:v>
                </c:pt>
                <c:pt idx="384">
                  <c:v>1.24038461538462</c:v>
                </c:pt>
                <c:pt idx="385">
                  <c:v>1.24096385542169</c:v>
                </c:pt>
                <c:pt idx="386">
                  <c:v>1.24154589371981</c:v>
                </c:pt>
                <c:pt idx="387">
                  <c:v>1.24213075060533</c:v>
                </c:pt>
                <c:pt idx="388">
                  <c:v>1.24271844660194</c:v>
                </c:pt>
                <c:pt idx="389">
                  <c:v>1.24330900243309</c:v>
                </c:pt>
                <c:pt idx="390">
                  <c:v>1.24390243902439</c:v>
                </c:pt>
                <c:pt idx="391">
                  <c:v>1.24449877750611</c:v>
                </c:pt>
                <c:pt idx="392">
                  <c:v>1.24509803921569</c:v>
                </c:pt>
                <c:pt idx="393">
                  <c:v>1.24570024570025</c:v>
                </c:pt>
                <c:pt idx="394">
                  <c:v>1.24630541871921</c:v>
                </c:pt>
                <c:pt idx="395">
                  <c:v>1.24691358024691</c:v>
                </c:pt>
                <c:pt idx="396">
                  <c:v>1.24752475247525</c:v>
                </c:pt>
                <c:pt idx="397">
                  <c:v>1.24813895781638</c:v>
                </c:pt>
                <c:pt idx="398">
                  <c:v>1.24875621890547</c:v>
                </c:pt>
                <c:pt idx="399">
                  <c:v>1.24937655860349</c:v>
                </c:pt>
                <c:pt idx="400">
                  <c:v>1.25</c:v>
                </c:pt>
                <c:pt idx="401">
                  <c:v>1.25062656641604</c:v>
                </c:pt>
                <c:pt idx="402">
                  <c:v>1.25125628140704</c:v>
                </c:pt>
                <c:pt idx="403">
                  <c:v>1.25188916876574</c:v>
                </c:pt>
                <c:pt idx="404">
                  <c:v>1.25252525252525</c:v>
                </c:pt>
                <c:pt idx="405">
                  <c:v>1.25316455696203</c:v>
                </c:pt>
                <c:pt idx="406">
                  <c:v>1.25380710659898</c:v>
                </c:pt>
                <c:pt idx="407">
                  <c:v>1.25445292620865</c:v>
                </c:pt>
                <c:pt idx="408">
                  <c:v>1.25510204081633</c:v>
                </c:pt>
                <c:pt idx="409">
                  <c:v>1.25575447570332</c:v>
                </c:pt>
                <c:pt idx="410">
                  <c:v>1.25641025641026</c:v>
                </c:pt>
                <c:pt idx="411">
                  <c:v>1.25706940874036</c:v>
                </c:pt>
                <c:pt idx="412">
                  <c:v>1.25773195876289</c:v>
                </c:pt>
                <c:pt idx="413">
                  <c:v>1.25839793281654</c:v>
                </c:pt>
                <c:pt idx="414">
                  <c:v>1.25906735751295</c:v>
                </c:pt>
                <c:pt idx="415">
                  <c:v>1.25974025974026</c:v>
                </c:pt>
                <c:pt idx="416">
                  <c:v>1.26041666666667</c:v>
                </c:pt>
                <c:pt idx="417">
                  <c:v>1.26109660574413</c:v>
                </c:pt>
                <c:pt idx="418">
                  <c:v>1.26178010471204</c:v>
                </c:pt>
                <c:pt idx="419">
                  <c:v>1.26246719160105</c:v>
                </c:pt>
                <c:pt idx="420">
                  <c:v>1.26315789473684</c:v>
                </c:pt>
                <c:pt idx="421">
                  <c:v>1.26385224274406</c:v>
                </c:pt>
                <c:pt idx="422">
                  <c:v>1.26455026455026</c:v>
                </c:pt>
                <c:pt idx="423">
                  <c:v>1.26525198938992</c:v>
                </c:pt>
                <c:pt idx="424">
                  <c:v>1.26595744680851</c:v>
                </c:pt>
                <c:pt idx="425">
                  <c:v>1.26666666666667</c:v>
                </c:pt>
                <c:pt idx="426">
                  <c:v>1.26737967914439</c:v>
                </c:pt>
                <c:pt idx="427">
                  <c:v>1.26809651474531</c:v>
                </c:pt>
                <c:pt idx="428">
                  <c:v>1.26881720430108</c:v>
                </c:pt>
                <c:pt idx="429">
                  <c:v>1.26954177897574</c:v>
                </c:pt>
                <c:pt idx="430">
                  <c:v>1.27027027027027</c:v>
                </c:pt>
                <c:pt idx="431">
                  <c:v>1.2710027100271</c:v>
                </c:pt>
                <c:pt idx="432">
                  <c:v>1.27173913043478</c:v>
                </c:pt>
                <c:pt idx="433">
                  <c:v>1.2724795640327</c:v>
                </c:pt>
                <c:pt idx="434">
                  <c:v>1.27322404371585</c:v>
                </c:pt>
                <c:pt idx="435">
                  <c:v>1.27397260273973</c:v>
                </c:pt>
                <c:pt idx="436">
                  <c:v>1.27472527472527</c:v>
                </c:pt>
                <c:pt idx="437">
                  <c:v>1.27548209366391</c:v>
                </c:pt>
                <c:pt idx="438">
                  <c:v>1.27624309392265</c:v>
                </c:pt>
                <c:pt idx="439">
                  <c:v>1.27700831024931</c:v>
                </c:pt>
                <c:pt idx="440">
                  <c:v>1.27777777777778</c:v>
                </c:pt>
                <c:pt idx="441">
                  <c:v>1.27855153203343</c:v>
                </c:pt>
                <c:pt idx="442">
                  <c:v>1.27932960893855</c:v>
                </c:pt>
                <c:pt idx="443">
                  <c:v>1.28011204481793</c:v>
                </c:pt>
                <c:pt idx="444">
                  <c:v>1.28089887640449</c:v>
                </c:pt>
                <c:pt idx="445">
                  <c:v>1.28169014084507</c:v>
                </c:pt>
                <c:pt idx="446">
                  <c:v>1.28248587570621</c:v>
                </c:pt>
                <c:pt idx="447">
                  <c:v>1.28328611898017</c:v>
                </c:pt>
                <c:pt idx="448">
                  <c:v>1.28409090909091</c:v>
                </c:pt>
                <c:pt idx="449">
                  <c:v>1.28490028490028</c:v>
                </c:pt>
                <c:pt idx="450">
                  <c:v>1.28571428571429</c:v>
                </c:pt>
                <c:pt idx="451">
                  <c:v>1.2865329512894</c:v>
                </c:pt>
                <c:pt idx="452">
                  <c:v>1.28735632183908</c:v>
                </c:pt>
                <c:pt idx="453">
                  <c:v>1.28818443804035</c:v>
                </c:pt>
                <c:pt idx="454">
                  <c:v>1.28901734104046</c:v>
                </c:pt>
                <c:pt idx="455">
                  <c:v>1.28985507246377</c:v>
                </c:pt>
                <c:pt idx="456">
                  <c:v>1.2906976744186</c:v>
                </c:pt>
                <c:pt idx="457">
                  <c:v>1.29154518950437</c:v>
                </c:pt>
                <c:pt idx="458">
                  <c:v>1.29239766081871</c:v>
                </c:pt>
                <c:pt idx="459">
                  <c:v>1.29325513196481</c:v>
                </c:pt>
                <c:pt idx="460">
                  <c:v>1.29411764705882</c:v>
                </c:pt>
                <c:pt idx="461">
                  <c:v>1.29498525073746</c:v>
                </c:pt>
                <c:pt idx="462">
                  <c:v>1.29585798816568</c:v>
                </c:pt>
                <c:pt idx="463">
                  <c:v>1.29673590504451</c:v>
                </c:pt>
                <c:pt idx="464">
                  <c:v>1.29761904761905</c:v>
                </c:pt>
                <c:pt idx="465">
                  <c:v>1.29850746268657</c:v>
                </c:pt>
                <c:pt idx="466">
                  <c:v>1.29940119760479</c:v>
                </c:pt>
                <c:pt idx="467">
                  <c:v>1.3003003003003</c:v>
                </c:pt>
                <c:pt idx="468">
                  <c:v>1.30120481927711</c:v>
                </c:pt>
                <c:pt idx="469">
                  <c:v>1.30211480362538</c:v>
                </c:pt>
                <c:pt idx="470">
                  <c:v>1.3030303030303</c:v>
                </c:pt>
                <c:pt idx="471">
                  <c:v>1.30395136778116</c:v>
                </c:pt>
                <c:pt idx="472">
                  <c:v>1.30487804878049</c:v>
                </c:pt>
                <c:pt idx="473">
                  <c:v>1.30581039755352</c:v>
                </c:pt>
                <c:pt idx="474">
                  <c:v>1.30674846625767</c:v>
                </c:pt>
                <c:pt idx="475">
                  <c:v>1.30769230769231</c:v>
                </c:pt>
                <c:pt idx="476">
                  <c:v>1.30864197530864</c:v>
                </c:pt>
                <c:pt idx="477">
                  <c:v>1.30959752321981</c:v>
                </c:pt>
                <c:pt idx="478">
                  <c:v>1.31055900621118</c:v>
                </c:pt>
                <c:pt idx="479">
                  <c:v>1.31152647975078</c:v>
                </c:pt>
                <c:pt idx="480">
                  <c:v>1.3125</c:v>
                </c:pt>
                <c:pt idx="481">
                  <c:v>1.31347962382445</c:v>
                </c:pt>
                <c:pt idx="482">
                  <c:v>1.31446540880503</c:v>
                </c:pt>
                <c:pt idx="483">
                  <c:v>1.31545741324921</c:v>
                </c:pt>
                <c:pt idx="484">
                  <c:v>1.31645569620253</c:v>
                </c:pt>
                <c:pt idx="485">
                  <c:v>1.31746031746032</c:v>
                </c:pt>
                <c:pt idx="486">
                  <c:v>1.31847133757962</c:v>
                </c:pt>
                <c:pt idx="487">
                  <c:v>1.31948881789137</c:v>
                </c:pt>
                <c:pt idx="488">
                  <c:v>1.32051282051282</c:v>
                </c:pt>
                <c:pt idx="489">
                  <c:v>1.32154340836013</c:v>
                </c:pt>
                <c:pt idx="490">
                  <c:v>1.32258064516129</c:v>
                </c:pt>
                <c:pt idx="491">
                  <c:v>1.32362459546926</c:v>
                </c:pt>
                <c:pt idx="492">
                  <c:v>1.32467532467532</c:v>
                </c:pt>
                <c:pt idx="493">
                  <c:v>1.3257328990228</c:v>
                </c:pt>
                <c:pt idx="494">
                  <c:v>1.32679738562092</c:v>
                </c:pt>
                <c:pt idx="495">
                  <c:v>1.32786885245902</c:v>
                </c:pt>
                <c:pt idx="496">
                  <c:v>1.32894736842105</c:v>
                </c:pt>
                <c:pt idx="497">
                  <c:v>1.33003300330033</c:v>
                </c:pt>
                <c:pt idx="498">
                  <c:v>1.33112582781457</c:v>
                </c:pt>
                <c:pt idx="499">
                  <c:v>1.33222591362126</c:v>
                </c:pt>
                <c:pt idx="500">
                  <c:v>1.33333333333333</c:v>
                </c:pt>
                <c:pt idx="501">
                  <c:v>1.33444816053512</c:v>
                </c:pt>
                <c:pt idx="502">
                  <c:v>1.33557046979866</c:v>
                </c:pt>
                <c:pt idx="503">
                  <c:v>1.33670033670034</c:v>
                </c:pt>
                <c:pt idx="504">
                  <c:v>1.33783783783784</c:v>
                </c:pt>
                <c:pt idx="505">
                  <c:v>1.33898305084746</c:v>
                </c:pt>
                <c:pt idx="506">
                  <c:v>1.34013605442177</c:v>
                </c:pt>
                <c:pt idx="507">
                  <c:v>1.34129692832765</c:v>
                </c:pt>
                <c:pt idx="508">
                  <c:v>1.34246575342466</c:v>
                </c:pt>
                <c:pt idx="509">
                  <c:v>1.34364261168385</c:v>
                </c:pt>
                <c:pt idx="510">
                  <c:v>1.3448275862069</c:v>
                </c:pt>
                <c:pt idx="511">
                  <c:v>1.34602076124567</c:v>
                </c:pt>
                <c:pt idx="512">
                  <c:v>1.34722222222222</c:v>
                </c:pt>
                <c:pt idx="513">
                  <c:v>1.34843205574913</c:v>
                </c:pt>
                <c:pt idx="514">
                  <c:v>1.34965034965035</c:v>
                </c:pt>
                <c:pt idx="515">
                  <c:v>1.35087719298246</c:v>
                </c:pt>
                <c:pt idx="516">
                  <c:v>1.35211267605634</c:v>
                </c:pt>
                <c:pt idx="517">
                  <c:v>1.35335689045936</c:v>
                </c:pt>
                <c:pt idx="518">
                  <c:v>1.35460992907801</c:v>
                </c:pt>
                <c:pt idx="519">
                  <c:v>1.355871886121</c:v>
                </c:pt>
                <c:pt idx="520">
                  <c:v>1.35714285714286</c:v>
                </c:pt>
                <c:pt idx="521">
                  <c:v>1.3584229390681</c:v>
                </c:pt>
                <c:pt idx="522">
                  <c:v>1.35971223021583</c:v>
                </c:pt>
                <c:pt idx="523">
                  <c:v>1.36101083032491</c:v>
                </c:pt>
                <c:pt idx="524">
                  <c:v>1.36231884057971</c:v>
                </c:pt>
                <c:pt idx="525">
                  <c:v>1.36363636363636</c:v>
                </c:pt>
                <c:pt idx="526">
                  <c:v>1.36496350364964</c:v>
                </c:pt>
                <c:pt idx="527">
                  <c:v>1.36630036630037</c:v>
                </c:pt>
                <c:pt idx="528">
                  <c:v>1.36764705882353</c:v>
                </c:pt>
                <c:pt idx="529">
                  <c:v>1.3690036900369</c:v>
                </c:pt>
                <c:pt idx="530">
                  <c:v>1.37037037037037</c:v>
                </c:pt>
                <c:pt idx="531">
                  <c:v>1.37174721189591</c:v>
                </c:pt>
                <c:pt idx="532">
                  <c:v>1.37313432835821</c:v>
                </c:pt>
                <c:pt idx="533">
                  <c:v>1.37453183520599</c:v>
                </c:pt>
                <c:pt idx="534">
                  <c:v>1.37593984962406</c:v>
                </c:pt>
                <c:pt idx="535">
                  <c:v>1.37735849056604</c:v>
                </c:pt>
                <c:pt idx="536">
                  <c:v>1.37878787878788</c:v>
                </c:pt>
                <c:pt idx="537">
                  <c:v>1.38022813688213</c:v>
                </c:pt>
                <c:pt idx="538">
                  <c:v>1.38167938931298</c:v>
                </c:pt>
                <c:pt idx="539">
                  <c:v>1.38314176245211</c:v>
                </c:pt>
                <c:pt idx="540">
                  <c:v>1.38461538461538</c:v>
                </c:pt>
                <c:pt idx="541">
                  <c:v>1.38610038610039</c:v>
                </c:pt>
                <c:pt idx="542">
                  <c:v>1.38759689922481</c:v>
                </c:pt>
                <c:pt idx="543">
                  <c:v>1.38910505836576</c:v>
                </c:pt>
                <c:pt idx="544">
                  <c:v>1.390625</c:v>
                </c:pt>
                <c:pt idx="545">
                  <c:v>1.3921568627451</c:v>
                </c:pt>
                <c:pt idx="546">
                  <c:v>1.39370078740157</c:v>
                </c:pt>
                <c:pt idx="547">
                  <c:v>1.39525691699605</c:v>
                </c:pt>
                <c:pt idx="548">
                  <c:v>1.3968253968254</c:v>
                </c:pt>
                <c:pt idx="549">
                  <c:v>1.39840637450199</c:v>
                </c:pt>
                <c:pt idx="550">
                  <c:v>1.4</c:v>
                </c:pt>
                <c:pt idx="551">
                  <c:v>1.40160642570281</c:v>
                </c:pt>
                <c:pt idx="552">
                  <c:v>1.40322580645161</c:v>
                </c:pt>
                <c:pt idx="553">
                  <c:v>1.40485829959514</c:v>
                </c:pt>
                <c:pt idx="554">
                  <c:v>1.40650406504065</c:v>
                </c:pt>
                <c:pt idx="555">
                  <c:v>1.40816326530612</c:v>
                </c:pt>
                <c:pt idx="556">
                  <c:v>1.40983606557377</c:v>
                </c:pt>
                <c:pt idx="557">
                  <c:v>1.41152263374486</c:v>
                </c:pt>
                <c:pt idx="558">
                  <c:v>1.41322314049587</c:v>
                </c:pt>
                <c:pt idx="559">
                  <c:v>1.4149377593361</c:v>
                </c:pt>
                <c:pt idx="560">
                  <c:v>1.41666666666667</c:v>
                </c:pt>
                <c:pt idx="561">
                  <c:v>1.418410041841</c:v>
                </c:pt>
                <c:pt idx="562">
                  <c:v>1.42016806722689</c:v>
                </c:pt>
                <c:pt idx="563">
                  <c:v>1.42194092827004</c:v>
                </c:pt>
                <c:pt idx="564">
                  <c:v>1.42372881355932</c:v>
                </c:pt>
                <c:pt idx="565">
                  <c:v>1.42553191489362</c:v>
                </c:pt>
                <c:pt idx="566">
                  <c:v>1.42735042735043</c:v>
                </c:pt>
                <c:pt idx="567">
                  <c:v>1.42918454935622</c:v>
                </c:pt>
                <c:pt idx="568">
                  <c:v>1.43103448275862</c:v>
                </c:pt>
                <c:pt idx="569">
                  <c:v>1.43290043290043</c:v>
                </c:pt>
                <c:pt idx="570">
                  <c:v>1.43478260869565</c:v>
                </c:pt>
                <c:pt idx="571">
                  <c:v>1.43668122270742</c:v>
                </c:pt>
                <c:pt idx="572">
                  <c:v>1.43859649122807</c:v>
                </c:pt>
                <c:pt idx="573">
                  <c:v>1.44052863436123</c:v>
                </c:pt>
                <c:pt idx="574">
                  <c:v>1.44247787610619</c:v>
                </c:pt>
                <c:pt idx="575">
                  <c:v>1.44444444444444</c:v>
                </c:pt>
                <c:pt idx="576">
                  <c:v>1.44642857142857</c:v>
                </c:pt>
                <c:pt idx="577">
                  <c:v>1.44843049327354</c:v>
                </c:pt>
                <c:pt idx="578">
                  <c:v>1.45045045045045</c:v>
                </c:pt>
                <c:pt idx="579">
                  <c:v>1.45248868778281</c:v>
                </c:pt>
                <c:pt idx="580">
                  <c:v>1.45454545454545</c:v>
                </c:pt>
                <c:pt idx="581">
                  <c:v>1.45662100456621</c:v>
                </c:pt>
                <c:pt idx="582">
                  <c:v>1.45871559633028</c:v>
                </c:pt>
                <c:pt idx="583">
                  <c:v>1.46082949308756</c:v>
                </c:pt>
                <c:pt idx="584">
                  <c:v>1.46296296296296</c:v>
                </c:pt>
                <c:pt idx="585">
                  <c:v>1.46511627906977</c:v>
                </c:pt>
                <c:pt idx="586">
                  <c:v>1.46728971962617</c:v>
                </c:pt>
                <c:pt idx="587">
                  <c:v>1.46948356807512</c:v>
                </c:pt>
                <c:pt idx="588">
                  <c:v>1.47169811320755</c:v>
                </c:pt>
                <c:pt idx="589">
                  <c:v>1.4739336492891</c:v>
                </c:pt>
                <c:pt idx="590">
                  <c:v>1.47619047619048</c:v>
                </c:pt>
                <c:pt idx="591">
                  <c:v>1.47846889952153</c:v>
                </c:pt>
                <c:pt idx="592">
                  <c:v>1.48076923076923</c:v>
                </c:pt>
                <c:pt idx="593">
                  <c:v>1.48309178743961</c:v>
                </c:pt>
                <c:pt idx="594">
                  <c:v>1.48543689320388</c:v>
                </c:pt>
                <c:pt idx="595">
                  <c:v>1.48780487804878</c:v>
                </c:pt>
                <c:pt idx="596">
                  <c:v>1.49019607843137</c:v>
                </c:pt>
                <c:pt idx="597">
                  <c:v>1.49261083743842</c:v>
                </c:pt>
                <c:pt idx="598">
                  <c:v>1.4950495049505</c:v>
                </c:pt>
                <c:pt idx="599">
                  <c:v>1.49751243781095</c:v>
                </c:pt>
                <c:pt idx="600">
                  <c:v>1.5</c:v>
                </c:pt>
                <c:pt idx="601">
                  <c:v>1.50251256281407</c:v>
                </c:pt>
                <c:pt idx="602">
                  <c:v>1.50505050505051</c:v>
                </c:pt>
                <c:pt idx="603">
                  <c:v>1.50761421319797</c:v>
                </c:pt>
                <c:pt idx="604">
                  <c:v>1.51020408163265</c:v>
                </c:pt>
                <c:pt idx="605">
                  <c:v>1.51282051282051</c:v>
                </c:pt>
                <c:pt idx="606">
                  <c:v>1.51546391752577</c:v>
                </c:pt>
                <c:pt idx="607">
                  <c:v>1.51813471502591</c:v>
                </c:pt>
                <c:pt idx="608">
                  <c:v>1.52083333333333</c:v>
                </c:pt>
                <c:pt idx="609">
                  <c:v>1.52356020942408</c:v>
                </c:pt>
                <c:pt idx="610">
                  <c:v>1.52631578947368</c:v>
                </c:pt>
                <c:pt idx="611">
                  <c:v>1.52910052910053</c:v>
                </c:pt>
                <c:pt idx="612">
                  <c:v>1.53191489361702</c:v>
                </c:pt>
                <c:pt idx="613">
                  <c:v>1.53475935828877</c:v>
                </c:pt>
                <c:pt idx="614">
                  <c:v>1.53763440860215</c:v>
                </c:pt>
                <c:pt idx="615">
                  <c:v>1.54054054054054</c:v>
                </c:pt>
                <c:pt idx="616">
                  <c:v>1.54347826086957</c:v>
                </c:pt>
                <c:pt idx="617">
                  <c:v>1.54644808743169</c:v>
                </c:pt>
                <c:pt idx="618">
                  <c:v>1.54945054945055</c:v>
                </c:pt>
                <c:pt idx="619">
                  <c:v>1.5524861878453</c:v>
                </c:pt>
                <c:pt idx="620">
                  <c:v>1.55555555555556</c:v>
                </c:pt>
                <c:pt idx="621">
                  <c:v>1.5586592178771</c:v>
                </c:pt>
                <c:pt idx="622">
                  <c:v>1.56179775280899</c:v>
                </c:pt>
                <c:pt idx="623">
                  <c:v>1.56497175141243</c:v>
                </c:pt>
                <c:pt idx="624">
                  <c:v>1.56818181818182</c:v>
                </c:pt>
                <c:pt idx="625">
                  <c:v>1.57142857142857</c:v>
                </c:pt>
                <c:pt idx="626">
                  <c:v>1.57471264367816</c:v>
                </c:pt>
                <c:pt idx="627">
                  <c:v>1.57803468208093</c:v>
                </c:pt>
                <c:pt idx="628">
                  <c:v>1.58139534883721</c:v>
                </c:pt>
                <c:pt idx="629">
                  <c:v>1.58479532163743</c:v>
                </c:pt>
                <c:pt idx="630">
                  <c:v>1.58823529411765</c:v>
                </c:pt>
                <c:pt idx="631">
                  <c:v>1.59171597633136</c:v>
                </c:pt>
                <c:pt idx="632">
                  <c:v>1.5952380952381</c:v>
                </c:pt>
                <c:pt idx="633">
                  <c:v>1.59880239520958</c:v>
                </c:pt>
                <c:pt idx="634">
                  <c:v>1.60240963855422</c:v>
                </c:pt>
                <c:pt idx="635">
                  <c:v>1.60606060606061</c:v>
                </c:pt>
                <c:pt idx="636">
                  <c:v>1.60975609756098</c:v>
                </c:pt>
                <c:pt idx="637">
                  <c:v>1.61349693251534</c:v>
                </c:pt>
                <c:pt idx="638">
                  <c:v>1.61728395061728</c:v>
                </c:pt>
                <c:pt idx="639">
                  <c:v>1.62111801242236</c:v>
                </c:pt>
                <c:pt idx="640">
                  <c:v>1.625</c:v>
                </c:pt>
                <c:pt idx="641">
                  <c:v>1.62893081761006</c:v>
                </c:pt>
                <c:pt idx="642">
                  <c:v>1.63291139240506</c:v>
                </c:pt>
                <c:pt idx="643">
                  <c:v>1.63694267515924</c:v>
                </c:pt>
                <c:pt idx="644">
                  <c:v>1.64102564102564</c:v>
                </c:pt>
                <c:pt idx="645">
                  <c:v>1.64516129032258</c:v>
                </c:pt>
                <c:pt idx="646">
                  <c:v>1.64935064935065</c:v>
                </c:pt>
                <c:pt idx="647">
                  <c:v>1.65359477124183</c:v>
                </c:pt>
                <c:pt idx="648">
                  <c:v>1.65789473684211</c:v>
                </c:pt>
                <c:pt idx="649">
                  <c:v>1.66225165562914</c:v>
                </c:pt>
                <c:pt idx="650">
                  <c:v>1.66666666666667</c:v>
                </c:pt>
                <c:pt idx="651">
                  <c:v>1.67114093959732</c:v>
                </c:pt>
                <c:pt idx="652">
                  <c:v>1.67567567567568</c:v>
                </c:pt>
                <c:pt idx="653">
                  <c:v>1.68027210884354</c:v>
                </c:pt>
                <c:pt idx="654">
                  <c:v>1.68493150684932</c:v>
                </c:pt>
                <c:pt idx="655">
                  <c:v>1.68965517241379</c:v>
                </c:pt>
                <c:pt idx="656">
                  <c:v>1.69444444444444</c:v>
                </c:pt>
                <c:pt idx="657">
                  <c:v>1.6993006993007</c:v>
                </c:pt>
                <c:pt idx="658">
                  <c:v>1.70422535211268</c:v>
                </c:pt>
                <c:pt idx="659">
                  <c:v>1.70921985815603</c:v>
                </c:pt>
                <c:pt idx="660">
                  <c:v>1.71428571428571</c:v>
                </c:pt>
                <c:pt idx="661">
                  <c:v>1.71942446043165</c:v>
                </c:pt>
                <c:pt idx="662">
                  <c:v>1.72463768115942</c:v>
                </c:pt>
                <c:pt idx="663">
                  <c:v>1.72992700729927</c:v>
                </c:pt>
                <c:pt idx="664">
                  <c:v>1.73529411764706</c:v>
                </c:pt>
                <c:pt idx="665">
                  <c:v>1.74074074074074</c:v>
                </c:pt>
                <c:pt idx="666">
                  <c:v>1.74626865671642</c:v>
                </c:pt>
                <c:pt idx="667">
                  <c:v>1.75187969924812</c:v>
                </c:pt>
                <c:pt idx="668">
                  <c:v>1.75757575757576</c:v>
                </c:pt>
                <c:pt idx="669">
                  <c:v>1.76335877862595</c:v>
                </c:pt>
                <c:pt idx="670">
                  <c:v>1.76923076923077</c:v>
                </c:pt>
                <c:pt idx="671">
                  <c:v>1.77519379844961</c:v>
                </c:pt>
                <c:pt idx="672">
                  <c:v>1.78125</c:v>
                </c:pt>
                <c:pt idx="673">
                  <c:v>1.78740157480315</c:v>
                </c:pt>
                <c:pt idx="674">
                  <c:v>1.79365079365079</c:v>
                </c:pt>
                <c:pt idx="675">
                  <c:v>1.8</c:v>
                </c:pt>
                <c:pt idx="676">
                  <c:v>1.80645161290323</c:v>
                </c:pt>
                <c:pt idx="677">
                  <c:v>1.8130081300813</c:v>
                </c:pt>
                <c:pt idx="678">
                  <c:v>1.81967213114754</c:v>
                </c:pt>
                <c:pt idx="679">
                  <c:v>1.82644628099174</c:v>
                </c:pt>
                <c:pt idx="680">
                  <c:v>1.83333333333333</c:v>
                </c:pt>
                <c:pt idx="681">
                  <c:v>1.84033613445378</c:v>
                </c:pt>
                <c:pt idx="682">
                  <c:v>1.84745762711864</c:v>
                </c:pt>
                <c:pt idx="683">
                  <c:v>1.85470085470085</c:v>
                </c:pt>
                <c:pt idx="684">
                  <c:v>1.86206896551724</c:v>
                </c:pt>
                <c:pt idx="685">
                  <c:v>1.8695652173913</c:v>
                </c:pt>
                <c:pt idx="686">
                  <c:v>1.87719298245614</c:v>
                </c:pt>
                <c:pt idx="687">
                  <c:v>1.88495575221239</c:v>
                </c:pt>
                <c:pt idx="688">
                  <c:v>1.89285714285714</c:v>
                </c:pt>
                <c:pt idx="689">
                  <c:v>1.9009009009009</c:v>
                </c:pt>
                <c:pt idx="690">
                  <c:v>1.90909090909091</c:v>
                </c:pt>
                <c:pt idx="691">
                  <c:v>1.91743119266055</c:v>
                </c:pt>
                <c:pt idx="692">
                  <c:v>1.92592592592593</c:v>
                </c:pt>
                <c:pt idx="693">
                  <c:v>1.93457943925234</c:v>
                </c:pt>
                <c:pt idx="694">
                  <c:v>1.94339622641509</c:v>
                </c:pt>
                <c:pt idx="695">
                  <c:v>1.95238095238095</c:v>
                </c:pt>
                <c:pt idx="696">
                  <c:v>1.96153846153846</c:v>
                </c:pt>
                <c:pt idx="697">
                  <c:v>1.97087378640777</c:v>
                </c:pt>
                <c:pt idx="698">
                  <c:v>1.98039215686275</c:v>
                </c:pt>
                <c:pt idx="699">
                  <c:v>1.99009900990099</c:v>
                </c:pt>
                <c:pt idx="700">
                  <c:v>2</c:v>
                </c:pt>
                <c:pt idx="701">
                  <c:v>2.01010101010101</c:v>
                </c:pt>
                <c:pt idx="702">
                  <c:v>2.02040816326531</c:v>
                </c:pt>
                <c:pt idx="703">
                  <c:v>2.03092783505155</c:v>
                </c:pt>
                <c:pt idx="704">
                  <c:v>2.04166666666667</c:v>
                </c:pt>
                <c:pt idx="705">
                  <c:v>2.05263157894737</c:v>
                </c:pt>
                <c:pt idx="706">
                  <c:v>2.06382978723404</c:v>
                </c:pt>
                <c:pt idx="707">
                  <c:v>2.0752688172043</c:v>
                </c:pt>
                <c:pt idx="708">
                  <c:v>2.08695652173913</c:v>
                </c:pt>
                <c:pt idx="709">
                  <c:v>2.0989010989011</c:v>
                </c:pt>
                <c:pt idx="710">
                  <c:v>2.11111111111111</c:v>
                </c:pt>
                <c:pt idx="711">
                  <c:v>2.12359550561798</c:v>
                </c:pt>
                <c:pt idx="712">
                  <c:v>2.13636363636364</c:v>
                </c:pt>
                <c:pt idx="713">
                  <c:v>2.14942528735632</c:v>
                </c:pt>
                <c:pt idx="714">
                  <c:v>2.16279069767442</c:v>
                </c:pt>
                <c:pt idx="715">
                  <c:v>2.1764705882353</c:v>
                </c:pt>
                <c:pt idx="716">
                  <c:v>2.19047619047619</c:v>
                </c:pt>
                <c:pt idx="717">
                  <c:v>2.20481927710843</c:v>
                </c:pt>
                <c:pt idx="718">
                  <c:v>2.21951219512195</c:v>
                </c:pt>
                <c:pt idx="719">
                  <c:v>2.23456790123457</c:v>
                </c:pt>
                <c:pt idx="720">
                  <c:v>2.25</c:v>
                </c:pt>
                <c:pt idx="721">
                  <c:v>2.26582278481013</c:v>
                </c:pt>
                <c:pt idx="722">
                  <c:v>2.28205128205128</c:v>
                </c:pt>
                <c:pt idx="723">
                  <c:v>2.2987012987013</c:v>
                </c:pt>
                <c:pt idx="724">
                  <c:v>2.31578947368421</c:v>
                </c:pt>
                <c:pt idx="725">
                  <c:v>2.33333333333333</c:v>
                </c:pt>
                <c:pt idx="726">
                  <c:v>2.35135135135135</c:v>
                </c:pt>
                <c:pt idx="727">
                  <c:v>2.36986301369863</c:v>
                </c:pt>
                <c:pt idx="728">
                  <c:v>2.38888888888889</c:v>
                </c:pt>
                <c:pt idx="729">
                  <c:v>2.40845070422535</c:v>
                </c:pt>
                <c:pt idx="730">
                  <c:v>2.42857142857143</c:v>
                </c:pt>
                <c:pt idx="731">
                  <c:v>2.44927536231884</c:v>
                </c:pt>
                <c:pt idx="732">
                  <c:v>2.47058823529412</c:v>
                </c:pt>
                <c:pt idx="733">
                  <c:v>2.49253731343284</c:v>
                </c:pt>
                <c:pt idx="734">
                  <c:v>2.51515151515151</c:v>
                </c:pt>
                <c:pt idx="735">
                  <c:v>2.53846153846154</c:v>
                </c:pt>
                <c:pt idx="736">
                  <c:v>2.5625</c:v>
                </c:pt>
                <c:pt idx="737">
                  <c:v>2.58730158730159</c:v>
                </c:pt>
                <c:pt idx="738">
                  <c:v>2.61290322580645</c:v>
                </c:pt>
                <c:pt idx="739">
                  <c:v>2.63934426229508</c:v>
                </c:pt>
                <c:pt idx="740">
                  <c:v>2.66666666666667</c:v>
                </c:pt>
                <c:pt idx="741">
                  <c:v>2.69491525423729</c:v>
                </c:pt>
                <c:pt idx="742">
                  <c:v>2.72413793103448</c:v>
                </c:pt>
                <c:pt idx="743">
                  <c:v>2.75438596491228</c:v>
                </c:pt>
                <c:pt idx="744">
                  <c:v>2.78571428571429</c:v>
                </c:pt>
                <c:pt idx="745">
                  <c:v>2.81818181818182</c:v>
                </c:pt>
                <c:pt idx="746">
                  <c:v>2.85185185185185</c:v>
                </c:pt>
                <c:pt idx="747">
                  <c:v>2.88679245283019</c:v>
                </c:pt>
                <c:pt idx="748">
                  <c:v>2.92307692307692</c:v>
                </c:pt>
                <c:pt idx="749">
                  <c:v>2.96078431372549</c:v>
                </c:pt>
                <c:pt idx="750">
                  <c:v>3</c:v>
                </c:pt>
                <c:pt idx="751">
                  <c:v>3.04081632653061</c:v>
                </c:pt>
                <c:pt idx="752">
                  <c:v>3.08333333333334</c:v>
                </c:pt>
                <c:pt idx="753">
                  <c:v>3.12765957446809</c:v>
                </c:pt>
                <c:pt idx="754">
                  <c:v>3.17391304347826</c:v>
                </c:pt>
                <c:pt idx="755">
                  <c:v>3.22222222222222</c:v>
                </c:pt>
                <c:pt idx="756">
                  <c:v>3.27272727272728</c:v>
                </c:pt>
                <c:pt idx="757">
                  <c:v>3.32558139534884</c:v>
                </c:pt>
                <c:pt idx="758">
                  <c:v>3.38095238095238</c:v>
                </c:pt>
                <c:pt idx="759">
                  <c:v>3.4390243902439</c:v>
                </c:pt>
                <c:pt idx="760">
                  <c:v>3.5</c:v>
                </c:pt>
                <c:pt idx="761">
                  <c:v>3.56410256410257</c:v>
                </c:pt>
                <c:pt idx="762">
                  <c:v>3.63157894736842</c:v>
                </c:pt>
                <c:pt idx="763">
                  <c:v>3.7027027027027</c:v>
                </c:pt>
                <c:pt idx="764">
                  <c:v>3.77777777777778</c:v>
                </c:pt>
                <c:pt idx="765">
                  <c:v>3.85714285714286</c:v>
                </c:pt>
                <c:pt idx="766">
                  <c:v>3.94117647058824</c:v>
                </c:pt>
                <c:pt idx="767">
                  <c:v>4.03030303030303</c:v>
                </c:pt>
                <c:pt idx="768">
                  <c:v>4.125</c:v>
                </c:pt>
                <c:pt idx="769">
                  <c:v>4.22580645161291</c:v>
                </c:pt>
                <c:pt idx="770">
                  <c:v>4.33333333333334</c:v>
                </c:pt>
                <c:pt idx="771">
                  <c:v>4.44827586206897</c:v>
                </c:pt>
                <c:pt idx="772">
                  <c:v>4.57142857142857</c:v>
                </c:pt>
                <c:pt idx="773">
                  <c:v>4.70370370370371</c:v>
                </c:pt>
                <c:pt idx="774">
                  <c:v>4.84615384615385</c:v>
                </c:pt>
                <c:pt idx="775">
                  <c:v>5</c:v>
                </c:pt>
                <c:pt idx="776">
                  <c:v>5.16666666666666</c:v>
                </c:pt>
                <c:pt idx="777">
                  <c:v>5.34782608695653</c:v>
                </c:pt>
                <c:pt idx="778">
                  <c:v>5.54545454545455</c:v>
                </c:pt>
                <c:pt idx="779">
                  <c:v>5.76190476190476</c:v>
                </c:pt>
                <c:pt idx="780">
                  <c:v>6</c:v>
                </c:pt>
                <c:pt idx="781">
                  <c:v>6.26315789473686</c:v>
                </c:pt>
                <c:pt idx="782">
                  <c:v>6.55555555555556</c:v>
                </c:pt>
                <c:pt idx="783">
                  <c:v>6.88235294117647</c:v>
                </c:pt>
                <c:pt idx="784">
                  <c:v>7.25</c:v>
                </c:pt>
                <c:pt idx="785">
                  <c:v>7.66666666666669</c:v>
                </c:pt>
                <c:pt idx="786">
                  <c:v>8.14285714285716</c:v>
                </c:pt>
                <c:pt idx="787">
                  <c:v>8.6923076923077</c:v>
                </c:pt>
                <c:pt idx="788">
                  <c:v>9.33333333333333</c:v>
                </c:pt>
                <c:pt idx="789">
                  <c:v>10.0909090909091</c:v>
                </c:pt>
                <c:pt idx="790">
                  <c:v>11</c:v>
                </c:pt>
                <c:pt idx="791">
                  <c:v>12.1111111111111</c:v>
                </c:pt>
                <c:pt idx="792">
                  <c:v>13.5</c:v>
                </c:pt>
                <c:pt idx="793">
                  <c:v>15.2857142857144</c:v>
                </c:pt>
                <c:pt idx="794">
                  <c:v>17.6666666666668</c:v>
                </c:pt>
                <c:pt idx="795">
                  <c:v>21.0000000000001</c:v>
                </c:pt>
                <c:pt idx="796">
                  <c:v>26</c:v>
                </c:pt>
                <c:pt idx="797">
                  <c:v>34.3333333333331</c:v>
                </c:pt>
                <c:pt idx="798">
                  <c:v>51.0000000000011</c:v>
                </c:pt>
                <c:pt idx="799">
                  <c:v>101.000000000002</c:v>
                </c:pt>
                <c:pt idx="801">
                  <c:v>-99.0000000000021</c:v>
                </c:pt>
                <c:pt idx="802">
                  <c:v>-49.0000000000011</c:v>
                </c:pt>
                <c:pt idx="803">
                  <c:v>-32.333333333334</c:v>
                </c:pt>
                <c:pt idx="804">
                  <c:v>-23.9999999999994</c:v>
                </c:pt>
                <c:pt idx="805">
                  <c:v>-18.9999999999997</c:v>
                </c:pt>
                <c:pt idx="806">
                  <c:v>-15.6666666666665</c:v>
                </c:pt>
                <c:pt idx="807">
                  <c:v>-13.2857142857142</c:v>
                </c:pt>
                <c:pt idx="808">
                  <c:v>-11.5</c:v>
                </c:pt>
                <c:pt idx="809">
                  <c:v>-10.1111111111111</c:v>
                </c:pt>
                <c:pt idx="810">
                  <c:v>-9.00000000000004</c:v>
                </c:pt>
                <c:pt idx="811">
                  <c:v>-8.09090909090914</c:v>
                </c:pt>
                <c:pt idx="812">
                  <c:v>-7.33333333333327</c:v>
                </c:pt>
                <c:pt idx="813">
                  <c:v>-6.69230769230765</c:v>
                </c:pt>
                <c:pt idx="814">
                  <c:v>-6.14285714285711</c:v>
                </c:pt>
                <c:pt idx="815">
                  <c:v>-5.66666666666665</c:v>
                </c:pt>
                <c:pt idx="816">
                  <c:v>-5.25</c:v>
                </c:pt>
                <c:pt idx="817">
                  <c:v>-4.88235294117647</c:v>
                </c:pt>
                <c:pt idx="818">
                  <c:v>-4.55555555555556</c:v>
                </c:pt>
                <c:pt idx="819">
                  <c:v>-4.26315789473686</c:v>
                </c:pt>
                <c:pt idx="820">
                  <c:v>-4.00000000000002</c:v>
                </c:pt>
                <c:pt idx="821">
                  <c:v>-3.76190476190474</c:v>
                </c:pt>
                <c:pt idx="822">
                  <c:v>-3.54545454545453</c:v>
                </c:pt>
                <c:pt idx="823">
                  <c:v>-3.34782608695651</c:v>
                </c:pt>
                <c:pt idx="824">
                  <c:v>-3.16666666666666</c:v>
                </c:pt>
                <c:pt idx="825">
                  <c:v>-3</c:v>
                </c:pt>
                <c:pt idx="826">
                  <c:v>-2.84615384615385</c:v>
                </c:pt>
                <c:pt idx="827">
                  <c:v>-2.70370370370371</c:v>
                </c:pt>
                <c:pt idx="828">
                  <c:v>-2.57142857142858</c:v>
                </c:pt>
                <c:pt idx="829">
                  <c:v>-2.44827586206895</c:v>
                </c:pt>
                <c:pt idx="830">
                  <c:v>-2.33333333333333</c:v>
                </c:pt>
                <c:pt idx="831">
                  <c:v>-2.2258064516129</c:v>
                </c:pt>
                <c:pt idx="832">
                  <c:v>-2.125</c:v>
                </c:pt>
                <c:pt idx="833">
                  <c:v>-2.03030303030303</c:v>
                </c:pt>
                <c:pt idx="834">
                  <c:v>-1.94117647058824</c:v>
                </c:pt>
                <c:pt idx="835">
                  <c:v>-1.85714285714286</c:v>
                </c:pt>
                <c:pt idx="836">
                  <c:v>-1.77777777777778</c:v>
                </c:pt>
                <c:pt idx="837">
                  <c:v>-1.7027027027027</c:v>
                </c:pt>
                <c:pt idx="838">
                  <c:v>-1.63157894736842</c:v>
                </c:pt>
                <c:pt idx="839">
                  <c:v>-1.56410256410256</c:v>
                </c:pt>
                <c:pt idx="840">
                  <c:v>-1.5</c:v>
                </c:pt>
                <c:pt idx="841">
                  <c:v>-1.4390243902439</c:v>
                </c:pt>
                <c:pt idx="842">
                  <c:v>-1.38095238095238</c:v>
                </c:pt>
                <c:pt idx="843">
                  <c:v>-1.32558139534884</c:v>
                </c:pt>
                <c:pt idx="844">
                  <c:v>-1.27272727272728</c:v>
                </c:pt>
                <c:pt idx="845">
                  <c:v>-1.22222222222223</c:v>
                </c:pt>
                <c:pt idx="846">
                  <c:v>-1.17391304347826</c:v>
                </c:pt>
                <c:pt idx="847">
                  <c:v>-1.12765957446808</c:v>
                </c:pt>
                <c:pt idx="848">
                  <c:v>-1.08333333333333</c:v>
                </c:pt>
                <c:pt idx="849">
                  <c:v>-1.04081632653061</c:v>
                </c:pt>
                <c:pt idx="850">
                  <c:v>-1</c:v>
                </c:pt>
                <c:pt idx="851">
                  <c:v>-0.960784313725491</c:v>
                </c:pt>
                <c:pt idx="852">
                  <c:v>-0.923076923076925</c:v>
                </c:pt>
                <c:pt idx="853">
                  <c:v>-0.886792452830191</c:v>
                </c:pt>
                <c:pt idx="854">
                  <c:v>-0.851851851851849</c:v>
                </c:pt>
                <c:pt idx="855">
                  <c:v>-0.818181818181816</c:v>
                </c:pt>
                <c:pt idx="856">
                  <c:v>-0.785714285714284</c:v>
                </c:pt>
                <c:pt idx="857">
                  <c:v>-0.75438596491228</c:v>
                </c:pt>
                <c:pt idx="858">
                  <c:v>-0.724137931034483</c:v>
                </c:pt>
                <c:pt idx="859">
                  <c:v>-0.694915254237289</c:v>
                </c:pt>
                <c:pt idx="860">
                  <c:v>-0.666666666666668</c:v>
                </c:pt>
                <c:pt idx="861">
                  <c:v>-0.639344262295084</c:v>
                </c:pt>
                <c:pt idx="862">
                  <c:v>-0.612903225806449</c:v>
                </c:pt>
                <c:pt idx="863">
                  <c:v>-0.587301587301585</c:v>
                </c:pt>
                <c:pt idx="864">
                  <c:v>-0.562499999999999</c:v>
                </c:pt>
                <c:pt idx="865">
                  <c:v>-0.538461538461538</c:v>
                </c:pt>
                <c:pt idx="866">
                  <c:v>-0.515151515151515</c:v>
                </c:pt>
                <c:pt idx="867">
                  <c:v>-0.492537313432836</c:v>
                </c:pt>
                <c:pt idx="868">
                  <c:v>-0.470588235294118</c:v>
                </c:pt>
                <c:pt idx="869">
                  <c:v>-0.449275362318842</c:v>
                </c:pt>
                <c:pt idx="870">
                  <c:v>-0.428571428571426</c:v>
                </c:pt>
                <c:pt idx="871">
                  <c:v>-0.40845070422535</c:v>
                </c:pt>
                <c:pt idx="872">
                  <c:v>-0.388888888888888</c:v>
                </c:pt>
                <c:pt idx="873">
                  <c:v>-0.369863013698629</c:v>
                </c:pt>
                <c:pt idx="874">
                  <c:v>-0.351351351351351</c:v>
                </c:pt>
                <c:pt idx="875">
                  <c:v>-0.333333333333333</c:v>
                </c:pt>
                <c:pt idx="876">
                  <c:v>-0.315789473684211</c:v>
                </c:pt>
                <c:pt idx="877">
                  <c:v>-0.298701298701299</c:v>
                </c:pt>
                <c:pt idx="878">
                  <c:v>-0.282051282051283</c:v>
                </c:pt>
                <c:pt idx="879">
                  <c:v>-0.265822784810125</c:v>
                </c:pt>
                <c:pt idx="880">
                  <c:v>-0.249999999999999</c:v>
                </c:pt>
                <c:pt idx="881">
                  <c:v>-0.234567901234567</c:v>
                </c:pt>
                <c:pt idx="882">
                  <c:v>-0.219512195121951</c:v>
                </c:pt>
                <c:pt idx="883">
                  <c:v>-0.204819277108434</c:v>
                </c:pt>
                <c:pt idx="884">
                  <c:v>-0.190476190476191</c:v>
                </c:pt>
                <c:pt idx="885">
                  <c:v>-0.176470588235295</c:v>
                </c:pt>
                <c:pt idx="886">
                  <c:v>-0.162790697674419</c:v>
                </c:pt>
                <c:pt idx="887">
                  <c:v>-0.149425287356321</c:v>
                </c:pt>
                <c:pt idx="888">
                  <c:v>-0.136363636363635</c:v>
                </c:pt>
                <c:pt idx="889">
                  <c:v>-0.123595505617977</c:v>
                </c:pt>
                <c:pt idx="890">
                  <c:v>-0.111111111111111</c:v>
                </c:pt>
                <c:pt idx="891">
                  <c:v>-0.0989010989010987</c:v>
                </c:pt>
                <c:pt idx="892">
                  <c:v>-0.0869565217391305</c:v>
                </c:pt>
                <c:pt idx="893">
                  <c:v>-0.0752688172043014</c:v>
                </c:pt>
                <c:pt idx="894">
                  <c:v>-0.0638297872340431</c:v>
                </c:pt>
                <c:pt idx="895">
                  <c:v>-0.0526315789473672</c:v>
                </c:pt>
                <c:pt idx="896">
                  <c:v>-0.0416666666666657</c:v>
                </c:pt>
                <c:pt idx="897">
                  <c:v>-0.0309278350515457</c:v>
                </c:pt>
                <c:pt idx="898">
                  <c:v>-0.0204081632653057</c:v>
                </c:pt>
                <c:pt idx="899">
                  <c:v>-0.0101010101010099</c:v>
                </c:pt>
                <c:pt idx="900">
                  <c:v>0</c:v>
                </c:pt>
                <c:pt idx="901">
                  <c:v>0.00990099009900969</c:v>
                </c:pt>
                <c:pt idx="902">
                  <c:v>0.0196078431372545</c:v>
                </c:pt>
                <c:pt idx="903">
                  <c:v>0.0291262135922324</c:v>
                </c:pt>
                <c:pt idx="904">
                  <c:v>0.0384615384615393</c:v>
                </c:pt>
                <c:pt idx="905">
                  <c:v>0.0476190476190483</c:v>
                </c:pt>
                <c:pt idx="906">
                  <c:v>0.0566037735849061</c:v>
                </c:pt>
                <c:pt idx="907">
                  <c:v>0.0654205607476638</c:v>
                </c:pt>
                <c:pt idx="908">
                  <c:v>0.0740740740740741</c:v>
                </c:pt>
                <c:pt idx="909">
                  <c:v>0.0825688073394494</c:v>
                </c:pt>
                <c:pt idx="910">
                  <c:v>0.0909090909090906</c:v>
                </c:pt>
                <c:pt idx="911">
                  <c:v>0.0990990990990986</c:v>
                </c:pt>
                <c:pt idx="912">
                  <c:v>0.107142857142858</c:v>
                </c:pt>
                <c:pt idx="913">
                  <c:v>0.115044247787611</c:v>
                </c:pt>
                <c:pt idx="914">
                  <c:v>0.12280701754386</c:v>
                </c:pt>
                <c:pt idx="915">
                  <c:v>0.130434782608696</c:v>
                </c:pt>
                <c:pt idx="916">
                  <c:v>0.137931034482759</c:v>
                </c:pt>
                <c:pt idx="917">
                  <c:v>0.145299145299145</c:v>
                </c:pt>
                <c:pt idx="918">
                  <c:v>0.152542372881356</c:v>
                </c:pt>
                <c:pt idx="919">
                  <c:v>0.159663865546218</c:v>
                </c:pt>
                <c:pt idx="920">
                  <c:v>0.166666666666667</c:v>
                </c:pt>
                <c:pt idx="921">
                  <c:v>0.173553719008265</c:v>
                </c:pt>
                <c:pt idx="922">
                  <c:v>0.180327868852459</c:v>
                </c:pt>
                <c:pt idx="923">
                  <c:v>0.186991869918699</c:v>
                </c:pt>
                <c:pt idx="924">
                  <c:v>0.193548387096774</c:v>
                </c:pt>
                <c:pt idx="925">
                  <c:v>0.2</c:v>
                </c:pt>
                <c:pt idx="926">
                  <c:v>0.206349206349206</c:v>
                </c:pt>
                <c:pt idx="927">
                  <c:v>0.21259842519685</c:v>
                </c:pt>
                <c:pt idx="928">
                  <c:v>0.21875</c:v>
                </c:pt>
                <c:pt idx="929">
                  <c:v>0.224806201550388</c:v>
                </c:pt>
                <c:pt idx="930">
                  <c:v>0.230769230769231</c:v>
                </c:pt>
                <c:pt idx="931">
                  <c:v>0.236641221374046</c:v>
                </c:pt>
                <c:pt idx="932">
                  <c:v>0.242424242424243</c:v>
                </c:pt>
                <c:pt idx="933">
                  <c:v>0.24812030075188</c:v>
                </c:pt>
                <c:pt idx="934">
                  <c:v>0.253731343283582</c:v>
                </c:pt>
                <c:pt idx="935">
                  <c:v>0.259259259259259</c:v>
                </c:pt>
                <c:pt idx="936">
                  <c:v>0.264705882352941</c:v>
                </c:pt>
                <c:pt idx="937">
                  <c:v>0.27007299270073</c:v>
                </c:pt>
                <c:pt idx="938">
                  <c:v>0.27536231884058</c:v>
                </c:pt>
                <c:pt idx="939">
                  <c:v>0.280575539568346</c:v>
                </c:pt>
                <c:pt idx="940">
                  <c:v>0.285714285714286</c:v>
                </c:pt>
                <c:pt idx="941">
                  <c:v>0.290780141843972</c:v>
                </c:pt>
                <c:pt idx="942">
                  <c:v>0.295774647887324</c:v>
                </c:pt>
                <c:pt idx="943">
                  <c:v>0.300699300699301</c:v>
                </c:pt>
                <c:pt idx="944">
                  <c:v>0.305555555555555</c:v>
                </c:pt>
                <c:pt idx="945">
                  <c:v>0.310344827586207</c:v>
                </c:pt>
                <c:pt idx="946">
                  <c:v>0.315068493150685</c:v>
                </c:pt>
                <c:pt idx="947">
                  <c:v>0.319727891156463</c:v>
                </c:pt>
                <c:pt idx="948">
                  <c:v>0.324324324324325</c:v>
                </c:pt>
                <c:pt idx="949">
                  <c:v>0.328859060402685</c:v>
                </c:pt>
                <c:pt idx="950">
                  <c:v>0.333333333333333</c:v>
                </c:pt>
                <c:pt idx="951">
                  <c:v>0.337748344370861</c:v>
                </c:pt>
                <c:pt idx="952">
                  <c:v>0.342105263157895</c:v>
                </c:pt>
                <c:pt idx="953">
                  <c:v>0.34640522875817</c:v>
                </c:pt>
                <c:pt idx="954">
                  <c:v>0.350649350649351</c:v>
                </c:pt>
                <c:pt idx="955">
                  <c:v>0.35483870967742</c:v>
                </c:pt>
                <c:pt idx="956">
                  <c:v>0.358974358974359</c:v>
                </c:pt>
                <c:pt idx="957">
                  <c:v>0.363057324840765</c:v>
                </c:pt>
                <c:pt idx="958">
                  <c:v>0.367088607594937</c:v>
                </c:pt>
                <c:pt idx="959">
                  <c:v>0.371069182389937</c:v>
                </c:pt>
                <c:pt idx="960">
                  <c:v>0.375</c:v>
                </c:pt>
                <c:pt idx="961">
                  <c:v>0.37888198757764</c:v>
                </c:pt>
                <c:pt idx="962">
                  <c:v>0.382716049382716</c:v>
                </c:pt>
                <c:pt idx="963">
                  <c:v>0.386503067484663</c:v>
                </c:pt>
                <c:pt idx="964">
                  <c:v>0.390243902439025</c:v>
                </c:pt>
                <c:pt idx="965">
                  <c:v>0.393939393939394</c:v>
                </c:pt>
                <c:pt idx="966">
                  <c:v>0.397590361445783</c:v>
                </c:pt>
                <c:pt idx="967">
                  <c:v>0.401197604790419</c:v>
                </c:pt>
                <c:pt idx="968">
                  <c:v>0.404761904761905</c:v>
                </c:pt>
                <c:pt idx="969">
                  <c:v>0.408284023668639</c:v>
                </c:pt>
                <c:pt idx="970">
                  <c:v>0.411764705882353</c:v>
                </c:pt>
                <c:pt idx="971">
                  <c:v>0.415204678362573</c:v>
                </c:pt>
                <c:pt idx="972">
                  <c:v>0.418604651162791</c:v>
                </c:pt>
                <c:pt idx="973">
                  <c:v>0.421965317919075</c:v>
                </c:pt>
                <c:pt idx="974">
                  <c:v>0.425287356321839</c:v>
                </c:pt>
                <c:pt idx="975">
                  <c:v>0.428571428571429</c:v>
                </c:pt>
                <c:pt idx="976">
                  <c:v>0.431818181818182</c:v>
                </c:pt>
                <c:pt idx="977">
                  <c:v>0.435028248587571</c:v>
                </c:pt>
                <c:pt idx="978">
                  <c:v>0.438202247191011</c:v>
                </c:pt>
                <c:pt idx="979">
                  <c:v>0.441340782122905</c:v>
                </c:pt>
                <c:pt idx="980">
                  <c:v>0.444444444444445</c:v>
                </c:pt>
                <c:pt idx="981">
                  <c:v>0.447513812154696</c:v>
                </c:pt>
                <c:pt idx="982">
                  <c:v>0.450549450549451</c:v>
                </c:pt>
                <c:pt idx="983">
                  <c:v>0.453551912568306</c:v>
                </c:pt>
                <c:pt idx="984">
                  <c:v>0.456521739130435</c:v>
                </c:pt>
                <c:pt idx="985">
                  <c:v>0.459459459459459</c:v>
                </c:pt>
                <c:pt idx="986">
                  <c:v>0.462365591397849</c:v>
                </c:pt>
                <c:pt idx="987">
                  <c:v>0.46524064171123</c:v>
                </c:pt>
                <c:pt idx="988">
                  <c:v>0.468085106382979</c:v>
                </c:pt>
                <c:pt idx="989">
                  <c:v>0.470899470899471</c:v>
                </c:pt>
                <c:pt idx="990">
                  <c:v>0.473684210526316</c:v>
                </c:pt>
                <c:pt idx="991">
                  <c:v>0.476439790575916</c:v>
                </c:pt>
                <c:pt idx="992">
                  <c:v>0.479166666666667</c:v>
                </c:pt>
                <c:pt idx="993">
                  <c:v>0.481865284974093</c:v>
                </c:pt>
                <c:pt idx="994">
                  <c:v>0.484536082474227</c:v>
                </c:pt>
                <c:pt idx="995">
                  <c:v>0.487179487179487</c:v>
                </c:pt>
                <c:pt idx="996">
                  <c:v>0.489795918367347</c:v>
                </c:pt>
                <c:pt idx="997">
                  <c:v>0.492385786802031</c:v>
                </c:pt>
                <c:pt idx="998">
                  <c:v>0.494949494949495</c:v>
                </c:pt>
                <c:pt idx="999">
                  <c:v>0.49748743718593</c:v>
                </c:pt>
                <c:pt idx="1000">
                  <c:v>0.5</c:v>
                </c:pt>
                <c:pt idx="1001">
                  <c:v>0.502487562189055</c:v>
                </c:pt>
                <c:pt idx="1002">
                  <c:v>0.504950495049505</c:v>
                </c:pt>
                <c:pt idx="1003">
                  <c:v>0.507389162561576</c:v>
                </c:pt>
                <c:pt idx="1004">
                  <c:v>0.509803921568628</c:v>
                </c:pt>
                <c:pt idx="1005">
                  <c:v>0.51219512195122</c:v>
                </c:pt>
                <c:pt idx="1006">
                  <c:v>0.514563106796117</c:v>
                </c:pt>
                <c:pt idx="1007">
                  <c:v>0.516908212560387</c:v>
                </c:pt>
                <c:pt idx="1008">
                  <c:v>0.519230769230769</c:v>
                </c:pt>
                <c:pt idx="1009">
                  <c:v>0.521531100478469</c:v>
                </c:pt>
                <c:pt idx="1010">
                  <c:v>0.523809523809524</c:v>
                </c:pt>
                <c:pt idx="1011">
                  <c:v>0.5260663507109</c:v>
                </c:pt>
                <c:pt idx="1012">
                  <c:v>0.528301886792453</c:v>
                </c:pt>
                <c:pt idx="1013">
                  <c:v>0.530516431924883</c:v>
                </c:pt>
                <c:pt idx="1014">
                  <c:v>0.532710280373832</c:v>
                </c:pt>
                <c:pt idx="1015">
                  <c:v>0.534883720930233</c:v>
                </c:pt>
                <c:pt idx="1016">
                  <c:v>0.537037037037037</c:v>
                </c:pt>
                <c:pt idx="1017">
                  <c:v>0.539170506912442</c:v>
                </c:pt>
                <c:pt idx="1018">
                  <c:v>0.541284403669725</c:v>
                </c:pt>
                <c:pt idx="1019">
                  <c:v>0.54337899543379</c:v>
                </c:pt>
                <c:pt idx="1020">
                  <c:v>0.545454545454546</c:v>
                </c:pt>
                <c:pt idx="1021">
                  <c:v>0.547511312217195</c:v>
                </c:pt>
                <c:pt idx="1022">
                  <c:v>0.54954954954955</c:v>
                </c:pt>
                <c:pt idx="1023">
                  <c:v>0.551569506726457</c:v>
                </c:pt>
                <c:pt idx="1024">
                  <c:v>0.553571428571429</c:v>
                </c:pt>
                <c:pt idx="1025">
                  <c:v>0.555555555555556</c:v>
                </c:pt>
                <c:pt idx="1026">
                  <c:v>0.557522123893805</c:v>
                </c:pt>
                <c:pt idx="1027">
                  <c:v>0.559471365638766</c:v>
                </c:pt>
                <c:pt idx="1028">
                  <c:v>0.56140350877193</c:v>
                </c:pt>
                <c:pt idx="1029">
                  <c:v>0.563318777292577</c:v>
                </c:pt>
                <c:pt idx="1030">
                  <c:v>0.565217391304348</c:v>
                </c:pt>
                <c:pt idx="1031">
                  <c:v>0.567099567099567</c:v>
                </c:pt>
                <c:pt idx="1032">
                  <c:v>0.568965517241379</c:v>
                </c:pt>
                <c:pt idx="1033">
                  <c:v>0.570815450643777</c:v>
                </c:pt>
                <c:pt idx="1034">
                  <c:v>0.572649572649573</c:v>
                </c:pt>
                <c:pt idx="1035">
                  <c:v>0.574468085106383</c:v>
                </c:pt>
                <c:pt idx="1036">
                  <c:v>0.576271186440678</c:v>
                </c:pt>
                <c:pt idx="1037">
                  <c:v>0.578059071729958</c:v>
                </c:pt>
                <c:pt idx="1038">
                  <c:v>0.579831932773109</c:v>
                </c:pt>
                <c:pt idx="1039">
                  <c:v>0.581589958158996</c:v>
                </c:pt>
                <c:pt idx="1040">
                  <c:v>0.583333333333333</c:v>
                </c:pt>
                <c:pt idx="1041">
                  <c:v>0.5850622406639</c:v>
                </c:pt>
                <c:pt idx="1042">
                  <c:v>0.586776859504132</c:v>
                </c:pt>
                <c:pt idx="1043">
                  <c:v>0.588477366255144</c:v>
                </c:pt>
                <c:pt idx="1044">
                  <c:v>0.590163934426229</c:v>
                </c:pt>
                <c:pt idx="1045">
                  <c:v>0.591836734693878</c:v>
                </c:pt>
                <c:pt idx="1046">
                  <c:v>0.59349593495935</c:v>
                </c:pt>
                <c:pt idx="1047">
                  <c:v>0.595141700404858</c:v>
                </c:pt>
                <c:pt idx="1048">
                  <c:v>0.596774193548387</c:v>
                </c:pt>
                <c:pt idx="1049">
                  <c:v>0.598393574297189</c:v>
                </c:pt>
                <c:pt idx="1050">
                  <c:v>0.6</c:v>
                </c:pt>
                <c:pt idx="1051">
                  <c:v>0.601593625498008</c:v>
                </c:pt>
                <c:pt idx="1052">
                  <c:v>0.603174603174603</c:v>
                </c:pt>
                <c:pt idx="1053">
                  <c:v>0.604743083003953</c:v>
                </c:pt>
                <c:pt idx="1054">
                  <c:v>0.606299212598425</c:v>
                </c:pt>
                <c:pt idx="1055">
                  <c:v>0.607843137254902</c:v>
                </c:pt>
                <c:pt idx="1056">
                  <c:v>0.609375</c:v>
                </c:pt>
                <c:pt idx="1057">
                  <c:v>0.610894941634241</c:v>
                </c:pt>
                <c:pt idx="1058">
                  <c:v>0.612403100775194</c:v>
                </c:pt>
                <c:pt idx="1059">
                  <c:v>0.613899613899614</c:v>
                </c:pt>
                <c:pt idx="1060">
                  <c:v>0.615384615384615</c:v>
                </c:pt>
                <c:pt idx="1061">
                  <c:v>0.616858237547893</c:v>
                </c:pt>
                <c:pt idx="1062">
                  <c:v>0.618320610687023</c:v>
                </c:pt>
                <c:pt idx="1063">
                  <c:v>0.619771863117871</c:v>
                </c:pt>
                <c:pt idx="1064">
                  <c:v>0.621212121212121</c:v>
                </c:pt>
                <c:pt idx="1065">
                  <c:v>0.622641509433962</c:v>
                </c:pt>
                <c:pt idx="1066">
                  <c:v>0.62406015037594</c:v>
                </c:pt>
                <c:pt idx="1067">
                  <c:v>0.625468164794008</c:v>
                </c:pt>
                <c:pt idx="1068">
                  <c:v>0.626865671641791</c:v>
                </c:pt>
                <c:pt idx="1069">
                  <c:v>0.628252788104089</c:v>
                </c:pt>
                <c:pt idx="1070">
                  <c:v>0.62962962962963</c:v>
                </c:pt>
                <c:pt idx="1071">
                  <c:v>0.6309963099631</c:v>
                </c:pt>
                <c:pt idx="1072">
                  <c:v>0.632352941176471</c:v>
                </c:pt>
                <c:pt idx="1073">
                  <c:v>0.633699633699634</c:v>
                </c:pt>
                <c:pt idx="1074">
                  <c:v>0.635036496350365</c:v>
                </c:pt>
                <c:pt idx="1075">
                  <c:v>0.636363636363636</c:v>
                </c:pt>
                <c:pt idx="1076">
                  <c:v>0.63768115942029</c:v>
                </c:pt>
                <c:pt idx="1077">
                  <c:v>0.63898916967509</c:v>
                </c:pt>
                <c:pt idx="1078">
                  <c:v>0.640287769784173</c:v>
                </c:pt>
                <c:pt idx="1079">
                  <c:v>0.6415770609319</c:v>
                </c:pt>
                <c:pt idx="1080">
                  <c:v>0.642857142857143</c:v>
                </c:pt>
                <c:pt idx="1081">
                  <c:v>0.644128113879004</c:v>
                </c:pt>
                <c:pt idx="1082">
                  <c:v>0.645390070921986</c:v>
                </c:pt>
                <c:pt idx="1083">
                  <c:v>0.646643109540636</c:v>
                </c:pt>
                <c:pt idx="1084">
                  <c:v>0.647887323943662</c:v>
                </c:pt>
                <c:pt idx="1085">
                  <c:v>0.649122807017544</c:v>
                </c:pt>
                <c:pt idx="1086">
                  <c:v>0.65034965034965</c:v>
                </c:pt>
                <c:pt idx="1087">
                  <c:v>0.651567944250871</c:v>
                </c:pt>
                <c:pt idx="1088">
                  <c:v>0.652777777777778</c:v>
                </c:pt>
                <c:pt idx="1089">
                  <c:v>0.653979238754325</c:v>
                </c:pt>
                <c:pt idx="1090">
                  <c:v>0.655172413793104</c:v>
                </c:pt>
                <c:pt idx="1091">
                  <c:v>0.656357388316151</c:v>
                </c:pt>
                <c:pt idx="1092">
                  <c:v>0.657534246575342</c:v>
                </c:pt>
                <c:pt idx="1093">
                  <c:v>0.658703071672355</c:v>
                </c:pt>
                <c:pt idx="1094">
                  <c:v>0.659863945578231</c:v>
                </c:pt>
                <c:pt idx="1095">
                  <c:v>0.661016949152543</c:v>
                </c:pt>
                <c:pt idx="1096">
                  <c:v>0.662162162162162</c:v>
                </c:pt>
                <c:pt idx="1097">
                  <c:v>0.663299663299663</c:v>
                </c:pt>
                <c:pt idx="1098">
                  <c:v>0.664429530201342</c:v>
                </c:pt>
                <c:pt idx="1099">
                  <c:v>0.665551839464883</c:v>
                </c:pt>
                <c:pt idx="1100">
                  <c:v>0.666666666666667</c:v>
                </c:pt>
                <c:pt idx="1101">
                  <c:v>0.667774086378738</c:v>
                </c:pt>
                <c:pt idx="1102">
                  <c:v>0.66887417218543</c:v>
                </c:pt>
                <c:pt idx="1103">
                  <c:v>0.66996699669967</c:v>
                </c:pt>
                <c:pt idx="1104">
                  <c:v>0.671052631578948</c:v>
                </c:pt>
                <c:pt idx="1105">
                  <c:v>0.672131147540984</c:v>
                </c:pt>
                <c:pt idx="1106">
                  <c:v>0.673202614379085</c:v>
                </c:pt>
                <c:pt idx="1107">
                  <c:v>0.674267100977199</c:v>
                </c:pt>
                <c:pt idx="1108">
                  <c:v>0.675324675324675</c:v>
                </c:pt>
                <c:pt idx="1109">
                  <c:v>0.676375404530744</c:v>
                </c:pt>
                <c:pt idx="1110">
                  <c:v>0.67741935483871</c:v>
                </c:pt>
                <c:pt idx="1111">
                  <c:v>0.678456591639871</c:v>
                </c:pt>
                <c:pt idx="1112">
                  <c:v>0.67948717948718</c:v>
                </c:pt>
                <c:pt idx="1113">
                  <c:v>0.680511182108626</c:v>
                </c:pt>
                <c:pt idx="1114">
                  <c:v>0.681528662420382</c:v>
                </c:pt>
                <c:pt idx="1115">
                  <c:v>0.682539682539683</c:v>
                </c:pt>
                <c:pt idx="1116">
                  <c:v>0.683544303797468</c:v>
                </c:pt>
                <c:pt idx="1117">
                  <c:v>0.684542586750789</c:v>
                </c:pt>
                <c:pt idx="1118">
                  <c:v>0.685534591194969</c:v>
                </c:pt>
                <c:pt idx="1119">
                  <c:v>0.686520376175549</c:v>
                </c:pt>
                <c:pt idx="1120">
                  <c:v>0.6875</c:v>
                </c:pt>
                <c:pt idx="1121">
                  <c:v>0.688473520249221</c:v>
                </c:pt>
                <c:pt idx="1122">
                  <c:v>0.68944099378882</c:v>
                </c:pt>
                <c:pt idx="1123">
                  <c:v>0.690402476780186</c:v>
                </c:pt>
                <c:pt idx="1124">
                  <c:v>0.691358024691358</c:v>
                </c:pt>
                <c:pt idx="1125">
                  <c:v>0.692307692307692</c:v>
                </c:pt>
                <c:pt idx="1126">
                  <c:v>0.693251533742331</c:v>
                </c:pt>
                <c:pt idx="1127">
                  <c:v>0.694189602446483</c:v>
                </c:pt>
                <c:pt idx="1128">
                  <c:v>0.695121951219512</c:v>
                </c:pt>
                <c:pt idx="1129">
                  <c:v>0.696048632218845</c:v>
                </c:pt>
                <c:pt idx="1130">
                  <c:v>0.696969696969697</c:v>
                </c:pt>
                <c:pt idx="1131">
                  <c:v>0.697885196374622</c:v>
                </c:pt>
                <c:pt idx="1132">
                  <c:v>0.698795180722892</c:v>
                </c:pt>
                <c:pt idx="1133">
                  <c:v>0.6996996996997</c:v>
                </c:pt>
                <c:pt idx="1134">
                  <c:v>0.70059880239521</c:v>
                </c:pt>
                <c:pt idx="1135">
                  <c:v>0.701492537313433</c:v>
                </c:pt>
                <c:pt idx="1136">
                  <c:v>0.702380952380952</c:v>
                </c:pt>
                <c:pt idx="1137">
                  <c:v>0.70326409495549</c:v>
                </c:pt>
                <c:pt idx="1138">
                  <c:v>0.70414201183432</c:v>
                </c:pt>
                <c:pt idx="1139">
                  <c:v>0.705014749262537</c:v>
                </c:pt>
                <c:pt idx="1140">
                  <c:v>0.705882352941177</c:v>
                </c:pt>
                <c:pt idx="1141">
                  <c:v>0.706744868035191</c:v>
                </c:pt>
                <c:pt idx="1142">
                  <c:v>0.707602339181287</c:v>
                </c:pt>
                <c:pt idx="1143">
                  <c:v>0.708454810495627</c:v>
                </c:pt>
                <c:pt idx="1144">
                  <c:v>0.709302325581395</c:v>
                </c:pt>
                <c:pt idx="1145">
                  <c:v>0.710144927536232</c:v>
                </c:pt>
                <c:pt idx="1146">
                  <c:v>0.710982658959538</c:v>
                </c:pt>
                <c:pt idx="1147">
                  <c:v>0.711815561959654</c:v>
                </c:pt>
                <c:pt idx="1148">
                  <c:v>0.71264367816092</c:v>
                </c:pt>
                <c:pt idx="1149">
                  <c:v>0.713467048710602</c:v>
                </c:pt>
                <c:pt idx="1150">
                  <c:v>0.714285714285714</c:v>
                </c:pt>
                <c:pt idx="1151">
                  <c:v>0.715099715099715</c:v>
                </c:pt>
                <c:pt idx="1152">
                  <c:v>0.715909090909091</c:v>
                </c:pt>
                <c:pt idx="1153">
                  <c:v>0.71671388101983</c:v>
                </c:pt>
                <c:pt idx="1154">
                  <c:v>0.717514124293785</c:v>
                </c:pt>
                <c:pt idx="1155">
                  <c:v>0.71830985915493</c:v>
                </c:pt>
                <c:pt idx="1156">
                  <c:v>0.719101123595506</c:v>
                </c:pt>
                <c:pt idx="1157">
                  <c:v>0.719887955182073</c:v>
                </c:pt>
                <c:pt idx="1158">
                  <c:v>0.720670391061453</c:v>
                </c:pt>
                <c:pt idx="1159">
                  <c:v>0.721448467966574</c:v>
                </c:pt>
                <c:pt idx="1160">
                  <c:v>0.722222222222222</c:v>
                </c:pt>
                <c:pt idx="1161">
                  <c:v>0.722991689750693</c:v>
                </c:pt>
                <c:pt idx="1162">
                  <c:v>0.723756906077348</c:v>
                </c:pt>
                <c:pt idx="1163">
                  <c:v>0.724517906336088</c:v>
                </c:pt>
                <c:pt idx="1164">
                  <c:v>0.725274725274725</c:v>
                </c:pt>
                <c:pt idx="1165">
                  <c:v>0.726027397260274</c:v>
                </c:pt>
                <c:pt idx="1166">
                  <c:v>0.726775956284153</c:v>
                </c:pt>
                <c:pt idx="1167">
                  <c:v>0.727520435967302</c:v>
                </c:pt>
                <c:pt idx="1168">
                  <c:v>0.728260869565217</c:v>
                </c:pt>
                <c:pt idx="1169">
                  <c:v>0.7289972899729</c:v>
                </c:pt>
                <c:pt idx="1170">
                  <c:v>0.72972972972973</c:v>
                </c:pt>
                <c:pt idx="1171">
                  <c:v>0.730458221024259</c:v>
                </c:pt>
                <c:pt idx="1172">
                  <c:v>0.731182795698925</c:v>
                </c:pt>
                <c:pt idx="1173">
                  <c:v>0.731903485254692</c:v>
                </c:pt>
                <c:pt idx="1174">
                  <c:v>0.732620320855615</c:v>
                </c:pt>
                <c:pt idx="1175">
                  <c:v>0.733333333333333</c:v>
                </c:pt>
                <c:pt idx="1176">
                  <c:v>0.734042553191489</c:v>
                </c:pt>
                <c:pt idx="1177">
                  <c:v>0.73474801061008</c:v>
                </c:pt>
                <c:pt idx="1178">
                  <c:v>0.735449735449735</c:v>
                </c:pt>
                <c:pt idx="1179">
                  <c:v>0.736147757255937</c:v>
                </c:pt>
                <c:pt idx="1180">
                  <c:v>0.736842105263158</c:v>
                </c:pt>
                <c:pt idx="1181">
                  <c:v>0.73753280839895</c:v>
                </c:pt>
                <c:pt idx="1182">
                  <c:v>0.738219895287958</c:v>
                </c:pt>
                <c:pt idx="1183">
                  <c:v>0.738903394255875</c:v>
                </c:pt>
                <c:pt idx="1184">
                  <c:v>0.739583333333333</c:v>
                </c:pt>
                <c:pt idx="1185">
                  <c:v>0.74025974025974</c:v>
                </c:pt>
                <c:pt idx="1186">
                  <c:v>0.740932642487047</c:v>
                </c:pt>
                <c:pt idx="1187">
                  <c:v>0.741602067183463</c:v>
                </c:pt>
                <c:pt idx="1188">
                  <c:v>0.742268041237113</c:v>
                </c:pt>
                <c:pt idx="1189">
                  <c:v>0.74293059125964</c:v>
                </c:pt>
                <c:pt idx="1190">
                  <c:v>0.743589743589744</c:v>
                </c:pt>
                <c:pt idx="1191">
                  <c:v>0.744245524296675</c:v>
                </c:pt>
                <c:pt idx="1192">
                  <c:v>0.744897959183674</c:v>
                </c:pt>
                <c:pt idx="1193">
                  <c:v>0.745547073791349</c:v>
                </c:pt>
                <c:pt idx="1194">
                  <c:v>0.746192893401015</c:v>
                </c:pt>
                <c:pt idx="1195">
                  <c:v>0.746835443037975</c:v>
                </c:pt>
                <c:pt idx="1196">
                  <c:v>0.747474747474748</c:v>
                </c:pt>
                <c:pt idx="1197">
                  <c:v>0.748110831234257</c:v>
                </c:pt>
                <c:pt idx="1198">
                  <c:v>0.748743718592965</c:v>
                </c:pt>
                <c:pt idx="1199">
                  <c:v>0.74937343358396</c:v>
                </c:pt>
                <c:pt idx="1200">
                  <c:v>0.75</c:v>
                </c:pt>
                <c:pt idx="1201">
                  <c:v>0.750623441396509</c:v>
                </c:pt>
                <c:pt idx="1202">
                  <c:v>0.751243781094527</c:v>
                </c:pt>
                <c:pt idx="1203">
                  <c:v>0.751861042183623</c:v>
                </c:pt>
                <c:pt idx="1204">
                  <c:v>0.752475247524753</c:v>
                </c:pt>
                <c:pt idx="1205">
                  <c:v>0.753086419753086</c:v>
                </c:pt>
                <c:pt idx="1206">
                  <c:v>0.753694581280788</c:v>
                </c:pt>
                <c:pt idx="1207">
                  <c:v>0.754299754299754</c:v>
                </c:pt>
                <c:pt idx="1208">
                  <c:v>0.754901960784314</c:v>
                </c:pt>
                <c:pt idx="1209">
                  <c:v>0.755501222493888</c:v>
                </c:pt>
                <c:pt idx="1210">
                  <c:v>0.75609756097561</c:v>
                </c:pt>
                <c:pt idx="1211">
                  <c:v>0.75669099756691</c:v>
                </c:pt>
                <c:pt idx="1212">
                  <c:v>0.757281553398058</c:v>
                </c:pt>
                <c:pt idx="1213">
                  <c:v>0.757869249394673</c:v>
                </c:pt>
                <c:pt idx="1214">
                  <c:v>0.758454106280193</c:v>
                </c:pt>
                <c:pt idx="1215">
                  <c:v>0.759036144578313</c:v>
                </c:pt>
                <c:pt idx="1216">
                  <c:v>0.759615384615385</c:v>
                </c:pt>
                <c:pt idx="1217">
                  <c:v>0.760191846522782</c:v>
                </c:pt>
                <c:pt idx="1218">
                  <c:v>0.760765550239234</c:v>
                </c:pt>
                <c:pt idx="1219">
                  <c:v>0.761336515513126</c:v>
                </c:pt>
                <c:pt idx="1220">
                  <c:v>0.761904761904762</c:v>
                </c:pt>
                <c:pt idx="1221">
                  <c:v>0.762470308788599</c:v>
                </c:pt>
                <c:pt idx="1222">
                  <c:v>0.76303317535545</c:v>
                </c:pt>
                <c:pt idx="1223">
                  <c:v>0.763593380614657</c:v>
                </c:pt>
                <c:pt idx="1224">
                  <c:v>0.764150943396227</c:v>
                </c:pt>
                <c:pt idx="1225">
                  <c:v>0.764705882352941</c:v>
                </c:pt>
                <c:pt idx="1226">
                  <c:v>0.765258215962441</c:v>
                </c:pt>
                <c:pt idx="1227">
                  <c:v>0.765807962529274</c:v>
                </c:pt>
                <c:pt idx="1228">
                  <c:v>0.766355140186916</c:v>
                </c:pt>
                <c:pt idx="1229">
                  <c:v>0.766899766899767</c:v>
                </c:pt>
                <c:pt idx="1230">
                  <c:v>0.767441860465116</c:v>
                </c:pt>
                <c:pt idx="1231">
                  <c:v>0.767981438515081</c:v>
                </c:pt>
                <c:pt idx="1232">
                  <c:v>0.768518518518519</c:v>
                </c:pt>
                <c:pt idx="1233">
                  <c:v>0.76905311778291</c:v>
                </c:pt>
                <c:pt idx="1234">
                  <c:v>0.769585253456221</c:v>
                </c:pt>
                <c:pt idx="1235">
                  <c:v>0.770114942528736</c:v>
                </c:pt>
                <c:pt idx="1236">
                  <c:v>0.770642201834862</c:v>
                </c:pt>
                <c:pt idx="1237">
                  <c:v>0.77116704805492</c:v>
                </c:pt>
                <c:pt idx="1238">
                  <c:v>0.771689497716895</c:v>
                </c:pt>
                <c:pt idx="1239">
                  <c:v>0.772209567198178</c:v>
                </c:pt>
                <c:pt idx="1240">
                  <c:v>0.772727272727273</c:v>
                </c:pt>
                <c:pt idx="1241">
                  <c:v>0.773242630385488</c:v>
                </c:pt>
                <c:pt idx="1242">
                  <c:v>0.773755656108597</c:v>
                </c:pt>
                <c:pt idx="1243">
                  <c:v>0.774266365688488</c:v>
                </c:pt>
                <c:pt idx="1244">
                  <c:v>0.774774774774775</c:v>
                </c:pt>
                <c:pt idx="1245">
                  <c:v>0.775280898876405</c:v>
                </c:pt>
                <c:pt idx="1246">
                  <c:v>0.775784753363229</c:v>
                </c:pt>
                <c:pt idx="1247">
                  <c:v>0.776286353467562</c:v>
                </c:pt>
                <c:pt idx="1248">
                  <c:v>0.776785714285714</c:v>
                </c:pt>
                <c:pt idx="1249">
                  <c:v>0.77728285077951</c:v>
                </c:pt>
                <c:pt idx="1250">
                  <c:v>0.777777777777778</c:v>
                </c:pt>
                <c:pt idx="1251">
                  <c:v>0.778270509977827</c:v>
                </c:pt>
                <c:pt idx="1252">
                  <c:v>0.778761061946903</c:v>
                </c:pt>
                <c:pt idx="1253">
                  <c:v>0.77924944812362</c:v>
                </c:pt>
                <c:pt idx="1254">
                  <c:v>0.779735682819383</c:v>
                </c:pt>
                <c:pt idx="1255">
                  <c:v>0.78021978021978</c:v>
                </c:pt>
                <c:pt idx="1256">
                  <c:v>0.780701754385965</c:v>
                </c:pt>
                <c:pt idx="1257">
                  <c:v>0.781181619256018</c:v>
                </c:pt>
                <c:pt idx="1258">
                  <c:v>0.781659388646288</c:v>
                </c:pt>
                <c:pt idx="1259">
                  <c:v>0.782135076252723</c:v>
                </c:pt>
                <c:pt idx="1260">
                  <c:v>0.782608695652174</c:v>
                </c:pt>
                <c:pt idx="1261">
                  <c:v>0.783080260303688</c:v>
                </c:pt>
                <c:pt idx="1262">
                  <c:v>0.783549783549784</c:v>
                </c:pt>
                <c:pt idx="1263">
                  <c:v>0.784017278617711</c:v>
                </c:pt>
                <c:pt idx="1264">
                  <c:v>0.78448275862069</c:v>
                </c:pt>
                <c:pt idx="1265">
                  <c:v>0.78494623655914</c:v>
                </c:pt>
                <c:pt idx="1266">
                  <c:v>0.785407725321888</c:v>
                </c:pt>
                <c:pt idx="1267">
                  <c:v>0.785867237687366</c:v>
                </c:pt>
                <c:pt idx="1268">
                  <c:v>0.786324786324786</c:v>
                </c:pt>
                <c:pt idx="1269">
                  <c:v>0.786780383795309</c:v>
                </c:pt>
                <c:pt idx="1270">
                  <c:v>0.787234042553192</c:v>
                </c:pt>
                <c:pt idx="1271">
                  <c:v>0.787685774946922</c:v>
                </c:pt>
                <c:pt idx="1272">
                  <c:v>0.788135593220339</c:v>
                </c:pt>
                <c:pt idx="1273">
                  <c:v>0.788583509513742</c:v>
                </c:pt>
                <c:pt idx="1274">
                  <c:v>0.789029535864979</c:v>
                </c:pt>
                <c:pt idx="1275">
                  <c:v>0.789473684210526</c:v>
                </c:pt>
                <c:pt idx="1276">
                  <c:v>0.789915966386555</c:v>
                </c:pt>
                <c:pt idx="1277">
                  <c:v>0.790356394129979</c:v>
                </c:pt>
                <c:pt idx="1278">
                  <c:v>0.790794979079498</c:v>
                </c:pt>
                <c:pt idx="1279">
                  <c:v>0.791231732776618</c:v>
                </c:pt>
                <c:pt idx="1280">
                  <c:v>0.791666666666667</c:v>
                </c:pt>
                <c:pt idx="1281">
                  <c:v>0.792099792099792</c:v>
                </c:pt>
                <c:pt idx="1282">
                  <c:v>0.79253112033195</c:v>
                </c:pt>
                <c:pt idx="1283">
                  <c:v>0.79296066252588</c:v>
                </c:pt>
                <c:pt idx="1284">
                  <c:v>0.793388429752066</c:v>
                </c:pt>
                <c:pt idx="1285">
                  <c:v>0.793814432989691</c:v>
                </c:pt>
                <c:pt idx="1286">
                  <c:v>0.794238683127572</c:v>
                </c:pt>
                <c:pt idx="1287">
                  <c:v>0.794661190965093</c:v>
                </c:pt>
                <c:pt idx="1288">
                  <c:v>0.795081967213115</c:v>
                </c:pt>
                <c:pt idx="1289">
                  <c:v>0.795501022494888</c:v>
                </c:pt>
                <c:pt idx="1290">
                  <c:v>0.795918367346939</c:v>
                </c:pt>
                <c:pt idx="1291">
                  <c:v>0.796334012219959</c:v>
                </c:pt>
                <c:pt idx="1292">
                  <c:v>0.796747967479675</c:v>
                </c:pt>
                <c:pt idx="1293">
                  <c:v>0.797160243407708</c:v>
                </c:pt>
                <c:pt idx="1294">
                  <c:v>0.797570850202429</c:v>
                </c:pt>
                <c:pt idx="1295">
                  <c:v>0.797979797979798</c:v>
                </c:pt>
                <c:pt idx="1296">
                  <c:v>0.798387096774194</c:v>
                </c:pt>
                <c:pt idx="1297">
                  <c:v>0.798792756539235</c:v>
                </c:pt>
                <c:pt idx="1298">
                  <c:v>0.799196787148594</c:v>
                </c:pt>
                <c:pt idx="1299">
                  <c:v>0.799599198396794</c:v>
                </c:pt>
                <c:pt idx="1300">
                  <c:v>0.8</c:v>
                </c:pt>
                <c:pt idx="1301">
                  <c:v>0.800399201596806</c:v>
                </c:pt>
                <c:pt idx="1302">
                  <c:v>0.800796812749004</c:v>
                </c:pt>
                <c:pt idx="1303">
                  <c:v>0.801192842942346</c:v>
                </c:pt>
                <c:pt idx="1304">
                  <c:v>0.801587301587302</c:v>
                </c:pt>
                <c:pt idx="1305">
                  <c:v>0.801980198019802</c:v>
                </c:pt>
                <c:pt idx="1306">
                  <c:v>0.802371541501976</c:v>
                </c:pt>
                <c:pt idx="1307">
                  <c:v>0.80276134122288</c:v>
                </c:pt>
                <c:pt idx="1308">
                  <c:v>0.803149606299213</c:v>
                </c:pt>
                <c:pt idx="1309">
                  <c:v>0.803536345776031</c:v>
                </c:pt>
                <c:pt idx="1310">
                  <c:v>0.803921568627451</c:v>
                </c:pt>
                <c:pt idx="1311">
                  <c:v>0.804305283757339</c:v>
                </c:pt>
                <c:pt idx="1312">
                  <c:v>0.8046875</c:v>
                </c:pt>
                <c:pt idx="1313">
                  <c:v>0.805068226120858</c:v>
                </c:pt>
                <c:pt idx="1314">
                  <c:v>0.805447470817121</c:v>
                </c:pt>
                <c:pt idx="1315">
                  <c:v>0.805825242718447</c:v>
                </c:pt>
                <c:pt idx="1316">
                  <c:v>0.806201550387597</c:v>
                </c:pt>
                <c:pt idx="1317">
                  <c:v>0.806576402321083</c:v>
                </c:pt>
                <c:pt idx="1318">
                  <c:v>0.806949806949807</c:v>
                </c:pt>
                <c:pt idx="1319">
                  <c:v>0.807321772639692</c:v>
                </c:pt>
                <c:pt idx="1320">
                  <c:v>0.807692307692308</c:v>
                </c:pt>
                <c:pt idx="1321">
                  <c:v>0.808061420345489</c:v>
                </c:pt>
                <c:pt idx="1322">
                  <c:v>0.808429118773946</c:v>
                </c:pt>
                <c:pt idx="1323">
                  <c:v>0.808795411089866</c:v>
                </c:pt>
                <c:pt idx="1324">
                  <c:v>0.809160305343512</c:v>
                </c:pt>
                <c:pt idx="1325">
                  <c:v>0.80952380952381</c:v>
                </c:pt>
                <c:pt idx="1326">
                  <c:v>0.809885931558935</c:v>
                </c:pt>
                <c:pt idx="1327">
                  <c:v>0.810246679316888</c:v>
                </c:pt>
                <c:pt idx="1328">
                  <c:v>0.810606060606061</c:v>
                </c:pt>
                <c:pt idx="1329">
                  <c:v>0.810964083175804</c:v>
                </c:pt>
                <c:pt idx="1330">
                  <c:v>0.811320754716981</c:v>
                </c:pt>
                <c:pt idx="1331">
                  <c:v>0.811676082862524</c:v>
                </c:pt>
                <c:pt idx="1332">
                  <c:v>0.81203007518797</c:v>
                </c:pt>
                <c:pt idx="1333">
                  <c:v>0.812382739212008</c:v>
                </c:pt>
                <c:pt idx="1334">
                  <c:v>0.812734082397004</c:v>
                </c:pt>
                <c:pt idx="1335">
                  <c:v>0.813084112149533</c:v>
                </c:pt>
                <c:pt idx="1336">
                  <c:v>0.813432835820896</c:v>
                </c:pt>
                <c:pt idx="1337">
                  <c:v>0.813780260707635</c:v>
                </c:pt>
                <c:pt idx="1338">
                  <c:v>0.814126394052045</c:v>
                </c:pt>
                <c:pt idx="1339">
                  <c:v>0.814471243042672</c:v>
                </c:pt>
                <c:pt idx="1340">
                  <c:v>0.814814814814815</c:v>
                </c:pt>
                <c:pt idx="1341">
                  <c:v>0.815157116451017</c:v>
                </c:pt>
                <c:pt idx="1342">
                  <c:v>0.81549815498155</c:v>
                </c:pt>
                <c:pt idx="1343">
                  <c:v>0.815837937384899</c:v>
                </c:pt>
                <c:pt idx="1344">
                  <c:v>0.816176470588235</c:v>
                </c:pt>
                <c:pt idx="1345">
                  <c:v>0.81651376146789</c:v>
                </c:pt>
                <c:pt idx="1346">
                  <c:v>0.816849816849817</c:v>
                </c:pt>
                <c:pt idx="1347">
                  <c:v>0.817184643510055</c:v>
                </c:pt>
                <c:pt idx="1348">
                  <c:v>0.817518248175183</c:v>
                </c:pt>
                <c:pt idx="1349">
                  <c:v>0.817850637522769</c:v>
                </c:pt>
                <c:pt idx="1350">
                  <c:v>0.818181818181818</c:v>
                </c:pt>
                <c:pt idx="1351">
                  <c:v>0.818511796733212</c:v>
                </c:pt>
                <c:pt idx="1352">
                  <c:v>0.818840579710145</c:v>
                </c:pt>
                <c:pt idx="1353">
                  <c:v>0.819168173598553</c:v>
                </c:pt>
                <c:pt idx="1354">
                  <c:v>0.819494584837545</c:v>
                </c:pt>
                <c:pt idx="1355">
                  <c:v>0.81981981981982</c:v>
                </c:pt>
                <c:pt idx="1356">
                  <c:v>0.820143884892086</c:v>
                </c:pt>
                <c:pt idx="1357">
                  <c:v>0.820466786355476</c:v>
                </c:pt>
                <c:pt idx="1358">
                  <c:v>0.82078853046595</c:v>
                </c:pt>
                <c:pt idx="1359">
                  <c:v>0.821109123434705</c:v>
                </c:pt>
                <c:pt idx="1360">
                  <c:v>0.821428571428571</c:v>
                </c:pt>
                <c:pt idx="1361">
                  <c:v>0.82174688057041</c:v>
                </c:pt>
                <c:pt idx="1362">
                  <c:v>0.822064056939502</c:v>
                </c:pt>
                <c:pt idx="1363">
                  <c:v>0.822380106571936</c:v>
                </c:pt>
                <c:pt idx="1364">
                  <c:v>0.822695035460993</c:v>
                </c:pt>
                <c:pt idx="1365">
                  <c:v>0.823008849557522</c:v>
                </c:pt>
                <c:pt idx="1366">
                  <c:v>0.823321554770318</c:v>
                </c:pt>
                <c:pt idx="1367">
                  <c:v>0.82363315696649</c:v>
                </c:pt>
                <c:pt idx="1368">
                  <c:v>0.823943661971831</c:v>
                </c:pt>
                <c:pt idx="1369">
                  <c:v>0.824253075571177</c:v>
                </c:pt>
                <c:pt idx="1370">
                  <c:v>0.824561403508772</c:v>
                </c:pt>
                <c:pt idx="1371">
                  <c:v>0.824868651488616</c:v>
                </c:pt>
                <c:pt idx="1372">
                  <c:v>0.825174825174825</c:v>
                </c:pt>
                <c:pt idx="1373">
                  <c:v>0.825479930191972</c:v>
                </c:pt>
                <c:pt idx="1374">
                  <c:v>0.825783972125436</c:v>
                </c:pt>
                <c:pt idx="1375">
                  <c:v>0.826086956521739</c:v>
                </c:pt>
                <c:pt idx="1376">
                  <c:v>0.826388888888889</c:v>
                </c:pt>
                <c:pt idx="1377">
                  <c:v>0.826689774696707</c:v>
                </c:pt>
                <c:pt idx="1378">
                  <c:v>0.826989619377163</c:v>
                </c:pt>
                <c:pt idx="1379">
                  <c:v>0.827288428324698</c:v>
                </c:pt>
                <c:pt idx="1380">
                  <c:v>0.827586206896552</c:v>
                </c:pt>
                <c:pt idx="1381">
                  <c:v>0.827882960413081</c:v>
                </c:pt>
                <c:pt idx="1382">
                  <c:v>0.828178694158076</c:v>
                </c:pt>
                <c:pt idx="1383">
                  <c:v>0.828473413379074</c:v>
                </c:pt>
                <c:pt idx="1384">
                  <c:v>0.828767123287671</c:v>
                </c:pt>
                <c:pt idx="1385">
                  <c:v>0.829059829059829</c:v>
                </c:pt>
                <c:pt idx="1386">
                  <c:v>0.829351535836178</c:v>
                </c:pt>
                <c:pt idx="1387">
                  <c:v>0.829642248722317</c:v>
                </c:pt>
                <c:pt idx="1388">
                  <c:v>0.829931972789116</c:v>
                </c:pt>
                <c:pt idx="1389">
                  <c:v>0.830220713073005</c:v>
                </c:pt>
                <c:pt idx="1390">
                  <c:v>0.830508474576271</c:v>
                </c:pt>
                <c:pt idx="1391">
                  <c:v>0.830795262267344</c:v>
                </c:pt>
                <c:pt idx="1392">
                  <c:v>0.831081081081081</c:v>
                </c:pt>
                <c:pt idx="1393">
                  <c:v>0.831365935919056</c:v>
                </c:pt>
                <c:pt idx="1394">
                  <c:v>0.831649831649832</c:v>
                </c:pt>
                <c:pt idx="1395">
                  <c:v>0.831932773109244</c:v>
                </c:pt>
                <c:pt idx="1396">
                  <c:v>0.832214765100671</c:v>
                </c:pt>
                <c:pt idx="1397">
                  <c:v>0.83249581239531</c:v>
                </c:pt>
                <c:pt idx="1398">
                  <c:v>0.832775919732442</c:v>
                </c:pt>
                <c:pt idx="1399">
                  <c:v>0.8330550918197</c:v>
                </c:pt>
                <c:pt idx="1400">
                  <c:v>0.833333333333333</c:v>
                </c:pt>
                <c:pt idx="1401">
                  <c:v>0.833610648918469</c:v>
                </c:pt>
                <c:pt idx="1402">
                  <c:v>0.833887043189369</c:v>
                </c:pt>
                <c:pt idx="1403">
                  <c:v>0.834162520729685</c:v>
                </c:pt>
                <c:pt idx="1404">
                  <c:v>0.834437086092715</c:v>
                </c:pt>
                <c:pt idx="1405">
                  <c:v>0.834710743801653</c:v>
                </c:pt>
                <c:pt idx="1406">
                  <c:v>0.834983498349835</c:v>
                </c:pt>
                <c:pt idx="1407">
                  <c:v>0.835255354200989</c:v>
                </c:pt>
                <c:pt idx="1408">
                  <c:v>0.835526315789474</c:v>
                </c:pt>
                <c:pt idx="1409">
                  <c:v>0.835796387520525</c:v>
                </c:pt>
                <c:pt idx="1410">
                  <c:v>0.836065573770492</c:v>
                </c:pt>
                <c:pt idx="1411">
                  <c:v>0.83633387888707</c:v>
                </c:pt>
                <c:pt idx="1412">
                  <c:v>0.836601307189543</c:v>
                </c:pt>
                <c:pt idx="1413">
                  <c:v>0.836867862969005</c:v>
                </c:pt>
                <c:pt idx="1414">
                  <c:v>0.837133550488599</c:v>
                </c:pt>
                <c:pt idx="1415">
                  <c:v>0.83739837398374</c:v>
                </c:pt>
                <c:pt idx="1416">
                  <c:v>0.837662337662338</c:v>
                </c:pt>
                <c:pt idx="1417">
                  <c:v>0.837925445705024</c:v>
                </c:pt>
                <c:pt idx="1418">
                  <c:v>0.838187702265372</c:v>
                </c:pt>
                <c:pt idx="1419">
                  <c:v>0.838449111470113</c:v>
                </c:pt>
                <c:pt idx="1420">
                  <c:v>0.838709677419355</c:v>
                </c:pt>
                <c:pt idx="1421">
                  <c:v>0.838969404186796</c:v>
                </c:pt>
                <c:pt idx="1422">
                  <c:v>0.839228295819936</c:v>
                </c:pt>
                <c:pt idx="1423">
                  <c:v>0.839486356340289</c:v>
                </c:pt>
                <c:pt idx="1424">
                  <c:v>0.83974358974359</c:v>
                </c:pt>
                <c:pt idx="1425">
                  <c:v>0.84</c:v>
                </c:pt>
                <c:pt idx="1426">
                  <c:v>0.840255591054313</c:v>
                </c:pt>
                <c:pt idx="1427">
                  <c:v>0.840510366826156</c:v>
                </c:pt>
                <c:pt idx="1428">
                  <c:v>0.840764331210191</c:v>
                </c:pt>
                <c:pt idx="1429">
                  <c:v>0.841017488076312</c:v>
                </c:pt>
                <c:pt idx="1430">
                  <c:v>0.841269841269841</c:v>
                </c:pt>
                <c:pt idx="1431">
                  <c:v>0.841521394611728</c:v>
                </c:pt>
                <c:pt idx="1432">
                  <c:v>0.841772151898734</c:v>
                </c:pt>
                <c:pt idx="1433">
                  <c:v>0.842022116903634</c:v>
                </c:pt>
                <c:pt idx="1434">
                  <c:v>0.842271293375394</c:v>
                </c:pt>
                <c:pt idx="1435">
                  <c:v>0.84251968503937</c:v>
                </c:pt>
                <c:pt idx="1436">
                  <c:v>0.842767295597484</c:v>
                </c:pt>
                <c:pt idx="1437">
                  <c:v>0.843014128728414</c:v>
                </c:pt>
                <c:pt idx="1438">
                  <c:v>0.843260188087774</c:v>
                </c:pt>
                <c:pt idx="1439">
                  <c:v>0.843505477308294</c:v>
                </c:pt>
                <c:pt idx="1440">
                  <c:v>0.84375</c:v>
                </c:pt>
                <c:pt idx="1441">
                  <c:v>0.84399375975039</c:v>
                </c:pt>
                <c:pt idx="1442">
                  <c:v>0.844236760124611</c:v>
                </c:pt>
                <c:pt idx="1443">
                  <c:v>0.84447900466563</c:v>
                </c:pt>
                <c:pt idx="1444">
                  <c:v>0.84472049689441</c:v>
                </c:pt>
                <c:pt idx="1445">
                  <c:v>0.844961240310078</c:v>
                </c:pt>
                <c:pt idx="1446">
                  <c:v>0.845201238390093</c:v>
                </c:pt>
                <c:pt idx="1447">
                  <c:v>0.845440494590417</c:v>
                </c:pt>
                <c:pt idx="1448">
                  <c:v>0.845679012345679</c:v>
                </c:pt>
                <c:pt idx="1449">
                  <c:v>0.845916795069338</c:v>
                </c:pt>
                <c:pt idx="1450">
                  <c:v>0.846153846153846</c:v>
                </c:pt>
                <c:pt idx="1451">
                  <c:v>0.846390168970814</c:v>
                </c:pt>
                <c:pt idx="1452">
                  <c:v>0.846625766871166</c:v>
                </c:pt>
                <c:pt idx="1453">
                  <c:v>0.846860643185299</c:v>
                </c:pt>
                <c:pt idx="1454">
                  <c:v>0.847094801223242</c:v>
                </c:pt>
                <c:pt idx="1455">
                  <c:v>0.847328244274809</c:v>
                </c:pt>
                <c:pt idx="1456">
                  <c:v>0.847560975609756</c:v>
                </c:pt>
                <c:pt idx="1457">
                  <c:v>0.84779299847793</c:v>
                </c:pt>
                <c:pt idx="1458">
                  <c:v>0.848024316109423</c:v>
                </c:pt>
                <c:pt idx="1459">
                  <c:v>0.848254931714719</c:v>
                </c:pt>
                <c:pt idx="1460">
                  <c:v>0.848484848484849</c:v>
                </c:pt>
                <c:pt idx="1461">
                  <c:v>0.848714069591528</c:v>
                </c:pt>
                <c:pt idx="1462">
                  <c:v>0.848942598187311</c:v>
                </c:pt>
                <c:pt idx="1463">
                  <c:v>0.849170437405732</c:v>
                </c:pt>
                <c:pt idx="1464">
                  <c:v>0.849397590361446</c:v>
                </c:pt>
                <c:pt idx="1465">
                  <c:v>0.849624060150376</c:v>
                </c:pt>
                <c:pt idx="1466">
                  <c:v>0.84984984984985</c:v>
                </c:pt>
                <c:pt idx="1467">
                  <c:v>0.850074962518741</c:v>
                </c:pt>
                <c:pt idx="1468">
                  <c:v>0.850299401197605</c:v>
                </c:pt>
                <c:pt idx="1469">
                  <c:v>0.850523168908819</c:v>
                </c:pt>
                <c:pt idx="1470">
                  <c:v>0.850746268656716</c:v>
                </c:pt>
                <c:pt idx="1471">
                  <c:v>0.85096870342772</c:v>
                </c:pt>
                <c:pt idx="1472">
                  <c:v>0.851190476190476</c:v>
                </c:pt>
                <c:pt idx="1473">
                  <c:v>0.851411589895988</c:v>
                </c:pt>
                <c:pt idx="1474">
                  <c:v>0.851632047477745</c:v>
                </c:pt>
                <c:pt idx="1475">
                  <c:v>0.851851851851852</c:v>
                </c:pt>
                <c:pt idx="1476">
                  <c:v>0.85207100591716</c:v>
                </c:pt>
                <c:pt idx="1477">
                  <c:v>0.852289512555391</c:v>
                </c:pt>
                <c:pt idx="1478">
                  <c:v>0.852507374631269</c:v>
                </c:pt>
                <c:pt idx="1479">
                  <c:v>0.852724594992636</c:v>
                </c:pt>
                <c:pt idx="1480">
                  <c:v>0.852941176470588</c:v>
                </c:pt>
                <c:pt idx="1481">
                  <c:v>0.853157121879589</c:v>
                </c:pt>
                <c:pt idx="1482">
                  <c:v>0.853372434017595</c:v>
                </c:pt>
                <c:pt idx="1483">
                  <c:v>0.853587115666179</c:v>
                </c:pt>
                <c:pt idx="1484">
                  <c:v>0.853801169590643</c:v>
                </c:pt>
                <c:pt idx="1485">
                  <c:v>0.854014598540146</c:v>
                </c:pt>
                <c:pt idx="1486">
                  <c:v>0.854227405247813</c:v>
                </c:pt>
                <c:pt idx="1487">
                  <c:v>0.854439592430859</c:v>
                </c:pt>
                <c:pt idx="1488">
                  <c:v>0.854651162790698</c:v>
                </c:pt>
                <c:pt idx="1489">
                  <c:v>0.854862119013062</c:v>
                </c:pt>
                <c:pt idx="1490">
                  <c:v>0.855072463768116</c:v>
                </c:pt>
                <c:pt idx="1491">
                  <c:v>0.855282199710564</c:v>
                </c:pt>
                <c:pt idx="1492">
                  <c:v>0.855491329479769</c:v>
                </c:pt>
                <c:pt idx="1493">
                  <c:v>0.855699855699856</c:v>
                </c:pt>
                <c:pt idx="1494">
                  <c:v>0.855907780979827</c:v>
                </c:pt>
                <c:pt idx="1495">
                  <c:v>0.856115107913669</c:v>
                </c:pt>
                <c:pt idx="1496">
                  <c:v>0.85632183908046</c:v>
                </c:pt>
                <c:pt idx="1497">
                  <c:v>0.856527977044476</c:v>
                </c:pt>
                <c:pt idx="1498">
                  <c:v>0.856733524355301</c:v>
                </c:pt>
                <c:pt idx="1499">
                  <c:v>0.856938483547926</c:v>
                </c:pt>
                <c:pt idx="1500">
                  <c:v>0.857142857142857</c:v>
                </c:pt>
                <c:pt idx="1501">
                  <c:v>0.85734664764622</c:v>
                </c:pt>
                <c:pt idx="1502">
                  <c:v>0.857549857549858</c:v>
                </c:pt>
                <c:pt idx="1503">
                  <c:v>0.857752489331437</c:v>
                </c:pt>
                <c:pt idx="1504">
                  <c:v>0.857954545454546</c:v>
                </c:pt>
                <c:pt idx="1505">
                  <c:v>0.858156028368794</c:v>
                </c:pt>
                <c:pt idx="1506">
                  <c:v>0.858356940509915</c:v>
                </c:pt>
                <c:pt idx="1507">
                  <c:v>0.858557284299859</c:v>
                </c:pt>
                <c:pt idx="1508">
                  <c:v>0.858757062146893</c:v>
                </c:pt>
                <c:pt idx="1509">
                  <c:v>0.858956276445698</c:v>
                </c:pt>
                <c:pt idx="1510">
                  <c:v>0.859154929577465</c:v>
                </c:pt>
                <c:pt idx="1511">
                  <c:v>0.859353023909986</c:v>
                </c:pt>
                <c:pt idx="1512">
                  <c:v>0.859550561797753</c:v>
                </c:pt>
                <c:pt idx="1513">
                  <c:v>0.859747545582048</c:v>
                </c:pt>
                <c:pt idx="1514">
                  <c:v>0.859943977591037</c:v>
                </c:pt>
                <c:pt idx="1515">
                  <c:v>0.86013986013986</c:v>
                </c:pt>
                <c:pt idx="1516">
                  <c:v>0.860335195530726</c:v>
                </c:pt>
                <c:pt idx="1517">
                  <c:v>0.860529986052999</c:v>
                </c:pt>
                <c:pt idx="1518">
                  <c:v>0.860724233983287</c:v>
                </c:pt>
                <c:pt idx="1519">
                  <c:v>0.860917941585536</c:v>
                </c:pt>
                <c:pt idx="1520">
                  <c:v>0.861111111111111</c:v>
                </c:pt>
                <c:pt idx="1521">
                  <c:v>0.861303744798891</c:v>
                </c:pt>
                <c:pt idx="1522">
                  <c:v>0.861495844875346</c:v>
                </c:pt>
                <c:pt idx="1523">
                  <c:v>0.861687413554634</c:v>
                </c:pt>
                <c:pt idx="1524">
                  <c:v>0.861878453038674</c:v>
                </c:pt>
                <c:pt idx="1525">
                  <c:v>0.862068965517241</c:v>
                </c:pt>
                <c:pt idx="1526">
                  <c:v>0.862258953168044</c:v>
                </c:pt>
                <c:pt idx="1527">
                  <c:v>0.862448418156809</c:v>
                </c:pt>
                <c:pt idx="1528">
                  <c:v>0.862637362637363</c:v>
                </c:pt>
                <c:pt idx="1529">
                  <c:v>0.862825788751715</c:v>
                </c:pt>
                <c:pt idx="1530">
                  <c:v>0.863013698630137</c:v>
                </c:pt>
                <c:pt idx="1531">
                  <c:v>0.863201094391245</c:v>
                </c:pt>
                <c:pt idx="1532">
                  <c:v>0.863387978142077</c:v>
                </c:pt>
                <c:pt idx="1533">
                  <c:v>0.863574351978172</c:v>
                </c:pt>
                <c:pt idx="1534">
                  <c:v>0.863760217983651</c:v>
                </c:pt>
                <c:pt idx="1535">
                  <c:v>0.863945578231293</c:v>
                </c:pt>
                <c:pt idx="1536">
                  <c:v>0.864130434782609</c:v>
                </c:pt>
                <c:pt idx="1537">
                  <c:v>0.864314789687924</c:v>
                </c:pt>
                <c:pt idx="1538">
                  <c:v>0.86449864498645</c:v>
                </c:pt>
                <c:pt idx="1539">
                  <c:v>0.86468200270636</c:v>
                </c:pt>
                <c:pt idx="1540">
                  <c:v>0.864864864864865</c:v>
                </c:pt>
                <c:pt idx="1541">
                  <c:v>0.865047233468286</c:v>
                </c:pt>
                <c:pt idx="1542">
                  <c:v>0.865229110512129</c:v>
                </c:pt>
                <c:pt idx="1543">
                  <c:v>0.865410497981157</c:v>
                </c:pt>
                <c:pt idx="1544">
                  <c:v>0.865591397849462</c:v>
                </c:pt>
                <c:pt idx="1545">
                  <c:v>0.865771812080537</c:v>
                </c:pt>
                <c:pt idx="1546">
                  <c:v>0.865951742627346</c:v>
                </c:pt>
                <c:pt idx="1547">
                  <c:v>0.866131191432396</c:v>
                </c:pt>
                <c:pt idx="1548">
                  <c:v>0.866310160427808</c:v>
                </c:pt>
                <c:pt idx="1549">
                  <c:v>0.866488651535381</c:v>
                </c:pt>
                <c:pt idx="1550">
                  <c:v>0.866666666666667</c:v>
                </c:pt>
                <c:pt idx="1551">
                  <c:v>0.866844207723036</c:v>
                </c:pt>
                <c:pt idx="1552">
                  <c:v>0.867021276595745</c:v>
                </c:pt>
                <c:pt idx="1553">
                  <c:v>0.867197875166003</c:v>
                </c:pt>
                <c:pt idx="1554">
                  <c:v>0.86737400530504</c:v>
                </c:pt>
                <c:pt idx="1555">
                  <c:v>0.867549668874172</c:v>
                </c:pt>
                <c:pt idx="1556">
                  <c:v>0.867724867724868</c:v>
                </c:pt>
                <c:pt idx="1557">
                  <c:v>0.867899603698811</c:v>
                </c:pt>
                <c:pt idx="1558">
                  <c:v>0.868073878627968</c:v>
                </c:pt>
                <c:pt idx="1559">
                  <c:v>0.868247694334651</c:v>
                </c:pt>
                <c:pt idx="1560">
                  <c:v>0.868421052631579</c:v>
                </c:pt>
                <c:pt idx="1561">
                  <c:v>0.868593955321945</c:v>
                </c:pt>
                <c:pt idx="1562">
                  <c:v>0.868766404199475</c:v>
                </c:pt>
                <c:pt idx="1563">
                  <c:v>0.868938401048493</c:v>
                </c:pt>
                <c:pt idx="1564">
                  <c:v>0.869109947643979</c:v>
                </c:pt>
                <c:pt idx="1565">
                  <c:v>0.869281045751634</c:v>
                </c:pt>
                <c:pt idx="1566">
                  <c:v>0.869451697127937</c:v>
                </c:pt>
                <c:pt idx="1567">
                  <c:v>0.869621903520209</c:v>
                </c:pt>
                <c:pt idx="1568">
                  <c:v>0.869791666666667</c:v>
                </c:pt>
                <c:pt idx="1569">
                  <c:v>0.869960988296489</c:v>
                </c:pt>
                <c:pt idx="1570">
                  <c:v>0.87012987012987</c:v>
                </c:pt>
                <c:pt idx="1571">
                  <c:v>0.87029831387808</c:v>
                </c:pt>
                <c:pt idx="1572">
                  <c:v>0.870466321243523</c:v>
                </c:pt>
                <c:pt idx="1573">
                  <c:v>0.870633893919793</c:v>
                </c:pt>
                <c:pt idx="1574">
                  <c:v>0.870801033591731</c:v>
                </c:pt>
                <c:pt idx="1575">
                  <c:v>0.870967741935484</c:v>
                </c:pt>
                <c:pt idx="1576">
                  <c:v>0.871134020618557</c:v>
                </c:pt>
                <c:pt idx="1577">
                  <c:v>0.871299871299871</c:v>
                </c:pt>
                <c:pt idx="1578">
                  <c:v>0.87146529562982</c:v>
                </c:pt>
                <c:pt idx="1579">
                  <c:v>0.871630295250321</c:v>
                </c:pt>
                <c:pt idx="1580">
                  <c:v>0.871794871794872</c:v>
                </c:pt>
                <c:pt idx="1581">
                  <c:v>0.871959026888604</c:v>
                </c:pt>
                <c:pt idx="1582">
                  <c:v>0.872122762148338</c:v>
                </c:pt>
                <c:pt idx="1583">
                  <c:v>0.872286079182631</c:v>
                </c:pt>
                <c:pt idx="1584">
                  <c:v>0.872448979591837</c:v>
                </c:pt>
                <c:pt idx="1585">
                  <c:v>0.872611464968153</c:v>
                </c:pt>
                <c:pt idx="1586">
                  <c:v>0.872773536895674</c:v>
                </c:pt>
                <c:pt idx="1587">
                  <c:v>0.872935196950445</c:v>
                </c:pt>
                <c:pt idx="1588">
                  <c:v>0.873096446700508</c:v>
                </c:pt>
                <c:pt idx="1589">
                  <c:v>0.873257287705957</c:v>
                </c:pt>
                <c:pt idx="1590">
                  <c:v>0.873417721518987</c:v>
                </c:pt>
                <c:pt idx="1591">
                  <c:v>0.873577749683944</c:v>
                </c:pt>
                <c:pt idx="1592">
                  <c:v>0.873737373737374</c:v>
                </c:pt>
                <c:pt idx="1593">
                  <c:v>0.873896595208071</c:v>
                </c:pt>
                <c:pt idx="1594">
                  <c:v>0.874055415617128</c:v>
                </c:pt>
                <c:pt idx="1595">
                  <c:v>0.874213836477987</c:v>
                </c:pt>
                <c:pt idx="1596">
                  <c:v>0.874371859296482</c:v>
                </c:pt>
                <c:pt idx="1597">
                  <c:v>0.874529485570891</c:v>
                </c:pt>
                <c:pt idx="1598">
                  <c:v>0.87468671679198</c:v>
                </c:pt>
                <c:pt idx="1599">
                  <c:v>0.874843554443054</c:v>
                </c:pt>
                <c:pt idx="1600">
                  <c:v>0.875</c:v>
                </c:pt>
                <c:pt idx="1601">
                  <c:v>0.875156054931336</c:v>
                </c:pt>
                <c:pt idx="1602">
                  <c:v>0.875311720698254</c:v>
                </c:pt>
                <c:pt idx="1603">
                  <c:v>0.87546699875467</c:v>
                </c:pt>
                <c:pt idx="1604">
                  <c:v>0.875621890547264</c:v>
                </c:pt>
                <c:pt idx="1605">
                  <c:v>0.875776397515528</c:v>
                </c:pt>
                <c:pt idx="1606">
                  <c:v>0.875930521091811</c:v>
                </c:pt>
                <c:pt idx="1607">
                  <c:v>0.876084262701363</c:v>
                </c:pt>
                <c:pt idx="1608">
                  <c:v>0.876237623762376</c:v>
                </c:pt>
                <c:pt idx="1609">
                  <c:v>0.876390605686032</c:v>
                </c:pt>
                <c:pt idx="1610">
                  <c:v>0.876543209876543</c:v>
                </c:pt>
                <c:pt idx="1611">
                  <c:v>0.876695437731196</c:v>
                </c:pt>
                <c:pt idx="1612">
                  <c:v>0.876847290640394</c:v>
                </c:pt>
                <c:pt idx="1613">
                  <c:v>0.8769987699877</c:v>
                </c:pt>
                <c:pt idx="1614">
                  <c:v>0.877149877149877</c:v>
                </c:pt>
                <c:pt idx="1615">
                  <c:v>0.877300613496932</c:v>
                </c:pt>
                <c:pt idx="1616">
                  <c:v>0.877450980392157</c:v>
                </c:pt>
                <c:pt idx="1617">
                  <c:v>0.877600979192167</c:v>
                </c:pt>
                <c:pt idx="1618">
                  <c:v>0.877750611246944</c:v>
                </c:pt>
                <c:pt idx="1619">
                  <c:v>0.877899877899878</c:v>
                </c:pt>
                <c:pt idx="1620">
                  <c:v>0.878048780487805</c:v>
                </c:pt>
                <c:pt idx="1621">
                  <c:v>0.878197320341048</c:v>
                </c:pt>
                <c:pt idx="1622">
                  <c:v>0.878345498783455</c:v>
                </c:pt>
                <c:pt idx="1623">
                  <c:v>0.878493317132442</c:v>
                </c:pt>
                <c:pt idx="1624">
                  <c:v>0.878640776699029</c:v>
                </c:pt>
                <c:pt idx="1625">
                  <c:v>0.878787878787879</c:v>
                </c:pt>
                <c:pt idx="1626">
                  <c:v>0.878934624697337</c:v>
                </c:pt>
                <c:pt idx="1627">
                  <c:v>0.879081015719468</c:v>
                </c:pt>
                <c:pt idx="1628">
                  <c:v>0.879227053140097</c:v>
                </c:pt>
                <c:pt idx="1629">
                  <c:v>0.879372738238842</c:v>
                </c:pt>
                <c:pt idx="1630">
                  <c:v>0.879518072289157</c:v>
                </c:pt>
                <c:pt idx="1631">
                  <c:v>0.879663056558363</c:v>
                </c:pt>
                <c:pt idx="1632">
                  <c:v>0.879807692307692</c:v>
                </c:pt>
                <c:pt idx="1633">
                  <c:v>0.879951980792317</c:v>
                </c:pt>
                <c:pt idx="1634">
                  <c:v>0.880095923261391</c:v>
                </c:pt>
                <c:pt idx="1635">
                  <c:v>0.880239520958084</c:v>
                </c:pt>
                <c:pt idx="1636">
                  <c:v>0.880382775119617</c:v>
                </c:pt>
                <c:pt idx="1637">
                  <c:v>0.8805256869773</c:v>
                </c:pt>
                <c:pt idx="1638">
                  <c:v>0.880668257756563</c:v>
                </c:pt>
                <c:pt idx="1639">
                  <c:v>0.880810488676996</c:v>
                </c:pt>
                <c:pt idx="1640">
                  <c:v>0.880952380952381</c:v>
                </c:pt>
                <c:pt idx="1641">
                  <c:v>0.881093935790725</c:v>
                </c:pt>
                <c:pt idx="1642">
                  <c:v>0.881235154394299</c:v>
                </c:pt>
                <c:pt idx="1643">
                  <c:v>0.881376037959668</c:v>
                </c:pt>
                <c:pt idx="1644">
                  <c:v>0.881516587677725</c:v>
                </c:pt>
                <c:pt idx="1645">
                  <c:v>0.881656804733728</c:v>
                </c:pt>
                <c:pt idx="1646">
                  <c:v>0.881796690307329</c:v>
                </c:pt>
                <c:pt idx="1647">
                  <c:v>0.881936245572609</c:v>
                </c:pt>
                <c:pt idx="1648">
                  <c:v>0.882075471698113</c:v>
                </c:pt>
                <c:pt idx="1649">
                  <c:v>0.882214369846879</c:v>
                </c:pt>
                <c:pt idx="1650">
                  <c:v>0.882352941176471</c:v>
                </c:pt>
                <c:pt idx="1651">
                  <c:v>0.882491186839013</c:v>
                </c:pt>
                <c:pt idx="1652">
                  <c:v>0.882629107981221</c:v>
                </c:pt>
                <c:pt idx="1653">
                  <c:v>0.882766705744431</c:v>
                </c:pt>
                <c:pt idx="1654">
                  <c:v>0.882903981264637</c:v>
                </c:pt>
                <c:pt idx="1655">
                  <c:v>0.883040935672515</c:v>
                </c:pt>
                <c:pt idx="1656">
                  <c:v>0.883177570093458</c:v>
                </c:pt>
                <c:pt idx="1657">
                  <c:v>0.883313885647608</c:v>
                </c:pt>
                <c:pt idx="1658">
                  <c:v>0.883449883449884</c:v>
                </c:pt>
                <c:pt idx="1659">
                  <c:v>0.883585564610012</c:v>
                </c:pt>
                <c:pt idx="1660">
                  <c:v>0.883720930232558</c:v>
                </c:pt>
                <c:pt idx="1661">
                  <c:v>0.883855981416957</c:v>
                </c:pt>
                <c:pt idx="1662">
                  <c:v>0.883990719257541</c:v>
                </c:pt>
                <c:pt idx="1663">
                  <c:v>0.884125144843569</c:v>
                </c:pt>
                <c:pt idx="1664">
                  <c:v>0.884259259259259</c:v>
                </c:pt>
                <c:pt idx="1665">
                  <c:v>0.884393063583815</c:v>
                </c:pt>
                <c:pt idx="1666">
                  <c:v>0.884526558891455</c:v>
                </c:pt>
                <c:pt idx="1667">
                  <c:v>0.884659746251442</c:v>
                </c:pt>
                <c:pt idx="1668">
                  <c:v>0.884792626728111</c:v>
                </c:pt>
                <c:pt idx="1669">
                  <c:v>0.884925201380898</c:v>
                </c:pt>
                <c:pt idx="1670">
                  <c:v>0.885057471264368</c:v>
                </c:pt>
                <c:pt idx="1671">
                  <c:v>0.885189437428243</c:v>
                </c:pt>
                <c:pt idx="1672">
                  <c:v>0.885321100917431</c:v>
                </c:pt>
                <c:pt idx="1673">
                  <c:v>0.88545246277205</c:v>
                </c:pt>
                <c:pt idx="1674">
                  <c:v>0.88558352402746</c:v>
                </c:pt>
                <c:pt idx="1675">
                  <c:v>0.885714285714286</c:v>
                </c:pt>
                <c:pt idx="1676">
                  <c:v>0.885844748858448</c:v>
                </c:pt>
                <c:pt idx="1677">
                  <c:v>0.885974914481186</c:v>
                </c:pt>
                <c:pt idx="1678">
                  <c:v>0.886104783599089</c:v>
                </c:pt>
                <c:pt idx="1679">
                  <c:v>0.886234357224118</c:v>
                </c:pt>
                <c:pt idx="1680">
                  <c:v>0.886363636363636</c:v>
                </c:pt>
                <c:pt idx="1681">
                  <c:v>0.886492622020431</c:v>
                </c:pt>
                <c:pt idx="1682">
                  <c:v>0.886621315192744</c:v>
                </c:pt>
                <c:pt idx="1683">
                  <c:v>0.886749716874292</c:v>
                </c:pt>
                <c:pt idx="1684">
                  <c:v>0.886877828054299</c:v>
                </c:pt>
                <c:pt idx="1685">
                  <c:v>0.887005649717514</c:v>
                </c:pt>
                <c:pt idx="1686">
                  <c:v>0.887133182844244</c:v>
                </c:pt>
                <c:pt idx="1687">
                  <c:v>0.887260428410372</c:v>
                </c:pt>
                <c:pt idx="1688">
                  <c:v>0.887387387387387</c:v>
                </c:pt>
                <c:pt idx="1689">
                  <c:v>0.887514060742407</c:v>
                </c:pt>
                <c:pt idx="1690">
                  <c:v>0.887640449438202</c:v>
                </c:pt>
                <c:pt idx="1691">
                  <c:v>0.887766554433221</c:v>
                </c:pt>
                <c:pt idx="1692">
                  <c:v>0.887892376681614</c:v>
                </c:pt>
                <c:pt idx="1693">
                  <c:v>0.888017917133259</c:v>
                </c:pt>
                <c:pt idx="1694">
                  <c:v>0.888143176733781</c:v>
                </c:pt>
                <c:pt idx="1695">
                  <c:v>0.888268156424581</c:v>
                </c:pt>
                <c:pt idx="1696">
                  <c:v>0.888392857142857</c:v>
                </c:pt>
                <c:pt idx="1697">
                  <c:v>0.888517279821628</c:v>
                </c:pt>
                <c:pt idx="1698">
                  <c:v>0.888641425389755</c:v>
                </c:pt>
                <c:pt idx="1699">
                  <c:v>0.888765294771969</c:v>
                </c:pt>
                <c:pt idx="1700">
                  <c:v>0.888888888888889</c:v>
                </c:pt>
                <c:pt idx="1701">
                  <c:v>0.889012208657048</c:v>
                </c:pt>
                <c:pt idx="1702">
                  <c:v>0.889135254988914</c:v>
                </c:pt>
                <c:pt idx="1703">
                  <c:v>0.889258028792913</c:v>
                </c:pt>
                <c:pt idx="1704">
                  <c:v>0.889380530973451</c:v>
                </c:pt>
                <c:pt idx="1705">
                  <c:v>0.889502762430939</c:v>
                </c:pt>
                <c:pt idx="1706">
                  <c:v>0.88962472406181</c:v>
                </c:pt>
                <c:pt idx="1707">
                  <c:v>0.889746416758545</c:v>
                </c:pt>
                <c:pt idx="1708">
                  <c:v>0.889867841409692</c:v>
                </c:pt>
                <c:pt idx="1709">
                  <c:v>0.88998899889989</c:v>
                </c:pt>
                <c:pt idx="1710">
                  <c:v>0.89010989010989</c:v>
                </c:pt>
                <c:pt idx="1711">
                  <c:v>0.890230515916575</c:v>
                </c:pt>
                <c:pt idx="1712">
                  <c:v>0.890350877192982</c:v>
                </c:pt>
                <c:pt idx="1713">
                  <c:v>0.890470974808324</c:v>
                </c:pt>
                <c:pt idx="1714">
                  <c:v>0.890590809628009</c:v>
                </c:pt>
                <c:pt idx="1715">
                  <c:v>0.890710382513661</c:v>
                </c:pt>
                <c:pt idx="1716">
                  <c:v>0.890829694323144</c:v>
                </c:pt>
                <c:pt idx="1717">
                  <c:v>0.890948745910578</c:v>
                </c:pt>
                <c:pt idx="1718">
                  <c:v>0.891067538126362</c:v>
                </c:pt>
                <c:pt idx="1719">
                  <c:v>0.891186071817193</c:v>
                </c:pt>
                <c:pt idx="1720">
                  <c:v>0.891304347826087</c:v>
                </c:pt>
                <c:pt idx="1721">
                  <c:v>0.8914223669924</c:v>
                </c:pt>
                <c:pt idx="1722">
                  <c:v>0.891540130151844</c:v>
                </c:pt>
                <c:pt idx="1723">
                  <c:v>0.891657638136511</c:v>
                </c:pt>
                <c:pt idx="1724">
                  <c:v>0.891774891774892</c:v>
                </c:pt>
                <c:pt idx="1725">
                  <c:v>0.891891891891892</c:v>
                </c:pt>
                <c:pt idx="1726">
                  <c:v>0.892008639308855</c:v>
                </c:pt>
                <c:pt idx="1727">
                  <c:v>0.892125134843582</c:v>
                </c:pt>
                <c:pt idx="1728">
                  <c:v>0.892241379310345</c:v>
                </c:pt>
                <c:pt idx="1729">
                  <c:v>0.892357373519914</c:v>
                </c:pt>
                <c:pt idx="1730">
                  <c:v>0.89247311827957</c:v>
                </c:pt>
                <c:pt idx="1731">
                  <c:v>0.892588614393126</c:v>
                </c:pt>
                <c:pt idx="1732">
                  <c:v>0.892703862660944</c:v>
                </c:pt>
                <c:pt idx="1733">
                  <c:v>0.892818863879957</c:v>
                </c:pt>
                <c:pt idx="1734">
                  <c:v>0.892933618843683</c:v>
                </c:pt>
                <c:pt idx="1735">
                  <c:v>0.893048128342246</c:v>
                </c:pt>
                <c:pt idx="1736">
                  <c:v>0.893162393162393</c:v>
                </c:pt>
                <c:pt idx="1737">
                  <c:v>0.893276414087513</c:v>
                </c:pt>
                <c:pt idx="1738">
                  <c:v>0.893390191897655</c:v>
                </c:pt>
                <c:pt idx="1739">
                  <c:v>0.893503727369542</c:v>
                </c:pt>
                <c:pt idx="1740">
                  <c:v>0.893617021276596</c:v>
                </c:pt>
                <c:pt idx="1741">
                  <c:v>0.893730074388948</c:v>
                </c:pt>
                <c:pt idx="1742">
                  <c:v>0.893842887473461</c:v>
                </c:pt>
                <c:pt idx="1743">
                  <c:v>0.893955461293743</c:v>
                </c:pt>
                <c:pt idx="1744">
                  <c:v>0.89406779661017</c:v>
                </c:pt>
                <c:pt idx="1745">
                  <c:v>0.894179894179894</c:v>
                </c:pt>
                <c:pt idx="1746">
                  <c:v>0.894291754756871</c:v>
                </c:pt>
                <c:pt idx="1747">
                  <c:v>0.894403379091869</c:v>
                </c:pt>
                <c:pt idx="1748">
                  <c:v>0.894514767932489</c:v>
                </c:pt>
                <c:pt idx="1749">
                  <c:v>0.894625922023182</c:v>
                </c:pt>
                <c:pt idx="1750">
                  <c:v>0.894736842105263</c:v>
                </c:pt>
                <c:pt idx="1751">
                  <c:v>0.89484752891693</c:v>
                </c:pt>
                <c:pt idx="1752">
                  <c:v>0.894957983193277</c:v>
                </c:pt>
                <c:pt idx="1753">
                  <c:v>0.895068205666317</c:v>
                </c:pt>
                <c:pt idx="1754">
                  <c:v>0.89517819706499</c:v>
                </c:pt>
                <c:pt idx="1755">
                  <c:v>0.895287958115183</c:v>
                </c:pt>
                <c:pt idx="1756">
                  <c:v>0.895397489539749</c:v>
                </c:pt>
                <c:pt idx="1757">
                  <c:v>0.895506792058516</c:v>
                </c:pt>
                <c:pt idx="1758">
                  <c:v>0.895615866388309</c:v>
                </c:pt>
                <c:pt idx="1759">
                  <c:v>0.895724713242961</c:v>
                </c:pt>
                <c:pt idx="1760">
                  <c:v>0.895833333333333</c:v>
                </c:pt>
                <c:pt idx="1761">
                  <c:v>0.895941727367326</c:v>
                </c:pt>
                <c:pt idx="1762">
                  <c:v>0.896049896049896</c:v>
                </c:pt>
                <c:pt idx="1763">
                  <c:v>0.896157840083074</c:v>
                </c:pt>
                <c:pt idx="1764">
                  <c:v>0.896265560165975</c:v>
                </c:pt>
                <c:pt idx="1765">
                  <c:v>0.896373056994819</c:v>
                </c:pt>
                <c:pt idx="1766">
                  <c:v>0.89648033126294</c:v>
                </c:pt>
                <c:pt idx="1767">
                  <c:v>0.896587383660807</c:v>
                </c:pt>
                <c:pt idx="1768">
                  <c:v>0.896694214876033</c:v>
                </c:pt>
                <c:pt idx="1769">
                  <c:v>0.896800825593395</c:v>
                </c:pt>
                <c:pt idx="1770">
                  <c:v>0.896907216494845</c:v>
                </c:pt>
                <c:pt idx="1771">
                  <c:v>0.897013388259526</c:v>
                </c:pt>
                <c:pt idx="1772">
                  <c:v>0.897119341563786</c:v>
                </c:pt>
                <c:pt idx="1773">
                  <c:v>0.897225077081192</c:v>
                </c:pt>
                <c:pt idx="1774">
                  <c:v>0.897330595482546</c:v>
                </c:pt>
                <c:pt idx="1775">
                  <c:v>0.897435897435898</c:v>
                </c:pt>
                <c:pt idx="1776">
                  <c:v>0.897540983606557</c:v>
                </c:pt>
                <c:pt idx="1777">
                  <c:v>0.897645854657114</c:v>
                </c:pt>
                <c:pt idx="1778">
                  <c:v>0.897750511247444</c:v>
                </c:pt>
                <c:pt idx="1779">
                  <c:v>0.897854954034729</c:v>
                </c:pt>
                <c:pt idx="1780">
                  <c:v>0.897959183673469</c:v>
                </c:pt>
                <c:pt idx="1781">
                  <c:v>0.898063200815494</c:v>
                </c:pt>
                <c:pt idx="1782">
                  <c:v>0.89816700610998</c:v>
                </c:pt>
                <c:pt idx="1783">
                  <c:v>0.898270600203459</c:v>
                </c:pt>
                <c:pt idx="1784">
                  <c:v>0.898373983739837</c:v>
                </c:pt>
                <c:pt idx="1785">
                  <c:v>0.898477157360406</c:v>
                </c:pt>
                <c:pt idx="1786">
                  <c:v>0.898580121703854</c:v>
                </c:pt>
                <c:pt idx="1787">
                  <c:v>0.898682877406282</c:v>
                </c:pt>
                <c:pt idx="1788">
                  <c:v>0.898785425101215</c:v>
                </c:pt>
                <c:pt idx="1789">
                  <c:v>0.898887765419616</c:v>
                </c:pt>
                <c:pt idx="1790">
                  <c:v>0.898989898989899</c:v>
                </c:pt>
                <c:pt idx="1791">
                  <c:v>0.899091826437942</c:v>
                </c:pt>
                <c:pt idx="1792">
                  <c:v>0.899193548387097</c:v>
                </c:pt>
                <c:pt idx="1793">
                  <c:v>0.899295065458208</c:v>
                </c:pt>
                <c:pt idx="1794">
                  <c:v>0.899396378269618</c:v>
                </c:pt>
                <c:pt idx="1795">
                  <c:v>0.899497487437186</c:v>
                </c:pt>
                <c:pt idx="1796">
                  <c:v>0.899598393574297</c:v>
                </c:pt>
                <c:pt idx="1797">
                  <c:v>0.899699097291876</c:v>
                </c:pt>
                <c:pt idx="1798">
                  <c:v>0.899799599198397</c:v>
                </c:pt>
                <c:pt idx="1799">
                  <c:v>0.8998998998999</c:v>
                </c:pt>
                <c:pt idx="1800">
                  <c:v>0.9</c:v>
                </c:pt>
                <c:pt idx="1801">
                  <c:v>0.9000999000999</c:v>
                </c:pt>
                <c:pt idx="1802">
                  <c:v>0.900199600798403</c:v>
                </c:pt>
                <c:pt idx="1803">
                  <c:v>0.900299102691924</c:v>
                </c:pt>
                <c:pt idx="1804">
                  <c:v>0.900398406374502</c:v>
                </c:pt>
                <c:pt idx="1805">
                  <c:v>0.900497512437811</c:v>
                </c:pt>
                <c:pt idx="1806">
                  <c:v>0.900596421471173</c:v>
                </c:pt>
                <c:pt idx="1807">
                  <c:v>0.900695134061569</c:v>
                </c:pt>
                <c:pt idx="1808">
                  <c:v>0.900793650793651</c:v>
                </c:pt>
                <c:pt idx="1809">
                  <c:v>0.900891972249752</c:v>
                </c:pt>
                <c:pt idx="1810">
                  <c:v>0.900990099009901</c:v>
                </c:pt>
                <c:pt idx="1811">
                  <c:v>0.90108803165183</c:v>
                </c:pt>
                <c:pt idx="1812">
                  <c:v>0.901185770750988</c:v>
                </c:pt>
                <c:pt idx="1813">
                  <c:v>0.901283316880553</c:v>
                </c:pt>
                <c:pt idx="1814">
                  <c:v>0.90138067061144</c:v>
                </c:pt>
                <c:pt idx="1815">
                  <c:v>0.901477832512315</c:v>
                </c:pt>
                <c:pt idx="1816">
                  <c:v>0.901574803149606</c:v>
                </c:pt>
                <c:pt idx="1817">
                  <c:v>0.901671583087512</c:v>
                </c:pt>
                <c:pt idx="1818">
                  <c:v>0.901768172888016</c:v>
                </c:pt>
                <c:pt idx="1819">
                  <c:v>0.901864573110893</c:v>
                </c:pt>
                <c:pt idx="1820">
                  <c:v>0.901960784313726</c:v>
                </c:pt>
                <c:pt idx="1821">
                  <c:v>0.90205680705191</c:v>
                </c:pt>
                <c:pt idx="1822">
                  <c:v>0.902152641878669</c:v>
                </c:pt>
                <c:pt idx="1823">
                  <c:v>0.902248289345064</c:v>
                </c:pt>
                <c:pt idx="1824">
                  <c:v>0.90234375</c:v>
                </c:pt>
                <c:pt idx="1825">
                  <c:v>0.902439024390244</c:v>
                </c:pt>
                <c:pt idx="1826">
                  <c:v>0.902534113060429</c:v>
                </c:pt>
                <c:pt idx="1827">
                  <c:v>0.902629016553067</c:v>
                </c:pt>
                <c:pt idx="1828">
                  <c:v>0.90272373540856</c:v>
                </c:pt>
                <c:pt idx="1829">
                  <c:v>0.902818270165209</c:v>
                </c:pt>
                <c:pt idx="1830">
                  <c:v>0.902912621359223</c:v>
                </c:pt>
                <c:pt idx="1831">
                  <c:v>0.903006789524733</c:v>
                </c:pt>
                <c:pt idx="1832">
                  <c:v>0.903100775193799</c:v>
                </c:pt>
                <c:pt idx="1833">
                  <c:v>0.903194578896418</c:v>
                </c:pt>
                <c:pt idx="1834">
                  <c:v>0.903288201160542</c:v>
                </c:pt>
                <c:pt idx="1835">
                  <c:v>0.903381642512077</c:v>
                </c:pt>
                <c:pt idx="1836">
                  <c:v>0.903474903474903</c:v>
                </c:pt>
                <c:pt idx="1837">
                  <c:v>0.903567984570878</c:v>
                </c:pt>
                <c:pt idx="1838">
                  <c:v>0.903660886319846</c:v>
                </c:pt>
                <c:pt idx="1839">
                  <c:v>0.903753609239654</c:v>
                </c:pt>
                <c:pt idx="1840">
                  <c:v>0.903846153846154</c:v>
                </c:pt>
                <c:pt idx="1841">
                  <c:v>0.903938520653218</c:v>
                </c:pt>
                <c:pt idx="1842">
                  <c:v>0.904030710172745</c:v>
                </c:pt>
                <c:pt idx="1843">
                  <c:v>0.904122722914669</c:v>
                </c:pt>
                <c:pt idx="1844">
                  <c:v>0.904214559386973</c:v>
                </c:pt>
                <c:pt idx="1845">
                  <c:v>0.904306220095694</c:v>
                </c:pt>
                <c:pt idx="1846">
                  <c:v>0.904397705544933</c:v>
                </c:pt>
                <c:pt idx="1847">
                  <c:v>0.904489016236867</c:v>
                </c:pt>
                <c:pt idx="1848">
                  <c:v>0.904580152671756</c:v>
                </c:pt>
                <c:pt idx="1849">
                  <c:v>0.90467111534795</c:v>
                </c:pt>
                <c:pt idx="1850">
                  <c:v>0.904761904761905</c:v>
                </c:pt>
                <c:pt idx="1851">
                  <c:v>0.904852521408183</c:v>
                </c:pt>
                <c:pt idx="1852">
                  <c:v>0.904942965779468</c:v>
                </c:pt>
                <c:pt idx="1853">
                  <c:v>0.905033238366572</c:v>
                </c:pt>
                <c:pt idx="1854">
                  <c:v>0.905123339658444</c:v>
                </c:pt>
                <c:pt idx="1855">
                  <c:v>0.90521327014218</c:v>
                </c:pt>
                <c:pt idx="1856">
                  <c:v>0.90530303030303</c:v>
                </c:pt>
                <c:pt idx="1857">
                  <c:v>0.905392620624409</c:v>
                </c:pt>
                <c:pt idx="1858">
                  <c:v>0.905482041587902</c:v>
                </c:pt>
                <c:pt idx="1859">
                  <c:v>0.905571293673277</c:v>
                </c:pt>
                <c:pt idx="1860">
                  <c:v>0.905660377358491</c:v>
                </c:pt>
                <c:pt idx="1861">
                  <c:v>0.905749293119698</c:v>
                </c:pt>
                <c:pt idx="1862">
                  <c:v>0.905838041431262</c:v>
                </c:pt>
                <c:pt idx="1863">
                  <c:v>0.905926622765757</c:v>
                </c:pt>
                <c:pt idx="1864">
                  <c:v>0.906015037593985</c:v>
                </c:pt>
                <c:pt idx="1865">
                  <c:v>0.906103286384977</c:v>
                </c:pt>
                <c:pt idx="1866">
                  <c:v>0.906191369606004</c:v>
                </c:pt>
                <c:pt idx="1867">
                  <c:v>0.906279287722587</c:v>
                </c:pt>
                <c:pt idx="1868">
                  <c:v>0.906367041198502</c:v>
                </c:pt>
                <c:pt idx="1869">
                  <c:v>0.90645463049579</c:v>
                </c:pt>
                <c:pt idx="1870">
                  <c:v>0.906542056074766</c:v>
                </c:pt>
                <c:pt idx="1871">
                  <c:v>0.906629318394024</c:v>
                </c:pt>
                <c:pt idx="1872">
                  <c:v>0.906716417910448</c:v>
                </c:pt>
                <c:pt idx="1873">
                  <c:v>0.906803355079217</c:v>
                </c:pt>
                <c:pt idx="1874">
                  <c:v>0.906890130353818</c:v>
                </c:pt>
                <c:pt idx="1875">
                  <c:v>0.906976744186047</c:v>
                </c:pt>
                <c:pt idx="1876">
                  <c:v>0.907063197026022</c:v>
                </c:pt>
                <c:pt idx="1877">
                  <c:v>0.907149489322191</c:v>
                </c:pt>
                <c:pt idx="1878">
                  <c:v>0.907235621521336</c:v>
                </c:pt>
                <c:pt idx="1879">
                  <c:v>0.907321594068582</c:v>
                </c:pt>
                <c:pt idx="1880">
                  <c:v>0.907407407407407</c:v>
                </c:pt>
                <c:pt idx="1881">
                  <c:v>0.907493061979648</c:v>
                </c:pt>
                <c:pt idx="1882">
                  <c:v>0.907578558225508</c:v>
                </c:pt>
                <c:pt idx="1883">
                  <c:v>0.907663896583564</c:v>
                </c:pt>
                <c:pt idx="1884">
                  <c:v>0.907749077490775</c:v>
                </c:pt>
                <c:pt idx="1885">
                  <c:v>0.907834101382489</c:v>
                </c:pt>
                <c:pt idx="1886">
                  <c:v>0.907918968692449</c:v>
                </c:pt>
                <c:pt idx="1887">
                  <c:v>0.908003679852806</c:v>
                </c:pt>
                <c:pt idx="1888">
                  <c:v>0.908088235294118</c:v>
                </c:pt>
                <c:pt idx="1889">
                  <c:v>0.908172635445363</c:v>
                </c:pt>
                <c:pt idx="1890">
                  <c:v>0.908256880733945</c:v>
                </c:pt>
                <c:pt idx="1891">
                  <c:v>0.908340971585701</c:v>
                </c:pt>
                <c:pt idx="1892">
                  <c:v>0.908424908424908</c:v>
                </c:pt>
                <c:pt idx="1893">
                  <c:v>0.908508691674291</c:v>
                </c:pt>
                <c:pt idx="1894">
                  <c:v>0.908592321755028</c:v>
                </c:pt>
                <c:pt idx="1895">
                  <c:v>0.908675799086758</c:v>
                </c:pt>
                <c:pt idx="1896">
                  <c:v>0.908759124087591</c:v>
                </c:pt>
                <c:pt idx="1897">
                  <c:v>0.908842297174111</c:v>
                </c:pt>
                <c:pt idx="1898">
                  <c:v>0.908925318761384</c:v>
                </c:pt>
                <c:pt idx="1899">
                  <c:v>0.909008189262966</c:v>
                </c:pt>
                <c:pt idx="1900">
                  <c:v>0.909090909090909</c:v>
                </c:pt>
                <c:pt idx="1901">
                  <c:v>0.909173478655768</c:v>
                </c:pt>
                <c:pt idx="1902">
                  <c:v>0.909255898366606</c:v>
                </c:pt>
                <c:pt idx="1903">
                  <c:v>0.909338168631006</c:v>
                </c:pt>
                <c:pt idx="1904">
                  <c:v>0.909420289855073</c:v>
                </c:pt>
                <c:pt idx="1905">
                  <c:v>0.909502262443439</c:v>
                </c:pt>
                <c:pt idx="1906">
                  <c:v>0.909584086799277</c:v>
                </c:pt>
                <c:pt idx="1907">
                  <c:v>0.9096657633243</c:v>
                </c:pt>
                <c:pt idx="1908">
                  <c:v>0.909747292418773</c:v>
                </c:pt>
                <c:pt idx="1909">
                  <c:v>0.909828674481515</c:v>
                </c:pt>
                <c:pt idx="1910">
                  <c:v>0.90990990990991</c:v>
                </c:pt>
                <c:pt idx="1911">
                  <c:v>0.90999099909991</c:v>
                </c:pt>
                <c:pt idx="1912">
                  <c:v>0.910071942446043</c:v>
                </c:pt>
                <c:pt idx="1913">
                  <c:v>0.91015274034142</c:v>
                </c:pt>
                <c:pt idx="1914">
                  <c:v>0.910233393177738</c:v>
                </c:pt>
                <c:pt idx="1915">
                  <c:v>0.910313901345291</c:v>
                </c:pt>
                <c:pt idx="1916">
                  <c:v>0.910394265232975</c:v>
                </c:pt>
                <c:pt idx="1917">
                  <c:v>0.91047448522829</c:v>
                </c:pt>
                <c:pt idx="1918">
                  <c:v>0.910554561717352</c:v>
                </c:pt>
                <c:pt idx="1919">
                  <c:v>0.910634495084897</c:v>
                </c:pt>
                <c:pt idx="1920">
                  <c:v>0.910714285714286</c:v>
                </c:pt>
                <c:pt idx="1921">
                  <c:v>0.910793933987511</c:v>
                </c:pt>
                <c:pt idx="1922">
                  <c:v>0.910873440285205</c:v>
                </c:pt>
                <c:pt idx="1923">
                  <c:v>0.910952804986643</c:v>
                </c:pt>
                <c:pt idx="1924">
                  <c:v>0.911032028469751</c:v>
                </c:pt>
                <c:pt idx="1925">
                  <c:v>0.911111111111111</c:v>
                </c:pt>
                <c:pt idx="1926">
                  <c:v>0.911190053285968</c:v>
                </c:pt>
                <c:pt idx="1927">
                  <c:v>0.911268855368234</c:v>
                </c:pt>
                <c:pt idx="1928">
                  <c:v>0.911347517730497</c:v>
                </c:pt>
                <c:pt idx="1929">
                  <c:v>0.911426040744021</c:v>
                </c:pt>
                <c:pt idx="1930">
                  <c:v>0.911504424778761</c:v>
                </c:pt>
                <c:pt idx="1931">
                  <c:v>0.91158267020336</c:v>
                </c:pt>
                <c:pt idx="1932">
                  <c:v>0.911660777385159</c:v>
                </c:pt>
                <c:pt idx="1933">
                  <c:v>0.911738746690203</c:v>
                </c:pt>
                <c:pt idx="1934">
                  <c:v>0.911816578483245</c:v>
                </c:pt>
                <c:pt idx="1935">
                  <c:v>0.911894273127753</c:v>
                </c:pt>
                <c:pt idx="1936">
                  <c:v>0.911971830985916</c:v>
                </c:pt>
                <c:pt idx="1937">
                  <c:v>0.912049252418646</c:v>
                </c:pt>
                <c:pt idx="1938">
                  <c:v>0.912126537785589</c:v>
                </c:pt>
                <c:pt idx="1939">
                  <c:v>0.912203687445127</c:v>
                </c:pt>
                <c:pt idx="1940">
                  <c:v>0.912280701754386</c:v>
                </c:pt>
                <c:pt idx="1941">
                  <c:v>0.912357581069238</c:v>
                </c:pt>
                <c:pt idx="1942">
                  <c:v>0.912434325744308</c:v>
                </c:pt>
                <c:pt idx="1943">
                  <c:v>0.912510936132983</c:v>
                </c:pt>
                <c:pt idx="1944">
                  <c:v>0.912587412587413</c:v>
                </c:pt>
                <c:pt idx="1945">
                  <c:v>0.912663755458515</c:v>
                </c:pt>
                <c:pt idx="1946">
                  <c:v>0.912739965095986</c:v>
                </c:pt>
                <c:pt idx="1947">
                  <c:v>0.9128160418483</c:v>
                </c:pt>
                <c:pt idx="1948">
                  <c:v>0.912891986062718</c:v>
                </c:pt>
                <c:pt idx="1949">
                  <c:v>0.912967798085292</c:v>
                </c:pt>
                <c:pt idx="1950">
                  <c:v>0.91304347826087</c:v>
                </c:pt>
                <c:pt idx="1951">
                  <c:v>0.913119026933102</c:v>
                </c:pt>
                <c:pt idx="1952">
                  <c:v>0.913194444444444</c:v>
                </c:pt>
                <c:pt idx="1953">
                  <c:v>0.913269731136167</c:v>
                </c:pt>
                <c:pt idx="1954">
                  <c:v>0.913344887348354</c:v>
                </c:pt>
                <c:pt idx="1955">
                  <c:v>0.913419913419914</c:v>
                </c:pt>
                <c:pt idx="1956">
                  <c:v>0.913494809688581</c:v>
                </c:pt>
                <c:pt idx="1957">
                  <c:v>0.913569576490925</c:v>
                </c:pt>
                <c:pt idx="1958">
                  <c:v>0.913644214162349</c:v>
                </c:pt>
                <c:pt idx="1959">
                  <c:v>0.913718723037101</c:v>
                </c:pt>
                <c:pt idx="1960">
                  <c:v>0.913793103448276</c:v>
                </c:pt>
                <c:pt idx="1961">
                  <c:v>0.913867355727821</c:v>
                </c:pt>
                <c:pt idx="1962">
                  <c:v>0.91394148020654</c:v>
                </c:pt>
                <c:pt idx="1963">
                  <c:v>0.914015477214102</c:v>
                </c:pt>
                <c:pt idx="1964">
                  <c:v>0.914089347079038</c:v>
                </c:pt>
                <c:pt idx="1965">
                  <c:v>0.914163090128755</c:v>
                </c:pt>
                <c:pt idx="1966">
                  <c:v>0.914236706689537</c:v>
                </c:pt>
                <c:pt idx="1967">
                  <c:v>0.914310197086547</c:v>
                </c:pt>
                <c:pt idx="1968">
                  <c:v>0.914383561643836</c:v>
                </c:pt>
                <c:pt idx="1969">
                  <c:v>0.914456800684346</c:v>
                </c:pt>
                <c:pt idx="1970">
                  <c:v>0.914529914529915</c:v>
                </c:pt>
                <c:pt idx="1971">
                  <c:v>0.914602903501281</c:v>
                </c:pt>
                <c:pt idx="1972">
                  <c:v>0.914675767918089</c:v>
                </c:pt>
                <c:pt idx="1973">
                  <c:v>0.914748508098892</c:v>
                </c:pt>
                <c:pt idx="1974">
                  <c:v>0.914821124361159</c:v>
                </c:pt>
                <c:pt idx="1975">
                  <c:v>0.914893617021277</c:v>
                </c:pt>
                <c:pt idx="1976">
                  <c:v>0.914965986394558</c:v>
                </c:pt>
                <c:pt idx="1977">
                  <c:v>0.915038232795242</c:v>
                </c:pt>
                <c:pt idx="1978">
                  <c:v>0.915110356536503</c:v>
                </c:pt>
                <c:pt idx="1979">
                  <c:v>0.91518235793045</c:v>
                </c:pt>
                <c:pt idx="1980">
                  <c:v>0.915254237288136</c:v>
                </c:pt>
                <c:pt idx="1981">
                  <c:v>0.91532599491956</c:v>
                </c:pt>
                <c:pt idx="1982">
                  <c:v>0.915397631133672</c:v>
                </c:pt>
                <c:pt idx="1983">
                  <c:v>0.915469146238377</c:v>
                </c:pt>
                <c:pt idx="1984">
                  <c:v>0.915540540540541</c:v>
                </c:pt>
                <c:pt idx="1985">
                  <c:v>0.915611814345992</c:v>
                </c:pt>
                <c:pt idx="1986">
                  <c:v>0.915682967959528</c:v>
                </c:pt>
                <c:pt idx="1987">
                  <c:v>0.91575400168492</c:v>
                </c:pt>
                <c:pt idx="1988">
                  <c:v>0.915824915824916</c:v>
                </c:pt>
                <c:pt idx="1989">
                  <c:v>0.915895710681245</c:v>
                </c:pt>
                <c:pt idx="1990">
                  <c:v>0.915966386554622</c:v>
                </c:pt>
                <c:pt idx="1991">
                  <c:v>0.916036943744752</c:v>
                </c:pt>
                <c:pt idx="1992">
                  <c:v>0.916107382550336</c:v>
                </c:pt>
                <c:pt idx="1993">
                  <c:v>0.91617770326907</c:v>
                </c:pt>
                <c:pt idx="1994">
                  <c:v>0.916247906197655</c:v>
                </c:pt>
                <c:pt idx="1995">
                  <c:v>0.916317991631799</c:v>
                </c:pt>
                <c:pt idx="1996">
                  <c:v>0.916387959866221</c:v>
                </c:pt>
                <c:pt idx="1997">
                  <c:v>0.916457811194653</c:v>
                </c:pt>
                <c:pt idx="1998">
                  <c:v>0.91652754590985</c:v>
                </c:pt>
                <c:pt idx="1999">
                  <c:v>0.916597164303586</c:v>
                </c:pt>
                <c:pt idx="2000">
                  <c:v>0.916666666666667</c:v>
                </c:pt>
              </c:numCache>
            </c:numRef>
          </c:yVal>
          <c:smooth val="1"/>
        </c:ser>
        <c:axId val="41597943"/>
        <c:axId val="99528029"/>
      </c:scatterChart>
      <c:valAx>
        <c:axId val="41597943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99528029"/>
        <c:crosses val="autoZero"/>
        <c:crossBetween val="midCat"/>
        <c:majorUnit val="2"/>
        <c:minorUnit val="0.05"/>
      </c:valAx>
      <c:valAx>
        <c:axId val="99528029"/>
        <c:scaling>
          <c:orientation val="minMax"/>
          <c:max val="7"/>
          <c:min val="-6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41597943"/>
        <c:crosses val="autoZero"/>
        <c:crossBetween val="midCat"/>
        <c:majorUnit val="2"/>
        <c:minorUnit val="0.0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5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2001"/>
                <c:pt idx="0">
                  <c:v>-10.1</c:v>
                </c:pt>
                <c:pt idx="1">
                  <c:v>-10.0901001001001</c:v>
                </c:pt>
                <c:pt idx="2">
                  <c:v>-10.0802004008016</c:v>
                </c:pt>
                <c:pt idx="3">
                  <c:v>-10.0703009027081</c:v>
                </c:pt>
                <c:pt idx="4">
                  <c:v>-10.0604016064257</c:v>
                </c:pt>
                <c:pt idx="5">
                  <c:v>-10.0505025125628</c:v>
                </c:pt>
                <c:pt idx="6">
                  <c:v>-10.0406036217304</c:v>
                </c:pt>
                <c:pt idx="7">
                  <c:v>-10.0307049345418</c:v>
                </c:pt>
                <c:pt idx="8">
                  <c:v>-10.0208064516129</c:v>
                </c:pt>
                <c:pt idx="9">
                  <c:v>-10.0109081735621</c:v>
                </c:pt>
                <c:pt idx="10">
                  <c:v>-10.0010101010101</c:v>
                </c:pt>
                <c:pt idx="11">
                  <c:v>-9.99111223458039</c:v>
                </c:pt>
                <c:pt idx="12">
                  <c:v>-9.98121457489879</c:v>
                </c:pt>
                <c:pt idx="13">
                  <c:v>-9.97131712259372</c:v>
                </c:pt>
                <c:pt idx="14">
                  <c:v>-9.96141987829615</c:v>
                </c:pt>
                <c:pt idx="15">
                  <c:v>-9.95152284263959</c:v>
                </c:pt>
                <c:pt idx="16">
                  <c:v>-9.94162601626016</c:v>
                </c:pt>
                <c:pt idx="17">
                  <c:v>-9.93172939979654</c:v>
                </c:pt>
                <c:pt idx="18">
                  <c:v>-9.92183299389002</c:v>
                </c:pt>
                <c:pt idx="19">
                  <c:v>-9.91193679918451</c:v>
                </c:pt>
                <c:pt idx="20">
                  <c:v>-9.90204081632653</c:v>
                </c:pt>
                <c:pt idx="21">
                  <c:v>-9.89214504596527</c:v>
                </c:pt>
                <c:pt idx="22">
                  <c:v>-9.88224948875256</c:v>
                </c:pt>
                <c:pt idx="23">
                  <c:v>-9.87235414534289</c:v>
                </c:pt>
                <c:pt idx="24">
                  <c:v>-9.86245901639344</c:v>
                </c:pt>
                <c:pt idx="25">
                  <c:v>-9.8525641025641</c:v>
                </c:pt>
                <c:pt idx="26">
                  <c:v>-9.84266940451745</c:v>
                </c:pt>
                <c:pt idx="27">
                  <c:v>-9.83277492291881</c:v>
                </c:pt>
                <c:pt idx="28">
                  <c:v>-9.82288065843622</c:v>
                </c:pt>
                <c:pt idx="29">
                  <c:v>-9.81298661174047</c:v>
                </c:pt>
                <c:pt idx="30">
                  <c:v>-9.80309278350515</c:v>
                </c:pt>
                <c:pt idx="31">
                  <c:v>-9.7931991744066</c:v>
                </c:pt>
                <c:pt idx="32">
                  <c:v>-9.78330578512397</c:v>
                </c:pt>
                <c:pt idx="33">
                  <c:v>-9.77341261633919</c:v>
                </c:pt>
                <c:pt idx="34">
                  <c:v>-9.76351966873706</c:v>
                </c:pt>
                <c:pt idx="35">
                  <c:v>-9.75362694300518</c:v>
                </c:pt>
                <c:pt idx="36">
                  <c:v>-9.74373443983403</c:v>
                </c:pt>
                <c:pt idx="37">
                  <c:v>-9.73384215991693</c:v>
                </c:pt>
                <c:pt idx="38">
                  <c:v>-9.7239501039501</c:v>
                </c:pt>
                <c:pt idx="39">
                  <c:v>-9.71405827263267</c:v>
                </c:pt>
                <c:pt idx="40">
                  <c:v>-9.70416666666667</c:v>
                </c:pt>
                <c:pt idx="41">
                  <c:v>-9.69427528675704</c:v>
                </c:pt>
                <c:pt idx="42">
                  <c:v>-9.68438413361169</c:v>
                </c:pt>
                <c:pt idx="43">
                  <c:v>-9.67449320794148</c:v>
                </c:pt>
                <c:pt idx="44">
                  <c:v>-9.66460251046025</c:v>
                </c:pt>
                <c:pt idx="45">
                  <c:v>-9.65471204188482</c:v>
                </c:pt>
                <c:pt idx="46">
                  <c:v>-9.64482180293501</c:v>
                </c:pt>
                <c:pt idx="47">
                  <c:v>-9.63493179433368</c:v>
                </c:pt>
                <c:pt idx="48">
                  <c:v>-9.62504201680672</c:v>
                </c:pt>
                <c:pt idx="49">
                  <c:v>-9.61515247108307</c:v>
                </c:pt>
                <c:pt idx="50">
                  <c:v>-9.60526315789474</c:v>
                </c:pt>
                <c:pt idx="51">
                  <c:v>-9.59537407797682</c:v>
                </c:pt>
                <c:pt idx="52">
                  <c:v>-9.58548523206751</c:v>
                </c:pt>
                <c:pt idx="53">
                  <c:v>-9.57559662090813</c:v>
                </c:pt>
                <c:pt idx="54">
                  <c:v>-9.56570824524313</c:v>
                </c:pt>
                <c:pt idx="55">
                  <c:v>-9.55582010582011</c:v>
                </c:pt>
                <c:pt idx="56">
                  <c:v>-9.54593220338983</c:v>
                </c:pt>
                <c:pt idx="57">
                  <c:v>-9.53604453870626</c:v>
                </c:pt>
                <c:pt idx="58">
                  <c:v>-9.52615711252654</c:v>
                </c:pt>
                <c:pt idx="59">
                  <c:v>-9.51626992561105</c:v>
                </c:pt>
                <c:pt idx="60">
                  <c:v>-9.50638297872341</c:v>
                </c:pt>
                <c:pt idx="61">
                  <c:v>-9.49649627263046</c:v>
                </c:pt>
                <c:pt idx="62">
                  <c:v>-9.48660980810235</c:v>
                </c:pt>
                <c:pt idx="63">
                  <c:v>-9.47672358591249</c:v>
                </c:pt>
                <c:pt idx="64">
                  <c:v>-9.46683760683761</c:v>
                </c:pt>
                <c:pt idx="65">
                  <c:v>-9.45695187165775</c:v>
                </c:pt>
                <c:pt idx="66">
                  <c:v>-9.44706638115632</c:v>
                </c:pt>
                <c:pt idx="67">
                  <c:v>-9.43718113612004</c:v>
                </c:pt>
                <c:pt idx="68">
                  <c:v>-9.42729613733906</c:v>
                </c:pt>
                <c:pt idx="69">
                  <c:v>-9.41741138560687</c:v>
                </c:pt>
                <c:pt idx="70">
                  <c:v>-9.40752688172043</c:v>
                </c:pt>
                <c:pt idx="71">
                  <c:v>-9.39764262648009</c:v>
                </c:pt>
                <c:pt idx="72">
                  <c:v>-9.38775862068965</c:v>
                </c:pt>
                <c:pt idx="73">
                  <c:v>-9.37787486515642</c:v>
                </c:pt>
                <c:pt idx="74">
                  <c:v>-9.36799136069114</c:v>
                </c:pt>
                <c:pt idx="75">
                  <c:v>-9.35810810810811</c:v>
                </c:pt>
                <c:pt idx="76">
                  <c:v>-9.34822510822511</c:v>
                </c:pt>
                <c:pt idx="77">
                  <c:v>-9.33834236186349</c:v>
                </c:pt>
                <c:pt idx="78">
                  <c:v>-9.32845986984816</c:v>
                </c:pt>
                <c:pt idx="79">
                  <c:v>-9.3185776330076</c:v>
                </c:pt>
                <c:pt idx="80">
                  <c:v>-9.30869565217391</c:v>
                </c:pt>
                <c:pt idx="81">
                  <c:v>-9.29881392818281</c:v>
                </c:pt>
                <c:pt idx="82">
                  <c:v>-9.28893246187364</c:v>
                </c:pt>
                <c:pt idx="83">
                  <c:v>-9.27905125408942</c:v>
                </c:pt>
                <c:pt idx="84">
                  <c:v>-9.26917030567686</c:v>
                </c:pt>
                <c:pt idx="85">
                  <c:v>-9.25928961748634</c:v>
                </c:pt>
                <c:pt idx="86">
                  <c:v>-9.24940919037199</c:v>
                </c:pt>
                <c:pt idx="87">
                  <c:v>-9.23952902519168</c:v>
                </c:pt>
                <c:pt idx="88">
                  <c:v>-9.22964912280702</c:v>
                </c:pt>
                <c:pt idx="89">
                  <c:v>-9.21976948408342</c:v>
                </c:pt>
                <c:pt idx="90">
                  <c:v>-9.20989010989011</c:v>
                </c:pt>
                <c:pt idx="91">
                  <c:v>-9.20001100110011</c:v>
                </c:pt>
                <c:pt idx="92">
                  <c:v>-9.19013215859031</c:v>
                </c:pt>
                <c:pt idx="93">
                  <c:v>-9.18025358324146</c:v>
                </c:pt>
                <c:pt idx="94">
                  <c:v>-9.17037527593819</c:v>
                </c:pt>
                <c:pt idx="95">
                  <c:v>-9.16049723756906</c:v>
                </c:pt>
                <c:pt idx="96">
                  <c:v>-9.15061946902655</c:v>
                </c:pt>
                <c:pt idx="97">
                  <c:v>-9.14074197120709</c:v>
                </c:pt>
                <c:pt idx="98">
                  <c:v>-9.13086474501109</c:v>
                </c:pt>
                <c:pt idx="99">
                  <c:v>-9.12098779134295</c:v>
                </c:pt>
                <c:pt idx="100">
                  <c:v>-9.11111111111111</c:v>
                </c:pt>
                <c:pt idx="101">
                  <c:v>-9.10123470522803</c:v>
                </c:pt>
                <c:pt idx="102">
                  <c:v>-9.09135857461025</c:v>
                </c:pt>
                <c:pt idx="103">
                  <c:v>-9.08148272017837</c:v>
                </c:pt>
                <c:pt idx="104">
                  <c:v>-9.07160714285714</c:v>
                </c:pt>
                <c:pt idx="105">
                  <c:v>-9.06173184357542</c:v>
                </c:pt>
                <c:pt idx="106">
                  <c:v>-9.05185682326622</c:v>
                </c:pt>
                <c:pt idx="107">
                  <c:v>-9.04198208286674</c:v>
                </c:pt>
                <c:pt idx="108">
                  <c:v>-9.03210762331839</c:v>
                </c:pt>
                <c:pt idx="109">
                  <c:v>-9.02223344556678</c:v>
                </c:pt>
                <c:pt idx="110">
                  <c:v>-9.0123595505618</c:v>
                </c:pt>
                <c:pt idx="111">
                  <c:v>-9.00248593925759</c:v>
                </c:pt>
                <c:pt idx="112">
                  <c:v>-8.99261261261261</c:v>
                </c:pt>
                <c:pt idx="113">
                  <c:v>-8.98273957158963</c:v>
                </c:pt>
                <c:pt idx="114">
                  <c:v>-8.97286681715576</c:v>
                </c:pt>
                <c:pt idx="115">
                  <c:v>-8.96299435028249</c:v>
                </c:pt>
                <c:pt idx="116">
                  <c:v>-8.9531221719457</c:v>
                </c:pt>
                <c:pt idx="117">
                  <c:v>-8.94325028312571</c:v>
                </c:pt>
                <c:pt idx="118">
                  <c:v>-8.93337868480726</c:v>
                </c:pt>
                <c:pt idx="119">
                  <c:v>-8.92350737797957</c:v>
                </c:pt>
                <c:pt idx="120">
                  <c:v>-8.91363636363636</c:v>
                </c:pt>
                <c:pt idx="121">
                  <c:v>-8.90376564277588</c:v>
                </c:pt>
                <c:pt idx="122">
                  <c:v>-8.89389521640091</c:v>
                </c:pt>
                <c:pt idx="123">
                  <c:v>-8.88402508551882</c:v>
                </c:pt>
                <c:pt idx="124">
                  <c:v>-8.87415525114155</c:v>
                </c:pt>
                <c:pt idx="125">
                  <c:v>-8.86428571428571</c:v>
                </c:pt>
                <c:pt idx="126">
                  <c:v>-8.85441647597254</c:v>
                </c:pt>
                <c:pt idx="127">
                  <c:v>-8.84454753722795</c:v>
                </c:pt>
                <c:pt idx="128">
                  <c:v>-8.83467889908257</c:v>
                </c:pt>
                <c:pt idx="129">
                  <c:v>-8.82481056257176</c:v>
                </c:pt>
                <c:pt idx="130">
                  <c:v>-8.81494252873563</c:v>
                </c:pt>
                <c:pt idx="131">
                  <c:v>-8.8050747986191</c:v>
                </c:pt>
                <c:pt idx="132">
                  <c:v>-8.79520737327189</c:v>
                </c:pt>
                <c:pt idx="133">
                  <c:v>-8.78534025374856</c:v>
                </c:pt>
                <c:pt idx="134">
                  <c:v>-8.77547344110855</c:v>
                </c:pt>
                <c:pt idx="135">
                  <c:v>-8.76560693641619</c:v>
                </c:pt>
                <c:pt idx="136">
                  <c:v>-8.75574074074074</c:v>
                </c:pt>
                <c:pt idx="137">
                  <c:v>-8.74587485515643</c:v>
                </c:pt>
                <c:pt idx="138">
                  <c:v>-8.73600928074246</c:v>
                </c:pt>
                <c:pt idx="139">
                  <c:v>-8.72614401858304</c:v>
                </c:pt>
                <c:pt idx="140">
                  <c:v>-8.71627906976744</c:v>
                </c:pt>
                <c:pt idx="141">
                  <c:v>-8.70641443538999</c:v>
                </c:pt>
                <c:pt idx="142">
                  <c:v>-8.69655011655012</c:v>
                </c:pt>
                <c:pt idx="143">
                  <c:v>-8.68668611435239</c:v>
                </c:pt>
                <c:pt idx="144">
                  <c:v>-8.67682242990654</c:v>
                </c:pt>
                <c:pt idx="145">
                  <c:v>-8.66695906432749</c:v>
                </c:pt>
                <c:pt idx="146">
                  <c:v>-8.65709601873536</c:v>
                </c:pt>
                <c:pt idx="147">
                  <c:v>-8.64723329425557</c:v>
                </c:pt>
                <c:pt idx="148">
                  <c:v>-8.63737089201878</c:v>
                </c:pt>
                <c:pt idx="149">
                  <c:v>-8.62750881316099</c:v>
                </c:pt>
                <c:pt idx="150">
                  <c:v>-8.61764705882353</c:v>
                </c:pt>
                <c:pt idx="151">
                  <c:v>-8.60778563015312</c:v>
                </c:pt>
                <c:pt idx="152">
                  <c:v>-8.59792452830189</c:v>
                </c:pt>
                <c:pt idx="153">
                  <c:v>-8.58806375442739</c:v>
                </c:pt>
                <c:pt idx="154">
                  <c:v>-8.57820330969267</c:v>
                </c:pt>
                <c:pt idx="155">
                  <c:v>-8.56834319526627</c:v>
                </c:pt>
                <c:pt idx="156">
                  <c:v>-8.55848341232228</c:v>
                </c:pt>
                <c:pt idx="157">
                  <c:v>-8.54862396204033</c:v>
                </c:pt>
                <c:pt idx="158">
                  <c:v>-8.5387648456057</c:v>
                </c:pt>
                <c:pt idx="159">
                  <c:v>-8.52890606420928</c:v>
                </c:pt>
                <c:pt idx="160">
                  <c:v>-8.51904761904762</c:v>
                </c:pt>
                <c:pt idx="161">
                  <c:v>-8.509189511323</c:v>
                </c:pt>
                <c:pt idx="162">
                  <c:v>-8.49933174224344</c:v>
                </c:pt>
                <c:pt idx="163">
                  <c:v>-8.4894743130227</c:v>
                </c:pt>
                <c:pt idx="164">
                  <c:v>-8.47961722488038</c:v>
                </c:pt>
                <c:pt idx="165">
                  <c:v>-8.46976047904192</c:v>
                </c:pt>
                <c:pt idx="166">
                  <c:v>-8.45990407673861</c:v>
                </c:pt>
                <c:pt idx="167">
                  <c:v>-8.45004801920768</c:v>
                </c:pt>
                <c:pt idx="168">
                  <c:v>-8.44019230769231</c:v>
                </c:pt>
                <c:pt idx="169">
                  <c:v>-8.43033694344164</c:v>
                </c:pt>
                <c:pt idx="170">
                  <c:v>-8.42048192771084</c:v>
                </c:pt>
                <c:pt idx="171">
                  <c:v>-8.41062726176116</c:v>
                </c:pt>
                <c:pt idx="172">
                  <c:v>-8.4007729468599</c:v>
                </c:pt>
                <c:pt idx="173">
                  <c:v>-8.39091898428053</c:v>
                </c:pt>
                <c:pt idx="174">
                  <c:v>-8.38106537530266</c:v>
                </c:pt>
                <c:pt idx="175">
                  <c:v>-8.37121212121212</c:v>
                </c:pt>
                <c:pt idx="176">
                  <c:v>-8.36135922330097</c:v>
                </c:pt>
                <c:pt idx="177">
                  <c:v>-8.35150668286756</c:v>
                </c:pt>
                <c:pt idx="178">
                  <c:v>-8.34165450121655</c:v>
                </c:pt>
                <c:pt idx="179">
                  <c:v>-8.33180267965895</c:v>
                </c:pt>
                <c:pt idx="180">
                  <c:v>-8.32195121951219</c:v>
                </c:pt>
                <c:pt idx="181">
                  <c:v>-8.31210012210012</c:v>
                </c:pt>
                <c:pt idx="182">
                  <c:v>-8.30224938875306</c:v>
                </c:pt>
                <c:pt idx="183">
                  <c:v>-8.29239902080783</c:v>
                </c:pt>
                <c:pt idx="184">
                  <c:v>-8.28254901960784</c:v>
                </c:pt>
                <c:pt idx="185">
                  <c:v>-8.27269938650307</c:v>
                </c:pt>
                <c:pt idx="186">
                  <c:v>-8.26285012285012</c:v>
                </c:pt>
                <c:pt idx="187">
                  <c:v>-8.2530012300123</c:v>
                </c:pt>
                <c:pt idx="188">
                  <c:v>-8.24315270935961</c:v>
                </c:pt>
                <c:pt idx="189">
                  <c:v>-8.2333045622688</c:v>
                </c:pt>
                <c:pt idx="190">
                  <c:v>-8.22345679012346</c:v>
                </c:pt>
                <c:pt idx="191">
                  <c:v>-8.21360939431397</c:v>
                </c:pt>
                <c:pt idx="192">
                  <c:v>-8.20376237623762</c:v>
                </c:pt>
                <c:pt idx="193">
                  <c:v>-8.19391573729864</c:v>
                </c:pt>
                <c:pt idx="194">
                  <c:v>-8.18406947890819</c:v>
                </c:pt>
                <c:pt idx="195">
                  <c:v>-8.17422360248447</c:v>
                </c:pt>
                <c:pt idx="196">
                  <c:v>-8.16437810945274</c:v>
                </c:pt>
                <c:pt idx="197">
                  <c:v>-8.15453300124533</c:v>
                </c:pt>
                <c:pt idx="198">
                  <c:v>-8.14468827930175</c:v>
                </c:pt>
                <c:pt idx="199">
                  <c:v>-8.13484394506866</c:v>
                </c:pt>
                <c:pt idx="200">
                  <c:v>-8.125</c:v>
                </c:pt>
                <c:pt idx="201">
                  <c:v>-8.11515644555695</c:v>
                </c:pt>
                <c:pt idx="202">
                  <c:v>-8.10531328320802</c:v>
                </c:pt>
                <c:pt idx="203">
                  <c:v>-8.09547051442911</c:v>
                </c:pt>
                <c:pt idx="204">
                  <c:v>-8.08562814070352</c:v>
                </c:pt>
                <c:pt idx="205">
                  <c:v>-8.07578616352201</c:v>
                </c:pt>
                <c:pt idx="206">
                  <c:v>-8.06594458438287</c:v>
                </c:pt>
                <c:pt idx="207">
                  <c:v>-8.05610340479193</c:v>
                </c:pt>
                <c:pt idx="208">
                  <c:v>-8.04626262626263</c:v>
                </c:pt>
                <c:pt idx="209">
                  <c:v>-8.03642225031606</c:v>
                </c:pt>
                <c:pt idx="210">
                  <c:v>-8.02658227848101</c:v>
                </c:pt>
                <c:pt idx="211">
                  <c:v>-8.01674271229404</c:v>
                </c:pt>
                <c:pt idx="212">
                  <c:v>-8.00690355329949</c:v>
                </c:pt>
                <c:pt idx="213">
                  <c:v>-7.99706480304956</c:v>
                </c:pt>
                <c:pt idx="214">
                  <c:v>-7.98722646310433</c:v>
                </c:pt>
                <c:pt idx="215">
                  <c:v>-7.97738853503185</c:v>
                </c:pt>
                <c:pt idx="216">
                  <c:v>-7.96755102040816</c:v>
                </c:pt>
                <c:pt idx="217">
                  <c:v>-7.95771392081737</c:v>
                </c:pt>
                <c:pt idx="218">
                  <c:v>-7.94787723785166</c:v>
                </c:pt>
                <c:pt idx="219">
                  <c:v>-7.9380409731114</c:v>
                </c:pt>
                <c:pt idx="220">
                  <c:v>-7.92820512820513</c:v>
                </c:pt>
                <c:pt idx="221">
                  <c:v>-7.91836970474968</c:v>
                </c:pt>
                <c:pt idx="222">
                  <c:v>-7.90853470437018</c:v>
                </c:pt>
                <c:pt idx="223">
                  <c:v>-7.89870012870013</c:v>
                </c:pt>
                <c:pt idx="224">
                  <c:v>-7.88886597938144</c:v>
                </c:pt>
                <c:pt idx="225">
                  <c:v>-7.87903225806452</c:v>
                </c:pt>
                <c:pt idx="226">
                  <c:v>-7.86919896640827</c:v>
                </c:pt>
                <c:pt idx="227">
                  <c:v>-7.85936610608021</c:v>
                </c:pt>
                <c:pt idx="228">
                  <c:v>-7.84953367875648</c:v>
                </c:pt>
                <c:pt idx="229">
                  <c:v>-7.83970168612192</c:v>
                </c:pt>
                <c:pt idx="230">
                  <c:v>-7.82987012987013</c:v>
                </c:pt>
                <c:pt idx="231">
                  <c:v>-7.82003901170351</c:v>
                </c:pt>
                <c:pt idx="232">
                  <c:v>-7.81020833333333</c:v>
                </c:pt>
                <c:pt idx="233">
                  <c:v>-7.80037809647979</c:v>
                </c:pt>
                <c:pt idx="234">
                  <c:v>-7.79054830287206</c:v>
                </c:pt>
                <c:pt idx="235">
                  <c:v>-7.78071895424837</c:v>
                </c:pt>
                <c:pt idx="236">
                  <c:v>-7.77089005235602</c:v>
                </c:pt>
                <c:pt idx="237">
                  <c:v>-7.76106159895151</c:v>
                </c:pt>
                <c:pt idx="238">
                  <c:v>-7.75123359580053</c:v>
                </c:pt>
                <c:pt idx="239">
                  <c:v>-7.74140604467806</c:v>
                </c:pt>
                <c:pt idx="240">
                  <c:v>-7.73157894736842</c:v>
                </c:pt>
                <c:pt idx="241">
                  <c:v>-7.72175230566535</c:v>
                </c:pt>
                <c:pt idx="242">
                  <c:v>-7.71192612137203</c:v>
                </c:pt>
                <c:pt idx="243">
                  <c:v>-7.70210039630119</c:v>
                </c:pt>
                <c:pt idx="244">
                  <c:v>-7.69227513227513</c:v>
                </c:pt>
                <c:pt idx="245">
                  <c:v>-7.68245033112583</c:v>
                </c:pt>
                <c:pt idx="246">
                  <c:v>-7.67262599469496</c:v>
                </c:pt>
                <c:pt idx="247">
                  <c:v>-7.662802124834</c:v>
                </c:pt>
                <c:pt idx="248">
                  <c:v>-7.65297872340426</c:v>
                </c:pt>
                <c:pt idx="249">
                  <c:v>-7.64315579227696</c:v>
                </c:pt>
                <c:pt idx="250">
                  <c:v>-7.63333333333333</c:v>
                </c:pt>
                <c:pt idx="251">
                  <c:v>-7.62351134846462</c:v>
                </c:pt>
                <c:pt idx="252">
                  <c:v>-7.61368983957219</c:v>
                </c:pt>
                <c:pt idx="253">
                  <c:v>-7.6038688085676</c:v>
                </c:pt>
                <c:pt idx="254">
                  <c:v>-7.59404825737265</c:v>
                </c:pt>
                <c:pt idx="255">
                  <c:v>-7.58422818791946</c:v>
                </c:pt>
                <c:pt idx="256">
                  <c:v>-7.57440860215054</c:v>
                </c:pt>
                <c:pt idx="257">
                  <c:v>-7.56458950201884</c:v>
                </c:pt>
                <c:pt idx="258">
                  <c:v>-7.55477088948787</c:v>
                </c:pt>
                <c:pt idx="259">
                  <c:v>-7.54495276653171</c:v>
                </c:pt>
                <c:pt idx="260">
                  <c:v>-7.53513513513514</c:v>
                </c:pt>
                <c:pt idx="261">
                  <c:v>-7.52531799729364</c:v>
                </c:pt>
                <c:pt idx="262">
                  <c:v>-7.51550135501355</c:v>
                </c:pt>
                <c:pt idx="263">
                  <c:v>-7.50568521031208</c:v>
                </c:pt>
                <c:pt idx="264">
                  <c:v>-7.49586956521739</c:v>
                </c:pt>
                <c:pt idx="265">
                  <c:v>-7.48605442176871</c:v>
                </c:pt>
                <c:pt idx="266">
                  <c:v>-7.47623978201635</c:v>
                </c:pt>
                <c:pt idx="267">
                  <c:v>-7.46642564802183</c:v>
                </c:pt>
                <c:pt idx="268">
                  <c:v>-7.45661202185792</c:v>
                </c:pt>
                <c:pt idx="269">
                  <c:v>-7.44679890560876</c:v>
                </c:pt>
                <c:pt idx="270">
                  <c:v>-7.43698630136986</c:v>
                </c:pt>
                <c:pt idx="271">
                  <c:v>-7.42717421124829</c:v>
                </c:pt>
                <c:pt idx="272">
                  <c:v>-7.41736263736264</c:v>
                </c:pt>
                <c:pt idx="273">
                  <c:v>-7.40755158184319</c:v>
                </c:pt>
                <c:pt idx="274">
                  <c:v>-7.39774104683196</c:v>
                </c:pt>
                <c:pt idx="275">
                  <c:v>-7.38793103448276</c:v>
                </c:pt>
                <c:pt idx="276">
                  <c:v>-7.37812154696133</c:v>
                </c:pt>
                <c:pt idx="277">
                  <c:v>-7.36831258644537</c:v>
                </c:pt>
                <c:pt idx="278">
                  <c:v>-7.35850415512465</c:v>
                </c:pt>
                <c:pt idx="279">
                  <c:v>-7.34869625520111</c:v>
                </c:pt>
                <c:pt idx="280">
                  <c:v>-7.33888888888889</c:v>
                </c:pt>
                <c:pt idx="281">
                  <c:v>-7.32908205841446</c:v>
                </c:pt>
                <c:pt idx="282">
                  <c:v>-7.31927576601671</c:v>
                </c:pt>
                <c:pt idx="283">
                  <c:v>-7.309470013947</c:v>
                </c:pt>
                <c:pt idx="284">
                  <c:v>-7.29966480446927</c:v>
                </c:pt>
                <c:pt idx="285">
                  <c:v>-7.28986013986014</c:v>
                </c:pt>
                <c:pt idx="286">
                  <c:v>-7.28005602240896</c:v>
                </c:pt>
                <c:pt idx="287">
                  <c:v>-7.27025245441795</c:v>
                </c:pt>
                <c:pt idx="288">
                  <c:v>-7.26044943820225</c:v>
                </c:pt>
                <c:pt idx="289">
                  <c:v>-7.25064697609001</c:v>
                </c:pt>
                <c:pt idx="290">
                  <c:v>-7.24084507042254</c:v>
                </c:pt>
                <c:pt idx="291">
                  <c:v>-7.2310437235543</c:v>
                </c:pt>
                <c:pt idx="292">
                  <c:v>-7.22124293785311</c:v>
                </c:pt>
                <c:pt idx="293">
                  <c:v>-7.21144271570014</c:v>
                </c:pt>
                <c:pt idx="294">
                  <c:v>-7.20164305949009</c:v>
                </c:pt>
                <c:pt idx="295">
                  <c:v>-7.19184397163121</c:v>
                </c:pt>
                <c:pt idx="296">
                  <c:v>-7.18204545454545</c:v>
                </c:pt>
                <c:pt idx="297">
                  <c:v>-7.17224751066856</c:v>
                </c:pt>
                <c:pt idx="298">
                  <c:v>-7.16245014245014</c:v>
                </c:pt>
                <c:pt idx="299">
                  <c:v>-7.15265335235378</c:v>
                </c:pt>
                <c:pt idx="300">
                  <c:v>-7.14285714285714</c:v>
                </c:pt>
                <c:pt idx="301">
                  <c:v>-7.13306151645207</c:v>
                </c:pt>
                <c:pt idx="302">
                  <c:v>-7.1232664756447</c:v>
                </c:pt>
                <c:pt idx="303">
                  <c:v>-7.11347202295552</c:v>
                </c:pt>
                <c:pt idx="304">
                  <c:v>-7.10367816091954</c:v>
                </c:pt>
                <c:pt idx="305">
                  <c:v>-7.09388489208633</c:v>
                </c:pt>
                <c:pt idx="306">
                  <c:v>-7.08409221902017</c:v>
                </c:pt>
                <c:pt idx="307">
                  <c:v>-7.07430014430014</c:v>
                </c:pt>
                <c:pt idx="308">
                  <c:v>-7.06450867052023</c:v>
                </c:pt>
                <c:pt idx="309">
                  <c:v>-7.05471780028944</c:v>
                </c:pt>
                <c:pt idx="310">
                  <c:v>-7.04492753623188</c:v>
                </c:pt>
                <c:pt idx="311">
                  <c:v>-7.03513788098694</c:v>
                </c:pt>
                <c:pt idx="312">
                  <c:v>-7.0253488372093</c:v>
                </c:pt>
                <c:pt idx="313">
                  <c:v>-7.01556040756914</c:v>
                </c:pt>
                <c:pt idx="314">
                  <c:v>-7.00577259475219</c:v>
                </c:pt>
                <c:pt idx="315">
                  <c:v>-6.99598540145985</c:v>
                </c:pt>
                <c:pt idx="316">
                  <c:v>-6.98619883040936</c:v>
                </c:pt>
                <c:pt idx="317">
                  <c:v>-6.97641288433382</c:v>
                </c:pt>
                <c:pt idx="318">
                  <c:v>-6.96662756598241</c:v>
                </c:pt>
                <c:pt idx="319">
                  <c:v>-6.95684287812041</c:v>
                </c:pt>
                <c:pt idx="320">
                  <c:v>-6.94705882352941</c:v>
                </c:pt>
                <c:pt idx="321">
                  <c:v>-6.93727540500736</c:v>
                </c:pt>
                <c:pt idx="322">
                  <c:v>-6.92749262536873</c:v>
                </c:pt>
                <c:pt idx="323">
                  <c:v>-6.91771048744461</c:v>
                </c:pt>
                <c:pt idx="324">
                  <c:v>-6.90792899408284</c:v>
                </c:pt>
                <c:pt idx="325">
                  <c:v>-6.89814814814815</c:v>
                </c:pt>
                <c:pt idx="326">
                  <c:v>-6.88836795252226</c:v>
                </c:pt>
                <c:pt idx="327">
                  <c:v>-6.87858841010401</c:v>
                </c:pt>
                <c:pt idx="328">
                  <c:v>-6.86880952380952</c:v>
                </c:pt>
                <c:pt idx="329">
                  <c:v>-6.85903129657228</c:v>
                </c:pt>
                <c:pt idx="330">
                  <c:v>-6.84925373134328</c:v>
                </c:pt>
                <c:pt idx="331">
                  <c:v>-6.83947683109118</c:v>
                </c:pt>
                <c:pt idx="332">
                  <c:v>-6.8297005988024</c:v>
                </c:pt>
                <c:pt idx="333">
                  <c:v>-6.81992503748126</c:v>
                </c:pt>
                <c:pt idx="334">
                  <c:v>-6.81015015015015</c:v>
                </c:pt>
                <c:pt idx="335">
                  <c:v>-6.80037593984963</c:v>
                </c:pt>
                <c:pt idx="336">
                  <c:v>-6.79060240963856</c:v>
                </c:pt>
                <c:pt idx="337">
                  <c:v>-6.78082956259427</c:v>
                </c:pt>
                <c:pt idx="338">
                  <c:v>-6.77105740181269</c:v>
                </c:pt>
                <c:pt idx="339">
                  <c:v>-6.76128593040847</c:v>
                </c:pt>
                <c:pt idx="340">
                  <c:v>-6.75151515151515</c:v>
                </c:pt>
                <c:pt idx="341">
                  <c:v>-6.74174506828528</c:v>
                </c:pt>
                <c:pt idx="342">
                  <c:v>-6.73197568389058</c:v>
                </c:pt>
                <c:pt idx="343">
                  <c:v>-6.72220700152207</c:v>
                </c:pt>
                <c:pt idx="344">
                  <c:v>-6.71243902439024</c:v>
                </c:pt>
                <c:pt idx="345">
                  <c:v>-6.70267175572519</c:v>
                </c:pt>
                <c:pt idx="346">
                  <c:v>-6.69290519877676</c:v>
                </c:pt>
                <c:pt idx="347">
                  <c:v>-6.6831393568147</c:v>
                </c:pt>
                <c:pt idx="348">
                  <c:v>-6.67337423312883</c:v>
                </c:pt>
                <c:pt idx="349">
                  <c:v>-6.66360983102919</c:v>
                </c:pt>
                <c:pt idx="350">
                  <c:v>-6.65384615384615</c:v>
                </c:pt>
                <c:pt idx="351">
                  <c:v>-6.64408320493066</c:v>
                </c:pt>
                <c:pt idx="352">
                  <c:v>-6.63432098765432</c:v>
                </c:pt>
                <c:pt idx="353">
                  <c:v>-6.62455950540958</c:v>
                </c:pt>
                <c:pt idx="354">
                  <c:v>-6.61479876160991</c:v>
                </c:pt>
                <c:pt idx="355">
                  <c:v>-6.60503875968992</c:v>
                </c:pt>
                <c:pt idx="356">
                  <c:v>-6.59527950310559</c:v>
                </c:pt>
                <c:pt idx="357">
                  <c:v>-6.58552099533437</c:v>
                </c:pt>
                <c:pt idx="358">
                  <c:v>-6.57576323987539</c:v>
                </c:pt>
                <c:pt idx="359">
                  <c:v>-6.56600624024961</c:v>
                </c:pt>
                <c:pt idx="360">
                  <c:v>-6.55625</c:v>
                </c:pt>
                <c:pt idx="361">
                  <c:v>-6.54649452269171</c:v>
                </c:pt>
                <c:pt idx="362">
                  <c:v>-6.53673981191223</c:v>
                </c:pt>
                <c:pt idx="363">
                  <c:v>-6.52698587127159</c:v>
                </c:pt>
                <c:pt idx="364">
                  <c:v>-6.51723270440252</c:v>
                </c:pt>
                <c:pt idx="365">
                  <c:v>-6.50748031496063</c:v>
                </c:pt>
                <c:pt idx="366">
                  <c:v>-6.49772870662461</c:v>
                </c:pt>
                <c:pt idx="367">
                  <c:v>-6.48797788309637</c:v>
                </c:pt>
                <c:pt idx="368">
                  <c:v>-6.47822784810127</c:v>
                </c:pt>
                <c:pt idx="369">
                  <c:v>-6.46847860538827</c:v>
                </c:pt>
                <c:pt idx="370">
                  <c:v>-6.45873015873016</c:v>
                </c:pt>
                <c:pt idx="371">
                  <c:v>-6.44898251192369</c:v>
                </c:pt>
                <c:pt idx="372">
                  <c:v>-6.43923566878981</c:v>
                </c:pt>
                <c:pt idx="373">
                  <c:v>-6.42948963317384</c:v>
                </c:pt>
                <c:pt idx="374">
                  <c:v>-6.41974440894569</c:v>
                </c:pt>
                <c:pt idx="375">
                  <c:v>-6.41</c:v>
                </c:pt>
                <c:pt idx="376">
                  <c:v>-6.40025641025641</c:v>
                </c:pt>
                <c:pt idx="377">
                  <c:v>-6.39051364365971</c:v>
                </c:pt>
                <c:pt idx="378">
                  <c:v>-6.38077170418006</c:v>
                </c:pt>
                <c:pt idx="379">
                  <c:v>-6.3710305958132</c:v>
                </c:pt>
                <c:pt idx="380">
                  <c:v>-6.36129032258064</c:v>
                </c:pt>
                <c:pt idx="381">
                  <c:v>-6.35155088852989</c:v>
                </c:pt>
                <c:pt idx="382">
                  <c:v>-6.34181229773463</c:v>
                </c:pt>
                <c:pt idx="383">
                  <c:v>-6.33207455429498</c:v>
                </c:pt>
                <c:pt idx="384">
                  <c:v>-6.32233766233766</c:v>
                </c:pt>
                <c:pt idx="385">
                  <c:v>-6.31260162601626</c:v>
                </c:pt>
                <c:pt idx="386">
                  <c:v>-6.3028664495114</c:v>
                </c:pt>
                <c:pt idx="387">
                  <c:v>-6.293132137031</c:v>
                </c:pt>
                <c:pt idx="388">
                  <c:v>-6.28339869281046</c:v>
                </c:pt>
                <c:pt idx="389">
                  <c:v>-6.27366612111293</c:v>
                </c:pt>
                <c:pt idx="390">
                  <c:v>-6.26393442622951</c:v>
                </c:pt>
                <c:pt idx="391">
                  <c:v>-6.25420361247948</c:v>
                </c:pt>
                <c:pt idx="392">
                  <c:v>-6.24447368421053</c:v>
                </c:pt>
                <c:pt idx="393">
                  <c:v>-6.23474464579901</c:v>
                </c:pt>
                <c:pt idx="394">
                  <c:v>-6.22501650165017</c:v>
                </c:pt>
                <c:pt idx="395">
                  <c:v>-6.21528925619835</c:v>
                </c:pt>
                <c:pt idx="396">
                  <c:v>-6.20556291390728</c:v>
                </c:pt>
                <c:pt idx="397">
                  <c:v>-6.19583747927031</c:v>
                </c:pt>
                <c:pt idx="398">
                  <c:v>-6.18611295681063</c:v>
                </c:pt>
                <c:pt idx="399">
                  <c:v>-6.17638935108153</c:v>
                </c:pt>
                <c:pt idx="400">
                  <c:v>-6.16666666666667</c:v>
                </c:pt>
                <c:pt idx="401">
                  <c:v>-6.1569449081803</c:v>
                </c:pt>
                <c:pt idx="402">
                  <c:v>-6.14722408026756</c:v>
                </c:pt>
                <c:pt idx="403">
                  <c:v>-6.13750418760469</c:v>
                </c:pt>
                <c:pt idx="404">
                  <c:v>-6.12778523489933</c:v>
                </c:pt>
                <c:pt idx="405">
                  <c:v>-6.11806722689076</c:v>
                </c:pt>
                <c:pt idx="406">
                  <c:v>-6.10835016835017</c:v>
                </c:pt>
                <c:pt idx="407">
                  <c:v>-6.09863406408094</c:v>
                </c:pt>
                <c:pt idx="408">
                  <c:v>-6.08891891891892</c:v>
                </c:pt>
                <c:pt idx="409">
                  <c:v>-6.07920473773266</c:v>
                </c:pt>
                <c:pt idx="410">
                  <c:v>-6.06949152542373</c:v>
                </c:pt>
                <c:pt idx="411">
                  <c:v>-6.059779286927</c:v>
                </c:pt>
                <c:pt idx="412">
                  <c:v>-6.05006802721089</c:v>
                </c:pt>
                <c:pt idx="413">
                  <c:v>-6.04035775127768</c:v>
                </c:pt>
                <c:pt idx="414">
                  <c:v>-6.03064846416382</c:v>
                </c:pt>
                <c:pt idx="415">
                  <c:v>-6.02094017094017</c:v>
                </c:pt>
                <c:pt idx="416">
                  <c:v>-6.01123287671233</c:v>
                </c:pt>
                <c:pt idx="417">
                  <c:v>-6.00152658662093</c:v>
                </c:pt>
                <c:pt idx="418">
                  <c:v>-5.99182130584193</c:v>
                </c:pt>
                <c:pt idx="419">
                  <c:v>-5.98211703958692</c:v>
                </c:pt>
                <c:pt idx="420">
                  <c:v>-5.97241379310345</c:v>
                </c:pt>
                <c:pt idx="421">
                  <c:v>-5.9627115716753</c:v>
                </c:pt>
                <c:pt idx="422">
                  <c:v>-5.95301038062284</c:v>
                </c:pt>
                <c:pt idx="423">
                  <c:v>-5.94331022530329</c:v>
                </c:pt>
                <c:pt idx="424">
                  <c:v>-5.93361111111111</c:v>
                </c:pt>
                <c:pt idx="425">
                  <c:v>-5.92391304347826</c:v>
                </c:pt>
                <c:pt idx="426">
                  <c:v>-5.91421602787457</c:v>
                </c:pt>
                <c:pt idx="427">
                  <c:v>-5.90452006980803</c:v>
                </c:pt>
                <c:pt idx="428">
                  <c:v>-5.89482517482518</c:v>
                </c:pt>
                <c:pt idx="429">
                  <c:v>-5.88513134851138</c:v>
                </c:pt>
                <c:pt idx="430">
                  <c:v>-5.87543859649123</c:v>
                </c:pt>
                <c:pt idx="431">
                  <c:v>-5.86574692442882</c:v>
                </c:pt>
                <c:pt idx="432">
                  <c:v>-5.85605633802817</c:v>
                </c:pt>
                <c:pt idx="433">
                  <c:v>-5.84636684303351</c:v>
                </c:pt>
                <c:pt idx="434">
                  <c:v>-5.83667844522968</c:v>
                </c:pt>
                <c:pt idx="435">
                  <c:v>-5.82699115044248</c:v>
                </c:pt>
                <c:pt idx="436">
                  <c:v>-5.81730496453901</c:v>
                </c:pt>
                <c:pt idx="437">
                  <c:v>-5.80761989342806</c:v>
                </c:pt>
                <c:pt idx="438">
                  <c:v>-5.7979359430605</c:v>
                </c:pt>
                <c:pt idx="439">
                  <c:v>-5.78825311942959</c:v>
                </c:pt>
                <c:pt idx="440">
                  <c:v>-5.77857142857143</c:v>
                </c:pt>
                <c:pt idx="441">
                  <c:v>-5.7688908765653</c:v>
                </c:pt>
                <c:pt idx="442">
                  <c:v>-5.75921146953405</c:v>
                </c:pt>
                <c:pt idx="443">
                  <c:v>-5.74953321364453</c:v>
                </c:pt>
                <c:pt idx="444">
                  <c:v>-5.73985611510791</c:v>
                </c:pt>
                <c:pt idx="445">
                  <c:v>-5.73018018018018</c:v>
                </c:pt>
                <c:pt idx="446">
                  <c:v>-5.72050541516246</c:v>
                </c:pt>
                <c:pt idx="447">
                  <c:v>-5.71083182640145</c:v>
                </c:pt>
                <c:pt idx="448">
                  <c:v>-5.70115942028986</c:v>
                </c:pt>
                <c:pt idx="449">
                  <c:v>-5.69148820326679</c:v>
                </c:pt>
                <c:pt idx="450">
                  <c:v>-5.68181818181818</c:v>
                </c:pt>
                <c:pt idx="451">
                  <c:v>-5.67214936247723</c:v>
                </c:pt>
                <c:pt idx="452">
                  <c:v>-5.66248175182482</c:v>
                </c:pt>
                <c:pt idx="453">
                  <c:v>-5.65281535648995</c:v>
                </c:pt>
                <c:pt idx="454">
                  <c:v>-5.64315018315018</c:v>
                </c:pt>
                <c:pt idx="455">
                  <c:v>-5.63348623853211</c:v>
                </c:pt>
                <c:pt idx="456">
                  <c:v>-5.62382352941176</c:v>
                </c:pt>
                <c:pt idx="457">
                  <c:v>-5.6141620626151</c:v>
                </c:pt>
                <c:pt idx="458">
                  <c:v>-5.60450184501845</c:v>
                </c:pt>
                <c:pt idx="459">
                  <c:v>-5.59484288354898</c:v>
                </c:pt>
                <c:pt idx="460">
                  <c:v>-5.58518518518519</c:v>
                </c:pt>
                <c:pt idx="461">
                  <c:v>-5.57552875695733</c:v>
                </c:pt>
                <c:pt idx="462">
                  <c:v>-5.56587360594796</c:v>
                </c:pt>
                <c:pt idx="463">
                  <c:v>-5.55621973929237</c:v>
                </c:pt>
                <c:pt idx="464">
                  <c:v>-5.54656716417911</c:v>
                </c:pt>
                <c:pt idx="465">
                  <c:v>-5.53691588785047</c:v>
                </c:pt>
                <c:pt idx="466">
                  <c:v>-5.527265917603</c:v>
                </c:pt>
                <c:pt idx="467">
                  <c:v>-5.51761726078799</c:v>
                </c:pt>
                <c:pt idx="468">
                  <c:v>-5.50796992481203</c:v>
                </c:pt>
                <c:pt idx="469">
                  <c:v>-5.49832391713748</c:v>
                </c:pt>
                <c:pt idx="470">
                  <c:v>-5.48867924528302</c:v>
                </c:pt>
                <c:pt idx="471">
                  <c:v>-5.4790359168242</c:v>
                </c:pt>
                <c:pt idx="472">
                  <c:v>-5.46939393939394</c:v>
                </c:pt>
                <c:pt idx="473">
                  <c:v>-5.45975332068311</c:v>
                </c:pt>
                <c:pt idx="474">
                  <c:v>-5.45011406844106</c:v>
                </c:pt>
                <c:pt idx="475">
                  <c:v>-5.44047619047619</c:v>
                </c:pt>
                <c:pt idx="476">
                  <c:v>-5.43083969465649</c:v>
                </c:pt>
                <c:pt idx="477">
                  <c:v>-5.42120458891013</c:v>
                </c:pt>
                <c:pt idx="478">
                  <c:v>-5.41157088122605</c:v>
                </c:pt>
                <c:pt idx="479">
                  <c:v>-5.40193857965451</c:v>
                </c:pt>
                <c:pt idx="480">
                  <c:v>-5.39230769230769</c:v>
                </c:pt>
                <c:pt idx="481">
                  <c:v>-5.38267822736031</c:v>
                </c:pt>
                <c:pt idx="482">
                  <c:v>-5.37305019305019</c:v>
                </c:pt>
                <c:pt idx="483">
                  <c:v>-5.36342359767892</c:v>
                </c:pt>
                <c:pt idx="484">
                  <c:v>-5.3537984496124</c:v>
                </c:pt>
                <c:pt idx="485">
                  <c:v>-5.34417475728155</c:v>
                </c:pt>
                <c:pt idx="486">
                  <c:v>-5.33455252918288</c:v>
                </c:pt>
                <c:pt idx="487">
                  <c:v>-5.32493177387914</c:v>
                </c:pt>
                <c:pt idx="488">
                  <c:v>-5.3153125</c:v>
                </c:pt>
                <c:pt idx="489">
                  <c:v>-5.30569471624266</c:v>
                </c:pt>
                <c:pt idx="490">
                  <c:v>-5.29607843137255</c:v>
                </c:pt>
                <c:pt idx="491">
                  <c:v>-5.28646365422397</c:v>
                </c:pt>
                <c:pt idx="492">
                  <c:v>-5.27685039370079</c:v>
                </c:pt>
                <c:pt idx="493">
                  <c:v>-5.26723865877712</c:v>
                </c:pt>
                <c:pt idx="494">
                  <c:v>-5.25762845849802</c:v>
                </c:pt>
                <c:pt idx="495">
                  <c:v>-5.2480198019802</c:v>
                </c:pt>
                <c:pt idx="496">
                  <c:v>-5.2384126984127</c:v>
                </c:pt>
                <c:pt idx="497">
                  <c:v>-5.22880715705766</c:v>
                </c:pt>
                <c:pt idx="498">
                  <c:v>-5.219203187251</c:v>
                </c:pt>
                <c:pt idx="499">
                  <c:v>-5.20960079840319</c:v>
                </c:pt>
                <c:pt idx="500">
                  <c:v>-5.2</c:v>
                </c:pt>
                <c:pt idx="501">
                  <c:v>-5.19040080160321</c:v>
                </c:pt>
                <c:pt idx="502">
                  <c:v>-5.18080321285141</c:v>
                </c:pt>
                <c:pt idx="503">
                  <c:v>-5.17120724346076</c:v>
                </c:pt>
                <c:pt idx="504">
                  <c:v>-5.16161290322581</c:v>
                </c:pt>
                <c:pt idx="505">
                  <c:v>-5.1520202020202</c:v>
                </c:pt>
                <c:pt idx="506">
                  <c:v>-5.14242914979757</c:v>
                </c:pt>
                <c:pt idx="507">
                  <c:v>-5.13283975659229</c:v>
                </c:pt>
                <c:pt idx="508">
                  <c:v>-5.12325203252033</c:v>
                </c:pt>
                <c:pt idx="509">
                  <c:v>-5.11366598778004</c:v>
                </c:pt>
                <c:pt idx="510">
                  <c:v>-5.10408163265306</c:v>
                </c:pt>
                <c:pt idx="511">
                  <c:v>-5.09449897750511</c:v>
                </c:pt>
                <c:pt idx="512">
                  <c:v>-5.08491803278689</c:v>
                </c:pt>
                <c:pt idx="513">
                  <c:v>-5.07533880903491</c:v>
                </c:pt>
                <c:pt idx="514">
                  <c:v>-5.06576131687243</c:v>
                </c:pt>
                <c:pt idx="515">
                  <c:v>-5.05618556701031</c:v>
                </c:pt>
                <c:pt idx="516">
                  <c:v>-5.04661157024793</c:v>
                </c:pt>
                <c:pt idx="517">
                  <c:v>-5.03703933747412</c:v>
                </c:pt>
                <c:pt idx="518">
                  <c:v>-5.02746887966805</c:v>
                </c:pt>
                <c:pt idx="519">
                  <c:v>-5.01790020790021</c:v>
                </c:pt>
                <c:pt idx="520">
                  <c:v>-5.00833333333333</c:v>
                </c:pt>
                <c:pt idx="521">
                  <c:v>-4.99876826722338</c:v>
                </c:pt>
                <c:pt idx="522">
                  <c:v>-4.9892050209205</c:v>
                </c:pt>
                <c:pt idx="523">
                  <c:v>-4.97964360587002</c:v>
                </c:pt>
                <c:pt idx="524">
                  <c:v>-4.97008403361345</c:v>
                </c:pt>
                <c:pt idx="525">
                  <c:v>-4.96052631578947</c:v>
                </c:pt>
                <c:pt idx="526">
                  <c:v>-4.95097046413502</c:v>
                </c:pt>
                <c:pt idx="527">
                  <c:v>-4.94141649048626</c:v>
                </c:pt>
                <c:pt idx="528">
                  <c:v>-4.93186440677966</c:v>
                </c:pt>
                <c:pt idx="529">
                  <c:v>-4.92231422505308</c:v>
                </c:pt>
                <c:pt idx="530">
                  <c:v>-4.91276595744681</c:v>
                </c:pt>
                <c:pt idx="531">
                  <c:v>-4.90321961620469</c:v>
                </c:pt>
                <c:pt idx="532">
                  <c:v>-4.89367521367521</c:v>
                </c:pt>
                <c:pt idx="533">
                  <c:v>-4.88413276231263</c:v>
                </c:pt>
                <c:pt idx="534">
                  <c:v>-4.87459227467811</c:v>
                </c:pt>
                <c:pt idx="535">
                  <c:v>-4.86505376344086</c:v>
                </c:pt>
                <c:pt idx="536">
                  <c:v>-4.85551724137931</c:v>
                </c:pt>
                <c:pt idx="537">
                  <c:v>-4.84598272138229</c:v>
                </c:pt>
                <c:pt idx="538">
                  <c:v>-4.83645021645022</c:v>
                </c:pt>
                <c:pt idx="539">
                  <c:v>-4.82691973969631</c:v>
                </c:pt>
                <c:pt idx="540">
                  <c:v>-4.81739130434783</c:v>
                </c:pt>
                <c:pt idx="541">
                  <c:v>-4.80786492374728</c:v>
                </c:pt>
                <c:pt idx="542">
                  <c:v>-4.79834061135371</c:v>
                </c:pt>
                <c:pt idx="543">
                  <c:v>-4.78881838074398</c:v>
                </c:pt>
                <c:pt idx="544">
                  <c:v>-4.77929824561404</c:v>
                </c:pt>
                <c:pt idx="545">
                  <c:v>-4.76978021978022</c:v>
                </c:pt>
                <c:pt idx="546">
                  <c:v>-4.76026431718062</c:v>
                </c:pt>
                <c:pt idx="547">
                  <c:v>-4.75075055187638</c:v>
                </c:pt>
                <c:pt idx="548">
                  <c:v>-4.7412389380531</c:v>
                </c:pt>
                <c:pt idx="549">
                  <c:v>-4.73172949002217</c:v>
                </c:pt>
                <c:pt idx="550">
                  <c:v>-4.72222222222222</c:v>
                </c:pt>
                <c:pt idx="551">
                  <c:v>-4.71271714922049</c:v>
                </c:pt>
                <c:pt idx="552">
                  <c:v>-4.70321428571429</c:v>
                </c:pt>
                <c:pt idx="553">
                  <c:v>-4.69371364653244</c:v>
                </c:pt>
                <c:pt idx="554">
                  <c:v>-4.68421524663677</c:v>
                </c:pt>
                <c:pt idx="555">
                  <c:v>-4.6747191011236</c:v>
                </c:pt>
                <c:pt idx="556">
                  <c:v>-4.66522522522523</c:v>
                </c:pt>
                <c:pt idx="557">
                  <c:v>-4.65573363431151</c:v>
                </c:pt>
                <c:pt idx="558">
                  <c:v>-4.6462443438914</c:v>
                </c:pt>
                <c:pt idx="559">
                  <c:v>-4.63675736961451</c:v>
                </c:pt>
                <c:pt idx="560">
                  <c:v>-4.62727272727273</c:v>
                </c:pt>
                <c:pt idx="561">
                  <c:v>-4.61779043280182</c:v>
                </c:pt>
                <c:pt idx="562">
                  <c:v>-4.60831050228311</c:v>
                </c:pt>
                <c:pt idx="563">
                  <c:v>-4.59883295194508</c:v>
                </c:pt>
                <c:pt idx="564">
                  <c:v>-4.58935779816514</c:v>
                </c:pt>
                <c:pt idx="565">
                  <c:v>-4.57988505747126</c:v>
                </c:pt>
                <c:pt idx="566">
                  <c:v>-4.57041474654378</c:v>
                </c:pt>
                <c:pt idx="567">
                  <c:v>-4.56094688221709</c:v>
                </c:pt>
                <c:pt idx="568">
                  <c:v>-4.55148148148148</c:v>
                </c:pt>
                <c:pt idx="569">
                  <c:v>-4.54201856148492</c:v>
                </c:pt>
                <c:pt idx="570">
                  <c:v>-4.53255813953488</c:v>
                </c:pt>
                <c:pt idx="571">
                  <c:v>-4.52310023310023</c:v>
                </c:pt>
                <c:pt idx="572">
                  <c:v>-4.51364485981308</c:v>
                </c:pt>
                <c:pt idx="573">
                  <c:v>-4.50419203747073</c:v>
                </c:pt>
                <c:pt idx="574">
                  <c:v>-4.49474178403756</c:v>
                </c:pt>
                <c:pt idx="575">
                  <c:v>-4.48529411764706</c:v>
                </c:pt>
                <c:pt idx="576">
                  <c:v>-4.47584905660377</c:v>
                </c:pt>
                <c:pt idx="577">
                  <c:v>-4.46640661938534</c:v>
                </c:pt>
                <c:pt idx="578">
                  <c:v>-4.45696682464455</c:v>
                </c:pt>
                <c:pt idx="579">
                  <c:v>-4.4475296912114</c:v>
                </c:pt>
                <c:pt idx="580">
                  <c:v>-4.43809523809524</c:v>
                </c:pt>
                <c:pt idx="581">
                  <c:v>-4.42866348448687</c:v>
                </c:pt>
                <c:pt idx="582">
                  <c:v>-4.41923444976077</c:v>
                </c:pt>
                <c:pt idx="583">
                  <c:v>-4.40980815347722</c:v>
                </c:pt>
                <c:pt idx="584">
                  <c:v>-4.40038461538462</c:v>
                </c:pt>
                <c:pt idx="585">
                  <c:v>-4.39096385542169</c:v>
                </c:pt>
                <c:pt idx="586">
                  <c:v>-4.38154589371981</c:v>
                </c:pt>
                <c:pt idx="587">
                  <c:v>-4.37213075060533</c:v>
                </c:pt>
                <c:pt idx="588">
                  <c:v>-4.36271844660194</c:v>
                </c:pt>
                <c:pt idx="589">
                  <c:v>-4.35330900243309</c:v>
                </c:pt>
                <c:pt idx="590">
                  <c:v>-4.34390243902439</c:v>
                </c:pt>
                <c:pt idx="591">
                  <c:v>-4.33449877750611</c:v>
                </c:pt>
                <c:pt idx="592">
                  <c:v>-4.32509803921569</c:v>
                </c:pt>
                <c:pt idx="593">
                  <c:v>-4.31570024570025</c:v>
                </c:pt>
                <c:pt idx="594">
                  <c:v>-4.30630541871921</c:v>
                </c:pt>
                <c:pt idx="595">
                  <c:v>-4.29691358024691</c:v>
                </c:pt>
                <c:pt idx="596">
                  <c:v>-4.28752475247525</c:v>
                </c:pt>
                <c:pt idx="597">
                  <c:v>-4.27813895781638</c:v>
                </c:pt>
                <c:pt idx="598">
                  <c:v>-4.26875621890547</c:v>
                </c:pt>
                <c:pt idx="599">
                  <c:v>-4.25937655860349</c:v>
                </c:pt>
                <c:pt idx="600">
                  <c:v>-4.25</c:v>
                </c:pt>
                <c:pt idx="601">
                  <c:v>-4.24062656641604</c:v>
                </c:pt>
                <c:pt idx="602">
                  <c:v>-4.23125628140704</c:v>
                </c:pt>
                <c:pt idx="603">
                  <c:v>-4.22188916876574</c:v>
                </c:pt>
                <c:pt idx="604">
                  <c:v>-4.21252525252525</c:v>
                </c:pt>
                <c:pt idx="605">
                  <c:v>-4.20316455696203</c:v>
                </c:pt>
                <c:pt idx="606">
                  <c:v>-4.19380710659898</c:v>
                </c:pt>
                <c:pt idx="607">
                  <c:v>-4.18445292620865</c:v>
                </c:pt>
                <c:pt idx="608">
                  <c:v>-4.17510204081633</c:v>
                </c:pt>
                <c:pt idx="609">
                  <c:v>-4.16575447570333</c:v>
                </c:pt>
                <c:pt idx="610">
                  <c:v>-4.15641025641026</c:v>
                </c:pt>
                <c:pt idx="611">
                  <c:v>-4.14706940874036</c:v>
                </c:pt>
                <c:pt idx="612">
                  <c:v>-4.13773195876289</c:v>
                </c:pt>
                <c:pt idx="613">
                  <c:v>-4.12839793281654</c:v>
                </c:pt>
                <c:pt idx="614">
                  <c:v>-4.11906735751295</c:v>
                </c:pt>
                <c:pt idx="615">
                  <c:v>-4.10974025974026</c:v>
                </c:pt>
                <c:pt idx="616">
                  <c:v>-4.10041666666667</c:v>
                </c:pt>
                <c:pt idx="617">
                  <c:v>-4.09109660574413</c:v>
                </c:pt>
                <c:pt idx="618">
                  <c:v>-4.08178010471204</c:v>
                </c:pt>
                <c:pt idx="619">
                  <c:v>-4.07246719160105</c:v>
                </c:pt>
                <c:pt idx="620">
                  <c:v>-4.06315789473684</c:v>
                </c:pt>
                <c:pt idx="621">
                  <c:v>-4.05385224274406</c:v>
                </c:pt>
                <c:pt idx="622">
                  <c:v>-4.04455026455026</c:v>
                </c:pt>
                <c:pt idx="623">
                  <c:v>-4.03525198938992</c:v>
                </c:pt>
                <c:pt idx="624">
                  <c:v>-4.02595744680851</c:v>
                </c:pt>
                <c:pt idx="625">
                  <c:v>-4.01666666666667</c:v>
                </c:pt>
                <c:pt idx="626">
                  <c:v>-4.00737967914439</c:v>
                </c:pt>
                <c:pt idx="627">
                  <c:v>-3.99809651474531</c:v>
                </c:pt>
                <c:pt idx="628">
                  <c:v>-3.98881720430108</c:v>
                </c:pt>
                <c:pt idx="629">
                  <c:v>-3.97954177897574</c:v>
                </c:pt>
                <c:pt idx="630">
                  <c:v>-3.97027027027027</c:v>
                </c:pt>
                <c:pt idx="631">
                  <c:v>-3.9610027100271</c:v>
                </c:pt>
                <c:pt idx="632">
                  <c:v>-3.95173913043478</c:v>
                </c:pt>
                <c:pt idx="633">
                  <c:v>-3.9424795640327</c:v>
                </c:pt>
                <c:pt idx="634">
                  <c:v>-3.93322404371585</c:v>
                </c:pt>
                <c:pt idx="635">
                  <c:v>-3.92397260273973</c:v>
                </c:pt>
                <c:pt idx="636">
                  <c:v>-3.91472527472527</c:v>
                </c:pt>
                <c:pt idx="637">
                  <c:v>-3.90548209366391</c:v>
                </c:pt>
                <c:pt idx="638">
                  <c:v>-3.89624309392265</c:v>
                </c:pt>
                <c:pt idx="639">
                  <c:v>-3.88700831024931</c:v>
                </c:pt>
                <c:pt idx="640">
                  <c:v>-3.87777777777778</c:v>
                </c:pt>
                <c:pt idx="641">
                  <c:v>-3.86855153203343</c:v>
                </c:pt>
                <c:pt idx="642">
                  <c:v>-3.85932960893855</c:v>
                </c:pt>
                <c:pt idx="643">
                  <c:v>-3.85011204481793</c:v>
                </c:pt>
                <c:pt idx="644">
                  <c:v>-3.84089887640449</c:v>
                </c:pt>
                <c:pt idx="645">
                  <c:v>-3.83169014084507</c:v>
                </c:pt>
                <c:pt idx="646">
                  <c:v>-3.82248587570621</c:v>
                </c:pt>
                <c:pt idx="647">
                  <c:v>-3.81328611898017</c:v>
                </c:pt>
                <c:pt idx="648">
                  <c:v>-3.80409090909091</c:v>
                </c:pt>
                <c:pt idx="649">
                  <c:v>-3.79490028490029</c:v>
                </c:pt>
                <c:pt idx="650">
                  <c:v>-3.78571428571429</c:v>
                </c:pt>
                <c:pt idx="651">
                  <c:v>-3.7765329512894</c:v>
                </c:pt>
                <c:pt idx="652">
                  <c:v>-3.76735632183908</c:v>
                </c:pt>
                <c:pt idx="653">
                  <c:v>-3.75818443804035</c:v>
                </c:pt>
                <c:pt idx="654">
                  <c:v>-3.74901734104046</c:v>
                </c:pt>
                <c:pt idx="655">
                  <c:v>-3.73985507246377</c:v>
                </c:pt>
                <c:pt idx="656">
                  <c:v>-3.7306976744186</c:v>
                </c:pt>
                <c:pt idx="657">
                  <c:v>-3.72154518950437</c:v>
                </c:pt>
                <c:pt idx="658">
                  <c:v>-3.71239766081871</c:v>
                </c:pt>
                <c:pt idx="659">
                  <c:v>-3.70325513196481</c:v>
                </c:pt>
                <c:pt idx="660">
                  <c:v>-3.69411764705882</c:v>
                </c:pt>
                <c:pt idx="661">
                  <c:v>-3.68498525073746</c:v>
                </c:pt>
                <c:pt idx="662">
                  <c:v>-3.67585798816568</c:v>
                </c:pt>
                <c:pt idx="663">
                  <c:v>-3.66673590504451</c:v>
                </c:pt>
                <c:pt idx="664">
                  <c:v>-3.65761904761905</c:v>
                </c:pt>
                <c:pt idx="665">
                  <c:v>-3.64850746268657</c:v>
                </c:pt>
                <c:pt idx="666">
                  <c:v>-3.63940119760479</c:v>
                </c:pt>
                <c:pt idx="667">
                  <c:v>-3.6303003003003</c:v>
                </c:pt>
                <c:pt idx="668">
                  <c:v>-3.62120481927711</c:v>
                </c:pt>
                <c:pt idx="669">
                  <c:v>-3.61211480362538</c:v>
                </c:pt>
                <c:pt idx="670">
                  <c:v>-3.6030303030303</c:v>
                </c:pt>
                <c:pt idx="671">
                  <c:v>-3.59395136778116</c:v>
                </c:pt>
                <c:pt idx="672">
                  <c:v>-3.58487804878049</c:v>
                </c:pt>
                <c:pt idx="673">
                  <c:v>-3.57581039755352</c:v>
                </c:pt>
                <c:pt idx="674">
                  <c:v>-3.56674846625767</c:v>
                </c:pt>
                <c:pt idx="675">
                  <c:v>-3.55769230769231</c:v>
                </c:pt>
                <c:pt idx="676">
                  <c:v>-3.54864197530864</c:v>
                </c:pt>
                <c:pt idx="677">
                  <c:v>-3.53959752321981</c:v>
                </c:pt>
                <c:pt idx="678">
                  <c:v>-3.53055900621118</c:v>
                </c:pt>
                <c:pt idx="679">
                  <c:v>-3.52152647975078</c:v>
                </c:pt>
                <c:pt idx="680">
                  <c:v>-3.5125</c:v>
                </c:pt>
                <c:pt idx="681">
                  <c:v>-3.50347962382445</c:v>
                </c:pt>
                <c:pt idx="682">
                  <c:v>-3.49446540880503</c:v>
                </c:pt>
                <c:pt idx="683">
                  <c:v>-3.48545741324921</c:v>
                </c:pt>
                <c:pt idx="684">
                  <c:v>-3.47645569620253</c:v>
                </c:pt>
                <c:pt idx="685">
                  <c:v>-3.46746031746032</c:v>
                </c:pt>
                <c:pt idx="686">
                  <c:v>-3.45847133757962</c:v>
                </c:pt>
                <c:pt idx="687">
                  <c:v>-3.44948881789137</c:v>
                </c:pt>
                <c:pt idx="688">
                  <c:v>-3.44051282051282</c:v>
                </c:pt>
                <c:pt idx="689">
                  <c:v>-3.43154340836013</c:v>
                </c:pt>
                <c:pt idx="690">
                  <c:v>-3.42258064516129</c:v>
                </c:pt>
                <c:pt idx="691">
                  <c:v>-3.41362459546926</c:v>
                </c:pt>
                <c:pt idx="692">
                  <c:v>-3.40467532467533</c:v>
                </c:pt>
                <c:pt idx="693">
                  <c:v>-3.3957328990228</c:v>
                </c:pt>
                <c:pt idx="694">
                  <c:v>-3.38679738562092</c:v>
                </c:pt>
                <c:pt idx="695">
                  <c:v>-3.37786885245902</c:v>
                </c:pt>
                <c:pt idx="696">
                  <c:v>-3.36894736842105</c:v>
                </c:pt>
                <c:pt idx="697">
                  <c:v>-3.36003300330033</c:v>
                </c:pt>
                <c:pt idx="698">
                  <c:v>-3.35112582781457</c:v>
                </c:pt>
                <c:pt idx="699">
                  <c:v>-3.34222591362126</c:v>
                </c:pt>
                <c:pt idx="700">
                  <c:v>-3.33333333333333</c:v>
                </c:pt>
                <c:pt idx="701">
                  <c:v>-3.32444816053512</c:v>
                </c:pt>
                <c:pt idx="702">
                  <c:v>-3.31557046979866</c:v>
                </c:pt>
                <c:pt idx="703">
                  <c:v>-3.30670033670034</c:v>
                </c:pt>
                <c:pt idx="704">
                  <c:v>-3.29783783783784</c:v>
                </c:pt>
                <c:pt idx="705">
                  <c:v>-3.28898305084746</c:v>
                </c:pt>
                <c:pt idx="706">
                  <c:v>-3.28013605442177</c:v>
                </c:pt>
                <c:pt idx="707">
                  <c:v>-3.27129692832765</c:v>
                </c:pt>
                <c:pt idx="708">
                  <c:v>-3.26246575342466</c:v>
                </c:pt>
                <c:pt idx="709">
                  <c:v>-3.25364261168385</c:v>
                </c:pt>
                <c:pt idx="710">
                  <c:v>-3.2448275862069</c:v>
                </c:pt>
                <c:pt idx="711">
                  <c:v>-3.23602076124567</c:v>
                </c:pt>
                <c:pt idx="712">
                  <c:v>-3.22722222222222</c:v>
                </c:pt>
                <c:pt idx="713">
                  <c:v>-3.21843205574913</c:v>
                </c:pt>
                <c:pt idx="714">
                  <c:v>-3.20965034965035</c:v>
                </c:pt>
                <c:pt idx="715">
                  <c:v>-3.20087719298246</c:v>
                </c:pt>
                <c:pt idx="716">
                  <c:v>-3.19211267605634</c:v>
                </c:pt>
                <c:pt idx="717">
                  <c:v>-3.18335689045936</c:v>
                </c:pt>
                <c:pt idx="718">
                  <c:v>-3.17460992907801</c:v>
                </c:pt>
                <c:pt idx="719">
                  <c:v>-3.165871886121</c:v>
                </c:pt>
                <c:pt idx="720">
                  <c:v>-3.15714285714286</c:v>
                </c:pt>
                <c:pt idx="721">
                  <c:v>-3.1484229390681</c:v>
                </c:pt>
                <c:pt idx="722">
                  <c:v>-3.13971223021583</c:v>
                </c:pt>
                <c:pt idx="723">
                  <c:v>-3.13101083032491</c:v>
                </c:pt>
                <c:pt idx="724">
                  <c:v>-3.12231884057971</c:v>
                </c:pt>
                <c:pt idx="725">
                  <c:v>-3.11363636363636</c:v>
                </c:pt>
                <c:pt idx="726">
                  <c:v>-3.10496350364964</c:v>
                </c:pt>
                <c:pt idx="727">
                  <c:v>-3.09630036630037</c:v>
                </c:pt>
                <c:pt idx="728">
                  <c:v>-3.08764705882353</c:v>
                </c:pt>
                <c:pt idx="729">
                  <c:v>-3.0790036900369</c:v>
                </c:pt>
                <c:pt idx="730">
                  <c:v>-3.07037037037037</c:v>
                </c:pt>
                <c:pt idx="731">
                  <c:v>-3.06174721189591</c:v>
                </c:pt>
                <c:pt idx="732">
                  <c:v>-3.05313432835821</c:v>
                </c:pt>
                <c:pt idx="733">
                  <c:v>-3.04453183520599</c:v>
                </c:pt>
                <c:pt idx="734">
                  <c:v>-3.03593984962406</c:v>
                </c:pt>
                <c:pt idx="735">
                  <c:v>-3.02735849056604</c:v>
                </c:pt>
                <c:pt idx="736">
                  <c:v>-3.01878787878788</c:v>
                </c:pt>
                <c:pt idx="737">
                  <c:v>-3.01022813688213</c:v>
                </c:pt>
                <c:pt idx="738">
                  <c:v>-3.00167938931298</c:v>
                </c:pt>
                <c:pt idx="739">
                  <c:v>-2.99314176245211</c:v>
                </c:pt>
                <c:pt idx="740">
                  <c:v>-2.98461538461538</c:v>
                </c:pt>
                <c:pt idx="741">
                  <c:v>-2.97610038610039</c:v>
                </c:pt>
                <c:pt idx="742">
                  <c:v>-2.96759689922481</c:v>
                </c:pt>
                <c:pt idx="743">
                  <c:v>-2.95910505836576</c:v>
                </c:pt>
                <c:pt idx="744">
                  <c:v>-2.950625</c:v>
                </c:pt>
                <c:pt idx="745">
                  <c:v>-2.9421568627451</c:v>
                </c:pt>
                <c:pt idx="746">
                  <c:v>-2.93370078740158</c:v>
                </c:pt>
                <c:pt idx="747">
                  <c:v>-2.92525691699605</c:v>
                </c:pt>
                <c:pt idx="748">
                  <c:v>-2.9168253968254</c:v>
                </c:pt>
                <c:pt idx="749">
                  <c:v>-2.90840637450199</c:v>
                </c:pt>
                <c:pt idx="750">
                  <c:v>-2.9</c:v>
                </c:pt>
                <c:pt idx="751">
                  <c:v>-2.89160642570281</c:v>
                </c:pt>
                <c:pt idx="752">
                  <c:v>-2.88322580645161</c:v>
                </c:pt>
                <c:pt idx="753">
                  <c:v>-2.87485829959514</c:v>
                </c:pt>
                <c:pt idx="754">
                  <c:v>-2.86650406504065</c:v>
                </c:pt>
                <c:pt idx="755">
                  <c:v>-2.85816326530612</c:v>
                </c:pt>
                <c:pt idx="756">
                  <c:v>-2.84983606557377</c:v>
                </c:pt>
                <c:pt idx="757">
                  <c:v>-2.84152263374486</c:v>
                </c:pt>
                <c:pt idx="758">
                  <c:v>-2.83322314049587</c:v>
                </c:pt>
                <c:pt idx="759">
                  <c:v>-2.8249377593361</c:v>
                </c:pt>
                <c:pt idx="760">
                  <c:v>-2.81666666666667</c:v>
                </c:pt>
                <c:pt idx="761">
                  <c:v>-2.808410041841</c:v>
                </c:pt>
                <c:pt idx="762">
                  <c:v>-2.80016806722689</c:v>
                </c:pt>
                <c:pt idx="763">
                  <c:v>-2.79194092827004</c:v>
                </c:pt>
                <c:pt idx="764">
                  <c:v>-2.78372881355932</c:v>
                </c:pt>
                <c:pt idx="765">
                  <c:v>-2.77553191489362</c:v>
                </c:pt>
                <c:pt idx="766">
                  <c:v>-2.76735042735043</c:v>
                </c:pt>
                <c:pt idx="767">
                  <c:v>-2.75918454935622</c:v>
                </c:pt>
                <c:pt idx="768">
                  <c:v>-2.75103448275862</c:v>
                </c:pt>
                <c:pt idx="769">
                  <c:v>-2.74290043290043</c:v>
                </c:pt>
                <c:pt idx="770">
                  <c:v>-2.73478260869565</c:v>
                </c:pt>
                <c:pt idx="771">
                  <c:v>-2.72668122270742</c:v>
                </c:pt>
                <c:pt idx="772">
                  <c:v>-2.71859649122807</c:v>
                </c:pt>
                <c:pt idx="773">
                  <c:v>-2.71052863436123</c:v>
                </c:pt>
                <c:pt idx="774">
                  <c:v>-2.70247787610619</c:v>
                </c:pt>
                <c:pt idx="775">
                  <c:v>-2.69444444444444</c:v>
                </c:pt>
                <c:pt idx="776">
                  <c:v>-2.68642857142857</c:v>
                </c:pt>
                <c:pt idx="777">
                  <c:v>-2.67843049327354</c:v>
                </c:pt>
                <c:pt idx="778">
                  <c:v>-2.67045045045045</c:v>
                </c:pt>
                <c:pt idx="779">
                  <c:v>-2.66248868778281</c:v>
                </c:pt>
                <c:pt idx="780">
                  <c:v>-2.65454545454545</c:v>
                </c:pt>
                <c:pt idx="781">
                  <c:v>-2.64662100456621</c:v>
                </c:pt>
                <c:pt idx="782">
                  <c:v>-2.63871559633028</c:v>
                </c:pt>
                <c:pt idx="783">
                  <c:v>-2.63082949308756</c:v>
                </c:pt>
                <c:pt idx="784">
                  <c:v>-2.62296296296296</c:v>
                </c:pt>
                <c:pt idx="785">
                  <c:v>-2.61511627906977</c:v>
                </c:pt>
                <c:pt idx="786">
                  <c:v>-2.60728971962617</c:v>
                </c:pt>
                <c:pt idx="787">
                  <c:v>-2.59948356807512</c:v>
                </c:pt>
                <c:pt idx="788">
                  <c:v>-2.59169811320755</c:v>
                </c:pt>
                <c:pt idx="789">
                  <c:v>-2.5839336492891</c:v>
                </c:pt>
                <c:pt idx="790">
                  <c:v>-2.57619047619048</c:v>
                </c:pt>
                <c:pt idx="791">
                  <c:v>-2.56846889952153</c:v>
                </c:pt>
                <c:pt idx="792">
                  <c:v>-2.56076923076923</c:v>
                </c:pt>
                <c:pt idx="793">
                  <c:v>-2.55309178743961</c:v>
                </c:pt>
                <c:pt idx="794">
                  <c:v>-2.54543689320388</c:v>
                </c:pt>
                <c:pt idx="795">
                  <c:v>-2.53780487804878</c:v>
                </c:pt>
                <c:pt idx="796">
                  <c:v>-2.53019607843137</c:v>
                </c:pt>
                <c:pt idx="797">
                  <c:v>-2.52261083743842</c:v>
                </c:pt>
                <c:pt idx="798">
                  <c:v>-2.51504950495049</c:v>
                </c:pt>
                <c:pt idx="799">
                  <c:v>-2.50751243781095</c:v>
                </c:pt>
                <c:pt idx="800">
                  <c:v>-2.5</c:v>
                </c:pt>
                <c:pt idx="801">
                  <c:v>-2.49251256281407</c:v>
                </c:pt>
                <c:pt idx="802">
                  <c:v>-2.48505050505051</c:v>
                </c:pt>
                <c:pt idx="803">
                  <c:v>-2.47761421319797</c:v>
                </c:pt>
                <c:pt idx="804">
                  <c:v>-2.47020408163265</c:v>
                </c:pt>
                <c:pt idx="805">
                  <c:v>-2.46282051282051</c:v>
                </c:pt>
                <c:pt idx="806">
                  <c:v>-2.45546391752577</c:v>
                </c:pt>
                <c:pt idx="807">
                  <c:v>-2.44813471502591</c:v>
                </c:pt>
                <c:pt idx="808">
                  <c:v>-2.44083333333333</c:v>
                </c:pt>
                <c:pt idx="809">
                  <c:v>-2.43356020942408</c:v>
                </c:pt>
                <c:pt idx="810">
                  <c:v>-2.42631578947368</c:v>
                </c:pt>
                <c:pt idx="811">
                  <c:v>-2.41910052910053</c:v>
                </c:pt>
                <c:pt idx="812">
                  <c:v>-2.41191489361702</c:v>
                </c:pt>
                <c:pt idx="813">
                  <c:v>-2.40475935828877</c:v>
                </c:pt>
                <c:pt idx="814">
                  <c:v>-2.39763440860215</c:v>
                </c:pt>
                <c:pt idx="815">
                  <c:v>-2.39054054054054</c:v>
                </c:pt>
                <c:pt idx="816">
                  <c:v>-2.38347826086957</c:v>
                </c:pt>
                <c:pt idx="817">
                  <c:v>-2.37644808743169</c:v>
                </c:pt>
                <c:pt idx="818">
                  <c:v>-2.36945054945055</c:v>
                </c:pt>
                <c:pt idx="819">
                  <c:v>-2.3624861878453</c:v>
                </c:pt>
                <c:pt idx="820">
                  <c:v>-2.35555555555556</c:v>
                </c:pt>
                <c:pt idx="821">
                  <c:v>-2.34865921787709</c:v>
                </c:pt>
                <c:pt idx="822">
                  <c:v>-2.34179775280899</c:v>
                </c:pt>
                <c:pt idx="823">
                  <c:v>-2.33497175141243</c:v>
                </c:pt>
                <c:pt idx="824">
                  <c:v>-2.32818181818182</c:v>
                </c:pt>
                <c:pt idx="825">
                  <c:v>-2.32142857142857</c:v>
                </c:pt>
                <c:pt idx="826">
                  <c:v>-2.31471264367816</c:v>
                </c:pt>
                <c:pt idx="827">
                  <c:v>-2.30803468208093</c:v>
                </c:pt>
                <c:pt idx="828">
                  <c:v>-2.30139534883721</c:v>
                </c:pt>
                <c:pt idx="829">
                  <c:v>-2.29479532163743</c:v>
                </c:pt>
                <c:pt idx="830">
                  <c:v>-2.28823529411765</c:v>
                </c:pt>
                <c:pt idx="831">
                  <c:v>-2.28171597633136</c:v>
                </c:pt>
                <c:pt idx="832">
                  <c:v>-2.2752380952381</c:v>
                </c:pt>
                <c:pt idx="833">
                  <c:v>-2.26880239520958</c:v>
                </c:pt>
                <c:pt idx="834">
                  <c:v>-2.26240963855422</c:v>
                </c:pt>
                <c:pt idx="835">
                  <c:v>-2.25606060606061</c:v>
                </c:pt>
                <c:pt idx="836">
                  <c:v>-2.24975609756098</c:v>
                </c:pt>
                <c:pt idx="837">
                  <c:v>-2.24349693251534</c:v>
                </c:pt>
                <c:pt idx="838">
                  <c:v>-2.23728395061728</c:v>
                </c:pt>
                <c:pt idx="839">
                  <c:v>-2.23111801242236</c:v>
                </c:pt>
                <c:pt idx="840">
                  <c:v>-2.225</c:v>
                </c:pt>
                <c:pt idx="841">
                  <c:v>-2.21893081761006</c:v>
                </c:pt>
                <c:pt idx="842">
                  <c:v>-2.21291139240506</c:v>
                </c:pt>
                <c:pt idx="843">
                  <c:v>-2.20694267515924</c:v>
                </c:pt>
                <c:pt idx="844">
                  <c:v>-2.20102564102564</c:v>
                </c:pt>
                <c:pt idx="845">
                  <c:v>-2.19516129032258</c:v>
                </c:pt>
                <c:pt idx="846">
                  <c:v>-2.18935064935065</c:v>
                </c:pt>
                <c:pt idx="847">
                  <c:v>-2.18359477124183</c:v>
                </c:pt>
                <c:pt idx="848">
                  <c:v>-2.17789473684211</c:v>
                </c:pt>
                <c:pt idx="849">
                  <c:v>-2.17225165562914</c:v>
                </c:pt>
                <c:pt idx="850">
                  <c:v>-2.16666666666667</c:v>
                </c:pt>
                <c:pt idx="851">
                  <c:v>-2.16114093959732</c:v>
                </c:pt>
                <c:pt idx="852">
                  <c:v>-2.15567567567568</c:v>
                </c:pt>
                <c:pt idx="853">
                  <c:v>-2.15027210884354</c:v>
                </c:pt>
                <c:pt idx="854">
                  <c:v>-2.14493150684931</c:v>
                </c:pt>
                <c:pt idx="855">
                  <c:v>-2.13965517241379</c:v>
                </c:pt>
                <c:pt idx="856">
                  <c:v>-2.13444444444444</c:v>
                </c:pt>
                <c:pt idx="857">
                  <c:v>-2.1293006993007</c:v>
                </c:pt>
                <c:pt idx="858">
                  <c:v>-2.12422535211268</c:v>
                </c:pt>
                <c:pt idx="859">
                  <c:v>-2.11921985815603</c:v>
                </c:pt>
                <c:pt idx="860">
                  <c:v>-2.11428571428571</c:v>
                </c:pt>
                <c:pt idx="861">
                  <c:v>-2.10942446043166</c:v>
                </c:pt>
                <c:pt idx="862">
                  <c:v>-2.10463768115942</c:v>
                </c:pt>
                <c:pt idx="863">
                  <c:v>-2.09992700729927</c:v>
                </c:pt>
                <c:pt idx="864">
                  <c:v>-2.09529411764706</c:v>
                </c:pt>
                <c:pt idx="865">
                  <c:v>-2.09074074074074</c:v>
                </c:pt>
                <c:pt idx="866">
                  <c:v>-2.08626865671642</c:v>
                </c:pt>
                <c:pt idx="867">
                  <c:v>-2.08187969924812</c:v>
                </c:pt>
                <c:pt idx="868">
                  <c:v>-2.07757575757576</c:v>
                </c:pt>
                <c:pt idx="869">
                  <c:v>-2.07335877862595</c:v>
                </c:pt>
                <c:pt idx="870">
                  <c:v>-2.06923076923077</c:v>
                </c:pt>
                <c:pt idx="871">
                  <c:v>-2.06519379844961</c:v>
                </c:pt>
                <c:pt idx="872">
                  <c:v>-2.06125</c:v>
                </c:pt>
                <c:pt idx="873">
                  <c:v>-2.05740157480315</c:v>
                </c:pt>
                <c:pt idx="874">
                  <c:v>-2.05365079365079</c:v>
                </c:pt>
                <c:pt idx="875">
                  <c:v>-2.05</c:v>
                </c:pt>
                <c:pt idx="876">
                  <c:v>-2.04645161290323</c:v>
                </c:pt>
                <c:pt idx="877">
                  <c:v>-2.0430081300813</c:v>
                </c:pt>
                <c:pt idx="878">
                  <c:v>-2.03967213114754</c:v>
                </c:pt>
                <c:pt idx="879">
                  <c:v>-2.03644628099174</c:v>
                </c:pt>
                <c:pt idx="880">
                  <c:v>-2.03333333333333</c:v>
                </c:pt>
                <c:pt idx="881">
                  <c:v>-2.03033613445378</c:v>
                </c:pt>
                <c:pt idx="882">
                  <c:v>-2.02745762711864</c:v>
                </c:pt>
                <c:pt idx="883">
                  <c:v>-2.02470085470085</c:v>
                </c:pt>
                <c:pt idx="884">
                  <c:v>-2.02206896551724</c:v>
                </c:pt>
                <c:pt idx="885">
                  <c:v>-2.0195652173913</c:v>
                </c:pt>
                <c:pt idx="886">
                  <c:v>-2.01719298245614</c:v>
                </c:pt>
                <c:pt idx="887">
                  <c:v>-2.01495575221239</c:v>
                </c:pt>
                <c:pt idx="888">
                  <c:v>-2.01285714285714</c:v>
                </c:pt>
                <c:pt idx="889">
                  <c:v>-2.0109009009009</c:v>
                </c:pt>
                <c:pt idx="890">
                  <c:v>-2.00909090909091</c:v>
                </c:pt>
                <c:pt idx="891">
                  <c:v>-2.00743119266055</c:v>
                </c:pt>
                <c:pt idx="892">
                  <c:v>-2.00592592592593</c:v>
                </c:pt>
                <c:pt idx="893">
                  <c:v>-2.00457943925234</c:v>
                </c:pt>
                <c:pt idx="894">
                  <c:v>-2.00339622641509</c:v>
                </c:pt>
                <c:pt idx="895">
                  <c:v>-2.00238095238095</c:v>
                </c:pt>
                <c:pt idx="896">
                  <c:v>-2.00153846153846</c:v>
                </c:pt>
                <c:pt idx="897">
                  <c:v>-2.00087378640777</c:v>
                </c:pt>
                <c:pt idx="898">
                  <c:v>-2.00039215686275</c:v>
                </c:pt>
                <c:pt idx="899">
                  <c:v>-2.00009900990099</c:v>
                </c:pt>
                <c:pt idx="900">
                  <c:v>-2</c:v>
                </c:pt>
                <c:pt idx="901">
                  <c:v>-2.00010101010101</c:v>
                </c:pt>
                <c:pt idx="902">
                  <c:v>-2.00040816326531</c:v>
                </c:pt>
                <c:pt idx="903">
                  <c:v>-2.00092783505155</c:v>
                </c:pt>
                <c:pt idx="904">
                  <c:v>-2.00166666666667</c:v>
                </c:pt>
                <c:pt idx="905">
                  <c:v>-2.00263157894737</c:v>
                </c:pt>
                <c:pt idx="906">
                  <c:v>-2.00382978723404</c:v>
                </c:pt>
                <c:pt idx="907">
                  <c:v>-2.0052688172043</c:v>
                </c:pt>
                <c:pt idx="908">
                  <c:v>-2.00695652173913</c:v>
                </c:pt>
                <c:pt idx="909">
                  <c:v>-2.0089010989011</c:v>
                </c:pt>
                <c:pt idx="910">
                  <c:v>-2.01111111111111</c:v>
                </c:pt>
                <c:pt idx="911">
                  <c:v>-2.01359550561798</c:v>
                </c:pt>
                <c:pt idx="912">
                  <c:v>-2.01636363636364</c:v>
                </c:pt>
                <c:pt idx="913">
                  <c:v>-2.01942528735632</c:v>
                </c:pt>
                <c:pt idx="914">
                  <c:v>-2.02279069767442</c:v>
                </c:pt>
                <c:pt idx="915">
                  <c:v>-2.02647058823529</c:v>
                </c:pt>
                <c:pt idx="916">
                  <c:v>-2.03047619047619</c:v>
                </c:pt>
                <c:pt idx="917">
                  <c:v>-2.03481927710843</c:v>
                </c:pt>
                <c:pt idx="918">
                  <c:v>-2.03951219512195</c:v>
                </c:pt>
                <c:pt idx="919">
                  <c:v>-2.04456790123457</c:v>
                </c:pt>
                <c:pt idx="920">
                  <c:v>-2.05</c:v>
                </c:pt>
                <c:pt idx="921">
                  <c:v>-2.05582278481013</c:v>
                </c:pt>
                <c:pt idx="922">
                  <c:v>-2.06205128205128</c:v>
                </c:pt>
                <c:pt idx="923">
                  <c:v>-2.0687012987013</c:v>
                </c:pt>
                <c:pt idx="924">
                  <c:v>-2.07578947368421</c:v>
                </c:pt>
                <c:pt idx="925">
                  <c:v>-2.08333333333333</c:v>
                </c:pt>
                <c:pt idx="926">
                  <c:v>-2.09135135135135</c:v>
                </c:pt>
                <c:pt idx="927">
                  <c:v>-2.09986301369863</c:v>
                </c:pt>
                <c:pt idx="928">
                  <c:v>-2.10888888888889</c:v>
                </c:pt>
                <c:pt idx="929">
                  <c:v>-2.11845070422535</c:v>
                </c:pt>
                <c:pt idx="930">
                  <c:v>-2.12857142857143</c:v>
                </c:pt>
                <c:pt idx="931">
                  <c:v>-2.13927536231884</c:v>
                </c:pt>
                <c:pt idx="932">
                  <c:v>-2.15058823529412</c:v>
                </c:pt>
                <c:pt idx="933">
                  <c:v>-2.16253731343284</c:v>
                </c:pt>
                <c:pt idx="934">
                  <c:v>-2.17515151515152</c:v>
                </c:pt>
                <c:pt idx="935">
                  <c:v>-2.18846153846154</c:v>
                </c:pt>
                <c:pt idx="936">
                  <c:v>-2.2025</c:v>
                </c:pt>
                <c:pt idx="937">
                  <c:v>-2.21730158730159</c:v>
                </c:pt>
                <c:pt idx="938">
                  <c:v>-2.23290322580645</c:v>
                </c:pt>
                <c:pt idx="939">
                  <c:v>-2.24934426229508</c:v>
                </c:pt>
                <c:pt idx="940">
                  <c:v>-2.26666666666667</c:v>
                </c:pt>
                <c:pt idx="941">
                  <c:v>-2.28491525423729</c:v>
                </c:pt>
                <c:pt idx="942">
                  <c:v>-2.30413793103448</c:v>
                </c:pt>
                <c:pt idx="943">
                  <c:v>-2.32438596491228</c:v>
                </c:pt>
                <c:pt idx="944">
                  <c:v>-2.34571428571428</c:v>
                </c:pt>
                <c:pt idx="945">
                  <c:v>-2.36818181818182</c:v>
                </c:pt>
                <c:pt idx="946">
                  <c:v>-2.39185185185185</c:v>
                </c:pt>
                <c:pt idx="947">
                  <c:v>-2.41679245283019</c:v>
                </c:pt>
                <c:pt idx="948">
                  <c:v>-2.44307692307692</c:v>
                </c:pt>
                <c:pt idx="949">
                  <c:v>-2.47078431372549</c:v>
                </c:pt>
                <c:pt idx="950">
                  <c:v>-2.5</c:v>
                </c:pt>
                <c:pt idx="951">
                  <c:v>-2.53081632653061</c:v>
                </c:pt>
                <c:pt idx="952">
                  <c:v>-2.56333333333333</c:v>
                </c:pt>
                <c:pt idx="953">
                  <c:v>-2.59765957446808</c:v>
                </c:pt>
                <c:pt idx="954">
                  <c:v>-2.63391304347826</c:v>
                </c:pt>
                <c:pt idx="955">
                  <c:v>-2.67222222222223</c:v>
                </c:pt>
                <c:pt idx="956">
                  <c:v>-2.71272727272727</c:v>
                </c:pt>
                <c:pt idx="957">
                  <c:v>-2.75558139534884</c:v>
                </c:pt>
                <c:pt idx="958">
                  <c:v>-2.80095238095238</c:v>
                </c:pt>
                <c:pt idx="959">
                  <c:v>-2.8490243902439</c:v>
                </c:pt>
                <c:pt idx="960">
                  <c:v>-2.9</c:v>
                </c:pt>
                <c:pt idx="961">
                  <c:v>-2.95410256410256</c:v>
                </c:pt>
                <c:pt idx="962">
                  <c:v>-3.01157894736843</c:v>
                </c:pt>
                <c:pt idx="963">
                  <c:v>-3.07270270270271</c:v>
                </c:pt>
                <c:pt idx="964">
                  <c:v>-3.13777777777778</c:v>
                </c:pt>
                <c:pt idx="965">
                  <c:v>-3.20714285714286</c:v>
                </c:pt>
                <c:pt idx="966">
                  <c:v>-3.28117647058824</c:v>
                </c:pt>
                <c:pt idx="967">
                  <c:v>-3.36030303030303</c:v>
                </c:pt>
                <c:pt idx="968">
                  <c:v>-3.445</c:v>
                </c:pt>
                <c:pt idx="969">
                  <c:v>-3.5358064516129</c:v>
                </c:pt>
                <c:pt idx="970">
                  <c:v>-3.63333333333334</c:v>
                </c:pt>
                <c:pt idx="971">
                  <c:v>-3.73827586206897</c:v>
                </c:pt>
                <c:pt idx="972">
                  <c:v>-3.85142857142858</c:v>
                </c:pt>
                <c:pt idx="973">
                  <c:v>-3.97370370370371</c:v>
                </c:pt>
                <c:pt idx="974">
                  <c:v>-4.10615384615385</c:v>
                </c:pt>
                <c:pt idx="975">
                  <c:v>-4.25</c:v>
                </c:pt>
                <c:pt idx="976">
                  <c:v>-4.40666666666666</c:v>
                </c:pt>
                <c:pt idx="977">
                  <c:v>-4.57782608695651</c:v>
                </c:pt>
                <c:pt idx="978">
                  <c:v>-4.76545454545453</c:v>
                </c:pt>
                <c:pt idx="979">
                  <c:v>-4.97190476190478</c:v>
                </c:pt>
                <c:pt idx="980">
                  <c:v>-5.20000000000002</c:v>
                </c:pt>
                <c:pt idx="981">
                  <c:v>-5.45315789473686</c:v>
                </c:pt>
                <c:pt idx="982">
                  <c:v>-5.73555555555556</c:v>
                </c:pt>
                <c:pt idx="983">
                  <c:v>-6.05235294117647</c:v>
                </c:pt>
                <c:pt idx="984">
                  <c:v>-6.41</c:v>
                </c:pt>
                <c:pt idx="985">
                  <c:v>-6.81666666666665</c:v>
                </c:pt>
                <c:pt idx="986">
                  <c:v>-7.28285714285711</c:v>
                </c:pt>
                <c:pt idx="987">
                  <c:v>-7.82230769230775</c:v>
                </c:pt>
                <c:pt idx="988">
                  <c:v>-8.45333333333339</c:v>
                </c:pt>
                <c:pt idx="989">
                  <c:v>-9.20090909090914</c:v>
                </c:pt>
                <c:pt idx="990">
                  <c:v>-10.1</c:v>
                </c:pt>
                <c:pt idx="991">
                  <c:v>-11.2011111111111</c:v>
                </c:pt>
                <c:pt idx="992">
                  <c:v>-12.58</c:v>
                </c:pt>
                <c:pt idx="993">
                  <c:v>-14.3557142857142</c:v>
                </c:pt>
                <c:pt idx="994">
                  <c:v>-16.7266666666665</c:v>
                </c:pt>
                <c:pt idx="995">
                  <c:v>-20.0500000000004</c:v>
                </c:pt>
                <c:pt idx="996">
                  <c:v>-25.0400000000005</c:v>
                </c:pt>
                <c:pt idx="997">
                  <c:v>-33.3633333333341</c:v>
                </c:pt>
                <c:pt idx="998">
                  <c:v>-50.0200000000011</c:v>
                </c:pt>
                <c:pt idx="999">
                  <c:v>-100.010000000002</c:v>
                </c:pt>
                <c:pt idx="1001">
                  <c:v>100.010000000002</c:v>
                </c:pt>
                <c:pt idx="1002">
                  <c:v>50.0200000000011</c:v>
                </c:pt>
                <c:pt idx="1003">
                  <c:v>33.3633333333341</c:v>
                </c:pt>
                <c:pt idx="1004">
                  <c:v>25.0399999999994</c:v>
                </c:pt>
                <c:pt idx="1005">
                  <c:v>20.0499999999997</c:v>
                </c:pt>
                <c:pt idx="1006">
                  <c:v>16.7266666666665</c:v>
                </c:pt>
                <c:pt idx="1007">
                  <c:v>14.3557142857142</c:v>
                </c:pt>
                <c:pt idx="1008">
                  <c:v>12.58</c:v>
                </c:pt>
                <c:pt idx="1009">
                  <c:v>11.2011111111111</c:v>
                </c:pt>
                <c:pt idx="1010">
                  <c:v>10.1</c:v>
                </c:pt>
                <c:pt idx="1011">
                  <c:v>9.20090909090914</c:v>
                </c:pt>
                <c:pt idx="1012">
                  <c:v>8.45333333333327</c:v>
                </c:pt>
                <c:pt idx="1013">
                  <c:v>7.82230769230765</c:v>
                </c:pt>
                <c:pt idx="1014">
                  <c:v>7.28285714285711</c:v>
                </c:pt>
                <c:pt idx="1015">
                  <c:v>6.81666666666665</c:v>
                </c:pt>
                <c:pt idx="1016">
                  <c:v>6.41</c:v>
                </c:pt>
                <c:pt idx="1017">
                  <c:v>6.05235294117647</c:v>
                </c:pt>
                <c:pt idx="1018">
                  <c:v>5.73555555555556</c:v>
                </c:pt>
                <c:pt idx="1019">
                  <c:v>5.45315789473686</c:v>
                </c:pt>
                <c:pt idx="1020">
                  <c:v>5.19999999999997</c:v>
                </c:pt>
                <c:pt idx="1021">
                  <c:v>4.97190476190474</c:v>
                </c:pt>
                <c:pt idx="1022">
                  <c:v>4.76545454545453</c:v>
                </c:pt>
                <c:pt idx="1023">
                  <c:v>4.57782608695651</c:v>
                </c:pt>
                <c:pt idx="1024">
                  <c:v>4.40666666666666</c:v>
                </c:pt>
                <c:pt idx="1025">
                  <c:v>4.25</c:v>
                </c:pt>
                <c:pt idx="1026">
                  <c:v>4.10615384615385</c:v>
                </c:pt>
                <c:pt idx="1027">
                  <c:v>3.97370370370371</c:v>
                </c:pt>
                <c:pt idx="1028">
                  <c:v>3.85142857142858</c:v>
                </c:pt>
                <c:pt idx="1029">
                  <c:v>3.73827586206896</c:v>
                </c:pt>
                <c:pt idx="1030">
                  <c:v>3.63333333333333</c:v>
                </c:pt>
                <c:pt idx="1031">
                  <c:v>3.5358064516129</c:v>
                </c:pt>
                <c:pt idx="1032">
                  <c:v>3.445</c:v>
                </c:pt>
                <c:pt idx="1033">
                  <c:v>3.36030303030303</c:v>
                </c:pt>
                <c:pt idx="1034">
                  <c:v>3.28117647058824</c:v>
                </c:pt>
                <c:pt idx="1035">
                  <c:v>3.20714285714286</c:v>
                </c:pt>
                <c:pt idx="1036">
                  <c:v>3.13777777777778</c:v>
                </c:pt>
                <c:pt idx="1037">
                  <c:v>3.0727027027027</c:v>
                </c:pt>
                <c:pt idx="1038">
                  <c:v>3.01157894736842</c:v>
                </c:pt>
                <c:pt idx="1039">
                  <c:v>2.95410256410256</c:v>
                </c:pt>
                <c:pt idx="1040">
                  <c:v>2.9</c:v>
                </c:pt>
                <c:pt idx="1041">
                  <c:v>2.8490243902439</c:v>
                </c:pt>
                <c:pt idx="1042">
                  <c:v>2.80095238095238</c:v>
                </c:pt>
                <c:pt idx="1043">
                  <c:v>2.75558139534884</c:v>
                </c:pt>
                <c:pt idx="1044">
                  <c:v>2.71272727272727</c:v>
                </c:pt>
                <c:pt idx="1045">
                  <c:v>2.67222222222222</c:v>
                </c:pt>
                <c:pt idx="1046">
                  <c:v>2.63391304347826</c:v>
                </c:pt>
                <c:pt idx="1047">
                  <c:v>2.59765957446808</c:v>
                </c:pt>
                <c:pt idx="1048">
                  <c:v>2.56333333333333</c:v>
                </c:pt>
                <c:pt idx="1049">
                  <c:v>2.53081632653061</c:v>
                </c:pt>
                <c:pt idx="1050">
                  <c:v>2.5</c:v>
                </c:pt>
                <c:pt idx="1051">
                  <c:v>2.47078431372549</c:v>
                </c:pt>
                <c:pt idx="1052">
                  <c:v>2.44307692307692</c:v>
                </c:pt>
                <c:pt idx="1053">
                  <c:v>2.41679245283019</c:v>
                </c:pt>
                <c:pt idx="1054">
                  <c:v>2.39185185185185</c:v>
                </c:pt>
                <c:pt idx="1055">
                  <c:v>2.36818181818182</c:v>
                </c:pt>
                <c:pt idx="1056">
                  <c:v>2.34571428571428</c:v>
                </c:pt>
                <c:pt idx="1057">
                  <c:v>2.32438596491228</c:v>
                </c:pt>
                <c:pt idx="1058">
                  <c:v>2.30413793103448</c:v>
                </c:pt>
                <c:pt idx="1059">
                  <c:v>2.28491525423729</c:v>
                </c:pt>
                <c:pt idx="1060">
                  <c:v>2.26666666666667</c:v>
                </c:pt>
                <c:pt idx="1061">
                  <c:v>2.24934426229508</c:v>
                </c:pt>
                <c:pt idx="1062">
                  <c:v>2.23290322580645</c:v>
                </c:pt>
                <c:pt idx="1063">
                  <c:v>2.21730158730159</c:v>
                </c:pt>
                <c:pt idx="1064">
                  <c:v>2.2025</c:v>
                </c:pt>
                <c:pt idx="1065">
                  <c:v>2.18846153846154</c:v>
                </c:pt>
                <c:pt idx="1066">
                  <c:v>2.17515151515152</c:v>
                </c:pt>
                <c:pt idx="1067">
                  <c:v>2.16253731343284</c:v>
                </c:pt>
                <c:pt idx="1068">
                  <c:v>2.15058823529412</c:v>
                </c:pt>
                <c:pt idx="1069">
                  <c:v>2.13927536231884</c:v>
                </c:pt>
                <c:pt idx="1070">
                  <c:v>2.12857142857143</c:v>
                </c:pt>
                <c:pt idx="1071">
                  <c:v>2.11845070422535</c:v>
                </c:pt>
                <c:pt idx="1072">
                  <c:v>2.10888888888889</c:v>
                </c:pt>
                <c:pt idx="1073">
                  <c:v>2.09986301369863</c:v>
                </c:pt>
                <c:pt idx="1074">
                  <c:v>2.09135135135135</c:v>
                </c:pt>
                <c:pt idx="1075">
                  <c:v>2.08333333333333</c:v>
                </c:pt>
                <c:pt idx="1076">
                  <c:v>2.07578947368421</c:v>
                </c:pt>
                <c:pt idx="1077">
                  <c:v>2.0687012987013</c:v>
                </c:pt>
                <c:pt idx="1078">
                  <c:v>2.06205128205128</c:v>
                </c:pt>
                <c:pt idx="1079">
                  <c:v>2.05582278481013</c:v>
                </c:pt>
                <c:pt idx="1080">
                  <c:v>2.05</c:v>
                </c:pt>
                <c:pt idx="1081">
                  <c:v>2.04456790123457</c:v>
                </c:pt>
                <c:pt idx="1082">
                  <c:v>2.03951219512195</c:v>
                </c:pt>
                <c:pt idx="1083">
                  <c:v>2.03481927710843</c:v>
                </c:pt>
                <c:pt idx="1084">
                  <c:v>2.03047619047619</c:v>
                </c:pt>
                <c:pt idx="1085">
                  <c:v>2.02647058823529</c:v>
                </c:pt>
                <c:pt idx="1086">
                  <c:v>2.02279069767442</c:v>
                </c:pt>
                <c:pt idx="1087">
                  <c:v>2.01942528735632</c:v>
                </c:pt>
                <c:pt idx="1088">
                  <c:v>2.01636363636364</c:v>
                </c:pt>
                <c:pt idx="1089">
                  <c:v>2.01359550561798</c:v>
                </c:pt>
                <c:pt idx="1090">
                  <c:v>2.01111111111111</c:v>
                </c:pt>
                <c:pt idx="1091">
                  <c:v>2.0089010989011</c:v>
                </c:pt>
                <c:pt idx="1092">
                  <c:v>2.00695652173913</c:v>
                </c:pt>
                <c:pt idx="1093">
                  <c:v>2.0052688172043</c:v>
                </c:pt>
                <c:pt idx="1094">
                  <c:v>2.00382978723404</c:v>
                </c:pt>
                <c:pt idx="1095">
                  <c:v>2.00263157894737</c:v>
                </c:pt>
                <c:pt idx="1096">
                  <c:v>2.00166666666667</c:v>
                </c:pt>
                <c:pt idx="1097">
                  <c:v>2.00092783505155</c:v>
                </c:pt>
                <c:pt idx="1098">
                  <c:v>2.00040816326531</c:v>
                </c:pt>
                <c:pt idx="1099">
                  <c:v>2.00010101010101</c:v>
                </c:pt>
                <c:pt idx="1100">
                  <c:v>2</c:v>
                </c:pt>
                <c:pt idx="1101">
                  <c:v>2.00009900990099</c:v>
                </c:pt>
                <c:pt idx="1102">
                  <c:v>2.00039215686275</c:v>
                </c:pt>
                <c:pt idx="1103">
                  <c:v>2.00087378640777</c:v>
                </c:pt>
                <c:pt idx="1104">
                  <c:v>2.00153846153846</c:v>
                </c:pt>
                <c:pt idx="1105">
                  <c:v>2.00238095238095</c:v>
                </c:pt>
                <c:pt idx="1106">
                  <c:v>2.00339622641509</c:v>
                </c:pt>
                <c:pt idx="1107">
                  <c:v>2.00457943925234</c:v>
                </c:pt>
                <c:pt idx="1108">
                  <c:v>2.00592592592593</c:v>
                </c:pt>
                <c:pt idx="1109">
                  <c:v>2.00743119266055</c:v>
                </c:pt>
                <c:pt idx="1110">
                  <c:v>2.00909090909091</c:v>
                </c:pt>
                <c:pt idx="1111">
                  <c:v>2.0109009009009</c:v>
                </c:pt>
                <c:pt idx="1112">
                  <c:v>2.01285714285714</c:v>
                </c:pt>
                <c:pt idx="1113">
                  <c:v>2.01495575221239</c:v>
                </c:pt>
                <c:pt idx="1114">
                  <c:v>2.01719298245614</c:v>
                </c:pt>
                <c:pt idx="1115">
                  <c:v>2.0195652173913</c:v>
                </c:pt>
                <c:pt idx="1116">
                  <c:v>2.02206896551724</c:v>
                </c:pt>
                <c:pt idx="1117">
                  <c:v>2.02470085470085</c:v>
                </c:pt>
                <c:pt idx="1118">
                  <c:v>2.02745762711864</c:v>
                </c:pt>
                <c:pt idx="1119">
                  <c:v>2.03033613445378</c:v>
                </c:pt>
                <c:pt idx="1120">
                  <c:v>2.03333333333333</c:v>
                </c:pt>
                <c:pt idx="1121">
                  <c:v>2.03644628099174</c:v>
                </c:pt>
                <c:pt idx="1122">
                  <c:v>2.03967213114754</c:v>
                </c:pt>
                <c:pt idx="1123">
                  <c:v>2.0430081300813</c:v>
                </c:pt>
                <c:pt idx="1124">
                  <c:v>2.04645161290323</c:v>
                </c:pt>
                <c:pt idx="1125">
                  <c:v>2.05</c:v>
                </c:pt>
                <c:pt idx="1126">
                  <c:v>2.05365079365079</c:v>
                </c:pt>
                <c:pt idx="1127">
                  <c:v>2.05740157480315</c:v>
                </c:pt>
                <c:pt idx="1128">
                  <c:v>2.06125</c:v>
                </c:pt>
                <c:pt idx="1129">
                  <c:v>2.06519379844961</c:v>
                </c:pt>
                <c:pt idx="1130">
                  <c:v>2.06923076923077</c:v>
                </c:pt>
                <c:pt idx="1131">
                  <c:v>2.07335877862595</c:v>
                </c:pt>
                <c:pt idx="1132">
                  <c:v>2.07757575757576</c:v>
                </c:pt>
                <c:pt idx="1133">
                  <c:v>2.08187969924812</c:v>
                </c:pt>
                <c:pt idx="1134">
                  <c:v>2.08626865671642</c:v>
                </c:pt>
                <c:pt idx="1135">
                  <c:v>2.09074074074074</c:v>
                </c:pt>
                <c:pt idx="1136">
                  <c:v>2.09529411764706</c:v>
                </c:pt>
                <c:pt idx="1137">
                  <c:v>2.09992700729927</c:v>
                </c:pt>
                <c:pt idx="1138">
                  <c:v>2.10463768115942</c:v>
                </c:pt>
                <c:pt idx="1139">
                  <c:v>2.10942446043166</c:v>
                </c:pt>
                <c:pt idx="1140">
                  <c:v>2.11428571428571</c:v>
                </c:pt>
                <c:pt idx="1141">
                  <c:v>2.11921985815603</c:v>
                </c:pt>
                <c:pt idx="1142">
                  <c:v>2.12422535211268</c:v>
                </c:pt>
                <c:pt idx="1143">
                  <c:v>2.1293006993007</c:v>
                </c:pt>
                <c:pt idx="1144">
                  <c:v>2.13444444444444</c:v>
                </c:pt>
                <c:pt idx="1145">
                  <c:v>2.13965517241379</c:v>
                </c:pt>
                <c:pt idx="1146">
                  <c:v>2.14493150684932</c:v>
                </c:pt>
                <c:pt idx="1147">
                  <c:v>2.15027210884354</c:v>
                </c:pt>
                <c:pt idx="1148">
                  <c:v>2.15567567567568</c:v>
                </c:pt>
                <c:pt idx="1149">
                  <c:v>2.16114093959732</c:v>
                </c:pt>
                <c:pt idx="1150">
                  <c:v>2.16666666666667</c:v>
                </c:pt>
                <c:pt idx="1151">
                  <c:v>2.17225165562914</c:v>
                </c:pt>
                <c:pt idx="1152">
                  <c:v>2.17789473684211</c:v>
                </c:pt>
                <c:pt idx="1153">
                  <c:v>2.18359477124183</c:v>
                </c:pt>
                <c:pt idx="1154">
                  <c:v>2.18935064935065</c:v>
                </c:pt>
                <c:pt idx="1155">
                  <c:v>2.19516129032258</c:v>
                </c:pt>
                <c:pt idx="1156">
                  <c:v>2.20102564102564</c:v>
                </c:pt>
                <c:pt idx="1157">
                  <c:v>2.20694267515924</c:v>
                </c:pt>
                <c:pt idx="1158">
                  <c:v>2.21291139240506</c:v>
                </c:pt>
                <c:pt idx="1159">
                  <c:v>2.21893081761006</c:v>
                </c:pt>
                <c:pt idx="1160">
                  <c:v>2.225</c:v>
                </c:pt>
                <c:pt idx="1161">
                  <c:v>2.23111801242236</c:v>
                </c:pt>
                <c:pt idx="1162">
                  <c:v>2.23728395061728</c:v>
                </c:pt>
                <c:pt idx="1163">
                  <c:v>2.24349693251534</c:v>
                </c:pt>
                <c:pt idx="1164">
                  <c:v>2.24975609756098</c:v>
                </c:pt>
                <c:pt idx="1165">
                  <c:v>2.25606060606061</c:v>
                </c:pt>
                <c:pt idx="1166">
                  <c:v>2.26240963855422</c:v>
                </c:pt>
                <c:pt idx="1167">
                  <c:v>2.26880239520958</c:v>
                </c:pt>
                <c:pt idx="1168">
                  <c:v>2.2752380952381</c:v>
                </c:pt>
                <c:pt idx="1169">
                  <c:v>2.28171597633136</c:v>
                </c:pt>
                <c:pt idx="1170">
                  <c:v>2.28823529411765</c:v>
                </c:pt>
                <c:pt idx="1171">
                  <c:v>2.29479532163743</c:v>
                </c:pt>
                <c:pt idx="1172">
                  <c:v>2.30139534883721</c:v>
                </c:pt>
                <c:pt idx="1173">
                  <c:v>2.30803468208093</c:v>
                </c:pt>
                <c:pt idx="1174">
                  <c:v>2.31471264367816</c:v>
                </c:pt>
                <c:pt idx="1175">
                  <c:v>2.32142857142857</c:v>
                </c:pt>
                <c:pt idx="1176">
                  <c:v>2.32818181818182</c:v>
                </c:pt>
                <c:pt idx="1177">
                  <c:v>2.33497175141243</c:v>
                </c:pt>
                <c:pt idx="1178">
                  <c:v>2.34179775280899</c:v>
                </c:pt>
                <c:pt idx="1179">
                  <c:v>2.3486592178771</c:v>
                </c:pt>
                <c:pt idx="1180">
                  <c:v>2.35555555555556</c:v>
                </c:pt>
                <c:pt idx="1181">
                  <c:v>2.3624861878453</c:v>
                </c:pt>
                <c:pt idx="1182">
                  <c:v>2.36945054945055</c:v>
                </c:pt>
                <c:pt idx="1183">
                  <c:v>2.37644808743169</c:v>
                </c:pt>
                <c:pt idx="1184">
                  <c:v>2.38347826086957</c:v>
                </c:pt>
                <c:pt idx="1185">
                  <c:v>2.39054054054054</c:v>
                </c:pt>
                <c:pt idx="1186">
                  <c:v>2.39763440860215</c:v>
                </c:pt>
                <c:pt idx="1187">
                  <c:v>2.40475935828877</c:v>
                </c:pt>
                <c:pt idx="1188">
                  <c:v>2.41191489361702</c:v>
                </c:pt>
                <c:pt idx="1189">
                  <c:v>2.41910052910053</c:v>
                </c:pt>
                <c:pt idx="1190">
                  <c:v>2.42631578947368</c:v>
                </c:pt>
                <c:pt idx="1191">
                  <c:v>2.43356020942408</c:v>
                </c:pt>
                <c:pt idx="1192">
                  <c:v>2.44083333333333</c:v>
                </c:pt>
                <c:pt idx="1193">
                  <c:v>2.44813471502591</c:v>
                </c:pt>
                <c:pt idx="1194">
                  <c:v>2.45546391752577</c:v>
                </c:pt>
                <c:pt idx="1195">
                  <c:v>2.46282051282051</c:v>
                </c:pt>
                <c:pt idx="1196">
                  <c:v>2.47020408163265</c:v>
                </c:pt>
                <c:pt idx="1197">
                  <c:v>2.47761421319797</c:v>
                </c:pt>
                <c:pt idx="1198">
                  <c:v>2.48505050505051</c:v>
                </c:pt>
                <c:pt idx="1199">
                  <c:v>2.49251256281407</c:v>
                </c:pt>
                <c:pt idx="1200">
                  <c:v>2.5</c:v>
                </c:pt>
                <c:pt idx="1201">
                  <c:v>2.50751243781095</c:v>
                </c:pt>
                <c:pt idx="1202">
                  <c:v>2.51504950495049</c:v>
                </c:pt>
                <c:pt idx="1203">
                  <c:v>2.52261083743842</c:v>
                </c:pt>
                <c:pt idx="1204">
                  <c:v>2.53019607843137</c:v>
                </c:pt>
                <c:pt idx="1205">
                  <c:v>2.53780487804878</c:v>
                </c:pt>
                <c:pt idx="1206">
                  <c:v>2.54543689320388</c:v>
                </c:pt>
                <c:pt idx="1207">
                  <c:v>2.55309178743961</c:v>
                </c:pt>
                <c:pt idx="1208">
                  <c:v>2.56076923076923</c:v>
                </c:pt>
                <c:pt idx="1209">
                  <c:v>2.56846889952153</c:v>
                </c:pt>
                <c:pt idx="1210">
                  <c:v>2.57619047619048</c:v>
                </c:pt>
                <c:pt idx="1211">
                  <c:v>2.5839336492891</c:v>
                </c:pt>
                <c:pt idx="1212">
                  <c:v>2.59169811320755</c:v>
                </c:pt>
                <c:pt idx="1213">
                  <c:v>2.59948356807512</c:v>
                </c:pt>
                <c:pt idx="1214">
                  <c:v>2.60728971962617</c:v>
                </c:pt>
                <c:pt idx="1215">
                  <c:v>2.61511627906977</c:v>
                </c:pt>
                <c:pt idx="1216">
                  <c:v>2.62296296296296</c:v>
                </c:pt>
                <c:pt idx="1217">
                  <c:v>2.63082949308756</c:v>
                </c:pt>
                <c:pt idx="1218">
                  <c:v>2.63871559633028</c:v>
                </c:pt>
                <c:pt idx="1219">
                  <c:v>2.64662100456621</c:v>
                </c:pt>
                <c:pt idx="1220">
                  <c:v>2.65454545454546</c:v>
                </c:pt>
                <c:pt idx="1221">
                  <c:v>2.66248868778281</c:v>
                </c:pt>
                <c:pt idx="1222">
                  <c:v>2.67045045045045</c:v>
                </c:pt>
                <c:pt idx="1223">
                  <c:v>2.67843049327354</c:v>
                </c:pt>
                <c:pt idx="1224">
                  <c:v>2.68642857142857</c:v>
                </c:pt>
                <c:pt idx="1225">
                  <c:v>2.69444444444444</c:v>
                </c:pt>
                <c:pt idx="1226">
                  <c:v>2.70247787610619</c:v>
                </c:pt>
                <c:pt idx="1227">
                  <c:v>2.71052863436123</c:v>
                </c:pt>
                <c:pt idx="1228">
                  <c:v>2.71859649122807</c:v>
                </c:pt>
                <c:pt idx="1229">
                  <c:v>2.72668122270742</c:v>
                </c:pt>
                <c:pt idx="1230">
                  <c:v>2.73478260869565</c:v>
                </c:pt>
                <c:pt idx="1231">
                  <c:v>2.74290043290043</c:v>
                </c:pt>
                <c:pt idx="1232">
                  <c:v>2.75103448275862</c:v>
                </c:pt>
                <c:pt idx="1233">
                  <c:v>2.75918454935622</c:v>
                </c:pt>
                <c:pt idx="1234">
                  <c:v>2.76735042735043</c:v>
                </c:pt>
                <c:pt idx="1235">
                  <c:v>2.77553191489362</c:v>
                </c:pt>
                <c:pt idx="1236">
                  <c:v>2.78372881355932</c:v>
                </c:pt>
                <c:pt idx="1237">
                  <c:v>2.79194092827004</c:v>
                </c:pt>
                <c:pt idx="1238">
                  <c:v>2.80016806722689</c:v>
                </c:pt>
                <c:pt idx="1239">
                  <c:v>2.808410041841</c:v>
                </c:pt>
                <c:pt idx="1240">
                  <c:v>2.81666666666667</c:v>
                </c:pt>
                <c:pt idx="1241">
                  <c:v>2.8249377593361</c:v>
                </c:pt>
                <c:pt idx="1242">
                  <c:v>2.83322314049587</c:v>
                </c:pt>
                <c:pt idx="1243">
                  <c:v>2.84152263374486</c:v>
                </c:pt>
                <c:pt idx="1244">
                  <c:v>2.84983606557377</c:v>
                </c:pt>
                <c:pt idx="1245">
                  <c:v>2.85816326530612</c:v>
                </c:pt>
                <c:pt idx="1246">
                  <c:v>2.86650406504065</c:v>
                </c:pt>
                <c:pt idx="1247">
                  <c:v>2.87485829959514</c:v>
                </c:pt>
                <c:pt idx="1248">
                  <c:v>2.88322580645161</c:v>
                </c:pt>
                <c:pt idx="1249">
                  <c:v>2.89160642570281</c:v>
                </c:pt>
                <c:pt idx="1250">
                  <c:v>2.9</c:v>
                </c:pt>
                <c:pt idx="1251">
                  <c:v>2.90840637450199</c:v>
                </c:pt>
                <c:pt idx="1252">
                  <c:v>2.9168253968254</c:v>
                </c:pt>
                <c:pt idx="1253">
                  <c:v>2.92525691699605</c:v>
                </c:pt>
                <c:pt idx="1254">
                  <c:v>2.93370078740158</c:v>
                </c:pt>
                <c:pt idx="1255">
                  <c:v>2.9421568627451</c:v>
                </c:pt>
                <c:pt idx="1256">
                  <c:v>2.950625</c:v>
                </c:pt>
                <c:pt idx="1257">
                  <c:v>2.95910505836576</c:v>
                </c:pt>
                <c:pt idx="1258">
                  <c:v>2.96759689922481</c:v>
                </c:pt>
                <c:pt idx="1259">
                  <c:v>2.97610038610039</c:v>
                </c:pt>
                <c:pt idx="1260">
                  <c:v>2.98461538461538</c:v>
                </c:pt>
                <c:pt idx="1261">
                  <c:v>2.99314176245211</c:v>
                </c:pt>
                <c:pt idx="1262">
                  <c:v>3.00167938931298</c:v>
                </c:pt>
                <c:pt idx="1263">
                  <c:v>3.01022813688213</c:v>
                </c:pt>
                <c:pt idx="1264">
                  <c:v>3.01878787878788</c:v>
                </c:pt>
                <c:pt idx="1265">
                  <c:v>3.02735849056604</c:v>
                </c:pt>
                <c:pt idx="1266">
                  <c:v>3.03593984962406</c:v>
                </c:pt>
                <c:pt idx="1267">
                  <c:v>3.04453183520599</c:v>
                </c:pt>
                <c:pt idx="1268">
                  <c:v>3.05313432835821</c:v>
                </c:pt>
                <c:pt idx="1269">
                  <c:v>3.06174721189591</c:v>
                </c:pt>
                <c:pt idx="1270">
                  <c:v>3.07037037037037</c:v>
                </c:pt>
                <c:pt idx="1271">
                  <c:v>3.0790036900369</c:v>
                </c:pt>
                <c:pt idx="1272">
                  <c:v>3.08764705882353</c:v>
                </c:pt>
                <c:pt idx="1273">
                  <c:v>3.09630036630037</c:v>
                </c:pt>
                <c:pt idx="1274">
                  <c:v>3.10496350364964</c:v>
                </c:pt>
                <c:pt idx="1275">
                  <c:v>3.11363636363636</c:v>
                </c:pt>
                <c:pt idx="1276">
                  <c:v>3.12231884057971</c:v>
                </c:pt>
                <c:pt idx="1277">
                  <c:v>3.13101083032491</c:v>
                </c:pt>
                <c:pt idx="1278">
                  <c:v>3.13971223021583</c:v>
                </c:pt>
                <c:pt idx="1279">
                  <c:v>3.1484229390681</c:v>
                </c:pt>
                <c:pt idx="1280">
                  <c:v>3.15714285714286</c:v>
                </c:pt>
                <c:pt idx="1281">
                  <c:v>3.165871886121</c:v>
                </c:pt>
                <c:pt idx="1282">
                  <c:v>3.17460992907801</c:v>
                </c:pt>
                <c:pt idx="1283">
                  <c:v>3.18335689045936</c:v>
                </c:pt>
                <c:pt idx="1284">
                  <c:v>3.19211267605634</c:v>
                </c:pt>
                <c:pt idx="1285">
                  <c:v>3.20087719298246</c:v>
                </c:pt>
                <c:pt idx="1286">
                  <c:v>3.20965034965035</c:v>
                </c:pt>
                <c:pt idx="1287">
                  <c:v>3.21843205574913</c:v>
                </c:pt>
                <c:pt idx="1288">
                  <c:v>3.22722222222222</c:v>
                </c:pt>
                <c:pt idx="1289">
                  <c:v>3.23602076124568</c:v>
                </c:pt>
                <c:pt idx="1290">
                  <c:v>3.2448275862069</c:v>
                </c:pt>
                <c:pt idx="1291">
                  <c:v>3.25364261168385</c:v>
                </c:pt>
                <c:pt idx="1292">
                  <c:v>3.26246575342466</c:v>
                </c:pt>
                <c:pt idx="1293">
                  <c:v>3.27129692832765</c:v>
                </c:pt>
                <c:pt idx="1294">
                  <c:v>3.28013605442177</c:v>
                </c:pt>
                <c:pt idx="1295">
                  <c:v>3.28898305084746</c:v>
                </c:pt>
                <c:pt idx="1296">
                  <c:v>3.29783783783784</c:v>
                </c:pt>
                <c:pt idx="1297">
                  <c:v>3.30670033670034</c:v>
                </c:pt>
                <c:pt idx="1298">
                  <c:v>3.31557046979866</c:v>
                </c:pt>
                <c:pt idx="1299">
                  <c:v>3.32444816053512</c:v>
                </c:pt>
                <c:pt idx="1300">
                  <c:v>3.33333333333333</c:v>
                </c:pt>
                <c:pt idx="1301">
                  <c:v>3.34222591362126</c:v>
                </c:pt>
                <c:pt idx="1302">
                  <c:v>3.35112582781457</c:v>
                </c:pt>
                <c:pt idx="1303">
                  <c:v>3.36003300330033</c:v>
                </c:pt>
                <c:pt idx="1304">
                  <c:v>3.36894736842105</c:v>
                </c:pt>
                <c:pt idx="1305">
                  <c:v>3.37786885245902</c:v>
                </c:pt>
                <c:pt idx="1306">
                  <c:v>3.38679738562092</c:v>
                </c:pt>
                <c:pt idx="1307">
                  <c:v>3.3957328990228</c:v>
                </c:pt>
                <c:pt idx="1308">
                  <c:v>3.40467532467533</c:v>
                </c:pt>
                <c:pt idx="1309">
                  <c:v>3.41362459546926</c:v>
                </c:pt>
                <c:pt idx="1310">
                  <c:v>3.42258064516129</c:v>
                </c:pt>
                <c:pt idx="1311">
                  <c:v>3.43154340836013</c:v>
                </c:pt>
                <c:pt idx="1312">
                  <c:v>3.44051282051282</c:v>
                </c:pt>
                <c:pt idx="1313">
                  <c:v>3.44948881789137</c:v>
                </c:pt>
                <c:pt idx="1314">
                  <c:v>3.45847133757962</c:v>
                </c:pt>
                <c:pt idx="1315">
                  <c:v>3.46746031746032</c:v>
                </c:pt>
                <c:pt idx="1316">
                  <c:v>3.47645569620253</c:v>
                </c:pt>
                <c:pt idx="1317">
                  <c:v>3.48545741324921</c:v>
                </c:pt>
                <c:pt idx="1318">
                  <c:v>3.49446540880503</c:v>
                </c:pt>
                <c:pt idx="1319">
                  <c:v>3.50347962382445</c:v>
                </c:pt>
                <c:pt idx="1320">
                  <c:v>3.5125</c:v>
                </c:pt>
                <c:pt idx="1321">
                  <c:v>3.52152647975078</c:v>
                </c:pt>
                <c:pt idx="1322">
                  <c:v>3.53055900621118</c:v>
                </c:pt>
                <c:pt idx="1323">
                  <c:v>3.53959752321981</c:v>
                </c:pt>
                <c:pt idx="1324">
                  <c:v>3.54864197530864</c:v>
                </c:pt>
                <c:pt idx="1325">
                  <c:v>3.55769230769231</c:v>
                </c:pt>
                <c:pt idx="1326">
                  <c:v>3.56674846625767</c:v>
                </c:pt>
                <c:pt idx="1327">
                  <c:v>3.57581039755352</c:v>
                </c:pt>
                <c:pt idx="1328">
                  <c:v>3.58487804878049</c:v>
                </c:pt>
                <c:pt idx="1329">
                  <c:v>3.59395136778116</c:v>
                </c:pt>
                <c:pt idx="1330">
                  <c:v>3.6030303030303</c:v>
                </c:pt>
                <c:pt idx="1331">
                  <c:v>3.61211480362538</c:v>
                </c:pt>
                <c:pt idx="1332">
                  <c:v>3.62120481927711</c:v>
                </c:pt>
                <c:pt idx="1333">
                  <c:v>3.6303003003003</c:v>
                </c:pt>
                <c:pt idx="1334">
                  <c:v>3.63940119760479</c:v>
                </c:pt>
                <c:pt idx="1335">
                  <c:v>3.64850746268657</c:v>
                </c:pt>
                <c:pt idx="1336">
                  <c:v>3.65761904761905</c:v>
                </c:pt>
                <c:pt idx="1337">
                  <c:v>3.66673590504451</c:v>
                </c:pt>
                <c:pt idx="1338">
                  <c:v>3.67585798816568</c:v>
                </c:pt>
                <c:pt idx="1339">
                  <c:v>3.68498525073746</c:v>
                </c:pt>
                <c:pt idx="1340">
                  <c:v>3.69411764705882</c:v>
                </c:pt>
                <c:pt idx="1341">
                  <c:v>3.70325513196481</c:v>
                </c:pt>
                <c:pt idx="1342">
                  <c:v>3.71239766081871</c:v>
                </c:pt>
                <c:pt idx="1343">
                  <c:v>3.72154518950437</c:v>
                </c:pt>
                <c:pt idx="1344">
                  <c:v>3.7306976744186</c:v>
                </c:pt>
                <c:pt idx="1345">
                  <c:v>3.73985507246377</c:v>
                </c:pt>
                <c:pt idx="1346">
                  <c:v>3.74901734104046</c:v>
                </c:pt>
                <c:pt idx="1347">
                  <c:v>3.75818443804035</c:v>
                </c:pt>
                <c:pt idx="1348">
                  <c:v>3.76735632183908</c:v>
                </c:pt>
                <c:pt idx="1349">
                  <c:v>3.7765329512894</c:v>
                </c:pt>
                <c:pt idx="1350">
                  <c:v>3.78571428571429</c:v>
                </c:pt>
                <c:pt idx="1351">
                  <c:v>3.79490028490029</c:v>
                </c:pt>
                <c:pt idx="1352">
                  <c:v>3.80409090909091</c:v>
                </c:pt>
                <c:pt idx="1353">
                  <c:v>3.81328611898017</c:v>
                </c:pt>
                <c:pt idx="1354">
                  <c:v>3.82248587570622</c:v>
                </c:pt>
                <c:pt idx="1355">
                  <c:v>3.83169014084507</c:v>
                </c:pt>
                <c:pt idx="1356">
                  <c:v>3.8408988764045</c:v>
                </c:pt>
                <c:pt idx="1357">
                  <c:v>3.85011204481793</c:v>
                </c:pt>
                <c:pt idx="1358">
                  <c:v>3.85932960893855</c:v>
                </c:pt>
                <c:pt idx="1359">
                  <c:v>3.86855153203343</c:v>
                </c:pt>
                <c:pt idx="1360">
                  <c:v>3.87777777777778</c:v>
                </c:pt>
                <c:pt idx="1361">
                  <c:v>3.88700831024931</c:v>
                </c:pt>
                <c:pt idx="1362">
                  <c:v>3.89624309392265</c:v>
                </c:pt>
                <c:pt idx="1363">
                  <c:v>3.90548209366391</c:v>
                </c:pt>
                <c:pt idx="1364">
                  <c:v>3.91472527472528</c:v>
                </c:pt>
                <c:pt idx="1365">
                  <c:v>3.92397260273973</c:v>
                </c:pt>
                <c:pt idx="1366">
                  <c:v>3.93322404371585</c:v>
                </c:pt>
                <c:pt idx="1367">
                  <c:v>3.9424795640327</c:v>
                </c:pt>
                <c:pt idx="1368">
                  <c:v>3.95173913043478</c:v>
                </c:pt>
                <c:pt idx="1369">
                  <c:v>3.9610027100271</c:v>
                </c:pt>
                <c:pt idx="1370">
                  <c:v>3.97027027027027</c:v>
                </c:pt>
                <c:pt idx="1371">
                  <c:v>3.97954177897574</c:v>
                </c:pt>
                <c:pt idx="1372">
                  <c:v>3.98881720430108</c:v>
                </c:pt>
                <c:pt idx="1373">
                  <c:v>3.99809651474531</c:v>
                </c:pt>
                <c:pt idx="1374">
                  <c:v>4.00737967914439</c:v>
                </c:pt>
                <c:pt idx="1375">
                  <c:v>4.01666666666667</c:v>
                </c:pt>
                <c:pt idx="1376">
                  <c:v>4.02595744680851</c:v>
                </c:pt>
                <c:pt idx="1377">
                  <c:v>4.03525198938992</c:v>
                </c:pt>
                <c:pt idx="1378">
                  <c:v>4.04455026455027</c:v>
                </c:pt>
                <c:pt idx="1379">
                  <c:v>4.05385224274406</c:v>
                </c:pt>
                <c:pt idx="1380">
                  <c:v>4.06315789473684</c:v>
                </c:pt>
                <c:pt idx="1381">
                  <c:v>4.07246719160105</c:v>
                </c:pt>
                <c:pt idx="1382">
                  <c:v>4.08178010471204</c:v>
                </c:pt>
                <c:pt idx="1383">
                  <c:v>4.09109660574413</c:v>
                </c:pt>
                <c:pt idx="1384">
                  <c:v>4.10041666666667</c:v>
                </c:pt>
                <c:pt idx="1385">
                  <c:v>4.10974025974026</c:v>
                </c:pt>
                <c:pt idx="1386">
                  <c:v>4.11906735751295</c:v>
                </c:pt>
                <c:pt idx="1387">
                  <c:v>4.12839793281654</c:v>
                </c:pt>
                <c:pt idx="1388">
                  <c:v>4.13773195876289</c:v>
                </c:pt>
                <c:pt idx="1389">
                  <c:v>4.14706940874036</c:v>
                </c:pt>
                <c:pt idx="1390">
                  <c:v>4.15641025641026</c:v>
                </c:pt>
                <c:pt idx="1391">
                  <c:v>4.16575447570333</c:v>
                </c:pt>
                <c:pt idx="1392">
                  <c:v>4.17510204081633</c:v>
                </c:pt>
                <c:pt idx="1393">
                  <c:v>4.18445292620865</c:v>
                </c:pt>
                <c:pt idx="1394">
                  <c:v>4.19380710659898</c:v>
                </c:pt>
                <c:pt idx="1395">
                  <c:v>4.20316455696203</c:v>
                </c:pt>
                <c:pt idx="1396">
                  <c:v>4.21252525252525</c:v>
                </c:pt>
                <c:pt idx="1397">
                  <c:v>4.22188916876574</c:v>
                </c:pt>
                <c:pt idx="1398">
                  <c:v>4.23125628140704</c:v>
                </c:pt>
                <c:pt idx="1399">
                  <c:v>4.24062656641604</c:v>
                </c:pt>
                <c:pt idx="1400">
                  <c:v>4.25</c:v>
                </c:pt>
                <c:pt idx="1401">
                  <c:v>4.25937655860349</c:v>
                </c:pt>
                <c:pt idx="1402">
                  <c:v>4.26875621890547</c:v>
                </c:pt>
                <c:pt idx="1403">
                  <c:v>4.27813895781638</c:v>
                </c:pt>
                <c:pt idx="1404">
                  <c:v>4.28752475247525</c:v>
                </c:pt>
                <c:pt idx="1405">
                  <c:v>4.29691358024691</c:v>
                </c:pt>
                <c:pt idx="1406">
                  <c:v>4.30630541871921</c:v>
                </c:pt>
                <c:pt idx="1407">
                  <c:v>4.31570024570025</c:v>
                </c:pt>
                <c:pt idx="1408">
                  <c:v>4.32509803921569</c:v>
                </c:pt>
                <c:pt idx="1409">
                  <c:v>4.33449877750611</c:v>
                </c:pt>
                <c:pt idx="1410">
                  <c:v>4.34390243902439</c:v>
                </c:pt>
                <c:pt idx="1411">
                  <c:v>4.35330900243309</c:v>
                </c:pt>
                <c:pt idx="1412">
                  <c:v>4.36271844660194</c:v>
                </c:pt>
                <c:pt idx="1413">
                  <c:v>4.37213075060533</c:v>
                </c:pt>
                <c:pt idx="1414">
                  <c:v>4.38154589371981</c:v>
                </c:pt>
                <c:pt idx="1415">
                  <c:v>4.39096385542169</c:v>
                </c:pt>
                <c:pt idx="1416">
                  <c:v>4.40038461538462</c:v>
                </c:pt>
                <c:pt idx="1417">
                  <c:v>4.40980815347722</c:v>
                </c:pt>
                <c:pt idx="1418">
                  <c:v>4.41923444976077</c:v>
                </c:pt>
                <c:pt idx="1419">
                  <c:v>4.42866348448687</c:v>
                </c:pt>
                <c:pt idx="1420">
                  <c:v>4.43809523809524</c:v>
                </c:pt>
                <c:pt idx="1421">
                  <c:v>4.4475296912114</c:v>
                </c:pt>
                <c:pt idx="1422">
                  <c:v>4.45696682464455</c:v>
                </c:pt>
                <c:pt idx="1423">
                  <c:v>4.46640661938534</c:v>
                </c:pt>
                <c:pt idx="1424">
                  <c:v>4.47584905660377</c:v>
                </c:pt>
                <c:pt idx="1425">
                  <c:v>4.48529411764706</c:v>
                </c:pt>
                <c:pt idx="1426">
                  <c:v>4.49474178403756</c:v>
                </c:pt>
                <c:pt idx="1427">
                  <c:v>4.50419203747073</c:v>
                </c:pt>
                <c:pt idx="1428">
                  <c:v>4.51364485981309</c:v>
                </c:pt>
                <c:pt idx="1429">
                  <c:v>4.52310023310023</c:v>
                </c:pt>
                <c:pt idx="1430">
                  <c:v>4.53255813953489</c:v>
                </c:pt>
                <c:pt idx="1431">
                  <c:v>4.54201856148492</c:v>
                </c:pt>
                <c:pt idx="1432">
                  <c:v>4.55148148148148</c:v>
                </c:pt>
                <c:pt idx="1433">
                  <c:v>4.56094688221709</c:v>
                </c:pt>
                <c:pt idx="1434">
                  <c:v>4.57041474654378</c:v>
                </c:pt>
                <c:pt idx="1435">
                  <c:v>4.57988505747126</c:v>
                </c:pt>
                <c:pt idx="1436">
                  <c:v>4.58935779816514</c:v>
                </c:pt>
                <c:pt idx="1437">
                  <c:v>4.59883295194508</c:v>
                </c:pt>
                <c:pt idx="1438">
                  <c:v>4.60831050228311</c:v>
                </c:pt>
                <c:pt idx="1439">
                  <c:v>4.61779043280182</c:v>
                </c:pt>
                <c:pt idx="1440">
                  <c:v>4.62727272727273</c:v>
                </c:pt>
                <c:pt idx="1441">
                  <c:v>4.63675736961451</c:v>
                </c:pt>
                <c:pt idx="1442">
                  <c:v>4.6462443438914</c:v>
                </c:pt>
                <c:pt idx="1443">
                  <c:v>4.65573363431151</c:v>
                </c:pt>
                <c:pt idx="1444">
                  <c:v>4.66522522522523</c:v>
                </c:pt>
                <c:pt idx="1445">
                  <c:v>4.6747191011236</c:v>
                </c:pt>
                <c:pt idx="1446">
                  <c:v>4.68421524663677</c:v>
                </c:pt>
                <c:pt idx="1447">
                  <c:v>4.69371364653244</c:v>
                </c:pt>
                <c:pt idx="1448">
                  <c:v>4.70321428571429</c:v>
                </c:pt>
                <c:pt idx="1449">
                  <c:v>4.71271714922049</c:v>
                </c:pt>
                <c:pt idx="1450">
                  <c:v>4.72222222222222</c:v>
                </c:pt>
                <c:pt idx="1451">
                  <c:v>4.73172949002217</c:v>
                </c:pt>
                <c:pt idx="1452">
                  <c:v>4.7412389380531</c:v>
                </c:pt>
                <c:pt idx="1453">
                  <c:v>4.75075055187638</c:v>
                </c:pt>
                <c:pt idx="1454">
                  <c:v>4.76026431718062</c:v>
                </c:pt>
                <c:pt idx="1455">
                  <c:v>4.76978021978022</c:v>
                </c:pt>
                <c:pt idx="1456">
                  <c:v>4.77929824561404</c:v>
                </c:pt>
                <c:pt idx="1457">
                  <c:v>4.78881838074398</c:v>
                </c:pt>
                <c:pt idx="1458">
                  <c:v>4.79834061135371</c:v>
                </c:pt>
                <c:pt idx="1459">
                  <c:v>4.80786492374728</c:v>
                </c:pt>
                <c:pt idx="1460">
                  <c:v>4.81739130434783</c:v>
                </c:pt>
                <c:pt idx="1461">
                  <c:v>4.82691973969631</c:v>
                </c:pt>
                <c:pt idx="1462">
                  <c:v>4.83645021645022</c:v>
                </c:pt>
                <c:pt idx="1463">
                  <c:v>4.84598272138229</c:v>
                </c:pt>
                <c:pt idx="1464">
                  <c:v>4.85551724137931</c:v>
                </c:pt>
                <c:pt idx="1465">
                  <c:v>4.86505376344086</c:v>
                </c:pt>
                <c:pt idx="1466">
                  <c:v>4.87459227467811</c:v>
                </c:pt>
                <c:pt idx="1467">
                  <c:v>4.88413276231263</c:v>
                </c:pt>
                <c:pt idx="1468">
                  <c:v>4.89367521367521</c:v>
                </c:pt>
                <c:pt idx="1469">
                  <c:v>4.90321961620469</c:v>
                </c:pt>
                <c:pt idx="1470">
                  <c:v>4.91276595744681</c:v>
                </c:pt>
                <c:pt idx="1471">
                  <c:v>4.92231422505308</c:v>
                </c:pt>
                <c:pt idx="1472">
                  <c:v>4.93186440677966</c:v>
                </c:pt>
                <c:pt idx="1473">
                  <c:v>4.94141649048626</c:v>
                </c:pt>
                <c:pt idx="1474">
                  <c:v>4.95097046413502</c:v>
                </c:pt>
                <c:pt idx="1475">
                  <c:v>4.96052631578947</c:v>
                </c:pt>
                <c:pt idx="1476">
                  <c:v>4.97008403361345</c:v>
                </c:pt>
                <c:pt idx="1477">
                  <c:v>4.97964360587002</c:v>
                </c:pt>
                <c:pt idx="1478">
                  <c:v>4.9892050209205</c:v>
                </c:pt>
                <c:pt idx="1479">
                  <c:v>4.99876826722338</c:v>
                </c:pt>
                <c:pt idx="1480">
                  <c:v>5.00833333333333</c:v>
                </c:pt>
                <c:pt idx="1481">
                  <c:v>5.01790020790021</c:v>
                </c:pt>
                <c:pt idx="1482">
                  <c:v>5.02746887966805</c:v>
                </c:pt>
                <c:pt idx="1483">
                  <c:v>5.03703933747412</c:v>
                </c:pt>
                <c:pt idx="1484">
                  <c:v>5.04661157024793</c:v>
                </c:pt>
                <c:pt idx="1485">
                  <c:v>5.05618556701031</c:v>
                </c:pt>
                <c:pt idx="1486">
                  <c:v>5.06576131687243</c:v>
                </c:pt>
                <c:pt idx="1487">
                  <c:v>5.07533880903491</c:v>
                </c:pt>
                <c:pt idx="1488">
                  <c:v>5.08491803278689</c:v>
                </c:pt>
                <c:pt idx="1489">
                  <c:v>5.09449897750511</c:v>
                </c:pt>
                <c:pt idx="1490">
                  <c:v>5.10408163265306</c:v>
                </c:pt>
                <c:pt idx="1491">
                  <c:v>5.11366598778004</c:v>
                </c:pt>
                <c:pt idx="1492">
                  <c:v>5.12325203252033</c:v>
                </c:pt>
                <c:pt idx="1493">
                  <c:v>5.13283975659229</c:v>
                </c:pt>
                <c:pt idx="1494">
                  <c:v>5.14242914979757</c:v>
                </c:pt>
                <c:pt idx="1495">
                  <c:v>5.1520202020202</c:v>
                </c:pt>
                <c:pt idx="1496">
                  <c:v>5.16161290322581</c:v>
                </c:pt>
                <c:pt idx="1497">
                  <c:v>5.17120724346077</c:v>
                </c:pt>
                <c:pt idx="1498">
                  <c:v>5.18080321285141</c:v>
                </c:pt>
                <c:pt idx="1499">
                  <c:v>5.19040080160321</c:v>
                </c:pt>
                <c:pt idx="1500">
                  <c:v>5.2</c:v>
                </c:pt>
                <c:pt idx="1501">
                  <c:v>5.20960079840319</c:v>
                </c:pt>
                <c:pt idx="1502">
                  <c:v>5.219203187251</c:v>
                </c:pt>
                <c:pt idx="1503">
                  <c:v>5.22880715705766</c:v>
                </c:pt>
                <c:pt idx="1504">
                  <c:v>5.2384126984127</c:v>
                </c:pt>
                <c:pt idx="1505">
                  <c:v>5.2480198019802</c:v>
                </c:pt>
                <c:pt idx="1506">
                  <c:v>5.25762845849802</c:v>
                </c:pt>
                <c:pt idx="1507">
                  <c:v>5.26723865877712</c:v>
                </c:pt>
                <c:pt idx="1508">
                  <c:v>5.27685039370079</c:v>
                </c:pt>
                <c:pt idx="1509">
                  <c:v>5.28646365422397</c:v>
                </c:pt>
                <c:pt idx="1510">
                  <c:v>5.29607843137255</c:v>
                </c:pt>
                <c:pt idx="1511">
                  <c:v>5.30569471624266</c:v>
                </c:pt>
                <c:pt idx="1512">
                  <c:v>5.3153125</c:v>
                </c:pt>
                <c:pt idx="1513">
                  <c:v>5.32493177387914</c:v>
                </c:pt>
                <c:pt idx="1514">
                  <c:v>5.33455252918288</c:v>
                </c:pt>
                <c:pt idx="1515">
                  <c:v>5.34417475728155</c:v>
                </c:pt>
                <c:pt idx="1516">
                  <c:v>5.3537984496124</c:v>
                </c:pt>
                <c:pt idx="1517">
                  <c:v>5.36342359767892</c:v>
                </c:pt>
                <c:pt idx="1518">
                  <c:v>5.37305019305019</c:v>
                </c:pt>
                <c:pt idx="1519">
                  <c:v>5.38267822736031</c:v>
                </c:pt>
                <c:pt idx="1520">
                  <c:v>5.39230769230769</c:v>
                </c:pt>
                <c:pt idx="1521">
                  <c:v>5.40193857965451</c:v>
                </c:pt>
                <c:pt idx="1522">
                  <c:v>5.41157088122605</c:v>
                </c:pt>
                <c:pt idx="1523">
                  <c:v>5.42120458891013</c:v>
                </c:pt>
                <c:pt idx="1524">
                  <c:v>5.43083969465649</c:v>
                </c:pt>
                <c:pt idx="1525">
                  <c:v>5.44047619047619</c:v>
                </c:pt>
                <c:pt idx="1526">
                  <c:v>5.45011406844106</c:v>
                </c:pt>
                <c:pt idx="1527">
                  <c:v>5.45975332068311</c:v>
                </c:pt>
                <c:pt idx="1528">
                  <c:v>5.46939393939394</c:v>
                </c:pt>
                <c:pt idx="1529">
                  <c:v>5.4790359168242</c:v>
                </c:pt>
                <c:pt idx="1530">
                  <c:v>5.48867924528302</c:v>
                </c:pt>
                <c:pt idx="1531">
                  <c:v>5.49832391713748</c:v>
                </c:pt>
                <c:pt idx="1532">
                  <c:v>5.50796992481203</c:v>
                </c:pt>
                <c:pt idx="1533">
                  <c:v>5.51761726078799</c:v>
                </c:pt>
                <c:pt idx="1534">
                  <c:v>5.527265917603</c:v>
                </c:pt>
                <c:pt idx="1535">
                  <c:v>5.53691588785047</c:v>
                </c:pt>
                <c:pt idx="1536">
                  <c:v>5.5465671641791</c:v>
                </c:pt>
                <c:pt idx="1537">
                  <c:v>5.55621973929237</c:v>
                </c:pt>
                <c:pt idx="1538">
                  <c:v>5.56587360594796</c:v>
                </c:pt>
                <c:pt idx="1539">
                  <c:v>5.57552875695733</c:v>
                </c:pt>
                <c:pt idx="1540">
                  <c:v>5.58518518518519</c:v>
                </c:pt>
                <c:pt idx="1541">
                  <c:v>5.59484288354898</c:v>
                </c:pt>
                <c:pt idx="1542">
                  <c:v>5.60450184501845</c:v>
                </c:pt>
                <c:pt idx="1543">
                  <c:v>5.6141620626151</c:v>
                </c:pt>
                <c:pt idx="1544">
                  <c:v>5.62382352941176</c:v>
                </c:pt>
                <c:pt idx="1545">
                  <c:v>5.63348623853211</c:v>
                </c:pt>
                <c:pt idx="1546">
                  <c:v>5.64315018315018</c:v>
                </c:pt>
                <c:pt idx="1547">
                  <c:v>5.65281535648995</c:v>
                </c:pt>
                <c:pt idx="1548">
                  <c:v>5.66248175182482</c:v>
                </c:pt>
                <c:pt idx="1549">
                  <c:v>5.67214936247723</c:v>
                </c:pt>
                <c:pt idx="1550">
                  <c:v>5.68181818181818</c:v>
                </c:pt>
                <c:pt idx="1551">
                  <c:v>5.69148820326679</c:v>
                </c:pt>
                <c:pt idx="1552">
                  <c:v>5.70115942028986</c:v>
                </c:pt>
                <c:pt idx="1553">
                  <c:v>5.71083182640145</c:v>
                </c:pt>
                <c:pt idx="1554">
                  <c:v>5.72050541516246</c:v>
                </c:pt>
                <c:pt idx="1555">
                  <c:v>5.73018018018018</c:v>
                </c:pt>
                <c:pt idx="1556">
                  <c:v>5.73985611510791</c:v>
                </c:pt>
                <c:pt idx="1557">
                  <c:v>5.74953321364453</c:v>
                </c:pt>
                <c:pt idx="1558">
                  <c:v>5.75921146953405</c:v>
                </c:pt>
                <c:pt idx="1559">
                  <c:v>5.7688908765653</c:v>
                </c:pt>
                <c:pt idx="1560">
                  <c:v>5.77857142857143</c:v>
                </c:pt>
                <c:pt idx="1561">
                  <c:v>5.78825311942959</c:v>
                </c:pt>
                <c:pt idx="1562">
                  <c:v>5.7979359430605</c:v>
                </c:pt>
                <c:pt idx="1563">
                  <c:v>5.80761989342807</c:v>
                </c:pt>
                <c:pt idx="1564">
                  <c:v>5.81730496453901</c:v>
                </c:pt>
                <c:pt idx="1565">
                  <c:v>5.82699115044248</c:v>
                </c:pt>
                <c:pt idx="1566">
                  <c:v>5.83667844522968</c:v>
                </c:pt>
                <c:pt idx="1567">
                  <c:v>5.84636684303351</c:v>
                </c:pt>
                <c:pt idx="1568">
                  <c:v>5.85605633802817</c:v>
                </c:pt>
                <c:pt idx="1569">
                  <c:v>5.86574692442882</c:v>
                </c:pt>
                <c:pt idx="1570">
                  <c:v>5.87543859649123</c:v>
                </c:pt>
                <c:pt idx="1571">
                  <c:v>5.88513134851138</c:v>
                </c:pt>
                <c:pt idx="1572">
                  <c:v>5.89482517482518</c:v>
                </c:pt>
                <c:pt idx="1573">
                  <c:v>5.90452006980803</c:v>
                </c:pt>
                <c:pt idx="1574">
                  <c:v>5.91421602787457</c:v>
                </c:pt>
                <c:pt idx="1575">
                  <c:v>5.92391304347826</c:v>
                </c:pt>
                <c:pt idx="1576">
                  <c:v>5.93361111111111</c:v>
                </c:pt>
                <c:pt idx="1577">
                  <c:v>5.94331022530329</c:v>
                </c:pt>
                <c:pt idx="1578">
                  <c:v>5.95301038062284</c:v>
                </c:pt>
                <c:pt idx="1579">
                  <c:v>5.9627115716753</c:v>
                </c:pt>
                <c:pt idx="1580">
                  <c:v>5.97241379310345</c:v>
                </c:pt>
                <c:pt idx="1581">
                  <c:v>5.98211703958692</c:v>
                </c:pt>
                <c:pt idx="1582">
                  <c:v>5.99182130584193</c:v>
                </c:pt>
                <c:pt idx="1583">
                  <c:v>6.00152658662093</c:v>
                </c:pt>
                <c:pt idx="1584">
                  <c:v>6.01123287671233</c:v>
                </c:pt>
                <c:pt idx="1585">
                  <c:v>6.02094017094017</c:v>
                </c:pt>
                <c:pt idx="1586">
                  <c:v>6.03064846416382</c:v>
                </c:pt>
                <c:pt idx="1587">
                  <c:v>6.04035775127768</c:v>
                </c:pt>
                <c:pt idx="1588">
                  <c:v>6.05006802721089</c:v>
                </c:pt>
                <c:pt idx="1589">
                  <c:v>6.059779286927</c:v>
                </c:pt>
                <c:pt idx="1590">
                  <c:v>6.06949152542373</c:v>
                </c:pt>
                <c:pt idx="1591">
                  <c:v>6.07920473773266</c:v>
                </c:pt>
                <c:pt idx="1592">
                  <c:v>6.08891891891892</c:v>
                </c:pt>
                <c:pt idx="1593">
                  <c:v>6.09863406408094</c:v>
                </c:pt>
                <c:pt idx="1594">
                  <c:v>6.10835016835017</c:v>
                </c:pt>
                <c:pt idx="1595">
                  <c:v>6.11806722689076</c:v>
                </c:pt>
                <c:pt idx="1596">
                  <c:v>6.12778523489933</c:v>
                </c:pt>
                <c:pt idx="1597">
                  <c:v>6.13750418760469</c:v>
                </c:pt>
                <c:pt idx="1598">
                  <c:v>6.14722408026756</c:v>
                </c:pt>
                <c:pt idx="1599">
                  <c:v>6.1569449081803</c:v>
                </c:pt>
                <c:pt idx="1600">
                  <c:v>6.16666666666667</c:v>
                </c:pt>
                <c:pt idx="1601">
                  <c:v>6.17638935108153</c:v>
                </c:pt>
                <c:pt idx="1602">
                  <c:v>6.18611295681063</c:v>
                </c:pt>
                <c:pt idx="1603">
                  <c:v>6.19583747927032</c:v>
                </c:pt>
                <c:pt idx="1604">
                  <c:v>6.20556291390728</c:v>
                </c:pt>
                <c:pt idx="1605">
                  <c:v>6.21528925619835</c:v>
                </c:pt>
                <c:pt idx="1606">
                  <c:v>6.22501650165016</c:v>
                </c:pt>
                <c:pt idx="1607">
                  <c:v>6.23474464579901</c:v>
                </c:pt>
                <c:pt idx="1608">
                  <c:v>6.24447368421053</c:v>
                </c:pt>
                <c:pt idx="1609">
                  <c:v>6.25420361247948</c:v>
                </c:pt>
                <c:pt idx="1610">
                  <c:v>6.26393442622951</c:v>
                </c:pt>
                <c:pt idx="1611">
                  <c:v>6.27366612111293</c:v>
                </c:pt>
                <c:pt idx="1612">
                  <c:v>6.28339869281046</c:v>
                </c:pt>
                <c:pt idx="1613">
                  <c:v>6.29313213703099</c:v>
                </c:pt>
                <c:pt idx="1614">
                  <c:v>6.3028664495114</c:v>
                </c:pt>
                <c:pt idx="1615">
                  <c:v>6.31260162601626</c:v>
                </c:pt>
                <c:pt idx="1616">
                  <c:v>6.32233766233766</c:v>
                </c:pt>
                <c:pt idx="1617">
                  <c:v>6.33207455429498</c:v>
                </c:pt>
                <c:pt idx="1618">
                  <c:v>6.34181229773463</c:v>
                </c:pt>
                <c:pt idx="1619">
                  <c:v>6.35155088852989</c:v>
                </c:pt>
                <c:pt idx="1620">
                  <c:v>6.36129032258064</c:v>
                </c:pt>
                <c:pt idx="1621">
                  <c:v>6.37103059581321</c:v>
                </c:pt>
                <c:pt idx="1622">
                  <c:v>6.38077170418006</c:v>
                </c:pt>
                <c:pt idx="1623">
                  <c:v>6.39051364365971</c:v>
                </c:pt>
                <c:pt idx="1624">
                  <c:v>6.40025641025641</c:v>
                </c:pt>
                <c:pt idx="1625">
                  <c:v>6.41</c:v>
                </c:pt>
                <c:pt idx="1626">
                  <c:v>6.41974440894569</c:v>
                </c:pt>
                <c:pt idx="1627">
                  <c:v>6.42948963317384</c:v>
                </c:pt>
                <c:pt idx="1628">
                  <c:v>6.43923566878981</c:v>
                </c:pt>
                <c:pt idx="1629">
                  <c:v>6.44898251192369</c:v>
                </c:pt>
                <c:pt idx="1630">
                  <c:v>6.45873015873016</c:v>
                </c:pt>
                <c:pt idx="1631">
                  <c:v>6.46847860538827</c:v>
                </c:pt>
                <c:pt idx="1632">
                  <c:v>6.47822784810127</c:v>
                </c:pt>
                <c:pt idx="1633">
                  <c:v>6.48797788309637</c:v>
                </c:pt>
                <c:pt idx="1634">
                  <c:v>6.49772870662461</c:v>
                </c:pt>
                <c:pt idx="1635">
                  <c:v>6.50748031496063</c:v>
                </c:pt>
                <c:pt idx="1636">
                  <c:v>6.51723270440252</c:v>
                </c:pt>
                <c:pt idx="1637">
                  <c:v>6.52698587127159</c:v>
                </c:pt>
                <c:pt idx="1638">
                  <c:v>6.53673981191222</c:v>
                </c:pt>
                <c:pt idx="1639">
                  <c:v>6.54649452269171</c:v>
                </c:pt>
                <c:pt idx="1640">
                  <c:v>6.55625</c:v>
                </c:pt>
                <c:pt idx="1641">
                  <c:v>6.56600624024961</c:v>
                </c:pt>
                <c:pt idx="1642">
                  <c:v>6.57576323987539</c:v>
                </c:pt>
                <c:pt idx="1643">
                  <c:v>6.58552099533437</c:v>
                </c:pt>
                <c:pt idx="1644">
                  <c:v>6.59527950310559</c:v>
                </c:pt>
                <c:pt idx="1645">
                  <c:v>6.60503875968992</c:v>
                </c:pt>
                <c:pt idx="1646">
                  <c:v>6.61479876160991</c:v>
                </c:pt>
                <c:pt idx="1647">
                  <c:v>6.62455950540958</c:v>
                </c:pt>
                <c:pt idx="1648">
                  <c:v>6.63432098765432</c:v>
                </c:pt>
                <c:pt idx="1649">
                  <c:v>6.64408320493067</c:v>
                </c:pt>
                <c:pt idx="1650">
                  <c:v>6.65384615384615</c:v>
                </c:pt>
                <c:pt idx="1651">
                  <c:v>6.66360983102919</c:v>
                </c:pt>
                <c:pt idx="1652">
                  <c:v>6.67337423312883</c:v>
                </c:pt>
                <c:pt idx="1653">
                  <c:v>6.6831393568147</c:v>
                </c:pt>
                <c:pt idx="1654">
                  <c:v>6.69290519877676</c:v>
                </c:pt>
                <c:pt idx="1655">
                  <c:v>6.70267175572519</c:v>
                </c:pt>
                <c:pt idx="1656">
                  <c:v>6.71243902439024</c:v>
                </c:pt>
                <c:pt idx="1657">
                  <c:v>6.72220700152207</c:v>
                </c:pt>
                <c:pt idx="1658">
                  <c:v>6.73197568389058</c:v>
                </c:pt>
                <c:pt idx="1659">
                  <c:v>6.74174506828528</c:v>
                </c:pt>
                <c:pt idx="1660">
                  <c:v>6.75151515151515</c:v>
                </c:pt>
                <c:pt idx="1661">
                  <c:v>6.76128593040847</c:v>
                </c:pt>
                <c:pt idx="1662">
                  <c:v>6.77105740181269</c:v>
                </c:pt>
                <c:pt idx="1663">
                  <c:v>6.78082956259427</c:v>
                </c:pt>
                <c:pt idx="1664">
                  <c:v>6.79060240963856</c:v>
                </c:pt>
                <c:pt idx="1665">
                  <c:v>6.80037593984962</c:v>
                </c:pt>
                <c:pt idx="1666">
                  <c:v>6.81015015015015</c:v>
                </c:pt>
                <c:pt idx="1667">
                  <c:v>6.81992503748126</c:v>
                </c:pt>
                <c:pt idx="1668">
                  <c:v>6.8297005988024</c:v>
                </c:pt>
                <c:pt idx="1669">
                  <c:v>6.83947683109118</c:v>
                </c:pt>
                <c:pt idx="1670">
                  <c:v>6.84925373134328</c:v>
                </c:pt>
                <c:pt idx="1671">
                  <c:v>6.85903129657228</c:v>
                </c:pt>
                <c:pt idx="1672">
                  <c:v>6.86880952380952</c:v>
                </c:pt>
                <c:pt idx="1673">
                  <c:v>6.87858841010401</c:v>
                </c:pt>
                <c:pt idx="1674">
                  <c:v>6.88836795252226</c:v>
                </c:pt>
                <c:pt idx="1675">
                  <c:v>6.89814814814815</c:v>
                </c:pt>
                <c:pt idx="1676">
                  <c:v>6.90792899408284</c:v>
                </c:pt>
                <c:pt idx="1677">
                  <c:v>6.91771048744461</c:v>
                </c:pt>
                <c:pt idx="1678">
                  <c:v>6.92749262536873</c:v>
                </c:pt>
                <c:pt idx="1679">
                  <c:v>6.93727540500736</c:v>
                </c:pt>
                <c:pt idx="1680">
                  <c:v>6.94705882352941</c:v>
                </c:pt>
                <c:pt idx="1681">
                  <c:v>6.95684287812041</c:v>
                </c:pt>
                <c:pt idx="1682">
                  <c:v>6.96662756598241</c:v>
                </c:pt>
                <c:pt idx="1683">
                  <c:v>6.97641288433382</c:v>
                </c:pt>
                <c:pt idx="1684">
                  <c:v>6.98619883040936</c:v>
                </c:pt>
                <c:pt idx="1685">
                  <c:v>6.99598540145986</c:v>
                </c:pt>
                <c:pt idx="1686">
                  <c:v>7.00577259475219</c:v>
                </c:pt>
                <c:pt idx="1687">
                  <c:v>7.01556040756914</c:v>
                </c:pt>
                <c:pt idx="1688">
                  <c:v>7.0253488372093</c:v>
                </c:pt>
                <c:pt idx="1689">
                  <c:v>7.03513788098694</c:v>
                </c:pt>
                <c:pt idx="1690">
                  <c:v>7.04492753623188</c:v>
                </c:pt>
                <c:pt idx="1691">
                  <c:v>7.05471780028944</c:v>
                </c:pt>
                <c:pt idx="1692">
                  <c:v>7.06450867052023</c:v>
                </c:pt>
                <c:pt idx="1693">
                  <c:v>7.07430014430014</c:v>
                </c:pt>
                <c:pt idx="1694">
                  <c:v>7.08409221902017</c:v>
                </c:pt>
                <c:pt idx="1695">
                  <c:v>7.09388489208633</c:v>
                </c:pt>
                <c:pt idx="1696">
                  <c:v>7.10367816091954</c:v>
                </c:pt>
                <c:pt idx="1697">
                  <c:v>7.11347202295552</c:v>
                </c:pt>
                <c:pt idx="1698">
                  <c:v>7.1232664756447</c:v>
                </c:pt>
                <c:pt idx="1699">
                  <c:v>7.13306151645208</c:v>
                </c:pt>
                <c:pt idx="1700">
                  <c:v>7.14285714285714</c:v>
                </c:pt>
                <c:pt idx="1701">
                  <c:v>7.15265335235378</c:v>
                </c:pt>
                <c:pt idx="1702">
                  <c:v>7.16245014245014</c:v>
                </c:pt>
                <c:pt idx="1703">
                  <c:v>7.17224751066857</c:v>
                </c:pt>
                <c:pt idx="1704">
                  <c:v>7.18204545454545</c:v>
                </c:pt>
                <c:pt idx="1705">
                  <c:v>7.19184397163121</c:v>
                </c:pt>
                <c:pt idx="1706">
                  <c:v>7.20164305949008</c:v>
                </c:pt>
                <c:pt idx="1707">
                  <c:v>7.21144271570014</c:v>
                </c:pt>
                <c:pt idx="1708">
                  <c:v>7.22124293785311</c:v>
                </c:pt>
                <c:pt idx="1709">
                  <c:v>7.2310437235543</c:v>
                </c:pt>
                <c:pt idx="1710">
                  <c:v>7.24084507042254</c:v>
                </c:pt>
                <c:pt idx="1711">
                  <c:v>7.25064697609001</c:v>
                </c:pt>
                <c:pt idx="1712">
                  <c:v>7.26044943820225</c:v>
                </c:pt>
                <c:pt idx="1713">
                  <c:v>7.27025245441795</c:v>
                </c:pt>
                <c:pt idx="1714">
                  <c:v>7.28005602240896</c:v>
                </c:pt>
                <c:pt idx="1715">
                  <c:v>7.28986013986014</c:v>
                </c:pt>
                <c:pt idx="1716">
                  <c:v>7.29966480446927</c:v>
                </c:pt>
                <c:pt idx="1717">
                  <c:v>7.309470013947</c:v>
                </c:pt>
                <c:pt idx="1718">
                  <c:v>7.31927576601671</c:v>
                </c:pt>
                <c:pt idx="1719">
                  <c:v>7.32908205841447</c:v>
                </c:pt>
                <c:pt idx="1720">
                  <c:v>7.33888888888889</c:v>
                </c:pt>
                <c:pt idx="1721">
                  <c:v>7.34869625520111</c:v>
                </c:pt>
                <c:pt idx="1722">
                  <c:v>7.35850415512465</c:v>
                </c:pt>
                <c:pt idx="1723">
                  <c:v>7.36831258644537</c:v>
                </c:pt>
                <c:pt idx="1724">
                  <c:v>7.37812154696133</c:v>
                </c:pt>
                <c:pt idx="1725">
                  <c:v>7.38793103448276</c:v>
                </c:pt>
                <c:pt idx="1726">
                  <c:v>7.39774104683196</c:v>
                </c:pt>
                <c:pt idx="1727">
                  <c:v>7.40755158184319</c:v>
                </c:pt>
                <c:pt idx="1728">
                  <c:v>7.41736263736264</c:v>
                </c:pt>
                <c:pt idx="1729">
                  <c:v>7.42717421124829</c:v>
                </c:pt>
                <c:pt idx="1730">
                  <c:v>7.43698630136986</c:v>
                </c:pt>
                <c:pt idx="1731">
                  <c:v>7.44679890560875</c:v>
                </c:pt>
                <c:pt idx="1732">
                  <c:v>7.45661202185792</c:v>
                </c:pt>
                <c:pt idx="1733">
                  <c:v>7.46642564802183</c:v>
                </c:pt>
                <c:pt idx="1734">
                  <c:v>7.47623978201635</c:v>
                </c:pt>
                <c:pt idx="1735">
                  <c:v>7.48605442176871</c:v>
                </c:pt>
                <c:pt idx="1736">
                  <c:v>7.49586956521739</c:v>
                </c:pt>
                <c:pt idx="1737">
                  <c:v>7.50568521031208</c:v>
                </c:pt>
                <c:pt idx="1738">
                  <c:v>7.51550135501355</c:v>
                </c:pt>
                <c:pt idx="1739">
                  <c:v>7.52531799729364</c:v>
                </c:pt>
                <c:pt idx="1740">
                  <c:v>7.53513513513514</c:v>
                </c:pt>
                <c:pt idx="1741">
                  <c:v>7.54495276653171</c:v>
                </c:pt>
                <c:pt idx="1742">
                  <c:v>7.55477088948787</c:v>
                </c:pt>
                <c:pt idx="1743">
                  <c:v>7.56458950201884</c:v>
                </c:pt>
                <c:pt idx="1744">
                  <c:v>7.57440860215054</c:v>
                </c:pt>
                <c:pt idx="1745">
                  <c:v>7.58422818791946</c:v>
                </c:pt>
                <c:pt idx="1746">
                  <c:v>7.59404825737266</c:v>
                </c:pt>
                <c:pt idx="1747">
                  <c:v>7.6038688085676</c:v>
                </c:pt>
                <c:pt idx="1748">
                  <c:v>7.61368983957219</c:v>
                </c:pt>
                <c:pt idx="1749">
                  <c:v>7.62351134846462</c:v>
                </c:pt>
                <c:pt idx="1750">
                  <c:v>7.63333333333333</c:v>
                </c:pt>
                <c:pt idx="1751">
                  <c:v>7.64315579227697</c:v>
                </c:pt>
                <c:pt idx="1752">
                  <c:v>7.65297872340426</c:v>
                </c:pt>
                <c:pt idx="1753">
                  <c:v>7.662802124834</c:v>
                </c:pt>
                <c:pt idx="1754">
                  <c:v>7.67262599469496</c:v>
                </c:pt>
                <c:pt idx="1755">
                  <c:v>7.68245033112583</c:v>
                </c:pt>
                <c:pt idx="1756">
                  <c:v>7.69227513227513</c:v>
                </c:pt>
                <c:pt idx="1757">
                  <c:v>7.70210039630119</c:v>
                </c:pt>
                <c:pt idx="1758">
                  <c:v>7.71192612137203</c:v>
                </c:pt>
                <c:pt idx="1759">
                  <c:v>7.72175230566535</c:v>
                </c:pt>
                <c:pt idx="1760">
                  <c:v>7.73157894736842</c:v>
                </c:pt>
                <c:pt idx="1761">
                  <c:v>7.74140604467806</c:v>
                </c:pt>
                <c:pt idx="1762">
                  <c:v>7.75123359580053</c:v>
                </c:pt>
                <c:pt idx="1763">
                  <c:v>7.76106159895151</c:v>
                </c:pt>
                <c:pt idx="1764">
                  <c:v>7.77089005235602</c:v>
                </c:pt>
                <c:pt idx="1765">
                  <c:v>7.78071895424837</c:v>
                </c:pt>
                <c:pt idx="1766">
                  <c:v>7.79054830287206</c:v>
                </c:pt>
                <c:pt idx="1767">
                  <c:v>7.80037809647979</c:v>
                </c:pt>
                <c:pt idx="1768">
                  <c:v>7.81020833333333</c:v>
                </c:pt>
                <c:pt idx="1769">
                  <c:v>7.82003901170351</c:v>
                </c:pt>
                <c:pt idx="1770">
                  <c:v>7.82987012987013</c:v>
                </c:pt>
                <c:pt idx="1771">
                  <c:v>7.83970168612192</c:v>
                </c:pt>
                <c:pt idx="1772">
                  <c:v>7.84953367875648</c:v>
                </c:pt>
                <c:pt idx="1773">
                  <c:v>7.85936610608021</c:v>
                </c:pt>
                <c:pt idx="1774">
                  <c:v>7.86919896640827</c:v>
                </c:pt>
                <c:pt idx="1775">
                  <c:v>7.87903225806452</c:v>
                </c:pt>
                <c:pt idx="1776">
                  <c:v>7.88886597938144</c:v>
                </c:pt>
                <c:pt idx="1777">
                  <c:v>7.89870012870013</c:v>
                </c:pt>
                <c:pt idx="1778">
                  <c:v>7.90853470437018</c:v>
                </c:pt>
                <c:pt idx="1779">
                  <c:v>7.91836970474968</c:v>
                </c:pt>
                <c:pt idx="1780">
                  <c:v>7.92820512820513</c:v>
                </c:pt>
                <c:pt idx="1781">
                  <c:v>7.93804097311139</c:v>
                </c:pt>
                <c:pt idx="1782">
                  <c:v>7.94787723785166</c:v>
                </c:pt>
                <c:pt idx="1783">
                  <c:v>7.95771392081737</c:v>
                </c:pt>
                <c:pt idx="1784">
                  <c:v>7.96755102040816</c:v>
                </c:pt>
                <c:pt idx="1785">
                  <c:v>7.97738853503185</c:v>
                </c:pt>
                <c:pt idx="1786">
                  <c:v>7.98722646310433</c:v>
                </c:pt>
                <c:pt idx="1787">
                  <c:v>7.99706480304956</c:v>
                </c:pt>
                <c:pt idx="1788">
                  <c:v>8.00690355329949</c:v>
                </c:pt>
                <c:pt idx="1789">
                  <c:v>8.01674271229404</c:v>
                </c:pt>
                <c:pt idx="1790">
                  <c:v>8.02658227848102</c:v>
                </c:pt>
                <c:pt idx="1791">
                  <c:v>8.03642225031606</c:v>
                </c:pt>
                <c:pt idx="1792">
                  <c:v>8.04626262626263</c:v>
                </c:pt>
                <c:pt idx="1793">
                  <c:v>8.05610340479193</c:v>
                </c:pt>
                <c:pt idx="1794">
                  <c:v>8.06594458438287</c:v>
                </c:pt>
                <c:pt idx="1795">
                  <c:v>8.07578616352201</c:v>
                </c:pt>
                <c:pt idx="1796">
                  <c:v>8.08562814070352</c:v>
                </c:pt>
                <c:pt idx="1797">
                  <c:v>8.09547051442911</c:v>
                </c:pt>
                <c:pt idx="1798">
                  <c:v>8.10531328320802</c:v>
                </c:pt>
                <c:pt idx="1799">
                  <c:v>8.11515644555695</c:v>
                </c:pt>
                <c:pt idx="1800">
                  <c:v>8.125</c:v>
                </c:pt>
                <c:pt idx="1801">
                  <c:v>8.13484394506867</c:v>
                </c:pt>
                <c:pt idx="1802">
                  <c:v>8.14468827930175</c:v>
                </c:pt>
                <c:pt idx="1803">
                  <c:v>8.15453300124533</c:v>
                </c:pt>
                <c:pt idx="1804">
                  <c:v>8.16437810945274</c:v>
                </c:pt>
                <c:pt idx="1805">
                  <c:v>8.17422360248447</c:v>
                </c:pt>
                <c:pt idx="1806">
                  <c:v>8.18406947890819</c:v>
                </c:pt>
                <c:pt idx="1807">
                  <c:v>8.19391573729864</c:v>
                </c:pt>
                <c:pt idx="1808">
                  <c:v>8.20376237623763</c:v>
                </c:pt>
                <c:pt idx="1809">
                  <c:v>8.21360939431397</c:v>
                </c:pt>
                <c:pt idx="1810">
                  <c:v>8.22345679012346</c:v>
                </c:pt>
                <c:pt idx="1811">
                  <c:v>8.2333045622688</c:v>
                </c:pt>
                <c:pt idx="1812">
                  <c:v>8.24315270935961</c:v>
                </c:pt>
                <c:pt idx="1813">
                  <c:v>8.2530012300123</c:v>
                </c:pt>
                <c:pt idx="1814">
                  <c:v>8.26285012285012</c:v>
                </c:pt>
                <c:pt idx="1815">
                  <c:v>8.27269938650307</c:v>
                </c:pt>
                <c:pt idx="1816">
                  <c:v>8.28254901960784</c:v>
                </c:pt>
                <c:pt idx="1817">
                  <c:v>8.29239902080784</c:v>
                </c:pt>
                <c:pt idx="1818">
                  <c:v>8.30224938875306</c:v>
                </c:pt>
                <c:pt idx="1819">
                  <c:v>8.31210012210012</c:v>
                </c:pt>
                <c:pt idx="1820">
                  <c:v>8.32195121951219</c:v>
                </c:pt>
                <c:pt idx="1821">
                  <c:v>8.33180267965895</c:v>
                </c:pt>
                <c:pt idx="1822">
                  <c:v>8.34165450121654</c:v>
                </c:pt>
                <c:pt idx="1823">
                  <c:v>8.35150668286756</c:v>
                </c:pt>
                <c:pt idx="1824">
                  <c:v>8.36135922330097</c:v>
                </c:pt>
                <c:pt idx="1825">
                  <c:v>8.37121212121212</c:v>
                </c:pt>
                <c:pt idx="1826">
                  <c:v>8.38106537530267</c:v>
                </c:pt>
                <c:pt idx="1827">
                  <c:v>8.39091898428053</c:v>
                </c:pt>
                <c:pt idx="1828">
                  <c:v>8.4007729468599</c:v>
                </c:pt>
                <c:pt idx="1829">
                  <c:v>8.41062726176116</c:v>
                </c:pt>
                <c:pt idx="1830">
                  <c:v>8.42048192771084</c:v>
                </c:pt>
                <c:pt idx="1831">
                  <c:v>8.43033694344164</c:v>
                </c:pt>
                <c:pt idx="1832">
                  <c:v>8.44019230769231</c:v>
                </c:pt>
                <c:pt idx="1833">
                  <c:v>8.45004801920769</c:v>
                </c:pt>
                <c:pt idx="1834">
                  <c:v>8.45990407673861</c:v>
                </c:pt>
                <c:pt idx="1835">
                  <c:v>8.46976047904192</c:v>
                </c:pt>
                <c:pt idx="1836">
                  <c:v>8.47961722488038</c:v>
                </c:pt>
                <c:pt idx="1837">
                  <c:v>8.4894743130227</c:v>
                </c:pt>
                <c:pt idx="1838">
                  <c:v>8.49933174224344</c:v>
                </c:pt>
                <c:pt idx="1839">
                  <c:v>8.509189511323</c:v>
                </c:pt>
                <c:pt idx="1840">
                  <c:v>8.51904761904762</c:v>
                </c:pt>
                <c:pt idx="1841">
                  <c:v>8.52890606420928</c:v>
                </c:pt>
                <c:pt idx="1842">
                  <c:v>8.5387648456057</c:v>
                </c:pt>
                <c:pt idx="1843">
                  <c:v>8.54862396204033</c:v>
                </c:pt>
                <c:pt idx="1844">
                  <c:v>8.55848341232228</c:v>
                </c:pt>
                <c:pt idx="1845">
                  <c:v>8.56834319526627</c:v>
                </c:pt>
                <c:pt idx="1846">
                  <c:v>8.57820330969267</c:v>
                </c:pt>
                <c:pt idx="1847">
                  <c:v>8.58806375442739</c:v>
                </c:pt>
                <c:pt idx="1848">
                  <c:v>8.59792452830189</c:v>
                </c:pt>
                <c:pt idx="1849">
                  <c:v>8.60778563015312</c:v>
                </c:pt>
                <c:pt idx="1850">
                  <c:v>8.61764705882353</c:v>
                </c:pt>
                <c:pt idx="1851">
                  <c:v>8.62750881316099</c:v>
                </c:pt>
                <c:pt idx="1852">
                  <c:v>8.63737089201878</c:v>
                </c:pt>
                <c:pt idx="1853">
                  <c:v>8.64723329425557</c:v>
                </c:pt>
                <c:pt idx="1854">
                  <c:v>8.65709601873536</c:v>
                </c:pt>
                <c:pt idx="1855">
                  <c:v>8.66695906432749</c:v>
                </c:pt>
                <c:pt idx="1856">
                  <c:v>8.67682242990654</c:v>
                </c:pt>
                <c:pt idx="1857">
                  <c:v>8.68668611435239</c:v>
                </c:pt>
                <c:pt idx="1858">
                  <c:v>8.69655011655012</c:v>
                </c:pt>
                <c:pt idx="1859">
                  <c:v>8.70641443538999</c:v>
                </c:pt>
                <c:pt idx="1860">
                  <c:v>8.71627906976744</c:v>
                </c:pt>
                <c:pt idx="1861">
                  <c:v>8.72614401858304</c:v>
                </c:pt>
                <c:pt idx="1862">
                  <c:v>8.73600928074246</c:v>
                </c:pt>
                <c:pt idx="1863">
                  <c:v>8.74587485515643</c:v>
                </c:pt>
                <c:pt idx="1864">
                  <c:v>8.75574074074074</c:v>
                </c:pt>
                <c:pt idx="1865">
                  <c:v>8.76560693641619</c:v>
                </c:pt>
                <c:pt idx="1866">
                  <c:v>8.77547344110855</c:v>
                </c:pt>
                <c:pt idx="1867">
                  <c:v>8.78534025374856</c:v>
                </c:pt>
                <c:pt idx="1868">
                  <c:v>8.79520737327189</c:v>
                </c:pt>
                <c:pt idx="1869">
                  <c:v>8.8050747986191</c:v>
                </c:pt>
                <c:pt idx="1870">
                  <c:v>8.81494252873563</c:v>
                </c:pt>
                <c:pt idx="1871">
                  <c:v>8.82481056257176</c:v>
                </c:pt>
                <c:pt idx="1872">
                  <c:v>8.83467889908257</c:v>
                </c:pt>
                <c:pt idx="1873">
                  <c:v>8.84454753722795</c:v>
                </c:pt>
                <c:pt idx="1874">
                  <c:v>8.85441647597254</c:v>
                </c:pt>
                <c:pt idx="1875">
                  <c:v>8.86428571428571</c:v>
                </c:pt>
                <c:pt idx="1876">
                  <c:v>8.87415525114155</c:v>
                </c:pt>
                <c:pt idx="1877">
                  <c:v>8.88402508551882</c:v>
                </c:pt>
                <c:pt idx="1878">
                  <c:v>8.89389521640091</c:v>
                </c:pt>
                <c:pt idx="1879">
                  <c:v>8.90376564277588</c:v>
                </c:pt>
                <c:pt idx="1880">
                  <c:v>8.91363636363636</c:v>
                </c:pt>
                <c:pt idx="1881">
                  <c:v>8.92350737797957</c:v>
                </c:pt>
                <c:pt idx="1882">
                  <c:v>8.93337868480726</c:v>
                </c:pt>
                <c:pt idx="1883">
                  <c:v>8.94325028312571</c:v>
                </c:pt>
                <c:pt idx="1884">
                  <c:v>8.9531221719457</c:v>
                </c:pt>
                <c:pt idx="1885">
                  <c:v>8.96299435028249</c:v>
                </c:pt>
                <c:pt idx="1886">
                  <c:v>8.97286681715576</c:v>
                </c:pt>
                <c:pt idx="1887">
                  <c:v>8.98273957158963</c:v>
                </c:pt>
                <c:pt idx="1888">
                  <c:v>8.99261261261261</c:v>
                </c:pt>
                <c:pt idx="1889">
                  <c:v>9.00248593925759</c:v>
                </c:pt>
                <c:pt idx="1890">
                  <c:v>9.0123595505618</c:v>
                </c:pt>
                <c:pt idx="1891">
                  <c:v>9.02223344556678</c:v>
                </c:pt>
                <c:pt idx="1892">
                  <c:v>9.03210762331839</c:v>
                </c:pt>
                <c:pt idx="1893">
                  <c:v>9.04198208286674</c:v>
                </c:pt>
                <c:pt idx="1894">
                  <c:v>9.05185682326622</c:v>
                </c:pt>
                <c:pt idx="1895">
                  <c:v>9.06173184357542</c:v>
                </c:pt>
                <c:pt idx="1896">
                  <c:v>9.07160714285714</c:v>
                </c:pt>
                <c:pt idx="1897">
                  <c:v>9.08148272017837</c:v>
                </c:pt>
                <c:pt idx="1898">
                  <c:v>9.09135857461025</c:v>
                </c:pt>
                <c:pt idx="1899">
                  <c:v>9.10123470522803</c:v>
                </c:pt>
                <c:pt idx="1900">
                  <c:v>9.11111111111111</c:v>
                </c:pt>
                <c:pt idx="1901">
                  <c:v>9.12098779134295</c:v>
                </c:pt>
                <c:pt idx="1902">
                  <c:v>9.13086474501109</c:v>
                </c:pt>
                <c:pt idx="1903">
                  <c:v>9.14074197120709</c:v>
                </c:pt>
                <c:pt idx="1904">
                  <c:v>9.15061946902655</c:v>
                </c:pt>
                <c:pt idx="1905">
                  <c:v>9.16049723756906</c:v>
                </c:pt>
                <c:pt idx="1906">
                  <c:v>9.17037527593819</c:v>
                </c:pt>
                <c:pt idx="1907">
                  <c:v>9.18025358324146</c:v>
                </c:pt>
                <c:pt idx="1908">
                  <c:v>9.19013215859031</c:v>
                </c:pt>
                <c:pt idx="1909">
                  <c:v>9.20001100110011</c:v>
                </c:pt>
                <c:pt idx="1910">
                  <c:v>9.20989010989011</c:v>
                </c:pt>
                <c:pt idx="1911">
                  <c:v>9.21976948408342</c:v>
                </c:pt>
                <c:pt idx="1912">
                  <c:v>9.22964912280702</c:v>
                </c:pt>
                <c:pt idx="1913">
                  <c:v>9.23952902519168</c:v>
                </c:pt>
                <c:pt idx="1914">
                  <c:v>9.24940919037199</c:v>
                </c:pt>
                <c:pt idx="1915">
                  <c:v>9.25928961748634</c:v>
                </c:pt>
                <c:pt idx="1916">
                  <c:v>9.26917030567686</c:v>
                </c:pt>
                <c:pt idx="1917">
                  <c:v>9.27905125408942</c:v>
                </c:pt>
                <c:pt idx="1918">
                  <c:v>9.28893246187364</c:v>
                </c:pt>
                <c:pt idx="1919">
                  <c:v>9.29881392818281</c:v>
                </c:pt>
                <c:pt idx="1920">
                  <c:v>9.30869565217391</c:v>
                </c:pt>
                <c:pt idx="1921">
                  <c:v>9.3185776330076</c:v>
                </c:pt>
                <c:pt idx="1922">
                  <c:v>9.32845986984816</c:v>
                </c:pt>
                <c:pt idx="1923">
                  <c:v>9.33834236186349</c:v>
                </c:pt>
                <c:pt idx="1924">
                  <c:v>9.34822510822511</c:v>
                </c:pt>
                <c:pt idx="1925">
                  <c:v>9.35810810810811</c:v>
                </c:pt>
                <c:pt idx="1926">
                  <c:v>9.36799136069115</c:v>
                </c:pt>
                <c:pt idx="1927">
                  <c:v>9.37787486515642</c:v>
                </c:pt>
                <c:pt idx="1928">
                  <c:v>9.38775862068966</c:v>
                </c:pt>
                <c:pt idx="1929">
                  <c:v>9.39764262648009</c:v>
                </c:pt>
                <c:pt idx="1930">
                  <c:v>9.40752688172043</c:v>
                </c:pt>
                <c:pt idx="1931">
                  <c:v>9.41741138560687</c:v>
                </c:pt>
                <c:pt idx="1932">
                  <c:v>9.42729613733906</c:v>
                </c:pt>
                <c:pt idx="1933">
                  <c:v>9.43718113612004</c:v>
                </c:pt>
                <c:pt idx="1934">
                  <c:v>9.44706638115632</c:v>
                </c:pt>
                <c:pt idx="1935">
                  <c:v>9.45695187165776</c:v>
                </c:pt>
                <c:pt idx="1936">
                  <c:v>9.46683760683761</c:v>
                </c:pt>
                <c:pt idx="1937">
                  <c:v>9.47672358591249</c:v>
                </c:pt>
                <c:pt idx="1938">
                  <c:v>9.48660980810234</c:v>
                </c:pt>
                <c:pt idx="1939">
                  <c:v>9.49649627263046</c:v>
                </c:pt>
                <c:pt idx="1940">
                  <c:v>9.50638297872341</c:v>
                </c:pt>
                <c:pt idx="1941">
                  <c:v>9.51626992561105</c:v>
                </c:pt>
                <c:pt idx="1942">
                  <c:v>9.52615711252654</c:v>
                </c:pt>
                <c:pt idx="1943">
                  <c:v>9.53604453870626</c:v>
                </c:pt>
                <c:pt idx="1944">
                  <c:v>9.54593220338983</c:v>
                </c:pt>
                <c:pt idx="1945">
                  <c:v>9.55582010582011</c:v>
                </c:pt>
                <c:pt idx="1946">
                  <c:v>9.56570824524313</c:v>
                </c:pt>
                <c:pt idx="1947">
                  <c:v>9.57559662090813</c:v>
                </c:pt>
                <c:pt idx="1948">
                  <c:v>9.58548523206751</c:v>
                </c:pt>
                <c:pt idx="1949">
                  <c:v>9.59537407797682</c:v>
                </c:pt>
                <c:pt idx="1950">
                  <c:v>9.60526315789474</c:v>
                </c:pt>
                <c:pt idx="1951">
                  <c:v>9.61515247108307</c:v>
                </c:pt>
                <c:pt idx="1952">
                  <c:v>9.62504201680672</c:v>
                </c:pt>
                <c:pt idx="1953">
                  <c:v>9.63493179433369</c:v>
                </c:pt>
                <c:pt idx="1954">
                  <c:v>9.64482180293501</c:v>
                </c:pt>
                <c:pt idx="1955">
                  <c:v>9.65471204188482</c:v>
                </c:pt>
                <c:pt idx="1956">
                  <c:v>9.66460251046025</c:v>
                </c:pt>
                <c:pt idx="1957">
                  <c:v>9.67449320794148</c:v>
                </c:pt>
                <c:pt idx="1958">
                  <c:v>9.68438413361169</c:v>
                </c:pt>
                <c:pt idx="1959">
                  <c:v>9.69427528675704</c:v>
                </c:pt>
                <c:pt idx="1960">
                  <c:v>9.70416666666667</c:v>
                </c:pt>
                <c:pt idx="1961">
                  <c:v>9.71405827263267</c:v>
                </c:pt>
                <c:pt idx="1962">
                  <c:v>9.72395010395011</c:v>
                </c:pt>
                <c:pt idx="1963">
                  <c:v>9.73384215991693</c:v>
                </c:pt>
                <c:pt idx="1964">
                  <c:v>9.74373443983403</c:v>
                </c:pt>
                <c:pt idx="1965">
                  <c:v>9.75362694300518</c:v>
                </c:pt>
                <c:pt idx="1966">
                  <c:v>9.76351966873706</c:v>
                </c:pt>
                <c:pt idx="1967">
                  <c:v>9.7734126163392</c:v>
                </c:pt>
                <c:pt idx="1968">
                  <c:v>9.78330578512397</c:v>
                </c:pt>
                <c:pt idx="1969">
                  <c:v>9.79319917440661</c:v>
                </c:pt>
                <c:pt idx="1970">
                  <c:v>9.80309278350515</c:v>
                </c:pt>
                <c:pt idx="1971">
                  <c:v>9.81298661174047</c:v>
                </c:pt>
                <c:pt idx="1972">
                  <c:v>9.82288065843621</c:v>
                </c:pt>
                <c:pt idx="1973">
                  <c:v>9.83277492291881</c:v>
                </c:pt>
                <c:pt idx="1974">
                  <c:v>9.84266940451746</c:v>
                </c:pt>
                <c:pt idx="1975">
                  <c:v>9.8525641025641</c:v>
                </c:pt>
                <c:pt idx="1976">
                  <c:v>9.86245901639344</c:v>
                </c:pt>
                <c:pt idx="1977">
                  <c:v>9.87235414534289</c:v>
                </c:pt>
                <c:pt idx="1978">
                  <c:v>9.88224948875256</c:v>
                </c:pt>
                <c:pt idx="1979">
                  <c:v>9.89214504596527</c:v>
                </c:pt>
                <c:pt idx="1980">
                  <c:v>9.90204081632653</c:v>
                </c:pt>
                <c:pt idx="1981">
                  <c:v>9.9119367991845</c:v>
                </c:pt>
                <c:pt idx="1982">
                  <c:v>9.92183299389002</c:v>
                </c:pt>
                <c:pt idx="1983">
                  <c:v>9.93172939979654</c:v>
                </c:pt>
                <c:pt idx="1984">
                  <c:v>9.94162601626016</c:v>
                </c:pt>
                <c:pt idx="1985">
                  <c:v>9.9515228426396</c:v>
                </c:pt>
                <c:pt idx="1986">
                  <c:v>9.96141987829615</c:v>
                </c:pt>
                <c:pt idx="1987">
                  <c:v>9.97131712259372</c:v>
                </c:pt>
                <c:pt idx="1988">
                  <c:v>9.98121457489878</c:v>
                </c:pt>
                <c:pt idx="1989">
                  <c:v>9.99111223458039</c:v>
                </c:pt>
                <c:pt idx="1990">
                  <c:v>10.0010101010101</c:v>
                </c:pt>
                <c:pt idx="1991">
                  <c:v>10.0109081735621</c:v>
                </c:pt>
                <c:pt idx="1992">
                  <c:v>10.0208064516129</c:v>
                </c:pt>
                <c:pt idx="1993">
                  <c:v>10.0307049345418</c:v>
                </c:pt>
                <c:pt idx="1994">
                  <c:v>10.0406036217304</c:v>
                </c:pt>
                <c:pt idx="1995">
                  <c:v>10.0505025125628</c:v>
                </c:pt>
                <c:pt idx="1996">
                  <c:v>10.0604016064257</c:v>
                </c:pt>
                <c:pt idx="1997">
                  <c:v>10.0703009027081</c:v>
                </c:pt>
                <c:pt idx="1998">
                  <c:v>10.0802004008016</c:v>
                </c:pt>
                <c:pt idx="1999">
                  <c:v>10.0901001001001</c:v>
                </c:pt>
                <c:pt idx="2000">
                  <c:v>10.1</c:v>
                </c:pt>
              </c:numCache>
            </c:numRef>
          </c:yVal>
          <c:smooth val="1"/>
        </c:ser>
        <c:axId val="58620188"/>
        <c:axId val="77588603"/>
      </c:scatterChart>
      <c:valAx>
        <c:axId val="58620188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77588603"/>
        <c:crosses val="autoZero"/>
        <c:crossBetween val="midCat"/>
        <c:majorUnit val="2"/>
        <c:minorUnit val="0.05"/>
      </c:valAx>
      <c:valAx>
        <c:axId val="77588603"/>
        <c:scaling>
          <c:orientation val="minMax"/>
          <c:max val="7"/>
          <c:min val="-6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58620188"/>
        <c:crosses val="autoZero"/>
        <c:crossBetween val="midCat"/>
        <c:majorUnit val="2"/>
        <c:minorUnit val="0.0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6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Sloupec1</c:v>
                </c:pt>
              </c:strCache>
            </c:strRef>
          </c:tx>
          <c:spPr>
            <a:solidFill>
              <a:srgbClr val="c00000"/>
            </a:solidFill>
            <a:ln w="28440">
              <a:solidFill>
                <a:srgbClr val="c00000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2001"/>
                <c:pt idx="0">
                  <c:v>1.125</c:v>
                </c:pt>
                <c:pt idx="1">
                  <c:v>1.12515644555695</c:v>
                </c:pt>
                <c:pt idx="2">
                  <c:v>1.12531328320802</c:v>
                </c:pt>
                <c:pt idx="3">
                  <c:v>1.12547051442911</c:v>
                </c:pt>
                <c:pt idx="4">
                  <c:v>1.12562814070352</c:v>
                </c:pt>
                <c:pt idx="5">
                  <c:v>1.12578616352201</c:v>
                </c:pt>
                <c:pt idx="6">
                  <c:v>1.12594458438287</c:v>
                </c:pt>
                <c:pt idx="7">
                  <c:v>1.12610340479193</c:v>
                </c:pt>
                <c:pt idx="8">
                  <c:v>1.12626262626263</c:v>
                </c:pt>
                <c:pt idx="9">
                  <c:v>1.12642225031606</c:v>
                </c:pt>
                <c:pt idx="10">
                  <c:v>1.12658227848101</c:v>
                </c:pt>
                <c:pt idx="11">
                  <c:v>1.12674271229404</c:v>
                </c:pt>
                <c:pt idx="12">
                  <c:v>1.12690355329949</c:v>
                </c:pt>
                <c:pt idx="13">
                  <c:v>1.12706480304956</c:v>
                </c:pt>
                <c:pt idx="14">
                  <c:v>1.12722646310433</c:v>
                </c:pt>
                <c:pt idx="15">
                  <c:v>1.12738853503185</c:v>
                </c:pt>
                <c:pt idx="16">
                  <c:v>1.12755102040816</c:v>
                </c:pt>
                <c:pt idx="17">
                  <c:v>1.12771392081737</c:v>
                </c:pt>
                <c:pt idx="18">
                  <c:v>1.12787723785166</c:v>
                </c:pt>
                <c:pt idx="19">
                  <c:v>1.1280409731114</c:v>
                </c:pt>
                <c:pt idx="20">
                  <c:v>1.12820512820513</c:v>
                </c:pt>
                <c:pt idx="21">
                  <c:v>1.12836970474968</c:v>
                </c:pt>
                <c:pt idx="22">
                  <c:v>1.12853470437018</c:v>
                </c:pt>
                <c:pt idx="23">
                  <c:v>1.12870012870013</c:v>
                </c:pt>
                <c:pt idx="24">
                  <c:v>1.12886597938144</c:v>
                </c:pt>
                <c:pt idx="25">
                  <c:v>1.12903225806452</c:v>
                </c:pt>
                <c:pt idx="26">
                  <c:v>1.12919896640827</c:v>
                </c:pt>
                <c:pt idx="27">
                  <c:v>1.12936610608021</c:v>
                </c:pt>
                <c:pt idx="28">
                  <c:v>1.12953367875648</c:v>
                </c:pt>
                <c:pt idx="29">
                  <c:v>1.12970168612192</c:v>
                </c:pt>
                <c:pt idx="30">
                  <c:v>1.12987012987013</c:v>
                </c:pt>
                <c:pt idx="31">
                  <c:v>1.13003901170351</c:v>
                </c:pt>
                <c:pt idx="32">
                  <c:v>1.13020833333333</c:v>
                </c:pt>
                <c:pt idx="33">
                  <c:v>1.13037809647979</c:v>
                </c:pt>
                <c:pt idx="34">
                  <c:v>1.13054830287206</c:v>
                </c:pt>
                <c:pt idx="35">
                  <c:v>1.13071895424837</c:v>
                </c:pt>
                <c:pt idx="36">
                  <c:v>1.13089005235602</c:v>
                </c:pt>
                <c:pt idx="37">
                  <c:v>1.13106159895151</c:v>
                </c:pt>
                <c:pt idx="38">
                  <c:v>1.13123359580052</c:v>
                </c:pt>
                <c:pt idx="39">
                  <c:v>1.13140604467806</c:v>
                </c:pt>
                <c:pt idx="40">
                  <c:v>1.13157894736842</c:v>
                </c:pt>
                <c:pt idx="41">
                  <c:v>1.13175230566535</c:v>
                </c:pt>
                <c:pt idx="42">
                  <c:v>1.13192612137203</c:v>
                </c:pt>
                <c:pt idx="43">
                  <c:v>1.13210039630119</c:v>
                </c:pt>
                <c:pt idx="44">
                  <c:v>1.13227513227513</c:v>
                </c:pt>
                <c:pt idx="45">
                  <c:v>1.13245033112583</c:v>
                </c:pt>
                <c:pt idx="46">
                  <c:v>1.13262599469496</c:v>
                </c:pt>
                <c:pt idx="47">
                  <c:v>1.132802124834</c:v>
                </c:pt>
                <c:pt idx="48">
                  <c:v>1.13297872340426</c:v>
                </c:pt>
                <c:pt idx="49">
                  <c:v>1.13315579227696</c:v>
                </c:pt>
                <c:pt idx="50">
                  <c:v>1.13333333333333</c:v>
                </c:pt>
                <c:pt idx="51">
                  <c:v>1.13351134846462</c:v>
                </c:pt>
                <c:pt idx="52">
                  <c:v>1.13368983957219</c:v>
                </c:pt>
                <c:pt idx="53">
                  <c:v>1.1338688085676</c:v>
                </c:pt>
                <c:pt idx="54">
                  <c:v>1.13404825737265</c:v>
                </c:pt>
                <c:pt idx="55">
                  <c:v>1.13422818791946</c:v>
                </c:pt>
                <c:pt idx="56">
                  <c:v>1.13440860215054</c:v>
                </c:pt>
                <c:pt idx="57">
                  <c:v>1.13458950201884</c:v>
                </c:pt>
                <c:pt idx="58">
                  <c:v>1.13477088948787</c:v>
                </c:pt>
                <c:pt idx="59">
                  <c:v>1.13495276653171</c:v>
                </c:pt>
                <c:pt idx="60">
                  <c:v>1.13513513513514</c:v>
                </c:pt>
                <c:pt idx="61">
                  <c:v>1.13531799729364</c:v>
                </c:pt>
                <c:pt idx="62">
                  <c:v>1.13550135501355</c:v>
                </c:pt>
                <c:pt idx="63">
                  <c:v>1.13568521031208</c:v>
                </c:pt>
                <c:pt idx="64">
                  <c:v>1.13586956521739</c:v>
                </c:pt>
                <c:pt idx="65">
                  <c:v>1.13605442176871</c:v>
                </c:pt>
                <c:pt idx="66">
                  <c:v>1.13623978201635</c:v>
                </c:pt>
                <c:pt idx="67">
                  <c:v>1.13642564802183</c:v>
                </c:pt>
                <c:pt idx="68">
                  <c:v>1.13661202185792</c:v>
                </c:pt>
                <c:pt idx="69">
                  <c:v>1.13679890560876</c:v>
                </c:pt>
                <c:pt idx="70">
                  <c:v>1.13698630136986</c:v>
                </c:pt>
                <c:pt idx="71">
                  <c:v>1.13717421124829</c:v>
                </c:pt>
                <c:pt idx="72">
                  <c:v>1.13736263736264</c:v>
                </c:pt>
                <c:pt idx="73">
                  <c:v>1.13755158184319</c:v>
                </c:pt>
                <c:pt idx="74">
                  <c:v>1.13774104683196</c:v>
                </c:pt>
                <c:pt idx="75">
                  <c:v>1.13793103448276</c:v>
                </c:pt>
                <c:pt idx="76">
                  <c:v>1.13812154696133</c:v>
                </c:pt>
                <c:pt idx="77">
                  <c:v>1.13831258644537</c:v>
                </c:pt>
                <c:pt idx="78">
                  <c:v>1.13850415512465</c:v>
                </c:pt>
                <c:pt idx="79">
                  <c:v>1.13869625520111</c:v>
                </c:pt>
                <c:pt idx="80">
                  <c:v>1.13888888888889</c:v>
                </c:pt>
                <c:pt idx="81">
                  <c:v>1.13908205841446</c:v>
                </c:pt>
                <c:pt idx="82">
                  <c:v>1.13927576601671</c:v>
                </c:pt>
                <c:pt idx="83">
                  <c:v>1.139470013947</c:v>
                </c:pt>
                <c:pt idx="84">
                  <c:v>1.13966480446927</c:v>
                </c:pt>
                <c:pt idx="85">
                  <c:v>1.13986013986014</c:v>
                </c:pt>
                <c:pt idx="86">
                  <c:v>1.14005602240896</c:v>
                </c:pt>
                <c:pt idx="87">
                  <c:v>1.14025245441795</c:v>
                </c:pt>
                <c:pt idx="88">
                  <c:v>1.14044943820225</c:v>
                </c:pt>
                <c:pt idx="89">
                  <c:v>1.14064697609001</c:v>
                </c:pt>
                <c:pt idx="90">
                  <c:v>1.14084507042254</c:v>
                </c:pt>
                <c:pt idx="91">
                  <c:v>1.1410437235543</c:v>
                </c:pt>
                <c:pt idx="92">
                  <c:v>1.14124293785311</c:v>
                </c:pt>
                <c:pt idx="93">
                  <c:v>1.14144271570014</c:v>
                </c:pt>
                <c:pt idx="94">
                  <c:v>1.14164305949009</c:v>
                </c:pt>
                <c:pt idx="95">
                  <c:v>1.14184397163121</c:v>
                </c:pt>
                <c:pt idx="96">
                  <c:v>1.14204545454545</c:v>
                </c:pt>
                <c:pt idx="97">
                  <c:v>1.14224751066856</c:v>
                </c:pt>
                <c:pt idx="98">
                  <c:v>1.14245014245014</c:v>
                </c:pt>
                <c:pt idx="99">
                  <c:v>1.14265335235378</c:v>
                </c:pt>
                <c:pt idx="100">
                  <c:v>1.14285714285714</c:v>
                </c:pt>
                <c:pt idx="101">
                  <c:v>1.14306151645207</c:v>
                </c:pt>
                <c:pt idx="102">
                  <c:v>1.1432664756447</c:v>
                </c:pt>
                <c:pt idx="103">
                  <c:v>1.14347202295552</c:v>
                </c:pt>
                <c:pt idx="104">
                  <c:v>1.14367816091954</c:v>
                </c:pt>
                <c:pt idx="105">
                  <c:v>1.14388489208633</c:v>
                </c:pt>
                <c:pt idx="106">
                  <c:v>1.14409221902017</c:v>
                </c:pt>
                <c:pt idx="107">
                  <c:v>1.14430014430014</c:v>
                </c:pt>
                <c:pt idx="108">
                  <c:v>1.14450867052023</c:v>
                </c:pt>
                <c:pt idx="109">
                  <c:v>1.14471780028944</c:v>
                </c:pt>
                <c:pt idx="110">
                  <c:v>1.14492753623188</c:v>
                </c:pt>
                <c:pt idx="111">
                  <c:v>1.14513788098694</c:v>
                </c:pt>
                <c:pt idx="112">
                  <c:v>1.1453488372093</c:v>
                </c:pt>
                <c:pt idx="113">
                  <c:v>1.14556040756914</c:v>
                </c:pt>
                <c:pt idx="114">
                  <c:v>1.14577259475219</c:v>
                </c:pt>
                <c:pt idx="115">
                  <c:v>1.14598540145985</c:v>
                </c:pt>
                <c:pt idx="116">
                  <c:v>1.14619883040936</c:v>
                </c:pt>
                <c:pt idx="117">
                  <c:v>1.14641288433382</c:v>
                </c:pt>
                <c:pt idx="118">
                  <c:v>1.1466275659824</c:v>
                </c:pt>
                <c:pt idx="119">
                  <c:v>1.14684287812041</c:v>
                </c:pt>
                <c:pt idx="120">
                  <c:v>1.14705882352941</c:v>
                </c:pt>
                <c:pt idx="121">
                  <c:v>1.14727540500736</c:v>
                </c:pt>
                <c:pt idx="122">
                  <c:v>1.14749262536873</c:v>
                </c:pt>
                <c:pt idx="123">
                  <c:v>1.14771048744461</c:v>
                </c:pt>
                <c:pt idx="124">
                  <c:v>1.14792899408284</c:v>
                </c:pt>
                <c:pt idx="125">
                  <c:v>1.14814814814815</c:v>
                </c:pt>
                <c:pt idx="126">
                  <c:v>1.14836795252226</c:v>
                </c:pt>
                <c:pt idx="127">
                  <c:v>1.14858841010401</c:v>
                </c:pt>
                <c:pt idx="128">
                  <c:v>1.14880952380952</c:v>
                </c:pt>
                <c:pt idx="129">
                  <c:v>1.14903129657228</c:v>
                </c:pt>
                <c:pt idx="130">
                  <c:v>1.14925373134328</c:v>
                </c:pt>
                <c:pt idx="131">
                  <c:v>1.14947683109118</c:v>
                </c:pt>
                <c:pt idx="132">
                  <c:v>1.1497005988024</c:v>
                </c:pt>
                <c:pt idx="133">
                  <c:v>1.14992503748126</c:v>
                </c:pt>
                <c:pt idx="134">
                  <c:v>1.15015015015015</c:v>
                </c:pt>
                <c:pt idx="135">
                  <c:v>1.15037593984962</c:v>
                </c:pt>
                <c:pt idx="136">
                  <c:v>1.15060240963855</c:v>
                </c:pt>
                <c:pt idx="137">
                  <c:v>1.15082956259427</c:v>
                </c:pt>
                <c:pt idx="138">
                  <c:v>1.15105740181269</c:v>
                </c:pt>
                <c:pt idx="139">
                  <c:v>1.15128593040847</c:v>
                </c:pt>
                <c:pt idx="140">
                  <c:v>1.15151515151515</c:v>
                </c:pt>
                <c:pt idx="141">
                  <c:v>1.15174506828528</c:v>
                </c:pt>
                <c:pt idx="142">
                  <c:v>1.15197568389058</c:v>
                </c:pt>
                <c:pt idx="143">
                  <c:v>1.15220700152207</c:v>
                </c:pt>
                <c:pt idx="144">
                  <c:v>1.15243902439024</c:v>
                </c:pt>
                <c:pt idx="145">
                  <c:v>1.15267175572519</c:v>
                </c:pt>
                <c:pt idx="146">
                  <c:v>1.15290519877676</c:v>
                </c:pt>
                <c:pt idx="147">
                  <c:v>1.1531393568147</c:v>
                </c:pt>
                <c:pt idx="148">
                  <c:v>1.15337423312883</c:v>
                </c:pt>
                <c:pt idx="149">
                  <c:v>1.15360983102919</c:v>
                </c:pt>
                <c:pt idx="150">
                  <c:v>1.15384615384615</c:v>
                </c:pt>
                <c:pt idx="151">
                  <c:v>1.15408320493066</c:v>
                </c:pt>
                <c:pt idx="152">
                  <c:v>1.15432098765432</c:v>
                </c:pt>
                <c:pt idx="153">
                  <c:v>1.15455950540958</c:v>
                </c:pt>
                <c:pt idx="154">
                  <c:v>1.15479876160991</c:v>
                </c:pt>
                <c:pt idx="155">
                  <c:v>1.15503875968992</c:v>
                </c:pt>
                <c:pt idx="156">
                  <c:v>1.15527950310559</c:v>
                </c:pt>
                <c:pt idx="157">
                  <c:v>1.15552099533437</c:v>
                </c:pt>
                <c:pt idx="158">
                  <c:v>1.15576323987539</c:v>
                </c:pt>
                <c:pt idx="159">
                  <c:v>1.15600624024961</c:v>
                </c:pt>
                <c:pt idx="160">
                  <c:v>1.15625</c:v>
                </c:pt>
                <c:pt idx="161">
                  <c:v>1.15649452269171</c:v>
                </c:pt>
                <c:pt idx="162">
                  <c:v>1.15673981191223</c:v>
                </c:pt>
                <c:pt idx="163">
                  <c:v>1.15698587127159</c:v>
                </c:pt>
                <c:pt idx="164">
                  <c:v>1.15723270440252</c:v>
                </c:pt>
                <c:pt idx="165">
                  <c:v>1.15748031496063</c:v>
                </c:pt>
                <c:pt idx="166">
                  <c:v>1.15772870662461</c:v>
                </c:pt>
                <c:pt idx="167">
                  <c:v>1.15797788309637</c:v>
                </c:pt>
                <c:pt idx="168">
                  <c:v>1.15822784810127</c:v>
                </c:pt>
                <c:pt idx="169">
                  <c:v>1.15847860538827</c:v>
                </c:pt>
                <c:pt idx="170">
                  <c:v>1.15873015873016</c:v>
                </c:pt>
                <c:pt idx="171">
                  <c:v>1.15898251192369</c:v>
                </c:pt>
                <c:pt idx="172">
                  <c:v>1.15923566878981</c:v>
                </c:pt>
                <c:pt idx="173">
                  <c:v>1.15948963317384</c:v>
                </c:pt>
                <c:pt idx="174">
                  <c:v>1.15974440894569</c:v>
                </c:pt>
                <c:pt idx="175">
                  <c:v>1.16</c:v>
                </c:pt>
                <c:pt idx="176">
                  <c:v>1.16025641025641</c:v>
                </c:pt>
                <c:pt idx="177">
                  <c:v>1.16051364365971</c:v>
                </c:pt>
                <c:pt idx="178">
                  <c:v>1.16077170418006</c:v>
                </c:pt>
                <c:pt idx="179">
                  <c:v>1.1610305958132</c:v>
                </c:pt>
                <c:pt idx="180">
                  <c:v>1.16129032258065</c:v>
                </c:pt>
                <c:pt idx="181">
                  <c:v>1.16155088852989</c:v>
                </c:pt>
                <c:pt idx="182">
                  <c:v>1.16181229773463</c:v>
                </c:pt>
                <c:pt idx="183">
                  <c:v>1.16207455429498</c:v>
                </c:pt>
                <c:pt idx="184">
                  <c:v>1.16233766233766</c:v>
                </c:pt>
                <c:pt idx="185">
                  <c:v>1.16260162601626</c:v>
                </c:pt>
                <c:pt idx="186">
                  <c:v>1.1628664495114</c:v>
                </c:pt>
                <c:pt idx="187">
                  <c:v>1.163132137031</c:v>
                </c:pt>
                <c:pt idx="188">
                  <c:v>1.16339869281046</c:v>
                </c:pt>
                <c:pt idx="189">
                  <c:v>1.16366612111293</c:v>
                </c:pt>
                <c:pt idx="190">
                  <c:v>1.16393442622951</c:v>
                </c:pt>
                <c:pt idx="191">
                  <c:v>1.16420361247947</c:v>
                </c:pt>
                <c:pt idx="192">
                  <c:v>1.16447368421053</c:v>
                </c:pt>
                <c:pt idx="193">
                  <c:v>1.16474464579901</c:v>
                </c:pt>
                <c:pt idx="194">
                  <c:v>1.16501650165017</c:v>
                </c:pt>
                <c:pt idx="195">
                  <c:v>1.16528925619835</c:v>
                </c:pt>
                <c:pt idx="196">
                  <c:v>1.16556291390728</c:v>
                </c:pt>
                <c:pt idx="197">
                  <c:v>1.16583747927032</c:v>
                </c:pt>
                <c:pt idx="198">
                  <c:v>1.16611295681063</c:v>
                </c:pt>
                <c:pt idx="199">
                  <c:v>1.16638935108153</c:v>
                </c:pt>
                <c:pt idx="200">
                  <c:v>1.16666666666667</c:v>
                </c:pt>
                <c:pt idx="201">
                  <c:v>1.1669449081803</c:v>
                </c:pt>
                <c:pt idx="202">
                  <c:v>1.16722408026756</c:v>
                </c:pt>
                <c:pt idx="203">
                  <c:v>1.16750418760469</c:v>
                </c:pt>
                <c:pt idx="204">
                  <c:v>1.16778523489933</c:v>
                </c:pt>
                <c:pt idx="205">
                  <c:v>1.16806722689076</c:v>
                </c:pt>
                <c:pt idx="206">
                  <c:v>1.16835016835017</c:v>
                </c:pt>
                <c:pt idx="207">
                  <c:v>1.16863406408094</c:v>
                </c:pt>
                <c:pt idx="208">
                  <c:v>1.16891891891892</c:v>
                </c:pt>
                <c:pt idx="209">
                  <c:v>1.16920473773266</c:v>
                </c:pt>
                <c:pt idx="210">
                  <c:v>1.16949152542373</c:v>
                </c:pt>
                <c:pt idx="211">
                  <c:v>1.169779286927</c:v>
                </c:pt>
                <c:pt idx="212">
                  <c:v>1.17006802721088</c:v>
                </c:pt>
                <c:pt idx="213">
                  <c:v>1.17035775127768</c:v>
                </c:pt>
                <c:pt idx="214">
                  <c:v>1.17064846416382</c:v>
                </c:pt>
                <c:pt idx="215">
                  <c:v>1.17094017094017</c:v>
                </c:pt>
                <c:pt idx="216">
                  <c:v>1.17123287671233</c:v>
                </c:pt>
                <c:pt idx="217">
                  <c:v>1.17152658662093</c:v>
                </c:pt>
                <c:pt idx="218">
                  <c:v>1.17182130584192</c:v>
                </c:pt>
                <c:pt idx="219">
                  <c:v>1.17211703958692</c:v>
                </c:pt>
                <c:pt idx="220">
                  <c:v>1.17241379310345</c:v>
                </c:pt>
                <c:pt idx="221">
                  <c:v>1.1727115716753</c:v>
                </c:pt>
                <c:pt idx="222">
                  <c:v>1.17301038062284</c:v>
                </c:pt>
                <c:pt idx="223">
                  <c:v>1.17331022530329</c:v>
                </c:pt>
                <c:pt idx="224">
                  <c:v>1.17361111111111</c:v>
                </c:pt>
                <c:pt idx="225">
                  <c:v>1.17391304347826</c:v>
                </c:pt>
                <c:pt idx="226">
                  <c:v>1.17421602787456</c:v>
                </c:pt>
                <c:pt idx="227">
                  <c:v>1.17452006980803</c:v>
                </c:pt>
                <c:pt idx="228">
                  <c:v>1.17482517482517</c:v>
                </c:pt>
                <c:pt idx="229">
                  <c:v>1.17513134851138</c:v>
                </c:pt>
                <c:pt idx="230">
                  <c:v>1.17543859649123</c:v>
                </c:pt>
                <c:pt idx="231">
                  <c:v>1.17574692442882</c:v>
                </c:pt>
                <c:pt idx="232">
                  <c:v>1.17605633802817</c:v>
                </c:pt>
                <c:pt idx="233">
                  <c:v>1.17636684303351</c:v>
                </c:pt>
                <c:pt idx="234">
                  <c:v>1.17667844522968</c:v>
                </c:pt>
                <c:pt idx="235">
                  <c:v>1.17699115044248</c:v>
                </c:pt>
                <c:pt idx="236">
                  <c:v>1.17730496453901</c:v>
                </c:pt>
                <c:pt idx="237">
                  <c:v>1.17761989342806</c:v>
                </c:pt>
                <c:pt idx="238">
                  <c:v>1.1779359430605</c:v>
                </c:pt>
                <c:pt idx="239">
                  <c:v>1.17825311942959</c:v>
                </c:pt>
                <c:pt idx="240">
                  <c:v>1.17857142857143</c:v>
                </c:pt>
                <c:pt idx="241">
                  <c:v>1.1788908765653</c:v>
                </c:pt>
                <c:pt idx="242">
                  <c:v>1.17921146953405</c:v>
                </c:pt>
                <c:pt idx="243">
                  <c:v>1.17953321364452</c:v>
                </c:pt>
                <c:pt idx="244">
                  <c:v>1.17985611510791</c:v>
                </c:pt>
                <c:pt idx="245">
                  <c:v>1.18018018018018</c:v>
                </c:pt>
                <c:pt idx="246">
                  <c:v>1.18050541516245</c:v>
                </c:pt>
                <c:pt idx="247">
                  <c:v>1.18083182640145</c:v>
                </c:pt>
                <c:pt idx="248">
                  <c:v>1.18115942028986</c:v>
                </c:pt>
                <c:pt idx="249">
                  <c:v>1.18148820326679</c:v>
                </c:pt>
                <c:pt idx="250">
                  <c:v>1.18181818181818</c:v>
                </c:pt>
                <c:pt idx="251">
                  <c:v>1.18214936247723</c:v>
                </c:pt>
                <c:pt idx="252">
                  <c:v>1.18248175182482</c:v>
                </c:pt>
                <c:pt idx="253">
                  <c:v>1.18281535648995</c:v>
                </c:pt>
                <c:pt idx="254">
                  <c:v>1.18315018315018</c:v>
                </c:pt>
                <c:pt idx="255">
                  <c:v>1.18348623853211</c:v>
                </c:pt>
                <c:pt idx="256">
                  <c:v>1.18382352941176</c:v>
                </c:pt>
                <c:pt idx="257">
                  <c:v>1.1841620626151</c:v>
                </c:pt>
                <c:pt idx="258">
                  <c:v>1.18450184501845</c:v>
                </c:pt>
                <c:pt idx="259">
                  <c:v>1.18484288354898</c:v>
                </c:pt>
                <c:pt idx="260">
                  <c:v>1.18518518518519</c:v>
                </c:pt>
                <c:pt idx="261">
                  <c:v>1.18552875695733</c:v>
                </c:pt>
                <c:pt idx="262">
                  <c:v>1.18587360594796</c:v>
                </c:pt>
                <c:pt idx="263">
                  <c:v>1.18621973929237</c:v>
                </c:pt>
                <c:pt idx="264">
                  <c:v>1.1865671641791</c:v>
                </c:pt>
                <c:pt idx="265">
                  <c:v>1.18691588785047</c:v>
                </c:pt>
                <c:pt idx="266">
                  <c:v>1.187265917603</c:v>
                </c:pt>
                <c:pt idx="267">
                  <c:v>1.18761726078799</c:v>
                </c:pt>
                <c:pt idx="268">
                  <c:v>1.18796992481203</c:v>
                </c:pt>
                <c:pt idx="269">
                  <c:v>1.18832391713748</c:v>
                </c:pt>
                <c:pt idx="270">
                  <c:v>1.18867924528302</c:v>
                </c:pt>
                <c:pt idx="271">
                  <c:v>1.1890359168242</c:v>
                </c:pt>
                <c:pt idx="272">
                  <c:v>1.18939393939394</c:v>
                </c:pt>
                <c:pt idx="273">
                  <c:v>1.18975332068311</c:v>
                </c:pt>
                <c:pt idx="274">
                  <c:v>1.19011406844106</c:v>
                </c:pt>
                <c:pt idx="275">
                  <c:v>1.19047619047619</c:v>
                </c:pt>
                <c:pt idx="276">
                  <c:v>1.19083969465649</c:v>
                </c:pt>
                <c:pt idx="277">
                  <c:v>1.19120458891013</c:v>
                </c:pt>
                <c:pt idx="278">
                  <c:v>1.19157088122605</c:v>
                </c:pt>
                <c:pt idx="279">
                  <c:v>1.19193857965451</c:v>
                </c:pt>
                <c:pt idx="280">
                  <c:v>1.19230769230769</c:v>
                </c:pt>
                <c:pt idx="281">
                  <c:v>1.19267822736031</c:v>
                </c:pt>
                <c:pt idx="282">
                  <c:v>1.19305019305019</c:v>
                </c:pt>
                <c:pt idx="283">
                  <c:v>1.19342359767892</c:v>
                </c:pt>
                <c:pt idx="284">
                  <c:v>1.1937984496124</c:v>
                </c:pt>
                <c:pt idx="285">
                  <c:v>1.19417475728155</c:v>
                </c:pt>
                <c:pt idx="286">
                  <c:v>1.19455252918288</c:v>
                </c:pt>
                <c:pt idx="287">
                  <c:v>1.19493177387914</c:v>
                </c:pt>
                <c:pt idx="288">
                  <c:v>1.1953125</c:v>
                </c:pt>
                <c:pt idx="289">
                  <c:v>1.19569471624266</c:v>
                </c:pt>
                <c:pt idx="290">
                  <c:v>1.19607843137255</c:v>
                </c:pt>
                <c:pt idx="291">
                  <c:v>1.19646365422397</c:v>
                </c:pt>
                <c:pt idx="292">
                  <c:v>1.19685039370079</c:v>
                </c:pt>
                <c:pt idx="293">
                  <c:v>1.19723865877712</c:v>
                </c:pt>
                <c:pt idx="294">
                  <c:v>1.19762845849802</c:v>
                </c:pt>
                <c:pt idx="295">
                  <c:v>1.1980198019802</c:v>
                </c:pt>
                <c:pt idx="296">
                  <c:v>1.1984126984127</c:v>
                </c:pt>
                <c:pt idx="297">
                  <c:v>1.19880715705765</c:v>
                </c:pt>
                <c:pt idx="298">
                  <c:v>1.199203187251</c:v>
                </c:pt>
                <c:pt idx="299">
                  <c:v>1.19960079840319</c:v>
                </c:pt>
                <c:pt idx="300">
                  <c:v>1.2</c:v>
                </c:pt>
                <c:pt idx="301">
                  <c:v>1.20040080160321</c:v>
                </c:pt>
                <c:pt idx="302">
                  <c:v>1.20080321285141</c:v>
                </c:pt>
                <c:pt idx="303">
                  <c:v>1.20120724346076</c:v>
                </c:pt>
                <c:pt idx="304">
                  <c:v>1.20161290322581</c:v>
                </c:pt>
                <c:pt idx="305">
                  <c:v>1.2020202020202</c:v>
                </c:pt>
                <c:pt idx="306">
                  <c:v>1.20242914979757</c:v>
                </c:pt>
                <c:pt idx="307">
                  <c:v>1.20283975659229</c:v>
                </c:pt>
                <c:pt idx="308">
                  <c:v>1.20325203252033</c:v>
                </c:pt>
                <c:pt idx="309">
                  <c:v>1.20366598778004</c:v>
                </c:pt>
                <c:pt idx="310">
                  <c:v>1.20408163265306</c:v>
                </c:pt>
                <c:pt idx="311">
                  <c:v>1.20449897750511</c:v>
                </c:pt>
                <c:pt idx="312">
                  <c:v>1.20491803278689</c:v>
                </c:pt>
                <c:pt idx="313">
                  <c:v>1.20533880903491</c:v>
                </c:pt>
                <c:pt idx="314">
                  <c:v>1.20576131687243</c:v>
                </c:pt>
                <c:pt idx="315">
                  <c:v>1.20618556701031</c:v>
                </c:pt>
                <c:pt idx="316">
                  <c:v>1.20661157024793</c:v>
                </c:pt>
                <c:pt idx="317">
                  <c:v>1.20703933747412</c:v>
                </c:pt>
                <c:pt idx="318">
                  <c:v>1.20746887966805</c:v>
                </c:pt>
                <c:pt idx="319">
                  <c:v>1.20790020790021</c:v>
                </c:pt>
                <c:pt idx="320">
                  <c:v>1.20833333333333</c:v>
                </c:pt>
                <c:pt idx="321">
                  <c:v>1.20876826722338</c:v>
                </c:pt>
                <c:pt idx="322">
                  <c:v>1.2092050209205</c:v>
                </c:pt>
                <c:pt idx="323">
                  <c:v>1.20964360587002</c:v>
                </c:pt>
                <c:pt idx="324">
                  <c:v>1.21008403361345</c:v>
                </c:pt>
                <c:pt idx="325">
                  <c:v>1.21052631578947</c:v>
                </c:pt>
                <c:pt idx="326">
                  <c:v>1.21097046413502</c:v>
                </c:pt>
                <c:pt idx="327">
                  <c:v>1.21141649048626</c:v>
                </c:pt>
                <c:pt idx="328">
                  <c:v>1.21186440677966</c:v>
                </c:pt>
                <c:pt idx="329">
                  <c:v>1.21231422505308</c:v>
                </c:pt>
                <c:pt idx="330">
                  <c:v>1.21276595744681</c:v>
                </c:pt>
                <c:pt idx="331">
                  <c:v>1.21321961620469</c:v>
                </c:pt>
                <c:pt idx="332">
                  <c:v>1.21367521367521</c:v>
                </c:pt>
                <c:pt idx="333">
                  <c:v>1.21413276231263</c:v>
                </c:pt>
                <c:pt idx="334">
                  <c:v>1.21459227467811</c:v>
                </c:pt>
                <c:pt idx="335">
                  <c:v>1.21505376344086</c:v>
                </c:pt>
                <c:pt idx="336">
                  <c:v>1.21551724137931</c:v>
                </c:pt>
                <c:pt idx="337">
                  <c:v>1.21598272138229</c:v>
                </c:pt>
                <c:pt idx="338">
                  <c:v>1.21645021645022</c:v>
                </c:pt>
                <c:pt idx="339">
                  <c:v>1.21691973969631</c:v>
                </c:pt>
                <c:pt idx="340">
                  <c:v>1.21739130434783</c:v>
                </c:pt>
                <c:pt idx="341">
                  <c:v>1.21786492374728</c:v>
                </c:pt>
                <c:pt idx="342">
                  <c:v>1.21834061135371</c:v>
                </c:pt>
                <c:pt idx="343">
                  <c:v>1.21881838074398</c:v>
                </c:pt>
                <c:pt idx="344">
                  <c:v>1.21929824561404</c:v>
                </c:pt>
                <c:pt idx="345">
                  <c:v>1.21978021978022</c:v>
                </c:pt>
                <c:pt idx="346">
                  <c:v>1.22026431718062</c:v>
                </c:pt>
                <c:pt idx="347">
                  <c:v>1.22075055187638</c:v>
                </c:pt>
                <c:pt idx="348">
                  <c:v>1.2212389380531</c:v>
                </c:pt>
                <c:pt idx="349">
                  <c:v>1.22172949002217</c:v>
                </c:pt>
                <c:pt idx="350">
                  <c:v>1.22222222222222</c:v>
                </c:pt>
                <c:pt idx="351">
                  <c:v>1.22271714922049</c:v>
                </c:pt>
                <c:pt idx="352">
                  <c:v>1.22321428571429</c:v>
                </c:pt>
                <c:pt idx="353">
                  <c:v>1.22371364653244</c:v>
                </c:pt>
                <c:pt idx="354">
                  <c:v>1.22421524663677</c:v>
                </c:pt>
                <c:pt idx="355">
                  <c:v>1.2247191011236</c:v>
                </c:pt>
                <c:pt idx="356">
                  <c:v>1.22522522522523</c:v>
                </c:pt>
                <c:pt idx="357">
                  <c:v>1.22573363431151</c:v>
                </c:pt>
                <c:pt idx="358">
                  <c:v>1.2262443438914</c:v>
                </c:pt>
                <c:pt idx="359">
                  <c:v>1.22675736961451</c:v>
                </c:pt>
                <c:pt idx="360">
                  <c:v>1.22727272727273</c:v>
                </c:pt>
                <c:pt idx="361">
                  <c:v>1.22779043280182</c:v>
                </c:pt>
                <c:pt idx="362">
                  <c:v>1.22831050228311</c:v>
                </c:pt>
                <c:pt idx="363">
                  <c:v>1.22883295194508</c:v>
                </c:pt>
                <c:pt idx="364">
                  <c:v>1.22935779816514</c:v>
                </c:pt>
                <c:pt idx="365">
                  <c:v>1.22988505747126</c:v>
                </c:pt>
                <c:pt idx="366">
                  <c:v>1.23041474654378</c:v>
                </c:pt>
                <c:pt idx="367">
                  <c:v>1.23094688221709</c:v>
                </c:pt>
                <c:pt idx="368">
                  <c:v>1.23148148148148</c:v>
                </c:pt>
                <c:pt idx="369">
                  <c:v>1.23201856148492</c:v>
                </c:pt>
                <c:pt idx="370">
                  <c:v>1.23255813953488</c:v>
                </c:pt>
                <c:pt idx="371">
                  <c:v>1.23310023310023</c:v>
                </c:pt>
                <c:pt idx="372">
                  <c:v>1.23364485981308</c:v>
                </c:pt>
                <c:pt idx="373">
                  <c:v>1.23419203747073</c:v>
                </c:pt>
                <c:pt idx="374">
                  <c:v>1.23474178403756</c:v>
                </c:pt>
                <c:pt idx="375">
                  <c:v>1.23529411764706</c:v>
                </c:pt>
                <c:pt idx="376">
                  <c:v>1.23584905660377</c:v>
                </c:pt>
                <c:pt idx="377">
                  <c:v>1.23640661938534</c:v>
                </c:pt>
                <c:pt idx="378">
                  <c:v>1.23696682464455</c:v>
                </c:pt>
                <c:pt idx="379">
                  <c:v>1.2375296912114</c:v>
                </c:pt>
                <c:pt idx="380">
                  <c:v>1.23809523809524</c:v>
                </c:pt>
                <c:pt idx="381">
                  <c:v>1.23866348448687</c:v>
                </c:pt>
                <c:pt idx="382">
                  <c:v>1.23923444976077</c:v>
                </c:pt>
                <c:pt idx="383">
                  <c:v>1.23980815347722</c:v>
                </c:pt>
                <c:pt idx="384">
                  <c:v>1.24038461538462</c:v>
                </c:pt>
                <c:pt idx="385">
                  <c:v>1.24096385542169</c:v>
                </c:pt>
                <c:pt idx="386">
                  <c:v>1.24154589371981</c:v>
                </c:pt>
                <c:pt idx="387">
                  <c:v>1.24213075060533</c:v>
                </c:pt>
                <c:pt idx="388">
                  <c:v>1.24271844660194</c:v>
                </c:pt>
                <c:pt idx="389">
                  <c:v>1.24330900243309</c:v>
                </c:pt>
                <c:pt idx="390">
                  <c:v>1.24390243902439</c:v>
                </c:pt>
                <c:pt idx="391">
                  <c:v>1.24449877750611</c:v>
                </c:pt>
                <c:pt idx="392">
                  <c:v>1.24509803921569</c:v>
                </c:pt>
                <c:pt idx="393">
                  <c:v>1.24570024570025</c:v>
                </c:pt>
                <c:pt idx="394">
                  <c:v>1.24630541871921</c:v>
                </c:pt>
                <c:pt idx="395">
                  <c:v>1.24691358024691</c:v>
                </c:pt>
                <c:pt idx="396">
                  <c:v>1.24752475247525</c:v>
                </c:pt>
                <c:pt idx="397">
                  <c:v>1.24813895781638</c:v>
                </c:pt>
                <c:pt idx="398">
                  <c:v>1.24875621890547</c:v>
                </c:pt>
                <c:pt idx="399">
                  <c:v>1.24937655860349</c:v>
                </c:pt>
                <c:pt idx="400">
                  <c:v>1.25</c:v>
                </c:pt>
                <c:pt idx="401">
                  <c:v>1.25062656641604</c:v>
                </c:pt>
                <c:pt idx="402">
                  <c:v>1.25125628140704</c:v>
                </c:pt>
                <c:pt idx="403">
                  <c:v>1.25188916876574</c:v>
                </c:pt>
                <c:pt idx="404">
                  <c:v>1.25252525252525</c:v>
                </c:pt>
                <c:pt idx="405">
                  <c:v>1.25316455696203</c:v>
                </c:pt>
                <c:pt idx="406">
                  <c:v>1.25380710659898</c:v>
                </c:pt>
                <c:pt idx="407">
                  <c:v>1.25445292620865</c:v>
                </c:pt>
                <c:pt idx="408">
                  <c:v>1.25510204081633</c:v>
                </c:pt>
                <c:pt idx="409">
                  <c:v>1.25575447570332</c:v>
                </c:pt>
                <c:pt idx="410">
                  <c:v>1.25641025641026</c:v>
                </c:pt>
                <c:pt idx="411">
                  <c:v>1.25706940874036</c:v>
                </c:pt>
                <c:pt idx="412">
                  <c:v>1.25773195876289</c:v>
                </c:pt>
                <c:pt idx="413">
                  <c:v>1.25839793281654</c:v>
                </c:pt>
                <c:pt idx="414">
                  <c:v>1.25906735751295</c:v>
                </c:pt>
                <c:pt idx="415">
                  <c:v>1.25974025974026</c:v>
                </c:pt>
                <c:pt idx="416">
                  <c:v>1.26041666666667</c:v>
                </c:pt>
                <c:pt idx="417">
                  <c:v>1.26109660574413</c:v>
                </c:pt>
                <c:pt idx="418">
                  <c:v>1.26178010471204</c:v>
                </c:pt>
                <c:pt idx="419">
                  <c:v>1.26246719160105</c:v>
                </c:pt>
                <c:pt idx="420">
                  <c:v>1.26315789473684</c:v>
                </c:pt>
                <c:pt idx="421">
                  <c:v>1.26385224274406</c:v>
                </c:pt>
                <c:pt idx="422">
                  <c:v>1.26455026455026</c:v>
                </c:pt>
                <c:pt idx="423">
                  <c:v>1.26525198938992</c:v>
                </c:pt>
                <c:pt idx="424">
                  <c:v>1.26595744680851</c:v>
                </c:pt>
                <c:pt idx="425">
                  <c:v>1.26666666666667</c:v>
                </c:pt>
                <c:pt idx="426">
                  <c:v>1.26737967914439</c:v>
                </c:pt>
                <c:pt idx="427">
                  <c:v>1.26809651474531</c:v>
                </c:pt>
                <c:pt idx="428">
                  <c:v>1.26881720430108</c:v>
                </c:pt>
                <c:pt idx="429">
                  <c:v>1.26954177897574</c:v>
                </c:pt>
                <c:pt idx="430">
                  <c:v>1.27027027027027</c:v>
                </c:pt>
                <c:pt idx="431">
                  <c:v>1.2710027100271</c:v>
                </c:pt>
                <c:pt idx="432">
                  <c:v>1.27173913043478</c:v>
                </c:pt>
                <c:pt idx="433">
                  <c:v>1.2724795640327</c:v>
                </c:pt>
                <c:pt idx="434">
                  <c:v>1.27322404371585</c:v>
                </c:pt>
                <c:pt idx="435">
                  <c:v>1.27397260273973</c:v>
                </c:pt>
                <c:pt idx="436">
                  <c:v>1.27472527472527</c:v>
                </c:pt>
                <c:pt idx="437">
                  <c:v>1.27548209366391</c:v>
                </c:pt>
                <c:pt idx="438">
                  <c:v>1.27624309392265</c:v>
                </c:pt>
                <c:pt idx="439">
                  <c:v>1.27700831024931</c:v>
                </c:pt>
                <c:pt idx="440">
                  <c:v>1.27777777777778</c:v>
                </c:pt>
                <c:pt idx="441">
                  <c:v>1.27855153203343</c:v>
                </c:pt>
                <c:pt idx="442">
                  <c:v>1.27932960893855</c:v>
                </c:pt>
                <c:pt idx="443">
                  <c:v>1.28011204481793</c:v>
                </c:pt>
                <c:pt idx="444">
                  <c:v>1.28089887640449</c:v>
                </c:pt>
                <c:pt idx="445">
                  <c:v>1.28169014084507</c:v>
                </c:pt>
                <c:pt idx="446">
                  <c:v>1.28248587570621</c:v>
                </c:pt>
                <c:pt idx="447">
                  <c:v>1.28328611898017</c:v>
                </c:pt>
                <c:pt idx="448">
                  <c:v>1.28409090909091</c:v>
                </c:pt>
                <c:pt idx="449">
                  <c:v>1.28490028490028</c:v>
                </c:pt>
                <c:pt idx="450">
                  <c:v>1.28571428571429</c:v>
                </c:pt>
                <c:pt idx="451">
                  <c:v>1.2865329512894</c:v>
                </c:pt>
                <c:pt idx="452">
                  <c:v>1.28735632183908</c:v>
                </c:pt>
                <c:pt idx="453">
                  <c:v>1.28818443804035</c:v>
                </c:pt>
                <c:pt idx="454">
                  <c:v>1.28901734104046</c:v>
                </c:pt>
                <c:pt idx="455">
                  <c:v>1.28985507246377</c:v>
                </c:pt>
                <c:pt idx="456">
                  <c:v>1.2906976744186</c:v>
                </c:pt>
                <c:pt idx="457">
                  <c:v>1.29154518950437</c:v>
                </c:pt>
                <c:pt idx="458">
                  <c:v>1.29239766081871</c:v>
                </c:pt>
                <c:pt idx="459">
                  <c:v>1.29325513196481</c:v>
                </c:pt>
                <c:pt idx="460">
                  <c:v>1.29411764705882</c:v>
                </c:pt>
                <c:pt idx="461">
                  <c:v>1.29498525073746</c:v>
                </c:pt>
                <c:pt idx="462">
                  <c:v>1.29585798816568</c:v>
                </c:pt>
                <c:pt idx="463">
                  <c:v>1.29673590504451</c:v>
                </c:pt>
                <c:pt idx="464">
                  <c:v>1.29761904761905</c:v>
                </c:pt>
                <c:pt idx="465">
                  <c:v>1.29850746268657</c:v>
                </c:pt>
                <c:pt idx="466">
                  <c:v>1.29940119760479</c:v>
                </c:pt>
                <c:pt idx="467">
                  <c:v>1.3003003003003</c:v>
                </c:pt>
                <c:pt idx="468">
                  <c:v>1.30120481927711</c:v>
                </c:pt>
                <c:pt idx="469">
                  <c:v>1.30211480362538</c:v>
                </c:pt>
                <c:pt idx="470">
                  <c:v>1.3030303030303</c:v>
                </c:pt>
                <c:pt idx="471">
                  <c:v>1.30395136778116</c:v>
                </c:pt>
                <c:pt idx="472">
                  <c:v>1.30487804878049</c:v>
                </c:pt>
                <c:pt idx="473">
                  <c:v>1.30581039755352</c:v>
                </c:pt>
                <c:pt idx="474">
                  <c:v>1.30674846625767</c:v>
                </c:pt>
                <c:pt idx="475">
                  <c:v>1.30769230769231</c:v>
                </c:pt>
                <c:pt idx="476">
                  <c:v>1.30864197530864</c:v>
                </c:pt>
                <c:pt idx="477">
                  <c:v>1.30959752321981</c:v>
                </c:pt>
                <c:pt idx="478">
                  <c:v>1.31055900621118</c:v>
                </c:pt>
                <c:pt idx="479">
                  <c:v>1.31152647975078</c:v>
                </c:pt>
                <c:pt idx="480">
                  <c:v>1.3125</c:v>
                </c:pt>
                <c:pt idx="481">
                  <c:v>1.31347962382445</c:v>
                </c:pt>
                <c:pt idx="482">
                  <c:v>1.31446540880503</c:v>
                </c:pt>
                <c:pt idx="483">
                  <c:v>1.31545741324921</c:v>
                </c:pt>
                <c:pt idx="484">
                  <c:v>1.31645569620253</c:v>
                </c:pt>
                <c:pt idx="485">
                  <c:v>1.31746031746032</c:v>
                </c:pt>
                <c:pt idx="486">
                  <c:v>1.31847133757962</c:v>
                </c:pt>
                <c:pt idx="487">
                  <c:v>1.31948881789137</c:v>
                </c:pt>
                <c:pt idx="488">
                  <c:v>1.32051282051282</c:v>
                </c:pt>
                <c:pt idx="489">
                  <c:v>1.32154340836013</c:v>
                </c:pt>
                <c:pt idx="490">
                  <c:v>1.32258064516129</c:v>
                </c:pt>
                <c:pt idx="491">
                  <c:v>1.32362459546926</c:v>
                </c:pt>
                <c:pt idx="492">
                  <c:v>1.32467532467532</c:v>
                </c:pt>
                <c:pt idx="493">
                  <c:v>1.3257328990228</c:v>
                </c:pt>
                <c:pt idx="494">
                  <c:v>1.32679738562092</c:v>
                </c:pt>
                <c:pt idx="495">
                  <c:v>1.32786885245902</c:v>
                </c:pt>
                <c:pt idx="496">
                  <c:v>1.32894736842105</c:v>
                </c:pt>
                <c:pt idx="497">
                  <c:v>1.33003300330033</c:v>
                </c:pt>
                <c:pt idx="498">
                  <c:v>1.33112582781457</c:v>
                </c:pt>
                <c:pt idx="499">
                  <c:v>1.33222591362126</c:v>
                </c:pt>
                <c:pt idx="500">
                  <c:v>1.33333333333333</c:v>
                </c:pt>
                <c:pt idx="501">
                  <c:v>1.33444816053512</c:v>
                </c:pt>
                <c:pt idx="502">
                  <c:v>1.33557046979866</c:v>
                </c:pt>
                <c:pt idx="503">
                  <c:v>1.33670033670034</c:v>
                </c:pt>
                <c:pt idx="504">
                  <c:v>1.33783783783784</c:v>
                </c:pt>
                <c:pt idx="505">
                  <c:v>1.33898305084746</c:v>
                </c:pt>
                <c:pt idx="506">
                  <c:v>1.34013605442177</c:v>
                </c:pt>
                <c:pt idx="507">
                  <c:v>1.34129692832765</c:v>
                </c:pt>
                <c:pt idx="508">
                  <c:v>1.34246575342466</c:v>
                </c:pt>
                <c:pt idx="509">
                  <c:v>1.34364261168385</c:v>
                </c:pt>
                <c:pt idx="510">
                  <c:v>1.3448275862069</c:v>
                </c:pt>
                <c:pt idx="511">
                  <c:v>1.34602076124567</c:v>
                </c:pt>
                <c:pt idx="512">
                  <c:v>1.34722222222222</c:v>
                </c:pt>
                <c:pt idx="513">
                  <c:v>1.34843205574913</c:v>
                </c:pt>
                <c:pt idx="514">
                  <c:v>1.34965034965035</c:v>
                </c:pt>
                <c:pt idx="515">
                  <c:v>1.35087719298246</c:v>
                </c:pt>
                <c:pt idx="516">
                  <c:v>1.35211267605634</c:v>
                </c:pt>
                <c:pt idx="517">
                  <c:v>1.35335689045936</c:v>
                </c:pt>
                <c:pt idx="518">
                  <c:v>1.35460992907801</c:v>
                </c:pt>
                <c:pt idx="519">
                  <c:v>1.355871886121</c:v>
                </c:pt>
                <c:pt idx="520">
                  <c:v>1.35714285714286</c:v>
                </c:pt>
                <c:pt idx="521">
                  <c:v>1.3584229390681</c:v>
                </c:pt>
                <c:pt idx="522">
                  <c:v>1.35971223021583</c:v>
                </c:pt>
                <c:pt idx="523">
                  <c:v>1.36101083032491</c:v>
                </c:pt>
                <c:pt idx="524">
                  <c:v>1.36231884057971</c:v>
                </c:pt>
                <c:pt idx="525">
                  <c:v>1.36363636363636</c:v>
                </c:pt>
                <c:pt idx="526">
                  <c:v>1.36496350364964</c:v>
                </c:pt>
                <c:pt idx="527">
                  <c:v>1.36630036630037</c:v>
                </c:pt>
                <c:pt idx="528">
                  <c:v>1.36764705882353</c:v>
                </c:pt>
                <c:pt idx="529">
                  <c:v>1.3690036900369</c:v>
                </c:pt>
                <c:pt idx="530">
                  <c:v>1.37037037037037</c:v>
                </c:pt>
                <c:pt idx="531">
                  <c:v>1.37174721189591</c:v>
                </c:pt>
                <c:pt idx="532">
                  <c:v>1.37313432835821</c:v>
                </c:pt>
                <c:pt idx="533">
                  <c:v>1.37453183520599</c:v>
                </c:pt>
                <c:pt idx="534">
                  <c:v>1.37593984962406</c:v>
                </c:pt>
                <c:pt idx="535">
                  <c:v>1.37735849056604</c:v>
                </c:pt>
                <c:pt idx="536">
                  <c:v>1.37878787878788</c:v>
                </c:pt>
                <c:pt idx="537">
                  <c:v>1.38022813688213</c:v>
                </c:pt>
                <c:pt idx="538">
                  <c:v>1.38167938931298</c:v>
                </c:pt>
                <c:pt idx="539">
                  <c:v>1.38314176245211</c:v>
                </c:pt>
                <c:pt idx="540">
                  <c:v>1.38461538461538</c:v>
                </c:pt>
                <c:pt idx="541">
                  <c:v>1.38610038610039</c:v>
                </c:pt>
                <c:pt idx="542">
                  <c:v>1.38759689922481</c:v>
                </c:pt>
                <c:pt idx="543">
                  <c:v>1.38910505836576</c:v>
                </c:pt>
                <c:pt idx="544">
                  <c:v>1.390625</c:v>
                </c:pt>
                <c:pt idx="545">
                  <c:v>1.3921568627451</c:v>
                </c:pt>
                <c:pt idx="546">
                  <c:v>1.39370078740157</c:v>
                </c:pt>
                <c:pt idx="547">
                  <c:v>1.39525691699605</c:v>
                </c:pt>
                <c:pt idx="548">
                  <c:v>1.3968253968254</c:v>
                </c:pt>
                <c:pt idx="549">
                  <c:v>1.39840637450199</c:v>
                </c:pt>
                <c:pt idx="550">
                  <c:v>1.4</c:v>
                </c:pt>
                <c:pt idx="551">
                  <c:v>1.40160642570281</c:v>
                </c:pt>
                <c:pt idx="552">
                  <c:v>1.40322580645161</c:v>
                </c:pt>
                <c:pt idx="553">
                  <c:v>1.40485829959514</c:v>
                </c:pt>
                <c:pt idx="554">
                  <c:v>1.40650406504065</c:v>
                </c:pt>
                <c:pt idx="555">
                  <c:v>1.40816326530612</c:v>
                </c:pt>
                <c:pt idx="556">
                  <c:v>1.40983606557377</c:v>
                </c:pt>
                <c:pt idx="557">
                  <c:v>1.41152263374486</c:v>
                </c:pt>
                <c:pt idx="558">
                  <c:v>1.41322314049587</c:v>
                </c:pt>
                <c:pt idx="559">
                  <c:v>1.4149377593361</c:v>
                </c:pt>
                <c:pt idx="560">
                  <c:v>1.41666666666667</c:v>
                </c:pt>
                <c:pt idx="561">
                  <c:v>1.418410041841</c:v>
                </c:pt>
                <c:pt idx="562">
                  <c:v>1.42016806722689</c:v>
                </c:pt>
                <c:pt idx="563">
                  <c:v>1.42194092827004</c:v>
                </c:pt>
                <c:pt idx="564">
                  <c:v>1.42372881355932</c:v>
                </c:pt>
                <c:pt idx="565">
                  <c:v>1.42553191489362</c:v>
                </c:pt>
                <c:pt idx="566">
                  <c:v>1.42735042735043</c:v>
                </c:pt>
                <c:pt idx="567">
                  <c:v>1.42918454935622</c:v>
                </c:pt>
                <c:pt idx="568">
                  <c:v>1.43103448275862</c:v>
                </c:pt>
                <c:pt idx="569">
                  <c:v>1.43290043290043</c:v>
                </c:pt>
                <c:pt idx="570">
                  <c:v>1.43478260869565</c:v>
                </c:pt>
                <c:pt idx="571">
                  <c:v>1.43668122270742</c:v>
                </c:pt>
                <c:pt idx="572">
                  <c:v>1.43859649122807</c:v>
                </c:pt>
                <c:pt idx="573">
                  <c:v>1.44052863436123</c:v>
                </c:pt>
                <c:pt idx="574">
                  <c:v>1.44247787610619</c:v>
                </c:pt>
                <c:pt idx="575">
                  <c:v>1.44444444444444</c:v>
                </c:pt>
                <c:pt idx="576">
                  <c:v>1.44642857142857</c:v>
                </c:pt>
                <c:pt idx="577">
                  <c:v>1.44843049327354</c:v>
                </c:pt>
                <c:pt idx="578">
                  <c:v>1.45045045045045</c:v>
                </c:pt>
                <c:pt idx="579">
                  <c:v>1.45248868778281</c:v>
                </c:pt>
                <c:pt idx="580">
                  <c:v>1.45454545454545</c:v>
                </c:pt>
                <c:pt idx="581">
                  <c:v>1.45662100456621</c:v>
                </c:pt>
                <c:pt idx="582">
                  <c:v>1.45871559633028</c:v>
                </c:pt>
                <c:pt idx="583">
                  <c:v>1.46082949308756</c:v>
                </c:pt>
                <c:pt idx="584">
                  <c:v>1.46296296296296</c:v>
                </c:pt>
                <c:pt idx="585">
                  <c:v>1.46511627906977</c:v>
                </c:pt>
                <c:pt idx="586">
                  <c:v>1.46728971962617</c:v>
                </c:pt>
                <c:pt idx="587">
                  <c:v>1.46948356807512</c:v>
                </c:pt>
                <c:pt idx="588">
                  <c:v>1.47169811320755</c:v>
                </c:pt>
                <c:pt idx="589">
                  <c:v>1.4739336492891</c:v>
                </c:pt>
                <c:pt idx="590">
                  <c:v>1.47619047619048</c:v>
                </c:pt>
                <c:pt idx="591">
                  <c:v>1.47846889952153</c:v>
                </c:pt>
                <c:pt idx="592">
                  <c:v>1.48076923076923</c:v>
                </c:pt>
                <c:pt idx="593">
                  <c:v>1.48309178743961</c:v>
                </c:pt>
                <c:pt idx="594">
                  <c:v>1.48543689320388</c:v>
                </c:pt>
                <c:pt idx="595">
                  <c:v>1.48780487804878</c:v>
                </c:pt>
                <c:pt idx="596">
                  <c:v>1.49019607843137</c:v>
                </c:pt>
                <c:pt idx="597">
                  <c:v>1.49261083743842</c:v>
                </c:pt>
                <c:pt idx="598">
                  <c:v>1.4950495049505</c:v>
                </c:pt>
                <c:pt idx="599">
                  <c:v>1.49751243781095</c:v>
                </c:pt>
                <c:pt idx="600">
                  <c:v>1.5</c:v>
                </c:pt>
                <c:pt idx="601">
                  <c:v>1.50251256281407</c:v>
                </c:pt>
                <c:pt idx="602">
                  <c:v>1.50505050505051</c:v>
                </c:pt>
                <c:pt idx="603">
                  <c:v>1.50761421319797</c:v>
                </c:pt>
                <c:pt idx="604">
                  <c:v>1.51020408163265</c:v>
                </c:pt>
                <c:pt idx="605">
                  <c:v>1.51282051282051</c:v>
                </c:pt>
                <c:pt idx="606">
                  <c:v>1.51546391752577</c:v>
                </c:pt>
                <c:pt idx="607">
                  <c:v>1.51813471502591</c:v>
                </c:pt>
                <c:pt idx="608">
                  <c:v>1.52083333333333</c:v>
                </c:pt>
                <c:pt idx="609">
                  <c:v>1.52356020942408</c:v>
                </c:pt>
                <c:pt idx="610">
                  <c:v>1.52631578947368</c:v>
                </c:pt>
                <c:pt idx="611">
                  <c:v>1.52910052910053</c:v>
                </c:pt>
                <c:pt idx="612">
                  <c:v>1.53191489361702</c:v>
                </c:pt>
                <c:pt idx="613">
                  <c:v>1.53475935828877</c:v>
                </c:pt>
                <c:pt idx="614">
                  <c:v>1.53763440860215</c:v>
                </c:pt>
                <c:pt idx="615">
                  <c:v>1.54054054054054</c:v>
                </c:pt>
                <c:pt idx="616">
                  <c:v>1.54347826086957</c:v>
                </c:pt>
                <c:pt idx="617">
                  <c:v>1.54644808743169</c:v>
                </c:pt>
                <c:pt idx="618">
                  <c:v>1.54945054945055</c:v>
                </c:pt>
                <c:pt idx="619">
                  <c:v>1.5524861878453</c:v>
                </c:pt>
                <c:pt idx="620">
                  <c:v>1.55555555555556</c:v>
                </c:pt>
                <c:pt idx="621">
                  <c:v>1.5586592178771</c:v>
                </c:pt>
                <c:pt idx="622">
                  <c:v>1.56179775280899</c:v>
                </c:pt>
                <c:pt idx="623">
                  <c:v>1.56497175141243</c:v>
                </c:pt>
                <c:pt idx="624">
                  <c:v>1.56818181818182</c:v>
                </c:pt>
                <c:pt idx="625">
                  <c:v>1.57142857142857</c:v>
                </c:pt>
                <c:pt idx="626">
                  <c:v>1.57471264367816</c:v>
                </c:pt>
                <c:pt idx="627">
                  <c:v>1.57803468208093</c:v>
                </c:pt>
                <c:pt idx="628">
                  <c:v>1.58139534883721</c:v>
                </c:pt>
                <c:pt idx="629">
                  <c:v>1.58479532163743</c:v>
                </c:pt>
                <c:pt idx="630">
                  <c:v>1.58823529411765</c:v>
                </c:pt>
                <c:pt idx="631">
                  <c:v>1.59171597633136</c:v>
                </c:pt>
                <c:pt idx="632">
                  <c:v>1.5952380952381</c:v>
                </c:pt>
                <c:pt idx="633">
                  <c:v>1.59880239520958</c:v>
                </c:pt>
                <c:pt idx="634">
                  <c:v>1.60240963855422</c:v>
                </c:pt>
                <c:pt idx="635">
                  <c:v>1.60606060606061</c:v>
                </c:pt>
                <c:pt idx="636">
                  <c:v>1.60975609756098</c:v>
                </c:pt>
                <c:pt idx="637">
                  <c:v>1.61349693251534</c:v>
                </c:pt>
                <c:pt idx="638">
                  <c:v>1.61728395061728</c:v>
                </c:pt>
                <c:pt idx="639">
                  <c:v>1.62111801242236</c:v>
                </c:pt>
                <c:pt idx="640">
                  <c:v>1.625</c:v>
                </c:pt>
                <c:pt idx="641">
                  <c:v>1.62893081761006</c:v>
                </c:pt>
                <c:pt idx="642">
                  <c:v>1.63291139240506</c:v>
                </c:pt>
                <c:pt idx="643">
                  <c:v>1.63694267515924</c:v>
                </c:pt>
                <c:pt idx="644">
                  <c:v>1.64102564102564</c:v>
                </c:pt>
                <c:pt idx="645">
                  <c:v>1.64516129032258</c:v>
                </c:pt>
                <c:pt idx="646">
                  <c:v>1.64935064935065</c:v>
                </c:pt>
                <c:pt idx="647">
                  <c:v>1.65359477124183</c:v>
                </c:pt>
                <c:pt idx="648">
                  <c:v>1.65789473684211</c:v>
                </c:pt>
                <c:pt idx="649">
                  <c:v>1.66225165562914</c:v>
                </c:pt>
                <c:pt idx="650">
                  <c:v>1.66666666666667</c:v>
                </c:pt>
                <c:pt idx="651">
                  <c:v>1.67114093959732</c:v>
                </c:pt>
                <c:pt idx="652">
                  <c:v>1.67567567567568</c:v>
                </c:pt>
                <c:pt idx="653">
                  <c:v>1.68027210884354</c:v>
                </c:pt>
                <c:pt idx="654">
                  <c:v>1.68493150684932</c:v>
                </c:pt>
                <c:pt idx="655">
                  <c:v>1.68965517241379</c:v>
                </c:pt>
                <c:pt idx="656">
                  <c:v>1.69444444444444</c:v>
                </c:pt>
                <c:pt idx="657">
                  <c:v>1.6993006993007</c:v>
                </c:pt>
                <c:pt idx="658">
                  <c:v>1.70422535211268</c:v>
                </c:pt>
                <c:pt idx="659">
                  <c:v>1.70921985815603</c:v>
                </c:pt>
                <c:pt idx="660">
                  <c:v>1.71428571428571</c:v>
                </c:pt>
                <c:pt idx="661">
                  <c:v>1.71942446043165</c:v>
                </c:pt>
                <c:pt idx="662">
                  <c:v>1.72463768115942</c:v>
                </c:pt>
                <c:pt idx="663">
                  <c:v>1.72992700729927</c:v>
                </c:pt>
                <c:pt idx="664">
                  <c:v>1.73529411764706</c:v>
                </c:pt>
                <c:pt idx="665">
                  <c:v>1.74074074074074</c:v>
                </c:pt>
                <c:pt idx="666">
                  <c:v>1.74626865671642</c:v>
                </c:pt>
                <c:pt idx="667">
                  <c:v>1.75187969924812</c:v>
                </c:pt>
                <c:pt idx="668">
                  <c:v>1.75757575757576</c:v>
                </c:pt>
                <c:pt idx="669">
                  <c:v>1.76335877862595</c:v>
                </c:pt>
                <c:pt idx="670">
                  <c:v>1.76923076923077</c:v>
                </c:pt>
                <c:pt idx="671">
                  <c:v>1.77519379844961</c:v>
                </c:pt>
                <c:pt idx="672">
                  <c:v>1.78125</c:v>
                </c:pt>
                <c:pt idx="673">
                  <c:v>1.78740157480315</c:v>
                </c:pt>
                <c:pt idx="674">
                  <c:v>1.79365079365079</c:v>
                </c:pt>
                <c:pt idx="675">
                  <c:v>1.8</c:v>
                </c:pt>
                <c:pt idx="676">
                  <c:v>1.80645161290323</c:v>
                </c:pt>
                <c:pt idx="677">
                  <c:v>1.8130081300813</c:v>
                </c:pt>
                <c:pt idx="678">
                  <c:v>1.81967213114754</c:v>
                </c:pt>
                <c:pt idx="679">
                  <c:v>1.82644628099174</c:v>
                </c:pt>
                <c:pt idx="680">
                  <c:v>1.83333333333333</c:v>
                </c:pt>
                <c:pt idx="681">
                  <c:v>1.84033613445378</c:v>
                </c:pt>
                <c:pt idx="682">
                  <c:v>1.84745762711864</c:v>
                </c:pt>
                <c:pt idx="683">
                  <c:v>1.85470085470085</c:v>
                </c:pt>
                <c:pt idx="684">
                  <c:v>1.86206896551724</c:v>
                </c:pt>
                <c:pt idx="685">
                  <c:v>1.8695652173913</c:v>
                </c:pt>
                <c:pt idx="686">
                  <c:v>1.87719298245614</c:v>
                </c:pt>
                <c:pt idx="687">
                  <c:v>1.88495575221239</c:v>
                </c:pt>
                <c:pt idx="688">
                  <c:v>1.89285714285714</c:v>
                </c:pt>
                <c:pt idx="689">
                  <c:v>1.9009009009009</c:v>
                </c:pt>
                <c:pt idx="690">
                  <c:v>1.90909090909091</c:v>
                </c:pt>
                <c:pt idx="691">
                  <c:v>1.91743119266055</c:v>
                </c:pt>
                <c:pt idx="692">
                  <c:v>1.92592592592593</c:v>
                </c:pt>
                <c:pt idx="693">
                  <c:v>1.93457943925234</c:v>
                </c:pt>
                <c:pt idx="694">
                  <c:v>1.94339622641509</c:v>
                </c:pt>
                <c:pt idx="695">
                  <c:v>1.95238095238095</c:v>
                </c:pt>
                <c:pt idx="696">
                  <c:v>1.96153846153846</c:v>
                </c:pt>
                <c:pt idx="697">
                  <c:v>1.97087378640777</c:v>
                </c:pt>
                <c:pt idx="698">
                  <c:v>1.98039215686275</c:v>
                </c:pt>
                <c:pt idx="699">
                  <c:v>1.99009900990099</c:v>
                </c:pt>
                <c:pt idx="700">
                  <c:v>2</c:v>
                </c:pt>
                <c:pt idx="701">
                  <c:v>2.01010101010101</c:v>
                </c:pt>
                <c:pt idx="702">
                  <c:v>2.02040816326531</c:v>
                </c:pt>
                <c:pt idx="703">
                  <c:v>2.03092783505155</c:v>
                </c:pt>
                <c:pt idx="704">
                  <c:v>2.04166666666667</c:v>
                </c:pt>
                <c:pt idx="705">
                  <c:v>2.05263157894737</c:v>
                </c:pt>
                <c:pt idx="706">
                  <c:v>2.06382978723404</c:v>
                </c:pt>
                <c:pt idx="707">
                  <c:v>2.0752688172043</c:v>
                </c:pt>
                <c:pt idx="708">
                  <c:v>2.08695652173913</c:v>
                </c:pt>
                <c:pt idx="709">
                  <c:v>2.0989010989011</c:v>
                </c:pt>
                <c:pt idx="710">
                  <c:v>2.11111111111111</c:v>
                </c:pt>
                <c:pt idx="711">
                  <c:v>2.12359550561798</c:v>
                </c:pt>
                <c:pt idx="712">
                  <c:v>2.13636363636364</c:v>
                </c:pt>
                <c:pt idx="713">
                  <c:v>2.14942528735632</c:v>
                </c:pt>
                <c:pt idx="714">
                  <c:v>2.16279069767442</c:v>
                </c:pt>
                <c:pt idx="715">
                  <c:v>2.1764705882353</c:v>
                </c:pt>
                <c:pt idx="716">
                  <c:v>2.19047619047619</c:v>
                </c:pt>
                <c:pt idx="717">
                  <c:v>2.20481927710843</c:v>
                </c:pt>
                <c:pt idx="718">
                  <c:v>2.21951219512195</c:v>
                </c:pt>
                <c:pt idx="719">
                  <c:v>2.23456790123457</c:v>
                </c:pt>
                <c:pt idx="720">
                  <c:v>2.25</c:v>
                </c:pt>
                <c:pt idx="721">
                  <c:v>2.26582278481013</c:v>
                </c:pt>
                <c:pt idx="722">
                  <c:v>2.28205128205128</c:v>
                </c:pt>
                <c:pt idx="723">
                  <c:v>2.2987012987013</c:v>
                </c:pt>
                <c:pt idx="724">
                  <c:v>2.31578947368421</c:v>
                </c:pt>
                <c:pt idx="725">
                  <c:v>2.33333333333333</c:v>
                </c:pt>
                <c:pt idx="726">
                  <c:v>2.35135135135135</c:v>
                </c:pt>
                <c:pt idx="727">
                  <c:v>2.36986301369863</c:v>
                </c:pt>
                <c:pt idx="728">
                  <c:v>2.38888888888889</c:v>
                </c:pt>
                <c:pt idx="729">
                  <c:v>2.40845070422535</c:v>
                </c:pt>
                <c:pt idx="730">
                  <c:v>2.42857142857143</c:v>
                </c:pt>
                <c:pt idx="731">
                  <c:v>2.44927536231884</c:v>
                </c:pt>
                <c:pt idx="732">
                  <c:v>2.47058823529412</c:v>
                </c:pt>
                <c:pt idx="733">
                  <c:v>2.49253731343284</c:v>
                </c:pt>
                <c:pt idx="734">
                  <c:v>2.51515151515151</c:v>
                </c:pt>
                <c:pt idx="735">
                  <c:v>2.53846153846154</c:v>
                </c:pt>
                <c:pt idx="736">
                  <c:v>2.5625</c:v>
                </c:pt>
                <c:pt idx="737">
                  <c:v>2.58730158730159</c:v>
                </c:pt>
                <c:pt idx="738">
                  <c:v>2.61290322580645</c:v>
                </c:pt>
                <c:pt idx="739">
                  <c:v>2.63934426229508</c:v>
                </c:pt>
                <c:pt idx="740">
                  <c:v>2.66666666666667</c:v>
                </c:pt>
                <c:pt idx="741">
                  <c:v>2.69491525423729</c:v>
                </c:pt>
                <c:pt idx="742">
                  <c:v>2.72413793103448</c:v>
                </c:pt>
                <c:pt idx="743">
                  <c:v>2.75438596491228</c:v>
                </c:pt>
                <c:pt idx="744">
                  <c:v>2.78571428571429</c:v>
                </c:pt>
                <c:pt idx="745">
                  <c:v>2.81818181818182</c:v>
                </c:pt>
                <c:pt idx="746">
                  <c:v>2.85185185185185</c:v>
                </c:pt>
                <c:pt idx="747">
                  <c:v>2.88679245283019</c:v>
                </c:pt>
                <c:pt idx="748">
                  <c:v>2.92307692307692</c:v>
                </c:pt>
                <c:pt idx="749">
                  <c:v>2.96078431372549</c:v>
                </c:pt>
                <c:pt idx="750">
                  <c:v>3</c:v>
                </c:pt>
                <c:pt idx="751">
                  <c:v>3.04081632653061</c:v>
                </c:pt>
                <c:pt idx="752">
                  <c:v>3.08333333333334</c:v>
                </c:pt>
                <c:pt idx="753">
                  <c:v>3.12765957446809</c:v>
                </c:pt>
                <c:pt idx="754">
                  <c:v>3.17391304347826</c:v>
                </c:pt>
                <c:pt idx="755">
                  <c:v>3.22222222222222</c:v>
                </c:pt>
                <c:pt idx="756">
                  <c:v>3.27272727272728</c:v>
                </c:pt>
                <c:pt idx="757">
                  <c:v>3.32558139534884</c:v>
                </c:pt>
                <c:pt idx="758">
                  <c:v>3.38095238095238</c:v>
                </c:pt>
                <c:pt idx="759">
                  <c:v>3.4390243902439</c:v>
                </c:pt>
                <c:pt idx="760">
                  <c:v>3.5</c:v>
                </c:pt>
                <c:pt idx="761">
                  <c:v>3.56410256410257</c:v>
                </c:pt>
                <c:pt idx="762">
                  <c:v>3.63157894736842</c:v>
                </c:pt>
                <c:pt idx="763">
                  <c:v>3.7027027027027</c:v>
                </c:pt>
                <c:pt idx="764">
                  <c:v>3.77777777777778</c:v>
                </c:pt>
                <c:pt idx="765">
                  <c:v>3.85714285714286</c:v>
                </c:pt>
                <c:pt idx="766">
                  <c:v>3.94117647058824</c:v>
                </c:pt>
                <c:pt idx="767">
                  <c:v>4.03030303030303</c:v>
                </c:pt>
                <c:pt idx="768">
                  <c:v>4.125</c:v>
                </c:pt>
                <c:pt idx="769">
                  <c:v>4.22580645161291</c:v>
                </c:pt>
                <c:pt idx="770">
                  <c:v>4.33333333333334</c:v>
                </c:pt>
                <c:pt idx="771">
                  <c:v>4.44827586206897</c:v>
                </c:pt>
                <c:pt idx="772">
                  <c:v>4.57142857142857</c:v>
                </c:pt>
                <c:pt idx="773">
                  <c:v>4.70370370370371</c:v>
                </c:pt>
                <c:pt idx="774">
                  <c:v>4.84615384615385</c:v>
                </c:pt>
                <c:pt idx="775">
                  <c:v>5</c:v>
                </c:pt>
                <c:pt idx="776">
                  <c:v>5.16666666666666</c:v>
                </c:pt>
                <c:pt idx="777">
                  <c:v>5.34782608695653</c:v>
                </c:pt>
                <c:pt idx="778">
                  <c:v>5.54545454545455</c:v>
                </c:pt>
                <c:pt idx="779">
                  <c:v>5.76190476190476</c:v>
                </c:pt>
                <c:pt idx="780">
                  <c:v>6</c:v>
                </c:pt>
                <c:pt idx="781">
                  <c:v>6.26315789473686</c:v>
                </c:pt>
                <c:pt idx="782">
                  <c:v>6.55555555555556</c:v>
                </c:pt>
                <c:pt idx="783">
                  <c:v>6.88235294117647</c:v>
                </c:pt>
                <c:pt idx="784">
                  <c:v>7.25</c:v>
                </c:pt>
                <c:pt idx="785">
                  <c:v>7.66666666666669</c:v>
                </c:pt>
                <c:pt idx="786">
                  <c:v>8.14285714285716</c:v>
                </c:pt>
                <c:pt idx="787">
                  <c:v>8.6923076923077</c:v>
                </c:pt>
                <c:pt idx="788">
                  <c:v>9.33333333333333</c:v>
                </c:pt>
                <c:pt idx="789">
                  <c:v>10.0909090909091</c:v>
                </c:pt>
                <c:pt idx="790">
                  <c:v>11</c:v>
                </c:pt>
                <c:pt idx="791">
                  <c:v>12.1111111111111</c:v>
                </c:pt>
                <c:pt idx="792">
                  <c:v>13.5</c:v>
                </c:pt>
                <c:pt idx="793">
                  <c:v>15.2857142857144</c:v>
                </c:pt>
                <c:pt idx="794">
                  <c:v>17.6666666666668</c:v>
                </c:pt>
                <c:pt idx="795">
                  <c:v>21.0000000000001</c:v>
                </c:pt>
                <c:pt idx="796">
                  <c:v>26</c:v>
                </c:pt>
                <c:pt idx="797">
                  <c:v>34.3333333333331</c:v>
                </c:pt>
                <c:pt idx="798">
                  <c:v>51.0000000000011</c:v>
                </c:pt>
                <c:pt idx="799">
                  <c:v>101.000000000002</c:v>
                </c:pt>
                <c:pt idx="801">
                  <c:v>-99.0000000000021</c:v>
                </c:pt>
                <c:pt idx="802">
                  <c:v>-49.0000000000011</c:v>
                </c:pt>
                <c:pt idx="803">
                  <c:v>-32.333333333334</c:v>
                </c:pt>
                <c:pt idx="804">
                  <c:v>-23.9999999999994</c:v>
                </c:pt>
                <c:pt idx="805">
                  <c:v>-18.9999999999997</c:v>
                </c:pt>
                <c:pt idx="806">
                  <c:v>-15.6666666666665</c:v>
                </c:pt>
                <c:pt idx="807">
                  <c:v>-13.2857142857142</c:v>
                </c:pt>
                <c:pt idx="808">
                  <c:v>-11.5</c:v>
                </c:pt>
                <c:pt idx="809">
                  <c:v>-10.1111111111111</c:v>
                </c:pt>
                <c:pt idx="810">
                  <c:v>-9.00000000000004</c:v>
                </c:pt>
                <c:pt idx="811">
                  <c:v>-8.09090909090914</c:v>
                </c:pt>
                <c:pt idx="812">
                  <c:v>-7.33333333333327</c:v>
                </c:pt>
                <c:pt idx="813">
                  <c:v>-6.69230769230765</c:v>
                </c:pt>
                <c:pt idx="814">
                  <c:v>-6.14285714285711</c:v>
                </c:pt>
                <c:pt idx="815">
                  <c:v>-5.66666666666665</c:v>
                </c:pt>
                <c:pt idx="816">
                  <c:v>-5.25</c:v>
                </c:pt>
                <c:pt idx="817">
                  <c:v>-4.88235294117647</c:v>
                </c:pt>
                <c:pt idx="818">
                  <c:v>-4.55555555555556</c:v>
                </c:pt>
                <c:pt idx="819">
                  <c:v>-4.26315789473686</c:v>
                </c:pt>
                <c:pt idx="820">
                  <c:v>-4.00000000000002</c:v>
                </c:pt>
                <c:pt idx="821">
                  <c:v>-3.76190476190474</c:v>
                </c:pt>
                <c:pt idx="822">
                  <c:v>-3.54545454545453</c:v>
                </c:pt>
                <c:pt idx="823">
                  <c:v>-3.34782608695651</c:v>
                </c:pt>
                <c:pt idx="824">
                  <c:v>-3.16666666666666</c:v>
                </c:pt>
                <c:pt idx="825">
                  <c:v>-3</c:v>
                </c:pt>
                <c:pt idx="826">
                  <c:v>-2.84615384615385</c:v>
                </c:pt>
                <c:pt idx="827">
                  <c:v>-2.70370370370371</c:v>
                </c:pt>
                <c:pt idx="828">
                  <c:v>-2.57142857142858</c:v>
                </c:pt>
                <c:pt idx="829">
                  <c:v>-2.44827586206895</c:v>
                </c:pt>
                <c:pt idx="830">
                  <c:v>-2.33333333333333</c:v>
                </c:pt>
                <c:pt idx="831">
                  <c:v>-2.2258064516129</c:v>
                </c:pt>
                <c:pt idx="832">
                  <c:v>-2.125</c:v>
                </c:pt>
                <c:pt idx="833">
                  <c:v>-2.03030303030303</c:v>
                </c:pt>
                <c:pt idx="834">
                  <c:v>-1.94117647058824</c:v>
                </c:pt>
                <c:pt idx="835">
                  <c:v>-1.85714285714286</c:v>
                </c:pt>
                <c:pt idx="836">
                  <c:v>-1.77777777777778</c:v>
                </c:pt>
                <c:pt idx="837">
                  <c:v>-1.7027027027027</c:v>
                </c:pt>
                <c:pt idx="838">
                  <c:v>-1.63157894736842</c:v>
                </c:pt>
                <c:pt idx="839">
                  <c:v>-1.56410256410256</c:v>
                </c:pt>
                <c:pt idx="840">
                  <c:v>-1.5</c:v>
                </c:pt>
                <c:pt idx="841">
                  <c:v>-1.4390243902439</c:v>
                </c:pt>
                <c:pt idx="842">
                  <c:v>-1.38095238095238</c:v>
                </c:pt>
                <c:pt idx="843">
                  <c:v>-1.32558139534884</c:v>
                </c:pt>
                <c:pt idx="844">
                  <c:v>-1.27272727272728</c:v>
                </c:pt>
                <c:pt idx="845">
                  <c:v>-1.22222222222223</c:v>
                </c:pt>
                <c:pt idx="846">
                  <c:v>-1.17391304347826</c:v>
                </c:pt>
                <c:pt idx="847">
                  <c:v>-1.12765957446808</c:v>
                </c:pt>
                <c:pt idx="848">
                  <c:v>-1.08333333333333</c:v>
                </c:pt>
                <c:pt idx="849">
                  <c:v>-1.04081632653061</c:v>
                </c:pt>
                <c:pt idx="850">
                  <c:v>-1</c:v>
                </c:pt>
                <c:pt idx="851">
                  <c:v>-0.960784313725491</c:v>
                </c:pt>
                <c:pt idx="852">
                  <c:v>-0.923076923076925</c:v>
                </c:pt>
                <c:pt idx="853">
                  <c:v>-0.886792452830191</c:v>
                </c:pt>
                <c:pt idx="854">
                  <c:v>-0.851851851851849</c:v>
                </c:pt>
                <c:pt idx="855">
                  <c:v>-0.818181818181816</c:v>
                </c:pt>
                <c:pt idx="856">
                  <c:v>-0.785714285714284</c:v>
                </c:pt>
                <c:pt idx="857">
                  <c:v>-0.75438596491228</c:v>
                </c:pt>
                <c:pt idx="858">
                  <c:v>-0.724137931034483</c:v>
                </c:pt>
                <c:pt idx="859">
                  <c:v>-0.694915254237289</c:v>
                </c:pt>
                <c:pt idx="860">
                  <c:v>-0.666666666666668</c:v>
                </c:pt>
                <c:pt idx="861">
                  <c:v>-0.639344262295084</c:v>
                </c:pt>
                <c:pt idx="862">
                  <c:v>-0.612903225806449</c:v>
                </c:pt>
                <c:pt idx="863">
                  <c:v>-0.587301587301585</c:v>
                </c:pt>
                <c:pt idx="864">
                  <c:v>-0.562499999999999</c:v>
                </c:pt>
                <c:pt idx="865">
                  <c:v>-0.538461538461538</c:v>
                </c:pt>
                <c:pt idx="866">
                  <c:v>-0.515151515151515</c:v>
                </c:pt>
                <c:pt idx="867">
                  <c:v>-0.492537313432836</c:v>
                </c:pt>
                <c:pt idx="868">
                  <c:v>-0.470588235294118</c:v>
                </c:pt>
                <c:pt idx="869">
                  <c:v>-0.449275362318842</c:v>
                </c:pt>
                <c:pt idx="870">
                  <c:v>-0.428571428571426</c:v>
                </c:pt>
                <c:pt idx="871">
                  <c:v>-0.40845070422535</c:v>
                </c:pt>
                <c:pt idx="872">
                  <c:v>-0.388888888888888</c:v>
                </c:pt>
                <c:pt idx="873">
                  <c:v>-0.369863013698629</c:v>
                </c:pt>
                <c:pt idx="874">
                  <c:v>-0.351351351351351</c:v>
                </c:pt>
                <c:pt idx="875">
                  <c:v>-0.333333333333333</c:v>
                </c:pt>
                <c:pt idx="876">
                  <c:v>-0.315789473684211</c:v>
                </c:pt>
                <c:pt idx="877">
                  <c:v>-0.298701298701299</c:v>
                </c:pt>
                <c:pt idx="878">
                  <c:v>-0.282051282051283</c:v>
                </c:pt>
                <c:pt idx="879">
                  <c:v>-0.265822784810125</c:v>
                </c:pt>
                <c:pt idx="880">
                  <c:v>-0.249999999999999</c:v>
                </c:pt>
                <c:pt idx="881">
                  <c:v>-0.234567901234567</c:v>
                </c:pt>
                <c:pt idx="882">
                  <c:v>-0.219512195121951</c:v>
                </c:pt>
                <c:pt idx="883">
                  <c:v>-0.204819277108434</c:v>
                </c:pt>
                <c:pt idx="884">
                  <c:v>-0.190476190476191</c:v>
                </c:pt>
                <c:pt idx="885">
                  <c:v>-0.176470588235295</c:v>
                </c:pt>
                <c:pt idx="886">
                  <c:v>-0.162790697674419</c:v>
                </c:pt>
                <c:pt idx="887">
                  <c:v>-0.149425287356321</c:v>
                </c:pt>
                <c:pt idx="888">
                  <c:v>-0.136363636363635</c:v>
                </c:pt>
                <c:pt idx="889">
                  <c:v>-0.123595505617977</c:v>
                </c:pt>
                <c:pt idx="890">
                  <c:v>-0.111111111111111</c:v>
                </c:pt>
                <c:pt idx="891">
                  <c:v>-0.0989010989010987</c:v>
                </c:pt>
                <c:pt idx="892">
                  <c:v>-0.0869565217391305</c:v>
                </c:pt>
                <c:pt idx="893">
                  <c:v>-0.0752688172043014</c:v>
                </c:pt>
                <c:pt idx="894">
                  <c:v>-0.0638297872340431</c:v>
                </c:pt>
                <c:pt idx="895">
                  <c:v>-0.0526315789473672</c:v>
                </c:pt>
                <c:pt idx="896">
                  <c:v>-0.0416666666666657</c:v>
                </c:pt>
                <c:pt idx="897">
                  <c:v>-0.0309278350515457</c:v>
                </c:pt>
                <c:pt idx="898">
                  <c:v>-0.0204081632653057</c:v>
                </c:pt>
                <c:pt idx="899">
                  <c:v>-0.0101010101010099</c:v>
                </c:pt>
                <c:pt idx="900">
                  <c:v>0</c:v>
                </c:pt>
                <c:pt idx="901">
                  <c:v>0.00990099009900969</c:v>
                </c:pt>
                <c:pt idx="902">
                  <c:v>0.0196078431372545</c:v>
                </c:pt>
                <c:pt idx="903">
                  <c:v>0.0291262135922324</c:v>
                </c:pt>
                <c:pt idx="904">
                  <c:v>0.0384615384615393</c:v>
                </c:pt>
                <c:pt idx="905">
                  <c:v>0.0476190476190483</c:v>
                </c:pt>
                <c:pt idx="906">
                  <c:v>0.0566037735849061</c:v>
                </c:pt>
                <c:pt idx="907">
                  <c:v>0.0654205607476638</c:v>
                </c:pt>
                <c:pt idx="908">
                  <c:v>0.0740740740740741</c:v>
                </c:pt>
                <c:pt idx="909">
                  <c:v>0.0825688073394494</c:v>
                </c:pt>
                <c:pt idx="910">
                  <c:v>0.0909090909090906</c:v>
                </c:pt>
                <c:pt idx="911">
                  <c:v>0.0990990990990986</c:v>
                </c:pt>
                <c:pt idx="912">
                  <c:v>0.107142857142858</c:v>
                </c:pt>
                <c:pt idx="913">
                  <c:v>0.115044247787611</c:v>
                </c:pt>
                <c:pt idx="914">
                  <c:v>0.12280701754386</c:v>
                </c:pt>
                <c:pt idx="915">
                  <c:v>0.130434782608696</c:v>
                </c:pt>
                <c:pt idx="916">
                  <c:v>0.137931034482759</c:v>
                </c:pt>
                <c:pt idx="917">
                  <c:v>0.145299145299145</c:v>
                </c:pt>
                <c:pt idx="918">
                  <c:v>0.152542372881356</c:v>
                </c:pt>
                <c:pt idx="919">
                  <c:v>0.159663865546218</c:v>
                </c:pt>
                <c:pt idx="920">
                  <c:v>0.166666666666667</c:v>
                </c:pt>
                <c:pt idx="921">
                  <c:v>0.173553719008265</c:v>
                </c:pt>
                <c:pt idx="922">
                  <c:v>0.180327868852459</c:v>
                </c:pt>
                <c:pt idx="923">
                  <c:v>0.186991869918699</c:v>
                </c:pt>
                <c:pt idx="924">
                  <c:v>0.193548387096774</c:v>
                </c:pt>
                <c:pt idx="925">
                  <c:v>0.2</c:v>
                </c:pt>
                <c:pt idx="926">
                  <c:v>0.206349206349206</c:v>
                </c:pt>
                <c:pt idx="927">
                  <c:v>0.21259842519685</c:v>
                </c:pt>
                <c:pt idx="928">
                  <c:v>0.21875</c:v>
                </c:pt>
                <c:pt idx="929">
                  <c:v>0.224806201550388</c:v>
                </c:pt>
                <c:pt idx="930">
                  <c:v>0.230769230769231</c:v>
                </c:pt>
                <c:pt idx="931">
                  <c:v>0.236641221374046</c:v>
                </c:pt>
                <c:pt idx="932">
                  <c:v>0.242424242424243</c:v>
                </c:pt>
                <c:pt idx="933">
                  <c:v>0.24812030075188</c:v>
                </c:pt>
                <c:pt idx="934">
                  <c:v>0.253731343283582</c:v>
                </c:pt>
                <c:pt idx="935">
                  <c:v>0.259259259259259</c:v>
                </c:pt>
                <c:pt idx="936">
                  <c:v>0.264705882352941</c:v>
                </c:pt>
                <c:pt idx="937">
                  <c:v>0.27007299270073</c:v>
                </c:pt>
                <c:pt idx="938">
                  <c:v>0.27536231884058</c:v>
                </c:pt>
                <c:pt idx="939">
                  <c:v>0.280575539568346</c:v>
                </c:pt>
                <c:pt idx="940">
                  <c:v>0.285714285714286</c:v>
                </c:pt>
                <c:pt idx="941">
                  <c:v>0.290780141843972</c:v>
                </c:pt>
                <c:pt idx="942">
                  <c:v>0.295774647887324</c:v>
                </c:pt>
                <c:pt idx="943">
                  <c:v>0.300699300699301</c:v>
                </c:pt>
                <c:pt idx="944">
                  <c:v>0.305555555555555</c:v>
                </c:pt>
                <c:pt idx="945">
                  <c:v>0.310344827586207</c:v>
                </c:pt>
                <c:pt idx="946">
                  <c:v>0.315068493150685</c:v>
                </c:pt>
                <c:pt idx="947">
                  <c:v>0.319727891156463</c:v>
                </c:pt>
                <c:pt idx="948">
                  <c:v>0.324324324324325</c:v>
                </c:pt>
                <c:pt idx="949">
                  <c:v>0.328859060402685</c:v>
                </c:pt>
                <c:pt idx="950">
                  <c:v>0.333333333333333</c:v>
                </c:pt>
                <c:pt idx="951">
                  <c:v>0.337748344370861</c:v>
                </c:pt>
                <c:pt idx="952">
                  <c:v>0.342105263157895</c:v>
                </c:pt>
                <c:pt idx="953">
                  <c:v>0.34640522875817</c:v>
                </c:pt>
                <c:pt idx="954">
                  <c:v>0.350649350649351</c:v>
                </c:pt>
                <c:pt idx="955">
                  <c:v>0.35483870967742</c:v>
                </c:pt>
                <c:pt idx="956">
                  <c:v>0.358974358974359</c:v>
                </c:pt>
                <c:pt idx="957">
                  <c:v>0.363057324840765</c:v>
                </c:pt>
                <c:pt idx="958">
                  <c:v>0.367088607594937</c:v>
                </c:pt>
                <c:pt idx="959">
                  <c:v>0.371069182389937</c:v>
                </c:pt>
                <c:pt idx="960">
                  <c:v>0.375</c:v>
                </c:pt>
                <c:pt idx="961">
                  <c:v>0.37888198757764</c:v>
                </c:pt>
                <c:pt idx="962">
                  <c:v>0.382716049382716</c:v>
                </c:pt>
                <c:pt idx="963">
                  <c:v>0.386503067484663</c:v>
                </c:pt>
                <c:pt idx="964">
                  <c:v>0.390243902439025</c:v>
                </c:pt>
                <c:pt idx="965">
                  <c:v>0.393939393939394</c:v>
                </c:pt>
                <c:pt idx="966">
                  <c:v>0.397590361445783</c:v>
                </c:pt>
                <c:pt idx="967">
                  <c:v>0.401197604790419</c:v>
                </c:pt>
                <c:pt idx="968">
                  <c:v>0.404761904761905</c:v>
                </c:pt>
                <c:pt idx="969">
                  <c:v>0.408284023668639</c:v>
                </c:pt>
                <c:pt idx="970">
                  <c:v>0.411764705882353</c:v>
                </c:pt>
                <c:pt idx="971">
                  <c:v>0.415204678362573</c:v>
                </c:pt>
                <c:pt idx="972">
                  <c:v>0.418604651162791</c:v>
                </c:pt>
                <c:pt idx="973">
                  <c:v>0.421965317919075</c:v>
                </c:pt>
                <c:pt idx="974">
                  <c:v>0.425287356321839</c:v>
                </c:pt>
                <c:pt idx="975">
                  <c:v>0.428571428571429</c:v>
                </c:pt>
                <c:pt idx="976">
                  <c:v>0.431818181818182</c:v>
                </c:pt>
                <c:pt idx="977">
                  <c:v>0.435028248587571</c:v>
                </c:pt>
                <c:pt idx="978">
                  <c:v>0.438202247191011</c:v>
                </c:pt>
                <c:pt idx="979">
                  <c:v>0.441340782122905</c:v>
                </c:pt>
                <c:pt idx="980">
                  <c:v>0.444444444444445</c:v>
                </c:pt>
                <c:pt idx="981">
                  <c:v>0.447513812154696</c:v>
                </c:pt>
                <c:pt idx="982">
                  <c:v>0.450549450549451</c:v>
                </c:pt>
                <c:pt idx="983">
                  <c:v>0.453551912568306</c:v>
                </c:pt>
                <c:pt idx="984">
                  <c:v>0.456521739130435</c:v>
                </c:pt>
                <c:pt idx="985">
                  <c:v>0.459459459459459</c:v>
                </c:pt>
                <c:pt idx="986">
                  <c:v>0.462365591397849</c:v>
                </c:pt>
                <c:pt idx="987">
                  <c:v>0.46524064171123</c:v>
                </c:pt>
                <c:pt idx="988">
                  <c:v>0.468085106382979</c:v>
                </c:pt>
                <c:pt idx="989">
                  <c:v>0.470899470899471</c:v>
                </c:pt>
                <c:pt idx="990">
                  <c:v>0.473684210526316</c:v>
                </c:pt>
                <c:pt idx="991">
                  <c:v>0.476439790575916</c:v>
                </c:pt>
                <c:pt idx="992">
                  <c:v>0.479166666666667</c:v>
                </c:pt>
                <c:pt idx="993">
                  <c:v>0.481865284974093</c:v>
                </c:pt>
                <c:pt idx="994">
                  <c:v>0.484536082474227</c:v>
                </c:pt>
                <c:pt idx="995">
                  <c:v>0.487179487179487</c:v>
                </c:pt>
                <c:pt idx="996">
                  <c:v>0.489795918367347</c:v>
                </c:pt>
                <c:pt idx="997">
                  <c:v>0.492385786802031</c:v>
                </c:pt>
                <c:pt idx="998">
                  <c:v>0.494949494949495</c:v>
                </c:pt>
                <c:pt idx="999">
                  <c:v>0.49748743718593</c:v>
                </c:pt>
                <c:pt idx="1000">
                  <c:v>0.5</c:v>
                </c:pt>
                <c:pt idx="1001">
                  <c:v>0.502487562189055</c:v>
                </c:pt>
                <c:pt idx="1002">
                  <c:v>0.504950495049505</c:v>
                </c:pt>
                <c:pt idx="1003">
                  <c:v>0.507389162561576</c:v>
                </c:pt>
                <c:pt idx="1004">
                  <c:v>0.509803921568628</c:v>
                </c:pt>
                <c:pt idx="1005">
                  <c:v>0.51219512195122</c:v>
                </c:pt>
                <c:pt idx="1006">
                  <c:v>0.514563106796117</c:v>
                </c:pt>
                <c:pt idx="1007">
                  <c:v>0.516908212560387</c:v>
                </c:pt>
                <c:pt idx="1008">
                  <c:v>0.519230769230769</c:v>
                </c:pt>
                <c:pt idx="1009">
                  <c:v>0.521531100478469</c:v>
                </c:pt>
                <c:pt idx="1010">
                  <c:v>0.523809523809524</c:v>
                </c:pt>
                <c:pt idx="1011">
                  <c:v>0.5260663507109</c:v>
                </c:pt>
                <c:pt idx="1012">
                  <c:v>0.528301886792453</c:v>
                </c:pt>
                <c:pt idx="1013">
                  <c:v>0.530516431924883</c:v>
                </c:pt>
                <c:pt idx="1014">
                  <c:v>0.532710280373832</c:v>
                </c:pt>
                <c:pt idx="1015">
                  <c:v>0.534883720930233</c:v>
                </c:pt>
                <c:pt idx="1016">
                  <c:v>0.537037037037037</c:v>
                </c:pt>
                <c:pt idx="1017">
                  <c:v>0.539170506912442</c:v>
                </c:pt>
                <c:pt idx="1018">
                  <c:v>0.541284403669725</c:v>
                </c:pt>
                <c:pt idx="1019">
                  <c:v>0.54337899543379</c:v>
                </c:pt>
                <c:pt idx="1020">
                  <c:v>0.545454545454546</c:v>
                </c:pt>
                <c:pt idx="1021">
                  <c:v>0.547511312217195</c:v>
                </c:pt>
                <c:pt idx="1022">
                  <c:v>0.54954954954955</c:v>
                </c:pt>
                <c:pt idx="1023">
                  <c:v>0.551569506726457</c:v>
                </c:pt>
                <c:pt idx="1024">
                  <c:v>0.553571428571429</c:v>
                </c:pt>
                <c:pt idx="1025">
                  <c:v>0.555555555555556</c:v>
                </c:pt>
                <c:pt idx="1026">
                  <c:v>0.557522123893805</c:v>
                </c:pt>
                <c:pt idx="1027">
                  <c:v>0.559471365638766</c:v>
                </c:pt>
                <c:pt idx="1028">
                  <c:v>0.56140350877193</c:v>
                </c:pt>
                <c:pt idx="1029">
                  <c:v>0.563318777292577</c:v>
                </c:pt>
                <c:pt idx="1030">
                  <c:v>0.565217391304348</c:v>
                </c:pt>
                <c:pt idx="1031">
                  <c:v>0.567099567099567</c:v>
                </c:pt>
                <c:pt idx="1032">
                  <c:v>0.568965517241379</c:v>
                </c:pt>
                <c:pt idx="1033">
                  <c:v>0.570815450643777</c:v>
                </c:pt>
                <c:pt idx="1034">
                  <c:v>0.572649572649573</c:v>
                </c:pt>
                <c:pt idx="1035">
                  <c:v>0.574468085106383</c:v>
                </c:pt>
                <c:pt idx="1036">
                  <c:v>0.576271186440678</c:v>
                </c:pt>
                <c:pt idx="1037">
                  <c:v>0.578059071729958</c:v>
                </c:pt>
                <c:pt idx="1038">
                  <c:v>0.579831932773109</c:v>
                </c:pt>
                <c:pt idx="1039">
                  <c:v>0.581589958158996</c:v>
                </c:pt>
                <c:pt idx="1040">
                  <c:v>0.583333333333333</c:v>
                </c:pt>
                <c:pt idx="1041">
                  <c:v>0.5850622406639</c:v>
                </c:pt>
                <c:pt idx="1042">
                  <c:v>0.586776859504132</c:v>
                </c:pt>
                <c:pt idx="1043">
                  <c:v>0.588477366255144</c:v>
                </c:pt>
                <c:pt idx="1044">
                  <c:v>0.590163934426229</c:v>
                </c:pt>
                <c:pt idx="1045">
                  <c:v>0.591836734693878</c:v>
                </c:pt>
                <c:pt idx="1046">
                  <c:v>0.59349593495935</c:v>
                </c:pt>
                <c:pt idx="1047">
                  <c:v>0.595141700404858</c:v>
                </c:pt>
                <c:pt idx="1048">
                  <c:v>0.596774193548387</c:v>
                </c:pt>
                <c:pt idx="1049">
                  <c:v>0.598393574297189</c:v>
                </c:pt>
                <c:pt idx="1050">
                  <c:v>0.6</c:v>
                </c:pt>
                <c:pt idx="1051">
                  <c:v>0.601593625498008</c:v>
                </c:pt>
                <c:pt idx="1052">
                  <c:v>0.603174603174603</c:v>
                </c:pt>
                <c:pt idx="1053">
                  <c:v>0.604743083003953</c:v>
                </c:pt>
                <c:pt idx="1054">
                  <c:v>0.606299212598425</c:v>
                </c:pt>
                <c:pt idx="1055">
                  <c:v>0.607843137254902</c:v>
                </c:pt>
                <c:pt idx="1056">
                  <c:v>0.609375</c:v>
                </c:pt>
                <c:pt idx="1057">
                  <c:v>0.610894941634241</c:v>
                </c:pt>
                <c:pt idx="1058">
                  <c:v>0.612403100775194</c:v>
                </c:pt>
                <c:pt idx="1059">
                  <c:v>0.613899613899614</c:v>
                </c:pt>
                <c:pt idx="1060">
                  <c:v>0.615384615384615</c:v>
                </c:pt>
                <c:pt idx="1061">
                  <c:v>0.616858237547893</c:v>
                </c:pt>
                <c:pt idx="1062">
                  <c:v>0.618320610687023</c:v>
                </c:pt>
                <c:pt idx="1063">
                  <c:v>0.619771863117871</c:v>
                </c:pt>
                <c:pt idx="1064">
                  <c:v>0.621212121212121</c:v>
                </c:pt>
                <c:pt idx="1065">
                  <c:v>0.622641509433962</c:v>
                </c:pt>
                <c:pt idx="1066">
                  <c:v>0.62406015037594</c:v>
                </c:pt>
                <c:pt idx="1067">
                  <c:v>0.625468164794008</c:v>
                </c:pt>
                <c:pt idx="1068">
                  <c:v>0.626865671641791</c:v>
                </c:pt>
                <c:pt idx="1069">
                  <c:v>0.628252788104089</c:v>
                </c:pt>
                <c:pt idx="1070">
                  <c:v>0.62962962962963</c:v>
                </c:pt>
                <c:pt idx="1071">
                  <c:v>0.6309963099631</c:v>
                </c:pt>
                <c:pt idx="1072">
                  <c:v>0.632352941176471</c:v>
                </c:pt>
                <c:pt idx="1073">
                  <c:v>0.633699633699634</c:v>
                </c:pt>
                <c:pt idx="1074">
                  <c:v>0.635036496350365</c:v>
                </c:pt>
                <c:pt idx="1075">
                  <c:v>0.636363636363636</c:v>
                </c:pt>
                <c:pt idx="1076">
                  <c:v>0.63768115942029</c:v>
                </c:pt>
                <c:pt idx="1077">
                  <c:v>0.63898916967509</c:v>
                </c:pt>
                <c:pt idx="1078">
                  <c:v>0.640287769784173</c:v>
                </c:pt>
                <c:pt idx="1079">
                  <c:v>0.6415770609319</c:v>
                </c:pt>
                <c:pt idx="1080">
                  <c:v>0.642857142857143</c:v>
                </c:pt>
                <c:pt idx="1081">
                  <c:v>0.644128113879004</c:v>
                </c:pt>
                <c:pt idx="1082">
                  <c:v>0.645390070921986</c:v>
                </c:pt>
                <c:pt idx="1083">
                  <c:v>0.646643109540636</c:v>
                </c:pt>
                <c:pt idx="1084">
                  <c:v>0.647887323943662</c:v>
                </c:pt>
                <c:pt idx="1085">
                  <c:v>0.649122807017544</c:v>
                </c:pt>
                <c:pt idx="1086">
                  <c:v>0.65034965034965</c:v>
                </c:pt>
                <c:pt idx="1087">
                  <c:v>0.651567944250871</c:v>
                </c:pt>
                <c:pt idx="1088">
                  <c:v>0.652777777777778</c:v>
                </c:pt>
                <c:pt idx="1089">
                  <c:v>0.653979238754325</c:v>
                </c:pt>
                <c:pt idx="1090">
                  <c:v>0.655172413793104</c:v>
                </c:pt>
                <c:pt idx="1091">
                  <c:v>0.656357388316151</c:v>
                </c:pt>
                <c:pt idx="1092">
                  <c:v>0.657534246575342</c:v>
                </c:pt>
                <c:pt idx="1093">
                  <c:v>0.658703071672355</c:v>
                </c:pt>
                <c:pt idx="1094">
                  <c:v>0.659863945578231</c:v>
                </c:pt>
                <c:pt idx="1095">
                  <c:v>0.661016949152543</c:v>
                </c:pt>
                <c:pt idx="1096">
                  <c:v>0.662162162162162</c:v>
                </c:pt>
                <c:pt idx="1097">
                  <c:v>0.663299663299663</c:v>
                </c:pt>
                <c:pt idx="1098">
                  <c:v>0.664429530201342</c:v>
                </c:pt>
                <c:pt idx="1099">
                  <c:v>0.665551839464883</c:v>
                </c:pt>
                <c:pt idx="1100">
                  <c:v>0.666666666666667</c:v>
                </c:pt>
                <c:pt idx="1101">
                  <c:v>0.667774086378738</c:v>
                </c:pt>
                <c:pt idx="1102">
                  <c:v>0.66887417218543</c:v>
                </c:pt>
                <c:pt idx="1103">
                  <c:v>0.66996699669967</c:v>
                </c:pt>
                <c:pt idx="1104">
                  <c:v>0.671052631578948</c:v>
                </c:pt>
                <c:pt idx="1105">
                  <c:v>0.672131147540984</c:v>
                </c:pt>
                <c:pt idx="1106">
                  <c:v>0.673202614379085</c:v>
                </c:pt>
                <c:pt idx="1107">
                  <c:v>0.674267100977199</c:v>
                </c:pt>
                <c:pt idx="1108">
                  <c:v>0.675324675324675</c:v>
                </c:pt>
                <c:pt idx="1109">
                  <c:v>0.676375404530744</c:v>
                </c:pt>
                <c:pt idx="1110">
                  <c:v>0.67741935483871</c:v>
                </c:pt>
                <c:pt idx="1111">
                  <c:v>0.678456591639871</c:v>
                </c:pt>
                <c:pt idx="1112">
                  <c:v>0.67948717948718</c:v>
                </c:pt>
                <c:pt idx="1113">
                  <c:v>0.680511182108626</c:v>
                </c:pt>
                <c:pt idx="1114">
                  <c:v>0.681528662420382</c:v>
                </c:pt>
                <c:pt idx="1115">
                  <c:v>0.682539682539683</c:v>
                </c:pt>
                <c:pt idx="1116">
                  <c:v>0.683544303797468</c:v>
                </c:pt>
                <c:pt idx="1117">
                  <c:v>0.684542586750789</c:v>
                </c:pt>
                <c:pt idx="1118">
                  <c:v>0.685534591194969</c:v>
                </c:pt>
                <c:pt idx="1119">
                  <c:v>0.686520376175549</c:v>
                </c:pt>
                <c:pt idx="1120">
                  <c:v>0.6875</c:v>
                </c:pt>
                <c:pt idx="1121">
                  <c:v>0.688473520249221</c:v>
                </c:pt>
                <c:pt idx="1122">
                  <c:v>0.68944099378882</c:v>
                </c:pt>
                <c:pt idx="1123">
                  <c:v>0.690402476780186</c:v>
                </c:pt>
                <c:pt idx="1124">
                  <c:v>0.691358024691358</c:v>
                </c:pt>
                <c:pt idx="1125">
                  <c:v>0.692307692307692</c:v>
                </c:pt>
                <c:pt idx="1126">
                  <c:v>0.693251533742331</c:v>
                </c:pt>
                <c:pt idx="1127">
                  <c:v>0.694189602446483</c:v>
                </c:pt>
                <c:pt idx="1128">
                  <c:v>0.695121951219512</c:v>
                </c:pt>
                <c:pt idx="1129">
                  <c:v>0.696048632218845</c:v>
                </c:pt>
                <c:pt idx="1130">
                  <c:v>0.696969696969697</c:v>
                </c:pt>
                <c:pt idx="1131">
                  <c:v>0.697885196374622</c:v>
                </c:pt>
                <c:pt idx="1132">
                  <c:v>0.698795180722892</c:v>
                </c:pt>
                <c:pt idx="1133">
                  <c:v>0.6996996996997</c:v>
                </c:pt>
                <c:pt idx="1134">
                  <c:v>0.70059880239521</c:v>
                </c:pt>
                <c:pt idx="1135">
                  <c:v>0.701492537313433</c:v>
                </c:pt>
                <c:pt idx="1136">
                  <c:v>0.702380952380952</c:v>
                </c:pt>
                <c:pt idx="1137">
                  <c:v>0.70326409495549</c:v>
                </c:pt>
                <c:pt idx="1138">
                  <c:v>0.70414201183432</c:v>
                </c:pt>
                <c:pt idx="1139">
                  <c:v>0.705014749262537</c:v>
                </c:pt>
                <c:pt idx="1140">
                  <c:v>0.705882352941177</c:v>
                </c:pt>
                <c:pt idx="1141">
                  <c:v>0.706744868035191</c:v>
                </c:pt>
                <c:pt idx="1142">
                  <c:v>0.707602339181287</c:v>
                </c:pt>
                <c:pt idx="1143">
                  <c:v>0.708454810495627</c:v>
                </c:pt>
                <c:pt idx="1144">
                  <c:v>0.709302325581395</c:v>
                </c:pt>
                <c:pt idx="1145">
                  <c:v>0.710144927536232</c:v>
                </c:pt>
                <c:pt idx="1146">
                  <c:v>0.710982658959538</c:v>
                </c:pt>
                <c:pt idx="1147">
                  <c:v>0.711815561959654</c:v>
                </c:pt>
                <c:pt idx="1148">
                  <c:v>0.71264367816092</c:v>
                </c:pt>
                <c:pt idx="1149">
                  <c:v>0.713467048710602</c:v>
                </c:pt>
                <c:pt idx="1150">
                  <c:v>0.714285714285714</c:v>
                </c:pt>
                <c:pt idx="1151">
                  <c:v>0.715099715099715</c:v>
                </c:pt>
                <c:pt idx="1152">
                  <c:v>0.715909090909091</c:v>
                </c:pt>
                <c:pt idx="1153">
                  <c:v>0.71671388101983</c:v>
                </c:pt>
                <c:pt idx="1154">
                  <c:v>0.717514124293785</c:v>
                </c:pt>
                <c:pt idx="1155">
                  <c:v>0.71830985915493</c:v>
                </c:pt>
                <c:pt idx="1156">
                  <c:v>0.719101123595506</c:v>
                </c:pt>
                <c:pt idx="1157">
                  <c:v>0.719887955182073</c:v>
                </c:pt>
                <c:pt idx="1158">
                  <c:v>0.720670391061453</c:v>
                </c:pt>
                <c:pt idx="1159">
                  <c:v>0.721448467966574</c:v>
                </c:pt>
                <c:pt idx="1160">
                  <c:v>0.722222222222222</c:v>
                </c:pt>
                <c:pt idx="1161">
                  <c:v>0.722991689750693</c:v>
                </c:pt>
                <c:pt idx="1162">
                  <c:v>0.723756906077348</c:v>
                </c:pt>
                <c:pt idx="1163">
                  <c:v>0.724517906336088</c:v>
                </c:pt>
                <c:pt idx="1164">
                  <c:v>0.725274725274725</c:v>
                </c:pt>
                <c:pt idx="1165">
                  <c:v>0.726027397260274</c:v>
                </c:pt>
                <c:pt idx="1166">
                  <c:v>0.726775956284153</c:v>
                </c:pt>
                <c:pt idx="1167">
                  <c:v>0.727520435967302</c:v>
                </c:pt>
                <c:pt idx="1168">
                  <c:v>0.728260869565217</c:v>
                </c:pt>
                <c:pt idx="1169">
                  <c:v>0.7289972899729</c:v>
                </c:pt>
                <c:pt idx="1170">
                  <c:v>0.72972972972973</c:v>
                </c:pt>
                <c:pt idx="1171">
                  <c:v>0.730458221024259</c:v>
                </c:pt>
                <c:pt idx="1172">
                  <c:v>0.731182795698925</c:v>
                </c:pt>
                <c:pt idx="1173">
                  <c:v>0.731903485254692</c:v>
                </c:pt>
                <c:pt idx="1174">
                  <c:v>0.732620320855615</c:v>
                </c:pt>
                <c:pt idx="1175">
                  <c:v>0.733333333333333</c:v>
                </c:pt>
                <c:pt idx="1176">
                  <c:v>0.734042553191489</c:v>
                </c:pt>
                <c:pt idx="1177">
                  <c:v>0.73474801061008</c:v>
                </c:pt>
                <c:pt idx="1178">
                  <c:v>0.735449735449735</c:v>
                </c:pt>
                <c:pt idx="1179">
                  <c:v>0.736147757255937</c:v>
                </c:pt>
                <c:pt idx="1180">
                  <c:v>0.736842105263158</c:v>
                </c:pt>
                <c:pt idx="1181">
                  <c:v>0.73753280839895</c:v>
                </c:pt>
                <c:pt idx="1182">
                  <c:v>0.738219895287958</c:v>
                </c:pt>
                <c:pt idx="1183">
                  <c:v>0.738903394255875</c:v>
                </c:pt>
                <c:pt idx="1184">
                  <c:v>0.739583333333333</c:v>
                </c:pt>
                <c:pt idx="1185">
                  <c:v>0.74025974025974</c:v>
                </c:pt>
                <c:pt idx="1186">
                  <c:v>0.740932642487047</c:v>
                </c:pt>
                <c:pt idx="1187">
                  <c:v>0.741602067183463</c:v>
                </c:pt>
                <c:pt idx="1188">
                  <c:v>0.742268041237113</c:v>
                </c:pt>
                <c:pt idx="1189">
                  <c:v>0.74293059125964</c:v>
                </c:pt>
                <c:pt idx="1190">
                  <c:v>0.743589743589744</c:v>
                </c:pt>
                <c:pt idx="1191">
                  <c:v>0.744245524296675</c:v>
                </c:pt>
                <c:pt idx="1192">
                  <c:v>0.744897959183674</c:v>
                </c:pt>
                <c:pt idx="1193">
                  <c:v>0.745547073791349</c:v>
                </c:pt>
                <c:pt idx="1194">
                  <c:v>0.746192893401015</c:v>
                </c:pt>
                <c:pt idx="1195">
                  <c:v>0.746835443037975</c:v>
                </c:pt>
                <c:pt idx="1196">
                  <c:v>0.747474747474748</c:v>
                </c:pt>
                <c:pt idx="1197">
                  <c:v>0.748110831234257</c:v>
                </c:pt>
                <c:pt idx="1198">
                  <c:v>0.748743718592965</c:v>
                </c:pt>
                <c:pt idx="1199">
                  <c:v>0.74937343358396</c:v>
                </c:pt>
                <c:pt idx="1200">
                  <c:v>0.75</c:v>
                </c:pt>
                <c:pt idx="1201">
                  <c:v>0.750623441396509</c:v>
                </c:pt>
                <c:pt idx="1202">
                  <c:v>0.751243781094527</c:v>
                </c:pt>
                <c:pt idx="1203">
                  <c:v>0.751861042183623</c:v>
                </c:pt>
                <c:pt idx="1204">
                  <c:v>0.752475247524753</c:v>
                </c:pt>
                <c:pt idx="1205">
                  <c:v>0.753086419753086</c:v>
                </c:pt>
                <c:pt idx="1206">
                  <c:v>0.753694581280788</c:v>
                </c:pt>
                <c:pt idx="1207">
                  <c:v>0.754299754299754</c:v>
                </c:pt>
                <c:pt idx="1208">
                  <c:v>0.754901960784314</c:v>
                </c:pt>
                <c:pt idx="1209">
                  <c:v>0.755501222493888</c:v>
                </c:pt>
                <c:pt idx="1210">
                  <c:v>0.75609756097561</c:v>
                </c:pt>
                <c:pt idx="1211">
                  <c:v>0.75669099756691</c:v>
                </c:pt>
                <c:pt idx="1212">
                  <c:v>0.757281553398058</c:v>
                </c:pt>
                <c:pt idx="1213">
                  <c:v>0.757869249394673</c:v>
                </c:pt>
                <c:pt idx="1214">
                  <c:v>0.758454106280193</c:v>
                </c:pt>
                <c:pt idx="1215">
                  <c:v>0.759036144578313</c:v>
                </c:pt>
                <c:pt idx="1216">
                  <c:v>0.759615384615385</c:v>
                </c:pt>
                <c:pt idx="1217">
                  <c:v>0.760191846522782</c:v>
                </c:pt>
                <c:pt idx="1218">
                  <c:v>0.760765550239234</c:v>
                </c:pt>
                <c:pt idx="1219">
                  <c:v>0.761336515513126</c:v>
                </c:pt>
                <c:pt idx="1220">
                  <c:v>0.761904761904762</c:v>
                </c:pt>
                <c:pt idx="1221">
                  <c:v>0.762470308788599</c:v>
                </c:pt>
                <c:pt idx="1222">
                  <c:v>0.76303317535545</c:v>
                </c:pt>
                <c:pt idx="1223">
                  <c:v>0.763593380614657</c:v>
                </c:pt>
                <c:pt idx="1224">
                  <c:v>0.764150943396227</c:v>
                </c:pt>
                <c:pt idx="1225">
                  <c:v>0.764705882352941</c:v>
                </c:pt>
                <c:pt idx="1226">
                  <c:v>0.765258215962441</c:v>
                </c:pt>
                <c:pt idx="1227">
                  <c:v>0.765807962529274</c:v>
                </c:pt>
                <c:pt idx="1228">
                  <c:v>0.766355140186916</c:v>
                </c:pt>
                <c:pt idx="1229">
                  <c:v>0.766899766899767</c:v>
                </c:pt>
                <c:pt idx="1230">
                  <c:v>0.767441860465116</c:v>
                </c:pt>
                <c:pt idx="1231">
                  <c:v>0.767981438515081</c:v>
                </c:pt>
                <c:pt idx="1232">
                  <c:v>0.768518518518519</c:v>
                </c:pt>
                <c:pt idx="1233">
                  <c:v>0.76905311778291</c:v>
                </c:pt>
                <c:pt idx="1234">
                  <c:v>0.769585253456221</c:v>
                </c:pt>
                <c:pt idx="1235">
                  <c:v>0.770114942528736</c:v>
                </c:pt>
                <c:pt idx="1236">
                  <c:v>0.770642201834862</c:v>
                </c:pt>
                <c:pt idx="1237">
                  <c:v>0.77116704805492</c:v>
                </c:pt>
                <c:pt idx="1238">
                  <c:v>0.771689497716895</c:v>
                </c:pt>
                <c:pt idx="1239">
                  <c:v>0.772209567198178</c:v>
                </c:pt>
                <c:pt idx="1240">
                  <c:v>0.772727272727273</c:v>
                </c:pt>
                <c:pt idx="1241">
                  <c:v>0.773242630385488</c:v>
                </c:pt>
                <c:pt idx="1242">
                  <c:v>0.773755656108597</c:v>
                </c:pt>
                <c:pt idx="1243">
                  <c:v>0.774266365688488</c:v>
                </c:pt>
                <c:pt idx="1244">
                  <c:v>0.774774774774775</c:v>
                </c:pt>
                <c:pt idx="1245">
                  <c:v>0.775280898876405</c:v>
                </c:pt>
                <c:pt idx="1246">
                  <c:v>0.775784753363229</c:v>
                </c:pt>
                <c:pt idx="1247">
                  <c:v>0.776286353467562</c:v>
                </c:pt>
                <c:pt idx="1248">
                  <c:v>0.776785714285714</c:v>
                </c:pt>
                <c:pt idx="1249">
                  <c:v>0.77728285077951</c:v>
                </c:pt>
                <c:pt idx="1250">
                  <c:v>0.777777777777778</c:v>
                </c:pt>
                <c:pt idx="1251">
                  <c:v>0.778270509977827</c:v>
                </c:pt>
                <c:pt idx="1252">
                  <c:v>0.778761061946903</c:v>
                </c:pt>
                <c:pt idx="1253">
                  <c:v>0.77924944812362</c:v>
                </c:pt>
                <c:pt idx="1254">
                  <c:v>0.779735682819383</c:v>
                </c:pt>
                <c:pt idx="1255">
                  <c:v>0.78021978021978</c:v>
                </c:pt>
                <c:pt idx="1256">
                  <c:v>0.780701754385965</c:v>
                </c:pt>
                <c:pt idx="1257">
                  <c:v>0.781181619256018</c:v>
                </c:pt>
                <c:pt idx="1258">
                  <c:v>0.781659388646288</c:v>
                </c:pt>
                <c:pt idx="1259">
                  <c:v>0.782135076252723</c:v>
                </c:pt>
                <c:pt idx="1260">
                  <c:v>0.782608695652174</c:v>
                </c:pt>
                <c:pt idx="1261">
                  <c:v>0.783080260303688</c:v>
                </c:pt>
                <c:pt idx="1262">
                  <c:v>0.783549783549784</c:v>
                </c:pt>
                <c:pt idx="1263">
                  <c:v>0.784017278617711</c:v>
                </c:pt>
                <c:pt idx="1264">
                  <c:v>0.78448275862069</c:v>
                </c:pt>
                <c:pt idx="1265">
                  <c:v>0.78494623655914</c:v>
                </c:pt>
                <c:pt idx="1266">
                  <c:v>0.785407725321888</c:v>
                </c:pt>
                <c:pt idx="1267">
                  <c:v>0.785867237687366</c:v>
                </c:pt>
                <c:pt idx="1268">
                  <c:v>0.786324786324786</c:v>
                </c:pt>
                <c:pt idx="1269">
                  <c:v>0.786780383795309</c:v>
                </c:pt>
                <c:pt idx="1270">
                  <c:v>0.787234042553192</c:v>
                </c:pt>
                <c:pt idx="1271">
                  <c:v>0.787685774946922</c:v>
                </c:pt>
                <c:pt idx="1272">
                  <c:v>0.788135593220339</c:v>
                </c:pt>
                <c:pt idx="1273">
                  <c:v>0.788583509513742</c:v>
                </c:pt>
                <c:pt idx="1274">
                  <c:v>0.789029535864979</c:v>
                </c:pt>
                <c:pt idx="1275">
                  <c:v>0.789473684210526</c:v>
                </c:pt>
                <c:pt idx="1276">
                  <c:v>0.789915966386555</c:v>
                </c:pt>
                <c:pt idx="1277">
                  <c:v>0.790356394129979</c:v>
                </c:pt>
                <c:pt idx="1278">
                  <c:v>0.790794979079498</c:v>
                </c:pt>
                <c:pt idx="1279">
                  <c:v>0.791231732776618</c:v>
                </c:pt>
                <c:pt idx="1280">
                  <c:v>0.791666666666667</c:v>
                </c:pt>
                <c:pt idx="1281">
                  <c:v>0.792099792099792</c:v>
                </c:pt>
                <c:pt idx="1282">
                  <c:v>0.79253112033195</c:v>
                </c:pt>
                <c:pt idx="1283">
                  <c:v>0.79296066252588</c:v>
                </c:pt>
                <c:pt idx="1284">
                  <c:v>0.793388429752066</c:v>
                </c:pt>
                <c:pt idx="1285">
                  <c:v>0.793814432989691</c:v>
                </c:pt>
                <c:pt idx="1286">
                  <c:v>0.794238683127572</c:v>
                </c:pt>
                <c:pt idx="1287">
                  <c:v>0.794661190965093</c:v>
                </c:pt>
                <c:pt idx="1288">
                  <c:v>0.795081967213115</c:v>
                </c:pt>
                <c:pt idx="1289">
                  <c:v>0.795501022494888</c:v>
                </c:pt>
                <c:pt idx="1290">
                  <c:v>0.795918367346939</c:v>
                </c:pt>
                <c:pt idx="1291">
                  <c:v>0.796334012219959</c:v>
                </c:pt>
                <c:pt idx="1292">
                  <c:v>0.796747967479675</c:v>
                </c:pt>
                <c:pt idx="1293">
                  <c:v>0.797160243407708</c:v>
                </c:pt>
                <c:pt idx="1294">
                  <c:v>0.797570850202429</c:v>
                </c:pt>
                <c:pt idx="1295">
                  <c:v>0.797979797979798</c:v>
                </c:pt>
                <c:pt idx="1296">
                  <c:v>0.798387096774194</c:v>
                </c:pt>
                <c:pt idx="1297">
                  <c:v>0.798792756539235</c:v>
                </c:pt>
                <c:pt idx="1298">
                  <c:v>0.799196787148594</c:v>
                </c:pt>
                <c:pt idx="1299">
                  <c:v>0.799599198396794</c:v>
                </c:pt>
                <c:pt idx="1300">
                  <c:v>0.8</c:v>
                </c:pt>
                <c:pt idx="1301">
                  <c:v>0.800399201596806</c:v>
                </c:pt>
                <c:pt idx="1302">
                  <c:v>0.800796812749004</c:v>
                </c:pt>
                <c:pt idx="1303">
                  <c:v>0.801192842942346</c:v>
                </c:pt>
                <c:pt idx="1304">
                  <c:v>0.801587301587302</c:v>
                </c:pt>
                <c:pt idx="1305">
                  <c:v>0.801980198019802</c:v>
                </c:pt>
                <c:pt idx="1306">
                  <c:v>0.802371541501976</c:v>
                </c:pt>
                <c:pt idx="1307">
                  <c:v>0.80276134122288</c:v>
                </c:pt>
                <c:pt idx="1308">
                  <c:v>0.803149606299213</c:v>
                </c:pt>
                <c:pt idx="1309">
                  <c:v>0.803536345776031</c:v>
                </c:pt>
                <c:pt idx="1310">
                  <c:v>0.803921568627451</c:v>
                </c:pt>
                <c:pt idx="1311">
                  <c:v>0.804305283757339</c:v>
                </c:pt>
                <c:pt idx="1312">
                  <c:v>0.8046875</c:v>
                </c:pt>
                <c:pt idx="1313">
                  <c:v>0.805068226120858</c:v>
                </c:pt>
                <c:pt idx="1314">
                  <c:v>0.805447470817121</c:v>
                </c:pt>
                <c:pt idx="1315">
                  <c:v>0.805825242718447</c:v>
                </c:pt>
                <c:pt idx="1316">
                  <c:v>0.806201550387597</c:v>
                </c:pt>
                <c:pt idx="1317">
                  <c:v>0.806576402321083</c:v>
                </c:pt>
                <c:pt idx="1318">
                  <c:v>0.806949806949807</c:v>
                </c:pt>
                <c:pt idx="1319">
                  <c:v>0.807321772639692</c:v>
                </c:pt>
                <c:pt idx="1320">
                  <c:v>0.807692307692308</c:v>
                </c:pt>
                <c:pt idx="1321">
                  <c:v>0.808061420345489</c:v>
                </c:pt>
                <c:pt idx="1322">
                  <c:v>0.808429118773946</c:v>
                </c:pt>
                <c:pt idx="1323">
                  <c:v>0.808795411089866</c:v>
                </c:pt>
                <c:pt idx="1324">
                  <c:v>0.809160305343512</c:v>
                </c:pt>
                <c:pt idx="1325">
                  <c:v>0.80952380952381</c:v>
                </c:pt>
                <c:pt idx="1326">
                  <c:v>0.809885931558935</c:v>
                </c:pt>
                <c:pt idx="1327">
                  <c:v>0.810246679316888</c:v>
                </c:pt>
                <c:pt idx="1328">
                  <c:v>0.810606060606061</c:v>
                </c:pt>
                <c:pt idx="1329">
                  <c:v>0.810964083175804</c:v>
                </c:pt>
                <c:pt idx="1330">
                  <c:v>0.811320754716981</c:v>
                </c:pt>
                <c:pt idx="1331">
                  <c:v>0.811676082862524</c:v>
                </c:pt>
                <c:pt idx="1332">
                  <c:v>0.81203007518797</c:v>
                </c:pt>
                <c:pt idx="1333">
                  <c:v>0.812382739212008</c:v>
                </c:pt>
                <c:pt idx="1334">
                  <c:v>0.812734082397004</c:v>
                </c:pt>
                <c:pt idx="1335">
                  <c:v>0.813084112149533</c:v>
                </c:pt>
                <c:pt idx="1336">
                  <c:v>0.813432835820896</c:v>
                </c:pt>
                <c:pt idx="1337">
                  <c:v>0.813780260707635</c:v>
                </c:pt>
                <c:pt idx="1338">
                  <c:v>0.814126394052045</c:v>
                </c:pt>
                <c:pt idx="1339">
                  <c:v>0.814471243042672</c:v>
                </c:pt>
                <c:pt idx="1340">
                  <c:v>0.814814814814815</c:v>
                </c:pt>
                <c:pt idx="1341">
                  <c:v>0.815157116451017</c:v>
                </c:pt>
                <c:pt idx="1342">
                  <c:v>0.81549815498155</c:v>
                </c:pt>
                <c:pt idx="1343">
                  <c:v>0.815837937384899</c:v>
                </c:pt>
                <c:pt idx="1344">
                  <c:v>0.816176470588235</c:v>
                </c:pt>
                <c:pt idx="1345">
                  <c:v>0.81651376146789</c:v>
                </c:pt>
                <c:pt idx="1346">
                  <c:v>0.816849816849817</c:v>
                </c:pt>
                <c:pt idx="1347">
                  <c:v>0.817184643510055</c:v>
                </c:pt>
                <c:pt idx="1348">
                  <c:v>0.817518248175183</c:v>
                </c:pt>
                <c:pt idx="1349">
                  <c:v>0.817850637522769</c:v>
                </c:pt>
                <c:pt idx="1350">
                  <c:v>0.818181818181818</c:v>
                </c:pt>
                <c:pt idx="1351">
                  <c:v>0.818511796733212</c:v>
                </c:pt>
                <c:pt idx="1352">
                  <c:v>0.818840579710145</c:v>
                </c:pt>
                <c:pt idx="1353">
                  <c:v>0.819168173598553</c:v>
                </c:pt>
                <c:pt idx="1354">
                  <c:v>0.819494584837545</c:v>
                </c:pt>
                <c:pt idx="1355">
                  <c:v>0.81981981981982</c:v>
                </c:pt>
                <c:pt idx="1356">
                  <c:v>0.820143884892086</c:v>
                </c:pt>
                <c:pt idx="1357">
                  <c:v>0.820466786355476</c:v>
                </c:pt>
                <c:pt idx="1358">
                  <c:v>0.82078853046595</c:v>
                </c:pt>
                <c:pt idx="1359">
                  <c:v>0.821109123434705</c:v>
                </c:pt>
                <c:pt idx="1360">
                  <c:v>0.821428571428571</c:v>
                </c:pt>
                <c:pt idx="1361">
                  <c:v>0.82174688057041</c:v>
                </c:pt>
                <c:pt idx="1362">
                  <c:v>0.822064056939502</c:v>
                </c:pt>
                <c:pt idx="1363">
                  <c:v>0.822380106571936</c:v>
                </c:pt>
                <c:pt idx="1364">
                  <c:v>0.822695035460993</c:v>
                </c:pt>
                <c:pt idx="1365">
                  <c:v>0.823008849557522</c:v>
                </c:pt>
                <c:pt idx="1366">
                  <c:v>0.823321554770318</c:v>
                </c:pt>
                <c:pt idx="1367">
                  <c:v>0.82363315696649</c:v>
                </c:pt>
                <c:pt idx="1368">
                  <c:v>0.823943661971831</c:v>
                </c:pt>
                <c:pt idx="1369">
                  <c:v>0.824253075571177</c:v>
                </c:pt>
                <c:pt idx="1370">
                  <c:v>0.824561403508772</c:v>
                </c:pt>
                <c:pt idx="1371">
                  <c:v>0.824868651488616</c:v>
                </c:pt>
                <c:pt idx="1372">
                  <c:v>0.825174825174825</c:v>
                </c:pt>
                <c:pt idx="1373">
                  <c:v>0.825479930191972</c:v>
                </c:pt>
                <c:pt idx="1374">
                  <c:v>0.825783972125436</c:v>
                </c:pt>
                <c:pt idx="1375">
                  <c:v>0.826086956521739</c:v>
                </c:pt>
                <c:pt idx="1376">
                  <c:v>0.826388888888889</c:v>
                </c:pt>
                <c:pt idx="1377">
                  <c:v>0.826689774696707</c:v>
                </c:pt>
                <c:pt idx="1378">
                  <c:v>0.826989619377163</c:v>
                </c:pt>
                <c:pt idx="1379">
                  <c:v>0.827288428324698</c:v>
                </c:pt>
                <c:pt idx="1380">
                  <c:v>0.827586206896552</c:v>
                </c:pt>
                <c:pt idx="1381">
                  <c:v>0.827882960413081</c:v>
                </c:pt>
                <c:pt idx="1382">
                  <c:v>0.828178694158076</c:v>
                </c:pt>
                <c:pt idx="1383">
                  <c:v>0.828473413379074</c:v>
                </c:pt>
                <c:pt idx="1384">
                  <c:v>0.828767123287671</c:v>
                </c:pt>
                <c:pt idx="1385">
                  <c:v>0.829059829059829</c:v>
                </c:pt>
                <c:pt idx="1386">
                  <c:v>0.829351535836178</c:v>
                </c:pt>
                <c:pt idx="1387">
                  <c:v>0.829642248722317</c:v>
                </c:pt>
                <c:pt idx="1388">
                  <c:v>0.829931972789116</c:v>
                </c:pt>
                <c:pt idx="1389">
                  <c:v>0.830220713073005</c:v>
                </c:pt>
                <c:pt idx="1390">
                  <c:v>0.830508474576271</c:v>
                </c:pt>
                <c:pt idx="1391">
                  <c:v>0.830795262267344</c:v>
                </c:pt>
                <c:pt idx="1392">
                  <c:v>0.831081081081081</c:v>
                </c:pt>
                <c:pt idx="1393">
                  <c:v>0.831365935919056</c:v>
                </c:pt>
                <c:pt idx="1394">
                  <c:v>0.831649831649832</c:v>
                </c:pt>
                <c:pt idx="1395">
                  <c:v>0.831932773109244</c:v>
                </c:pt>
                <c:pt idx="1396">
                  <c:v>0.832214765100671</c:v>
                </c:pt>
                <c:pt idx="1397">
                  <c:v>0.83249581239531</c:v>
                </c:pt>
                <c:pt idx="1398">
                  <c:v>0.832775919732442</c:v>
                </c:pt>
                <c:pt idx="1399">
                  <c:v>0.8330550918197</c:v>
                </c:pt>
                <c:pt idx="1400">
                  <c:v>0.833333333333333</c:v>
                </c:pt>
                <c:pt idx="1401">
                  <c:v>0.833610648918469</c:v>
                </c:pt>
                <c:pt idx="1402">
                  <c:v>0.833887043189369</c:v>
                </c:pt>
                <c:pt idx="1403">
                  <c:v>0.834162520729685</c:v>
                </c:pt>
                <c:pt idx="1404">
                  <c:v>0.834437086092715</c:v>
                </c:pt>
                <c:pt idx="1405">
                  <c:v>0.834710743801653</c:v>
                </c:pt>
                <c:pt idx="1406">
                  <c:v>0.834983498349835</c:v>
                </c:pt>
                <c:pt idx="1407">
                  <c:v>0.835255354200989</c:v>
                </c:pt>
                <c:pt idx="1408">
                  <c:v>0.835526315789474</c:v>
                </c:pt>
                <c:pt idx="1409">
                  <c:v>0.835796387520525</c:v>
                </c:pt>
                <c:pt idx="1410">
                  <c:v>0.836065573770492</c:v>
                </c:pt>
                <c:pt idx="1411">
                  <c:v>0.83633387888707</c:v>
                </c:pt>
                <c:pt idx="1412">
                  <c:v>0.836601307189543</c:v>
                </c:pt>
                <c:pt idx="1413">
                  <c:v>0.836867862969005</c:v>
                </c:pt>
                <c:pt idx="1414">
                  <c:v>0.837133550488599</c:v>
                </c:pt>
                <c:pt idx="1415">
                  <c:v>0.83739837398374</c:v>
                </c:pt>
                <c:pt idx="1416">
                  <c:v>0.837662337662338</c:v>
                </c:pt>
                <c:pt idx="1417">
                  <c:v>0.837925445705024</c:v>
                </c:pt>
                <c:pt idx="1418">
                  <c:v>0.838187702265372</c:v>
                </c:pt>
                <c:pt idx="1419">
                  <c:v>0.838449111470113</c:v>
                </c:pt>
                <c:pt idx="1420">
                  <c:v>0.838709677419355</c:v>
                </c:pt>
                <c:pt idx="1421">
                  <c:v>0.838969404186796</c:v>
                </c:pt>
                <c:pt idx="1422">
                  <c:v>0.839228295819936</c:v>
                </c:pt>
                <c:pt idx="1423">
                  <c:v>0.839486356340289</c:v>
                </c:pt>
                <c:pt idx="1424">
                  <c:v>0.83974358974359</c:v>
                </c:pt>
                <c:pt idx="1425">
                  <c:v>0.84</c:v>
                </c:pt>
                <c:pt idx="1426">
                  <c:v>0.840255591054313</c:v>
                </c:pt>
                <c:pt idx="1427">
                  <c:v>0.840510366826156</c:v>
                </c:pt>
                <c:pt idx="1428">
                  <c:v>0.840764331210191</c:v>
                </c:pt>
                <c:pt idx="1429">
                  <c:v>0.841017488076312</c:v>
                </c:pt>
                <c:pt idx="1430">
                  <c:v>0.841269841269841</c:v>
                </c:pt>
                <c:pt idx="1431">
                  <c:v>0.841521394611728</c:v>
                </c:pt>
                <c:pt idx="1432">
                  <c:v>0.841772151898734</c:v>
                </c:pt>
                <c:pt idx="1433">
                  <c:v>0.842022116903634</c:v>
                </c:pt>
                <c:pt idx="1434">
                  <c:v>0.842271293375394</c:v>
                </c:pt>
                <c:pt idx="1435">
                  <c:v>0.84251968503937</c:v>
                </c:pt>
                <c:pt idx="1436">
                  <c:v>0.842767295597484</c:v>
                </c:pt>
                <c:pt idx="1437">
                  <c:v>0.843014128728414</c:v>
                </c:pt>
                <c:pt idx="1438">
                  <c:v>0.843260188087774</c:v>
                </c:pt>
                <c:pt idx="1439">
                  <c:v>0.843505477308294</c:v>
                </c:pt>
                <c:pt idx="1440">
                  <c:v>0.84375</c:v>
                </c:pt>
                <c:pt idx="1441">
                  <c:v>0.84399375975039</c:v>
                </c:pt>
                <c:pt idx="1442">
                  <c:v>0.844236760124611</c:v>
                </c:pt>
                <c:pt idx="1443">
                  <c:v>0.84447900466563</c:v>
                </c:pt>
                <c:pt idx="1444">
                  <c:v>0.84472049689441</c:v>
                </c:pt>
                <c:pt idx="1445">
                  <c:v>0.844961240310078</c:v>
                </c:pt>
                <c:pt idx="1446">
                  <c:v>0.845201238390093</c:v>
                </c:pt>
                <c:pt idx="1447">
                  <c:v>0.845440494590417</c:v>
                </c:pt>
                <c:pt idx="1448">
                  <c:v>0.845679012345679</c:v>
                </c:pt>
                <c:pt idx="1449">
                  <c:v>0.845916795069338</c:v>
                </c:pt>
                <c:pt idx="1450">
                  <c:v>0.846153846153846</c:v>
                </c:pt>
                <c:pt idx="1451">
                  <c:v>0.846390168970814</c:v>
                </c:pt>
                <c:pt idx="1452">
                  <c:v>0.846625766871166</c:v>
                </c:pt>
                <c:pt idx="1453">
                  <c:v>0.846860643185299</c:v>
                </c:pt>
                <c:pt idx="1454">
                  <c:v>0.847094801223242</c:v>
                </c:pt>
                <c:pt idx="1455">
                  <c:v>0.847328244274809</c:v>
                </c:pt>
                <c:pt idx="1456">
                  <c:v>0.847560975609756</c:v>
                </c:pt>
                <c:pt idx="1457">
                  <c:v>0.84779299847793</c:v>
                </c:pt>
                <c:pt idx="1458">
                  <c:v>0.848024316109423</c:v>
                </c:pt>
                <c:pt idx="1459">
                  <c:v>0.848254931714719</c:v>
                </c:pt>
                <c:pt idx="1460">
                  <c:v>0.848484848484849</c:v>
                </c:pt>
                <c:pt idx="1461">
                  <c:v>0.848714069591528</c:v>
                </c:pt>
                <c:pt idx="1462">
                  <c:v>0.848942598187311</c:v>
                </c:pt>
                <c:pt idx="1463">
                  <c:v>0.849170437405732</c:v>
                </c:pt>
                <c:pt idx="1464">
                  <c:v>0.849397590361446</c:v>
                </c:pt>
                <c:pt idx="1465">
                  <c:v>0.849624060150376</c:v>
                </c:pt>
                <c:pt idx="1466">
                  <c:v>0.84984984984985</c:v>
                </c:pt>
                <c:pt idx="1467">
                  <c:v>0.850074962518741</c:v>
                </c:pt>
                <c:pt idx="1468">
                  <c:v>0.850299401197605</c:v>
                </c:pt>
                <c:pt idx="1469">
                  <c:v>0.850523168908819</c:v>
                </c:pt>
                <c:pt idx="1470">
                  <c:v>0.850746268656716</c:v>
                </c:pt>
                <c:pt idx="1471">
                  <c:v>0.85096870342772</c:v>
                </c:pt>
                <c:pt idx="1472">
                  <c:v>0.851190476190476</c:v>
                </c:pt>
                <c:pt idx="1473">
                  <c:v>0.851411589895988</c:v>
                </c:pt>
                <c:pt idx="1474">
                  <c:v>0.851632047477745</c:v>
                </c:pt>
                <c:pt idx="1475">
                  <c:v>0.851851851851852</c:v>
                </c:pt>
                <c:pt idx="1476">
                  <c:v>0.85207100591716</c:v>
                </c:pt>
                <c:pt idx="1477">
                  <c:v>0.852289512555391</c:v>
                </c:pt>
                <c:pt idx="1478">
                  <c:v>0.852507374631269</c:v>
                </c:pt>
                <c:pt idx="1479">
                  <c:v>0.852724594992636</c:v>
                </c:pt>
                <c:pt idx="1480">
                  <c:v>0.852941176470588</c:v>
                </c:pt>
                <c:pt idx="1481">
                  <c:v>0.853157121879589</c:v>
                </c:pt>
                <c:pt idx="1482">
                  <c:v>0.853372434017595</c:v>
                </c:pt>
                <c:pt idx="1483">
                  <c:v>0.853587115666179</c:v>
                </c:pt>
                <c:pt idx="1484">
                  <c:v>0.853801169590643</c:v>
                </c:pt>
                <c:pt idx="1485">
                  <c:v>0.854014598540146</c:v>
                </c:pt>
                <c:pt idx="1486">
                  <c:v>0.854227405247813</c:v>
                </c:pt>
                <c:pt idx="1487">
                  <c:v>0.854439592430859</c:v>
                </c:pt>
                <c:pt idx="1488">
                  <c:v>0.854651162790698</c:v>
                </c:pt>
                <c:pt idx="1489">
                  <c:v>0.854862119013062</c:v>
                </c:pt>
                <c:pt idx="1490">
                  <c:v>0.855072463768116</c:v>
                </c:pt>
                <c:pt idx="1491">
                  <c:v>0.855282199710564</c:v>
                </c:pt>
                <c:pt idx="1492">
                  <c:v>0.855491329479769</c:v>
                </c:pt>
                <c:pt idx="1493">
                  <c:v>0.855699855699856</c:v>
                </c:pt>
                <c:pt idx="1494">
                  <c:v>0.855907780979827</c:v>
                </c:pt>
                <c:pt idx="1495">
                  <c:v>0.856115107913669</c:v>
                </c:pt>
                <c:pt idx="1496">
                  <c:v>0.85632183908046</c:v>
                </c:pt>
                <c:pt idx="1497">
                  <c:v>0.856527977044476</c:v>
                </c:pt>
                <c:pt idx="1498">
                  <c:v>0.856733524355301</c:v>
                </c:pt>
                <c:pt idx="1499">
                  <c:v>0.856938483547926</c:v>
                </c:pt>
                <c:pt idx="1500">
                  <c:v>0.857142857142857</c:v>
                </c:pt>
                <c:pt idx="1501">
                  <c:v>0.85734664764622</c:v>
                </c:pt>
                <c:pt idx="1502">
                  <c:v>0.857549857549858</c:v>
                </c:pt>
                <c:pt idx="1503">
                  <c:v>0.857752489331437</c:v>
                </c:pt>
                <c:pt idx="1504">
                  <c:v>0.857954545454546</c:v>
                </c:pt>
                <c:pt idx="1505">
                  <c:v>0.858156028368794</c:v>
                </c:pt>
                <c:pt idx="1506">
                  <c:v>0.858356940509915</c:v>
                </c:pt>
                <c:pt idx="1507">
                  <c:v>0.858557284299859</c:v>
                </c:pt>
                <c:pt idx="1508">
                  <c:v>0.858757062146893</c:v>
                </c:pt>
                <c:pt idx="1509">
                  <c:v>0.858956276445698</c:v>
                </c:pt>
                <c:pt idx="1510">
                  <c:v>0.859154929577465</c:v>
                </c:pt>
                <c:pt idx="1511">
                  <c:v>0.859353023909986</c:v>
                </c:pt>
                <c:pt idx="1512">
                  <c:v>0.859550561797753</c:v>
                </c:pt>
                <c:pt idx="1513">
                  <c:v>0.859747545582048</c:v>
                </c:pt>
                <c:pt idx="1514">
                  <c:v>0.859943977591037</c:v>
                </c:pt>
                <c:pt idx="1515">
                  <c:v>0.86013986013986</c:v>
                </c:pt>
                <c:pt idx="1516">
                  <c:v>0.860335195530726</c:v>
                </c:pt>
                <c:pt idx="1517">
                  <c:v>0.860529986052999</c:v>
                </c:pt>
                <c:pt idx="1518">
                  <c:v>0.860724233983287</c:v>
                </c:pt>
                <c:pt idx="1519">
                  <c:v>0.860917941585536</c:v>
                </c:pt>
                <c:pt idx="1520">
                  <c:v>0.861111111111111</c:v>
                </c:pt>
                <c:pt idx="1521">
                  <c:v>0.861303744798891</c:v>
                </c:pt>
                <c:pt idx="1522">
                  <c:v>0.861495844875346</c:v>
                </c:pt>
                <c:pt idx="1523">
                  <c:v>0.861687413554634</c:v>
                </c:pt>
                <c:pt idx="1524">
                  <c:v>0.861878453038674</c:v>
                </c:pt>
                <c:pt idx="1525">
                  <c:v>0.862068965517241</c:v>
                </c:pt>
                <c:pt idx="1526">
                  <c:v>0.862258953168044</c:v>
                </c:pt>
                <c:pt idx="1527">
                  <c:v>0.862448418156809</c:v>
                </c:pt>
                <c:pt idx="1528">
                  <c:v>0.862637362637363</c:v>
                </c:pt>
                <c:pt idx="1529">
                  <c:v>0.862825788751715</c:v>
                </c:pt>
                <c:pt idx="1530">
                  <c:v>0.863013698630137</c:v>
                </c:pt>
                <c:pt idx="1531">
                  <c:v>0.863201094391245</c:v>
                </c:pt>
                <c:pt idx="1532">
                  <c:v>0.863387978142077</c:v>
                </c:pt>
                <c:pt idx="1533">
                  <c:v>0.863574351978172</c:v>
                </c:pt>
                <c:pt idx="1534">
                  <c:v>0.863760217983651</c:v>
                </c:pt>
                <c:pt idx="1535">
                  <c:v>0.863945578231293</c:v>
                </c:pt>
                <c:pt idx="1536">
                  <c:v>0.864130434782609</c:v>
                </c:pt>
                <c:pt idx="1537">
                  <c:v>0.864314789687924</c:v>
                </c:pt>
                <c:pt idx="1538">
                  <c:v>0.86449864498645</c:v>
                </c:pt>
                <c:pt idx="1539">
                  <c:v>0.86468200270636</c:v>
                </c:pt>
                <c:pt idx="1540">
                  <c:v>0.864864864864865</c:v>
                </c:pt>
                <c:pt idx="1541">
                  <c:v>0.865047233468286</c:v>
                </c:pt>
                <c:pt idx="1542">
                  <c:v>0.865229110512129</c:v>
                </c:pt>
                <c:pt idx="1543">
                  <c:v>0.865410497981157</c:v>
                </c:pt>
                <c:pt idx="1544">
                  <c:v>0.865591397849462</c:v>
                </c:pt>
                <c:pt idx="1545">
                  <c:v>0.865771812080537</c:v>
                </c:pt>
                <c:pt idx="1546">
                  <c:v>0.865951742627346</c:v>
                </c:pt>
                <c:pt idx="1547">
                  <c:v>0.866131191432396</c:v>
                </c:pt>
                <c:pt idx="1548">
                  <c:v>0.866310160427808</c:v>
                </c:pt>
                <c:pt idx="1549">
                  <c:v>0.866488651535381</c:v>
                </c:pt>
                <c:pt idx="1550">
                  <c:v>0.866666666666667</c:v>
                </c:pt>
                <c:pt idx="1551">
                  <c:v>0.866844207723036</c:v>
                </c:pt>
                <c:pt idx="1552">
                  <c:v>0.867021276595745</c:v>
                </c:pt>
                <c:pt idx="1553">
                  <c:v>0.867197875166003</c:v>
                </c:pt>
                <c:pt idx="1554">
                  <c:v>0.86737400530504</c:v>
                </c:pt>
                <c:pt idx="1555">
                  <c:v>0.867549668874172</c:v>
                </c:pt>
                <c:pt idx="1556">
                  <c:v>0.867724867724868</c:v>
                </c:pt>
                <c:pt idx="1557">
                  <c:v>0.867899603698811</c:v>
                </c:pt>
                <c:pt idx="1558">
                  <c:v>0.868073878627968</c:v>
                </c:pt>
                <c:pt idx="1559">
                  <c:v>0.868247694334651</c:v>
                </c:pt>
                <c:pt idx="1560">
                  <c:v>0.868421052631579</c:v>
                </c:pt>
                <c:pt idx="1561">
                  <c:v>0.868593955321945</c:v>
                </c:pt>
                <c:pt idx="1562">
                  <c:v>0.868766404199475</c:v>
                </c:pt>
                <c:pt idx="1563">
                  <c:v>0.868938401048493</c:v>
                </c:pt>
                <c:pt idx="1564">
                  <c:v>0.869109947643979</c:v>
                </c:pt>
                <c:pt idx="1565">
                  <c:v>0.869281045751634</c:v>
                </c:pt>
                <c:pt idx="1566">
                  <c:v>0.869451697127937</c:v>
                </c:pt>
                <c:pt idx="1567">
                  <c:v>0.869621903520209</c:v>
                </c:pt>
                <c:pt idx="1568">
                  <c:v>0.869791666666667</c:v>
                </c:pt>
                <c:pt idx="1569">
                  <c:v>0.869960988296489</c:v>
                </c:pt>
                <c:pt idx="1570">
                  <c:v>0.87012987012987</c:v>
                </c:pt>
                <c:pt idx="1571">
                  <c:v>0.87029831387808</c:v>
                </c:pt>
                <c:pt idx="1572">
                  <c:v>0.870466321243523</c:v>
                </c:pt>
                <c:pt idx="1573">
                  <c:v>0.870633893919793</c:v>
                </c:pt>
                <c:pt idx="1574">
                  <c:v>0.870801033591731</c:v>
                </c:pt>
                <c:pt idx="1575">
                  <c:v>0.870967741935484</c:v>
                </c:pt>
                <c:pt idx="1576">
                  <c:v>0.871134020618557</c:v>
                </c:pt>
                <c:pt idx="1577">
                  <c:v>0.871299871299871</c:v>
                </c:pt>
                <c:pt idx="1578">
                  <c:v>0.87146529562982</c:v>
                </c:pt>
                <c:pt idx="1579">
                  <c:v>0.871630295250321</c:v>
                </c:pt>
                <c:pt idx="1580">
                  <c:v>0.871794871794872</c:v>
                </c:pt>
                <c:pt idx="1581">
                  <c:v>0.871959026888604</c:v>
                </c:pt>
                <c:pt idx="1582">
                  <c:v>0.872122762148338</c:v>
                </c:pt>
                <c:pt idx="1583">
                  <c:v>0.872286079182631</c:v>
                </c:pt>
                <c:pt idx="1584">
                  <c:v>0.872448979591837</c:v>
                </c:pt>
                <c:pt idx="1585">
                  <c:v>0.872611464968153</c:v>
                </c:pt>
                <c:pt idx="1586">
                  <c:v>0.872773536895674</c:v>
                </c:pt>
                <c:pt idx="1587">
                  <c:v>0.872935196950445</c:v>
                </c:pt>
                <c:pt idx="1588">
                  <c:v>0.873096446700508</c:v>
                </c:pt>
                <c:pt idx="1589">
                  <c:v>0.873257287705957</c:v>
                </c:pt>
                <c:pt idx="1590">
                  <c:v>0.873417721518987</c:v>
                </c:pt>
                <c:pt idx="1591">
                  <c:v>0.873577749683944</c:v>
                </c:pt>
                <c:pt idx="1592">
                  <c:v>0.873737373737374</c:v>
                </c:pt>
                <c:pt idx="1593">
                  <c:v>0.873896595208071</c:v>
                </c:pt>
                <c:pt idx="1594">
                  <c:v>0.874055415617128</c:v>
                </c:pt>
                <c:pt idx="1595">
                  <c:v>0.874213836477987</c:v>
                </c:pt>
                <c:pt idx="1596">
                  <c:v>0.874371859296482</c:v>
                </c:pt>
                <c:pt idx="1597">
                  <c:v>0.874529485570891</c:v>
                </c:pt>
                <c:pt idx="1598">
                  <c:v>0.87468671679198</c:v>
                </c:pt>
                <c:pt idx="1599">
                  <c:v>0.874843554443054</c:v>
                </c:pt>
                <c:pt idx="1600">
                  <c:v>0.875</c:v>
                </c:pt>
                <c:pt idx="1601">
                  <c:v>0.875156054931336</c:v>
                </c:pt>
                <c:pt idx="1602">
                  <c:v>0.875311720698254</c:v>
                </c:pt>
                <c:pt idx="1603">
                  <c:v>0.87546699875467</c:v>
                </c:pt>
                <c:pt idx="1604">
                  <c:v>0.875621890547264</c:v>
                </c:pt>
                <c:pt idx="1605">
                  <c:v>0.875776397515528</c:v>
                </c:pt>
                <c:pt idx="1606">
                  <c:v>0.875930521091811</c:v>
                </c:pt>
                <c:pt idx="1607">
                  <c:v>0.876084262701363</c:v>
                </c:pt>
                <c:pt idx="1608">
                  <c:v>0.876237623762376</c:v>
                </c:pt>
                <c:pt idx="1609">
                  <c:v>0.876390605686032</c:v>
                </c:pt>
                <c:pt idx="1610">
                  <c:v>0.876543209876543</c:v>
                </c:pt>
                <c:pt idx="1611">
                  <c:v>0.876695437731196</c:v>
                </c:pt>
                <c:pt idx="1612">
                  <c:v>0.876847290640394</c:v>
                </c:pt>
                <c:pt idx="1613">
                  <c:v>0.8769987699877</c:v>
                </c:pt>
                <c:pt idx="1614">
                  <c:v>0.877149877149877</c:v>
                </c:pt>
                <c:pt idx="1615">
                  <c:v>0.877300613496932</c:v>
                </c:pt>
                <c:pt idx="1616">
                  <c:v>0.877450980392157</c:v>
                </c:pt>
                <c:pt idx="1617">
                  <c:v>0.877600979192167</c:v>
                </c:pt>
                <c:pt idx="1618">
                  <c:v>0.877750611246944</c:v>
                </c:pt>
                <c:pt idx="1619">
                  <c:v>0.877899877899878</c:v>
                </c:pt>
                <c:pt idx="1620">
                  <c:v>0.878048780487805</c:v>
                </c:pt>
                <c:pt idx="1621">
                  <c:v>0.878197320341048</c:v>
                </c:pt>
                <c:pt idx="1622">
                  <c:v>0.878345498783455</c:v>
                </c:pt>
                <c:pt idx="1623">
                  <c:v>0.878493317132442</c:v>
                </c:pt>
                <c:pt idx="1624">
                  <c:v>0.878640776699029</c:v>
                </c:pt>
                <c:pt idx="1625">
                  <c:v>0.878787878787879</c:v>
                </c:pt>
                <c:pt idx="1626">
                  <c:v>0.878934624697337</c:v>
                </c:pt>
                <c:pt idx="1627">
                  <c:v>0.879081015719468</c:v>
                </c:pt>
                <c:pt idx="1628">
                  <c:v>0.879227053140097</c:v>
                </c:pt>
                <c:pt idx="1629">
                  <c:v>0.879372738238842</c:v>
                </c:pt>
                <c:pt idx="1630">
                  <c:v>0.879518072289157</c:v>
                </c:pt>
                <c:pt idx="1631">
                  <c:v>0.879663056558363</c:v>
                </c:pt>
                <c:pt idx="1632">
                  <c:v>0.879807692307692</c:v>
                </c:pt>
                <c:pt idx="1633">
                  <c:v>0.879951980792317</c:v>
                </c:pt>
                <c:pt idx="1634">
                  <c:v>0.880095923261391</c:v>
                </c:pt>
                <c:pt idx="1635">
                  <c:v>0.880239520958084</c:v>
                </c:pt>
                <c:pt idx="1636">
                  <c:v>0.880382775119617</c:v>
                </c:pt>
                <c:pt idx="1637">
                  <c:v>0.8805256869773</c:v>
                </c:pt>
                <c:pt idx="1638">
                  <c:v>0.880668257756563</c:v>
                </c:pt>
                <c:pt idx="1639">
                  <c:v>0.880810488676996</c:v>
                </c:pt>
                <c:pt idx="1640">
                  <c:v>0.880952380952381</c:v>
                </c:pt>
                <c:pt idx="1641">
                  <c:v>0.881093935790725</c:v>
                </c:pt>
                <c:pt idx="1642">
                  <c:v>0.881235154394299</c:v>
                </c:pt>
                <c:pt idx="1643">
                  <c:v>0.881376037959668</c:v>
                </c:pt>
                <c:pt idx="1644">
                  <c:v>0.881516587677725</c:v>
                </c:pt>
                <c:pt idx="1645">
                  <c:v>0.881656804733728</c:v>
                </c:pt>
                <c:pt idx="1646">
                  <c:v>0.881796690307329</c:v>
                </c:pt>
                <c:pt idx="1647">
                  <c:v>0.881936245572609</c:v>
                </c:pt>
                <c:pt idx="1648">
                  <c:v>0.882075471698113</c:v>
                </c:pt>
                <c:pt idx="1649">
                  <c:v>0.882214369846879</c:v>
                </c:pt>
                <c:pt idx="1650">
                  <c:v>0.882352941176471</c:v>
                </c:pt>
                <c:pt idx="1651">
                  <c:v>0.882491186839013</c:v>
                </c:pt>
                <c:pt idx="1652">
                  <c:v>0.882629107981221</c:v>
                </c:pt>
                <c:pt idx="1653">
                  <c:v>0.882766705744431</c:v>
                </c:pt>
                <c:pt idx="1654">
                  <c:v>0.882903981264637</c:v>
                </c:pt>
                <c:pt idx="1655">
                  <c:v>0.883040935672515</c:v>
                </c:pt>
                <c:pt idx="1656">
                  <c:v>0.883177570093458</c:v>
                </c:pt>
                <c:pt idx="1657">
                  <c:v>0.883313885647608</c:v>
                </c:pt>
                <c:pt idx="1658">
                  <c:v>0.883449883449884</c:v>
                </c:pt>
                <c:pt idx="1659">
                  <c:v>0.883585564610012</c:v>
                </c:pt>
                <c:pt idx="1660">
                  <c:v>0.883720930232558</c:v>
                </c:pt>
                <c:pt idx="1661">
                  <c:v>0.883855981416957</c:v>
                </c:pt>
                <c:pt idx="1662">
                  <c:v>0.883990719257541</c:v>
                </c:pt>
                <c:pt idx="1663">
                  <c:v>0.884125144843569</c:v>
                </c:pt>
                <c:pt idx="1664">
                  <c:v>0.884259259259259</c:v>
                </c:pt>
                <c:pt idx="1665">
                  <c:v>0.884393063583815</c:v>
                </c:pt>
                <c:pt idx="1666">
                  <c:v>0.884526558891455</c:v>
                </c:pt>
                <c:pt idx="1667">
                  <c:v>0.884659746251442</c:v>
                </c:pt>
                <c:pt idx="1668">
                  <c:v>0.884792626728111</c:v>
                </c:pt>
                <c:pt idx="1669">
                  <c:v>0.884925201380898</c:v>
                </c:pt>
                <c:pt idx="1670">
                  <c:v>0.885057471264368</c:v>
                </c:pt>
                <c:pt idx="1671">
                  <c:v>0.885189437428243</c:v>
                </c:pt>
                <c:pt idx="1672">
                  <c:v>0.885321100917431</c:v>
                </c:pt>
                <c:pt idx="1673">
                  <c:v>0.88545246277205</c:v>
                </c:pt>
                <c:pt idx="1674">
                  <c:v>0.88558352402746</c:v>
                </c:pt>
                <c:pt idx="1675">
                  <c:v>0.885714285714286</c:v>
                </c:pt>
                <c:pt idx="1676">
                  <c:v>0.885844748858448</c:v>
                </c:pt>
                <c:pt idx="1677">
                  <c:v>0.885974914481186</c:v>
                </c:pt>
                <c:pt idx="1678">
                  <c:v>0.886104783599089</c:v>
                </c:pt>
                <c:pt idx="1679">
                  <c:v>0.886234357224118</c:v>
                </c:pt>
                <c:pt idx="1680">
                  <c:v>0.886363636363636</c:v>
                </c:pt>
                <c:pt idx="1681">
                  <c:v>0.886492622020431</c:v>
                </c:pt>
                <c:pt idx="1682">
                  <c:v>0.886621315192744</c:v>
                </c:pt>
                <c:pt idx="1683">
                  <c:v>0.886749716874292</c:v>
                </c:pt>
                <c:pt idx="1684">
                  <c:v>0.886877828054299</c:v>
                </c:pt>
                <c:pt idx="1685">
                  <c:v>0.887005649717514</c:v>
                </c:pt>
                <c:pt idx="1686">
                  <c:v>0.887133182844244</c:v>
                </c:pt>
                <c:pt idx="1687">
                  <c:v>0.887260428410372</c:v>
                </c:pt>
                <c:pt idx="1688">
                  <c:v>0.887387387387387</c:v>
                </c:pt>
                <c:pt idx="1689">
                  <c:v>0.887514060742407</c:v>
                </c:pt>
                <c:pt idx="1690">
                  <c:v>0.887640449438202</c:v>
                </c:pt>
                <c:pt idx="1691">
                  <c:v>0.887766554433221</c:v>
                </c:pt>
                <c:pt idx="1692">
                  <c:v>0.887892376681614</c:v>
                </c:pt>
                <c:pt idx="1693">
                  <c:v>0.888017917133259</c:v>
                </c:pt>
                <c:pt idx="1694">
                  <c:v>0.888143176733781</c:v>
                </c:pt>
                <c:pt idx="1695">
                  <c:v>0.888268156424581</c:v>
                </c:pt>
                <c:pt idx="1696">
                  <c:v>0.888392857142857</c:v>
                </c:pt>
                <c:pt idx="1697">
                  <c:v>0.888517279821628</c:v>
                </c:pt>
                <c:pt idx="1698">
                  <c:v>0.888641425389755</c:v>
                </c:pt>
                <c:pt idx="1699">
                  <c:v>0.888765294771969</c:v>
                </c:pt>
                <c:pt idx="1700">
                  <c:v>0.888888888888889</c:v>
                </c:pt>
                <c:pt idx="1701">
                  <c:v>0.889012208657048</c:v>
                </c:pt>
                <c:pt idx="1702">
                  <c:v>0.889135254988914</c:v>
                </c:pt>
                <c:pt idx="1703">
                  <c:v>0.889258028792913</c:v>
                </c:pt>
                <c:pt idx="1704">
                  <c:v>0.889380530973451</c:v>
                </c:pt>
                <c:pt idx="1705">
                  <c:v>0.889502762430939</c:v>
                </c:pt>
                <c:pt idx="1706">
                  <c:v>0.88962472406181</c:v>
                </c:pt>
                <c:pt idx="1707">
                  <c:v>0.889746416758545</c:v>
                </c:pt>
                <c:pt idx="1708">
                  <c:v>0.889867841409692</c:v>
                </c:pt>
                <c:pt idx="1709">
                  <c:v>0.88998899889989</c:v>
                </c:pt>
                <c:pt idx="1710">
                  <c:v>0.89010989010989</c:v>
                </c:pt>
                <c:pt idx="1711">
                  <c:v>0.890230515916575</c:v>
                </c:pt>
                <c:pt idx="1712">
                  <c:v>0.890350877192982</c:v>
                </c:pt>
                <c:pt idx="1713">
                  <c:v>0.890470974808324</c:v>
                </c:pt>
                <c:pt idx="1714">
                  <c:v>0.890590809628009</c:v>
                </c:pt>
                <c:pt idx="1715">
                  <c:v>0.890710382513661</c:v>
                </c:pt>
                <c:pt idx="1716">
                  <c:v>0.890829694323144</c:v>
                </c:pt>
                <c:pt idx="1717">
                  <c:v>0.890948745910578</c:v>
                </c:pt>
                <c:pt idx="1718">
                  <c:v>0.891067538126362</c:v>
                </c:pt>
                <c:pt idx="1719">
                  <c:v>0.891186071817193</c:v>
                </c:pt>
                <c:pt idx="1720">
                  <c:v>0.891304347826087</c:v>
                </c:pt>
                <c:pt idx="1721">
                  <c:v>0.8914223669924</c:v>
                </c:pt>
                <c:pt idx="1722">
                  <c:v>0.891540130151844</c:v>
                </c:pt>
                <c:pt idx="1723">
                  <c:v>0.891657638136511</c:v>
                </c:pt>
                <c:pt idx="1724">
                  <c:v>0.891774891774892</c:v>
                </c:pt>
                <c:pt idx="1725">
                  <c:v>0.891891891891892</c:v>
                </c:pt>
                <c:pt idx="1726">
                  <c:v>0.892008639308855</c:v>
                </c:pt>
                <c:pt idx="1727">
                  <c:v>0.892125134843582</c:v>
                </c:pt>
                <c:pt idx="1728">
                  <c:v>0.892241379310345</c:v>
                </c:pt>
                <c:pt idx="1729">
                  <c:v>0.892357373519914</c:v>
                </c:pt>
                <c:pt idx="1730">
                  <c:v>0.89247311827957</c:v>
                </c:pt>
                <c:pt idx="1731">
                  <c:v>0.892588614393126</c:v>
                </c:pt>
                <c:pt idx="1732">
                  <c:v>0.892703862660944</c:v>
                </c:pt>
                <c:pt idx="1733">
                  <c:v>0.892818863879957</c:v>
                </c:pt>
                <c:pt idx="1734">
                  <c:v>0.892933618843683</c:v>
                </c:pt>
                <c:pt idx="1735">
                  <c:v>0.893048128342246</c:v>
                </c:pt>
                <c:pt idx="1736">
                  <c:v>0.893162393162393</c:v>
                </c:pt>
                <c:pt idx="1737">
                  <c:v>0.893276414087513</c:v>
                </c:pt>
                <c:pt idx="1738">
                  <c:v>0.893390191897655</c:v>
                </c:pt>
                <c:pt idx="1739">
                  <c:v>0.893503727369542</c:v>
                </c:pt>
                <c:pt idx="1740">
                  <c:v>0.893617021276596</c:v>
                </c:pt>
                <c:pt idx="1741">
                  <c:v>0.893730074388948</c:v>
                </c:pt>
                <c:pt idx="1742">
                  <c:v>0.893842887473461</c:v>
                </c:pt>
                <c:pt idx="1743">
                  <c:v>0.893955461293743</c:v>
                </c:pt>
                <c:pt idx="1744">
                  <c:v>0.89406779661017</c:v>
                </c:pt>
                <c:pt idx="1745">
                  <c:v>0.894179894179894</c:v>
                </c:pt>
                <c:pt idx="1746">
                  <c:v>0.894291754756871</c:v>
                </c:pt>
                <c:pt idx="1747">
                  <c:v>0.894403379091869</c:v>
                </c:pt>
                <c:pt idx="1748">
                  <c:v>0.894514767932489</c:v>
                </c:pt>
                <c:pt idx="1749">
                  <c:v>0.894625922023182</c:v>
                </c:pt>
                <c:pt idx="1750">
                  <c:v>0.894736842105263</c:v>
                </c:pt>
                <c:pt idx="1751">
                  <c:v>0.89484752891693</c:v>
                </c:pt>
                <c:pt idx="1752">
                  <c:v>0.894957983193277</c:v>
                </c:pt>
                <c:pt idx="1753">
                  <c:v>0.895068205666317</c:v>
                </c:pt>
                <c:pt idx="1754">
                  <c:v>0.89517819706499</c:v>
                </c:pt>
                <c:pt idx="1755">
                  <c:v>0.895287958115183</c:v>
                </c:pt>
                <c:pt idx="1756">
                  <c:v>0.895397489539749</c:v>
                </c:pt>
                <c:pt idx="1757">
                  <c:v>0.895506792058516</c:v>
                </c:pt>
                <c:pt idx="1758">
                  <c:v>0.895615866388309</c:v>
                </c:pt>
                <c:pt idx="1759">
                  <c:v>0.895724713242961</c:v>
                </c:pt>
                <c:pt idx="1760">
                  <c:v>0.895833333333333</c:v>
                </c:pt>
                <c:pt idx="1761">
                  <c:v>0.895941727367326</c:v>
                </c:pt>
                <c:pt idx="1762">
                  <c:v>0.896049896049896</c:v>
                </c:pt>
                <c:pt idx="1763">
                  <c:v>0.896157840083074</c:v>
                </c:pt>
                <c:pt idx="1764">
                  <c:v>0.896265560165975</c:v>
                </c:pt>
                <c:pt idx="1765">
                  <c:v>0.896373056994819</c:v>
                </c:pt>
                <c:pt idx="1766">
                  <c:v>0.89648033126294</c:v>
                </c:pt>
                <c:pt idx="1767">
                  <c:v>0.896587383660807</c:v>
                </c:pt>
                <c:pt idx="1768">
                  <c:v>0.896694214876033</c:v>
                </c:pt>
                <c:pt idx="1769">
                  <c:v>0.896800825593395</c:v>
                </c:pt>
                <c:pt idx="1770">
                  <c:v>0.896907216494845</c:v>
                </c:pt>
                <c:pt idx="1771">
                  <c:v>0.897013388259526</c:v>
                </c:pt>
                <c:pt idx="1772">
                  <c:v>0.897119341563786</c:v>
                </c:pt>
                <c:pt idx="1773">
                  <c:v>0.897225077081192</c:v>
                </c:pt>
                <c:pt idx="1774">
                  <c:v>0.897330595482546</c:v>
                </c:pt>
                <c:pt idx="1775">
                  <c:v>0.897435897435898</c:v>
                </c:pt>
                <c:pt idx="1776">
                  <c:v>0.897540983606557</c:v>
                </c:pt>
                <c:pt idx="1777">
                  <c:v>0.897645854657114</c:v>
                </c:pt>
                <c:pt idx="1778">
                  <c:v>0.897750511247444</c:v>
                </c:pt>
                <c:pt idx="1779">
                  <c:v>0.897854954034729</c:v>
                </c:pt>
                <c:pt idx="1780">
                  <c:v>0.897959183673469</c:v>
                </c:pt>
                <c:pt idx="1781">
                  <c:v>0.898063200815494</c:v>
                </c:pt>
                <c:pt idx="1782">
                  <c:v>0.89816700610998</c:v>
                </c:pt>
                <c:pt idx="1783">
                  <c:v>0.898270600203459</c:v>
                </c:pt>
                <c:pt idx="1784">
                  <c:v>0.898373983739837</c:v>
                </c:pt>
                <c:pt idx="1785">
                  <c:v>0.898477157360406</c:v>
                </c:pt>
                <c:pt idx="1786">
                  <c:v>0.898580121703854</c:v>
                </c:pt>
                <c:pt idx="1787">
                  <c:v>0.898682877406282</c:v>
                </c:pt>
                <c:pt idx="1788">
                  <c:v>0.898785425101215</c:v>
                </c:pt>
                <c:pt idx="1789">
                  <c:v>0.898887765419616</c:v>
                </c:pt>
                <c:pt idx="1790">
                  <c:v>0.898989898989899</c:v>
                </c:pt>
                <c:pt idx="1791">
                  <c:v>0.899091826437942</c:v>
                </c:pt>
                <c:pt idx="1792">
                  <c:v>0.899193548387097</c:v>
                </c:pt>
                <c:pt idx="1793">
                  <c:v>0.899295065458208</c:v>
                </c:pt>
                <c:pt idx="1794">
                  <c:v>0.899396378269618</c:v>
                </c:pt>
                <c:pt idx="1795">
                  <c:v>0.899497487437186</c:v>
                </c:pt>
                <c:pt idx="1796">
                  <c:v>0.899598393574297</c:v>
                </c:pt>
                <c:pt idx="1797">
                  <c:v>0.899699097291876</c:v>
                </c:pt>
                <c:pt idx="1798">
                  <c:v>0.899799599198397</c:v>
                </c:pt>
                <c:pt idx="1799">
                  <c:v>0.8998998998999</c:v>
                </c:pt>
                <c:pt idx="1800">
                  <c:v>0.9</c:v>
                </c:pt>
                <c:pt idx="1801">
                  <c:v>0.9000999000999</c:v>
                </c:pt>
                <c:pt idx="1802">
                  <c:v>0.900199600798403</c:v>
                </c:pt>
                <c:pt idx="1803">
                  <c:v>0.900299102691924</c:v>
                </c:pt>
                <c:pt idx="1804">
                  <c:v>0.900398406374502</c:v>
                </c:pt>
                <c:pt idx="1805">
                  <c:v>0.900497512437811</c:v>
                </c:pt>
                <c:pt idx="1806">
                  <c:v>0.900596421471173</c:v>
                </c:pt>
                <c:pt idx="1807">
                  <c:v>0.900695134061569</c:v>
                </c:pt>
                <c:pt idx="1808">
                  <c:v>0.900793650793651</c:v>
                </c:pt>
                <c:pt idx="1809">
                  <c:v>0.900891972249752</c:v>
                </c:pt>
                <c:pt idx="1810">
                  <c:v>0.900990099009901</c:v>
                </c:pt>
                <c:pt idx="1811">
                  <c:v>0.90108803165183</c:v>
                </c:pt>
                <c:pt idx="1812">
                  <c:v>0.901185770750988</c:v>
                </c:pt>
                <c:pt idx="1813">
                  <c:v>0.901283316880553</c:v>
                </c:pt>
                <c:pt idx="1814">
                  <c:v>0.90138067061144</c:v>
                </c:pt>
                <c:pt idx="1815">
                  <c:v>0.901477832512315</c:v>
                </c:pt>
                <c:pt idx="1816">
                  <c:v>0.901574803149606</c:v>
                </c:pt>
                <c:pt idx="1817">
                  <c:v>0.901671583087512</c:v>
                </c:pt>
                <c:pt idx="1818">
                  <c:v>0.901768172888016</c:v>
                </c:pt>
                <c:pt idx="1819">
                  <c:v>0.901864573110893</c:v>
                </c:pt>
                <c:pt idx="1820">
                  <c:v>0.901960784313726</c:v>
                </c:pt>
                <c:pt idx="1821">
                  <c:v>0.90205680705191</c:v>
                </c:pt>
                <c:pt idx="1822">
                  <c:v>0.902152641878669</c:v>
                </c:pt>
                <c:pt idx="1823">
                  <c:v>0.902248289345064</c:v>
                </c:pt>
                <c:pt idx="1824">
                  <c:v>0.90234375</c:v>
                </c:pt>
                <c:pt idx="1825">
                  <c:v>0.902439024390244</c:v>
                </c:pt>
                <c:pt idx="1826">
                  <c:v>0.902534113060429</c:v>
                </c:pt>
                <c:pt idx="1827">
                  <c:v>0.902629016553067</c:v>
                </c:pt>
                <c:pt idx="1828">
                  <c:v>0.90272373540856</c:v>
                </c:pt>
                <c:pt idx="1829">
                  <c:v>0.902818270165209</c:v>
                </c:pt>
                <c:pt idx="1830">
                  <c:v>0.902912621359223</c:v>
                </c:pt>
                <c:pt idx="1831">
                  <c:v>0.903006789524733</c:v>
                </c:pt>
                <c:pt idx="1832">
                  <c:v>0.903100775193799</c:v>
                </c:pt>
                <c:pt idx="1833">
                  <c:v>0.903194578896418</c:v>
                </c:pt>
                <c:pt idx="1834">
                  <c:v>0.903288201160542</c:v>
                </c:pt>
                <c:pt idx="1835">
                  <c:v>0.903381642512077</c:v>
                </c:pt>
                <c:pt idx="1836">
                  <c:v>0.903474903474903</c:v>
                </c:pt>
                <c:pt idx="1837">
                  <c:v>0.903567984570878</c:v>
                </c:pt>
                <c:pt idx="1838">
                  <c:v>0.903660886319846</c:v>
                </c:pt>
                <c:pt idx="1839">
                  <c:v>0.903753609239654</c:v>
                </c:pt>
                <c:pt idx="1840">
                  <c:v>0.903846153846154</c:v>
                </c:pt>
                <c:pt idx="1841">
                  <c:v>0.903938520653218</c:v>
                </c:pt>
                <c:pt idx="1842">
                  <c:v>0.904030710172745</c:v>
                </c:pt>
                <c:pt idx="1843">
                  <c:v>0.904122722914669</c:v>
                </c:pt>
                <c:pt idx="1844">
                  <c:v>0.904214559386973</c:v>
                </c:pt>
                <c:pt idx="1845">
                  <c:v>0.904306220095694</c:v>
                </c:pt>
                <c:pt idx="1846">
                  <c:v>0.904397705544933</c:v>
                </c:pt>
                <c:pt idx="1847">
                  <c:v>0.904489016236867</c:v>
                </c:pt>
                <c:pt idx="1848">
                  <c:v>0.904580152671756</c:v>
                </c:pt>
                <c:pt idx="1849">
                  <c:v>0.90467111534795</c:v>
                </c:pt>
                <c:pt idx="1850">
                  <c:v>0.904761904761905</c:v>
                </c:pt>
                <c:pt idx="1851">
                  <c:v>0.904852521408183</c:v>
                </c:pt>
                <c:pt idx="1852">
                  <c:v>0.904942965779468</c:v>
                </c:pt>
                <c:pt idx="1853">
                  <c:v>0.905033238366572</c:v>
                </c:pt>
                <c:pt idx="1854">
                  <c:v>0.905123339658444</c:v>
                </c:pt>
                <c:pt idx="1855">
                  <c:v>0.90521327014218</c:v>
                </c:pt>
                <c:pt idx="1856">
                  <c:v>0.90530303030303</c:v>
                </c:pt>
                <c:pt idx="1857">
                  <c:v>0.905392620624409</c:v>
                </c:pt>
                <c:pt idx="1858">
                  <c:v>0.905482041587902</c:v>
                </c:pt>
                <c:pt idx="1859">
                  <c:v>0.905571293673277</c:v>
                </c:pt>
                <c:pt idx="1860">
                  <c:v>0.905660377358491</c:v>
                </c:pt>
                <c:pt idx="1861">
                  <c:v>0.905749293119698</c:v>
                </c:pt>
                <c:pt idx="1862">
                  <c:v>0.905838041431262</c:v>
                </c:pt>
                <c:pt idx="1863">
                  <c:v>0.905926622765757</c:v>
                </c:pt>
                <c:pt idx="1864">
                  <c:v>0.906015037593985</c:v>
                </c:pt>
                <c:pt idx="1865">
                  <c:v>0.906103286384977</c:v>
                </c:pt>
                <c:pt idx="1866">
                  <c:v>0.906191369606004</c:v>
                </c:pt>
                <c:pt idx="1867">
                  <c:v>0.906279287722587</c:v>
                </c:pt>
                <c:pt idx="1868">
                  <c:v>0.906367041198502</c:v>
                </c:pt>
                <c:pt idx="1869">
                  <c:v>0.90645463049579</c:v>
                </c:pt>
                <c:pt idx="1870">
                  <c:v>0.906542056074766</c:v>
                </c:pt>
                <c:pt idx="1871">
                  <c:v>0.906629318394024</c:v>
                </c:pt>
                <c:pt idx="1872">
                  <c:v>0.906716417910448</c:v>
                </c:pt>
                <c:pt idx="1873">
                  <c:v>0.906803355079217</c:v>
                </c:pt>
                <c:pt idx="1874">
                  <c:v>0.906890130353818</c:v>
                </c:pt>
                <c:pt idx="1875">
                  <c:v>0.906976744186047</c:v>
                </c:pt>
                <c:pt idx="1876">
                  <c:v>0.907063197026022</c:v>
                </c:pt>
                <c:pt idx="1877">
                  <c:v>0.907149489322191</c:v>
                </c:pt>
                <c:pt idx="1878">
                  <c:v>0.907235621521336</c:v>
                </c:pt>
                <c:pt idx="1879">
                  <c:v>0.907321594068582</c:v>
                </c:pt>
                <c:pt idx="1880">
                  <c:v>0.907407407407407</c:v>
                </c:pt>
                <c:pt idx="1881">
                  <c:v>0.907493061979648</c:v>
                </c:pt>
                <c:pt idx="1882">
                  <c:v>0.907578558225508</c:v>
                </c:pt>
                <c:pt idx="1883">
                  <c:v>0.907663896583564</c:v>
                </c:pt>
                <c:pt idx="1884">
                  <c:v>0.907749077490775</c:v>
                </c:pt>
                <c:pt idx="1885">
                  <c:v>0.907834101382489</c:v>
                </c:pt>
                <c:pt idx="1886">
                  <c:v>0.907918968692449</c:v>
                </c:pt>
                <c:pt idx="1887">
                  <c:v>0.908003679852806</c:v>
                </c:pt>
                <c:pt idx="1888">
                  <c:v>0.908088235294118</c:v>
                </c:pt>
                <c:pt idx="1889">
                  <c:v>0.908172635445363</c:v>
                </c:pt>
                <c:pt idx="1890">
                  <c:v>0.908256880733945</c:v>
                </c:pt>
                <c:pt idx="1891">
                  <c:v>0.908340971585701</c:v>
                </c:pt>
                <c:pt idx="1892">
                  <c:v>0.908424908424908</c:v>
                </c:pt>
                <c:pt idx="1893">
                  <c:v>0.908508691674291</c:v>
                </c:pt>
                <c:pt idx="1894">
                  <c:v>0.908592321755028</c:v>
                </c:pt>
                <c:pt idx="1895">
                  <c:v>0.908675799086758</c:v>
                </c:pt>
                <c:pt idx="1896">
                  <c:v>0.908759124087591</c:v>
                </c:pt>
                <c:pt idx="1897">
                  <c:v>0.908842297174111</c:v>
                </c:pt>
                <c:pt idx="1898">
                  <c:v>0.908925318761384</c:v>
                </c:pt>
                <c:pt idx="1899">
                  <c:v>0.909008189262966</c:v>
                </c:pt>
                <c:pt idx="1900">
                  <c:v>0.909090909090909</c:v>
                </c:pt>
                <c:pt idx="1901">
                  <c:v>0.909173478655768</c:v>
                </c:pt>
                <c:pt idx="1902">
                  <c:v>0.909255898366606</c:v>
                </c:pt>
                <c:pt idx="1903">
                  <c:v>0.909338168631006</c:v>
                </c:pt>
                <c:pt idx="1904">
                  <c:v>0.909420289855073</c:v>
                </c:pt>
                <c:pt idx="1905">
                  <c:v>0.909502262443439</c:v>
                </c:pt>
                <c:pt idx="1906">
                  <c:v>0.909584086799277</c:v>
                </c:pt>
                <c:pt idx="1907">
                  <c:v>0.9096657633243</c:v>
                </c:pt>
                <c:pt idx="1908">
                  <c:v>0.909747292418773</c:v>
                </c:pt>
                <c:pt idx="1909">
                  <c:v>0.909828674481515</c:v>
                </c:pt>
                <c:pt idx="1910">
                  <c:v>0.90990990990991</c:v>
                </c:pt>
                <c:pt idx="1911">
                  <c:v>0.90999099909991</c:v>
                </c:pt>
                <c:pt idx="1912">
                  <c:v>0.910071942446043</c:v>
                </c:pt>
                <c:pt idx="1913">
                  <c:v>0.91015274034142</c:v>
                </c:pt>
                <c:pt idx="1914">
                  <c:v>0.910233393177738</c:v>
                </c:pt>
                <c:pt idx="1915">
                  <c:v>0.910313901345291</c:v>
                </c:pt>
                <c:pt idx="1916">
                  <c:v>0.910394265232975</c:v>
                </c:pt>
                <c:pt idx="1917">
                  <c:v>0.91047448522829</c:v>
                </c:pt>
                <c:pt idx="1918">
                  <c:v>0.910554561717352</c:v>
                </c:pt>
                <c:pt idx="1919">
                  <c:v>0.910634495084897</c:v>
                </c:pt>
                <c:pt idx="1920">
                  <c:v>0.910714285714286</c:v>
                </c:pt>
                <c:pt idx="1921">
                  <c:v>0.910793933987511</c:v>
                </c:pt>
                <c:pt idx="1922">
                  <c:v>0.910873440285205</c:v>
                </c:pt>
                <c:pt idx="1923">
                  <c:v>0.910952804986643</c:v>
                </c:pt>
                <c:pt idx="1924">
                  <c:v>0.911032028469751</c:v>
                </c:pt>
                <c:pt idx="1925">
                  <c:v>0.911111111111111</c:v>
                </c:pt>
                <c:pt idx="1926">
                  <c:v>0.911190053285968</c:v>
                </c:pt>
                <c:pt idx="1927">
                  <c:v>0.911268855368234</c:v>
                </c:pt>
                <c:pt idx="1928">
                  <c:v>0.911347517730497</c:v>
                </c:pt>
                <c:pt idx="1929">
                  <c:v>0.911426040744021</c:v>
                </c:pt>
                <c:pt idx="1930">
                  <c:v>0.911504424778761</c:v>
                </c:pt>
                <c:pt idx="1931">
                  <c:v>0.91158267020336</c:v>
                </c:pt>
                <c:pt idx="1932">
                  <c:v>0.911660777385159</c:v>
                </c:pt>
                <c:pt idx="1933">
                  <c:v>0.911738746690203</c:v>
                </c:pt>
                <c:pt idx="1934">
                  <c:v>0.911816578483245</c:v>
                </c:pt>
                <c:pt idx="1935">
                  <c:v>0.911894273127753</c:v>
                </c:pt>
                <c:pt idx="1936">
                  <c:v>0.911971830985916</c:v>
                </c:pt>
                <c:pt idx="1937">
                  <c:v>0.912049252418646</c:v>
                </c:pt>
                <c:pt idx="1938">
                  <c:v>0.912126537785589</c:v>
                </c:pt>
                <c:pt idx="1939">
                  <c:v>0.912203687445127</c:v>
                </c:pt>
                <c:pt idx="1940">
                  <c:v>0.912280701754386</c:v>
                </c:pt>
                <c:pt idx="1941">
                  <c:v>0.912357581069238</c:v>
                </c:pt>
                <c:pt idx="1942">
                  <c:v>0.912434325744308</c:v>
                </c:pt>
                <c:pt idx="1943">
                  <c:v>0.912510936132983</c:v>
                </c:pt>
                <c:pt idx="1944">
                  <c:v>0.912587412587413</c:v>
                </c:pt>
                <c:pt idx="1945">
                  <c:v>0.912663755458515</c:v>
                </c:pt>
                <c:pt idx="1946">
                  <c:v>0.912739965095986</c:v>
                </c:pt>
                <c:pt idx="1947">
                  <c:v>0.9128160418483</c:v>
                </c:pt>
                <c:pt idx="1948">
                  <c:v>0.912891986062718</c:v>
                </c:pt>
                <c:pt idx="1949">
                  <c:v>0.912967798085292</c:v>
                </c:pt>
                <c:pt idx="1950">
                  <c:v>0.91304347826087</c:v>
                </c:pt>
                <c:pt idx="1951">
                  <c:v>0.913119026933102</c:v>
                </c:pt>
                <c:pt idx="1952">
                  <c:v>0.913194444444444</c:v>
                </c:pt>
                <c:pt idx="1953">
                  <c:v>0.913269731136167</c:v>
                </c:pt>
                <c:pt idx="1954">
                  <c:v>0.913344887348354</c:v>
                </c:pt>
                <c:pt idx="1955">
                  <c:v>0.913419913419914</c:v>
                </c:pt>
                <c:pt idx="1956">
                  <c:v>0.913494809688581</c:v>
                </c:pt>
                <c:pt idx="1957">
                  <c:v>0.913569576490925</c:v>
                </c:pt>
                <c:pt idx="1958">
                  <c:v>0.913644214162349</c:v>
                </c:pt>
                <c:pt idx="1959">
                  <c:v>0.913718723037101</c:v>
                </c:pt>
                <c:pt idx="1960">
                  <c:v>0.913793103448276</c:v>
                </c:pt>
                <c:pt idx="1961">
                  <c:v>0.913867355727821</c:v>
                </c:pt>
                <c:pt idx="1962">
                  <c:v>0.91394148020654</c:v>
                </c:pt>
                <c:pt idx="1963">
                  <c:v>0.914015477214102</c:v>
                </c:pt>
                <c:pt idx="1964">
                  <c:v>0.914089347079038</c:v>
                </c:pt>
                <c:pt idx="1965">
                  <c:v>0.914163090128755</c:v>
                </c:pt>
                <c:pt idx="1966">
                  <c:v>0.914236706689537</c:v>
                </c:pt>
                <c:pt idx="1967">
                  <c:v>0.914310197086547</c:v>
                </c:pt>
                <c:pt idx="1968">
                  <c:v>0.914383561643836</c:v>
                </c:pt>
                <c:pt idx="1969">
                  <c:v>0.914456800684346</c:v>
                </c:pt>
                <c:pt idx="1970">
                  <c:v>0.914529914529915</c:v>
                </c:pt>
                <c:pt idx="1971">
                  <c:v>0.914602903501281</c:v>
                </c:pt>
                <c:pt idx="1972">
                  <c:v>0.914675767918089</c:v>
                </c:pt>
                <c:pt idx="1973">
                  <c:v>0.914748508098892</c:v>
                </c:pt>
                <c:pt idx="1974">
                  <c:v>0.914821124361159</c:v>
                </c:pt>
                <c:pt idx="1975">
                  <c:v>0.914893617021277</c:v>
                </c:pt>
                <c:pt idx="1976">
                  <c:v>0.914965986394558</c:v>
                </c:pt>
                <c:pt idx="1977">
                  <c:v>0.915038232795242</c:v>
                </c:pt>
                <c:pt idx="1978">
                  <c:v>0.915110356536503</c:v>
                </c:pt>
                <c:pt idx="1979">
                  <c:v>0.91518235793045</c:v>
                </c:pt>
                <c:pt idx="1980">
                  <c:v>0.915254237288136</c:v>
                </c:pt>
                <c:pt idx="1981">
                  <c:v>0.91532599491956</c:v>
                </c:pt>
                <c:pt idx="1982">
                  <c:v>0.915397631133672</c:v>
                </c:pt>
                <c:pt idx="1983">
                  <c:v>0.915469146238377</c:v>
                </c:pt>
                <c:pt idx="1984">
                  <c:v>0.915540540540541</c:v>
                </c:pt>
                <c:pt idx="1985">
                  <c:v>0.915611814345992</c:v>
                </c:pt>
                <c:pt idx="1986">
                  <c:v>0.915682967959528</c:v>
                </c:pt>
                <c:pt idx="1987">
                  <c:v>0.91575400168492</c:v>
                </c:pt>
                <c:pt idx="1988">
                  <c:v>0.915824915824916</c:v>
                </c:pt>
                <c:pt idx="1989">
                  <c:v>0.915895710681245</c:v>
                </c:pt>
                <c:pt idx="1990">
                  <c:v>0.915966386554622</c:v>
                </c:pt>
                <c:pt idx="1991">
                  <c:v>0.916036943744752</c:v>
                </c:pt>
                <c:pt idx="1992">
                  <c:v>0.916107382550336</c:v>
                </c:pt>
                <c:pt idx="1993">
                  <c:v>0.91617770326907</c:v>
                </c:pt>
                <c:pt idx="1994">
                  <c:v>0.916247906197655</c:v>
                </c:pt>
                <c:pt idx="1995">
                  <c:v>0.916317991631799</c:v>
                </c:pt>
                <c:pt idx="1996">
                  <c:v>0.916387959866221</c:v>
                </c:pt>
                <c:pt idx="1997">
                  <c:v>0.916457811194653</c:v>
                </c:pt>
                <c:pt idx="1998">
                  <c:v>0.91652754590985</c:v>
                </c:pt>
                <c:pt idx="1999">
                  <c:v>0.916597164303586</c:v>
                </c:pt>
                <c:pt idx="2000">
                  <c:v>0.916666666666667</c:v>
                </c:pt>
              </c:numCache>
            </c:numRef>
          </c:yVal>
          <c:smooth val="1"/>
        </c:ser>
        <c:axId val="60757798"/>
        <c:axId val="62661515"/>
      </c:scatterChart>
      <c:valAx>
        <c:axId val="60757798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62661515"/>
        <c:crosses val="autoZero"/>
        <c:crossBetween val="midCat"/>
        <c:majorUnit val="2"/>
        <c:minorUnit val="0.05"/>
      </c:valAx>
      <c:valAx>
        <c:axId val="62661515"/>
        <c:scaling>
          <c:orientation val="minMax"/>
          <c:max val="7"/>
          <c:min val="-6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60757798"/>
        <c:crosses val="autoZero"/>
        <c:crossBetween val="midCat"/>
        <c:majorUnit val="2"/>
        <c:minorUnit val="0.0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7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801"/>
                <c:pt idx="0">
                  <c:v>-4</c:v>
                </c:pt>
                <c:pt idx="1">
                  <c:v>-3.99</c:v>
                </c:pt>
                <c:pt idx="2">
                  <c:v>-3.98</c:v>
                </c:pt>
                <c:pt idx="3">
                  <c:v>-3.97</c:v>
                </c:pt>
                <c:pt idx="4">
                  <c:v>-3.96</c:v>
                </c:pt>
                <c:pt idx="5">
                  <c:v>-3.95</c:v>
                </c:pt>
                <c:pt idx="6">
                  <c:v>-3.94</c:v>
                </c:pt>
                <c:pt idx="7">
                  <c:v>-3.93</c:v>
                </c:pt>
                <c:pt idx="8">
                  <c:v>-3.92</c:v>
                </c:pt>
                <c:pt idx="9">
                  <c:v>-3.91</c:v>
                </c:pt>
                <c:pt idx="10">
                  <c:v>-3.9</c:v>
                </c:pt>
                <c:pt idx="11">
                  <c:v>-3.89</c:v>
                </c:pt>
                <c:pt idx="12">
                  <c:v>-3.88</c:v>
                </c:pt>
                <c:pt idx="13">
                  <c:v>-3.87</c:v>
                </c:pt>
                <c:pt idx="14">
                  <c:v>-3.86</c:v>
                </c:pt>
                <c:pt idx="15">
                  <c:v>-3.85</c:v>
                </c:pt>
                <c:pt idx="16">
                  <c:v>-3.84</c:v>
                </c:pt>
                <c:pt idx="17">
                  <c:v>-3.83</c:v>
                </c:pt>
                <c:pt idx="18">
                  <c:v>-3.82</c:v>
                </c:pt>
                <c:pt idx="19">
                  <c:v>-3.81</c:v>
                </c:pt>
                <c:pt idx="20">
                  <c:v>-3.8</c:v>
                </c:pt>
                <c:pt idx="21">
                  <c:v>-3.79</c:v>
                </c:pt>
                <c:pt idx="22">
                  <c:v>-3.78</c:v>
                </c:pt>
                <c:pt idx="23">
                  <c:v>-3.77</c:v>
                </c:pt>
                <c:pt idx="24">
                  <c:v>-3.76</c:v>
                </c:pt>
                <c:pt idx="25">
                  <c:v>-3.75</c:v>
                </c:pt>
                <c:pt idx="26">
                  <c:v>-3.74</c:v>
                </c:pt>
                <c:pt idx="27">
                  <c:v>-3.73</c:v>
                </c:pt>
                <c:pt idx="28">
                  <c:v>-3.72</c:v>
                </c:pt>
                <c:pt idx="29">
                  <c:v>-3.71</c:v>
                </c:pt>
                <c:pt idx="30">
                  <c:v>-3.7</c:v>
                </c:pt>
                <c:pt idx="31">
                  <c:v>-3.69</c:v>
                </c:pt>
                <c:pt idx="32">
                  <c:v>-3.68</c:v>
                </c:pt>
                <c:pt idx="33">
                  <c:v>-3.67</c:v>
                </c:pt>
                <c:pt idx="34">
                  <c:v>-3.66</c:v>
                </c:pt>
                <c:pt idx="35">
                  <c:v>-3.65</c:v>
                </c:pt>
                <c:pt idx="36">
                  <c:v>-3.64</c:v>
                </c:pt>
                <c:pt idx="37">
                  <c:v>-3.63</c:v>
                </c:pt>
                <c:pt idx="38">
                  <c:v>-3.62</c:v>
                </c:pt>
                <c:pt idx="39">
                  <c:v>-3.61</c:v>
                </c:pt>
                <c:pt idx="40">
                  <c:v>-3.6</c:v>
                </c:pt>
                <c:pt idx="41">
                  <c:v>-3.59</c:v>
                </c:pt>
                <c:pt idx="42">
                  <c:v>-3.58</c:v>
                </c:pt>
                <c:pt idx="43">
                  <c:v>-3.57</c:v>
                </c:pt>
                <c:pt idx="44">
                  <c:v>-3.56</c:v>
                </c:pt>
                <c:pt idx="45">
                  <c:v>-3.55</c:v>
                </c:pt>
                <c:pt idx="46">
                  <c:v>-3.54</c:v>
                </c:pt>
                <c:pt idx="47">
                  <c:v>-3.53</c:v>
                </c:pt>
                <c:pt idx="48">
                  <c:v>-3.52</c:v>
                </c:pt>
                <c:pt idx="49">
                  <c:v>-3.51</c:v>
                </c:pt>
                <c:pt idx="50">
                  <c:v>-3.5</c:v>
                </c:pt>
                <c:pt idx="51">
                  <c:v>-3.49</c:v>
                </c:pt>
                <c:pt idx="52">
                  <c:v>-3.48</c:v>
                </c:pt>
                <c:pt idx="53">
                  <c:v>-3.47</c:v>
                </c:pt>
                <c:pt idx="54">
                  <c:v>-3.46</c:v>
                </c:pt>
                <c:pt idx="55">
                  <c:v>-3.45</c:v>
                </c:pt>
                <c:pt idx="56">
                  <c:v>-3.44</c:v>
                </c:pt>
                <c:pt idx="57">
                  <c:v>-3.43</c:v>
                </c:pt>
                <c:pt idx="58">
                  <c:v>-3.42</c:v>
                </c:pt>
                <c:pt idx="59">
                  <c:v>-3.41</c:v>
                </c:pt>
                <c:pt idx="60">
                  <c:v>-3.4</c:v>
                </c:pt>
                <c:pt idx="61">
                  <c:v>-3.39</c:v>
                </c:pt>
                <c:pt idx="62">
                  <c:v>-3.38</c:v>
                </c:pt>
                <c:pt idx="63">
                  <c:v>-3.37</c:v>
                </c:pt>
                <c:pt idx="64">
                  <c:v>-3.36</c:v>
                </c:pt>
                <c:pt idx="65">
                  <c:v>-3.35</c:v>
                </c:pt>
                <c:pt idx="66">
                  <c:v>-3.34</c:v>
                </c:pt>
                <c:pt idx="67">
                  <c:v>-3.33</c:v>
                </c:pt>
                <c:pt idx="68">
                  <c:v>-3.32</c:v>
                </c:pt>
                <c:pt idx="69">
                  <c:v>-3.31</c:v>
                </c:pt>
                <c:pt idx="70">
                  <c:v>-3.3</c:v>
                </c:pt>
                <c:pt idx="71">
                  <c:v>-3.29</c:v>
                </c:pt>
                <c:pt idx="72">
                  <c:v>-3.28</c:v>
                </c:pt>
                <c:pt idx="73">
                  <c:v>-3.27</c:v>
                </c:pt>
                <c:pt idx="74">
                  <c:v>-3.26</c:v>
                </c:pt>
                <c:pt idx="75">
                  <c:v>-3.25</c:v>
                </c:pt>
                <c:pt idx="76">
                  <c:v>-3.24</c:v>
                </c:pt>
                <c:pt idx="77">
                  <c:v>-3.23</c:v>
                </c:pt>
                <c:pt idx="78">
                  <c:v>-3.22</c:v>
                </c:pt>
                <c:pt idx="79">
                  <c:v>-3.21</c:v>
                </c:pt>
                <c:pt idx="80">
                  <c:v>-3.2</c:v>
                </c:pt>
                <c:pt idx="81">
                  <c:v>-3.19</c:v>
                </c:pt>
                <c:pt idx="82">
                  <c:v>-3.18</c:v>
                </c:pt>
                <c:pt idx="83">
                  <c:v>-3.17</c:v>
                </c:pt>
                <c:pt idx="84">
                  <c:v>-3.16</c:v>
                </c:pt>
                <c:pt idx="85">
                  <c:v>-3.15</c:v>
                </c:pt>
                <c:pt idx="86">
                  <c:v>-3.14</c:v>
                </c:pt>
                <c:pt idx="87">
                  <c:v>-3.13</c:v>
                </c:pt>
                <c:pt idx="88">
                  <c:v>-3.12</c:v>
                </c:pt>
                <c:pt idx="89">
                  <c:v>-3.11</c:v>
                </c:pt>
                <c:pt idx="90">
                  <c:v>-3.1</c:v>
                </c:pt>
                <c:pt idx="91">
                  <c:v>-3.09</c:v>
                </c:pt>
                <c:pt idx="92">
                  <c:v>-3.08</c:v>
                </c:pt>
                <c:pt idx="93">
                  <c:v>-3.07</c:v>
                </c:pt>
                <c:pt idx="94">
                  <c:v>-3.06</c:v>
                </c:pt>
                <c:pt idx="95">
                  <c:v>-3.05</c:v>
                </c:pt>
                <c:pt idx="96">
                  <c:v>-3.04</c:v>
                </c:pt>
                <c:pt idx="97">
                  <c:v>-3.03</c:v>
                </c:pt>
                <c:pt idx="98">
                  <c:v>-3.02</c:v>
                </c:pt>
                <c:pt idx="99">
                  <c:v>-3.01</c:v>
                </c:pt>
                <c:pt idx="100">
                  <c:v>-3</c:v>
                </c:pt>
                <c:pt idx="101">
                  <c:v>-2.99</c:v>
                </c:pt>
                <c:pt idx="102">
                  <c:v>-2.98</c:v>
                </c:pt>
                <c:pt idx="103">
                  <c:v>-2.97</c:v>
                </c:pt>
                <c:pt idx="104">
                  <c:v>-2.96</c:v>
                </c:pt>
                <c:pt idx="105">
                  <c:v>-2.95</c:v>
                </c:pt>
                <c:pt idx="106">
                  <c:v>-2.94</c:v>
                </c:pt>
                <c:pt idx="107">
                  <c:v>-2.93</c:v>
                </c:pt>
                <c:pt idx="108">
                  <c:v>-2.92</c:v>
                </c:pt>
                <c:pt idx="109">
                  <c:v>-2.91</c:v>
                </c:pt>
                <c:pt idx="110">
                  <c:v>-2.9</c:v>
                </c:pt>
                <c:pt idx="111">
                  <c:v>-2.89</c:v>
                </c:pt>
                <c:pt idx="112">
                  <c:v>-2.88</c:v>
                </c:pt>
                <c:pt idx="113">
                  <c:v>-2.87</c:v>
                </c:pt>
                <c:pt idx="114">
                  <c:v>-2.86</c:v>
                </c:pt>
                <c:pt idx="115">
                  <c:v>-2.85</c:v>
                </c:pt>
                <c:pt idx="116">
                  <c:v>-2.84</c:v>
                </c:pt>
                <c:pt idx="117">
                  <c:v>-2.83</c:v>
                </c:pt>
                <c:pt idx="118">
                  <c:v>-2.82</c:v>
                </c:pt>
                <c:pt idx="119">
                  <c:v>-2.81</c:v>
                </c:pt>
                <c:pt idx="120">
                  <c:v>-2.8</c:v>
                </c:pt>
                <c:pt idx="121">
                  <c:v>-2.79</c:v>
                </c:pt>
                <c:pt idx="122">
                  <c:v>-2.78</c:v>
                </c:pt>
                <c:pt idx="123">
                  <c:v>-2.77</c:v>
                </c:pt>
                <c:pt idx="124">
                  <c:v>-2.76</c:v>
                </c:pt>
                <c:pt idx="125">
                  <c:v>-2.75</c:v>
                </c:pt>
                <c:pt idx="126">
                  <c:v>-2.74</c:v>
                </c:pt>
                <c:pt idx="127">
                  <c:v>-2.73</c:v>
                </c:pt>
                <c:pt idx="128">
                  <c:v>-2.72</c:v>
                </c:pt>
                <c:pt idx="129">
                  <c:v>-2.71</c:v>
                </c:pt>
                <c:pt idx="130">
                  <c:v>-2.7</c:v>
                </c:pt>
                <c:pt idx="131">
                  <c:v>-2.69</c:v>
                </c:pt>
                <c:pt idx="132">
                  <c:v>-2.68</c:v>
                </c:pt>
                <c:pt idx="133">
                  <c:v>-2.67</c:v>
                </c:pt>
                <c:pt idx="134">
                  <c:v>-2.66</c:v>
                </c:pt>
                <c:pt idx="135">
                  <c:v>-2.65</c:v>
                </c:pt>
                <c:pt idx="136">
                  <c:v>-2.64</c:v>
                </c:pt>
                <c:pt idx="137">
                  <c:v>-2.63</c:v>
                </c:pt>
                <c:pt idx="138">
                  <c:v>-2.62</c:v>
                </c:pt>
                <c:pt idx="139">
                  <c:v>-2.61</c:v>
                </c:pt>
                <c:pt idx="140">
                  <c:v>-2.6</c:v>
                </c:pt>
                <c:pt idx="141">
                  <c:v>-2.59</c:v>
                </c:pt>
                <c:pt idx="142">
                  <c:v>-2.58</c:v>
                </c:pt>
                <c:pt idx="143">
                  <c:v>-2.57</c:v>
                </c:pt>
                <c:pt idx="144">
                  <c:v>-2.56</c:v>
                </c:pt>
                <c:pt idx="145">
                  <c:v>-2.55</c:v>
                </c:pt>
                <c:pt idx="146">
                  <c:v>-2.54</c:v>
                </c:pt>
                <c:pt idx="147">
                  <c:v>-2.53</c:v>
                </c:pt>
                <c:pt idx="148">
                  <c:v>-2.52</c:v>
                </c:pt>
                <c:pt idx="149">
                  <c:v>-2.51</c:v>
                </c:pt>
                <c:pt idx="150">
                  <c:v>-2.5</c:v>
                </c:pt>
                <c:pt idx="151">
                  <c:v>-2.49</c:v>
                </c:pt>
                <c:pt idx="152">
                  <c:v>-2.48</c:v>
                </c:pt>
                <c:pt idx="153">
                  <c:v>-2.47</c:v>
                </c:pt>
                <c:pt idx="154">
                  <c:v>-2.46</c:v>
                </c:pt>
                <c:pt idx="155">
                  <c:v>-2.45</c:v>
                </c:pt>
                <c:pt idx="156">
                  <c:v>-2.44</c:v>
                </c:pt>
                <c:pt idx="157">
                  <c:v>-2.43</c:v>
                </c:pt>
                <c:pt idx="158">
                  <c:v>-2.42</c:v>
                </c:pt>
                <c:pt idx="159">
                  <c:v>-2.41</c:v>
                </c:pt>
                <c:pt idx="160">
                  <c:v>-2.4</c:v>
                </c:pt>
                <c:pt idx="161">
                  <c:v>-2.39</c:v>
                </c:pt>
                <c:pt idx="162">
                  <c:v>-2.38</c:v>
                </c:pt>
                <c:pt idx="163">
                  <c:v>-2.37</c:v>
                </c:pt>
                <c:pt idx="164">
                  <c:v>-2.36</c:v>
                </c:pt>
                <c:pt idx="165">
                  <c:v>-2.35</c:v>
                </c:pt>
                <c:pt idx="166">
                  <c:v>-2.34</c:v>
                </c:pt>
                <c:pt idx="167">
                  <c:v>-2.33</c:v>
                </c:pt>
                <c:pt idx="168">
                  <c:v>-2.32</c:v>
                </c:pt>
                <c:pt idx="169">
                  <c:v>-2.31</c:v>
                </c:pt>
                <c:pt idx="170">
                  <c:v>-2.3</c:v>
                </c:pt>
                <c:pt idx="171">
                  <c:v>-2.29</c:v>
                </c:pt>
                <c:pt idx="172">
                  <c:v>-2.28</c:v>
                </c:pt>
                <c:pt idx="173">
                  <c:v>-2.27</c:v>
                </c:pt>
                <c:pt idx="174">
                  <c:v>-2.26</c:v>
                </c:pt>
                <c:pt idx="175">
                  <c:v>-2.25</c:v>
                </c:pt>
                <c:pt idx="176">
                  <c:v>-2.24</c:v>
                </c:pt>
                <c:pt idx="177">
                  <c:v>-2.23</c:v>
                </c:pt>
                <c:pt idx="178">
                  <c:v>-2.22</c:v>
                </c:pt>
                <c:pt idx="179">
                  <c:v>-2.21</c:v>
                </c:pt>
                <c:pt idx="180">
                  <c:v>-2.2</c:v>
                </c:pt>
                <c:pt idx="181">
                  <c:v>-2.19</c:v>
                </c:pt>
                <c:pt idx="182">
                  <c:v>-2.18</c:v>
                </c:pt>
                <c:pt idx="183">
                  <c:v>-2.17</c:v>
                </c:pt>
                <c:pt idx="184">
                  <c:v>-2.16</c:v>
                </c:pt>
                <c:pt idx="185">
                  <c:v>-2.15</c:v>
                </c:pt>
                <c:pt idx="186">
                  <c:v>-2.14</c:v>
                </c:pt>
                <c:pt idx="187">
                  <c:v>-2.13</c:v>
                </c:pt>
                <c:pt idx="188">
                  <c:v>-2.12</c:v>
                </c:pt>
                <c:pt idx="189">
                  <c:v>-2.11</c:v>
                </c:pt>
                <c:pt idx="190">
                  <c:v>-2.1</c:v>
                </c:pt>
                <c:pt idx="191">
                  <c:v>-2.09</c:v>
                </c:pt>
                <c:pt idx="192">
                  <c:v>-2.08</c:v>
                </c:pt>
                <c:pt idx="193">
                  <c:v>-2.07</c:v>
                </c:pt>
                <c:pt idx="194">
                  <c:v>-2.06</c:v>
                </c:pt>
                <c:pt idx="195">
                  <c:v>-2.05</c:v>
                </c:pt>
                <c:pt idx="196">
                  <c:v>-2.04</c:v>
                </c:pt>
                <c:pt idx="197">
                  <c:v>-2.03</c:v>
                </c:pt>
                <c:pt idx="198">
                  <c:v>-2.02</c:v>
                </c:pt>
                <c:pt idx="199">
                  <c:v>-2.01</c:v>
                </c:pt>
                <c:pt idx="200">
                  <c:v>-2</c:v>
                </c:pt>
                <c:pt idx="201">
                  <c:v>-1.99</c:v>
                </c:pt>
                <c:pt idx="202">
                  <c:v>-1.98</c:v>
                </c:pt>
                <c:pt idx="203">
                  <c:v>-1.97</c:v>
                </c:pt>
                <c:pt idx="204">
                  <c:v>-1.96</c:v>
                </c:pt>
                <c:pt idx="205">
                  <c:v>-1.95</c:v>
                </c:pt>
                <c:pt idx="206">
                  <c:v>-1.94</c:v>
                </c:pt>
                <c:pt idx="207">
                  <c:v>-1.93</c:v>
                </c:pt>
                <c:pt idx="208">
                  <c:v>-1.92</c:v>
                </c:pt>
                <c:pt idx="209">
                  <c:v>-1.91</c:v>
                </c:pt>
                <c:pt idx="210">
                  <c:v>-1.9</c:v>
                </c:pt>
                <c:pt idx="211">
                  <c:v>-1.89</c:v>
                </c:pt>
                <c:pt idx="212">
                  <c:v>-1.88</c:v>
                </c:pt>
                <c:pt idx="213">
                  <c:v>-1.87</c:v>
                </c:pt>
                <c:pt idx="214">
                  <c:v>-1.86</c:v>
                </c:pt>
                <c:pt idx="215">
                  <c:v>-1.85</c:v>
                </c:pt>
                <c:pt idx="216">
                  <c:v>-1.84</c:v>
                </c:pt>
                <c:pt idx="217">
                  <c:v>-1.83</c:v>
                </c:pt>
                <c:pt idx="218">
                  <c:v>-1.82</c:v>
                </c:pt>
                <c:pt idx="219">
                  <c:v>-1.81</c:v>
                </c:pt>
                <c:pt idx="220">
                  <c:v>-1.8</c:v>
                </c:pt>
                <c:pt idx="221">
                  <c:v>-1.79</c:v>
                </c:pt>
                <c:pt idx="222">
                  <c:v>-1.78</c:v>
                </c:pt>
                <c:pt idx="223">
                  <c:v>-1.77</c:v>
                </c:pt>
                <c:pt idx="224">
                  <c:v>-1.76</c:v>
                </c:pt>
                <c:pt idx="225">
                  <c:v>-1.75</c:v>
                </c:pt>
                <c:pt idx="226">
                  <c:v>-1.74</c:v>
                </c:pt>
                <c:pt idx="227">
                  <c:v>-1.73</c:v>
                </c:pt>
                <c:pt idx="228">
                  <c:v>-1.72</c:v>
                </c:pt>
                <c:pt idx="229">
                  <c:v>-1.71</c:v>
                </c:pt>
                <c:pt idx="230">
                  <c:v>-1.7</c:v>
                </c:pt>
                <c:pt idx="231">
                  <c:v>-1.69</c:v>
                </c:pt>
                <c:pt idx="232">
                  <c:v>-1.68</c:v>
                </c:pt>
                <c:pt idx="233">
                  <c:v>-1.67</c:v>
                </c:pt>
                <c:pt idx="234">
                  <c:v>-1.66</c:v>
                </c:pt>
                <c:pt idx="235">
                  <c:v>-1.65</c:v>
                </c:pt>
                <c:pt idx="236">
                  <c:v>-1.64</c:v>
                </c:pt>
                <c:pt idx="237">
                  <c:v>-1.63</c:v>
                </c:pt>
                <c:pt idx="238">
                  <c:v>-1.62</c:v>
                </c:pt>
                <c:pt idx="239">
                  <c:v>-1.61</c:v>
                </c:pt>
                <c:pt idx="240">
                  <c:v>-1.6</c:v>
                </c:pt>
                <c:pt idx="241">
                  <c:v>-1.59</c:v>
                </c:pt>
                <c:pt idx="242">
                  <c:v>-1.58</c:v>
                </c:pt>
                <c:pt idx="243">
                  <c:v>-1.57</c:v>
                </c:pt>
                <c:pt idx="244">
                  <c:v>-1.56</c:v>
                </c:pt>
                <c:pt idx="245">
                  <c:v>-1.55</c:v>
                </c:pt>
                <c:pt idx="246">
                  <c:v>-1.54</c:v>
                </c:pt>
                <c:pt idx="247">
                  <c:v>-1.53</c:v>
                </c:pt>
                <c:pt idx="248">
                  <c:v>-1.52</c:v>
                </c:pt>
                <c:pt idx="249">
                  <c:v>-1.51</c:v>
                </c:pt>
                <c:pt idx="250">
                  <c:v>-1.5</c:v>
                </c:pt>
                <c:pt idx="251">
                  <c:v>-1.49</c:v>
                </c:pt>
                <c:pt idx="252">
                  <c:v>-1.48</c:v>
                </c:pt>
                <c:pt idx="253">
                  <c:v>-1.47</c:v>
                </c:pt>
                <c:pt idx="254">
                  <c:v>-1.46</c:v>
                </c:pt>
                <c:pt idx="255">
                  <c:v>-1.45</c:v>
                </c:pt>
                <c:pt idx="256">
                  <c:v>-1.44</c:v>
                </c:pt>
                <c:pt idx="257">
                  <c:v>-1.43</c:v>
                </c:pt>
                <c:pt idx="258">
                  <c:v>-1.42</c:v>
                </c:pt>
                <c:pt idx="259">
                  <c:v>-1.41</c:v>
                </c:pt>
                <c:pt idx="260">
                  <c:v>-1.4</c:v>
                </c:pt>
                <c:pt idx="261">
                  <c:v>-1.39</c:v>
                </c:pt>
                <c:pt idx="262">
                  <c:v>-1.38</c:v>
                </c:pt>
                <c:pt idx="263">
                  <c:v>-1.37</c:v>
                </c:pt>
                <c:pt idx="264">
                  <c:v>-1.36</c:v>
                </c:pt>
                <c:pt idx="265">
                  <c:v>-1.35</c:v>
                </c:pt>
                <c:pt idx="266">
                  <c:v>-1.34</c:v>
                </c:pt>
                <c:pt idx="267">
                  <c:v>-1.33</c:v>
                </c:pt>
                <c:pt idx="268">
                  <c:v>-1.32</c:v>
                </c:pt>
                <c:pt idx="269">
                  <c:v>-1.31</c:v>
                </c:pt>
                <c:pt idx="270">
                  <c:v>-1.3</c:v>
                </c:pt>
                <c:pt idx="271">
                  <c:v>-1.29</c:v>
                </c:pt>
                <c:pt idx="272">
                  <c:v>-1.28</c:v>
                </c:pt>
                <c:pt idx="273">
                  <c:v>-1.27</c:v>
                </c:pt>
                <c:pt idx="274">
                  <c:v>-1.26</c:v>
                </c:pt>
                <c:pt idx="275">
                  <c:v>-1.25</c:v>
                </c:pt>
                <c:pt idx="276">
                  <c:v>-1.24</c:v>
                </c:pt>
                <c:pt idx="277">
                  <c:v>-1.23</c:v>
                </c:pt>
                <c:pt idx="278">
                  <c:v>-1.22</c:v>
                </c:pt>
                <c:pt idx="279">
                  <c:v>-1.21</c:v>
                </c:pt>
                <c:pt idx="280">
                  <c:v>-1.2</c:v>
                </c:pt>
                <c:pt idx="281">
                  <c:v>-1.19</c:v>
                </c:pt>
                <c:pt idx="282">
                  <c:v>-1.18</c:v>
                </c:pt>
                <c:pt idx="283">
                  <c:v>-1.17</c:v>
                </c:pt>
                <c:pt idx="284">
                  <c:v>-1.16</c:v>
                </c:pt>
                <c:pt idx="285">
                  <c:v>-1.15</c:v>
                </c:pt>
                <c:pt idx="286">
                  <c:v>-1.14</c:v>
                </c:pt>
                <c:pt idx="287">
                  <c:v>-1.13</c:v>
                </c:pt>
                <c:pt idx="288">
                  <c:v>-1.12</c:v>
                </c:pt>
                <c:pt idx="289">
                  <c:v>-1.11</c:v>
                </c:pt>
                <c:pt idx="290">
                  <c:v>-1.1</c:v>
                </c:pt>
                <c:pt idx="291">
                  <c:v>-1.09</c:v>
                </c:pt>
                <c:pt idx="292">
                  <c:v>-1.08</c:v>
                </c:pt>
                <c:pt idx="293">
                  <c:v>-1.07</c:v>
                </c:pt>
                <c:pt idx="294">
                  <c:v>-1.06</c:v>
                </c:pt>
                <c:pt idx="295">
                  <c:v>-1.05</c:v>
                </c:pt>
                <c:pt idx="296">
                  <c:v>-1.04</c:v>
                </c:pt>
                <c:pt idx="297">
                  <c:v>-1.03</c:v>
                </c:pt>
                <c:pt idx="298">
                  <c:v>-1.02</c:v>
                </c:pt>
                <c:pt idx="299">
                  <c:v>-1.01</c:v>
                </c:pt>
                <c:pt idx="300">
                  <c:v>-1</c:v>
                </c:pt>
                <c:pt idx="301">
                  <c:v>-0.99</c:v>
                </c:pt>
                <c:pt idx="302">
                  <c:v>-0.98</c:v>
                </c:pt>
                <c:pt idx="303">
                  <c:v>-0.97</c:v>
                </c:pt>
                <c:pt idx="304">
                  <c:v>-0.96</c:v>
                </c:pt>
                <c:pt idx="305">
                  <c:v>-0.95</c:v>
                </c:pt>
                <c:pt idx="306">
                  <c:v>-0.94</c:v>
                </c:pt>
                <c:pt idx="307">
                  <c:v>-0.93</c:v>
                </c:pt>
                <c:pt idx="308">
                  <c:v>-0.92</c:v>
                </c:pt>
                <c:pt idx="309">
                  <c:v>-0.91</c:v>
                </c:pt>
                <c:pt idx="310">
                  <c:v>-0.9</c:v>
                </c:pt>
                <c:pt idx="311">
                  <c:v>-0.89</c:v>
                </c:pt>
                <c:pt idx="312">
                  <c:v>-0.88</c:v>
                </c:pt>
                <c:pt idx="313">
                  <c:v>-0.87</c:v>
                </c:pt>
                <c:pt idx="314">
                  <c:v>-0.86</c:v>
                </c:pt>
                <c:pt idx="315">
                  <c:v>-0.85</c:v>
                </c:pt>
                <c:pt idx="316">
                  <c:v>-0.84</c:v>
                </c:pt>
                <c:pt idx="317">
                  <c:v>-0.83</c:v>
                </c:pt>
                <c:pt idx="318">
                  <c:v>-0.82</c:v>
                </c:pt>
                <c:pt idx="319">
                  <c:v>-0.81</c:v>
                </c:pt>
                <c:pt idx="320">
                  <c:v>-0.8</c:v>
                </c:pt>
                <c:pt idx="321">
                  <c:v>-0.79</c:v>
                </c:pt>
                <c:pt idx="322">
                  <c:v>-0.78</c:v>
                </c:pt>
                <c:pt idx="323">
                  <c:v>-0.77</c:v>
                </c:pt>
                <c:pt idx="324">
                  <c:v>-0.76</c:v>
                </c:pt>
                <c:pt idx="325">
                  <c:v>-0.75</c:v>
                </c:pt>
                <c:pt idx="326">
                  <c:v>-0.74</c:v>
                </c:pt>
                <c:pt idx="327">
                  <c:v>-0.73</c:v>
                </c:pt>
                <c:pt idx="328">
                  <c:v>-0.72</c:v>
                </c:pt>
                <c:pt idx="329">
                  <c:v>-0.71</c:v>
                </c:pt>
                <c:pt idx="330">
                  <c:v>-0.7</c:v>
                </c:pt>
                <c:pt idx="331">
                  <c:v>-0.69</c:v>
                </c:pt>
                <c:pt idx="332">
                  <c:v>-0.68</c:v>
                </c:pt>
                <c:pt idx="333">
                  <c:v>-0.67</c:v>
                </c:pt>
                <c:pt idx="334">
                  <c:v>-0.66</c:v>
                </c:pt>
                <c:pt idx="335">
                  <c:v>-0.65</c:v>
                </c:pt>
                <c:pt idx="336">
                  <c:v>-0.64</c:v>
                </c:pt>
                <c:pt idx="337">
                  <c:v>-0.63</c:v>
                </c:pt>
                <c:pt idx="338">
                  <c:v>-0.62</c:v>
                </c:pt>
                <c:pt idx="339">
                  <c:v>-0.61</c:v>
                </c:pt>
                <c:pt idx="340">
                  <c:v>-0.6</c:v>
                </c:pt>
                <c:pt idx="341">
                  <c:v>-0.59</c:v>
                </c:pt>
                <c:pt idx="342">
                  <c:v>-0.58</c:v>
                </c:pt>
                <c:pt idx="343">
                  <c:v>-0.57</c:v>
                </c:pt>
                <c:pt idx="344">
                  <c:v>-0.56</c:v>
                </c:pt>
                <c:pt idx="345">
                  <c:v>-0.55</c:v>
                </c:pt>
                <c:pt idx="346">
                  <c:v>-0.54</c:v>
                </c:pt>
                <c:pt idx="347">
                  <c:v>-0.53</c:v>
                </c:pt>
                <c:pt idx="348">
                  <c:v>-0.52</c:v>
                </c:pt>
                <c:pt idx="349">
                  <c:v>-0.51</c:v>
                </c:pt>
                <c:pt idx="350">
                  <c:v>-0.5</c:v>
                </c:pt>
                <c:pt idx="351">
                  <c:v>-0.49</c:v>
                </c:pt>
                <c:pt idx="352">
                  <c:v>-0.48</c:v>
                </c:pt>
                <c:pt idx="353">
                  <c:v>-0.47</c:v>
                </c:pt>
                <c:pt idx="354">
                  <c:v>-0.46</c:v>
                </c:pt>
                <c:pt idx="355">
                  <c:v>-0.45</c:v>
                </c:pt>
                <c:pt idx="356">
                  <c:v>-0.44</c:v>
                </c:pt>
                <c:pt idx="357">
                  <c:v>-0.43</c:v>
                </c:pt>
                <c:pt idx="358">
                  <c:v>-0.42</c:v>
                </c:pt>
                <c:pt idx="359">
                  <c:v>-0.41</c:v>
                </c:pt>
                <c:pt idx="360">
                  <c:v>-0.4</c:v>
                </c:pt>
                <c:pt idx="361">
                  <c:v>-0.39</c:v>
                </c:pt>
                <c:pt idx="362">
                  <c:v>-0.38</c:v>
                </c:pt>
                <c:pt idx="363">
                  <c:v>-0.37</c:v>
                </c:pt>
                <c:pt idx="364">
                  <c:v>-0.36</c:v>
                </c:pt>
                <c:pt idx="365">
                  <c:v>-0.35</c:v>
                </c:pt>
                <c:pt idx="366">
                  <c:v>-0.34</c:v>
                </c:pt>
                <c:pt idx="367">
                  <c:v>-0.33</c:v>
                </c:pt>
                <c:pt idx="368">
                  <c:v>-0.32</c:v>
                </c:pt>
                <c:pt idx="369">
                  <c:v>-0.31</c:v>
                </c:pt>
                <c:pt idx="370">
                  <c:v>-0.3</c:v>
                </c:pt>
                <c:pt idx="371">
                  <c:v>-0.29</c:v>
                </c:pt>
                <c:pt idx="372">
                  <c:v>-0.28</c:v>
                </c:pt>
                <c:pt idx="373">
                  <c:v>-0.27</c:v>
                </c:pt>
                <c:pt idx="374">
                  <c:v>-0.26</c:v>
                </c:pt>
                <c:pt idx="375">
                  <c:v>-0.25</c:v>
                </c:pt>
                <c:pt idx="376">
                  <c:v>-0.24</c:v>
                </c:pt>
                <c:pt idx="377">
                  <c:v>-0.23</c:v>
                </c:pt>
                <c:pt idx="378">
                  <c:v>-0.22</c:v>
                </c:pt>
                <c:pt idx="379">
                  <c:v>-0.21</c:v>
                </c:pt>
                <c:pt idx="380">
                  <c:v>-0.2</c:v>
                </c:pt>
                <c:pt idx="381">
                  <c:v>-0.19</c:v>
                </c:pt>
                <c:pt idx="382">
                  <c:v>-0.18</c:v>
                </c:pt>
                <c:pt idx="383">
                  <c:v>-0.17</c:v>
                </c:pt>
                <c:pt idx="384">
                  <c:v>-0.16</c:v>
                </c:pt>
                <c:pt idx="385">
                  <c:v>-0.15</c:v>
                </c:pt>
                <c:pt idx="386">
                  <c:v>-0.14</c:v>
                </c:pt>
                <c:pt idx="387">
                  <c:v>-0.13</c:v>
                </c:pt>
                <c:pt idx="388">
                  <c:v>-0.12</c:v>
                </c:pt>
                <c:pt idx="389">
                  <c:v>-0.11</c:v>
                </c:pt>
                <c:pt idx="390">
                  <c:v>-0.1</c:v>
                </c:pt>
                <c:pt idx="391">
                  <c:v>-0.0899999999999999</c:v>
                </c:pt>
                <c:pt idx="392">
                  <c:v>-0.0800000000000001</c:v>
                </c:pt>
                <c:pt idx="393">
                  <c:v>-0.0699999999999998</c:v>
                </c:pt>
                <c:pt idx="394">
                  <c:v>-0.0600000000000001</c:v>
                </c:pt>
                <c:pt idx="395">
                  <c:v>-0.0499999999999998</c:v>
                </c:pt>
                <c:pt idx="396">
                  <c:v>-0.04</c:v>
                </c:pt>
                <c:pt idx="397">
                  <c:v>-0.0299999999999998</c:v>
                </c:pt>
                <c:pt idx="398">
                  <c:v>-0.02</c:v>
                </c:pt>
                <c:pt idx="399">
                  <c:v>-0.00999999999999979</c:v>
                </c:pt>
                <c:pt idx="401">
                  <c:v>0.00999999999999979</c:v>
                </c:pt>
                <c:pt idx="402">
                  <c:v>0.0200000000000005</c:v>
                </c:pt>
                <c:pt idx="403">
                  <c:v>0.0300000000000003</c:v>
                </c:pt>
                <c:pt idx="404">
                  <c:v>0.04</c:v>
                </c:pt>
                <c:pt idx="405">
                  <c:v>0.0499999999999998</c:v>
                </c:pt>
                <c:pt idx="406">
                  <c:v>0.0600000000000005</c:v>
                </c:pt>
                <c:pt idx="407">
                  <c:v>0.0700000000000003</c:v>
                </c:pt>
                <c:pt idx="408">
                  <c:v>0.0800000000000001</c:v>
                </c:pt>
                <c:pt idx="409">
                  <c:v>0.0899999999999999</c:v>
                </c:pt>
                <c:pt idx="410">
                  <c:v>0.0999999999999996</c:v>
                </c:pt>
                <c:pt idx="411">
                  <c:v>0.11</c:v>
                </c:pt>
                <c:pt idx="412">
                  <c:v>0.12</c:v>
                </c:pt>
                <c:pt idx="413">
                  <c:v>0.13</c:v>
                </c:pt>
                <c:pt idx="414">
                  <c:v>0.14</c:v>
                </c:pt>
                <c:pt idx="415">
                  <c:v>0.15</c:v>
                </c:pt>
                <c:pt idx="416">
                  <c:v>0.16</c:v>
                </c:pt>
                <c:pt idx="417">
                  <c:v>0.17</c:v>
                </c:pt>
                <c:pt idx="418">
                  <c:v>0.18</c:v>
                </c:pt>
                <c:pt idx="419">
                  <c:v>0.19</c:v>
                </c:pt>
                <c:pt idx="420">
                  <c:v>0.2</c:v>
                </c:pt>
                <c:pt idx="421">
                  <c:v>0.21</c:v>
                </c:pt>
                <c:pt idx="422">
                  <c:v>0.22</c:v>
                </c:pt>
                <c:pt idx="423">
                  <c:v>0.23</c:v>
                </c:pt>
                <c:pt idx="424">
                  <c:v>0.24</c:v>
                </c:pt>
                <c:pt idx="425">
                  <c:v>0.25</c:v>
                </c:pt>
                <c:pt idx="426">
                  <c:v>0.26</c:v>
                </c:pt>
                <c:pt idx="427">
                  <c:v>0.27</c:v>
                </c:pt>
                <c:pt idx="428">
                  <c:v>0.28</c:v>
                </c:pt>
                <c:pt idx="429">
                  <c:v>0.29</c:v>
                </c:pt>
                <c:pt idx="430">
                  <c:v>0.3</c:v>
                </c:pt>
                <c:pt idx="431">
                  <c:v>0.310000000000001</c:v>
                </c:pt>
                <c:pt idx="432">
                  <c:v>0.32</c:v>
                </c:pt>
                <c:pt idx="433">
                  <c:v>0.33</c:v>
                </c:pt>
                <c:pt idx="434">
                  <c:v>0.34</c:v>
                </c:pt>
                <c:pt idx="435">
                  <c:v>0.350000000000001</c:v>
                </c:pt>
                <c:pt idx="436">
                  <c:v>0.36</c:v>
                </c:pt>
                <c:pt idx="437">
                  <c:v>0.37</c:v>
                </c:pt>
                <c:pt idx="438">
                  <c:v>0.38</c:v>
                </c:pt>
                <c:pt idx="439">
                  <c:v>0.39</c:v>
                </c:pt>
                <c:pt idx="440">
                  <c:v>0.4</c:v>
                </c:pt>
                <c:pt idx="441">
                  <c:v>0.41</c:v>
                </c:pt>
                <c:pt idx="442">
                  <c:v>0.42</c:v>
                </c:pt>
                <c:pt idx="443">
                  <c:v>0.43</c:v>
                </c:pt>
                <c:pt idx="444">
                  <c:v>0.44</c:v>
                </c:pt>
                <c:pt idx="445">
                  <c:v>0.45</c:v>
                </c:pt>
                <c:pt idx="446">
                  <c:v>0.46</c:v>
                </c:pt>
                <c:pt idx="447">
                  <c:v>0.47</c:v>
                </c:pt>
                <c:pt idx="448">
                  <c:v>0.48</c:v>
                </c:pt>
                <c:pt idx="449">
                  <c:v>0.49</c:v>
                </c:pt>
                <c:pt idx="450">
                  <c:v>0.5</c:v>
                </c:pt>
                <c:pt idx="451">
                  <c:v>0.51</c:v>
                </c:pt>
                <c:pt idx="452">
                  <c:v>0.520000000000001</c:v>
                </c:pt>
                <c:pt idx="453">
                  <c:v>0.53</c:v>
                </c:pt>
                <c:pt idx="454">
                  <c:v>0.54</c:v>
                </c:pt>
                <c:pt idx="455">
                  <c:v>0.55</c:v>
                </c:pt>
                <c:pt idx="456">
                  <c:v>0.560000000000001</c:v>
                </c:pt>
                <c:pt idx="457">
                  <c:v>0.57</c:v>
                </c:pt>
                <c:pt idx="458">
                  <c:v>0.58</c:v>
                </c:pt>
                <c:pt idx="459">
                  <c:v>0.59</c:v>
                </c:pt>
                <c:pt idx="460">
                  <c:v>0.600000000000001</c:v>
                </c:pt>
                <c:pt idx="461">
                  <c:v>0.61</c:v>
                </c:pt>
                <c:pt idx="462">
                  <c:v>0.62</c:v>
                </c:pt>
                <c:pt idx="463">
                  <c:v>0.63</c:v>
                </c:pt>
                <c:pt idx="464">
                  <c:v>0.64</c:v>
                </c:pt>
                <c:pt idx="465">
                  <c:v>0.65</c:v>
                </c:pt>
                <c:pt idx="466">
                  <c:v>0.66</c:v>
                </c:pt>
                <c:pt idx="467">
                  <c:v>0.67</c:v>
                </c:pt>
                <c:pt idx="468">
                  <c:v>0.68</c:v>
                </c:pt>
                <c:pt idx="469">
                  <c:v>0.69</c:v>
                </c:pt>
                <c:pt idx="470">
                  <c:v>0.7</c:v>
                </c:pt>
                <c:pt idx="471">
                  <c:v>0.71</c:v>
                </c:pt>
                <c:pt idx="472">
                  <c:v>0.72</c:v>
                </c:pt>
                <c:pt idx="473">
                  <c:v>0.73</c:v>
                </c:pt>
                <c:pt idx="474">
                  <c:v>0.74</c:v>
                </c:pt>
                <c:pt idx="475">
                  <c:v>0.75</c:v>
                </c:pt>
                <c:pt idx="476">
                  <c:v>0.76</c:v>
                </c:pt>
                <c:pt idx="477">
                  <c:v>0.770000000000001</c:v>
                </c:pt>
                <c:pt idx="478">
                  <c:v>0.78</c:v>
                </c:pt>
                <c:pt idx="479">
                  <c:v>0.79</c:v>
                </c:pt>
                <c:pt idx="480">
                  <c:v>0.8</c:v>
                </c:pt>
                <c:pt idx="481">
                  <c:v>0.810000000000001</c:v>
                </c:pt>
                <c:pt idx="482">
                  <c:v>0.82</c:v>
                </c:pt>
                <c:pt idx="483">
                  <c:v>0.83</c:v>
                </c:pt>
                <c:pt idx="484">
                  <c:v>0.84</c:v>
                </c:pt>
                <c:pt idx="485">
                  <c:v>0.850000000000001</c:v>
                </c:pt>
                <c:pt idx="486">
                  <c:v>0.86</c:v>
                </c:pt>
                <c:pt idx="487">
                  <c:v>0.87</c:v>
                </c:pt>
                <c:pt idx="488">
                  <c:v>0.88</c:v>
                </c:pt>
                <c:pt idx="489">
                  <c:v>0.89</c:v>
                </c:pt>
                <c:pt idx="490">
                  <c:v>0.9</c:v>
                </c:pt>
                <c:pt idx="491">
                  <c:v>0.91</c:v>
                </c:pt>
                <c:pt idx="492">
                  <c:v>0.92</c:v>
                </c:pt>
                <c:pt idx="493">
                  <c:v>0.93</c:v>
                </c:pt>
                <c:pt idx="494">
                  <c:v>0.94</c:v>
                </c:pt>
                <c:pt idx="495">
                  <c:v>0.95</c:v>
                </c:pt>
                <c:pt idx="496">
                  <c:v>0.96</c:v>
                </c:pt>
                <c:pt idx="497">
                  <c:v>0.97</c:v>
                </c:pt>
                <c:pt idx="498">
                  <c:v>0.98</c:v>
                </c:pt>
                <c:pt idx="499">
                  <c:v>0.99</c:v>
                </c:pt>
                <c:pt idx="500">
                  <c:v>1</c:v>
                </c:pt>
                <c:pt idx="501">
                  <c:v>1.01</c:v>
                </c:pt>
                <c:pt idx="502">
                  <c:v>1.02</c:v>
                </c:pt>
                <c:pt idx="503">
                  <c:v>1.03</c:v>
                </c:pt>
                <c:pt idx="504">
                  <c:v>1.04</c:v>
                </c:pt>
                <c:pt idx="505">
                  <c:v>1.05</c:v>
                </c:pt>
                <c:pt idx="506">
                  <c:v>1.06</c:v>
                </c:pt>
                <c:pt idx="507">
                  <c:v>1.07</c:v>
                </c:pt>
                <c:pt idx="508">
                  <c:v>1.08</c:v>
                </c:pt>
                <c:pt idx="509">
                  <c:v>1.09</c:v>
                </c:pt>
                <c:pt idx="510">
                  <c:v>1.1</c:v>
                </c:pt>
                <c:pt idx="511">
                  <c:v>1.11</c:v>
                </c:pt>
                <c:pt idx="512">
                  <c:v>1.12</c:v>
                </c:pt>
                <c:pt idx="513">
                  <c:v>1.13</c:v>
                </c:pt>
                <c:pt idx="514">
                  <c:v>1.14</c:v>
                </c:pt>
                <c:pt idx="515">
                  <c:v>1.15</c:v>
                </c:pt>
                <c:pt idx="516">
                  <c:v>1.16</c:v>
                </c:pt>
                <c:pt idx="517">
                  <c:v>1.17</c:v>
                </c:pt>
                <c:pt idx="518">
                  <c:v>1.18</c:v>
                </c:pt>
                <c:pt idx="519">
                  <c:v>1.19</c:v>
                </c:pt>
                <c:pt idx="520">
                  <c:v>1.2</c:v>
                </c:pt>
                <c:pt idx="521">
                  <c:v>1.21</c:v>
                </c:pt>
                <c:pt idx="522">
                  <c:v>1.22</c:v>
                </c:pt>
                <c:pt idx="523">
                  <c:v>1.23</c:v>
                </c:pt>
                <c:pt idx="524">
                  <c:v>1.24</c:v>
                </c:pt>
                <c:pt idx="525">
                  <c:v>1.25</c:v>
                </c:pt>
                <c:pt idx="526">
                  <c:v>1.26</c:v>
                </c:pt>
                <c:pt idx="527">
                  <c:v>1.27</c:v>
                </c:pt>
                <c:pt idx="528">
                  <c:v>1.28</c:v>
                </c:pt>
                <c:pt idx="529">
                  <c:v>1.29</c:v>
                </c:pt>
                <c:pt idx="530">
                  <c:v>1.3</c:v>
                </c:pt>
                <c:pt idx="531">
                  <c:v>1.31</c:v>
                </c:pt>
                <c:pt idx="532">
                  <c:v>1.32</c:v>
                </c:pt>
                <c:pt idx="533">
                  <c:v>1.33</c:v>
                </c:pt>
                <c:pt idx="534">
                  <c:v>1.34</c:v>
                </c:pt>
                <c:pt idx="535">
                  <c:v>1.35</c:v>
                </c:pt>
                <c:pt idx="536">
                  <c:v>1.36</c:v>
                </c:pt>
                <c:pt idx="537">
                  <c:v>1.37</c:v>
                </c:pt>
                <c:pt idx="538">
                  <c:v>1.38</c:v>
                </c:pt>
                <c:pt idx="539">
                  <c:v>1.39</c:v>
                </c:pt>
                <c:pt idx="540">
                  <c:v>1.4</c:v>
                </c:pt>
                <c:pt idx="541">
                  <c:v>1.41</c:v>
                </c:pt>
                <c:pt idx="542">
                  <c:v>1.42</c:v>
                </c:pt>
                <c:pt idx="543">
                  <c:v>1.43</c:v>
                </c:pt>
                <c:pt idx="544">
                  <c:v>1.44</c:v>
                </c:pt>
                <c:pt idx="545">
                  <c:v>1.45</c:v>
                </c:pt>
                <c:pt idx="546">
                  <c:v>1.46</c:v>
                </c:pt>
                <c:pt idx="547">
                  <c:v>1.47</c:v>
                </c:pt>
                <c:pt idx="548">
                  <c:v>1.48</c:v>
                </c:pt>
                <c:pt idx="549">
                  <c:v>1.49</c:v>
                </c:pt>
                <c:pt idx="550">
                  <c:v>1.5</c:v>
                </c:pt>
                <c:pt idx="551">
                  <c:v>1.51</c:v>
                </c:pt>
                <c:pt idx="552">
                  <c:v>1.52</c:v>
                </c:pt>
                <c:pt idx="553">
                  <c:v>1.53</c:v>
                </c:pt>
                <c:pt idx="554">
                  <c:v>1.54</c:v>
                </c:pt>
                <c:pt idx="555">
                  <c:v>1.55</c:v>
                </c:pt>
                <c:pt idx="556">
                  <c:v>1.56</c:v>
                </c:pt>
                <c:pt idx="557">
                  <c:v>1.57</c:v>
                </c:pt>
                <c:pt idx="558">
                  <c:v>1.58</c:v>
                </c:pt>
                <c:pt idx="559">
                  <c:v>1.59</c:v>
                </c:pt>
                <c:pt idx="560">
                  <c:v>1.6</c:v>
                </c:pt>
                <c:pt idx="561">
                  <c:v>1.61</c:v>
                </c:pt>
                <c:pt idx="562">
                  <c:v>1.62</c:v>
                </c:pt>
                <c:pt idx="563">
                  <c:v>1.63</c:v>
                </c:pt>
                <c:pt idx="564">
                  <c:v>1.64</c:v>
                </c:pt>
                <c:pt idx="565">
                  <c:v>1.65</c:v>
                </c:pt>
                <c:pt idx="566">
                  <c:v>1.66</c:v>
                </c:pt>
                <c:pt idx="567">
                  <c:v>1.67</c:v>
                </c:pt>
                <c:pt idx="568">
                  <c:v>1.68</c:v>
                </c:pt>
                <c:pt idx="569">
                  <c:v>1.69</c:v>
                </c:pt>
                <c:pt idx="570">
                  <c:v>1.7</c:v>
                </c:pt>
                <c:pt idx="571">
                  <c:v>1.71</c:v>
                </c:pt>
                <c:pt idx="572">
                  <c:v>1.72</c:v>
                </c:pt>
                <c:pt idx="573">
                  <c:v>1.73</c:v>
                </c:pt>
                <c:pt idx="574">
                  <c:v>1.74</c:v>
                </c:pt>
                <c:pt idx="575">
                  <c:v>1.75</c:v>
                </c:pt>
                <c:pt idx="576">
                  <c:v>1.76</c:v>
                </c:pt>
                <c:pt idx="577">
                  <c:v>1.77</c:v>
                </c:pt>
                <c:pt idx="578">
                  <c:v>1.78</c:v>
                </c:pt>
                <c:pt idx="579">
                  <c:v>1.79</c:v>
                </c:pt>
                <c:pt idx="580">
                  <c:v>1.8</c:v>
                </c:pt>
                <c:pt idx="581">
                  <c:v>1.81</c:v>
                </c:pt>
                <c:pt idx="582">
                  <c:v>1.82</c:v>
                </c:pt>
                <c:pt idx="583">
                  <c:v>1.83</c:v>
                </c:pt>
                <c:pt idx="584">
                  <c:v>1.84</c:v>
                </c:pt>
                <c:pt idx="585">
                  <c:v>1.85</c:v>
                </c:pt>
                <c:pt idx="586">
                  <c:v>1.86</c:v>
                </c:pt>
                <c:pt idx="587">
                  <c:v>1.87</c:v>
                </c:pt>
                <c:pt idx="588">
                  <c:v>1.88</c:v>
                </c:pt>
                <c:pt idx="589">
                  <c:v>1.89</c:v>
                </c:pt>
                <c:pt idx="590">
                  <c:v>1.9</c:v>
                </c:pt>
                <c:pt idx="591">
                  <c:v>1.91</c:v>
                </c:pt>
                <c:pt idx="592">
                  <c:v>1.92</c:v>
                </c:pt>
                <c:pt idx="593">
                  <c:v>1.93</c:v>
                </c:pt>
                <c:pt idx="594">
                  <c:v>1.94</c:v>
                </c:pt>
                <c:pt idx="595">
                  <c:v>1.95</c:v>
                </c:pt>
                <c:pt idx="596">
                  <c:v>1.96</c:v>
                </c:pt>
                <c:pt idx="597">
                  <c:v>1.97</c:v>
                </c:pt>
                <c:pt idx="598">
                  <c:v>1.98</c:v>
                </c:pt>
                <c:pt idx="599">
                  <c:v>1.99</c:v>
                </c:pt>
                <c:pt idx="600">
                  <c:v>2</c:v>
                </c:pt>
                <c:pt idx="601">
                  <c:v>2.01</c:v>
                </c:pt>
                <c:pt idx="602">
                  <c:v>2.02</c:v>
                </c:pt>
                <c:pt idx="603">
                  <c:v>2.03</c:v>
                </c:pt>
                <c:pt idx="604">
                  <c:v>2.04</c:v>
                </c:pt>
                <c:pt idx="605">
                  <c:v>2.05</c:v>
                </c:pt>
                <c:pt idx="606">
                  <c:v>2.06</c:v>
                </c:pt>
                <c:pt idx="607">
                  <c:v>2.07</c:v>
                </c:pt>
                <c:pt idx="608">
                  <c:v>2.08</c:v>
                </c:pt>
                <c:pt idx="609">
                  <c:v>2.09</c:v>
                </c:pt>
                <c:pt idx="610">
                  <c:v>2.1</c:v>
                </c:pt>
                <c:pt idx="611">
                  <c:v>2.11</c:v>
                </c:pt>
                <c:pt idx="612">
                  <c:v>2.12</c:v>
                </c:pt>
                <c:pt idx="613">
                  <c:v>2.13</c:v>
                </c:pt>
                <c:pt idx="614">
                  <c:v>2.14</c:v>
                </c:pt>
                <c:pt idx="615">
                  <c:v>2.15</c:v>
                </c:pt>
                <c:pt idx="616">
                  <c:v>2.16</c:v>
                </c:pt>
                <c:pt idx="617">
                  <c:v>2.17</c:v>
                </c:pt>
                <c:pt idx="618">
                  <c:v>2.18</c:v>
                </c:pt>
                <c:pt idx="619">
                  <c:v>2.19</c:v>
                </c:pt>
                <c:pt idx="620">
                  <c:v>2.2</c:v>
                </c:pt>
                <c:pt idx="621">
                  <c:v>2.21</c:v>
                </c:pt>
                <c:pt idx="622">
                  <c:v>2.22</c:v>
                </c:pt>
                <c:pt idx="623">
                  <c:v>2.23</c:v>
                </c:pt>
                <c:pt idx="624">
                  <c:v>2.24</c:v>
                </c:pt>
                <c:pt idx="625">
                  <c:v>2.25</c:v>
                </c:pt>
                <c:pt idx="626">
                  <c:v>2.26</c:v>
                </c:pt>
                <c:pt idx="627">
                  <c:v>2.27</c:v>
                </c:pt>
                <c:pt idx="628">
                  <c:v>2.28</c:v>
                </c:pt>
                <c:pt idx="629">
                  <c:v>2.29</c:v>
                </c:pt>
                <c:pt idx="630">
                  <c:v>2.3</c:v>
                </c:pt>
                <c:pt idx="631">
                  <c:v>2.31</c:v>
                </c:pt>
                <c:pt idx="632">
                  <c:v>2.32</c:v>
                </c:pt>
                <c:pt idx="633">
                  <c:v>2.33</c:v>
                </c:pt>
                <c:pt idx="634">
                  <c:v>2.34</c:v>
                </c:pt>
                <c:pt idx="635">
                  <c:v>2.35</c:v>
                </c:pt>
                <c:pt idx="636">
                  <c:v>2.36</c:v>
                </c:pt>
                <c:pt idx="637">
                  <c:v>2.37</c:v>
                </c:pt>
                <c:pt idx="638">
                  <c:v>2.38</c:v>
                </c:pt>
                <c:pt idx="639">
                  <c:v>2.39</c:v>
                </c:pt>
                <c:pt idx="640">
                  <c:v>2.4</c:v>
                </c:pt>
                <c:pt idx="641">
                  <c:v>2.41</c:v>
                </c:pt>
                <c:pt idx="642">
                  <c:v>2.42</c:v>
                </c:pt>
                <c:pt idx="643">
                  <c:v>2.43</c:v>
                </c:pt>
                <c:pt idx="644">
                  <c:v>2.44</c:v>
                </c:pt>
                <c:pt idx="645">
                  <c:v>2.45</c:v>
                </c:pt>
                <c:pt idx="646">
                  <c:v>2.46</c:v>
                </c:pt>
                <c:pt idx="647">
                  <c:v>2.47</c:v>
                </c:pt>
                <c:pt idx="648">
                  <c:v>2.48</c:v>
                </c:pt>
                <c:pt idx="649">
                  <c:v>2.49</c:v>
                </c:pt>
                <c:pt idx="650">
                  <c:v>2.5</c:v>
                </c:pt>
                <c:pt idx="651">
                  <c:v>2.51</c:v>
                </c:pt>
                <c:pt idx="652">
                  <c:v>2.52</c:v>
                </c:pt>
                <c:pt idx="653">
                  <c:v>2.53</c:v>
                </c:pt>
                <c:pt idx="654">
                  <c:v>2.54</c:v>
                </c:pt>
                <c:pt idx="655">
                  <c:v>2.55</c:v>
                </c:pt>
                <c:pt idx="656">
                  <c:v>2.56</c:v>
                </c:pt>
                <c:pt idx="657">
                  <c:v>2.57</c:v>
                </c:pt>
                <c:pt idx="658">
                  <c:v>2.58</c:v>
                </c:pt>
                <c:pt idx="659">
                  <c:v>2.59</c:v>
                </c:pt>
                <c:pt idx="660">
                  <c:v>2.6</c:v>
                </c:pt>
                <c:pt idx="661">
                  <c:v>2.61</c:v>
                </c:pt>
                <c:pt idx="662">
                  <c:v>2.62</c:v>
                </c:pt>
                <c:pt idx="663">
                  <c:v>2.63</c:v>
                </c:pt>
                <c:pt idx="664">
                  <c:v>2.64</c:v>
                </c:pt>
                <c:pt idx="665">
                  <c:v>2.65</c:v>
                </c:pt>
                <c:pt idx="666">
                  <c:v>2.66</c:v>
                </c:pt>
                <c:pt idx="667">
                  <c:v>2.67</c:v>
                </c:pt>
                <c:pt idx="668">
                  <c:v>2.68</c:v>
                </c:pt>
                <c:pt idx="669">
                  <c:v>2.69</c:v>
                </c:pt>
                <c:pt idx="670">
                  <c:v>2.7</c:v>
                </c:pt>
                <c:pt idx="671">
                  <c:v>2.71</c:v>
                </c:pt>
                <c:pt idx="672">
                  <c:v>2.72</c:v>
                </c:pt>
                <c:pt idx="673">
                  <c:v>2.73</c:v>
                </c:pt>
                <c:pt idx="674">
                  <c:v>2.74</c:v>
                </c:pt>
                <c:pt idx="675">
                  <c:v>2.75</c:v>
                </c:pt>
                <c:pt idx="676">
                  <c:v>2.76</c:v>
                </c:pt>
                <c:pt idx="677">
                  <c:v>2.77</c:v>
                </c:pt>
                <c:pt idx="678">
                  <c:v>2.78</c:v>
                </c:pt>
                <c:pt idx="679">
                  <c:v>2.79</c:v>
                </c:pt>
                <c:pt idx="680">
                  <c:v>2.8</c:v>
                </c:pt>
                <c:pt idx="681">
                  <c:v>2.81</c:v>
                </c:pt>
                <c:pt idx="682">
                  <c:v>2.82</c:v>
                </c:pt>
                <c:pt idx="683">
                  <c:v>2.83</c:v>
                </c:pt>
                <c:pt idx="684">
                  <c:v>2.84</c:v>
                </c:pt>
                <c:pt idx="685">
                  <c:v>2.85</c:v>
                </c:pt>
                <c:pt idx="686">
                  <c:v>2.86</c:v>
                </c:pt>
                <c:pt idx="687">
                  <c:v>2.87</c:v>
                </c:pt>
                <c:pt idx="688">
                  <c:v>2.88</c:v>
                </c:pt>
                <c:pt idx="689">
                  <c:v>2.89</c:v>
                </c:pt>
                <c:pt idx="690">
                  <c:v>2.9</c:v>
                </c:pt>
                <c:pt idx="691">
                  <c:v>2.91</c:v>
                </c:pt>
                <c:pt idx="692">
                  <c:v>2.92</c:v>
                </c:pt>
                <c:pt idx="693">
                  <c:v>2.93</c:v>
                </c:pt>
                <c:pt idx="694">
                  <c:v>2.94</c:v>
                </c:pt>
                <c:pt idx="695">
                  <c:v>2.95</c:v>
                </c:pt>
                <c:pt idx="696">
                  <c:v>2.96</c:v>
                </c:pt>
                <c:pt idx="697">
                  <c:v>2.97</c:v>
                </c:pt>
                <c:pt idx="698">
                  <c:v>2.98</c:v>
                </c:pt>
                <c:pt idx="699">
                  <c:v>2.99</c:v>
                </c:pt>
                <c:pt idx="700">
                  <c:v>3</c:v>
                </c:pt>
                <c:pt idx="701">
                  <c:v>3.01</c:v>
                </c:pt>
                <c:pt idx="702">
                  <c:v>3.02</c:v>
                </c:pt>
                <c:pt idx="703">
                  <c:v>3.03</c:v>
                </c:pt>
                <c:pt idx="704">
                  <c:v>3.04</c:v>
                </c:pt>
                <c:pt idx="705">
                  <c:v>3.05</c:v>
                </c:pt>
                <c:pt idx="706">
                  <c:v>3.06</c:v>
                </c:pt>
                <c:pt idx="707">
                  <c:v>3.07</c:v>
                </c:pt>
                <c:pt idx="708">
                  <c:v>3.08</c:v>
                </c:pt>
                <c:pt idx="709">
                  <c:v>3.09</c:v>
                </c:pt>
                <c:pt idx="710">
                  <c:v>3.1</c:v>
                </c:pt>
                <c:pt idx="711">
                  <c:v>3.11</c:v>
                </c:pt>
                <c:pt idx="712">
                  <c:v>3.12</c:v>
                </c:pt>
                <c:pt idx="713">
                  <c:v>3.13</c:v>
                </c:pt>
                <c:pt idx="714">
                  <c:v>3.14</c:v>
                </c:pt>
                <c:pt idx="715">
                  <c:v>3.15</c:v>
                </c:pt>
                <c:pt idx="716">
                  <c:v>3.16</c:v>
                </c:pt>
                <c:pt idx="717">
                  <c:v>3.17</c:v>
                </c:pt>
                <c:pt idx="718">
                  <c:v>3.18</c:v>
                </c:pt>
                <c:pt idx="719">
                  <c:v>3.19</c:v>
                </c:pt>
                <c:pt idx="720">
                  <c:v>3.2</c:v>
                </c:pt>
                <c:pt idx="721">
                  <c:v>3.21</c:v>
                </c:pt>
                <c:pt idx="722">
                  <c:v>3.22</c:v>
                </c:pt>
                <c:pt idx="723">
                  <c:v>3.23</c:v>
                </c:pt>
                <c:pt idx="724">
                  <c:v>3.24</c:v>
                </c:pt>
                <c:pt idx="725">
                  <c:v>3.25</c:v>
                </c:pt>
                <c:pt idx="726">
                  <c:v>3.26</c:v>
                </c:pt>
                <c:pt idx="727">
                  <c:v>3.27</c:v>
                </c:pt>
                <c:pt idx="728">
                  <c:v>3.28</c:v>
                </c:pt>
                <c:pt idx="729">
                  <c:v>3.29</c:v>
                </c:pt>
                <c:pt idx="730">
                  <c:v>3.3</c:v>
                </c:pt>
                <c:pt idx="731">
                  <c:v>3.31</c:v>
                </c:pt>
                <c:pt idx="732">
                  <c:v>3.32</c:v>
                </c:pt>
                <c:pt idx="733">
                  <c:v>3.33</c:v>
                </c:pt>
                <c:pt idx="734">
                  <c:v>3.34</c:v>
                </c:pt>
                <c:pt idx="735">
                  <c:v>3.35</c:v>
                </c:pt>
                <c:pt idx="736">
                  <c:v>3.36</c:v>
                </c:pt>
                <c:pt idx="737">
                  <c:v>3.37</c:v>
                </c:pt>
                <c:pt idx="738">
                  <c:v>3.38</c:v>
                </c:pt>
                <c:pt idx="739">
                  <c:v>3.39</c:v>
                </c:pt>
                <c:pt idx="740">
                  <c:v>3.4</c:v>
                </c:pt>
                <c:pt idx="741">
                  <c:v>3.41</c:v>
                </c:pt>
                <c:pt idx="742">
                  <c:v>3.42</c:v>
                </c:pt>
                <c:pt idx="743">
                  <c:v>3.43</c:v>
                </c:pt>
                <c:pt idx="744">
                  <c:v>3.44</c:v>
                </c:pt>
                <c:pt idx="745">
                  <c:v>3.45</c:v>
                </c:pt>
                <c:pt idx="746">
                  <c:v>3.46</c:v>
                </c:pt>
                <c:pt idx="747">
                  <c:v>3.47</c:v>
                </c:pt>
                <c:pt idx="748">
                  <c:v>3.48</c:v>
                </c:pt>
                <c:pt idx="749">
                  <c:v>3.49</c:v>
                </c:pt>
                <c:pt idx="750">
                  <c:v>3.5</c:v>
                </c:pt>
                <c:pt idx="751">
                  <c:v>3.51</c:v>
                </c:pt>
                <c:pt idx="752">
                  <c:v>3.52</c:v>
                </c:pt>
                <c:pt idx="753">
                  <c:v>3.53</c:v>
                </c:pt>
                <c:pt idx="754">
                  <c:v>3.54</c:v>
                </c:pt>
                <c:pt idx="755">
                  <c:v>3.55</c:v>
                </c:pt>
                <c:pt idx="756">
                  <c:v>3.56</c:v>
                </c:pt>
                <c:pt idx="757">
                  <c:v>3.57</c:v>
                </c:pt>
                <c:pt idx="758">
                  <c:v>3.58</c:v>
                </c:pt>
                <c:pt idx="759">
                  <c:v>3.59</c:v>
                </c:pt>
                <c:pt idx="760">
                  <c:v>3.6</c:v>
                </c:pt>
                <c:pt idx="761">
                  <c:v>3.61</c:v>
                </c:pt>
                <c:pt idx="762">
                  <c:v>3.62</c:v>
                </c:pt>
                <c:pt idx="763">
                  <c:v>3.63</c:v>
                </c:pt>
                <c:pt idx="764">
                  <c:v>3.64</c:v>
                </c:pt>
                <c:pt idx="765">
                  <c:v>3.65</c:v>
                </c:pt>
                <c:pt idx="766">
                  <c:v>3.66</c:v>
                </c:pt>
                <c:pt idx="767">
                  <c:v>3.67</c:v>
                </c:pt>
                <c:pt idx="768">
                  <c:v>3.68</c:v>
                </c:pt>
                <c:pt idx="769">
                  <c:v>3.69</c:v>
                </c:pt>
                <c:pt idx="770">
                  <c:v>3.7</c:v>
                </c:pt>
                <c:pt idx="771">
                  <c:v>3.71</c:v>
                </c:pt>
                <c:pt idx="772">
                  <c:v>3.72</c:v>
                </c:pt>
                <c:pt idx="773">
                  <c:v>3.73</c:v>
                </c:pt>
                <c:pt idx="774">
                  <c:v>3.74</c:v>
                </c:pt>
                <c:pt idx="775">
                  <c:v>3.75</c:v>
                </c:pt>
                <c:pt idx="776">
                  <c:v>3.76</c:v>
                </c:pt>
                <c:pt idx="777">
                  <c:v>3.77</c:v>
                </c:pt>
                <c:pt idx="778">
                  <c:v>3.78</c:v>
                </c:pt>
                <c:pt idx="779">
                  <c:v>3.79</c:v>
                </c:pt>
                <c:pt idx="780">
                  <c:v>3.8</c:v>
                </c:pt>
                <c:pt idx="781">
                  <c:v>3.81</c:v>
                </c:pt>
                <c:pt idx="782">
                  <c:v>3.82</c:v>
                </c:pt>
                <c:pt idx="783">
                  <c:v>3.83</c:v>
                </c:pt>
                <c:pt idx="784">
                  <c:v>3.84</c:v>
                </c:pt>
                <c:pt idx="785">
                  <c:v>3.85</c:v>
                </c:pt>
                <c:pt idx="786">
                  <c:v>3.86</c:v>
                </c:pt>
                <c:pt idx="787">
                  <c:v>3.87</c:v>
                </c:pt>
                <c:pt idx="788">
                  <c:v>3.88</c:v>
                </c:pt>
                <c:pt idx="789">
                  <c:v>3.89</c:v>
                </c:pt>
                <c:pt idx="790">
                  <c:v>3.9</c:v>
                </c:pt>
                <c:pt idx="791">
                  <c:v>3.91</c:v>
                </c:pt>
                <c:pt idx="792">
                  <c:v>3.92</c:v>
                </c:pt>
                <c:pt idx="793">
                  <c:v>3.93</c:v>
                </c:pt>
                <c:pt idx="794">
                  <c:v>3.94</c:v>
                </c:pt>
                <c:pt idx="795">
                  <c:v>3.95</c:v>
                </c:pt>
                <c:pt idx="796">
                  <c:v>3.96</c:v>
                </c:pt>
                <c:pt idx="797">
                  <c:v>3.97</c:v>
                </c:pt>
                <c:pt idx="798">
                  <c:v>3.98</c:v>
                </c:pt>
                <c:pt idx="799">
                  <c:v>3.99</c:v>
                </c:pt>
                <c:pt idx="800">
                  <c:v>4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801"/>
                <c:pt idx="0">
                  <c:v>0.00390625</c:v>
                </c:pt>
                <c:pt idx="1">
                  <c:v>0.00394555786669014</c:v>
                </c:pt>
                <c:pt idx="2">
                  <c:v>0.00398536141426298</c:v>
                </c:pt>
                <c:pt idx="3">
                  <c:v>0.00402566816244612</c:v>
                </c:pt>
                <c:pt idx="4">
                  <c:v>0.00406648576439538</c:v>
                </c:pt>
                <c:pt idx="5">
                  <c:v>0.00410782200940737</c:v>
                </c:pt>
                <c:pt idx="6">
                  <c:v>0.00414968482569432</c:v>
                </c:pt>
                <c:pt idx="7">
                  <c:v>0.00419208228322264</c:v>
                </c:pt>
                <c:pt idx="8">
                  <c:v>0.00423502259661695</c:v>
                </c:pt>
                <c:pt idx="9">
                  <c:v>0.0042785141281312</c:v>
                </c:pt>
                <c:pt idx="10">
                  <c:v>0.00432256539068859</c:v>
                </c:pt>
                <c:pt idx="11">
                  <c:v>0.00436718505099214</c:v>
                </c:pt>
                <c:pt idx="12">
                  <c:v>0.00441238193270767</c:v>
                </c:pt>
                <c:pt idx="13">
                  <c:v>0.00445816501972102</c:v>
                </c:pt>
                <c:pt idx="14">
                  <c:v>0.00450454345947169</c:v>
                </c:pt>
                <c:pt idx="15">
                  <c:v>0.00455152656636449</c:v>
                </c:pt>
                <c:pt idx="16">
                  <c:v>0.00459912382526162</c:v>
                </c:pt>
                <c:pt idx="17">
                  <c:v>0.00464734489505711</c:v>
                </c:pt>
                <c:pt idx="18">
                  <c:v>0.00469619961233571</c:v>
                </c:pt>
                <c:pt idx="19">
                  <c:v>0.00474569799511868</c:v>
                </c:pt>
                <c:pt idx="20">
                  <c:v>0.00479585024669854</c:v>
                </c:pt>
                <c:pt idx="21">
                  <c:v>0.00484666675956531</c:v>
                </c:pt>
                <c:pt idx="22">
                  <c:v>0.0048981581194266</c:v>
                </c:pt>
                <c:pt idx="23">
                  <c:v>0.00495033510932396</c:v>
                </c:pt>
                <c:pt idx="24">
                  <c:v>0.0050032087138483</c:v>
                </c:pt>
                <c:pt idx="25">
                  <c:v>0.00505679012345679</c:v>
                </c:pt>
                <c:pt idx="26">
                  <c:v>0.00511109073889404</c:v>
                </c:pt>
                <c:pt idx="27">
                  <c:v>0.00516612217572047</c:v>
                </c:pt>
                <c:pt idx="28">
                  <c:v>0.00522189626895061</c:v>
                </c:pt>
                <c:pt idx="29">
                  <c:v>0.00527842507780439</c:v>
                </c:pt>
                <c:pt idx="30">
                  <c:v>0.0053357208905745</c:v>
                </c:pt>
                <c:pt idx="31">
                  <c:v>0.00539379622961293</c:v>
                </c:pt>
                <c:pt idx="32">
                  <c:v>0.00545266385643991</c:v>
                </c:pt>
                <c:pt idx="33">
                  <c:v>0.00551233677697874</c:v>
                </c:pt>
                <c:pt idx="34">
                  <c:v>0.00557282824691981</c:v>
                </c:pt>
                <c:pt idx="35">
                  <c:v>0.00563415177721747</c:v>
                </c:pt>
                <c:pt idx="36">
                  <c:v>0.00569632113972329</c:v>
                </c:pt>
                <c:pt idx="37">
                  <c:v>0.00575935037295967</c:v>
                </c:pt>
                <c:pt idx="38">
                  <c:v>0.00582325378803754</c:v>
                </c:pt>
                <c:pt idx="39">
                  <c:v>0.00588804597472215</c:v>
                </c:pt>
                <c:pt idx="40">
                  <c:v>0.00595374180765127</c:v>
                </c:pt>
                <c:pt idx="41">
                  <c:v>0.00602035645270978</c:v>
                </c:pt>
                <c:pt idx="42">
                  <c:v>0.00608790537356527</c:v>
                </c:pt>
                <c:pt idx="43">
                  <c:v>0.00615640433836911</c:v>
                </c:pt>
                <c:pt idx="44">
                  <c:v>0.00622586942662759</c:v>
                </c:pt>
                <c:pt idx="45">
                  <c:v>0.00629631703624802</c:v>
                </c:pt>
                <c:pt idx="46">
                  <c:v>0.0063677638907647</c:v>
                </c:pt>
                <c:pt idx="47">
                  <c:v>0.00644022704675</c:v>
                </c:pt>
                <c:pt idx="48">
                  <c:v>0.00651372390141555</c:v>
                </c:pt>
                <c:pt idx="49">
                  <c:v>0.00658827220040937</c:v>
                </c:pt>
                <c:pt idx="50">
                  <c:v>0.00666389004581424</c:v>
                </c:pt>
                <c:pt idx="51">
                  <c:v>0.00674059590435322</c:v>
                </c:pt>
                <c:pt idx="52">
                  <c:v>0.00681840861580833</c:v>
                </c:pt>
                <c:pt idx="53">
                  <c:v>0.00689734740165851</c:v>
                </c:pt>
                <c:pt idx="54">
                  <c:v>0.00697743187394325</c:v>
                </c:pt>
                <c:pt idx="55">
                  <c:v>0.00705868204435843</c:v>
                </c:pt>
                <c:pt idx="56">
                  <c:v>0.00714111833359122</c:v>
                </c:pt>
                <c:pt idx="57">
                  <c:v>0.00722476158090089</c:v>
                </c:pt>
                <c:pt idx="58">
                  <c:v>0.00730963305395296</c:v>
                </c:pt>
                <c:pt idx="59">
                  <c:v>0.00739575445891399</c:v>
                </c:pt>
                <c:pt idx="60">
                  <c:v>0.00748314795081477</c:v>
                </c:pt>
                <c:pt idx="61">
                  <c:v>0.00757183614418983</c:v>
                </c:pt>
                <c:pt idx="62">
                  <c:v>0.00766184212400161</c:v>
                </c:pt>
                <c:pt idx="63">
                  <c:v>0.00775318945685748</c:v>
                </c:pt>
                <c:pt idx="64">
                  <c:v>0.00784590220252878</c:v>
                </c:pt>
                <c:pt idx="65">
                  <c:v>0.00794000492578056</c:v>
                </c:pt>
                <c:pt idx="66">
                  <c:v>0.00803552270852153</c:v>
                </c:pt>
                <c:pt idx="67">
                  <c:v>0.00813248116228395</c:v>
                </c:pt>
                <c:pt idx="68">
                  <c:v>0.00823090644104329</c:v>
                </c:pt>
                <c:pt idx="69">
                  <c:v>0.00833082525438801</c:v>
                </c:pt>
                <c:pt idx="70">
                  <c:v>0.00843226488105026</c:v>
                </c:pt>
                <c:pt idx="71">
                  <c:v>0.00853525318280827</c:v>
                </c:pt>
                <c:pt idx="72">
                  <c:v>0.00863981861877207</c:v>
                </c:pt>
                <c:pt idx="73">
                  <c:v>0.00874599026006416</c:v>
                </c:pt>
                <c:pt idx="74">
                  <c:v>0.00885379780490724</c:v>
                </c:pt>
                <c:pt idx="75">
                  <c:v>0.00896327159413186</c:v>
                </c:pt>
                <c:pt idx="76">
                  <c:v>0.00907444262711671</c:v>
                </c:pt>
                <c:pt idx="77">
                  <c:v>0.00918734257817514</c:v>
                </c:pt>
                <c:pt idx="78">
                  <c:v>0.00930200381340186</c:v>
                </c:pt>
                <c:pt idx="79">
                  <c:v>0.00941845940799414</c:v>
                </c:pt>
                <c:pt idx="80">
                  <c:v>0.0095367431640625</c:v>
                </c:pt>
                <c:pt idx="81">
                  <c:v>0.00965688962894622</c:v>
                </c:pt>
                <c:pt idx="82">
                  <c:v>0.00977893411404964</c:v>
                </c:pt>
                <c:pt idx="83">
                  <c:v>0.00990291271421586</c:v>
                </c:pt>
                <c:pt idx="84">
                  <c:v>0.0100288623276547</c:v>
                </c:pt>
                <c:pt idx="85">
                  <c:v>0.010156820676443</c:v>
                </c:pt>
                <c:pt idx="86">
                  <c:v>0.0102868263276148</c:v>
                </c:pt>
                <c:pt idx="87">
                  <c:v>0.0104189187148616</c:v>
                </c:pt>
                <c:pt idx="88">
                  <c:v>0.0105531381608608</c:v>
                </c:pt>
                <c:pt idx="89">
                  <c:v>0.0106895259002542</c:v>
                </c:pt>
                <c:pt idx="90">
                  <c:v>0.010828124103296</c:v>
                </c:pt>
                <c:pt idx="91">
                  <c:v>0.0109689759001937</c:v>
                </c:pt>
                <c:pt idx="92">
                  <c:v>0.0111121254061633</c:v>
                </c:pt>
                <c:pt idx="93">
                  <c:v>0.0112576177472226</c:v>
                </c:pt>
                <c:pt idx="94">
                  <c:v>0.0114054990867471</c:v>
                </c:pt>
                <c:pt idx="95">
                  <c:v>0.0115558166528129</c:v>
                </c:pt>
                <c:pt idx="96">
                  <c:v>0.0117086187663538</c:v>
                </c:pt>
                <c:pt idx="97">
                  <c:v>0.0118639548701582</c:v>
                </c:pt>
                <c:pt idx="98">
                  <c:v>0.0120218755587347</c:v>
                </c:pt>
                <c:pt idx="99">
                  <c:v>0.0121824326090752</c:v>
                </c:pt>
                <c:pt idx="100">
                  <c:v>0.0123456790123457</c:v>
                </c:pt>
                <c:pt idx="101">
                  <c:v>0.012511669006535</c:v>
                </c:pt>
                <c:pt idx="102">
                  <c:v>0.0126804581100955</c:v>
                </c:pt>
                <c:pt idx="103">
                  <c:v>0.0128521031566076</c:v>
                </c:pt>
                <c:pt idx="104">
                  <c:v>0.0130266623305042</c:v>
                </c:pt>
                <c:pt idx="105">
                  <c:v>0.0132041952038897</c:v>
                </c:pt>
                <c:pt idx="106">
                  <c:v>0.0133847627744931</c:v>
                </c:pt>
                <c:pt idx="107">
                  <c:v>0.0135684275047916</c:v>
                </c:pt>
                <c:pt idx="108">
                  <c:v>0.0137552533623473</c:v>
                </c:pt>
                <c:pt idx="109">
                  <c:v>0.0139453058613971</c:v>
                </c:pt>
                <c:pt idx="110">
                  <c:v>0.0141386521057402</c:v>
                </c:pt>
                <c:pt idx="111">
                  <c:v>0.0143353608329685</c:v>
                </c:pt>
                <c:pt idx="112">
                  <c:v>0.0145355024600861</c:v>
                </c:pt>
                <c:pt idx="113">
                  <c:v>0.0147391491305666</c:v>
                </c:pt>
                <c:pt idx="114">
                  <c:v>0.0149463747628994</c:v>
                </c:pt>
                <c:pt idx="115">
                  <c:v>0.0151572551006769</c:v>
                </c:pt>
                <c:pt idx="116">
                  <c:v>0.0153718677642774</c:v>
                </c:pt>
                <c:pt idx="117">
                  <c:v>0.0155902923042004</c:v>
                </c:pt>
                <c:pt idx="118">
                  <c:v>0.0158126102561132</c:v>
                </c:pt>
                <c:pt idx="119">
                  <c:v>0.0160389051976692</c:v>
                </c:pt>
                <c:pt idx="120">
                  <c:v>0.0162692628071637</c:v>
                </c:pt>
                <c:pt idx="121">
                  <c:v>0.0165037709240908</c:v>
                </c:pt>
                <c:pt idx="122">
                  <c:v>0.0167425196116718</c:v>
                </c:pt>
                <c:pt idx="123">
                  <c:v>0.0169856012214262</c:v>
                </c:pt>
                <c:pt idx="124">
                  <c:v>0.0172331104598595</c:v>
                </c:pt>
                <c:pt idx="125">
                  <c:v>0.0174851444573458</c:v>
                </c:pt>
                <c:pt idx="126">
                  <c:v>0.0177418028392851</c:v>
                </c:pt>
                <c:pt idx="127">
                  <c:v>0.0180031877996193</c:v>
                </c:pt>
                <c:pt idx="128">
                  <c:v>0.0182694041767939</c:v>
                </c:pt>
                <c:pt idx="129">
                  <c:v>0.018540559532257</c:v>
                </c:pt>
                <c:pt idx="130">
                  <c:v>0.0188167642315892</c:v>
                </c:pt>
                <c:pt idx="131">
                  <c:v>0.0190981315283624</c:v>
                </c:pt>
                <c:pt idx="132">
                  <c:v>0.0193847776508314</c:v>
                </c:pt>
                <c:pt idx="133">
                  <c:v>0.0196768218915637</c:v>
                </c:pt>
                <c:pt idx="134">
                  <c:v>0.0199743867001189</c:v>
                </c:pt>
                <c:pt idx="135">
                  <c:v>0.0202775977788933</c:v>
                </c:pt>
                <c:pt idx="136">
                  <c:v>0.0205865841822516</c:v>
                </c:pt>
                <c:pt idx="137">
                  <c:v>0.0209014784190686</c:v>
                </c:pt>
                <c:pt idx="138">
                  <c:v>0.0212224165588146</c:v>
                </c:pt>
                <c:pt idx="139">
                  <c:v>0.0215495383413202</c:v>
                </c:pt>
                <c:pt idx="140">
                  <c:v>0.021882987290361</c:v>
                </c:pt>
                <c:pt idx="141">
                  <c:v>0.0222229108312141</c:v>
                </c:pt>
                <c:pt idx="142">
                  <c:v>0.0225694604123377</c:v>
                </c:pt>
                <c:pt idx="143">
                  <c:v>0.0229227916313374</c:v>
                </c:pt>
                <c:pt idx="144">
                  <c:v>0.023283064365387</c:v>
                </c:pt>
                <c:pt idx="145">
                  <c:v>0.0236504429062788</c:v>
                </c:pt>
                <c:pt idx="146">
                  <c:v>0.0240250961002883</c:v>
                </c:pt>
                <c:pt idx="147">
                  <c:v>0.0244071974930432</c:v>
                </c:pt>
                <c:pt idx="148">
                  <c:v>0.0247969254795971</c:v>
                </c:pt>
                <c:pt idx="149">
                  <c:v>0.0251944634599168</c:v>
                </c:pt>
                <c:pt idx="150">
                  <c:v>0.0256</c:v>
                </c:pt>
                <c:pt idx="151">
                  <c:v>0.0260137289988529</c:v>
                </c:pt>
                <c:pt idx="152">
                  <c:v>0.0264358498615624</c:v>
                </c:pt>
                <c:pt idx="153">
                  <c:v>0.0268665676787146</c:v>
                </c:pt>
                <c:pt idx="154">
                  <c:v>0.0273060934124155</c:v>
                </c:pt>
                <c:pt idx="155">
                  <c:v>0.0277546440891888</c:v>
                </c:pt>
                <c:pt idx="156">
                  <c:v>0.0282124430000316</c:v>
                </c:pt>
                <c:pt idx="157">
                  <c:v>0.0286797199079244</c:v>
                </c:pt>
                <c:pt idx="158">
                  <c:v>0.0291567112631083</c:v>
                </c:pt>
                <c:pt idx="159">
                  <c:v>0.0296436604264498</c:v>
                </c:pt>
                <c:pt idx="160">
                  <c:v>0.0301408179012346</c:v>
                </c:pt>
                <c:pt idx="161">
                  <c:v>0.0306484415737454</c:v>
                </c:pt>
                <c:pt idx="162">
                  <c:v>0.0311667969629936</c:v>
                </c:pt>
                <c:pt idx="163">
                  <c:v>0.0316961574799952</c:v>
                </c:pt>
                <c:pt idx="164">
                  <c:v>0.0322368046969963</c:v>
                </c:pt>
                <c:pt idx="165">
                  <c:v>0.0327890286270763</c:v>
                </c:pt>
                <c:pt idx="166">
                  <c:v>0.0333531280145725</c:v>
                </c:pt>
                <c:pt idx="167">
                  <c:v>0.0339294106367965</c:v>
                </c:pt>
                <c:pt idx="168">
                  <c:v>0.0345181936175297</c:v>
                </c:pt>
                <c:pt idx="169">
                  <c:v>0.0351198037528124</c:v>
                </c:pt>
                <c:pt idx="170">
                  <c:v>0.0357345778495646</c:v>
                </c:pt>
                <c:pt idx="171">
                  <c:v>0.0363628630776016</c:v>
                </c:pt>
                <c:pt idx="172">
                  <c:v>0.0370050173356368</c:v>
                </c:pt>
                <c:pt idx="173">
                  <c:v>0.0376614096318914</c:v>
                </c:pt>
                <c:pt idx="174">
                  <c:v>0.0383324204799611</c:v>
                </c:pt>
                <c:pt idx="175">
                  <c:v>0.0390184423106234</c:v>
                </c:pt>
                <c:pt idx="176">
                  <c:v>0.039719879900302</c:v>
                </c:pt>
                <c:pt idx="177">
                  <c:v>0.0404371508169384</c:v>
                </c:pt>
                <c:pt idx="178">
                  <c:v>0.0411706858840625</c:v>
                </c:pt>
                <c:pt idx="179">
                  <c:v>0.04192092966389</c:v>
                </c:pt>
                <c:pt idx="180">
                  <c:v>0.0426883409603169</c:v>
                </c:pt>
                <c:pt idx="181">
                  <c:v>0.0434733933427274</c:v>
                </c:pt>
                <c:pt idx="182">
                  <c:v>0.0442765756915748</c:v>
                </c:pt>
                <c:pt idx="183">
                  <c:v>0.0450983927667471</c:v>
                </c:pt>
                <c:pt idx="184">
                  <c:v>0.0459393657997783</c:v>
                </c:pt>
                <c:pt idx="185">
                  <c:v>0.0468000331110234</c:v>
                </c:pt>
                <c:pt idx="186">
                  <c:v>0.0476809507529704</c:v>
                </c:pt>
                <c:pt idx="187">
                  <c:v>0.0485826931809261</c:v>
                </c:pt>
                <c:pt idx="188">
                  <c:v>0.0495058539523763</c:v>
                </c:pt>
                <c:pt idx="189">
                  <c:v>0.0504510464563876</c:v>
                </c:pt>
                <c:pt idx="190">
                  <c:v>0.0514189046744927</c:v>
                </c:pt>
                <c:pt idx="191">
                  <c:v>0.0524100839745759</c:v>
                </c:pt>
                <c:pt idx="192">
                  <c:v>0.0534252619393579</c:v>
                </c:pt>
                <c:pt idx="193">
                  <c:v>0.0544651392311607</c:v>
                </c:pt>
                <c:pt idx="194">
                  <c:v>0.0555304404947306</c:v>
                </c:pt>
                <c:pt idx="195">
                  <c:v>0.0566219152999847</c:v>
                </c:pt>
                <c:pt idx="196">
                  <c:v>0.0577403391266571</c:v>
                </c:pt>
                <c:pt idx="197">
                  <c:v>0.0588865143929202</c:v>
                </c:pt>
                <c:pt idx="198">
                  <c:v>0.060061271530176</c:v>
                </c:pt>
                <c:pt idx="199">
                  <c:v>0.0612654701063315</c:v>
                </c:pt>
                <c:pt idx="201">
                  <c:v>0.0637657826282077</c:v>
                </c:pt>
                <c:pt idx="202">
                  <c:v>0.0650637722303261</c:v>
                </c:pt>
                <c:pt idx="203">
                  <c:v>0.0663949572111092</c:v>
                </c:pt>
                <c:pt idx="204">
                  <c:v>0.0677603615458712</c:v>
                </c:pt>
                <c:pt idx="205">
                  <c:v>0.0691610462510174</c:v>
                </c:pt>
                <c:pt idx="206">
                  <c:v>0.0705981109233227</c:v>
                </c:pt>
                <c:pt idx="207">
                  <c:v>0.072072695351547</c:v>
                </c:pt>
                <c:pt idx="208">
                  <c:v>0.073585981204186</c:v>
                </c:pt>
                <c:pt idx="209">
                  <c:v>0.0751391937973713</c:v>
                </c:pt>
                <c:pt idx="210">
                  <c:v>0.0767336039471766</c:v>
                </c:pt>
                <c:pt idx="211">
                  <c:v>0.0783705299108255</c:v>
                </c:pt>
                <c:pt idx="212">
                  <c:v>0.0800513394215729</c:v>
                </c:pt>
                <c:pt idx="213">
                  <c:v>0.0817774518223046</c:v>
                </c:pt>
                <c:pt idx="214">
                  <c:v>0.0835503403032097</c:v>
                </c:pt>
                <c:pt idx="215">
                  <c:v>0.085371534249192</c:v>
                </c:pt>
                <c:pt idx="216">
                  <c:v>0.0872426217030385</c:v>
                </c:pt>
                <c:pt idx="217">
                  <c:v>0.089165251950717</c:v>
                </c:pt>
                <c:pt idx="218">
                  <c:v>0.0911411382355726</c:v>
                </c:pt>
                <c:pt idx="219">
                  <c:v>0.0931720606086006</c:v>
                </c:pt>
                <c:pt idx="220">
                  <c:v>0.0952598689224204</c:v>
                </c:pt>
                <c:pt idx="221">
                  <c:v>0.0974064859770443</c:v>
                </c:pt>
                <c:pt idx="222">
                  <c:v>0.0996139108260415</c:v>
                </c:pt>
                <c:pt idx="223">
                  <c:v>0.101884222252235</c:v>
                </c:pt>
                <c:pt idx="224">
                  <c:v>0.104219582422649</c:v>
                </c:pt>
                <c:pt idx="225">
                  <c:v>0.106622240733028</c:v>
                </c:pt>
                <c:pt idx="226">
                  <c:v>0.109094537852933</c:v>
                </c:pt>
                <c:pt idx="227">
                  <c:v>0.111638909983092</c:v>
                </c:pt>
                <c:pt idx="228">
                  <c:v>0.11425789333746</c:v>
                </c:pt>
                <c:pt idx="229">
                  <c:v>0.116954128863247</c:v>
                </c:pt>
                <c:pt idx="230">
                  <c:v>0.119730367213036</c:v>
                </c:pt>
                <c:pt idx="231">
                  <c:v>0.122589473984026</c:v>
                </c:pt>
                <c:pt idx="232">
                  <c:v>0.12553443524046</c:v>
                </c:pt>
                <c:pt idx="233">
                  <c:v>0.128568363336344</c:v>
                </c:pt>
                <c:pt idx="234">
                  <c:v>0.131694503056693</c:v>
                </c:pt>
                <c:pt idx="235">
                  <c:v>0.134916238096804</c:v>
                </c:pt>
                <c:pt idx="236">
                  <c:v>0.138237097900353</c:v>
                </c:pt>
                <c:pt idx="237">
                  <c:v>0.141660764878516</c:v>
                </c:pt>
                <c:pt idx="238">
                  <c:v>0.145191082033867</c:v>
                </c:pt>
                <c:pt idx="239">
                  <c:v>0.14883206101443</c:v>
                </c:pt>
                <c:pt idx="240">
                  <c:v>0.152587890625</c:v>
                </c:pt>
                <c:pt idx="241">
                  <c:v>0.156462945824794</c:v>
                </c:pt>
                <c:pt idx="242">
                  <c:v>0.160461797242476</c:v>
                </c:pt>
                <c:pt idx="243">
                  <c:v>0.164589221241837</c:v>
                </c:pt>
                <c:pt idx="244">
                  <c:v>0.168850210573773</c:v>
                </c:pt>
                <c:pt idx="245">
                  <c:v>0.173249985652736</c:v>
                </c:pt>
                <c:pt idx="246">
                  <c:v>0.177794006498613</c:v>
                </c:pt>
                <c:pt idx="247">
                  <c:v>0.182487985387954</c:v>
                </c:pt>
                <c:pt idx="248">
                  <c:v>0.187337900261662</c:v>
                </c:pt>
                <c:pt idx="249">
                  <c:v>0.192350008939755</c:v>
                </c:pt>
                <c:pt idx="250">
                  <c:v>0.197530864197531</c:v>
                </c:pt>
                <c:pt idx="251">
                  <c:v>0.202887329761528</c:v>
                </c:pt>
                <c:pt idx="252">
                  <c:v>0.208426597288067</c:v>
                </c:pt>
                <c:pt idx="253">
                  <c:v>0.214156204391889</c:v>
                </c:pt>
                <c:pt idx="254">
                  <c:v>0.220084053797557</c:v>
                </c:pt>
                <c:pt idx="255">
                  <c:v>0.226218433691843</c:v>
                </c:pt>
                <c:pt idx="256">
                  <c:v>0.232568039361378</c:v>
                </c:pt>
                <c:pt idx="257">
                  <c:v>0.23914199620639</c:v>
                </c:pt>
                <c:pt idx="258">
                  <c:v>0.245949884228438</c:v>
                </c:pt>
                <c:pt idx="259">
                  <c:v>0.25300176409781</c:v>
                </c:pt>
                <c:pt idx="260">
                  <c:v>0.260308204914619</c:v>
                </c:pt>
                <c:pt idx="261">
                  <c:v>0.267880313786749</c:v>
                </c:pt>
                <c:pt idx="262">
                  <c:v>0.275729767357751</c:v>
                </c:pt>
                <c:pt idx="263">
                  <c:v>0.283868845428562</c:v>
                </c:pt>
                <c:pt idx="264">
                  <c:v>0.292310466828702</c:v>
                </c:pt>
                <c:pt idx="265">
                  <c:v>0.301068227705427</c:v>
                </c:pt>
                <c:pt idx="266">
                  <c:v>0.310156442413303</c:v>
                </c:pt>
                <c:pt idx="267">
                  <c:v>0.319590187201902</c:v>
                </c:pt>
                <c:pt idx="268">
                  <c:v>0.329385346916026</c:v>
                </c:pt>
                <c:pt idx="269">
                  <c:v>0.339558664941034</c:v>
                </c:pt>
                <c:pt idx="270">
                  <c:v>0.350127796645776</c:v>
                </c:pt>
                <c:pt idx="271">
                  <c:v>0.361111366597403</c:v>
                </c:pt>
                <c:pt idx="272">
                  <c:v>0.372529029846192</c:v>
                </c:pt>
                <c:pt idx="273">
                  <c:v>0.384401537604613</c:v>
                </c:pt>
                <c:pt idx="274">
                  <c:v>0.396750807673554</c:v>
                </c:pt>
                <c:pt idx="275">
                  <c:v>0.4096</c:v>
                </c:pt>
                <c:pt idx="276">
                  <c:v>0.422973597784999</c:v>
                </c:pt>
                <c:pt idx="277">
                  <c:v>0.436897494598647</c:v>
                </c:pt>
                <c:pt idx="278">
                  <c:v>0.451399088000505</c:v>
                </c:pt>
                <c:pt idx="279">
                  <c:v>0.466507380209734</c:v>
                </c:pt>
                <c:pt idx="280">
                  <c:v>0.482253086419754</c:v>
                </c:pt>
                <c:pt idx="281">
                  <c:v>0.498668751407898</c:v>
                </c:pt>
                <c:pt idx="282">
                  <c:v>0.515788875151941</c:v>
                </c:pt>
                <c:pt idx="283">
                  <c:v>0.533650048233159</c:v>
                </c:pt>
                <c:pt idx="284">
                  <c:v>0.552291097880474</c:v>
                </c:pt>
                <c:pt idx="285">
                  <c:v>0.571753245593033</c:v>
                </c:pt>
                <c:pt idx="286">
                  <c:v>0.592080277370189</c:v>
                </c:pt>
                <c:pt idx="287">
                  <c:v>0.613318727679377</c:v>
                </c:pt>
                <c:pt idx="288">
                  <c:v>0.635518078404831</c:v>
                </c:pt>
                <c:pt idx="289">
                  <c:v>0.658730974145001</c:v>
                </c:pt>
                <c:pt idx="290">
                  <c:v>0.683013455365071</c:v>
                </c:pt>
                <c:pt idx="291">
                  <c:v>0.708425211065197</c:v>
                </c:pt>
                <c:pt idx="292">
                  <c:v>0.735029852796453</c:v>
                </c:pt>
                <c:pt idx="293">
                  <c:v>0.762895212047526</c:v>
                </c:pt>
                <c:pt idx="294">
                  <c:v>0.79209366323802</c:v>
                </c:pt>
                <c:pt idx="295">
                  <c:v>0.822702474791883</c:v>
                </c:pt>
                <c:pt idx="296">
                  <c:v>0.854804191029726</c:v>
                </c:pt>
                <c:pt idx="297">
                  <c:v>0.88848704791569</c:v>
                </c:pt>
                <c:pt idx="298">
                  <c:v>0.923845426026514</c:v>
                </c:pt>
                <c:pt idx="299">
                  <c:v>0.960980344482817</c:v>
                </c:pt>
                <c:pt idx="300">
                  <c:v>1</c:v>
                </c:pt>
                <c:pt idx="301">
                  <c:v>1.04102035568522</c:v>
                </c:pt>
                <c:pt idx="302">
                  <c:v>1.08416578473394</c:v>
                </c:pt>
                <c:pt idx="303">
                  <c:v>1.12956977477316</c:v>
                </c:pt>
                <c:pt idx="304">
                  <c:v>1.17737569926698</c:v>
                </c:pt>
                <c:pt idx="305">
                  <c:v>1.22773766315483</c:v>
                </c:pt>
                <c:pt idx="306">
                  <c:v>1.28082143074517</c:v>
                </c:pt>
                <c:pt idx="307">
                  <c:v>1.33680544485136</c:v>
                </c:pt>
                <c:pt idx="308">
                  <c:v>1.39588194724862</c:v>
                </c:pt>
                <c:pt idx="309">
                  <c:v>1.45825821176916</c:v>
                </c:pt>
                <c:pt idx="310">
                  <c:v>1.52415790275873</c:v>
                </c:pt>
                <c:pt idx="311">
                  <c:v>1.59382257321666</c:v>
                </c:pt>
                <c:pt idx="312">
                  <c:v>1.66751331876238</c:v>
                </c:pt>
                <c:pt idx="313">
                  <c:v>1.74551260564693</c:v>
                </c:pt>
                <c:pt idx="314">
                  <c:v>1.82812629339935</c:v>
                </c:pt>
                <c:pt idx="315">
                  <c:v>1.91568587540858</c:v>
                </c:pt>
                <c:pt idx="316">
                  <c:v>2.00855096384737</c:v>
                </c:pt>
                <c:pt idx="317">
                  <c:v>2.10711204890708</c:v>
                </c:pt>
                <c:pt idx="318">
                  <c:v>2.21179356640565</c:v>
                </c:pt>
                <c:pt idx="319">
                  <c:v>2.32305731254188</c:v>
                </c:pt>
                <c:pt idx="320">
                  <c:v>2.44140625</c:v>
                </c:pt>
                <c:pt idx="321">
                  <c:v>2.56738875587961</c:v>
                </c:pt>
                <c:pt idx="322">
                  <c:v>2.70160336918037</c:v>
                </c:pt>
                <c:pt idx="323">
                  <c:v>2.8447041039778</c:v>
                </c:pt>
                <c:pt idx="324">
                  <c:v>2.99740640418659</c:v>
                </c:pt>
                <c:pt idx="325">
                  <c:v>3.16049382716049</c:v>
                </c:pt>
                <c:pt idx="326">
                  <c:v>3.33482555660907</c:v>
                </c:pt>
                <c:pt idx="327">
                  <c:v>3.52134486076092</c:v>
                </c:pt>
                <c:pt idx="328">
                  <c:v>3.72108862978205</c:v>
                </c:pt>
                <c:pt idx="329">
                  <c:v>3.93519814765501</c:v>
                </c:pt>
                <c:pt idx="330">
                  <c:v>4.16493127863391</c:v>
                </c:pt>
                <c:pt idx="331">
                  <c:v>4.41167627772402</c:v>
                </c:pt>
                <c:pt idx="332">
                  <c:v>4.67696746925924</c:v>
                </c:pt>
                <c:pt idx="333">
                  <c:v>4.96250307861285</c:v>
                </c:pt>
                <c:pt idx="334">
                  <c:v>5.27016555065641</c:v>
                </c:pt>
                <c:pt idx="335">
                  <c:v>5.60204474633242</c:v>
                </c:pt>
                <c:pt idx="336">
                  <c:v>5.96046447753906</c:v>
                </c:pt>
                <c:pt idx="337">
                  <c:v>6.34801292277687</c:v>
                </c:pt>
                <c:pt idx="338">
                  <c:v>6.76757756455998</c:v>
                </c:pt>
                <c:pt idx="339">
                  <c:v>7.22238540800808</c:v>
                </c:pt>
                <c:pt idx="340">
                  <c:v>7.71604938271605</c:v>
                </c:pt>
                <c:pt idx="341">
                  <c:v>8.25262200243106</c:v>
                </c:pt>
                <c:pt idx="342">
                  <c:v>8.83665756608759</c:v>
                </c:pt>
                <c:pt idx="343">
                  <c:v>9.47328443792305</c:v>
                </c:pt>
                <c:pt idx="344">
                  <c:v>10.1682892544773</c:v>
                </c:pt>
                <c:pt idx="345">
                  <c:v>10.9282152858411</c:v>
                </c:pt>
                <c:pt idx="346">
                  <c:v>11.7604776447433</c:v>
                </c:pt>
                <c:pt idx="347">
                  <c:v>12.6734986118083</c:v>
                </c:pt>
                <c:pt idx="348">
                  <c:v>13.6768670564756</c:v>
                </c:pt>
                <c:pt idx="349">
                  <c:v>14.7815268164243</c:v>
                </c:pt>
                <c:pt idx="350">
                  <c:v>16</c:v>
                </c:pt>
                <c:pt idx="351">
                  <c:v>17.3466525557431</c:v>
                </c:pt>
                <c:pt idx="352">
                  <c:v>18.8380111882716</c:v>
                </c:pt>
                <c:pt idx="353">
                  <c:v>20.4931428919227</c:v>
                </c:pt>
                <c:pt idx="354">
                  <c:v>22.3341111559779</c:v>
                </c:pt>
                <c:pt idx="355">
                  <c:v>24.3865264441397</c:v>
                </c:pt>
                <c:pt idx="356">
                  <c:v>26.6802131001981</c:v>
                </c:pt>
                <c:pt idx="357">
                  <c:v>29.2500206943897</c:v>
                </c:pt>
                <c:pt idx="358">
                  <c:v>32.1368154215579</c:v>
                </c:pt>
                <c:pt idx="359">
                  <c:v>35.3886970624904</c:v>
                </c:pt>
                <c:pt idx="360">
                  <c:v>39.0625</c:v>
                </c:pt>
                <c:pt idx="361">
                  <c:v>43.2256539068858</c:v>
                </c:pt>
                <c:pt idx="362">
                  <c:v>47.9585024669854</c:v>
                </c:pt>
                <c:pt idx="363">
                  <c:v>53.357208905745</c:v>
                </c:pt>
                <c:pt idx="364">
                  <c:v>59.5374180765128</c:v>
                </c:pt>
                <c:pt idx="365">
                  <c:v>66.6389004581424</c:v>
                </c:pt>
                <c:pt idx="366">
                  <c:v>74.8314795081478</c:v>
                </c:pt>
                <c:pt idx="367">
                  <c:v>84.3226488105025</c:v>
                </c:pt>
                <c:pt idx="368">
                  <c:v>95.3674316406252</c:v>
                </c:pt>
                <c:pt idx="369">
                  <c:v>108.28124103296</c:v>
                </c:pt>
                <c:pt idx="370">
                  <c:v>123.456790123457</c:v>
                </c:pt>
                <c:pt idx="371">
                  <c:v>141.386521057401</c:v>
                </c:pt>
                <c:pt idx="372">
                  <c:v>162.692628071637</c:v>
                </c:pt>
                <c:pt idx="373">
                  <c:v>188.167642315892</c:v>
                </c:pt>
                <c:pt idx="374">
                  <c:v>218.829872903611</c:v>
                </c:pt>
                <c:pt idx="375">
                  <c:v>256</c:v>
                </c:pt>
                <c:pt idx="376">
                  <c:v>301.408179012347</c:v>
                </c:pt>
                <c:pt idx="377">
                  <c:v>357.345778495646</c:v>
                </c:pt>
                <c:pt idx="378">
                  <c:v>426.883409603171</c:v>
                </c:pt>
                <c:pt idx="379">
                  <c:v>514.189046744927</c:v>
                </c:pt>
                <c:pt idx="380">
                  <c:v>625.000000000003</c:v>
                </c:pt>
                <c:pt idx="381">
                  <c:v>767.336039471767</c:v>
                </c:pt>
                <c:pt idx="382">
                  <c:v>952.59868922421</c:v>
                </c:pt>
                <c:pt idx="383">
                  <c:v>1197.30367213036</c:v>
                </c:pt>
                <c:pt idx="384">
                  <c:v>1525.87890624999</c:v>
                </c:pt>
                <c:pt idx="385">
                  <c:v>1975.30864197531</c:v>
                </c:pt>
                <c:pt idx="386">
                  <c:v>2603.08204914618</c:v>
                </c:pt>
                <c:pt idx="387">
                  <c:v>3501.27796645777</c:v>
                </c:pt>
                <c:pt idx="388">
                  <c:v>4822.53086419751</c:v>
                </c:pt>
                <c:pt idx="389">
                  <c:v>6830.13455365074</c:v>
                </c:pt>
                <c:pt idx="390">
                  <c:v>9999.99999999996</c:v>
                </c:pt>
                <c:pt idx="391">
                  <c:v>15241.5790275874</c:v>
                </c:pt>
                <c:pt idx="392">
                  <c:v>24414.0624999999</c:v>
                </c:pt>
                <c:pt idx="393">
                  <c:v>41649.3127863394</c:v>
                </c:pt>
                <c:pt idx="394">
                  <c:v>77160.4938271602</c:v>
                </c:pt>
                <c:pt idx="395">
                  <c:v>160000.000000002</c:v>
                </c:pt>
                <c:pt idx="396">
                  <c:v>390624.999999999</c:v>
                </c:pt>
                <c:pt idx="397">
                  <c:v>1234567.9012346</c:v>
                </c:pt>
                <c:pt idx="398">
                  <c:v>6249999.99999998</c:v>
                </c:pt>
                <c:pt idx="399">
                  <c:v>100000000.000009</c:v>
                </c:pt>
                <c:pt idx="400">
                  <c:v>0</c:v>
                </c:pt>
                <c:pt idx="401">
                  <c:v>100000000.000009</c:v>
                </c:pt>
                <c:pt idx="402">
                  <c:v>6249999.99999942</c:v>
                </c:pt>
                <c:pt idx="403">
                  <c:v>1234567.90123453</c:v>
                </c:pt>
                <c:pt idx="404">
                  <c:v>390624.999999999</c:v>
                </c:pt>
                <c:pt idx="405">
                  <c:v>160000.000000002</c:v>
                </c:pt>
                <c:pt idx="406">
                  <c:v>77160.4938271579</c:v>
                </c:pt>
                <c:pt idx="407">
                  <c:v>41649.3127863384</c:v>
                </c:pt>
                <c:pt idx="408">
                  <c:v>24414.0624999999</c:v>
                </c:pt>
                <c:pt idx="409">
                  <c:v>15241.5790275874</c:v>
                </c:pt>
                <c:pt idx="410">
                  <c:v>10000.0000000001</c:v>
                </c:pt>
                <c:pt idx="411">
                  <c:v>6830.13455365063</c:v>
                </c:pt>
                <c:pt idx="412">
                  <c:v>4822.53086419751</c:v>
                </c:pt>
                <c:pt idx="413">
                  <c:v>3501.27796645777</c:v>
                </c:pt>
                <c:pt idx="414">
                  <c:v>2603.08204914621</c:v>
                </c:pt>
                <c:pt idx="415">
                  <c:v>1975.30864197529</c:v>
                </c:pt>
                <c:pt idx="416">
                  <c:v>1525.87890624999</c:v>
                </c:pt>
                <c:pt idx="417">
                  <c:v>1197.30367213036</c:v>
                </c:pt>
                <c:pt idx="418">
                  <c:v>952.59868922421</c:v>
                </c:pt>
                <c:pt idx="419">
                  <c:v>767.33603947176</c:v>
                </c:pt>
                <c:pt idx="420">
                  <c:v>624.999999999998</c:v>
                </c:pt>
                <c:pt idx="421">
                  <c:v>514.189046744927</c:v>
                </c:pt>
                <c:pt idx="422">
                  <c:v>426.883409603171</c:v>
                </c:pt>
                <c:pt idx="423">
                  <c:v>357.345778495643</c:v>
                </c:pt>
                <c:pt idx="424">
                  <c:v>301.408179012345</c:v>
                </c:pt>
                <c:pt idx="425">
                  <c:v>256</c:v>
                </c:pt>
                <c:pt idx="426">
                  <c:v>218.829872903611</c:v>
                </c:pt>
                <c:pt idx="427">
                  <c:v>188.167642315891</c:v>
                </c:pt>
                <c:pt idx="428">
                  <c:v>162.692628071636</c:v>
                </c:pt>
                <c:pt idx="429">
                  <c:v>141.386521057401</c:v>
                </c:pt>
                <c:pt idx="430">
                  <c:v>123.456790123457</c:v>
                </c:pt>
                <c:pt idx="431">
                  <c:v>108.281241032959</c:v>
                </c:pt>
                <c:pt idx="432">
                  <c:v>95.3674316406246</c:v>
                </c:pt>
                <c:pt idx="433">
                  <c:v>84.3226488105025</c:v>
                </c:pt>
                <c:pt idx="434">
                  <c:v>74.8314795081478</c:v>
                </c:pt>
                <c:pt idx="435">
                  <c:v>66.638900458142</c:v>
                </c:pt>
                <c:pt idx="436">
                  <c:v>59.5374180765125</c:v>
                </c:pt>
                <c:pt idx="437">
                  <c:v>53.357208905745</c:v>
                </c:pt>
                <c:pt idx="438">
                  <c:v>47.9585024669854</c:v>
                </c:pt>
                <c:pt idx="439">
                  <c:v>43.225653906886</c:v>
                </c:pt>
                <c:pt idx="440">
                  <c:v>39.0624999999999</c:v>
                </c:pt>
                <c:pt idx="441">
                  <c:v>35.3886970624904</c:v>
                </c:pt>
                <c:pt idx="442">
                  <c:v>32.1368154215579</c:v>
                </c:pt>
                <c:pt idx="443">
                  <c:v>29.2500206943897</c:v>
                </c:pt>
                <c:pt idx="444">
                  <c:v>26.680213100198</c:v>
                </c:pt>
                <c:pt idx="445">
                  <c:v>24.3865264441396</c:v>
                </c:pt>
                <c:pt idx="446">
                  <c:v>22.3341111559779</c:v>
                </c:pt>
                <c:pt idx="447">
                  <c:v>20.4931428919227</c:v>
                </c:pt>
                <c:pt idx="448">
                  <c:v>18.8380111882715</c:v>
                </c:pt>
                <c:pt idx="449">
                  <c:v>17.346652555743</c:v>
                </c:pt>
                <c:pt idx="450">
                  <c:v>16</c:v>
                </c:pt>
                <c:pt idx="451">
                  <c:v>14.7815268164243</c:v>
                </c:pt>
                <c:pt idx="452">
                  <c:v>13.6768670564756</c:v>
                </c:pt>
                <c:pt idx="453">
                  <c:v>12.6734986118083</c:v>
                </c:pt>
                <c:pt idx="454">
                  <c:v>11.7604776447433</c:v>
                </c:pt>
                <c:pt idx="455">
                  <c:v>10.9282152858411</c:v>
                </c:pt>
                <c:pt idx="456">
                  <c:v>10.1682892544773</c:v>
                </c:pt>
                <c:pt idx="457">
                  <c:v>9.47328443792302</c:v>
                </c:pt>
                <c:pt idx="458">
                  <c:v>8.83665756608759</c:v>
                </c:pt>
                <c:pt idx="459">
                  <c:v>8.25262200243106</c:v>
                </c:pt>
                <c:pt idx="460">
                  <c:v>7.71604938271602</c:v>
                </c:pt>
                <c:pt idx="461">
                  <c:v>7.22238540800807</c:v>
                </c:pt>
                <c:pt idx="462">
                  <c:v>6.76757756455998</c:v>
                </c:pt>
                <c:pt idx="463">
                  <c:v>6.34801292277687</c:v>
                </c:pt>
                <c:pt idx="464">
                  <c:v>5.96046447753908</c:v>
                </c:pt>
                <c:pt idx="465">
                  <c:v>5.6020447463324</c:v>
                </c:pt>
                <c:pt idx="466">
                  <c:v>5.27016555065641</c:v>
                </c:pt>
                <c:pt idx="467">
                  <c:v>4.96250307861285</c:v>
                </c:pt>
                <c:pt idx="468">
                  <c:v>4.67696746925924</c:v>
                </c:pt>
                <c:pt idx="469">
                  <c:v>4.41167627772401</c:v>
                </c:pt>
                <c:pt idx="470">
                  <c:v>4.1649312786339</c:v>
                </c:pt>
                <c:pt idx="471">
                  <c:v>3.93519814765501</c:v>
                </c:pt>
                <c:pt idx="472">
                  <c:v>3.72108862978205</c:v>
                </c:pt>
                <c:pt idx="473">
                  <c:v>3.52134486076091</c:v>
                </c:pt>
                <c:pt idx="474">
                  <c:v>3.33482555660906</c:v>
                </c:pt>
                <c:pt idx="475">
                  <c:v>3.16049382716049</c:v>
                </c:pt>
                <c:pt idx="476">
                  <c:v>2.99740640418659</c:v>
                </c:pt>
                <c:pt idx="477">
                  <c:v>2.8447041039778</c:v>
                </c:pt>
                <c:pt idx="478">
                  <c:v>2.70160336918037</c:v>
                </c:pt>
                <c:pt idx="479">
                  <c:v>2.56738875587961</c:v>
                </c:pt>
                <c:pt idx="480">
                  <c:v>2.44140625</c:v>
                </c:pt>
                <c:pt idx="481">
                  <c:v>2.32305731254187</c:v>
                </c:pt>
                <c:pt idx="482">
                  <c:v>2.21179356640565</c:v>
                </c:pt>
                <c:pt idx="483">
                  <c:v>2.10711204890708</c:v>
                </c:pt>
                <c:pt idx="484">
                  <c:v>2.00855096384737</c:v>
                </c:pt>
                <c:pt idx="485">
                  <c:v>1.91568587540858</c:v>
                </c:pt>
                <c:pt idx="486">
                  <c:v>1.82812629339935</c:v>
                </c:pt>
                <c:pt idx="487">
                  <c:v>1.74551260564693</c:v>
                </c:pt>
                <c:pt idx="488">
                  <c:v>1.66751331876238</c:v>
                </c:pt>
                <c:pt idx="489">
                  <c:v>1.59382257321666</c:v>
                </c:pt>
                <c:pt idx="490">
                  <c:v>1.52415790275872</c:v>
                </c:pt>
                <c:pt idx="491">
                  <c:v>1.45825821176916</c:v>
                </c:pt>
                <c:pt idx="492">
                  <c:v>1.39588194724862</c:v>
                </c:pt>
                <c:pt idx="493">
                  <c:v>1.33680544485136</c:v>
                </c:pt>
                <c:pt idx="494">
                  <c:v>1.28082143074516</c:v>
                </c:pt>
                <c:pt idx="495">
                  <c:v>1.22773766315482</c:v>
                </c:pt>
                <c:pt idx="496">
                  <c:v>1.17737569926698</c:v>
                </c:pt>
                <c:pt idx="497">
                  <c:v>1.12956977477316</c:v>
                </c:pt>
                <c:pt idx="498">
                  <c:v>1.08416578473394</c:v>
                </c:pt>
                <c:pt idx="499">
                  <c:v>1.04102035568522</c:v>
                </c:pt>
                <c:pt idx="500">
                  <c:v>1</c:v>
                </c:pt>
                <c:pt idx="501">
                  <c:v>0.960980344482816</c:v>
                </c:pt>
                <c:pt idx="502">
                  <c:v>0.923845426026514</c:v>
                </c:pt>
                <c:pt idx="503">
                  <c:v>0.888487047915689</c:v>
                </c:pt>
                <c:pt idx="504">
                  <c:v>0.854804191029726</c:v>
                </c:pt>
                <c:pt idx="505">
                  <c:v>0.822702474791882</c:v>
                </c:pt>
                <c:pt idx="506">
                  <c:v>0.79209366323802</c:v>
                </c:pt>
                <c:pt idx="507">
                  <c:v>0.762895212047525</c:v>
                </c:pt>
                <c:pt idx="508">
                  <c:v>0.735029852796453</c:v>
                </c:pt>
                <c:pt idx="509">
                  <c:v>0.708425211065196</c:v>
                </c:pt>
                <c:pt idx="510">
                  <c:v>0.683013455365071</c:v>
                </c:pt>
                <c:pt idx="511">
                  <c:v>0.658730974145</c:v>
                </c:pt>
                <c:pt idx="512">
                  <c:v>0.635518078404831</c:v>
                </c:pt>
                <c:pt idx="513">
                  <c:v>0.613318727679377</c:v>
                </c:pt>
                <c:pt idx="514">
                  <c:v>0.592080277370189</c:v>
                </c:pt>
                <c:pt idx="515">
                  <c:v>0.571753245593033</c:v>
                </c:pt>
                <c:pt idx="516">
                  <c:v>0.552291097880475</c:v>
                </c:pt>
                <c:pt idx="517">
                  <c:v>0.533650048233159</c:v>
                </c:pt>
                <c:pt idx="518">
                  <c:v>0.515788875151941</c:v>
                </c:pt>
                <c:pt idx="519">
                  <c:v>0.498668751407898</c:v>
                </c:pt>
                <c:pt idx="520">
                  <c:v>0.482253086419753</c:v>
                </c:pt>
                <c:pt idx="521">
                  <c:v>0.466507380209734</c:v>
                </c:pt>
                <c:pt idx="522">
                  <c:v>0.451399088000505</c:v>
                </c:pt>
                <c:pt idx="523">
                  <c:v>0.436897494598647</c:v>
                </c:pt>
                <c:pt idx="524">
                  <c:v>0.422973597784999</c:v>
                </c:pt>
                <c:pt idx="525">
                  <c:v>0.4096</c:v>
                </c:pt>
                <c:pt idx="526">
                  <c:v>0.396750807673554</c:v>
                </c:pt>
                <c:pt idx="527">
                  <c:v>0.384401537604613</c:v>
                </c:pt>
                <c:pt idx="528">
                  <c:v>0.372529029846191</c:v>
                </c:pt>
                <c:pt idx="529">
                  <c:v>0.361111366597403</c:v>
                </c:pt>
                <c:pt idx="530">
                  <c:v>0.350127796645776</c:v>
                </c:pt>
                <c:pt idx="531">
                  <c:v>0.339558664941034</c:v>
                </c:pt>
                <c:pt idx="532">
                  <c:v>0.329385346916026</c:v>
                </c:pt>
                <c:pt idx="533">
                  <c:v>0.319590187201902</c:v>
                </c:pt>
                <c:pt idx="534">
                  <c:v>0.310156442413303</c:v>
                </c:pt>
                <c:pt idx="535">
                  <c:v>0.301068227705427</c:v>
                </c:pt>
                <c:pt idx="536">
                  <c:v>0.292310466828702</c:v>
                </c:pt>
                <c:pt idx="537">
                  <c:v>0.283868845428562</c:v>
                </c:pt>
                <c:pt idx="538">
                  <c:v>0.275729767357751</c:v>
                </c:pt>
                <c:pt idx="539">
                  <c:v>0.267880313786749</c:v>
                </c:pt>
                <c:pt idx="540">
                  <c:v>0.260308204914619</c:v>
                </c:pt>
                <c:pt idx="541">
                  <c:v>0.25300176409781</c:v>
                </c:pt>
                <c:pt idx="542">
                  <c:v>0.245949884228438</c:v>
                </c:pt>
                <c:pt idx="543">
                  <c:v>0.23914199620639</c:v>
                </c:pt>
                <c:pt idx="544">
                  <c:v>0.232568039361378</c:v>
                </c:pt>
                <c:pt idx="545">
                  <c:v>0.226218433691842</c:v>
                </c:pt>
                <c:pt idx="546">
                  <c:v>0.220084053797557</c:v>
                </c:pt>
                <c:pt idx="547">
                  <c:v>0.214156204391889</c:v>
                </c:pt>
                <c:pt idx="548">
                  <c:v>0.208426597288067</c:v>
                </c:pt>
                <c:pt idx="549">
                  <c:v>0.202887329761528</c:v>
                </c:pt>
                <c:pt idx="550">
                  <c:v>0.197530864197531</c:v>
                </c:pt>
                <c:pt idx="551">
                  <c:v>0.192350008939755</c:v>
                </c:pt>
                <c:pt idx="552">
                  <c:v>0.187337900261662</c:v>
                </c:pt>
                <c:pt idx="553">
                  <c:v>0.182487985387953</c:v>
                </c:pt>
                <c:pt idx="554">
                  <c:v>0.177794006498613</c:v>
                </c:pt>
                <c:pt idx="555">
                  <c:v>0.173249985652736</c:v>
                </c:pt>
                <c:pt idx="556">
                  <c:v>0.168850210573773</c:v>
                </c:pt>
                <c:pt idx="557">
                  <c:v>0.164589221241837</c:v>
                </c:pt>
                <c:pt idx="558">
                  <c:v>0.160461797242476</c:v>
                </c:pt>
                <c:pt idx="559">
                  <c:v>0.156462945824794</c:v>
                </c:pt>
                <c:pt idx="560">
                  <c:v>0.152587890625</c:v>
                </c:pt>
                <c:pt idx="561">
                  <c:v>0.14883206101443</c:v>
                </c:pt>
                <c:pt idx="562">
                  <c:v>0.145191082033867</c:v>
                </c:pt>
                <c:pt idx="563">
                  <c:v>0.141660764878516</c:v>
                </c:pt>
                <c:pt idx="564">
                  <c:v>0.138237097900353</c:v>
                </c:pt>
                <c:pt idx="565">
                  <c:v>0.134916238096804</c:v>
                </c:pt>
                <c:pt idx="566">
                  <c:v>0.131694503056693</c:v>
                </c:pt>
                <c:pt idx="567">
                  <c:v>0.128568363336344</c:v>
                </c:pt>
                <c:pt idx="568">
                  <c:v>0.12553443524046</c:v>
                </c:pt>
                <c:pt idx="569">
                  <c:v>0.122589473984026</c:v>
                </c:pt>
                <c:pt idx="570">
                  <c:v>0.119730367213036</c:v>
                </c:pt>
                <c:pt idx="571">
                  <c:v>0.116954128863247</c:v>
                </c:pt>
                <c:pt idx="572">
                  <c:v>0.11425789333746</c:v>
                </c:pt>
                <c:pt idx="573">
                  <c:v>0.111638909983092</c:v>
                </c:pt>
                <c:pt idx="574">
                  <c:v>0.109094537852933</c:v>
                </c:pt>
                <c:pt idx="575">
                  <c:v>0.106622240733028</c:v>
                </c:pt>
                <c:pt idx="576">
                  <c:v>0.104219582422649</c:v>
                </c:pt>
                <c:pt idx="577">
                  <c:v>0.101884222252235</c:v>
                </c:pt>
                <c:pt idx="578">
                  <c:v>0.0996139108260414</c:v>
                </c:pt>
                <c:pt idx="579">
                  <c:v>0.0974064859770443</c:v>
                </c:pt>
                <c:pt idx="580">
                  <c:v>0.0952598689224204</c:v>
                </c:pt>
                <c:pt idx="581">
                  <c:v>0.0931720606086006</c:v>
                </c:pt>
                <c:pt idx="582">
                  <c:v>0.0911411382355726</c:v>
                </c:pt>
                <c:pt idx="583">
                  <c:v>0.089165251950717</c:v>
                </c:pt>
                <c:pt idx="584">
                  <c:v>0.0872426217030385</c:v>
                </c:pt>
                <c:pt idx="585">
                  <c:v>0.085371534249192</c:v>
                </c:pt>
                <c:pt idx="586">
                  <c:v>0.0835503403032097</c:v>
                </c:pt>
                <c:pt idx="587">
                  <c:v>0.0817774518223046</c:v>
                </c:pt>
                <c:pt idx="588">
                  <c:v>0.0800513394215729</c:v>
                </c:pt>
                <c:pt idx="589">
                  <c:v>0.0783705299108255</c:v>
                </c:pt>
                <c:pt idx="590">
                  <c:v>0.0767336039471766</c:v>
                </c:pt>
                <c:pt idx="591">
                  <c:v>0.0751391937973713</c:v>
                </c:pt>
                <c:pt idx="592">
                  <c:v>0.073585981204186</c:v>
                </c:pt>
                <c:pt idx="593">
                  <c:v>0.072072695351547</c:v>
                </c:pt>
                <c:pt idx="594">
                  <c:v>0.0705981109233227</c:v>
                </c:pt>
                <c:pt idx="595">
                  <c:v>0.0691610462510174</c:v>
                </c:pt>
                <c:pt idx="596">
                  <c:v>0.0677603615458712</c:v>
                </c:pt>
                <c:pt idx="597">
                  <c:v>0.0663949572111092</c:v>
                </c:pt>
                <c:pt idx="598">
                  <c:v>0.0650637722303261</c:v>
                </c:pt>
                <c:pt idx="599">
                  <c:v>0.0637657826282076</c:v>
                </c:pt>
                <c:pt idx="600">
                  <c:v>0.0625</c:v>
                </c:pt>
                <c:pt idx="601">
                  <c:v>0.0612654701063315</c:v>
                </c:pt>
                <c:pt idx="602">
                  <c:v>0.060061271530176</c:v>
                </c:pt>
                <c:pt idx="603">
                  <c:v>0.0588865143929202</c:v>
                </c:pt>
                <c:pt idx="604">
                  <c:v>0.0577403391266571</c:v>
                </c:pt>
                <c:pt idx="605">
                  <c:v>0.0566219152999847</c:v>
                </c:pt>
                <c:pt idx="606">
                  <c:v>0.0555304404947306</c:v>
                </c:pt>
                <c:pt idx="607">
                  <c:v>0.0544651392311607</c:v>
                </c:pt>
                <c:pt idx="608">
                  <c:v>0.0534252619393579</c:v>
                </c:pt>
                <c:pt idx="609">
                  <c:v>0.0524100839745759</c:v>
                </c:pt>
                <c:pt idx="610">
                  <c:v>0.0514189046744926</c:v>
                </c:pt>
                <c:pt idx="611">
                  <c:v>0.0504510464563876</c:v>
                </c:pt>
                <c:pt idx="612">
                  <c:v>0.0495058539523763</c:v>
                </c:pt>
                <c:pt idx="613">
                  <c:v>0.0485826931809261</c:v>
                </c:pt>
                <c:pt idx="614">
                  <c:v>0.0476809507529703</c:v>
                </c:pt>
                <c:pt idx="615">
                  <c:v>0.0468000331110234</c:v>
                </c:pt>
                <c:pt idx="616">
                  <c:v>0.0459393657997783</c:v>
                </c:pt>
                <c:pt idx="617">
                  <c:v>0.0450983927667471</c:v>
                </c:pt>
                <c:pt idx="618">
                  <c:v>0.0442765756915748</c:v>
                </c:pt>
                <c:pt idx="619">
                  <c:v>0.0434733933427274</c:v>
                </c:pt>
                <c:pt idx="620">
                  <c:v>0.0426883409603169</c:v>
                </c:pt>
                <c:pt idx="621">
                  <c:v>0.04192092966389</c:v>
                </c:pt>
                <c:pt idx="622">
                  <c:v>0.0411706858840625</c:v>
                </c:pt>
                <c:pt idx="623">
                  <c:v>0.0404371508169384</c:v>
                </c:pt>
                <c:pt idx="624">
                  <c:v>0.039719879900302</c:v>
                </c:pt>
                <c:pt idx="625">
                  <c:v>0.0390184423106234</c:v>
                </c:pt>
                <c:pt idx="626">
                  <c:v>0.0383324204799611</c:v>
                </c:pt>
                <c:pt idx="627">
                  <c:v>0.0376614096318915</c:v>
                </c:pt>
                <c:pt idx="628">
                  <c:v>0.0370050173356369</c:v>
                </c:pt>
                <c:pt idx="629">
                  <c:v>0.0363628630776016</c:v>
                </c:pt>
                <c:pt idx="630">
                  <c:v>0.0357345778495646</c:v>
                </c:pt>
                <c:pt idx="631">
                  <c:v>0.0351198037528124</c:v>
                </c:pt>
                <c:pt idx="632">
                  <c:v>0.0345181936175297</c:v>
                </c:pt>
                <c:pt idx="633">
                  <c:v>0.0339294106367965</c:v>
                </c:pt>
                <c:pt idx="634">
                  <c:v>0.0333531280145725</c:v>
                </c:pt>
                <c:pt idx="635">
                  <c:v>0.0327890286270763</c:v>
                </c:pt>
                <c:pt idx="636">
                  <c:v>0.0322368046969963</c:v>
                </c:pt>
                <c:pt idx="637">
                  <c:v>0.0316961574799952</c:v>
                </c:pt>
                <c:pt idx="638">
                  <c:v>0.0311667969629936</c:v>
                </c:pt>
                <c:pt idx="639">
                  <c:v>0.0306484415737454</c:v>
                </c:pt>
                <c:pt idx="640">
                  <c:v>0.0301408179012346</c:v>
                </c:pt>
                <c:pt idx="641">
                  <c:v>0.0296436604264498</c:v>
                </c:pt>
                <c:pt idx="642">
                  <c:v>0.0291567112631083</c:v>
                </c:pt>
                <c:pt idx="643">
                  <c:v>0.0286797199079244</c:v>
                </c:pt>
                <c:pt idx="644">
                  <c:v>0.0282124430000316</c:v>
                </c:pt>
                <c:pt idx="645">
                  <c:v>0.0277546440891889</c:v>
                </c:pt>
                <c:pt idx="646">
                  <c:v>0.0273060934124155</c:v>
                </c:pt>
                <c:pt idx="647">
                  <c:v>0.0268665676787146</c:v>
                </c:pt>
                <c:pt idx="648">
                  <c:v>0.0264358498615624</c:v>
                </c:pt>
                <c:pt idx="649">
                  <c:v>0.0260137289988529</c:v>
                </c:pt>
                <c:pt idx="650">
                  <c:v>0.0256</c:v>
                </c:pt>
                <c:pt idx="651">
                  <c:v>0.0251944634599168</c:v>
                </c:pt>
                <c:pt idx="652">
                  <c:v>0.0247969254795972</c:v>
                </c:pt>
                <c:pt idx="653">
                  <c:v>0.0244071974930432</c:v>
                </c:pt>
                <c:pt idx="654">
                  <c:v>0.0240250961002883</c:v>
                </c:pt>
                <c:pt idx="655">
                  <c:v>0.0236504429062788</c:v>
                </c:pt>
                <c:pt idx="656">
                  <c:v>0.023283064365387</c:v>
                </c:pt>
                <c:pt idx="657">
                  <c:v>0.0229227916313374</c:v>
                </c:pt>
                <c:pt idx="658">
                  <c:v>0.0225694604123377</c:v>
                </c:pt>
                <c:pt idx="659">
                  <c:v>0.0222229108312141</c:v>
                </c:pt>
                <c:pt idx="660">
                  <c:v>0.021882987290361</c:v>
                </c:pt>
                <c:pt idx="661">
                  <c:v>0.0215495383413202</c:v>
                </c:pt>
                <c:pt idx="662">
                  <c:v>0.0212224165588146</c:v>
                </c:pt>
                <c:pt idx="663">
                  <c:v>0.0209014784190686</c:v>
                </c:pt>
                <c:pt idx="664">
                  <c:v>0.0205865841822516</c:v>
                </c:pt>
                <c:pt idx="665">
                  <c:v>0.0202775977788933</c:v>
                </c:pt>
                <c:pt idx="666">
                  <c:v>0.0199743867001189</c:v>
                </c:pt>
                <c:pt idx="667">
                  <c:v>0.0196768218915637</c:v>
                </c:pt>
                <c:pt idx="668">
                  <c:v>0.0193847776508314</c:v>
                </c:pt>
                <c:pt idx="669">
                  <c:v>0.0190981315283624</c:v>
                </c:pt>
                <c:pt idx="670">
                  <c:v>0.0188167642315892</c:v>
                </c:pt>
                <c:pt idx="671">
                  <c:v>0.018540559532257</c:v>
                </c:pt>
                <c:pt idx="672">
                  <c:v>0.0182694041767939</c:v>
                </c:pt>
                <c:pt idx="673">
                  <c:v>0.0180031877996193</c:v>
                </c:pt>
                <c:pt idx="674">
                  <c:v>0.0177418028392852</c:v>
                </c:pt>
                <c:pt idx="675">
                  <c:v>0.0174851444573458</c:v>
                </c:pt>
                <c:pt idx="676">
                  <c:v>0.0172331104598595</c:v>
                </c:pt>
                <c:pt idx="677">
                  <c:v>0.0169856012214262</c:v>
                </c:pt>
                <c:pt idx="678">
                  <c:v>0.0167425196116718</c:v>
                </c:pt>
                <c:pt idx="679">
                  <c:v>0.0165037709240908</c:v>
                </c:pt>
                <c:pt idx="680">
                  <c:v>0.0162692628071637</c:v>
                </c:pt>
                <c:pt idx="681">
                  <c:v>0.0160389051976692</c:v>
                </c:pt>
                <c:pt idx="682">
                  <c:v>0.0158126102561132</c:v>
                </c:pt>
                <c:pt idx="683">
                  <c:v>0.0155902923042004</c:v>
                </c:pt>
                <c:pt idx="684">
                  <c:v>0.0153718677642774</c:v>
                </c:pt>
                <c:pt idx="685">
                  <c:v>0.0151572551006769</c:v>
                </c:pt>
                <c:pt idx="686">
                  <c:v>0.0149463747628994</c:v>
                </c:pt>
                <c:pt idx="687">
                  <c:v>0.0147391491305666</c:v>
                </c:pt>
                <c:pt idx="688">
                  <c:v>0.0145355024600861</c:v>
                </c:pt>
                <c:pt idx="689">
                  <c:v>0.0143353608329685</c:v>
                </c:pt>
                <c:pt idx="690">
                  <c:v>0.0141386521057402</c:v>
                </c:pt>
                <c:pt idx="691">
                  <c:v>0.0139453058613971</c:v>
                </c:pt>
                <c:pt idx="692">
                  <c:v>0.0137552533623473</c:v>
                </c:pt>
                <c:pt idx="693">
                  <c:v>0.0135684275047916</c:v>
                </c:pt>
                <c:pt idx="694">
                  <c:v>0.0133847627744931</c:v>
                </c:pt>
                <c:pt idx="695">
                  <c:v>0.0132041952038897</c:v>
                </c:pt>
                <c:pt idx="696">
                  <c:v>0.0130266623305042</c:v>
                </c:pt>
                <c:pt idx="697">
                  <c:v>0.0128521031566076</c:v>
                </c:pt>
                <c:pt idx="698">
                  <c:v>0.0126804581100955</c:v>
                </c:pt>
                <c:pt idx="699">
                  <c:v>0.012511669006535</c:v>
                </c:pt>
                <c:pt idx="700">
                  <c:v>0.0123456790123457</c:v>
                </c:pt>
                <c:pt idx="701">
                  <c:v>0.0121824326090752</c:v>
                </c:pt>
                <c:pt idx="702">
                  <c:v>0.0120218755587347</c:v>
                </c:pt>
                <c:pt idx="703">
                  <c:v>0.0118639548701582</c:v>
                </c:pt>
                <c:pt idx="704">
                  <c:v>0.0117086187663538</c:v>
                </c:pt>
                <c:pt idx="705">
                  <c:v>0.0115558166528129</c:v>
                </c:pt>
                <c:pt idx="706">
                  <c:v>0.0114054990867471</c:v>
                </c:pt>
                <c:pt idx="707">
                  <c:v>0.0112576177472226</c:v>
                </c:pt>
                <c:pt idx="708">
                  <c:v>0.0111121254061633</c:v>
                </c:pt>
                <c:pt idx="709">
                  <c:v>0.0109689759001937</c:v>
                </c:pt>
                <c:pt idx="710">
                  <c:v>0.010828124103296</c:v>
                </c:pt>
                <c:pt idx="711">
                  <c:v>0.0106895259002542</c:v>
                </c:pt>
                <c:pt idx="712">
                  <c:v>0.0105531381608608</c:v>
                </c:pt>
                <c:pt idx="713">
                  <c:v>0.0104189187148616</c:v>
                </c:pt>
                <c:pt idx="714">
                  <c:v>0.0102868263276148</c:v>
                </c:pt>
                <c:pt idx="715">
                  <c:v>0.010156820676443</c:v>
                </c:pt>
                <c:pt idx="716">
                  <c:v>0.0100288623276547</c:v>
                </c:pt>
                <c:pt idx="717">
                  <c:v>0.00990291271421586</c:v>
                </c:pt>
                <c:pt idx="718">
                  <c:v>0.00977893411404964</c:v>
                </c:pt>
                <c:pt idx="719">
                  <c:v>0.00965688962894622</c:v>
                </c:pt>
                <c:pt idx="720">
                  <c:v>0.0095367431640625</c:v>
                </c:pt>
                <c:pt idx="721">
                  <c:v>0.00941845940799414</c:v>
                </c:pt>
                <c:pt idx="722">
                  <c:v>0.00930200381340186</c:v>
                </c:pt>
                <c:pt idx="723">
                  <c:v>0.00918734257817515</c:v>
                </c:pt>
                <c:pt idx="724">
                  <c:v>0.00907444262711671</c:v>
                </c:pt>
                <c:pt idx="725">
                  <c:v>0.00896327159413186</c:v>
                </c:pt>
                <c:pt idx="726">
                  <c:v>0.00885379780490724</c:v>
                </c:pt>
                <c:pt idx="727">
                  <c:v>0.00874599026006416</c:v>
                </c:pt>
                <c:pt idx="728">
                  <c:v>0.00863981861877208</c:v>
                </c:pt>
                <c:pt idx="729">
                  <c:v>0.00853525318280827</c:v>
                </c:pt>
                <c:pt idx="730">
                  <c:v>0.00843226488105026</c:v>
                </c:pt>
                <c:pt idx="731">
                  <c:v>0.00833082525438802</c:v>
                </c:pt>
                <c:pt idx="732">
                  <c:v>0.00823090644104329</c:v>
                </c:pt>
                <c:pt idx="733">
                  <c:v>0.00813248116228395</c:v>
                </c:pt>
                <c:pt idx="734">
                  <c:v>0.00803552270852153</c:v>
                </c:pt>
                <c:pt idx="735">
                  <c:v>0.00794000492578056</c:v>
                </c:pt>
                <c:pt idx="736">
                  <c:v>0.00784590220252878</c:v>
                </c:pt>
                <c:pt idx="737">
                  <c:v>0.00775318945685748</c:v>
                </c:pt>
                <c:pt idx="738">
                  <c:v>0.00766184212400161</c:v>
                </c:pt>
                <c:pt idx="739">
                  <c:v>0.00757183614418984</c:v>
                </c:pt>
                <c:pt idx="740">
                  <c:v>0.00748314795081477</c:v>
                </c:pt>
                <c:pt idx="741">
                  <c:v>0.00739575445891399</c:v>
                </c:pt>
                <c:pt idx="742">
                  <c:v>0.00730963305395296</c:v>
                </c:pt>
                <c:pt idx="743">
                  <c:v>0.00722476158090089</c:v>
                </c:pt>
                <c:pt idx="744">
                  <c:v>0.00714111833359122</c:v>
                </c:pt>
                <c:pt idx="745">
                  <c:v>0.00705868204435844</c:v>
                </c:pt>
                <c:pt idx="746">
                  <c:v>0.00697743187394325</c:v>
                </c:pt>
                <c:pt idx="747">
                  <c:v>0.00689734740165851</c:v>
                </c:pt>
                <c:pt idx="748">
                  <c:v>0.00681840861580833</c:v>
                </c:pt>
                <c:pt idx="749">
                  <c:v>0.00674059590435322</c:v>
                </c:pt>
                <c:pt idx="750">
                  <c:v>0.00666389004581424</c:v>
                </c:pt>
                <c:pt idx="751">
                  <c:v>0.00658827220040937</c:v>
                </c:pt>
                <c:pt idx="752">
                  <c:v>0.00651372390141555</c:v>
                </c:pt>
                <c:pt idx="753">
                  <c:v>0.00644022704675</c:v>
                </c:pt>
                <c:pt idx="754">
                  <c:v>0.0063677638907647</c:v>
                </c:pt>
                <c:pt idx="755">
                  <c:v>0.00629631703624802</c:v>
                </c:pt>
                <c:pt idx="756">
                  <c:v>0.00622586942662759</c:v>
                </c:pt>
                <c:pt idx="757">
                  <c:v>0.00615640433836911</c:v>
                </c:pt>
                <c:pt idx="758">
                  <c:v>0.00608790537356527</c:v>
                </c:pt>
                <c:pt idx="759">
                  <c:v>0.00602035645270978</c:v>
                </c:pt>
                <c:pt idx="760">
                  <c:v>0.00595374180765128</c:v>
                </c:pt>
                <c:pt idx="761">
                  <c:v>0.00588804597472215</c:v>
                </c:pt>
                <c:pt idx="762">
                  <c:v>0.00582325378803754</c:v>
                </c:pt>
                <c:pt idx="763">
                  <c:v>0.00575935037295967</c:v>
                </c:pt>
                <c:pt idx="764">
                  <c:v>0.00569632113972329</c:v>
                </c:pt>
                <c:pt idx="765">
                  <c:v>0.00563415177721747</c:v>
                </c:pt>
                <c:pt idx="766">
                  <c:v>0.00557282824691981</c:v>
                </c:pt>
                <c:pt idx="767">
                  <c:v>0.00551233677697874</c:v>
                </c:pt>
                <c:pt idx="768">
                  <c:v>0.00545266385643991</c:v>
                </c:pt>
                <c:pt idx="769">
                  <c:v>0.00539379622961293</c:v>
                </c:pt>
                <c:pt idx="770">
                  <c:v>0.0053357208905745</c:v>
                </c:pt>
                <c:pt idx="771">
                  <c:v>0.00527842507780439</c:v>
                </c:pt>
                <c:pt idx="772">
                  <c:v>0.00522189626895061</c:v>
                </c:pt>
                <c:pt idx="773">
                  <c:v>0.00516612217572047</c:v>
                </c:pt>
                <c:pt idx="774">
                  <c:v>0.00511109073889404</c:v>
                </c:pt>
                <c:pt idx="775">
                  <c:v>0.00505679012345679</c:v>
                </c:pt>
                <c:pt idx="776">
                  <c:v>0.0050032087138483</c:v>
                </c:pt>
                <c:pt idx="777">
                  <c:v>0.00495033510932396</c:v>
                </c:pt>
                <c:pt idx="778">
                  <c:v>0.0048981581194266</c:v>
                </c:pt>
                <c:pt idx="779">
                  <c:v>0.00484666675956532</c:v>
                </c:pt>
                <c:pt idx="780">
                  <c:v>0.00479585024669854</c:v>
                </c:pt>
                <c:pt idx="781">
                  <c:v>0.00474569799511868</c:v>
                </c:pt>
                <c:pt idx="782">
                  <c:v>0.00469619961233571</c:v>
                </c:pt>
                <c:pt idx="783">
                  <c:v>0.00464734489505711</c:v>
                </c:pt>
                <c:pt idx="784">
                  <c:v>0.00459912382526163</c:v>
                </c:pt>
                <c:pt idx="785">
                  <c:v>0.00455152656636449</c:v>
                </c:pt>
                <c:pt idx="786">
                  <c:v>0.00450454345947169</c:v>
                </c:pt>
                <c:pt idx="787">
                  <c:v>0.00445816501972103</c:v>
                </c:pt>
                <c:pt idx="788">
                  <c:v>0.00441238193270767</c:v>
                </c:pt>
                <c:pt idx="789">
                  <c:v>0.00436718505099215</c:v>
                </c:pt>
                <c:pt idx="790">
                  <c:v>0.00432256539068859</c:v>
                </c:pt>
                <c:pt idx="791">
                  <c:v>0.0042785141281312</c:v>
                </c:pt>
                <c:pt idx="792">
                  <c:v>0.00423502259661695</c:v>
                </c:pt>
                <c:pt idx="793">
                  <c:v>0.00419208228322265</c:v>
                </c:pt>
                <c:pt idx="794">
                  <c:v>0.00414968482569433</c:v>
                </c:pt>
                <c:pt idx="795">
                  <c:v>0.00410782200940738</c:v>
                </c:pt>
                <c:pt idx="796">
                  <c:v>0.00406648576439538</c:v>
                </c:pt>
                <c:pt idx="797">
                  <c:v>0.00402566816244612</c:v>
                </c:pt>
                <c:pt idx="798">
                  <c:v>0.00398536141426298</c:v>
                </c:pt>
                <c:pt idx="799">
                  <c:v>0.00394555786669015</c:v>
                </c:pt>
                <c:pt idx="800">
                  <c:v>0.00390625</c:v>
                </c:pt>
              </c:numCache>
            </c:numRef>
          </c:yVal>
          <c:smooth val="1"/>
        </c:ser>
        <c:axId val="71064662"/>
        <c:axId val="34478504"/>
      </c:scatterChart>
      <c:valAx>
        <c:axId val="71064662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34478504"/>
        <c:crosses val="autoZero"/>
        <c:crossBetween val="midCat"/>
        <c:majorUnit val="2"/>
      </c:valAx>
      <c:valAx>
        <c:axId val="34478504"/>
        <c:scaling>
          <c:orientation val="minMax"/>
          <c:max val="2"/>
          <c:min val="-1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71064662"/>
        <c:crosses val="autoZero"/>
        <c:crossBetween val="midCat"/>
        <c:majorUnit val="0.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8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801"/>
                <c:pt idx="0">
                  <c:v>-4</c:v>
                </c:pt>
                <c:pt idx="1">
                  <c:v>-3.99</c:v>
                </c:pt>
                <c:pt idx="2">
                  <c:v>-3.98</c:v>
                </c:pt>
                <c:pt idx="3">
                  <c:v>-3.97</c:v>
                </c:pt>
                <c:pt idx="4">
                  <c:v>-3.96</c:v>
                </c:pt>
                <c:pt idx="5">
                  <c:v>-3.95</c:v>
                </c:pt>
                <c:pt idx="6">
                  <c:v>-3.94</c:v>
                </c:pt>
                <c:pt idx="7">
                  <c:v>-3.93</c:v>
                </c:pt>
                <c:pt idx="8">
                  <c:v>-3.92</c:v>
                </c:pt>
                <c:pt idx="9">
                  <c:v>-3.91</c:v>
                </c:pt>
                <c:pt idx="10">
                  <c:v>-3.9</c:v>
                </c:pt>
                <c:pt idx="11">
                  <c:v>-3.89</c:v>
                </c:pt>
                <c:pt idx="12">
                  <c:v>-3.88</c:v>
                </c:pt>
                <c:pt idx="13">
                  <c:v>-3.87</c:v>
                </c:pt>
                <c:pt idx="14">
                  <c:v>-3.86</c:v>
                </c:pt>
                <c:pt idx="15">
                  <c:v>-3.85</c:v>
                </c:pt>
                <c:pt idx="16">
                  <c:v>-3.84</c:v>
                </c:pt>
                <c:pt idx="17">
                  <c:v>-3.83</c:v>
                </c:pt>
                <c:pt idx="18">
                  <c:v>-3.82</c:v>
                </c:pt>
                <c:pt idx="19">
                  <c:v>-3.81</c:v>
                </c:pt>
                <c:pt idx="20">
                  <c:v>-3.8</c:v>
                </c:pt>
                <c:pt idx="21">
                  <c:v>-3.79</c:v>
                </c:pt>
                <c:pt idx="22">
                  <c:v>-3.78</c:v>
                </c:pt>
                <c:pt idx="23">
                  <c:v>-3.77</c:v>
                </c:pt>
                <c:pt idx="24">
                  <c:v>-3.76</c:v>
                </c:pt>
                <c:pt idx="25">
                  <c:v>-3.75</c:v>
                </c:pt>
                <c:pt idx="26">
                  <c:v>-3.74</c:v>
                </c:pt>
                <c:pt idx="27">
                  <c:v>-3.73</c:v>
                </c:pt>
                <c:pt idx="28">
                  <c:v>-3.72</c:v>
                </c:pt>
                <c:pt idx="29">
                  <c:v>-3.71</c:v>
                </c:pt>
                <c:pt idx="30">
                  <c:v>-3.7</c:v>
                </c:pt>
                <c:pt idx="31">
                  <c:v>-3.69</c:v>
                </c:pt>
                <c:pt idx="32">
                  <c:v>-3.68</c:v>
                </c:pt>
                <c:pt idx="33">
                  <c:v>-3.67</c:v>
                </c:pt>
                <c:pt idx="34">
                  <c:v>-3.66</c:v>
                </c:pt>
                <c:pt idx="35">
                  <c:v>-3.65</c:v>
                </c:pt>
                <c:pt idx="36">
                  <c:v>-3.64</c:v>
                </c:pt>
                <c:pt idx="37">
                  <c:v>-3.63</c:v>
                </c:pt>
                <c:pt idx="38">
                  <c:v>-3.62</c:v>
                </c:pt>
                <c:pt idx="39">
                  <c:v>-3.61</c:v>
                </c:pt>
                <c:pt idx="40">
                  <c:v>-3.6</c:v>
                </c:pt>
                <c:pt idx="41">
                  <c:v>-3.59</c:v>
                </c:pt>
                <c:pt idx="42">
                  <c:v>-3.58</c:v>
                </c:pt>
                <c:pt idx="43">
                  <c:v>-3.57</c:v>
                </c:pt>
                <c:pt idx="44">
                  <c:v>-3.56</c:v>
                </c:pt>
                <c:pt idx="45">
                  <c:v>-3.55</c:v>
                </c:pt>
                <c:pt idx="46">
                  <c:v>-3.54</c:v>
                </c:pt>
                <c:pt idx="47">
                  <c:v>-3.53</c:v>
                </c:pt>
                <c:pt idx="48">
                  <c:v>-3.52</c:v>
                </c:pt>
                <c:pt idx="49">
                  <c:v>-3.51</c:v>
                </c:pt>
                <c:pt idx="50">
                  <c:v>-3.5</c:v>
                </c:pt>
                <c:pt idx="51">
                  <c:v>-3.49</c:v>
                </c:pt>
                <c:pt idx="52">
                  <c:v>-3.48</c:v>
                </c:pt>
                <c:pt idx="53">
                  <c:v>-3.47</c:v>
                </c:pt>
                <c:pt idx="54">
                  <c:v>-3.46</c:v>
                </c:pt>
                <c:pt idx="55">
                  <c:v>-3.45</c:v>
                </c:pt>
                <c:pt idx="56">
                  <c:v>-3.44</c:v>
                </c:pt>
                <c:pt idx="57">
                  <c:v>-3.43</c:v>
                </c:pt>
                <c:pt idx="58">
                  <c:v>-3.42</c:v>
                </c:pt>
                <c:pt idx="59">
                  <c:v>-3.41</c:v>
                </c:pt>
                <c:pt idx="60">
                  <c:v>-3.4</c:v>
                </c:pt>
                <c:pt idx="61">
                  <c:v>-3.39</c:v>
                </c:pt>
                <c:pt idx="62">
                  <c:v>-3.38</c:v>
                </c:pt>
                <c:pt idx="63">
                  <c:v>-3.37</c:v>
                </c:pt>
                <c:pt idx="64">
                  <c:v>-3.36</c:v>
                </c:pt>
                <c:pt idx="65">
                  <c:v>-3.35</c:v>
                </c:pt>
                <c:pt idx="66">
                  <c:v>-3.34</c:v>
                </c:pt>
                <c:pt idx="67">
                  <c:v>-3.33</c:v>
                </c:pt>
                <c:pt idx="68">
                  <c:v>-3.32</c:v>
                </c:pt>
                <c:pt idx="69">
                  <c:v>-3.31</c:v>
                </c:pt>
                <c:pt idx="70">
                  <c:v>-3.3</c:v>
                </c:pt>
                <c:pt idx="71">
                  <c:v>-3.29</c:v>
                </c:pt>
                <c:pt idx="72">
                  <c:v>-3.28</c:v>
                </c:pt>
                <c:pt idx="73">
                  <c:v>-3.27</c:v>
                </c:pt>
                <c:pt idx="74">
                  <c:v>-3.26</c:v>
                </c:pt>
                <c:pt idx="75">
                  <c:v>-3.25</c:v>
                </c:pt>
                <c:pt idx="76">
                  <c:v>-3.24</c:v>
                </c:pt>
                <c:pt idx="77">
                  <c:v>-3.23</c:v>
                </c:pt>
                <c:pt idx="78">
                  <c:v>-3.22</c:v>
                </c:pt>
                <c:pt idx="79">
                  <c:v>-3.21</c:v>
                </c:pt>
                <c:pt idx="80">
                  <c:v>-3.2</c:v>
                </c:pt>
                <c:pt idx="81">
                  <c:v>-3.19</c:v>
                </c:pt>
                <c:pt idx="82">
                  <c:v>-3.18</c:v>
                </c:pt>
                <c:pt idx="83">
                  <c:v>-3.17</c:v>
                </c:pt>
                <c:pt idx="84">
                  <c:v>-3.16</c:v>
                </c:pt>
                <c:pt idx="85">
                  <c:v>-3.15</c:v>
                </c:pt>
                <c:pt idx="86">
                  <c:v>-3.14</c:v>
                </c:pt>
                <c:pt idx="87">
                  <c:v>-3.13</c:v>
                </c:pt>
                <c:pt idx="88">
                  <c:v>-3.12</c:v>
                </c:pt>
                <c:pt idx="89">
                  <c:v>-3.11</c:v>
                </c:pt>
                <c:pt idx="90">
                  <c:v>-3.1</c:v>
                </c:pt>
                <c:pt idx="91">
                  <c:v>-3.09</c:v>
                </c:pt>
                <c:pt idx="92">
                  <c:v>-3.08</c:v>
                </c:pt>
                <c:pt idx="93">
                  <c:v>-3.07</c:v>
                </c:pt>
                <c:pt idx="94">
                  <c:v>-3.06</c:v>
                </c:pt>
                <c:pt idx="95">
                  <c:v>-3.05</c:v>
                </c:pt>
                <c:pt idx="96">
                  <c:v>-3.04</c:v>
                </c:pt>
                <c:pt idx="97">
                  <c:v>-3.03</c:v>
                </c:pt>
                <c:pt idx="98">
                  <c:v>-3.02</c:v>
                </c:pt>
                <c:pt idx="99">
                  <c:v>-3.01</c:v>
                </c:pt>
                <c:pt idx="100">
                  <c:v>-3</c:v>
                </c:pt>
                <c:pt idx="101">
                  <c:v>-2.99</c:v>
                </c:pt>
                <c:pt idx="102">
                  <c:v>-2.98</c:v>
                </c:pt>
                <c:pt idx="103">
                  <c:v>-2.97</c:v>
                </c:pt>
                <c:pt idx="104">
                  <c:v>-2.96</c:v>
                </c:pt>
                <c:pt idx="105">
                  <c:v>-2.95</c:v>
                </c:pt>
                <c:pt idx="106">
                  <c:v>-2.94</c:v>
                </c:pt>
                <c:pt idx="107">
                  <c:v>-2.93</c:v>
                </c:pt>
                <c:pt idx="108">
                  <c:v>-2.92</c:v>
                </c:pt>
                <c:pt idx="109">
                  <c:v>-2.91</c:v>
                </c:pt>
                <c:pt idx="110">
                  <c:v>-2.9</c:v>
                </c:pt>
                <c:pt idx="111">
                  <c:v>-2.89</c:v>
                </c:pt>
                <c:pt idx="112">
                  <c:v>-2.88</c:v>
                </c:pt>
                <c:pt idx="113">
                  <c:v>-2.87</c:v>
                </c:pt>
                <c:pt idx="114">
                  <c:v>-2.86</c:v>
                </c:pt>
                <c:pt idx="115">
                  <c:v>-2.85</c:v>
                </c:pt>
                <c:pt idx="116">
                  <c:v>-2.84</c:v>
                </c:pt>
                <c:pt idx="117">
                  <c:v>-2.83</c:v>
                </c:pt>
                <c:pt idx="118">
                  <c:v>-2.82</c:v>
                </c:pt>
                <c:pt idx="119">
                  <c:v>-2.81</c:v>
                </c:pt>
                <c:pt idx="120">
                  <c:v>-2.8</c:v>
                </c:pt>
                <c:pt idx="121">
                  <c:v>-2.79</c:v>
                </c:pt>
                <c:pt idx="122">
                  <c:v>-2.78</c:v>
                </c:pt>
                <c:pt idx="123">
                  <c:v>-2.77</c:v>
                </c:pt>
                <c:pt idx="124">
                  <c:v>-2.76</c:v>
                </c:pt>
                <c:pt idx="125">
                  <c:v>-2.75</c:v>
                </c:pt>
                <c:pt idx="126">
                  <c:v>-2.74</c:v>
                </c:pt>
                <c:pt idx="127">
                  <c:v>-2.73</c:v>
                </c:pt>
                <c:pt idx="128">
                  <c:v>-2.72</c:v>
                </c:pt>
                <c:pt idx="129">
                  <c:v>-2.71</c:v>
                </c:pt>
                <c:pt idx="130">
                  <c:v>-2.7</c:v>
                </c:pt>
                <c:pt idx="131">
                  <c:v>-2.69</c:v>
                </c:pt>
                <c:pt idx="132">
                  <c:v>-2.68</c:v>
                </c:pt>
                <c:pt idx="133">
                  <c:v>-2.67</c:v>
                </c:pt>
                <c:pt idx="134">
                  <c:v>-2.66</c:v>
                </c:pt>
                <c:pt idx="135">
                  <c:v>-2.65</c:v>
                </c:pt>
                <c:pt idx="136">
                  <c:v>-2.64</c:v>
                </c:pt>
                <c:pt idx="137">
                  <c:v>-2.63</c:v>
                </c:pt>
                <c:pt idx="138">
                  <c:v>-2.62</c:v>
                </c:pt>
                <c:pt idx="139">
                  <c:v>-2.61</c:v>
                </c:pt>
                <c:pt idx="140">
                  <c:v>-2.6</c:v>
                </c:pt>
                <c:pt idx="141">
                  <c:v>-2.59</c:v>
                </c:pt>
                <c:pt idx="142">
                  <c:v>-2.58</c:v>
                </c:pt>
                <c:pt idx="143">
                  <c:v>-2.57</c:v>
                </c:pt>
                <c:pt idx="144">
                  <c:v>-2.56</c:v>
                </c:pt>
                <c:pt idx="145">
                  <c:v>-2.55</c:v>
                </c:pt>
                <c:pt idx="146">
                  <c:v>-2.54</c:v>
                </c:pt>
                <c:pt idx="147">
                  <c:v>-2.53</c:v>
                </c:pt>
                <c:pt idx="148">
                  <c:v>-2.52</c:v>
                </c:pt>
                <c:pt idx="149">
                  <c:v>-2.51</c:v>
                </c:pt>
                <c:pt idx="150">
                  <c:v>-2.5</c:v>
                </c:pt>
                <c:pt idx="151">
                  <c:v>-2.49</c:v>
                </c:pt>
                <c:pt idx="152">
                  <c:v>-2.48</c:v>
                </c:pt>
                <c:pt idx="153">
                  <c:v>-2.47</c:v>
                </c:pt>
                <c:pt idx="154">
                  <c:v>-2.46</c:v>
                </c:pt>
                <c:pt idx="155">
                  <c:v>-2.45</c:v>
                </c:pt>
                <c:pt idx="156">
                  <c:v>-2.44</c:v>
                </c:pt>
                <c:pt idx="157">
                  <c:v>-2.43</c:v>
                </c:pt>
                <c:pt idx="158">
                  <c:v>-2.42</c:v>
                </c:pt>
                <c:pt idx="159">
                  <c:v>-2.41</c:v>
                </c:pt>
                <c:pt idx="160">
                  <c:v>-2.4</c:v>
                </c:pt>
                <c:pt idx="161">
                  <c:v>-2.39</c:v>
                </c:pt>
                <c:pt idx="162">
                  <c:v>-2.38</c:v>
                </c:pt>
                <c:pt idx="163">
                  <c:v>-2.37</c:v>
                </c:pt>
                <c:pt idx="164">
                  <c:v>-2.36</c:v>
                </c:pt>
                <c:pt idx="165">
                  <c:v>-2.35</c:v>
                </c:pt>
                <c:pt idx="166">
                  <c:v>-2.34</c:v>
                </c:pt>
                <c:pt idx="167">
                  <c:v>-2.33</c:v>
                </c:pt>
                <c:pt idx="168">
                  <c:v>-2.32</c:v>
                </c:pt>
                <c:pt idx="169">
                  <c:v>-2.31</c:v>
                </c:pt>
                <c:pt idx="170">
                  <c:v>-2.3</c:v>
                </c:pt>
                <c:pt idx="171">
                  <c:v>-2.29</c:v>
                </c:pt>
                <c:pt idx="172">
                  <c:v>-2.28</c:v>
                </c:pt>
                <c:pt idx="173">
                  <c:v>-2.27</c:v>
                </c:pt>
                <c:pt idx="174">
                  <c:v>-2.26</c:v>
                </c:pt>
                <c:pt idx="175">
                  <c:v>-2.25</c:v>
                </c:pt>
                <c:pt idx="176">
                  <c:v>-2.24</c:v>
                </c:pt>
                <c:pt idx="177">
                  <c:v>-2.23</c:v>
                </c:pt>
                <c:pt idx="178">
                  <c:v>-2.22</c:v>
                </c:pt>
                <c:pt idx="179">
                  <c:v>-2.21</c:v>
                </c:pt>
                <c:pt idx="180">
                  <c:v>-2.2</c:v>
                </c:pt>
                <c:pt idx="181">
                  <c:v>-2.19</c:v>
                </c:pt>
                <c:pt idx="182">
                  <c:v>-2.18</c:v>
                </c:pt>
                <c:pt idx="183">
                  <c:v>-2.17</c:v>
                </c:pt>
                <c:pt idx="184">
                  <c:v>-2.16</c:v>
                </c:pt>
                <c:pt idx="185">
                  <c:v>-2.15</c:v>
                </c:pt>
                <c:pt idx="186">
                  <c:v>-2.14</c:v>
                </c:pt>
                <c:pt idx="187">
                  <c:v>-2.13</c:v>
                </c:pt>
                <c:pt idx="188">
                  <c:v>-2.12</c:v>
                </c:pt>
                <c:pt idx="189">
                  <c:v>-2.11</c:v>
                </c:pt>
                <c:pt idx="190">
                  <c:v>-2.1</c:v>
                </c:pt>
                <c:pt idx="191">
                  <c:v>-2.09</c:v>
                </c:pt>
                <c:pt idx="192">
                  <c:v>-2.08</c:v>
                </c:pt>
                <c:pt idx="193">
                  <c:v>-2.07</c:v>
                </c:pt>
                <c:pt idx="194">
                  <c:v>-2.06</c:v>
                </c:pt>
                <c:pt idx="195">
                  <c:v>-2.05</c:v>
                </c:pt>
                <c:pt idx="196">
                  <c:v>-2.04</c:v>
                </c:pt>
                <c:pt idx="197">
                  <c:v>-2.03</c:v>
                </c:pt>
                <c:pt idx="198">
                  <c:v>-2.02</c:v>
                </c:pt>
                <c:pt idx="199">
                  <c:v>-2.01</c:v>
                </c:pt>
                <c:pt idx="200">
                  <c:v>-2</c:v>
                </c:pt>
                <c:pt idx="201">
                  <c:v>-1.99</c:v>
                </c:pt>
                <c:pt idx="202">
                  <c:v>-1.98</c:v>
                </c:pt>
                <c:pt idx="203">
                  <c:v>-1.97</c:v>
                </c:pt>
                <c:pt idx="204">
                  <c:v>-1.96</c:v>
                </c:pt>
                <c:pt idx="205">
                  <c:v>-1.95</c:v>
                </c:pt>
                <c:pt idx="206">
                  <c:v>-1.94</c:v>
                </c:pt>
                <c:pt idx="207">
                  <c:v>-1.93</c:v>
                </c:pt>
                <c:pt idx="208">
                  <c:v>-1.92</c:v>
                </c:pt>
                <c:pt idx="209">
                  <c:v>-1.91</c:v>
                </c:pt>
                <c:pt idx="210">
                  <c:v>-1.9</c:v>
                </c:pt>
                <c:pt idx="211">
                  <c:v>-1.89</c:v>
                </c:pt>
                <c:pt idx="212">
                  <c:v>-1.88</c:v>
                </c:pt>
                <c:pt idx="213">
                  <c:v>-1.87</c:v>
                </c:pt>
                <c:pt idx="214">
                  <c:v>-1.86</c:v>
                </c:pt>
                <c:pt idx="215">
                  <c:v>-1.85</c:v>
                </c:pt>
                <c:pt idx="216">
                  <c:v>-1.84</c:v>
                </c:pt>
                <c:pt idx="217">
                  <c:v>-1.83</c:v>
                </c:pt>
                <c:pt idx="218">
                  <c:v>-1.82</c:v>
                </c:pt>
                <c:pt idx="219">
                  <c:v>-1.81</c:v>
                </c:pt>
                <c:pt idx="220">
                  <c:v>-1.8</c:v>
                </c:pt>
                <c:pt idx="221">
                  <c:v>-1.79</c:v>
                </c:pt>
                <c:pt idx="222">
                  <c:v>-1.78</c:v>
                </c:pt>
                <c:pt idx="223">
                  <c:v>-1.77</c:v>
                </c:pt>
                <c:pt idx="224">
                  <c:v>-1.76</c:v>
                </c:pt>
                <c:pt idx="225">
                  <c:v>-1.75</c:v>
                </c:pt>
                <c:pt idx="226">
                  <c:v>-1.74</c:v>
                </c:pt>
                <c:pt idx="227">
                  <c:v>-1.73</c:v>
                </c:pt>
                <c:pt idx="228">
                  <c:v>-1.72</c:v>
                </c:pt>
                <c:pt idx="229">
                  <c:v>-1.71</c:v>
                </c:pt>
                <c:pt idx="230">
                  <c:v>-1.7</c:v>
                </c:pt>
                <c:pt idx="231">
                  <c:v>-1.69</c:v>
                </c:pt>
                <c:pt idx="232">
                  <c:v>-1.68</c:v>
                </c:pt>
                <c:pt idx="233">
                  <c:v>-1.67</c:v>
                </c:pt>
                <c:pt idx="234">
                  <c:v>-1.66</c:v>
                </c:pt>
                <c:pt idx="235">
                  <c:v>-1.65</c:v>
                </c:pt>
                <c:pt idx="236">
                  <c:v>-1.64</c:v>
                </c:pt>
                <c:pt idx="237">
                  <c:v>-1.63</c:v>
                </c:pt>
                <c:pt idx="238">
                  <c:v>-1.62</c:v>
                </c:pt>
                <c:pt idx="239">
                  <c:v>-1.61</c:v>
                </c:pt>
                <c:pt idx="240">
                  <c:v>-1.6</c:v>
                </c:pt>
                <c:pt idx="241">
                  <c:v>-1.59</c:v>
                </c:pt>
                <c:pt idx="242">
                  <c:v>-1.58</c:v>
                </c:pt>
                <c:pt idx="243">
                  <c:v>-1.57</c:v>
                </c:pt>
                <c:pt idx="244">
                  <c:v>-1.56</c:v>
                </c:pt>
                <c:pt idx="245">
                  <c:v>-1.55</c:v>
                </c:pt>
                <c:pt idx="246">
                  <c:v>-1.54</c:v>
                </c:pt>
                <c:pt idx="247">
                  <c:v>-1.53</c:v>
                </c:pt>
                <c:pt idx="248">
                  <c:v>-1.52</c:v>
                </c:pt>
                <c:pt idx="249">
                  <c:v>-1.51</c:v>
                </c:pt>
                <c:pt idx="250">
                  <c:v>-1.5</c:v>
                </c:pt>
                <c:pt idx="251">
                  <c:v>-1.49</c:v>
                </c:pt>
                <c:pt idx="252">
                  <c:v>-1.48</c:v>
                </c:pt>
                <c:pt idx="253">
                  <c:v>-1.47</c:v>
                </c:pt>
                <c:pt idx="254">
                  <c:v>-1.46</c:v>
                </c:pt>
                <c:pt idx="255">
                  <c:v>-1.45</c:v>
                </c:pt>
                <c:pt idx="256">
                  <c:v>-1.44</c:v>
                </c:pt>
                <c:pt idx="257">
                  <c:v>-1.43</c:v>
                </c:pt>
                <c:pt idx="258">
                  <c:v>-1.42</c:v>
                </c:pt>
                <c:pt idx="259">
                  <c:v>-1.41</c:v>
                </c:pt>
                <c:pt idx="260">
                  <c:v>-1.4</c:v>
                </c:pt>
                <c:pt idx="261">
                  <c:v>-1.39</c:v>
                </c:pt>
                <c:pt idx="262">
                  <c:v>-1.38</c:v>
                </c:pt>
                <c:pt idx="263">
                  <c:v>-1.37</c:v>
                </c:pt>
                <c:pt idx="264">
                  <c:v>-1.36</c:v>
                </c:pt>
                <c:pt idx="265">
                  <c:v>-1.35</c:v>
                </c:pt>
                <c:pt idx="266">
                  <c:v>-1.34</c:v>
                </c:pt>
                <c:pt idx="267">
                  <c:v>-1.33</c:v>
                </c:pt>
                <c:pt idx="268">
                  <c:v>-1.32</c:v>
                </c:pt>
                <c:pt idx="269">
                  <c:v>-1.31</c:v>
                </c:pt>
                <c:pt idx="270">
                  <c:v>-1.3</c:v>
                </c:pt>
                <c:pt idx="271">
                  <c:v>-1.29</c:v>
                </c:pt>
                <c:pt idx="272">
                  <c:v>-1.28</c:v>
                </c:pt>
                <c:pt idx="273">
                  <c:v>-1.27</c:v>
                </c:pt>
                <c:pt idx="274">
                  <c:v>-1.26</c:v>
                </c:pt>
                <c:pt idx="275">
                  <c:v>-1.25</c:v>
                </c:pt>
                <c:pt idx="276">
                  <c:v>-1.24</c:v>
                </c:pt>
                <c:pt idx="277">
                  <c:v>-1.23</c:v>
                </c:pt>
                <c:pt idx="278">
                  <c:v>-1.22</c:v>
                </c:pt>
                <c:pt idx="279">
                  <c:v>-1.21</c:v>
                </c:pt>
                <c:pt idx="280">
                  <c:v>-1.2</c:v>
                </c:pt>
                <c:pt idx="281">
                  <c:v>-1.19</c:v>
                </c:pt>
                <c:pt idx="282">
                  <c:v>-1.18</c:v>
                </c:pt>
                <c:pt idx="283">
                  <c:v>-1.17</c:v>
                </c:pt>
                <c:pt idx="284">
                  <c:v>-1.16</c:v>
                </c:pt>
                <c:pt idx="285">
                  <c:v>-1.15</c:v>
                </c:pt>
                <c:pt idx="286">
                  <c:v>-1.14</c:v>
                </c:pt>
                <c:pt idx="287">
                  <c:v>-1.13</c:v>
                </c:pt>
                <c:pt idx="288">
                  <c:v>-1.12</c:v>
                </c:pt>
                <c:pt idx="289">
                  <c:v>-1.11</c:v>
                </c:pt>
                <c:pt idx="290">
                  <c:v>-1.1</c:v>
                </c:pt>
                <c:pt idx="291">
                  <c:v>-1.09</c:v>
                </c:pt>
                <c:pt idx="292">
                  <c:v>-1.08</c:v>
                </c:pt>
                <c:pt idx="293">
                  <c:v>-1.07</c:v>
                </c:pt>
                <c:pt idx="294">
                  <c:v>-1.06</c:v>
                </c:pt>
                <c:pt idx="295">
                  <c:v>-1.05</c:v>
                </c:pt>
                <c:pt idx="296">
                  <c:v>-1.04</c:v>
                </c:pt>
                <c:pt idx="297">
                  <c:v>-1.03</c:v>
                </c:pt>
                <c:pt idx="298">
                  <c:v>-1.02</c:v>
                </c:pt>
                <c:pt idx="299">
                  <c:v>-1.01</c:v>
                </c:pt>
                <c:pt idx="300">
                  <c:v>-1</c:v>
                </c:pt>
                <c:pt idx="301">
                  <c:v>-0.99</c:v>
                </c:pt>
                <c:pt idx="302">
                  <c:v>-0.98</c:v>
                </c:pt>
                <c:pt idx="303">
                  <c:v>-0.97</c:v>
                </c:pt>
                <c:pt idx="304">
                  <c:v>-0.96</c:v>
                </c:pt>
                <c:pt idx="305">
                  <c:v>-0.95</c:v>
                </c:pt>
                <c:pt idx="306">
                  <c:v>-0.94</c:v>
                </c:pt>
                <c:pt idx="307">
                  <c:v>-0.93</c:v>
                </c:pt>
                <c:pt idx="308">
                  <c:v>-0.92</c:v>
                </c:pt>
                <c:pt idx="309">
                  <c:v>-0.91</c:v>
                </c:pt>
                <c:pt idx="310">
                  <c:v>-0.9</c:v>
                </c:pt>
                <c:pt idx="311">
                  <c:v>-0.89</c:v>
                </c:pt>
                <c:pt idx="312">
                  <c:v>-0.88</c:v>
                </c:pt>
                <c:pt idx="313">
                  <c:v>-0.87</c:v>
                </c:pt>
                <c:pt idx="314">
                  <c:v>-0.86</c:v>
                </c:pt>
                <c:pt idx="315">
                  <c:v>-0.85</c:v>
                </c:pt>
                <c:pt idx="316">
                  <c:v>-0.84</c:v>
                </c:pt>
                <c:pt idx="317">
                  <c:v>-0.83</c:v>
                </c:pt>
                <c:pt idx="318">
                  <c:v>-0.82</c:v>
                </c:pt>
                <c:pt idx="319">
                  <c:v>-0.81</c:v>
                </c:pt>
                <c:pt idx="320">
                  <c:v>-0.8</c:v>
                </c:pt>
                <c:pt idx="321">
                  <c:v>-0.79</c:v>
                </c:pt>
                <c:pt idx="322">
                  <c:v>-0.78</c:v>
                </c:pt>
                <c:pt idx="323">
                  <c:v>-0.77</c:v>
                </c:pt>
                <c:pt idx="324">
                  <c:v>-0.76</c:v>
                </c:pt>
                <c:pt idx="325">
                  <c:v>-0.75</c:v>
                </c:pt>
                <c:pt idx="326">
                  <c:v>-0.74</c:v>
                </c:pt>
                <c:pt idx="327">
                  <c:v>-0.73</c:v>
                </c:pt>
                <c:pt idx="328">
                  <c:v>-0.72</c:v>
                </c:pt>
                <c:pt idx="329">
                  <c:v>-0.71</c:v>
                </c:pt>
                <c:pt idx="330">
                  <c:v>-0.7</c:v>
                </c:pt>
                <c:pt idx="331">
                  <c:v>-0.69</c:v>
                </c:pt>
                <c:pt idx="332">
                  <c:v>-0.68</c:v>
                </c:pt>
                <c:pt idx="333">
                  <c:v>-0.67</c:v>
                </c:pt>
                <c:pt idx="334">
                  <c:v>-0.66</c:v>
                </c:pt>
                <c:pt idx="335">
                  <c:v>-0.65</c:v>
                </c:pt>
                <c:pt idx="336">
                  <c:v>-0.64</c:v>
                </c:pt>
                <c:pt idx="337">
                  <c:v>-0.63</c:v>
                </c:pt>
                <c:pt idx="338">
                  <c:v>-0.62</c:v>
                </c:pt>
                <c:pt idx="339">
                  <c:v>-0.61</c:v>
                </c:pt>
                <c:pt idx="340">
                  <c:v>-0.6</c:v>
                </c:pt>
                <c:pt idx="341">
                  <c:v>-0.59</c:v>
                </c:pt>
                <c:pt idx="342">
                  <c:v>-0.58</c:v>
                </c:pt>
                <c:pt idx="343">
                  <c:v>-0.57</c:v>
                </c:pt>
                <c:pt idx="344">
                  <c:v>-0.56</c:v>
                </c:pt>
                <c:pt idx="345">
                  <c:v>-0.55</c:v>
                </c:pt>
                <c:pt idx="346">
                  <c:v>-0.54</c:v>
                </c:pt>
                <c:pt idx="347">
                  <c:v>-0.53</c:v>
                </c:pt>
                <c:pt idx="348">
                  <c:v>-0.52</c:v>
                </c:pt>
                <c:pt idx="349">
                  <c:v>-0.51</c:v>
                </c:pt>
                <c:pt idx="350">
                  <c:v>-0.5</c:v>
                </c:pt>
                <c:pt idx="351">
                  <c:v>-0.49</c:v>
                </c:pt>
                <c:pt idx="352">
                  <c:v>-0.48</c:v>
                </c:pt>
                <c:pt idx="353">
                  <c:v>-0.47</c:v>
                </c:pt>
                <c:pt idx="354">
                  <c:v>-0.46</c:v>
                </c:pt>
                <c:pt idx="355">
                  <c:v>-0.45</c:v>
                </c:pt>
                <c:pt idx="356">
                  <c:v>-0.44</c:v>
                </c:pt>
                <c:pt idx="357">
                  <c:v>-0.43</c:v>
                </c:pt>
                <c:pt idx="358">
                  <c:v>-0.42</c:v>
                </c:pt>
                <c:pt idx="359">
                  <c:v>-0.41</c:v>
                </c:pt>
                <c:pt idx="360">
                  <c:v>-0.4</c:v>
                </c:pt>
                <c:pt idx="361">
                  <c:v>-0.39</c:v>
                </c:pt>
                <c:pt idx="362">
                  <c:v>-0.38</c:v>
                </c:pt>
                <c:pt idx="363">
                  <c:v>-0.37</c:v>
                </c:pt>
                <c:pt idx="364">
                  <c:v>-0.36</c:v>
                </c:pt>
                <c:pt idx="365">
                  <c:v>-0.35</c:v>
                </c:pt>
                <c:pt idx="366">
                  <c:v>-0.34</c:v>
                </c:pt>
                <c:pt idx="367">
                  <c:v>-0.33</c:v>
                </c:pt>
                <c:pt idx="368">
                  <c:v>-0.32</c:v>
                </c:pt>
                <c:pt idx="369">
                  <c:v>-0.31</c:v>
                </c:pt>
                <c:pt idx="370">
                  <c:v>-0.3</c:v>
                </c:pt>
                <c:pt idx="371">
                  <c:v>-0.29</c:v>
                </c:pt>
                <c:pt idx="372">
                  <c:v>-0.28</c:v>
                </c:pt>
                <c:pt idx="373">
                  <c:v>-0.27</c:v>
                </c:pt>
                <c:pt idx="374">
                  <c:v>-0.26</c:v>
                </c:pt>
                <c:pt idx="375">
                  <c:v>-0.25</c:v>
                </c:pt>
                <c:pt idx="376">
                  <c:v>-0.24</c:v>
                </c:pt>
                <c:pt idx="377">
                  <c:v>-0.23</c:v>
                </c:pt>
                <c:pt idx="378">
                  <c:v>-0.22</c:v>
                </c:pt>
                <c:pt idx="379">
                  <c:v>-0.21</c:v>
                </c:pt>
                <c:pt idx="380">
                  <c:v>-0.2</c:v>
                </c:pt>
                <c:pt idx="381">
                  <c:v>-0.19</c:v>
                </c:pt>
                <c:pt idx="382">
                  <c:v>-0.18</c:v>
                </c:pt>
                <c:pt idx="383">
                  <c:v>-0.17</c:v>
                </c:pt>
                <c:pt idx="384">
                  <c:v>-0.16</c:v>
                </c:pt>
                <c:pt idx="385">
                  <c:v>-0.15</c:v>
                </c:pt>
                <c:pt idx="386">
                  <c:v>-0.14</c:v>
                </c:pt>
                <c:pt idx="387">
                  <c:v>-0.13</c:v>
                </c:pt>
                <c:pt idx="388">
                  <c:v>-0.12</c:v>
                </c:pt>
                <c:pt idx="389">
                  <c:v>-0.11</c:v>
                </c:pt>
                <c:pt idx="390">
                  <c:v>-0.1</c:v>
                </c:pt>
                <c:pt idx="391">
                  <c:v>-0.0899999999999999</c:v>
                </c:pt>
                <c:pt idx="392">
                  <c:v>-0.0800000000000001</c:v>
                </c:pt>
                <c:pt idx="393">
                  <c:v>-0.0699999999999998</c:v>
                </c:pt>
                <c:pt idx="394">
                  <c:v>-0.0600000000000001</c:v>
                </c:pt>
                <c:pt idx="395">
                  <c:v>-0.0499999999999998</c:v>
                </c:pt>
                <c:pt idx="396">
                  <c:v>-0.04</c:v>
                </c:pt>
                <c:pt idx="397">
                  <c:v>-0.0299999999999998</c:v>
                </c:pt>
                <c:pt idx="398">
                  <c:v>-0.02</c:v>
                </c:pt>
                <c:pt idx="399">
                  <c:v>-0.00999999999999979</c:v>
                </c:pt>
                <c:pt idx="401">
                  <c:v>0.00999999999999979</c:v>
                </c:pt>
                <c:pt idx="402">
                  <c:v>0.0200000000000005</c:v>
                </c:pt>
                <c:pt idx="403">
                  <c:v>0.0300000000000003</c:v>
                </c:pt>
                <c:pt idx="404">
                  <c:v>0.04</c:v>
                </c:pt>
                <c:pt idx="405">
                  <c:v>0.0499999999999998</c:v>
                </c:pt>
                <c:pt idx="406">
                  <c:v>0.0600000000000005</c:v>
                </c:pt>
                <c:pt idx="407">
                  <c:v>0.0700000000000003</c:v>
                </c:pt>
                <c:pt idx="408">
                  <c:v>0.0800000000000001</c:v>
                </c:pt>
                <c:pt idx="409">
                  <c:v>0.0899999999999999</c:v>
                </c:pt>
                <c:pt idx="410">
                  <c:v>0.0999999999999996</c:v>
                </c:pt>
                <c:pt idx="411">
                  <c:v>0.11</c:v>
                </c:pt>
                <c:pt idx="412">
                  <c:v>0.12</c:v>
                </c:pt>
                <c:pt idx="413">
                  <c:v>0.13</c:v>
                </c:pt>
                <c:pt idx="414">
                  <c:v>0.14</c:v>
                </c:pt>
                <c:pt idx="415">
                  <c:v>0.15</c:v>
                </c:pt>
                <c:pt idx="416">
                  <c:v>0.16</c:v>
                </c:pt>
                <c:pt idx="417">
                  <c:v>0.17</c:v>
                </c:pt>
                <c:pt idx="418">
                  <c:v>0.18</c:v>
                </c:pt>
                <c:pt idx="419">
                  <c:v>0.19</c:v>
                </c:pt>
                <c:pt idx="420">
                  <c:v>0.2</c:v>
                </c:pt>
                <c:pt idx="421">
                  <c:v>0.21</c:v>
                </c:pt>
                <c:pt idx="422">
                  <c:v>0.22</c:v>
                </c:pt>
                <c:pt idx="423">
                  <c:v>0.23</c:v>
                </c:pt>
                <c:pt idx="424">
                  <c:v>0.24</c:v>
                </c:pt>
                <c:pt idx="425">
                  <c:v>0.25</c:v>
                </c:pt>
                <c:pt idx="426">
                  <c:v>0.26</c:v>
                </c:pt>
                <c:pt idx="427">
                  <c:v>0.27</c:v>
                </c:pt>
                <c:pt idx="428">
                  <c:v>0.28</c:v>
                </c:pt>
                <c:pt idx="429">
                  <c:v>0.29</c:v>
                </c:pt>
                <c:pt idx="430">
                  <c:v>0.3</c:v>
                </c:pt>
                <c:pt idx="431">
                  <c:v>0.310000000000001</c:v>
                </c:pt>
                <c:pt idx="432">
                  <c:v>0.32</c:v>
                </c:pt>
                <c:pt idx="433">
                  <c:v>0.33</c:v>
                </c:pt>
                <c:pt idx="434">
                  <c:v>0.34</c:v>
                </c:pt>
                <c:pt idx="435">
                  <c:v>0.350000000000001</c:v>
                </c:pt>
                <c:pt idx="436">
                  <c:v>0.36</c:v>
                </c:pt>
                <c:pt idx="437">
                  <c:v>0.37</c:v>
                </c:pt>
                <c:pt idx="438">
                  <c:v>0.38</c:v>
                </c:pt>
                <c:pt idx="439">
                  <c:v>0.39</c:v>
                </c:pt>
                <c:pt idx="440">
                  <c:v>0.4</c:v>
                </c:pt>
                <c:pt idx="441">
                  <c:v>0.41</c:v>
                </c:pt>
                <c:pt idx="442">
                  <c:v>0.42</c:v>
                </c:pt>
                <c:pt idx="443">
                  <c:v>0.43</c:v>
                </c:pt>
                <c:pt idx="444">
                  <c:v>0.44</c:v>
                </c:pt>
                <c:pt idx="445">
                  <c:v>0.45</c:v>
                </c:pt>
                <c:pt idx="446">
                  <c:v>0.46</c:v>
                </c:pt>
                <c:pt idx="447">
                  <c:v>0.47</c:v>
                </c:pt>
                <c:pt idx="448">
                  <c:v>0.48</c:v>
                </c:pt>
                <c:pt idx="449">
                  <c:v>0.49</c:v>
                </c:pt>
                <c:pt idx="450">
                  <c:v>0.5</c:v>
                </c:pt>
                <c:pt idx="451">
                  <c:v>0.51</c:v>
                </c:pt>
                <c:pt idx="452">
                  <c:v>0.520000000000001</c:v>
                </c:pt>
                <c:pt idx="453">
                  <c:v>0.53</c:v>
                </c:pt>
                <c:pt idx="454">
                  <c:v>0.54</c:v>
                </c:pt>
                <c:pt idx="455">
                  <c:v>0.55</c:v>
                </c:pt>
                <c:pt idx="456">
                  <c:v>0.560000000000001</c:v>
                </c:pt>
                <c:pt idx="457">
                  <c:v>0.57</c:v>
                </c:pt>
                <c:pt idx="458">
                  <c:v>0.58</c:v>
                </c:pt>
                <c:pt idx="459">
                  <c:v>0.59</c:v>
                </c:pt>
                <c:pt idx="460">
                  <c:v>0.600000000000001</c:v>
                </c:pt>
                <c:pt idx="461">
                  <c:v>0.61</c:v>
                </c:pt>
                <c:pt idx="462">
                  <c:v>0.62</c:v>
                </c:pt>
                <c:pt idx="463">
                  <c:v>0.63</c:v>
                </c:pt>
                <c:pt idx="464">
                  <c:v>0.64</c:v>
                </c:pt>
                <c:pt idx="465">
                  <c:v>0.65</c:v>
                </c:pt>
                <c:pt idx="466">
                  <c:v>0.66</c:v>
                </c:pt>
                <c:pt idx="467">
                  <c:v>0.67</c:v>
                </c:pt>
                <c:pt idx="468">
                  <c:v>0.68</c:v>
                </c:pt>
                <c:pt idx="469">
                  <c:v>0.69</c:v>
                </c:pt>
                <c:pt idx="470">
                  <c:v>0.7</c:v>
                </c:pt>
                <c:pt idx="471">
                  <c:v>0.71</c:v>
                </c:pt>
                <c:pt idx="472">
                  <c:v>0.72</c:v>
                </c:pt>
                <c:pt idx="473">
                  <c:v>0.73</c:v>
                </c:pt>
                <c:pt idx="474">
                  <c:v>0.74</c:v>
                </c:pt>
                <c:pt idx="475">
                  <c:v>0.75</c:v>
                </c:pt>
                <c:pt idx="476">
                  <c:v>0.76</c:v>
                </c:pt>
                <c:pt idx="477">
                  <c:v>0.770000000000001</c:v>
                </c:pt>
                <c:pt idx="478">
                  <c:v>0.78</c:v>
                </c:pt>
                <c:pt idx="479">
                  <c:v>0.79</c:v>
                </c:pt>
                <c:pt idx="480">
                  <c:v>0.8</c:v>
                </c:pt>
                <c:pt idx="481">
                  <c:v>0.810000000000001</c:v>
                </c:pt>
                <c:pt idx="482">
                  <c:v>0.82</c:v>
                </c:pt>
                <c:pt idx="483">
                  <c:v>0.83</c:v>
                </c:pt>
                <c:pt idx="484">
                  <c:v>0.84</c:v>
                </c:pt>
                <c:pt idx="485">
                  <c:v>0.850000000000001</c:v>
                </c:pt>
                <c:pt idx="486">
                  <c:v>0.86</c:v>
                </c:pt>
                <c:pt idx="487">
                  <c:v>0.87</c:v>
                </c:pt>
                <c:pt idx="488">
                  <c:v>0.88</c:v>
                </c:pt>
                <c:pt idx="489">
                  <c:v>0.89</c:v>
                </c:pt>
                <c:pt idx="490">
                  <c:v>0.9</c:v>
                </c:pt>
                <c:pt idx="491">
                  <c:v>0.91</c:v>
                </c:pt>
                <c:pt idx="492">
                  <c:v>0.92</c:v>
                </c:pt>
                <c:pt idx="493">
                  <c:v>0.93</c:v>
                </c:pt>
                <c:pt idx="494">
                  <c:v>0.94</c:v>
                </c:pt>
                <c:pt idx="495">
                  <c:v>0.95</c:v>
                </c:pt>
                <c:pt idx="496">
                  <c:v>0.96</c:v>
                </c:pt>
                <c:pt idx="497">
                  <c:v>0.97</c:v>
                </c:pt>
                <c:pt idx="498">
                  <c:v>0.98</c:v>
                </c:pt>
                <c:pt idx="499">
                  <c:v>0.99</c:v>
                </c:pt>
                <c:pt idx="500">
                  <c:v>1</c:v>
                </c:pt>
                <c:pt idx="501">
                  <c:v>1.01</c:v>
                </c:pt>
                <c:pt idx="502">
                  <c:v>1.02</c:v>
                </c:pt>
                <c:pt idx="503">
                  <c:v>1.03</c:v>
                </c:pt>
                <c:pt idx="504">
                  <c:v>1.04</c:v>
                </c:pt>
                <c:pt idx="505">
                  <c:v>1.05</c:v>
                </c:pt>
                <c:pt idx="506">
                  <c:v>1.06</c:v>
                </c:pt>
                <c:pt idx="507">
                  <c:v>1.07</c:v>
                </c:pt>
                <c:pt idx="508">
                  <c:v>1.08</c:v>
                </c:pt>
                <c:pt idx="509">
                  <c:v>1.09</c:v>
                </c:pt>
                <c:pt idx="510">
                  <c:v>1.1</c:v>
                </c:pt>
                <c:pt idx="511">
                  <c:v>1.11</c:v>
                </c:pt>
                <c:pt idx="512">
                  <c:v>1.12</c:v>
                </c:pt>
                <c:pt idx="513">
                  <c:v>1.13</c:v>
                </c:pt>
                <c:pt idx="514">
                  <c:v>1.14</c:v>
                </c:pt>
                <c:pt idx="515">
                  <c:v>1.15</c:v>
                </c:pt>
                <c:pt idx="516">
                  <c:v>1.16</c:v>
                </c:pt>
                <c:pt idx="517">
                  <c:v>1.17</c:v>
                </c:pt>
                <c:pt idx="518">
                  <c:v>1.18</c:v>
                </c:pt>
                <c:pt idx="519">
                  <c:v>1.19</c:v>
                </c:pt>
                <c:pt idx="520">
                  <c:v>1.2</c:v>
                </c:pt>
                <c:pt idx="521">
                  <c:v>1.21</c:v>
                </c:pt>
                <c:pt idx="522">
                  <c:v>1.22</c:v>
                </c:pt>
                <c:pt idx="523">
                  <c:v>1.23</c:v>
                </c:pt>
                <c:pt idx="524">
                  <c:v>1.24</c:v>
                </c:pt>
                <c:pt idx="525">
                  <c:v>1.25</c:v>
                </c:pt>
                <c:pt idx="526">
                  <c:v>1.26</c:v>
                </c:pt>
                <c:pt idx="527">
                  <c:v>1.27</c:v>
                </c:pt>
                <c:pt idx="528">
                  <c:v>1.28</c:v>
                </c:pt>
                <c:pt idx="529">
                  <c:v>1.29</c:v>
                </c:pt>
                <c:pt idx="530">
                  <c:v>1.3</c:v>
                </c:pt>
                <c:pt idx="531">
                  <c:v>1.31</c:v>
                </c:pt>
                <c:pt idx="532">
                  <c:v>1.32</c:v>
                </c:pt>
                <c:pt idx="533">
                  <c:v>1.33</c:v>
                </c:pt>
                <c:pt idx="534">
                  <c:v>1.34</c:v>
                </c:pt>
                <c:pt idx="535">
                  <c:v>1.35</c:v>
                </c:pt>
                <c:pt idx="536">
                  <c:v>1.36</c:v>
                </c:pt>
                <c:pt idx="537">
                  <c:v>1.37</c:v>
                </c:pt>
                <c:pt idx="538">
                  <c:v>1.38</c:v>
                </c:pt>
                <c:pt idx="539">
                  <c:v>1.39</c:v>
                </c:pt>
                <c:pt idx="540">
                  <c:v>1.4</c:v>
                </c:pt>
                <c:pt idx="541">
                  <c:v>1.41</c:v>
                </c:pt>
                <c:pt idx="542">
                  <c:v>1.42</c:v>
                </c:pt>
                <c:pt idx="543">
                  <c:v>1.43</c:v>
                </c:pt>
                <c:pt idx="544">
                  <c:v>1.44</c:v>
                </c:pt>
                <c:pt idx="545">
                  <c:v>1.45</c:v>
                </c:pt>
                <c:pt idx="546">
                  <c:v>1.46</c:v>
                </c:pt>
                <c:pt idx="547">
                  <c:v>1.47</c:v>
                </c:pt>
                <c:pt idx="548">
                  <c:v>1.48</c:v>
                </c:pt>
                <c:pt idx="549">
                  <c:v>1.49</c:v>
                </c:pt>
                <c:pt idx="550">
                  <c:v>1.5</c:v>
                </c:pt>
                <c:pt idx="551">
                  <c:v>1.51</c:v>
                </c:pt>
                <c:pt idx="552">
                  <c:v>1.52</c:v>
                </c:pt>
                <c:pt idx="553">
                  <c:v>1.53</c:v>
                </c:pt>
                <c:pt idx="554">
                  <c:v>1.54</c:v>
                </c:pt>
                <c:pt idx="555">
                  <c:v>1.55</c:v>
                </c:pt>
                <c:pt idx="556">
                  <c:v>1.56</c:v>
                </c:pt>
                <c:pt idx="557">
                  <c:v>1.57</c:v>
                </c:pt>
                <c:pt idx="558">
                  <c:v>1.58</c:v>
                </c:pt>
                <c:pt idx="559">
                  <c:v>1.59</c:v>
                </c:pt>
                <c:pt idx="560">
                  <c:v>1.6</c:v>
                </c:pt>
                <c:pt idx="561">
                  <c:v>1.61</c:v>
                </c:pt>
                <c:pt idx="562">
                  <c:v>1.62</c:v>
                </c:pt>
                <c:pt idx="563">
                  <c:v>1.63</c:v>
                </c:pt>
                <c:pt idx="564">
                  <c:v>1.64</c:v>
                </c:pt>
                <c:pt idx="565">
                  <c:v>1.65</c:v>
                </c:pt>
                <c:pt idx="566">
                  <c:v>1.66</c:v>
                </c:pt>
                <c:pt idx="567">
                  <c:v>1.67</c:v>
                </c:pt>
                <c:pt idx="568">
                  <c:v>1.68</c:v>
                </c:pt>
                <c:pt idx="569">
                  <c:v>1.69</c:v>
                </c:pt>
                <c:pt idx="570">
                  <c:v>1.7</c:v>
                </c:pt>
                <c:pt idx="571">
                  <c:v>1.71</c:v>
                </c:pt>
                <c:pt idx="572">
                  <c:v>1.72</c:v>
                </c:pt>
                <c:pt idx="573">
                  <c:v>1.73</c:v>
                </c:pt>
                <c:pt idx="574">
                  <c:v>1.74</c:v>
                </c:pt>
                <c:pt idx="575">
                  <c:v>1.75</c:v>
                </c:pt>
                <c:pt idx="576">
                  <c:v>1.76</c:v>
                </c:pt>
                <c:pt idx="577">
                  <c:v>1.77</c:v>
                </c:pt>
                <c:pt idx="578">
                  <c:v>1.78</c:v>
                </c:pt>
                <c:pt idx="579">
                  <c:v>1.79</c:v>
                </c:pt>
                <c:pt idx="580">
                  <c:v>1.8</c:v>
                </c:pt>
                <c:pt idx="581">
                  <c:v>1.81</c:v>
                </c:pt>
                <c:pt idx="582">
                  <c:v>1.82</c:v>
                </c:pt>
                <c:pt idx="583">
                  <c:v>1.83</c:v>
                </c:pt>
                <c:pt idx="584">
                  <c:v>1.84</c:v>
                </c:pt>
                <c:pt idx="585">
                  <c:v>1.85</c:v>
                </c:pt>
                <c:pt idx="586">
                  <c:v>1.86</c:v>
                </c:pt>
                <c:pt idx="587">
                  <c:v>1.87</c:v>
                </c:pt>
                <c:pt idx="588">
                  <c:v>1.88</c:v>
                </c:pt>
                <c:pt idx="589">
                  <c:v>1.89</c:v>
                </c:pt>
                <c:pt idx="590">
                  <c:v>1.9</c:v>
                </c:pt>
                <c:pt idx="591">
                  <c:v>1.91</c:v>
                </c:pt>
                <c:pt idx="592">
                  <c:v>1.92</c:v>
                </c:pt>
                <c:pt idx="593">
                  <c:v>1.93</c:v>
                </c:pt>
                <c:pt idx="594">
                  <c:v>1.94</c:v>
                </c:pt>
                <c:pt idx="595">
                  <c:v>1.95</c:v>
                </c:pt>
                <c:pt idx="596">
                  <c:v>1.96</c:v>
                </c:pt>
                <c:pt idx="597">
                  <c:v>1.97</c:v>
                </c:pt>
                <c:pt idx="598">
                  <c:v>1.98</c:v>
                </c:pt>
                <c:pt idx="599">
                  <c:v>1.99</c:v>
                </c:pt>
                <c:pt idx="600">
                  <c:v>2</c:v>
                </c:pt>
                <c:pt idx="601">
                  <c:v>2.01</c:v>
                </c:pt>
                <c:pt idx="602">
                  <c:v>2.02</c:v>
                </c:pt>
                <c:pt idx="603">
                  <c:v>2.03</c:v>
                </c:pt>
                <c:pt idx="604">
                  <c:v>2.04</c:v>
                </c:pt>
                <c:pt idx="605">
                  <c:v>2.05</c:v>
                </c:pt>
                <c:pt idx="606">
                  <c:v>2.06</c:v>
                </c:pt>
                <c:pt idx="607">
                  <c:v>2.07</c:v>
                </c:pt>
                <c:pt idx="608">
                  <c:v>2.08</c:v>
                </c:pt>
                <c:pt idx="609">
                  <c:v>2.09</c:v>
                </c:pt>
                <c:pt idx="610">
                  <c:v>2.1</c:v>
                </c:pt>
                <c:pt idx="611">
                  <c:v>2.11</c:v>
                </c:pt>
                <c:pt idx="612">
                  <c:v>2.12</c:v>
                </c:pt>
                <c:pt idx="613">
                  <c:v>2.13</c:v>
                </c:pt>
                <c:pt idx="614">
                  <c:v>2.14</c:v>
                </c:pt>
                <c:pt idx="615">
                  <c:v>2.15</c:v>
                </c:pt>
                <c:pt idx="616">
                  <c:v>2.16</c:v>
                </c:pt>
                <c:pt idx="617">
                  <c:v>2.17</c:v>
                </c:pt>
                <c:pt idx="618">
                  <c:v>2.18</c:v>
                </c:pt>
                <c:pt idx="619">
                  <c:v>2.19</c:v>
                </c:pt>
                <c:pt idx="620">
                  <c:v>2.2</c:v>
                </c:pt>
                <c:pt idx="621">
                  <c:v>2.21</c:v>
                </c:pt>
                <c:pt idx="622">
                  <c:v>2.22</c:v>
                </c:pt>
                <c:pt idx="623">
                  <c:v>2.23</c:v>
                </c:pt>
                <c:pt idx="624">
                  <c:v>2.24</c:v>
                </c:pt>
                <c:pt idx="625">
                  <c:v>2.25</c:v>
                </c:pt>
                <c:pt idx="626">
                  <c:v>2.26</c:v>
                </c:pt>
                <c:pt idx="627">
                  <c:v>2.27</c:v>
                </c:pt>
                <c:pt idx="628">
                  <c:v>2.28</c:v>
                </c:pt>
                <c:pt idx="629">
                  <c:v>2.29</c:v>
                </c:pt>
                <c:pt idx="630">
                  <c:v>2.3</c:v>
                </c:pt>
                <c:pt idx="631">
                  <c:v>2.31</c:v>
                </c:pt>
                <c:pt idx="632">
                  <c:v>2.32</c:v>
                </c:pt>
                <c:pt idx="633">
                  <c:v>2.33</c:v>
                </c:pt>
                <c:pt idx="634">
                  <c:v>2.34</c:v>
                </c:pt>
                <c:pt idx="635">
                  <c:v>2.35</c:v>
                </c:pt>
                <c:pt idx="636">
                  <c:v>2.36</c:v>
                </c:pt>
                <c:pt idx="637">
                  <c:v>2.37</c:v>
                </c:pt>
                <c:pt idx="638">
                  <c:v>2.38</c:v>
                </c:pt>
                <c:pt idx="639">
                  <c:v>2.39</c:v>
                </c:pt>
                <c:pt idx="640">
                  <c:v>2.4</c:v>
                </c:pt>
                <c:pt idx="641">
                  <c:v>2.41</c:v>
                </c:pt>
                <c:pt idx="642">
                  <c:v>2.42</c:v>
                </c:pt>
                <c:pt idx="643">
                  <c:v>2.43</c:v>
                </c:pt>
                <c:pt idx="644">
                  <c:v>2.44</c:v>
                </c:pt>
                <c:pt idx="645">
                  <c:v>2.45</c:v>
                </c:pt>
                <c:pt idx="646">
                  <c:v>2.46</c:v>
                </c:pt>
                <c:pt idx="647">
                  <c:v>2.47</c:v>
                </c:pt>
                <c:pt idx="648">
                  <c:v>2.48</c:v>
                </c:pt>
                <c:pt idx="649">
                  <c:v>2.49</c:v>
                </c:pt>
                <c:pt idx="650">
                  <c:v>2.5</c:v>
                </c:pt>
                <c:pt idx="651">
                  <c:v>2.51</c:v>
                </c:pt>
                <c:pt idx="652">
                  <c:v>2.52</c:v>
                </c:pt>
                <c:pt idx="653">
                  <c:v>2.53</c:v>
                </c:pt>
                <c:pt idx="654">
                  <c:v>2.54</c:v>
                </c:pt>
                <c:pt idx="655">
                  <c:v>2.55</c:v>
                </c:pt>
                <c:pt idx="656">
                  <c:v>2.56</c:v>
                </c:pt>
                <c:pt idx="657">
                  <c:v>2.57</c:v>
                </c:pt>
                <c:pt idx="658">
                  <c:v>2.58</c:v>
                </c:pt>
                <c:pt idx="659">
                  <c:v>2.59</c:v>
                </c:pt>
                <c:pt idx="660">
                  <c:v>2.6</c:v>
                </c:pt>
                <c:pt idx="661">
                  <c:v>2.61</c:v>
                </c:pt>
                <c:pt idx="662">
                  <c:v>2.62</c:v>
                </c:pt>
                <c:pt idx="663">
                  <c:v>2.63</c:v>
                </c:pt>
                <c:pt idx="664">
                  <c:v>2.64</c:v>
                </c:pt>
                <c:pt idx="665">
                  <c:v>2.65</c:v>
                </c:pt>
                <c:pt idx="666">
                  <c:v>2.66</c:v>
                </c:pt>
                <c:pt idx="667">
                  <c:v>2.67</c:v>
                </c:pt>
                <c:pt idx="668">
                  <c:v>2.68</c:v>
                </c:pt>
                <c:pt idx="669">
                  <c:v>2.69</c:v>
                </c:pt>
                <c:pt idx="670">
                  <c:v>2.7</c:v>
                </c:pt>
                <c:pt idx="671">
                  <c:v>2.71</c:v>
                </c:pt>
                <c:pt idx="672">
                  <c:v>2.72</c:v>
                </c:pt>
                <c:pt idx="673">
                  <c:v>2.73</c:v>
                </c:pt>
                <c:pt idx="674">
                  <c:v>2.74</c:v>
                </c:pt>
                <c:pt idx="675">
                  <c:v>2.75</c:v>
                </c:pt>
                <c:pt idx="676">
                  <c:v>2.76</c:v>
                </c:pt>
                <c:pt idx="677">
                  <c:v>2.77</c:v>
                </c:pt>
                <c:pt idx="678">
                  <c:v>2.78</c:v>
                </c:pt>
                <c:pt idx="679">
                  <c:v>2.79</c:v>
                </c:pt>
                <c:pt idx="680">
                  <c:v>2.8</c:v>
                </c:pt>
                <c:pt idx="681">
                  <c:v>2.81</c:v>
                </c:pt>
                <c:pt idx="682">
                  <c:v>2.82</c:v>
                </c:pt>
                <c:pt idx="683">
                  <c:v>2.83</c:v>
                </c:pt>
                <c:pt idx="684">
                  <c:v>2.84</c:v>
                </c:pt>
                <c:pt idx="685">
                  <c:v>2.85</c:v>
                </c:pt>
                <c:pt idx="686">
                  <c:v>2.86</c:v>
                </c:pt>
                <c:pt idx="687">
                  <c:v>2.87</c:v>
                </c:pt>
                <c:pt idx="688">
                  <c:v>2.88</c:v>
                </c:pt>
                <c:pt idx="689">
                  <c:v>2.89</c:v>
                </c:pt>
                <c:pt idx="690">
                  <c:v>2.9</c:v>
                </c:pt>
                <c:pt idx="691">
                  <c:v>2.91</c:v>
                </c:pt>
                <c:pt idx="692">
                  <c:v>2.92</c:v>
                </c:pt>
                <c:pt idx="693">
                  <c:v>2.93</c:v>
                </c:pt>
                <c:pt idx="694">
                  <c:v>2.94</c:v>
                </c:pt>
                <c:pt idx="695">
                  <c:v>2.95</c:v>
                </c:pt>
                <c:pt idx="696">
                  <c:v>2.96</c:v>
                </c:pt>
                <c:pt idx="697">
                  <c:v>2.97</c:v>
                </c:pt>
                <c:pt idx="698">
                  <c:v>2.98</c:v>
                </c:pt>
                <c:pt idx="699">
                  <c:v>2.99</c:v>
                </c:pt>
                <c:pt idx="700">
                  <c:v>3</c:v>
                </c:pt>
                <c:pt idx="701">
                  <c:v>3.01</c:v>
                </c:pt>
                <c:pt idx="702">
                  <c:v>3.02</c:v>
                </c:pt>
                <c:pt idx="703">
                  <c:v>3.03</c:v>
                </c:pt>
                <c:pt idx="704">
                  <c:v>3.04</c:v>
                </c:pt>
                <c:pt idx="705">
                  <c:v>3.05</c:v>
                </c:pt>
                <c:pt idx="706">
                  <c:v>3.06</c:v>
                </c:pt>
                <c:pt idx="707">
                  <c:v>3.07</c:v>
                </c:pt>
                <c:pt idx="708">
                  <c:v>3.08</c:v>
                </c:pt>
                <c:pt idx="709">
                  <c:v>3.09</c:v>
                </c:pt>
                <c:pt idx="710">
                  <c:v>3.1</c:v>
                </c:pt>
                <c:pt idx="711">
                  <c:v>3.11</c:v>
                </c:pt>
                <c:pt idx="712">
                  <c:v>3.12</c:v>
                </c:pt>
                <c:pt idx="713">
                  <c:v>3.13</c:v>
                </c:pt>
                <c:pt idx="714">
                  <c:v>3.14</c:v>
                </c:pt>
                <c:pt idx="715">
                  <c:v>3.15</c:v>
                </c:pt>
                <c:pt idx="716">
                  <c:v>3.16</c:v>
                </c:pt>
                <c:pt idx="717">
                  <c:v>3.17</c:v>
                </c:pt>
                <c:pt idx="718">
                  <c:v>3.18</c:v>
                </c:pt>
                <c:pt idx="719">
                  <c:v>3.19</c:v>
                </c:pt>
                <c:pt idx="720">
                  <c:v>3.2</c:v>
                </c:pt>
                <c:pt idx="721">
                  <c:v>3.21</c:v>
                </c:pt>
                <c:pt idx="722">
                  <c:v>3.22</c:v>
                </c:pt>
                <c:pt idx="723">
                  <c:v>3.23</c:v>
                </c:pt>
                <c:pt idx="724">
                  <c:v>3.24</c:v>
                </c:pt>
                <c:pt idx="725">
                  <c:v>3.25</c:v>
                </c:pt>
                <c:pt idx="726">
                  <c:v>3.26</c:v>
                </c:pt>
                <c:pt idx="727">
                  <c:v>3.27</c:v>
                </c:pt>
                <c:pt idx="728">
                  <c:v>3.28</c:v>
                </c:pt>
                <c:pt idx="729">
                  <c:v>3.29</c:v>
                </c:pt>
                <c:pt idx="730">
                  <c:v>3.3</c:v>
                </c:pt>
                <c:pt idx="731">
                  <c:v>3.31</c:v>
                </c:pt>
                <c:pt idx="732">
                  <c:v>3.32</c:v>
                </c:pt>
                <c:pt idx="733">
                  <c:v>3.33</c:v>
                </c:pt>
                <c:pt idx="734">
                  <c:v>3.34</c:v>
                </c:pt>
                <c:pt idx="735">
                  <c:v>3.35</c:v>
                </c:pt>
                <c:pt idx="736">
                  <c:v>3.36</c:v>
                </c:pt>
                <c:pt idx="737">
                  <c:v>3.37</c:v>
                </c:pt>
                <c:pt idx="738">
                  <c:v>3.38</c:v>
                </c:pt>
                <c:pt idx="739">
                  <c:v>3.39</c:v>
                </c:pt>
                <c:pt idx="740">
                  <c:v>3.4</c:v>
                </c:pt>
                <c:pt idx="741">
                  <c:v>3.41</c:v>
                </c:pt>
                <c:pt idx="742">
                  <c:v>3.42</c:v>
                </c:pt>
                <c:pt idx="743">
                  <c:v>3.43</c:v>
                </c:pt>
                <c:pt idx="744">
                  <c:v>3.44</c:v>
                </c:pt>
                <c:pt idx="745">
                  <c:v>3.45</c:v>
                </c:pt>
                <c:pt idx="746">
                  <c:v>3.46</c:v>
                </c:pt>
                <c:pt idx="747">
                  <c:v>3.47</c:v>
                </c:pt>
                <c:pt idx="748">
                  <c:v>3.48</c:v>
                </c:pt>
                <c:pt idx="749">
                  <c:v>3.49</c:v>
                </c:pt>
                <c:pt idx="750">
                  <c:v>3.5</c:v>
                </c:pt>
                <c:pt idx="751">
                  <c:v>3.51</c:v>
                </c:pt>
                <c:pt idx="752">
                  <c:v>3.52</c:v>
                </c:pt>
                <c:pt idx="753">
                  <c:v>3.53</c:v>
                </c:pt>
                <c:pt idx="754">
                  <c:v>3.54</c:v>
                </c:pt>
                <c:pt idx="755">
                  <c:v>3.55</c:v>
                </c:pt>
                <c:pt idx="756">
                  <c:v>3.56</c:v>
                </c:pt>
                <c:pt idx="757">
                  <c:v>3.57</c:v>
                </c:pt>
                <c:pt idx="758">
                  <c:v>3.58</c:v>
                </c:pt>
                <c:pt idx="759">
                  <c:v>3.59</c:v>
                </c:pt>
                <c:pt idx="760">
                  <c:v>3.6</c:v>
                </c:pt>
                <c:pt idx="761">
                  <c:v>3.61</c:v>
                </c:pt>
                <c:pt idx="762">
                  <c:v>3.62</c:v>
                </c:pt>
                <c:pt idx="763">
                  <c:v>3.63</c:v>
                </c:pt>
                <c:pt idx="764">
                  <c:v>3.64</c:v>
                </c:pt>
                <c:pt idx="765">
                  <c:v>3.65</c:v>
                </c:pt>
                <c:pt idx="766">
                  <c:v>3.66</c:v>
                </c:pt>
                <c:pt idx="767">
                  <c:v>3.67</c:v>
                </c:pt>
                <c:pt idx="768">
                  <c:v>3.68</c:v>
                </c:pt>
                <c:pt idx="769">
                  <c:v>3.69</c:v>
                </c:pt>
                <c:pt idx="770">
                  <c:v>3.7</c:v>
                </c:pt>
                <c:pt idx="771">
                  <c:v>3.71</c:v>
                </c:pt>
                <c:pt idx="772">
                  <c:v>3.72</c:v>
                </c:pt>
                <c:pt idx="773">
                  <c:v>3.73</c:v>
                </c:pt>
                <c:pt idx="774">
                  <c:v>3.74</c:v>
                </c:pt>
                <c:pt idx="775">
                  <c:v>3.75</c:v>
                </c:pt>
                <c:pt idx="776">
                  <c:v>3.76</c:v>
                </c:pt>
                <c:pt idx="777">
                  <c:v>3.77</c:v>
                </c:pt>
                <c:pt idx="778">
                  <c:v>3.78</c:v>
                </c:pt>
                <c:pt idx="779">
                  <c:v>3.79</c:v>
                </c:pt>
                <c:pt idx="780">
                  <c:v>3.8</c:v>
                </c:pt>
                <c:pt idx="781">
                  <c:v>3.81</c:v>
                </c:pt>
                <c:pt idx="782">
                  <c:v>3.82</c:v>
                </c:pt>
                <c:pt idx="783">
                  <c:v>3.83</c:v>
                </c:pt>
                <c:pt idx="784">
                  <c:v>3.84</c:v>
                </c:pt>
                <c:pt idx="785">
                  <c:v>3.85</c:v>
                </c:pt>
                <c:pt idx="786">
                  <c:v>3.86</c:v>
                </c:pt>
                <c:pt idx="787">
                  <c:v>3.87</c:v>
                </c:pt>
                <c:pt idx="788">
                  <c:v>3.88</c:v>
                </c:pt>
                <c:pt idx="789">
                  <c:v>3.89</c:v>
                </c:pt>
                <c:pt idx="790">
                  <c:v>3.9</c:v>
                </c:pt>
                <c:pt idx="791">
                  <c:v>3.91</c:v>
                </c:pt>
                <c:pt idx="792">
                  <c:v>3.92</c:v>
                </c:pt>
                <c:pt idx="793">
                  <c:v>3.93</c:v>
                </c:pt>
                <c:pt idx="794">
                  <c:v>3.94</c:v>
                </c:pt>
                <c:pt idx="795">
                  <c:v>3.95</c:v>
                </c:pt>
                <c:pt idx="796">
                  <c:v>3.96</c:v>
                </c:pt>
                <c:pt idx="797">
                  <c:v>3.97</c:v>
                </c:pt>
                <c:pt idx="798">
                  <c:v>3.98</c:v>
                </c:pt>
                <c:pt idx="799">
                  <c:v>3.99</c:v>
                </c:pt>
                <c:pt idx="800">
                  <c:v>4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801"/>
                <c:pt idx="0">
                  <c:v>0.00390625</c:v>
                </c:pt>
                <c:pt idx="1">
                  <c:v>0.00394555786669014</c:v>
                </c:pt>
                <c:pt idx="2">
                  <c:v>0.00398536141426298</c:v>
                </c:pt>
                <c:pt idx="3">
                  <c:v>0.00402566816244612</c:v>
                </c:pt>
                <c:pt idx="4">
                  <c:v>0.00406648576439538</c:v>
                </c:pt>
                <c:pt idx="5">
                  <c:v>0.00410782200940737</c:v>
                </c:pt>
                <c:pt idx="6">
                  <c:v>0.00414968482569432</c:v>
                </c:pt>
                <c:pt idx="7">
                  <c:v>0.00419208228322264</c:v>
                </c:pt>
                <c:pt idx="8">
                  <c:v>0.00423502259661695</c:v>
                </c:pt>
                <c:pt idx="9">
                  <c:v>0.0042785141281312</c:v>
                </c:pt>
                <c:pt idx="10">
                  <c:v>0.00432256539068859</c:v>
                </c:pt>
                <c:pt idx="11">
                  <c:v>0.00436718505099214</c:v>
                </c:pt>
                <c:pt idx="12">
                  <c:v>0.00441238193270767</c:v>
                </c:pt>
                <c:pt idx="13">
                  <c:v>0.00445816501972102</c:v>
                </c:pt>
                <c:pt idx="14">
                  <c:v>0.00450454345947169</c:v>
                </c:pt>
                <c:pt idx="15">
                  <c:v>0.00455152656636449</c:v>
                </c:pt>
                <c:pt idx="16">
                  <c:v>0.00459912382526162</c:v>
                </c:pt>
                <c:pt idx="17">
                  <c:v>0.00464734489505711</c:v>
                </c:pt>
                <c:pt idx="18">
                  <c:v>0.00469619961233571</c:v>
                </c:pt>
                <c:pt idx="19">
                  <c:v>0.00474569799511868</c:v>
                </c:pt>
                <c:pt idx="20">
                  <c:v>0.00479585024669854</c:v>
                </c:pt>
                <c:pt idx="21">
                  <c:v>0.00484666675956531</c:v>
                </c:pt>
                <c:pt idx="22">
                  <c:v>0.0048981581194266</c:v>
                </c:pt>
                <c:pt idx="23">
                  <c:v>0.00495033510932396</c:v>
                </c:pt>
                <c:pt idx="24">
                  <c:v>0.0050032087138483</c:v>
                </c:pt>
                <c:pt idx="25">
                  <c:v>0.00505679012345679</c:v>
                </c:pt>
                <c:pt idx="26">
                  <c:v>0.00511109073889404</c:v>
                </c:pt>
                <c:pt idx="27">
                  <c:v>0.00516612217572047</c:v>
                </c:pt>
                <c:pt idx="28">
                  <c:v>0.00522189626895061</c:v>
                </c:pt>
                <c:pt idx="29">
                  <c:v>0.00527842507780439</c:v>
                </c:pt>
                <c:pt idx="30">
                  <c:v>0.0053357208905745</c:v>
                </c:pt>
                <c:pt idx="31">
                  <c:v>0.00539379622961293</c:v>
                </c:pt>
                <c:pt idx="32">
                  <c:v>0.00545266385643991</c:v>
                </c:pt>
                <c:pt idx="33">
                  <c:v>0.00551233677697874</c:v>
                </c:pt>
                <c:pt idx="34">
                  <c:v>0.00557282824691981</c:v>
                </c:pt>
                <c:pt idx="35">
                  <c:v>0.00563415177721747</c:v>
                </c:pt>
                <c:pt idx="36">
                  <c:v>0.00569632113972329</c:v>
                </c:pt>
                <c:pt idx="37">
                  <c:v>0.00575935037295967</c:v>
                </c:pt>
                <c:pt idx="38">
                  <c:v>0.00582325378803754</c:v>
                </c:pt>
                <c:pt idx="39">
                  <c:v>0.00588804597472215</c:v>
                </c:pt>
                <c:pt idx="40">
                  <c:v>0.00595374180765127</c:v>
                </c:pt>
                <c:pt idx="41">
                  <c:v>0.00602035645270978</c:v>
                </c:pt>
                <c:pt idx="42">
                  <c:v>0.00608790537356527</c:v>
                </c:pt>
                <c:pt idx="43">
                  <c:v>0.00615640433836911</c:v>
                </c:pt>
                <c:pt idx="44">
                  <c:v>0.00622586942662759</c:v>
                </c:pt>
                <c:pt idx="45">
                  <c:v>0.00629631703624802</c:v>
                </c:pt>
                <c:pt idx="46">
                  <c:v>0.0063677638907647</c:v>
                </c:pt>
                <c:pt idx="47">
                  <c:v>0.00644022704675</c:v>
                </c:pt>
                <c:pt idx="48">
                  <c:v>0.00651372390141555</c:v>
                </c:pt>
                <c:pt idx="49">
                  <c:v>0.00658827220040937</c:v>
                </c:pt>
                <c:pt idx="50">
                  <c:v>0.00666389004581424</c:v>
                </c:pt>
                <c:pt idx="51">
                  <c:v>0.00674059590435322</c:v>
                </c:pt>
                <c:pt idx="52">
                  <c:v>0.00681840861580833</c:v>
                </c:pt>
                <c:pt idx="53">
                  <c:v>0.00689734740165851</c:v>
                </c:pt>
                <c:pt idx="54">
                  <c:v>0.00697743187394325</c:v>
                </c:pt>
                <c:pt idx="55">
                  <c:v>0.00705868204435843</c:v>
                </c:pt>
                <c:pt idx="56">
                  <c:v>0.00714111833359122</c:v>
                </c:pt>
                <c:pt idx="57">
                  <c:v>0.00722476158090089</c:v>
                </c:pt>
                <c:pt idx="58">
                  <c:v>0.00730963305395296</c:v>
                </c:pt>
                <c:pt idx="59">
                  <c:v>0.00739575445891399</c:v>
                </c:pt>
                <c:pt idx="60">
                  <c:v>0.00748314795081477</c:v>
                </c:pt>
                <c:pt idx="61">
                  <c:v>0.00757183614418983</c:v>
                </c:pt>
                <c:pt idx="62">
                  <c:v>0.00766184212400161</c:v>
                </c:pt>
                <c:pt idx="63">
                  <c:v>0.00775318945685748</c:v>
                </c:pt>
                <c:pt idx="64">
                  <c:v>0.00784590220252878</c:v>
                </c:pt>
                <c:pt idx="65">
                  <c:v>0.00794000492578056</c:v>
                </c:pt>
                <c:pt idx="66">
                  <c:v>0.00803552270852153</c:v>
                </c:pt>
                <c:pt idx="67">
                  <c:v>0.00813248116228395</c:v>
                </c:pt>
                <c:pt idx="68">
                  <c:v>0.00823090644104329</c:v>
                </c:pt>
                <c:pt idx="69">
                  <c:v>0.00833082525438801</c:v>
                </c:pt>
                <c:pt idx="70">
                  <c:v>0.00843226488105026</c:v>
                </c:pt>
                <c:pt idx="71">
                  <c:v>0.00853525318280827</c:v>
                </c:pt>
                <c:pt idx="72">
                  <c:v>0.00863981861877207</c:v>
                </c:pt>
                <c:pt idx="73">
                  <c:v>0.00874599026006416</c:v>
                </c:pt>
                <c:pt idx="74">
                  <c:v>0.00885379780490724</c:v>
                </c:pt>
                <c:pt idx="75">
                  <c:v>0.00896327159413186</c:v>
                </c:pt>
                <c:pt idx="76">
                  <c:v>0.00907444262711671</c:v>
                </c:pt>
                <c:pt idx="77">
                  <c:v>0.00918734257817514</c:v>
                </c:pt>
                <c:pt idx="78">
                  <c:v>0.00930200381340186</c:v>
                </c:pt>
                <c:pt idx="79">
                  <c:v>0.00941845940799414</c:v>
                </c:pt>
                <c:pt idx="80">
                  <c:v>0.0095367431640625</c:v>
                </c:pt>
                <c:pt idx="81">
                  <c:v>0.00965688962894622</c:v>
                </c:pt>
                <c:pt idx="82">
                  <c:v>0.00977893411404964</c:v>
                </c:pt>
                <c:pt idx="83">
                  <c:v>0.00990291271421586</c:v>
                </c:pt>
                <c:pt idx="84">
                  <c:v>0.0100288623276547</c:v>
                </c:pt>
                <c:pt idx="85">
                  <c:v>0.010156820676443</c:v>
                </c:pt>
                <c:pt idx="86">
                  <c:v>0.0102868263276148</c:v>
                </c:pt>
                <c:pt idx="87">
                  <c:v>0.0104189187148616</c:v>
                </c:pt>
                <c:pt idx="88">
                  <c:v>0.0105531381608608</c:v>
                </c:pt>
                <c:pt idx="89">
                  <c:v>0.0106895259002542</c:v>
                </c:pt>
                <c:pt idx="90">
                  <c:v>0.010828124103296</c:v>
                </c:pt>
                <c:pt idx="91">
                  <c:v>0.0109689759001937</c:v>
                </c:pt>
                <c:pt idx="92">
                  <c:v>0.0111121254061633</c:v>
                </c:pt>
                <c:pt idx="93">
                  <c:v>0.0112576177472226</c:v>
                </c:pt>
                <c:pt idx="94">
                  <c:v>0.0114054990867471</c:v>
                </c:pt>
                <c:pt idx="95">
                  <c:v>0.0115558166528129</c:v>
                </c:pt>
                <c:pt idx="96">
                  <c:v>0.0117086187663538</c:v>
                </c:pt>
                <c:pt idx="97">
                  <c:v>0.0118639548701582</c:v>
                </c:pt>
                <c:pt idx="98">
                  <c:v>0.0120218755587347</c:v>
                </c:pt>
                <c:pt idx="99">
                  <c:v>0.0121824326090752</c:v>
                </c:pt>
                <c:pt idx="100">
                  <c:v>0.0123456790123457</c:v>
                </c:pt>
                <c:pt idx="101">
                  <c:v>0.012511669006535</c:v>
                </c:pt>
                <c:pt idx="102">
                  <c:v>0.0126804581100955</c:v>
                </c:pt>
                <c:pt idx="103">
                  <c:v>0.0128521031566076</c:v>
                </c:pt>
                <c:pt idx="104">
                  <c:v>0.0130266623305042</c:v>
                </c:pt>
                <c:pt idx="105">
                  <c:v>0.0132041952038897</c:v>
                </c:pt>
                <c:pt idx="106">
                  <c:v>0.0133847627744931</c:v>
                </c:pt>
                <c:pt idx="107">
                  <c:v>0.0135684275047916</c:v>
                </c:pt>
                <c:pt idx="108">
                  <c:v>0.0137552533623473</c:v>
                </c:pt>
                <c:pt idx="109">
                  <c:v>0.0139453058613971</c:v>
                </c:pt>
                <c:pt idx="110">
                  <c:v>0.0141386521057402</c:v>
                </c:pt>
                <c:pt idx="111">
                  <c:v>0.0143353608329685</c:v>
                </c:pt>
                <c:pt idx="112">
                  <c:v>0.0145355024600861</c:v>
                </c:pt>
                <c:pt idx="113">
                  <c:v>0.0147391491305666</c:v>
                </c:pt>
                <c:pt idx="114">
                  <c:v>0.0149463747628994</c:v>
                </c:pt>
                <c:pt idx="115">
                  <c:v>0.0151572551006769</c:v>
                </c:pt>
                <c:pt idx="116">
                  <c:v>0.0153718677642774</c:v>
                </c:pt>
                <c:pt idx="117">
                  <c:v>0.0155902923042004</c:v>
                </c:pt>
                <c:pt idx="118">
                  <c:v>0.0158126102561132</c:v>
                </c:pt>
                <c:pt idx="119">
                  <c:v>0.0160389051976692</c:v>
                </c:pt>
                <c:pt idx="120">
                  <c:v>0.0162692628071637</c:v>
                </c:pt>
                <c:pt idx="121">
                  <c:v>0.0165037709240908</c:v>
                </c:pt>
                <c:pt idx="122">
                  <c:v>0.0167425196116718</c:v>
                </c:pt>
                <c:pt idx="123">
                  <c:v>0.0169856012214262</c:v>
                </c:pt>
                <c:pt idx="124">
                  <c:v>0.0172331104598595</c:v>
                </c:pt>
                <c:pt idx="125">
                  <c:v>0.0174851444573458</c:v>
                </c:pt>
                <c:pt idx="126">
                  <c:v>0.0177418028392851</c:v>
                </c:pt>
                <c:pt idx="127">
                  <c:v>0.0180031877996193</c:v>
                </c:pt>
                <c:pt idx="128">
                  <c:v>0.0182694041767939</c:v>
                </c:pt>
                <c:pt idx="129">
                  <c:v>0.018540559532257</c:v>
                </c:pt>
                <c:pt idx="130">
                  <c:v>0.0188167642315892</c:v>
                </c:pt>
                <c:pt idx="131">
                  <c:v>0.0190981315283624</c:v>
                </c:pt>
                <c:pt idx="132">
                  <c:v>0.0193847776508314</c:v>
                </c:pt>
                <c:pt idx="133">
                  <c:v>0.0196768218915637</c:v>
                </c:pt>
                <c:pt idx="134">
                  <c:v>0.0199743867001189</c:v>
                </c:pt>
                <c:pt idx="135">
                  <c:v>0.0202775977788933</c:v>
                </c:pt>
                <c:pt idx="136">
                  <c:v>0.0205865841822516</c:v>
                </c:pt>
                <c:pt idx="137">
                  <c:v>0.0209014784190686</c:v>
                </c:pt>
                <c:pt idx="138">
                  <c:v>0.0212224165588146</c:v>
                </c:pt>
                <c:pt idx="139">
                  <c:v>0.0215495383413202</c:v>
                </c:pt>
                <c:pt idx="140">
                  <c:v>0.021882987290361</c:v>
                </c:pt>
                <c:pt idx="141">
                  <c:v>0.0222229108312141</c:v>
                </c:pt>
                <c:pt idx="142">
                  <c:v>0.0225694604123377</c:v>
                </c:pt>
                <c:pt idx="143">
                  <c:v>0.0229227916313374</c:v>
                </c:pt>
                <c:pt idx="144">
                  <c:v>0.023283064365387</c:v>
                </c:pt>
                <c:pt idx="145">
                  <c:v>0.0236504429062788</c:v>
                </c:pt>
                <c:pt idx="146">
                  <c:v>0.0240250961002883</c:v>
                </c:pt>
                <c:pt idx="147">
                  <c:v>0.0244071974930432</c:v>
                </c:pt>
                <c:pt idx="148">
                  <c:v>0.0247969254795971</c:v>
                </c:pt>
                <c:pt idx="149">
                  <c:v>0.0251944634599168</c:v>
                </c:pt>
                <c:pt idx="150">
                  <c:v>0.0256</c:v>
                </c:pt>
                <c:pt idx="151">
                  <c:v>0.0260137289988529</c:v>
                </c:pt>
                <c:pt idx="152">
                  <c:v>0.0264358498615624</c:v>
                </c:pt>
                <c:pt idx="153">
                  <c:v>0.0268665676787146</c:v>
                </c:pt>
                <c:pt idx="154">
                  <c:v>0.0273060934124155</c:v>
                </c:pt>
                <c:pt idx="155">
                  <c:v>0.0277546440891888</c:v>
                </c:pt>
                <c:pt idx="156">
                  <c:v>0.0282124430000316</c:v>
                </c:pt>
                <c:pt idx="157">
                  <c:v>0.0286797199079244</c:v>
                </c:pt>
                <c:pt idx="158">
                  <c:v>0.0291567112631083</c:v>
                </c:pt>
                <c:pt idx="159">
                  <c:v>0.0296436604264498</c:v>
                </c:pt>
                <c:pt idx="160">
                  <c:v>0.0301408179012346</c:v>
                </c:pt>
                <c:pt idx="161">
                  <c:v>0.0306484415737454</c:v>
                </c:pt>
                <c:pt idx="162">
                  <c:v>0.0311667969629936</c:v>
                </c:pt>
                <c:pt idx="163">
                  <c:v>0.0316961574799952</c:v>
                </c:pt>
                <c:pt idx="164">
                  <c:v>0.0322368046969963</c:v>
                </c:pt>
                <c:pt idx="165">
                  <c:v>0.0327890286270763</c:v>
                </c:pt>
                <c:pt idx="166">
                  <c:v>0.0333531280145725</c:v>
                </c:pt>
                <c:pt idx="167">
                  <c:v>0.0339294106367965</c:v>
                </c:pt>
                <c:pt idx="168">
                  <c:v>0.0345181936175297</c:v>
                </c:pt>
                <c:pt idx="169">
                  <c:v>0.0351198037528124</c:v>
                </c:pt>
                <c:pt idx="170">
                  <c:v>0.0357345778495646</c:v>
                </c:pt>
                <c:pt idx="171">
                  <c:v>0.0363628630776016</c:v>
                </c:pt>
                <c:pt idx="172">
                  <c:v>0.0370050173356368</c:v>
                </c:pt>
                <c:pt idx="173">
                  <c:v>0.0376614096318914</c:v>
                </c:pt>
                <c:pt idx="174">
                  <c:v>0.0383324204799611</c:v>
                </c:pt>
                <c:pt idx="175">
                  <c:v>0.0390184423106234</c:v>
                </c:pt>
                <c:pt idx="176">
                  <c:v>0.039719879900302</c:v>
                </c:pt>
                <c:pt idx="177">
                  <c:v>0.0404371508169384</c:v>
                </c:pt>
                <c:pt idx="178">
                  <c:v>0.0411706858840625</c:v>
                </c:pt>
                <c:pt idx="179">
                  <c:v>0.04192092966389</c:v>
                </c:pt>
                <c:pt idx="180">
                  <c:v>0.0426883409603169</c:v>
                </c:pt>
                <c:pt idx="181">
                  <c:v>0.0434733933427274</c:v>
                </c:pt>
                <c:pt idx="182">
                  <c:v>0.0442765756915748</c:v>
                </c:pt>
                <c:pt idx="183">
                  <c:v>0.0450983927667471</c:v>
                </c:pt>
                <c:pt idx="184">
                  <c:v>0.0459393657997783</c:v>
                </c:pt>
                <c:pt idx="185">
                  <c:v>0.0468000331110234</c:v>
                </c:pt>
                <c:pt idx="186">
                  <c:v>0.0476809507529704</c:v>
                </c:pt>
                <c:pt idx="187">
                  <c:v>0.0485826931809261</c:v>
                </c:pt>
                <c:pt idx="188">
                  <c:v>0.0495058539523763</c:v>
                </c:pt>
                <c:pt idx="189">
                  <c:v>0.0504510464563876</c:v>
                </c:pt>
                <c:pt idx="190">
                  <c:v>0.0514189046744927</c:v>
                </c:pt>
                <c:pt idx="191">
                  <c:v>0.0524100839745759</c:v>
                </c:pt>
                <c:pt idx="192">
                  <c:v>0.0534252619393579</c:v>
                </c:pt>
                <c:pt idx="193">
                  <c:v>0.0544651392311607</c:v>
                </c:pt>
                <c:pt idx="194">
                  <c:v>0.0555304404947306</c:v>
                </c:pt>
                <c:pt idx="195">
                  <c:v>0.0566219152999847</c:v>
                </c:pt>
                <c:pt idx="196">
                  <c:v>0.0577403391266571</c:v>
                </c:pt>
                <c:pt idx="197">
                  <c:v>0.0588865143929202</c:v>
                </c:pt>
                <c:pt idx="198">
                  <c:v>0.060061271530176</c:v>
                </c:pt>
                <c:pt idx="199">
                  <c:v>0.0612654701063315</c:v>
                </c:pt>
                <c:pt idx="201">
                  <c:v>0.0637657826282077</c:v>
                </c:pt>
                <c:pt idx="202">
                  <c:v>0.0650637722303261</c:v>
                </c:pt>
                <c:pt idx="203">
                  <c:v>0.0663949572111092</c:v>
                </c:pt>
                <c:pt idx="204">
                  <c:v>0.0677603615458712</c:v>
                </c:pt>
                <c:pt idx="205">
                  <c:v>0.0691610462510174</c:v>
                </c:pt>
                <c:pt idx="206">
                  <c:v>0.0705981109233227</c:v>
                </c:pt>
                <c:pt idx="207">
                  <c:v>0.072072695351547</c:v>
                </c:pt>
                <c:pt idx="208">
                  <c:v>0.073585981204186</c:v>
                </c:pt>
                <c:pt idx="209">
                  <c:v>0.0751391937973713</c:v>
                </c:pt>
                <c:pt idx="210">
                  <c:v>0.0767336039471766</c:v>
                </c:pt>
                <c:pt idx="211">
                  <c:v>0.0783705299108255</c:v>
                </c:pt>
                <c:pt idx="212">
                  <c:v>0.0800513394215729</c:v>
                </c:pt>
                <c:pt idx="213">
                  <c:v>0.0817774518223046</c:v>
                </c:pt>
                <c:pt idx="214">
                  <c:v>0.0835503403032097</c:v>
                </c:pt>
                <c:pt idx="215">
                  <c:v>0.085371534249192</c:v>
                </c:pt>
                <c:pt idx="216">
                  <c:v>0.0872426217030385</c:v>
                </c:pt>
                <c:pt idx="217">
                  <c:v>0.089165251950717</c:v>
                </c:pt>
                <c:pt idx="218">
                  <c:v>0.0911411382355726</c:v>
                </c:pt>
                <c:pt idx="219">
                  <c:v>0.0931720606086006</c:v>
                </c:pt>
                <c:pt idx="220">
                  <c:v>0.0952598689224204</c:v>
                </c:pt>
                <c:pt idx="221">
                  <c:v>0.0974064859770443</c:v>
                </c:pt>
                <c:pt idx="222">
                  <c:v>0.0996139108260415</c:v>
                </c:pt>
                <c:pt idx="223">
                  <c:v>0.101884222252235</c:v>
                </c:pt>
                <c:pt idx="224">
                  <c:v>0.104219582422649</c:v>
                </c:pt>
                <c:pt idx="225">
                  <c:v>0.106622240733028</c:v>
                </c:pt>
                <c:pt idx="226">
                  <c:v>0.109094537852933</c:v>
                </c:pt>
                <c:pt idx="227">
                  <c:v>0.111638909983092</c:v>
                </c:pt>
                <c:pt idx="228">
                  <c:v>0.11425789333746</c:v>
                </c:pt>
                <c:pt idx="229">
                  <c:v>0.116954128863247</c:v>
                </c:pt>
                <c:pt idx="230">
                  <c:v>0.119730367213036</c:v>
                </c:pt>
                <c:pt idx="231">
                  <c:v>0.122589473984026</c:v>
                </c:pt>
                <c:pt idx="232">
                  <c:v>0.12553443524046</c:v>
                </c:pt>
                <c:pt idx="233">
                  <c:v>0.128568363336344</c:v>
                </c:pt>
                <c:pt idx="234">
                  <c:v>0.131694503056693</c:v>
                </c:pt>
                <c:pt idx="235">
                  <c:v>0.134916238096804</c:v>
                </c:pt>
                <c:pt idx="236">
                  <c:v>0.138237097900353</c:v>
                </c:pt>
                <c:pt idx="237">
                  <c:v>0.141660764878516</c:v>
                </c:pt>
                <c:pt idx="238">
                  <c:v>0.145191082033867</c:v>
                </c:pt>
                <c:pt idx="239">
                  <c:v>0.14883206101443</c:v>
                </c:pt>
                <c:pt idx="240">
                  <c:v>0.152587890625</c:v>
                </c:pt>
                <c:pt idx="241">
                  <c:v>0.156462945824794</c:v>
                </c:pt>
                <c:pt idx="242">
                  <c:v>0.160461797242476</c:v>
                </c:pt>
                <c:pt idx="243">
                  <c:v>0.164589221241837</c:v>
                </c:pt>
                <c:pt idx="244">
                  <c:v>0.168850210573773</c:v>
                </c:pt>
                <c:pt idx="245">
                  <c:v>0.173249985652736</c:v>
                </c:pt>
                <c:pt idx="246">
                  <c:v>0.177794006498613</c:v>
                </c:pt>
                <c:pt idx="247">
                  <c:v>0.182487985387954</c:v>
                </c:pt>
                <c:pt idx="248">
                  <c:v>0.187337900261662</c:v>
                </c:pt>
                <c:pt idx="249">
                  <c:v>0.192350008939755</c:v>
                </c:pt>
                <c:pt idx="250">
                  <c:v>0.197530864197531</c:v>
                </c:pt>
                <c:pt idx="251">
                  <c:v>0.202887329761528</c:v>
                </c:pt>
                <c:pt idx="252">
                  <c:v>0.208426597288067</c:v>
                </c:pt>
                <c:pt idx="253">
                  <c:v>0.214156204391889</c:v>
                </c:pt>
                <c:pt idx="254">
                  <c:v>0.220084053797557</c:v>
                </c:pt>
                <c:pt idx="255">
                  <c:v>0.226218433691843</c:v>
                </c:pt>
                <c:pt idx="256">
                  <c:v>0.232568039361378</c:v>
                </c:pt>
                <c:pt idx="257">
                  <c:v>0.23914199620639</c:v>
                </c:pt>
                <c:pt idx="258">
                  <c:v>0.245949884228438</c:v>
                </c:pt>
                <c:pt idx="259">
                  <c:v>0.25300176409781</c:v>
                </c:pt>
                <c:pt idx="260">
                  <c:v>0.260308204914619</c:v>
                </c:pt>
                <c:pt idx="261">
                  <c:v>0.267880313786749</c:v>
                </c:pt>
                <c:pt idx="262">
                  <c:v>0.275729767357751</c:v>
                </c:pt>
                <c:pt idx="263">
                  <c:v>0.283868845428562</c:v>
                </c:pt>
                <c:pt idx="264">
                  <c:v>0.292310466828702</c:v>
                </c:pt>
                <c:pt idx="265">
                  <c:v>0.301068227705427</c:v>
                </c:pt>
                <c:pt idx="266">
                  <c:v>0.310156442413303</c:v>
                </c:pt>
                <c:pt idx="267">
                  <c:v>0.319590187201902</c:v>
                </c:pt>
                <c:pt idx="268">
                  <c:v>0.329385346916026</c:v>
                </c:pt>
                <c:pt idx="269">
                  <c:v>0.339558664941034</c:v>
                </c:pt>
                <c:pt idx="270">
                  <c:v>0.350127796645776</c:v>
                </c:pt>
                <c:pt idx="271">
                  <c:v>0.361111366597403</c:v>
                </c:pt>
                <c:pt idx="272">
                  <c:v>0.372529029846192</c:v>
                </c:pt>
                <c:pt idx="273">
                  <c:v>0.384401537604613</c:v>
                </c:pt>
                <c:pt idx="274">
                  <c:v>0.396750807673554</c:v>
                </c:pt>
                <c:pt idx="275">
                  <c:v>0.4096</c:v>
                </c:pt>
                <c:pt idx="276">
                  <c:v>0.422973597784999</c:v>
                </c:pt>
                <c:pt idx="277">
                  <c:v>0.436897494598647</c:v>
                </c:pt>
                <c:pt idx="278">
                  <c:v>0.451399088000505</c:v>
                </c:pt>
                <c:pt idx="279">
                  <c:v>0.466507380209734</c:v>
                </c:pt>
                <c:pt idx="280">
                  <c:v>0.482253086419754</c:v>
                </c:pt>
                <c:pt idx="281">
                  <c:v>0.498668751407898</c:v>
                </c:pt>
                <c:pt idx="282">
                  <c:v>0.515788875151941</c:v>
                </c:pt>
                <c:pt idx="283">
                  <c:v>0.533650048233159</c:v>
                </c:pt>
                <c:pt idx="284">
                  <c:v>0.552291097880474</c:v>
                </c:pt>
                <c:pt idx="285">
                  <c:v>0.571753245593033</c:v>
                </c:pt>
                <c:pt idx="286">
                  <c:v>0.592080277370189</c:v>
                </c:pt>
                <c:pt idx="287">
                  <c:v>0.613318727679377</c:v>
                </c:pt>
                <c:pt idx="288">
                  <c:v>0.635518078404831</c:v>
                </c:pt>
                <c:pt idx="289">
                  <c:v>0.658730974145001</c:v>
                </c:pt>
                <c:pt idx="290">
                  <c:v>0.683013455365071</c:v>
                </c:pt>
                <c:pt idx="291">
                  <c:v>0.708425211065197</c:v>
                </c:pt>
                <c:pt idx="292">
                  <c:v>0.735029852796453</c:v>
                </c:pt>
                <c:pt idx="293">
                  <c:v>0.762895212047526</c:v>
                </c:pt>
                <c:pt idx="294">
                  <c:v>0.79209366323802</c:v>
                </c:pt>
                <c:pt idx="295">
                  <c:v>0.822702474791883</c:v>
                </c:pt>
                <c:pt idx="296">
                  <c:v>0.854804191029726</c:v>
                </c:pt>
                <c:pt idx="297">
                  <c:v>0.88848704791569</c:v>
                </c:pt>
                <c:pt idx="298">
                  <c:v>0.923845426026514</c:v>
                </c:pt>
                <c:pt idx="299">
                  <c:v>0.960980344482817</c:v>
                </c:pt>
                <c:pt idx="300">
                  <c:v>1</c:v>
                </c:pt>
                <c:pt idx="301">
                  <c:v>1.04102035568522</c:v>
                </c:pt>
                <c:pt idx="302">
                  <c:v>1.08416578473394</c:v>
                </c:pt>
                <c:pt idx="303">
                  <c:v>1.12956977477316</c:v>
                </c:pt>
                <c:pt idx="304">
                  <c:v>1.17737569926698</c:v>
                </c:pt>
                <c:pt idx="305">
                  <c:v>1.22773766315483</c:v>
                </c:pt>
                <c:pt idx="306">
                  <c:v>1.28082143074517</c:v>
                </c:pt>
                <c:pt idx="307">
                  <c:v>1.33680544485136</c:v>
                </c:pt>
                <c:pt idx="308">
                  <c:v>1.39588194724862</c:v>
                </c:pt>
                <c:pt idx="309">
                  <c:v>1.45825821176916</c:v>
                </c:pt>
                <c:pt idx="310">
                  <c:v>1.52415790275873</c:v>
                </c:pt>
                <c:pt idx="311">
                  <c:v>1.59382257321666</c:v>
                </c:pt>
                <c:pt idx="312">
                  <c:v>1.66751331876238</c:v>
                </c:pt>
                <c:pt idx="313">
                  <c:v>1.74551260564693</c:v>
                </c:pt>
                <c:pt idx="314">
                  <c:v>1.82812629339935</c:v>
                </c:pt>
                <c:pt idx="315">
                  <c:v>1.91568587540858</c:v>
                </c:pt>
                <c:pt idx="316">
                  <c:v>2.00855096384737</c:v>
                </c:pt>
                <c:pt idx="317">
                  <c:v>2.10711204890708</c:v>
                </c:pt>
                <c:pt idx="318">
                  <c:v>2.21179356640565</c:v>
                </c:pt>
                <c:pt idx="319">
                  <c:v>2.32305731254188</c:v>
                </c:pt>
                <c:pt idx="320">
                  <c:v>2.44140625</c:v>
                </c:pt>
                <c:pt idx="321">
                  <c:v>2.56738875587961</c:v>
                </c:pt>
                <c:pt idx="322">
                  <c:v>2.70160336918037</c:v>
                </c:pt>
                <c:pt idx="323">
                  <c:v>2.8447041039778</c:v>
                </c:pt>
                <c:pt idx="324">
                  <c:v>2.99740640418659</c:v>
                </c:pt>
                <c:pt idx="325">
                  <c:v>3.16049382716049</c:v>
                </c:pt>
                <c:pt idx="326">
                  <c:v>3.33482555660907</c:v>
                </c:pt>
                <c:pt idx="327">
                  <c:v>3.52134486076092</c:v>
                </c:pt>
                <c:pt idx="328">
                  <c:v>3.72108862978205</c:v>
                </c:pt>
                <c:pt idx="329">
                  <c:v>3.93519814765501</c:v>
                </c:pt>
                <c:pt idx="330">
                  <c:v>4.16493127863391</c:v>
                </c:pt>
                <c:pt idx="331">
                  <c:v>4.41167627772402</c:v>
                </c:pt>
                <c:pt idx="332">
                  <c:v>4.67696746925924</c:v>
                </c:pt>
                <c:pt idx="333">
                  <c:v>4.96250307861285</c:v>
                </c:pt>
                <c:pt idx="334">
                  <c:v>5.27016555065641</c:v>
                </c:pt>
                <c:pt idx="335">
                  <c:v>5.60204474633242</c:v>
                </c:pt>
                <c:pt idx="336">
                  <c:v>5.96046447753906</c:v>
                </c:pt>
                <c:pt idx="337">
                  <c:v>6.34801292277687</c:v>
                </c:pt>
                <c:pt idx="338">
                  <c:v>6.76757756455998</c:v>
                </c:pt>
                <c:pt idx="339">
                  <c:v>7.22238540800808</c:v>
                </c:pt>
                <c:pt idx="340">
                  <c:v>7.71604938271605</c:v>
                </c:pt>
                <c:pt idx="341">
                  <c:v>8.25262200243106</c:v>
                </c:pt>
                <c:pt idx="342">
                  <c:v>8.83665756608759</c:v>
                </c:pt>
                <c:pt idx="343">
                  <c:v>9.47328443792305</c:v>
                </c:pt>
                <c:pt idx="344">
                  <c:v>10.1682892544773</c:v>
                </c:pt>
                <c:pt idx="345">
                  <c:v>10.9282152858411</c:v>
                </c:pt>
                <c:pt idx="346">
                  <c:v>11.7604776447433</c:v>
                </c:pt>
                <c:pt idx="347">
                  <c:v>12.6734986118083</c:v>
                </c:pt>
                <c:pt idx="348">
                  <c:v>13.6768670564756</c:v>
                </c:pt>
                <c:pt idx="349">
                  <c:v>14.7815268164243</c:v>
                </c:pt>
                <c:pt idx="350">
                  <c:v>16</c:v>
                </c:pt>
                <c:pt idx="351">
                  <c:v>17.3466525557431</c:v>
                </c:pt>
                <c:pt idx="352">
                  <c:v>18.8380111882716</c:v>
                </c:pt>
                <c:pt idx="353">
                  <c:v>20.4931428919227</c:v>
                </c:pt>
                <c:pt idx="354">
                  <c:v>22.3341111559779</c:v>
                </c:pt>
                <c:pt idx="355">
                  <c:v>24.3865264441397</c:v>
                </c:pt>
                <c:pt idx="356">
                  <c:v>26.6802131001981</c:v>
                </c:pt>
                <c:pt idx="357">
                  <c:v>29.2500206943897</c:v>
                </c:pt>
                <c:pt idx="358">
                  <c:v>32.1368154215579</c:v>
                </c:pt>
                <c:pt idx="359">
                  <c:v>35.3886970624904</c:v>
                </c:pt>
                <c:pt idx="360">
                  <c:v>39.0625</c:v>
                </c:pt>
                <c:pt idx="361">
                  <c:v>43.2256539068858</c:v>
                </c:pt>
                <c:pt idx="362">
                  <c:v>47.9585024669854</c:v>
                </c:pt>
                <c:pt idx="363">
                  <c:v>53.357208905745</c:v>
                </c:pt>
                <c:pt idx="364">
                  <c:v>59.5374180765128</c:v>
                </c:pt>
                <c:pt idx="365">
                  <c:v>66.6389004581424</c:v>
                </c:pt>
                <c:pt idx="366">
                  <c:v>74.8314795081478</c:v>
                </c:pt>
                <c:pt idx="367">
                  <c:v>84.3226488105025</c:v>
                </c:pt>
                <c:pt idx="368">
                  <c:v>95.3674316406252</c:v>
                </c:pt>
                <c:pt idx="369">
                  <c:v>108.28124103296</c:v>
                </c:pt>
                <c:pt idx="370">
                  <c:v>123.456790123457</c:v>
                </c:pt>
                <c:pt idx="371">
                  <c:v>141.386521057401</c:v>
                </c:pt>
                <c:pt idx="372">
                  <c:v>162.692628071637</c:v>
                </c:pt>
                <c:pt idx="373">
                  <c:v>188.167642315892</c:v>
                </c:pt>
                <c:pt idx="374">
                  <c:v>218.829872903611</c:v>
                </c:pt>
                <c:pt idx="375">
                  <c:v>256</c:v>
                </c:pt>
                <c:pt idx="376">
                  <c:v>301.408179012347</c:v>
                </c:pt>
                <c:pt idx="377">
                  <c:v>357.345778495646</c:v>
                </c:pt>
                <c:pt idx="378">
                  <c:v>426.883409603171</c:v>
                </c:pt>
                <c:pt idx="379">
                  <c:v>514.189046744927</c:v>
                </c:pt>
                <c:pt idx="380">
                  <c:v>625.000000000003</c:v>
                </c:pt>
                <c:pt idx="381">
                  <c:v>767.336039471767</c:v>
                </c:pt>
                <c:pt idx="382">
                  <c:v>952.59868922421</c:v>
                </c:pt>
                <c:pt idx="383">
                  <c:v>1197.30367213036</c:v>
                </c:pt>
                <c:pt idx="384">
                  <c:v>1525.87890624999</c:v>
                </c:pt>
                <c:pt idx="385">
                  <c:v>1975.30864197531</c:v>
                </c:pt>
                <c:pt idx="386">
                  <c:v>2603.08204914618</c:v>
                </c:pt>
                <c:pt idx="387">
                  <c:v>3501.27796645777</c:v>
                </c:pt>
                <c:pt idx="388">
                  <c:v>4822.53086419751</c:v>
                </c:pt>
                <c:pt idx="389">
                  <c:v>6830.13455365074</c:v>
                </c:pt>
                <c:pt idx="390">
                  <c:v>9999.99999999996</c:v>
                </c:pt>
                <c:pt idx="391">
                  <c:v>15241.5790275874</c:v>
                </c:pt>
                <c:pt idx="392">
                  <c:v>24414.0624999999</c:v>
                </c:pt>
                <c:pt idx="393">
                  <c:v>41649.3127863394</c:v>
                </c:pt>
                <c:pt idx="394">
                  <c:v>77160.4938271602</c:v>
                </c:pt>
                <c:pt idx="395">
                  <c:v>160000.000000002</c:v>
                </c:pt>
                <c:pt idx="396">
                  <c:v>390624.999999999</c:v>
                </c:pt>
                <c:pt idx="397">
                  <c:v>1234567.9012346</c:v>
                </c:pt>
                <c:pt idx="398">
                  <c:v>6249999.99999998</c:v>
                </c:pt>
                <c:pt idx="399">
                  <c:v>100000000.000009</c:v>
                </c:pt>
                <c:pt idx="400">
                  <c:v>0</c:v>
                </c:pt>
                <c:pt idx="401">
                  <c:v>100000000.000009</c:v>
                </c:pt>
                <c:pt idx="402">
                  <c:v>6249999.99999942</c:v>
                </c:pt>
                <c:pt idx="403">
                  <c:v>1234567.90123453</c:v>
                </c:pt>
                <c:pt idx="404">
                  <c:v>390624.999999999</c:v>
                </c:pt>
                <c:pt idx="405">
                  <c:v>160000.000000002</c:v>
                </c:pt>
                <c:pt idx="406">
                  <c:v>77160.4938271579</c:v>
                </c:pt>
                <c:pt idx="407">
                  <c:v>41649.3127863384</c:v>
                </c:pt>
                <c:pt idx="408">
                  <c:v>24414.0624999999</c:v>
                </c:pt>
                <c:pt idx="409">
                  <c:v>15241.5790275874</c:v>
                </c:pt>
                <c:pt idx="410">
                  <c:v>10000.0000000001</c:v>
                </c:pt>
                <c:pt idx="411">
                  <c:v>6830.13455365063</c:v>
                </c:pt>
                <c:pt idx="412">
                  <c:v>4822.53086419751</c:v>
                </c:pt>
                <c:pt idx="413">
                  <c:v>3501.27796645777</c:v>
                </c:pt>
                <c:pt idx="414">
                  <c:v>2603.08204914621</c:v>
                </c:pt>
                <c:pt idx="415">
                  <c:v>1975.30864197529</c:v>
                </c:pt>
                <c:pt idx="416">
                  <c:v>1525.87890624999</c:v>
                </c:pt>
                <c:pt idx="417">
                  <c:v>1197.30367213036</c:v>
                </c:pt>
                <c:pt idx="418">
                  <c:v>952.59868922421</c:v>
                </c:pt>
                <c:pt idx="419">
                  <c:v>767.33603947176</c:v>
                </c:pt>
                <c:pt idx="420">
                  <c:v>624.999999999998</c:v>
                </c:pt>
                <c:pt idx="421">
                  <c:v>514.189046744927</c:v>
                </c:pt>
                <c:pt idx="422">
                  <c:v>426.883409603171</c:v>
                </c:pt>
                <c:pt idx="423">
                  <c:v>357.345778495643</c:v>
                </c:pt>
                <c:pt idx="424">
                  <c:v>301.408179012345</c:v>
                </c:pt>
                <c:pt idx="425">
                  <c:v>256</c:v>
                </c:pt>
                <c:pt idx="426">
                  <c:v>218.829872903611</c:v>
                </c:pt>
                <c:pt idx="427">
                  <c:v>188.167642315891</c:v>
                </c:pt>
                <c:pt idx="428">
                  <c:v>162.692628071636</c:v>
                </c:pt>
                <c:pt idx="429">
                  <c:v>141.386521057401</c:v>
                </c:pt>
                <c:pt idx="430">
                  <c:v>123.456790123457</c:v>
                </c:pt>
                <c:pt idx="431">
                  <c:v>108.281241032959</c:v>
                </c:pt>
                <c:pt idx="432">
                  <c:v>95.3674316406246</c:v>
                </c:pt>
                <c:pt idx="433">
                  <c:v>84.3226488105025</c:v>
                </c:pt>
                <c:pt idx="434">
                  <c:v>74.8314795081478</c:v>
                </c:pt>
                <c:pt idx="435">
                  <c:v>66.638900458142</c:v>
                </c:pt>
                <c:pt idx="436">
                  <c:v>59.5374180765125</c:v>
                </c:pt>
                <c:pt idx="437">
                  <c:v>53.357208905745</c:v>
                </c:pt>
                <c:pt idx="438">
                  <c:v>47.9585024669854</c:v>
                </c:pt>
                <c:pt idx="439">
                  <c:v>43.225653906886</c:v>
                </c:pt>
                <c:pt idx="440">
                  <c:v>39.0624999999999</c:v>
                </c:pt>
                <c:pt idx="441">
                  <c:v>35.3886970624904</c:v>
                </c:pt>
                <c:pt idx="442">
                  <c:v>32.1368154215579</c:v>
                </c:pt>
                <c:pt idx="443">
                  <c:v>29.2500206943897</c:v>
                </c:pt>
                <c:pt idx="444">
                  <c:v>26.680213100198</c:v>
                </c:pt>
                <c:pt idx="445">
                  <c:v>24.3865264441396</c:v>
                </c:pt>
                <c:pt idx="446">
                  <c:v>22.3341111559779</c:v>
                </c:pt>
                <c:pt idx="447">
                  <c:v>20.4931428919227</c:v>
                </c:pt>
                <c:pt idx="448">
                  <c:v>18.8380111882715</c:v>
                </c:pt>
                <c:pt idx="449">
                  <c:v>17.346652555743</c:v>
                </c:pt>
                <c:pt idx="450">
                  <c:v>16</c:v>
                </c:pt>
                <c:pt idx="451">
                  <c:v>14.7815268164243</c:v>
                </c:pt>
                <c:pt idx="452">
                  <c:v>13.6768670564756</c:v>
                </c:pt>
                <c:pt idx="453">
                  <c:v>12.6734986118083</c:v>
                </c:pt>
                <c:pt idx="454">
                  <c:v>11.7604776447433</c:v>
                </c:pt>
                <c:pt idx="455">
                  <c:v>10.9282152858411</c:v>
                </c:pt>
                <c:pt idx="456">
                  <c:v>10.1682892544773</c:v>
                </c:pt>
                <c:pt idx="457">
                  <c:v>9.47328443792302</c:v>
                </c:pt>
                <c:pt idx="458">
                  <c:v>8.83665756608759</c:v>
                </c:pt>
                <c:pt idx="459">
                  <c:v>8.25262200243106</c:v>
                </c:pt>
                <c:pt idx="460">
                  <c:v>7.71604938271602</c:v>
                </c:pt>
                <c:pt idx="461">
                  <c:v>7.22238540800807</c:v>
                </c:pt>
                <c:pt idx="462">
                  <c:v>6.76757756455998</c:v>
                </c:pt>
                <c:pt idx="463">
                  <c:v>6.34801292277687</c:v>
                </c:pt>
                <c:pt idx="464">
                  <c:v>5.96046447753908</c:v>
                </c:pt>
                <c:pt idx="465">
                  <c:v>5.6020447463324</c:v>
                </c:pt>
                <c:pt idx="466">
                  <c:v>5.27016555065641</c:v>
                </c:pt>
                <c:pt idx="467">
                  <c:v>4.96250307861285</c:v>
                </c:pt>
                <c:pt idx="468">
                  <c:v>4.67696746925924</c:v>
                </c:pt>
                <c:pt idx="469">
                  <c:v>4.41167627772401</c:v>
                </c:pt>
                <c:pt idx="470">
                  <c:v>4.1649312786339</c:v>
                </c:pt>
                <c:pt idx="471">
                  <c:v>3.93519814765501</c:v>
                </c:pt>
                <c:pt idx="472">
                  <c:v>3.72108862978205</c:v>
                </c:pt>
                <c:pt idx="473">
                  <c:v>3.52134486076091</c:v>
                </c:pt>
                <c:pt idx="474">
                  <c:v>3.33482555660906</c:v>
                </c:pt>
                <c:pt idx="475">
                  <c:v>3.16049382716049</c:v>
                </c:pt>
                <c:pt idx="476">
                  <c:v>2.99740640418659</c:v>
                </c:pt>
                <c:pt idx="477">
                  <c:v>2.8447041039778</c:v>
                </c:pt>
                <c:pt idx="478">
                  <c:v>2.70160336918037</c:v>
                </c:pt>
                <c:pt idx="479">
                  <c:v>2.56738875587961</c:v>
                </c:pt>
                <c:pt idx="480">
                  <c:v>2.44140625</c:v>
                </c:pt>
                <c:pt idx="481">
                  <c:v>2.32305731254187</c:v>
                </c:pt>
                <c:pt idx="482">
                  <c:v>2.21179356640565</c:v>
                </c:pt>
                <c:pt idx="483">
                  <c:v>2.10711204890708</c:v>
                </c:pt>
                <c:pt idx="484">
                  <c:v>2.00855096384737</c:v>
                </c:pt>
                <c:pt idx="485">
                  <c:v>1.91568587540858</c:v>
                </c:pt>
                <c:pt idx="486">
                  <c:v>1.82812629339935</c:v>
                </c:pt>
                <c:pt idx="487">
                  <c:v>1.74551260564693</c:v>
                </c:pt>
                <c:pt idx="488">
                  <c:v>1.66751331876238</c:v>
                </c:pt>
                <c:pt idx="489">
                  <c:v>1.59382257321666</c:v>
                </c:pt>
                <c:pt idx="490">
                  <c:v>1.52415790275872</c:v>
                </c:pt>
                <c:pt idx="491">
                  <c:v>1.45825821176916</c:v>
                </c:pt>
                <c:pt idx="492">
                  <c:v>1.39588194724862</c:v>
                </c:pt>
                <c:pt idx="493">
                  <c:v>1.33680544485136</c:v>
                </c:pt>
                <c:pt idx="494">
                  <c:v>1.28082143074516</c:v>
                </c:pt>
                <c:pt idx="495">
                  <c:v>1.22773766315482</c:v>
                </c:pt>
                <c:pt idx="496">
                  <c:v>1.17737569926698</c:v>
                </c:pt>
                <c:pt idx="497">
                  <c:v>1.12956977477316</c:v>
                </c:pt>
                <c:pt idx="498">
                  <c:v>1.08416578473394</c:v>
                </c:pt>
                <c:pt idx="499">
                  <c:v>1.04102035568522</c:v>
                </c:pt>
                <c:pt idx="500">
                  <c:v>1</c:v>
                </c:pt>
                <c:pt idx="501">
                  <c:v>0.960980344482816</c:v>
                </c:pt>
                <c:pt idx="502">
                  <c:v>0.923845426026514</c:v>
                </c:pt>
                <c:pt idx="503">
                  <c:v>0.888487047915689</c:v>
                </c:pt>
                <c:pt idx="504">
                  <c:v>0.854804191029726</c:v>
                </c:pt>
                <c:pt idx="505">
                  <c:v>0.822702474791882</c:v>
                </c:pt>
                <c:pt idx="506">
                  <c:v>0.79209366323802</c:v>
                </c:pt>
                <c:pt idx="507">
                  <c:v>0.762895212047525</c:v>
                </c:pt>
                <c:pt idx="508">
                  <c:v>0.735029852796453</c:v>
                </c:pt>
                <c:pt idx="509">
                  <c:v>0.708425211065196</c:v>
                </c:pt>
                <c:pt idx="510">
                  <c:v>0.683013455365071</c:v>
                </c:pt>
                <c:pt idx="511">
                  <c:v>0.658730974145</c:v>
                </c:pt>
                <c:pt idx="512">
                  <c:v>0.635518078404831</c:v>
                </c:pt>
                <c:pt idx="513">
                  <c:v>0.613318727679377</c:v>
                </c:pt>
                <c:pt idx="514">
                  <c:v>0.592080277370189</c:v>
                </c:pt>
                <c:pt idx="515">
                  <c:v>0.571753245593033</c:v>
                </c:pt>
                <c:pt idx="516">
                  <c:v>0.552291097880475</c:v>
                </c:pt>
                <c:pt idx="517">
                  <c:v>0.533650048233159</c:v>
                </c:pt>
                <c:pt idx="518">
                  <c:v>0.515788875151941</c:v>
                </c:pt>
                <c:pt idx="519">
                  <c:v>0.498668751407898</c:v>
                </c:pt>
                <c:pt idx="520">
                  <c:v>0.482253086419753</c:v>
                </c:pt>
                <c:pt idx="521">
                  <c:v>0.466507380209734</c:v>
                </c:pt>
                <c:pt idx="522">
                  <c:v>0.451399088000505</c:v>
                </c:pt>
                <c:pt idx="523">
                  <c:v>0.436897494598647</c:v>
                </c:pt>
                <c:pt idx="524">
                  <c:v>0.422973597784999</c:v>
                </c:pt>
                <c:pt idx="525">
                  <c:v>0.4096</c:v>
                </c:pt>
                <c:pt idx="526">
                  <c:v>0.396750807673554</c:v>
                </c:pt>
                <c:pt idx="527">
                  <c:v>0.384401537604613</c:v>
                </c:pt>
                <c:pt idx="528">
                  <c:v>0.372529029846191</c:v>
                </c:pt>
                <c:pt idx="529">
                  <c:v>0.361111366597403</c:v>
                </c:pt>
                <c:pt idx="530">
                  <c:v>0.350127796645776</c:v>
                </c:pt>
                <c:pt idx="531">
                  <c:v>0.339558664941034</c:v>
                </c:pt>
                <c:pt idx="532">
                  <c:v>0.329385346916026</c:v>
                </c:pt>
                <c:pt idx="533">
                  <c:v>0.319590187201902</c:v>
                </c:pt>
                <c:pt idx="534">
                  <c:v>0.310156442413303</c:v>
                </c:pt>
                <c:pt idx="535">
                  <c:v>0.301068227705427</c:v>
                </c:pt>
                <c:pt idx="536">
                  <c:v>0.292310466828702</c:v>
                </c:pt>
                <c:pt idx="537">
                  <c:v>0.283868845428562</c:v>
                </c:pt>
                <c:pt idx="538">
                  <c:v>0.275729767357751</c:v>
                </c:pt>
                <c:pt idx="539">
                  <c:v>0.267880313786749</c:v>
                </c:pt>
                <c:pt idx="540">
                  <c:v>0.260308204914619</c:v>
                </c:pt>
                <c:pt idx="541">
                  <c:v>0.25300176409781</c:v>
                </c:pt>
                <c:pt idx="542">
                  <c:v>0.245949884228438</c:v>
                </c:pt>
                <c:pt idx="543">
                  <c:v>0.23914199620639</c:v>
                </c:pt>
                <c:pt idx="544">
                  <c:v>0.232568039361378</c:v>
                </c:pt>
                <c:pt idx="545">
                  <c:v>0.226218433691842</c:v>
                </c:pt>
                <c:pt idx="546">
                  <c:v>0.220084053797557</c:v>
                </c:pt>
                <c:pt idx="547">
                  <c:v>0.214156204391889</c:v>
                </c:pt>
                <c:pt idx="548">
                  <c:v>0.208426597288067</c:v>
                </c:pt>
                <c:pt idx="549">
                  <c:v>0.202887329761528</c:v>
                </c:pt>
                <c:pt idx="550">
                  <c:v>0.197530864197531</c:v>
                </c:pt>
                <c:pt idx="551">
                  <c:v>0.192350008939755</c:v>
                </c:pt>
                <c:pt idx="552">
                  <c:v>0.187337900261662</c:v>
                </c:pt>
                <c:pt idx="553">
                  <c:v>0.182487985387953</c:v>
                </c:pt>
                <c:pt idx="554">
                  <c:v>0.177794006498613</c:v>
                </c:pt>
                <c:pt idx="555">
                  <c:v>0.173249985652736</c:v>
                </c:pt>
                <c:pt idx="556">
                  <c:v>0.168850210573773</c:v>
                </c:pt>
                <c:pt idx="557">
                  <c:v>0.164589221241837</c:v>
                </c:pt>
                <c:pt idx="558">
                  <c:v>0.160461797242476</c:v>
                </c:pt>
                <c:pt idx="559">
                  <c:v>0.156462945824794</c:v>
                </c:pt>
                <c:pt idx="560">
                  <c:v>0.152587890625</c:v>
                </c:pt>
                <c:pt idx="561">
                  <c:v>0.14883206101443</c:v>
                </c:pt>
                <c:pt idx="562">
                  <c:v>0.145191082033867</c:v>
                </c:pt>
                <c:pt idx="563">
                  <c:v>0.141660764878516</c:v>
                </c:pt>
                <c:pt idx="564">
                  <c:v>0.138237097900353</c:v>
                </c:pt>
                <c:pt idx="565">
                  <c:v>0.134916238096804</c:v>
                </c:pt>
                <c:pt idx="566">
                  <c:v>0.131694503056693</c:v>
                </c:pt>
                <c:pt idx="567">
                  <c:v>0.128568363336344</c:v>
                </c:pt>
                <c:pt idx="568">
                  <c:v>0.12553443524046</c:v>
                </c:pt>
                <c:pt idx="569">
                  <c:v>0.122589473984026</c:v>
                </c:pt>
                <c:pt idx="570">
                  <c:v>0.119730367213036</c:v>
                </c:pt>
                <c:pt idx="571">
                  <c:v>0.116954128863247</c:v>
                </c:pt>
                <c:pt idx="572">
                  <c:v>0.11425789333746</c:v>
                </c:pt>
                <c:pt idx="573">
                  <c:v>0.111638909983092</c:v>
                </c:pt>
                <c:pt idx="574">
                  <c:v>0.109094537852933</c:v>
                </c:pt>
                <c:pt idx="575">
                  <c:v>0.106622240733028</c:v>
                </c:pt>
                <c:pt idx="576">
                  <c:v>0.104219582422649</c:v>
                </c:pt>
                <c:pt idx="577">
                  <c:v>0.101884222252235</c:v>
                </c:pt>
                <c:pt idx="578">
                  <c:v>0.0996139108260414</c:v>
                </c:pt>
                <c:pt idx="579">
                  <c:v>0.0974064859770443</c:v>
                </c:pt>
                <c:pt idx="580">
                  <c:v>0.0952598689224204</c:v>
                </c:pt>
                <c:pt idx="581">
                  <c:v>0.0931720606086006</c:v>
                </c:pt>
                <c:pt idx="582">
                  <c:v>0.0911411382355726</c:v>
                </c:pt>
                <c:pt idx="583">
                  <c:v>0.089165251950717</c:v>
                </c:pt>
                <c:pt idx="584">
                  <c:v>0.0872426217030385</c:v>
                </c:pt>
                <c:pt idx="585">
                  <c:v>0.085371534249192</c:v>
                </c:pt>
                <c:pt idx="586">
                  <c:v>0.0835503403032097</c:v>
                </c:pt>
                <c:pt idx="587">
                  <c:v>0.0817774518223046</c:v>
                </c:pt>
                <c:pt idx="588">
                  <c:v>0.0800513394215729</c:v>
                </c:pt>
                <c:pt idx="589">
                  <c:v>0.0783705299108255</c:v>
                </c:pt>
                <c:pt idx="590">
                  <c:v>0.0767336039471766</c:v>
                </c:pt>
                <c:pt idx="591">
                  <c:v>0.0751391937973713</c:v>
                </c:pt>
                <c:pt idx="592">
                  <c:v>0.073585981204186</c:v>
                </c:pt>
                <c:pt idx="593">
                  <c:v>0.072072695351547</c:v>
                </c:pt>
                <c:pt idx="594">
                  <c:v>0.0705981109233227</c:v>
                </c:pt>
                <c:pt idx="595">
                  <c:v>0.0691610462510174</c:v>
                </c:pt>
                <c:pt idx="596">
                  <c:v>0.0677603615458712</c:v>
                </c:pt>
                <c:pt idx="597">
                  <c:v>0.0663949572111092</c:v>
                </c:pt>
                <c:pt idx="598">
                  <c:v>0.0650637722303261</c:v>
                </c:pt>
                <c:pt idx="599">
                  <c:v>0.0637657826282076</c:v>
                </c:pt>
                <c:pt idx="600">
                  <c:v>0.0625</c:v>
                </c:pt>
                <c:pt idx="601">
                  <c:v>0.0612654701063315</c:v>
                </c:pt>
                <c:pt idx="602">
                  <c:v>0.060061271530176</c:v>
                </c:pt>
                <c:pt idx="603">
                  <c:v>0.0588865143929202</c:v>
                </c:pt>
                <c:pt idx="604">
                  <c:v>0.0577403391266571</c:v>
                </c:pt>
                <c:pt idx="605">
                  <c:v>0.0566219152999847</c:v>
                </c:pt>
                <c:pt idx="606">
                  <c:v>0.0555304404947306</c:v>
                </c:pt>
                <c:pt idx="607">
                  <c:v>0.0544651392311607</c:v>
                </c:pt>
                <c:pt idx="608">
                  <c:v>0.0534252619393579</c:v>
                </c:pt>
                <c:pt idx="609">
                  <c:v>0.0524100839745759</c:v>
                </c:pt>
                <c:pt idx="610">
                  <c:v>0.0514189046744926</c:v>
                </c:pt>
                <c:pt idx="611">
                  <c:v>0.0504510464563876</c:v>
                </c:pt>
                <c:pt idx="612">
                  <c:v>0.0495058539523763</c:v>
                </c:pt>
                <c:pt idx="613">
                  <c:v>0.0485826931809261</c:v>
                </c:pt>
                <c:pt idx="614">
                  <c:v>0.0476809507529703</c:v>
                </c:pt>
                <c:pt idx="615">
                  <c:v>0.0468000331110234</c:v>
                </c:pt>
                <c:pt idx="616">
                  <c:v>0.0459393657997783</c:v>
                </c:pt>
                <c:pt idx="617">
                  <c:v>0.0450983927667471</c:v>
                </c:pt>
                <c:pt idx="618">
                  <c:v>0.0442765756915748</c:v>
                </c:pt>
                <c:pt idx="619">
                  <c:v>0.0434733933427274</c:v>
                </c:pt>
                <c:pt idx="620">
                  <c:v>0.0426883409603169</c:v>
                </c:pt>
                <c:pt idx="621">
                  <c:v>0.04192092966389</c:v>
                </c:pt>
                <c:pt idx="622">
                  <c:v>0.0411706858840625</c:v>
                </c:pt>
                <c:pt idx="623">
                  <c:v>0.0404371508169384</c:v>
                </c:pt>
                <c:pt idx="624">
                  <c:v>0.039719879900302</c:v>
                </c:pt>
                <c:pt idx="625">
                  <c:v>0.0390184423106234</c:v>
                </c:pt>
                <c:pt idx="626">
                  <c:v>0.0383324204799611</c:v>
                </c:pt>
                <c:pt idx="627">
                  <c:v>0.0376614096318915</c:v>
                </c:pt>
                <c:pt idx="628">
                  <c:v>0.0370050173356369</c:v>
                </c:pt>
                <c:pt idx="629">
                  <c:v>0.0363628630776016</c:v>
                </c:pt>
                <c:pt idx="630">
                  <c:v>0.0357345778495646</c:v>
                </c:pt>
                <c:pt idx="631">
                  <c:v>0.0351198037528124</c:v>
                </c:pt>
                <c:pt idx="632">
                  <c:v>0.0345181936175297</c:v>
                </c:pt>
                <c:pt idx="633">
                  <c:v>0.0339294106367965</c:v>
                </c:pt>
                <c:pt idx="634">
                  <c:v>0.0333531280145725</c:v>
                </c:pt>
                <c:pt idx="635">
                  <c:v>0.0327890286270763</c:v>
                </c:pt>
                <c:pt idx="636">
                  <c:v>0.0322368046969963</c:v>
                </c:pt>
                <c:pt idx="637">
                  <c:v>0.0316961574799952</c:v>
                </c:pt>
                <c:pt idx="638">
                  <c:v>0.0311667969629936</c:v>
                </c:pt>
                <c:pt idx="639">
                  <c:v>0.0306484415737454</c:v>
                </c:pt>
                <c:pt idx="640">
                  <c:v>0.0301408179012346</c:v>
                </c:pt>
                <c:pt idx="641">
                  <c:v>0.0296436604264498</c:v>
                </c:pt>
                <c:pt idx="642">
                  <c:v>0.0291567112631083</c:v>
                </c:pt>
                <c:pt idx="643">
                  <c:v>0.0286797199079244</c:v>
                </c:pt>
                <c:pt idx="644">
                  <c:v>0.0282124430000316</c:v>
                </c:pt>
                <c:pt idx="645">
                  <c:v>0.0277546440891889</c:v>
                </c:pt>
                <c:pt idx="646">
                  <c:v>0.0273060934124155</c:v>
                </c:pt>
                <c:pt idx="647">
                  <c:v>0.0268665676787146</c:v>
                </c:pt>
                <c:pt idx="648">
                  <c:v>0.0264358498615624</c:v>
                </c:pt>
                <c:pt idx="649">
                  <c:v>0.0260137289988529</c:v>
                </c:pt>
                <c:pt idx="650">
                  <c:v>0.0256</c:v>
                </c:pt>
                <c:pt idx="651">
                  <c:v>0.0251944634599168</c:v>
                </c:pt>
                <c:pt idx="652">
                  <c:v>0.0247969254795972</c:v>
                </c:pt>
                <c:pt idx="653">
                  <c:v>0.0244071974930432</c:v>
                </c:pt>
                <c:pt idx="654">
                  <c:v>0.0240250961002883</c:v>
                </c:pt>
                <c:pt idx="655">
                  <c:v>0.0236504429062788</c:v>
                </c:pt>
                <c:pt idx="656">
                  <c:v>0.023283064365387</c:v>
                </c:pt>
                <c:pt idx="657">
                  <c:v>0.0229227916313374</c:v>
                </c:pt>
                <c:pt idx="658">
                  <c:v>0.0225694604123377</c:v>
                </c:pt>
                <c:pt idx="659">
                  <c:v>0.0222229108312141</c:v>
                </c:pt>
                <c:pt idx="660">
                  <c:v>0.021882987290361</c:v>
                </c:pt>
                <c:pt idx="661">
                  <c:v>0.0215495383413202</c:v>
                </c:pt>
                <c:pt idx="662">
                  <c:v>0.0212224165588146</c:v>
                </c:pt>
                <c:pt idx="663">
                  <c:v>0.0209014784190686</c:v>
                </c:pt>
                <c:pt idx="664">
                  <c:v>0.0205865841822516</c:v>
                </c:pt>
                <c:pt idx="665">
                  <c:v>0.0202775977788933</c:v>
                </c:pt>
                <c:pt idx="666">
                  <c:v>0.0199743867001189</c:v>
                </c:pt>
                <c:pt idx="667">
                  <c:v>0.0196768218915637</c:v>
                </c:pt>
                <c:pt idx="668">
                  <c:v>0.0193847776508314</c:v>
                </c:pt>
                <c:pt idx="669">
                  <c:v>0.0190981315283624</c:v>
                </c:pt>
                <c:pt idx="670">
                  <c:v>0.0188167642315892</c:v>
                </c:pt>
                <c:pt idx="671">
                  <c:v>0.018540559532257</c:v>
                </c:pt>
                <c:pt idx="672">
                  <c:v>0.0182694041767939</c:v>
                </c:pt>
                <c:pt idx="673">
                  <c:v>0.0180031877996193</c:v>
                </c:pt>
                <c:pt idx="674">
                  <c:v>0.0177418028392852</c:v>
                </c:pt>
                <c:pt idx="675">
                  <c:v>0.0174851444573458</c:v>
                </c:pt>
                <c:pt idx="676">
                  <c:v>0.0172331104598595</c:v>
                </c:pt>
                <c:pt idx="677">
                  <c:v>0.0169856012214262</c:v>
                </c:pt>
                <c:pt idx="678">
                  <c:v>0.0167425196116718</c:v>
                </c:pt>
                <c:pt idx="679">
                  <c:v>0.0165037709240908</c:v>
                </c:pt>
                <c:pt idx="680">
                  <c:v>0.0162692628071637</c:v>
                </c:pt>
                <c:pt idx="681">
                  <c:v>0.0160389051976692</c:v>
                </c:pt>
                <c:pt idx="682">
                  <c:v>0.0158126102561132</c:v>
                </c:pt>
                <c:pt idx="683">
                  <c:v>0.0155902923042004</c:v>
                </c:pt>
                <c:pt idx="684">
                  <c:v>0.0153718677642774</c:v>
                </c:pt>
                <c:pt idx="685">
                  <c:v>0.0151572551006769</c:v>
                </c:pt>
                <c:pt idx="686">
                  <c:v>0.0149463747628994</c:v>
                </c:pt>
                <c:pt idx="687">
                  <c:v>0.0147391491305666</c:v>
                </c:pt>
                <c:pt idx="688">
                  <c:v>0.0145355024600861</c:v>
                </c:pt>
                <c:pt idx="689">
                  <c:v>0.0143353608329685</c:v>
                </c:pt>
                <c:pt idx="690">
                  <c:v>0.0141386521057402</c:v>
                </c:pt>
                <c:pt idx="691">
                  <c:v>0.0139453058613971</c:v>
                </c:pt>
                <c:pt idx="692">
                  <c:v>0.0137552533623473</c:v>
                </c:pt>
                <c:pt idx="693">
                  <c:v>0.0135684275047916</c:v>
                </c:pt>
                <c:pt idx="694">
                  <c:v>0.0133847627744931</c:v>
                </c:pt>
                <c:pt idx="695">
                  <c:v>0.0132041952038897</c:v>
                </c:pt>
                <c:pt idx="696">
                  <c:v>0.0130266623305042</c:v>
                </c:pt>
                <c:pt idx="697">
                  <c:v>0.0128521031566076</c:v>
                </c:pt>
                <c:pt idx="698">
                  <c:v>0.0126804581100955</c:v>
                </c:pt>
                <c:pt idx="699">
                  <c:v>0.012511669006535</c:v>
                </c:pt>
                <c:pt idx="700">
                  <c:v>0.0123456790123457</c:v>
                </c:pt>
                <c:pt idx="701">
                  <c:v>0.0121824326090752</c:v>
                </c:pt>
                <c:pt idx="702">
                  <c:v>0.0120218755587347</c:v>
                </c:pt>
                <c:pt idx="703">
                  <c:v>0.0118639548701582</c:v>
                </c:pt>
                <c:pt idx="704">
                  <c:v>0.0117086187663538</c:v>
                </c:pt>
                <c:pt idx="705">
                  <c:v>0.0115558166528129</c:v>
                </c:pt>
                <c:pt idx="706">
                  <c:v>0.0114054990867471</c:v>
                </c:pt>
                <c:pt idx="707">
                  <c:v>0.0112576177472226</c:v>
                </c:pt>
                <c:pt idx="708">
                  <c:v>0.0111121254061633</c:v>
                </c:pt>
                <c:pt idx="709">
                  <c:v>0.0109689759001937</c:v>
                </c:pt>
                <c:pt idx="710">
                  <c:v>0.010828124103296</c:v>
                </c:pt>
                <c:pt idx="711">
                  <c:v>0.0106895259002542</c:v>
                </c:pt>
                <c:pt idx="712">
                  <c:v>0.0105531381608608</c:v>
                </c:pt>
                <c:pt idx="713">
                  <c:v>0.0104189187148616</c:v>
                </c:pt>
                <c:pt idx="714">
                  <c:v>0.0102868263276148</c:v>
                </c:pt>
                <c:pt idx="715">
                  <c:v>0.010156820676443</c:v>
                </c:pt>
                <c:pt idx="716">
                  <c:v>0.0100288623276547</c:v>
                </c:pt>
                <c:pt idx="717">
                  <c:v>0.00990291271421586</c:v>
                </c:pt>
                <c:pt idx="718">
                  <c:v>0.00977893411404964</c:v>
                </c:pt>
                <c:pt idx="719">
                  <c:v>0.00965688962894622</c:v>
                </c:pt>
                <c:pt idx="720">
                  <c:v>0.0095367431640625</c:v>
                </c:pt>
                <c:pt idx="721">
                  <c:v>0.00941845940799414</c:v>
                </c:pt>
                <c:pt idx="722">
                  <c:v>0.00930200381340186</c:v>
                </c:pt>
                <c:pt idx="723">
                  <c:v>0.00918734257817515</c:v>
                </c:pt>
                <c:pt idx="724">
                  <c:v>0.00907444262711671</c:v>
                </c:pt>
                <c:pt idx="725">
                  <c:v>0.00896327159413186</c:v>
                </c:pt>
                <c:pt idx="726">
                  <c:v>0.00885379780490724</c:v>
                </c:pt>
                <c:pt idx="727">
                  <c:v>0.00874599026006416</c:v>
                </c:pt>
                <c:pt idx="728">
                  <c:v>0.00863981861877208</c:v>
                </c:pt>
                <c:pt idx="729">
                  <c:v>0.00853525318280827</c:v>
                </c:pt>
                <c:pt idx="730">
                  <c:v>0.00843226488105026</c:v>
                </c:pt>
                <c:pt idx="731">
                  <c:v>0.00833082525438802</c:v>
                </c:pt>
                <c:pt idx="732">
                  <c:v>0.00823090644104329</c:v>
                </c:pt>
                <c:pt idx="733">
                  <c:v>0.00813248116228395</c:v>
                </c:pt>
                <c:pt idx="734">
                  <c:v>0.00803552270852153</c:v>
                </c:pt>
                <c:pt idx="735">
                  <c:v>0.00794000492578056</c:v>
                </c:pt>
                <c:pt idx="736">
                  <c:v>0.00784590220252878</c:v>
                </c:pt>
                <c:pt idx="737">
                  <c:v>0.00775318945685748</c:v>
                </c:pt>
                <c:pt idx="738">
                  <c:v>0.00766184212400161</c:v>
                </c:pt>
                <c:pt idx="739">
                  <c:v>0.00757183614418984</c:v>
                </c:pt>
                <c:pt idx="740">
                  <c:v>0.00748314795081477</c:v>
                </c:pt>
                <c:pt idx="741">
                  <c:v>0.00739575445891399</c:v>
                </c:pt>
                <c:pt idx="742">
                  <c:v>0.00730963305395296</c:v>
                </c:pt>
                <c:pt idx="743">
                  <c:v>0.00722476158090089</c:v>
                </c:pt>
                <c:pt idx="744">
                  <c:v>0.00714111833359122</c:v>
                </c:pt>
                <c:pt idx="745">
                  <c:v>0.00705868204435844</c:v>
                </c:pt>
                <c:pt idx="746">
                  <c:v>0.00697743187394325</c:v>
                </c:pt>
                <c:pt idx="747">
                  <c:v>0.00689734740165851</c:v>
                </c:pt>
                <c:pt idx="748">
                  <c:v>0.00681840861580833</c:v>
                </c:pt>
                <c:pt idx="749">
                  <c:v>0.00674059590435322</c:v>
                </c:pt>
                <c:pt idx="750">
                  <c:v>0.00666389004581424</c:v>
                </c:pt>
                <c:pt idx="751">
                  <c:v>0.00658827220040937</c:v>
                </c:pt>
                <c:pt idx="752">
                  <c:v>0.00651372390141555</c:v>
                </c:pt>
                <c:pt idx="753">
                  <c:v>0.00644022704675</c:v>
                </c:pt>
                <c:pt idx="754">
                  <c:v>0.0063677638907647</c:v>
                </c:pt>
                <c:pt idx="755">
                  <c:v>0.00629631703624802</c:v>
                </c:pt>
                <c:pt idx="756">
                  <c:v>0.00622586942662759</c:v>
                </c:pt>
                <c:pt idx="757">
                  <c:v>0.00615640433836911</c:v>
                </c:pt>
                <c:pt idx="758">
                  <c:v>0.00608790537356527</c:v>
                </c:pt>
                <c:pt idx="759">
                  <c:v>0.00602035645270978</c:v>
                </c:pt>
                <c:pt idx="760">
                  <c:v>0.00595374180765128</c:v>
                </c:pt>
                <c:pt idx="761">
                  <c:v>0.00588804597472215</c:v>
                </c:pt>
                <c:pt idx="762">
                  <c:v>0.00582325378803754</c:v>
                </c:pt>
                <c:pt idx="763">
                  <c:v>0.00575935037295967</c:v>
                </c:pt>
                <c:pt idx="764">
                  <c:v>0.00569632113972329</c:v>
                </c:pt>
                <c:pt idx="765">
                  <c:v>0.00563415177721747</c:v>
                </c:pt>
                <c:pt idx="766">
                  <c:v>0.00557282824691981</c:v>
                </c:pt>
                <c:pt idx="767">
                  <c:v>0.00551233677697874</c:v>
                </c:pt>
                <c:pt idx="768">
                  <c:v>0.00545266385643991</c:v>
                </c:pt>
                <c:pt idx="769">
                  <c:v>0.00539379622961293</c:v>
                </c:pt>
                <c:pt idx="770">
                  <c:v>0.0053357208905745</c:v>
                </c:pt>
                <c:pt idx="771">
                  <c:v>0.00527842507780439</c:v>
                </c:pt>
                <c:pt idx="772">
                  <c:v>0.00522189626895061</c:v>
                </c:pt>
                <c:pt idx="773">
                  <c:v>0.00516612217572047</c:v>
                </c:pt>
                <c:pt idx="774">
                  <c:v>0.00511109073889404</c:v>
                </c:pt>
                <c:pt idx="775">
                  <c:v>0.00505679012345679</c:v>
                </c:pt>
                <c:pt idx="776">
                  <c:v>0.0050032087138483</c:v>
                </c:pt>
                <c:pt idx="777">
                  <c:v>0.00495033510932396</c:v>
                </c:pt>
                <c:pt idx="778">
                  <c:v>0.0048981581194266</c:v>
                </c:pt>
                <c:pt idx="779">
                  <c:v>0.00484666675956532</c:v>
                </c:pt>
                <c:pt idx="780">
                  <c:v>0.00479585024669854</c:v>
                </c:pt>
                <c:pt idx="781">
                  <c:v>0.00474569799511868</c:v>
                </c:pt>
                <c:pt idx="782">
                  <c:v>0.00469619961233571</c:v>
                </c:pt>
                <c:pt idx="783">
                  <c:v>0.00464734489505711</c:v>
                </c:pt>
                <c:pt idx="784">
                  <c:v>0.00459912382526163</c:v>
                </c:pt>
                <c:pt idx="785">
                  <c:v>0.00455152656636449</c:v>
                </c:pt>
                <c:pt idx="786">
                  <c:v>0.00450454345947169</c:v>
                </c:pt>
                <c:pt idx="787">
                  <c:v>0.00445816501972103</c:v>
                </c:pt>
                <c:pt idx="788">
                  <c:v>0.00441238193270767</c:v>
                </c:pt>
                <c:pt idx="789">
                  <c:v>0.00436718505099215</c:v>
                </c:pt>
                <c:pt idx="790">
                  <c:v>0.00432256539068859</c:v>
                </c:pt>
                <c:pt idx="791">
                  <c:v>0.0042785141281312</c:v>
                </c:pt>
                <c:pt idx="792">
                  <c:v>0.00423502259661695</c:v>
                </c:pt>
                <c:pt idx="793">
                  <c:v>0.00419208228322265</c:v>
                </c:pt>
                <c:pt idx="794">
                  <c:v>0.00414968482569433</c:v>
                </c:pt>
                <c:pt idx="795">
                  <c:v>0.00410782200940738</c:v>
                </c:pt>
                <c:pt idx="796">
                  <c:v>0.00406648576439538</c:v>
                </c:pt>
                <c:pt idx="797">
                  <c:v>0.00402566816244612</c:v>
                </c:pt>
                <c:pt idx="798">
                  <c:v>0.00398536141426298</c:v>
                </c:pt>
                <c:pt idx="799">
                  <c:v>0.00394555786669015</c:v>
                </c:pt>
                <c:pt idx="800">
                  <c:v>0.00390625</c:v>
                </c:pt>
              </c:numCache>
            </c:numRef>
          </c:yVal>
          <c:smooth val="1"/>
        </c:ser>
        <c:axId val="55391756"/>
        <c:axId val="45520628"/>
      </c:scatterChart>
      <c:valAx>
        <c:axId val="55391756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45520628"/>
        <c:crosses val="autoZero"/>
        <c:crossBetween val="midCat"/>
        <c:majorUnit val="2"/>
      </c:valAx>
      <c:valAx>
        <c:axId val="45520628"/>
        <c:scaling>
          <c:orientation val="minMax"/>
          <c:max val="2"/>
          <c:min val="-1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55391756"/>
        <c:crosses val="autoZero"/>
        <c:crossBetween val="midCat"/>
        <c:majorUnit val="0.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9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2001"/>
                <c:pt idx="0">
                  <c:v>-1000</c:v>
                </c:pt>
                <c:pt idx="1">
                  <c:v>-997.002999</c:v>
                </c:pt>
                <c:pt idx="2">
                  <c:v>-994.011992</c:v>
                </c:pt>
                <c:pt idx="3">
                  <c:v>-991.026973</c:v>
                </c:pt>
                <c:pt idx="4">
                  <c:v>-988.047936</c:v>
                </c:pt>
                <c:pt idx="5">
                  <c:v>-985.074875</c:v>
                </c:pt>
                <c:pt idx="6">
                  <c:v>-982.107784</c:v>
                </c:pt>
                <c:pt idx="7">
                  <c:v>-979.146657</c:v>
                </c:pt>
                <c:pt idx="8">
                  <c:v>-976.191488</c:v>
                </c:pt>
                <c:pt idx="9">
                  <c:v>-973.242271</c:v>
                </c:pt>
                <c:pt idx="10">
                  <c:v>-970.299</c:v>
                </c:pt>
                <c:pt idx="11">
                  <c:v>-967.361669</c:v>
                </c:pt>
                <c:pt idx="12">
                  <c:v>-964.430272</c:v>
                </c:pt>
                <c:pt idx="13">
                  <c:v>-961.504803</c:v>
                </c:pt>
                <c:pt idx="14">
                  <c:v>-958.585256</c:v>
                </c:pt>
                <c:pt idx="15">
                  <c:v>-955.671625</c:v>
                </c:pt>
                <c:pt idx="16">
                  <c:v>-952.763904</c:v>
                </c:pt>
                <c:pt idx="17">
                  <c:v>-949.862087</c:v>
                </c:pt>
                <c:pt idx="18">
                  <c:v>-946.966168</c:v>
                </c:pt>
                <c:pt idx="19">
                  <c:v>-944.076141</c:v>
                </c:pt>
                <c:pt idx="20">
                  <c:v>-941.192</c:v>
                </c:pt>
                <c:pt idx="21">
                  <c:v>-938.313739</c:v>
                </c:pt>
                <c:pt idx="22">
                  <c:v>-935.441352</c:v>
                </c:pt>
                <c:pt idx="23">
                  <c:v>-932.574833</c:v>
                </c:pt>
                <c:pt idx="24">
                  <c:v>-929.714176</c:v>
                </c:pt>
                <c:pt idx="25">
                  <c:v>-926.859375</c:v>
                </c:pt>
                <c:pt idx="26">
                  <c:v>-924.010424</c:v>
                </c:pt>
                <c:pt idx="27">
                  <c:v>-921.167317</c:v>
                </c:pt>
                <c:pt idx="28">
                  <c:v>-918.330048</c:v>
                </c:pt>
                <c:pt idx="29">
                  <c:v>-915.498611</c:v>
                </c:pt>
                <c:pt idx="30">
                  <c:v>-912.673</c:v>
                </c:pt>
                <c:pt idx="31">
                  <c:v>-909.853209</c:v>
                </c:pt>
                <c:pt idx="32">
                  <c:v>-907.039232</c:v>
                </c:pt>
                <c:pt idx="33">
                  <c:v>-904.231063</c:v>
                </c:pt>
                <c:pt idx="34">
                  <c:v>-901.428696</c:v>
                </c:pt>
                <c:pt idx="35">
                  <c:v>-898.632125</c:v>
                </c:pt>
                <c:pt idx="36">
                  <c:v>-895.841344</c:v>
                </c:pt>
                <c:pt idx="37">
                  <c:v>-893.056347</c:v>
                </c:pt>
                <c:pt idx="38">
                  <c:v>-890.277128</c:v>
                </c:pt>
                <c:pt idx="39">
                  <c:v>-887.503681</c:v>
                </c:pt>
                <c:pt idx="40">
                  <c:v>-884.736</c:v>
                </c:pt>
                <c:pt idx="41">
                  <c:v>-881.974079</c:v>
                </c:pt>
                <c:pt idx="42">
                  <c:v>-879.217912</c:v>
                </c:pt>
                <c:pt idx="43">
                  <c:v>-876.467493</c:v>
                </c:pt>
                <c:pt idx="44">
                  <c:v>-873.722816</c:v>
                </c:pt>
                <c:pt idx="45">
                  <c:v>-870.983875</c:v>
                </c:pt>
                <c:pt idx="46">
                  <c:v>-868.250664</c:v>
                </c:pt>
                <c:pt idx="47">
                  <c:v>-865.523177</c:v>
                </c:pt>
                <c:pt idx="48">
                  <c:v>-862.801408</c:v>
                </c:pt>
                <c:pt idx="49">
                  <c:v>-860.085351</c:v>
                </c:pt>
                <c:pt idx="50">
                  <c:v>-857.375</c:v>
                </c:pt>
                <c:pt idx="51">
                  <c:v>-854.670349</c:v>
                </c:pt>
                <c:pt idx="52">
                  <c:v>-851.971392</c:v>
                </c:pt>
                <c:pt idx="53">
                  <c:v>-849.278123</c:v>
                </c:pt>
                <c:pt idx="54">
                  <c:v>-846.590536</c:v>
                </c:pt>
                <c:pt idx="55">
                  <c:v>-843.908625</c:v>
                </c:pt>
                <c:pt idx="56">
                  <c:v>-841.232384</c:v>
                </c:pt>
                <c:pt idx="57">
                  <c:v>-838.561807</c:v>
                </c:pt>
                <c:pt idx="58">
                  <c:v>-835.896888</c:v>
                </c:pt>
                <c:pt idx="59">
                  <c:v>-833.237621</c:v>
                </c:pt>
                <c:pt idx="60">
                  <c:v>-830.584</c:v>
                </c:pt>
                <c:pt idx="61">
                  <c:v>-827.936019</c:v>
                </c:pt>
                <c:pt idx="62">
                  <c:v>-825.293672</c:v>
                </c:pt>
                <c:pt idx="63">
                  <c:v>-822.656953</c:v>
                </c:pt>
                <c:pt idx="64">
                  <c:v>-820.025856</c:v>
                </c:pt>
                <c:pt idx="65">
                  <c:v>-817.400375</c:v>
                </c:pt>
                <c:pt idx="66">
                  <c:v>-814.780504</c:v>
                </c:pt>
                <c:pt idx="67">
                  <c:v>-812.166237</c:v>
                </c:pt>
                <c:pt idx="68">
                  <c:v>-809.557568</c:v>
                </c:pt>
                <c:pt idx="69">
                  <c:v>-806.954491</c:v>
                </c:pt>
                <c:pt idx="70">
                  <c:v>-804.357</c:v>
                </c:pt>
                <c:pt idx="71">
                  <c:v>-801.765089</c:v>
                </c:pt>
                <c:pt idx="72">
                  <c:v>-799.178752</c:v>
                </c:pt>
                <c:pt idx="73">
                  <c:v>-796.597983</c:v>
                </c:pt>
                <c:pt idx="74">
                  <c:v>-794.022776</c:v>
                </c:pt>
                <c:pt idx="75">
                  <c:v>-791.453125</c:v>
                </c:pt>
                <c:pt idx="76">
                  <c:v>-788.889024</c:v>
                </c:pt>
                <c:pt idx="77">
                  <c:v>-786.330467</c:v>
                </c:pt>
                <c:pt idx="78">
                  <c:v>-783.777448</c:v>
                </c:pt>
                <c:pt idx="79">
                  <c:v>-781.229961</c:v>
                </c:pt>
                <c:pt idx="80">
                  <c:v>-778.688</c:v>
                </c:pt>
                <c:pt idx="81">
                  <c:v>-776.151559</c:v>
                </c:pt>
                <c:pt idx="82">
                  <c:v>-773.620632</c:v>
                </c:pt>
                <c:pt idx="83">
                  <c:v>-771.095213</c:v>
                </c:pt>
                <c:pt idx="84">
                  <c:v>-768.575296</c:v>
                </c:pt>
                <c:pt idx="85">
                  <c:v>-766.060875</c:v>
                </c:pt>
                <c:pt idx="86">
                  <c:v>-763.551944</c:v>
                </c:pt>
                <c:pt idx="87">
                  <c:v>-761.048497</c:v>
                </c:pt>
                <c:pt idx="88">
                  <c:v>-758.550528</c:v>
                </c:pt>
                <c:pt idx="89">
                  <c:v>-756.058031</c:v>
                </c:pt>
                <c:pt idx="90">
                  <c:v>-753.571</c:v>
                </c:pt>
                <c:pt idx="91">
                  <c:v>-751.089429</c:v>
                </c:pt>
                <c:pt idx="92">
                  <c:v>-748.613312</c:v>
                </c:pt>
                <c:pt idx="93">
                  <c:v>-746.142643</c:v>
                </c:pt>
                <c:pt idx="94">
                  <c:v>-743.677416</c:v>
                </c:pt>
                <c:pt idx="95">
                  <c:v>-741.217625</c:v>
                </c:pt>
                <c:pt idx="96">
                  <c:v>-738.763264</c:v>
                </c:pt>
                <c:pt idx="97">
                  <c:v>-736.314327</c:v>
                </c:pt>
                <c:pt idx="98">
                  <c:v>-733.870808</c:v>
                </c:pt>
                <c:pt idx="99">
                  <c:v>-731.432701</c:v>
                </c:pt>
                <c:pt idx="100">
                  <c:v>-729</c:v>
                </c:pt>
                <c:pt idx="101">
                  <c:v>-726.572699</c:v>
                </c:pt>
                <c:pt idx="102">
                  <c:v>-724.150792</c:v>
                </c:pt>
                <c:pt idx="103">
                  <c:v>-721.734273</c:v>
                </c:pt>
                <c:pt idx="104">
                  <c:v>-719.323136</c:v>
                </c:pt>
                <c:pt idx="105">
                  <c:v>-716.917375</c:v>
                </c:pt>
                <c:pt idx="106">
                  <c:v>-714.516984</c:v>
                </c:pt>
                <c:pt idx="107">
                  <c:v>-712.121957</c:v>
                </c:pt>
                <c:pt idx="108">
                  <c:v>-709.732288</c:v>
                </c:pt>
                <c:pt idx="109">
                  <c:v>-707.347971</c:v>
                </c:pt>
                <c:pt idx="110">
                  <c:v>-704.969</c:v>
                </c:pt>
                <c:pt idx="111">
                  <c:v>-702.595369</c:v>
                </c:pt>
                <c:pt idx="112">
                  <c:v>-700.227072</c:v>
                </c:pt>
                <c:pt idx="113">
                  <c:v>-697.864103</c:v>
                </c:pt>
                <c:pt idx="114">
                  <c:v>-695.506456</c:v>
                </c:pt>
                <c:pt idx="115">
                  <c:v>-693.154125</c:v>
                </c:pt>
                <c:pt idx="116">
                  <c:v>-690.807104</c:v>
                </c:pt>
                <c:pt idx="117">
                  <c:v>-688.465387</c:v>
                </c:pt>
                <c:pt idx="118">
                  <c:v>-686.128968</c:v>
                </c:pt>
                <c:pt idx="119">
                  <c:v>-683.797841</c:v>
                </c:pt>
                <c:pt idx="120">
                  <c:v>-681.472</c:v>
                </c:pt>
                <c:pt idx="121">
                  <c:v>-679.151439</c:v>
                </c:pt>
                <c:pt idx="122">
                  <c:v>-676.836152</c:v>
                </c:pt>
                <c:pt idx="123">
                  <c:v>-674.526133</c:v>
                </c:pt>
                <c:pt idx="124">
                  <c:v>-672.221376</c:v>
                </c:pt>
                <c:pt idx="125">
                  <c:v>-669.921875</c:v>
                </c:pt>
                <c:pt idx="126">
                  <c:v>-667.627624</c:v>
                </c:pt>
                <c:pt idx="127">
                  <c:v>-665.338617</c:v>
                </c:pt>
                <c:pt idx="128">
                  <c:v>-663.054848</c:v>
                </c:pt>
                <c:pt idx="129">
                  <c:v>-660.776311</c:v>
                </c:pt>
                <c:pt idx="130">
                  <c:v>-658.503</c:v>
                </c:pt>
                <c:pt idx="131">
                  <c:v>-656.234909</c:v>
                </c:pt>
                <c:pt idx="132">
                  <c:v>-653.972032</c:v>
                </c:pt>
                <c:pt idx="133">
                  <c:v>-651.714363</c:v>
                </c:pt>
                <c:pt idx="134">
                  <c:v>-649.461896</c:v>
                </c:pt>
                <c:pt idx="135">
                  <c:v>-647.214625</c:v>
                </c:pt>
                <c:pt idx="136">
                  <c:v>-644.972544</c:v>
                </c:pt>
                <c:pt idx="137">
                  <c:v>-642.735647</c:v>
                </c:pt>
                <c:pt idx="138">
                  <c:v>-640.503928</c:v>
                </c:pt>
                <c:pt idx="139">
                  <c:v>-638.277381</c:v>
                </c:pt>
                <c:pt idx="140">
                  <c:v>-636.056</c:v>
                </c:pt>
                <c:pt idx="141">
                  <c:v>-633.839779</c:v>
                </c:pt>
                <c:pt idx="142">
                  <c:v>-631.628712</c:v>
                </c:pt>
                <c:pt idx="143">
                  <c:v>-629.422793</c:v>
                </c:pt>
                <c:pt idx="144">
                  <c:v>-627.222016</c:v>
                </c:pt>
                <c:pt idx="145">
                  <c:v>-625.026375</c:v>
                </c:pt>
                <c:pt idx="146">
                  <c:v>-622.835864</c:v>
                </c:pt>
                <c:pt idx="147">
                  <c:v>-620.650477</c:v>
                </c:pt>
                <c:pt idx="148">
                  <c:v>-618.470208</c:v>
                </c:pt>
                <c:pt idx="149">
                  <c:v>-616.295051</c:v>
                </c:pt>
                <c:pt idx="150">
                  <c:v>-614.125</c:v>
                </c:pt>
                <c:pt idx="151">
                  <c:v>-611.960049</c:v>
                </c:pt>
                <c:pt idx="152">
                  <c:v>-609.800192</c:v>
                </c:pt>
                <c:pt idx="153">
                  <c:v>-607.645423</c:v>
                </c:pt>
                <c:pt idx="154">
                  <c:v>-605.495736</c:v>
                </c:pt>
                <c:pt idx="155">
                  <c:v>-603.351125</c:v>
                </c:pt>
                <c:pt idx="156">
                  <c:v>-601.211584</c:v>
                </c:pt>
                <c:pt idx="157">
                  <c:v>-599.077107</c:v>
                </c:pt>
                <c:pt idx="158">
                  <c:v>-596.947688</c:v>
                </c:pt>
                <c:pt idx="159">
                  <c:v>-594.823321</c:v>
                </c:pt>
                <c:pt idx="160">
                  <c:v>-592.704</c:v>
                </c:pt>
                <c:pt idx="161">
                  <c:v>-590.589719</c:v>
                </c:pt>
                <c:pt idx="162">
                  <c:v>-588.480472</c:v>
                </c:pt>
                <c:pt idx="163">
                  <c:v>-586.376253</c:v>
                </c:pt>
                <c:pt idx="164">
                  <c:v>-584.277056</c:v>
                </c:pt>
                <c:pt idx="165">
                  <c:v>-582.182875</c:v>
                </c:pt>
                <c:pt idx="166">
                  <c:v>-580.093704</c:v>
                </c:pt>
                <c:pt idx="167">
                  <c:v>-578.009537</c:v>
                </c:pt>
                <c:pt idx="168">
                  <c:v>-575.930368</c:v>
                </c:pt>
                <c:pt idx="169">
                  <c:v>-573.856191</c:v>
                </c:pt>
                <c:pt idx="170">
                  <c:v>-571.787</c:v>
                </c:pt>
                <c:pt idx="171">
                  <c:v>-569.722789</c:v>
                </c:pt>
                <c:pt idx="172">
                  <c:v>-567.663552</c:v>
                </c:pt>
                <c:pt idx="173">
                  <c:v>-565.609283</c:v>
                </c:pt>
                <c:pt idx="174">
                  <c:v>-563.559976</c:v>
                </c:pt>
                <c:pt idx="175">
                  <c:v>-561.515625</c:v>
                </c:pt>
                <c:pt idx="176">
                  <c:v>-559.476224</c:v>
                </c:pt>
                <c:pt idx="177">
                  <c:v>-557.441767</c:v>
                </c:pt>
                <c:pt idx="178">
                  <c:v>-555.412248</c:v>
                </c:pt>
                <c:pt idx="179">
                  <c:v>-553.387661</c:v>
                </c:pt>
                <c:pt idx="180">
                  <c:v>-551.368</c:v>
                </c:pt>
                <c:pt idx="181">
                  <c:v>-549.353259</c:v>
                </c:pt>
                <c:pt idx="182">
                  <c:v>-547.343432</c:v>
                </c:pt>
                <c:pt idx="183">
                  <c:v>-545.338513</c:v>
                </c:pt>
                <c:pt idx="184">
                  <c:v>-543.338496</c:v>
                </c:pt>
                <c:pt idx="185">
                  <c:v>-541.343375</c:v>
                </c:pt>
                <c:pt idx="186">
                  <c:v>-539.353144</c:v>
                </c:pt>
                <c:pt idx="187">
                  <c:v>-537.367797</c:v>
                </c:pt>
                <c:pt idx="188">
                  <c:v>-535.387328</c:v>
                </c:pt>
                <c:pt idx="189">
                  <c:v>-533.411731</c:v>
                </c:pt>
                <c:pt idx="190">
                  <c:v>-531.441</c:v>
                </c:pt>
                <c:pt idx="191">
                  <c:v>-529.475129</c:v>
                </c:pt>
                <c:pt idx="192">
                  <c:v>-527.514112</c:v>
                </c:pt>
                <c:pt idx="193">
                  <c:v>-525.557943</c:v>
                </c:pt>
                <c:pt idx="194">
                  <c:v>-523.606616</c:v>
                </c:pt>
                <c:pt idx="195">
                  <c:v>-521.660125</c:v>
                </c:pt>
                <c:pt idx="196">
                  <c:v>-519.718464</c:v>
                </c:pt>
                <c:pt idx="197">
                  <c:v>-517.781627</c:v>
                </c:pt>
                <c:pt idx="198">
                  <c:v>-515.849608</c:v>
                </c:pt>
                <c:pt idx="199">
                  <c:v>-513.922401</c:v>
                </c:pt>
                <c:pt idx="200">
                  <c:v>-512</c:v>
                </c:pt>
                <c:pt idx="201">
                  <c:v>-510.082399</c:v>
                </c:pt>
                <c:pt idx="202">
                  <c:v>-508.169592</c:v>
                </c:pt>
                <c:pt idx="203">
                  <c:v>-506.261573</c:v>
                </c:pt>
                <c:pt idx="204">
                  <c:v>-504.358336</c:v>
                </c:pt>
                <c:pt idx="205">
                  <c:v>-502.459875</c:v>
                </c:pt>
                <c:pt idx="206">
                  <c:v>-500.566184</c:v>
                </c:pt>
                <c:pt idx="207">
                  <c:v>-498.677257</c:v>
                </c:pt>
                <c:pt idx="208">
                  <c:v>-496.793088</c:v>
                </c:pt>
                <c:pt idx="209">
                  <c:v>-494.913671</c:v>
                </c:pt>
                <c:pt idx="210">
                  <c:v>-493.039</c:v>
                </c:pt>
                <c:pt idx="211">
                  <c:v>-491.169069</c:v>
                </c:pt>
                <c:pt idx="212">
                  <c:v>-489.303872</c:v>
                </c:pt>
                <c:pt idx="213">
                  <c:v>-487.443403</c:v>
                </c:pt>
                <c:pt idx="214">
                  <c:v>-485.587656</c:v>
                </c:pt>
                <c:pt idx="215">
                  <c:v>-483.736625</c:v>
                </c:pt>
                <c:pt idx="216">
                  <c:v>-481.890304</c:v>
                </c:pt>
                <c:pt idx="217">
                  <c:v>-480.048687</c:v>
                </c:pt>
                <c:pt idx="218">
                  <c:v>-478.211768</c:v>
                </c:pt>
                <c:pt idx="219">
                  <c:v>-476.379541</c:v>
                </c:pt>
                <c:pt idx="220">
                  <c:v>-474.552</c:v>
                </c:pt>
                <c:pt idx="221">
                  <c:v>-472.729139</c:v>
                </c:pt>
                <c:pt idx="222">
                  <c:v>-470.910952</c:v>
                </c:pt>
                <c:pt idx="223">
                  <c:v>-469.097433</c:v>
                </c:pt>
                <c:pt idx="224">
                  <c:v>-467.288576</c:v>
                </c:pt>
                <c:pt idx="225">
                  <c:v>-465.484375</c:v>
                </c:pt>
                <c:pt idx="226">
                  <c:v>-463.684824</c:v>
                </c:pt>
                <c:pt idx="227">
                  <c:v>-461.889917</c:v>
                </c:pt>
                <c:pt idx="228">
                  <c:v>-460.099648</c:v>
                </c:pt>
                <c:pt idx="229">
                  <c:v>-458.314011</c:v>
                </c:pt>
                <c:pt idx="230">
                  <c:v>-456.533</c:v>
                </c:pt>
                <c:pt idx="231">
                  <c:v>-454.756609</c:v>
                </c:pt>
                <c:pt idx="232">
                  <c:v>-452.984832</c:v>
                </c:pt>
                <c:pt idx="233">
                  <c:v>-451.217663</c:v>
                </c:pt>
                <c:pt idx="234">
                  <c:v>-449.455096</c:v>
                </c:pt>
                <c:pt idx="235">
                  <c:v>-447.697125</c:v>
                </c:pt>
                <c:pt idx="236">
                  <c:v>-445.943744</c:v>
                </c:pt>
                <c:pt idx="237">
                  <c:v>-444.194947</c:v>
                </c:pt>
                <c:pt idx="238">
                  <c:v>-442.450728</c:v>
                </c:pt>
                <c:pt idx="239">
                  <c:v>-440.711081</c:v>
                </c:pt>
                <c:pt idx="240">
                  <c:v>-438.976</c:v>
                </c:pt>
                <c:pt idx="241">
                  <c:v>-437.245479</c:v>
                </c:pt>
                <c:pt idx="242">
                  <c:v>-435.519512</c:v>
                </c:pt>
                <c:pt idx="243">
                  <c:v>-433.798093</c:v>
                </c:pt>
                <c:pt idx="244">
                  <c:v>-432.081216</c:v>
                </c:pt>
                <c:pt idx="245">
                  <c:v>-430.368875</c:v>
                </c:pt>
                <c:pt idx="246">
                  <c:v>-428.661064</c:v>
                </c:pt>
                <c:pt idx="247">
                  <c:v>-426.957777</c:v>
                </c:pt>
                <c:pt idx="248">
                  <c:v>-425.259008</c:v>
                </c:pt>
                <c:pt idx="249">
                  <c:v>-423.564751</c:v>
                </c:pt>
                <c:pt idx="250">
                  <c:v>-421.875</c:v>
                </c:pt>
                <c:pt idx="251">
                  <c:v>-420.189749</c:v>
                </c:pt>
                <c:pt idx="252">
                  <c:v>-418.508992</c:v>
                </c:pt>
                <c:pt idx="253">
                  <c:v>-416.832723</c:v>
                </c:pt>
                <c:pt idx="254">
                  <c:v>-415.160936</c:v>
                </c:pt>
                <c:pt idx="255">
                  <c:v>-413.493625</c:v>
                </c:pt>
                <c:pt idx="256">
                  <c:v>-411.830784</c:v>
                </c:pt>
                <c:pt idx="257">
                  <c:v>-410.172407</c:v>
                </c:pt>
                <c:pt idx="258">
                  <c:v>-408.518488</c:v>
                </c:pt>
                <c:pt idx="259">
                  <c:v>-406.869021</c:v>
                </c:pt>
                <c:pt idx="260">
                  <c:v>-405.224</c:v>
                </c:pt>
                <c:pt idx="261">
                  <c:v>-403.583419</c:v>
                </c:pt>
                <c:pt idx="262">
                  <c:v>-401.947272</c:v>
                </c:pt>
                <c:pt idx="263">
                  <c:v>-400.315553</c:v>
                </c:pt>
                <c:pt idx="264">
                  <c:v>-398.688256</c:v>
                </c:pt>
                <c:pt idx="265">
                  <c:v>-397.065375</c:v>
                </c:pt>
                <c:pt idx="266">
                  <c:v>-395.446904</c:v>
                </c:pt>
                <c:pt idx="267">
                  <c:v>-393.832837</c:v>
                </c:pt>
                <c:pt idx="268">
                  <c:v>-392.223168</c:v>
                </c:pt>
                <c:pt idx="269">
                  <c:v>-390.617891</c:v>
                </c:pt>
                <c:pt idx="270">
                  <c:v>-389.017</c:v>
                </c:pt>
                <c:pt idx="271">
                  <c:v>-387.420489</c:v>
                </c:pt>
                <c:pt idx="272">
                  <c:v>-385.828352</c:v>
                </c:pt>
                <c:pt idx="273">
                  <c:v>-384.240583</c:v>
                </c:pt>
                <c:pt idx="274">
                  <c:v>-382.657176</c:v>
                </c:pt>
                <c:pt idx="275">
                  <c:v>-381.078125</c:v>
                </c:pt>
                <c:pt idx="276">
                  <c:v>-379.503424</c:v>
                </c:pt>
                <c:pt idx="277">
                  <c:v>-377.933067</c:v>
                </c:pt>
                <c:pt idx="278">
                  <c:v>-376.367048</c:v>
                </c:pt>
                <c:pt idx="279">
                  <c:v>-374.805361</c:v>
                </c:pt>
                <c:pt idx="280">
                  <c:v>-373.248</c:v>
                </c:pt>
                <c:pt idx="281">
                  <c:v>-371.694959</c:v>
                </c:pt>
                <c:pt idx="282">
                  <c:v>-370.146232</c:v>
                </c:pt>
                <c:pt idx="283">
                  <c:v>-368.601813</c:v>
                </c:pt>
                <c:pt idx="284">
                  <c:v>-367.061696</c:v>
                </c:pt>
                <c:pt idx="285">
                  <c:v>-365.525875</c:v>
                </c:pt>
                <c:pt idx="286">
                  <c:v>-363.994344</c:v>
                </c:pt>
                <c:pt idx="287">
                  <c:v>-362.467097</c:v>
                </c:pt>
                <c:pt idx="288">
                  <c:v>-360.944128</c:v>
                </c:pt>
                <c:pt idx="289">
                  <c:v>-359.425431</c:v>
                </c:pt>
                <c:pt idx="290">
                  <c:v>-357.911</c:v>
                </c:pt>
                <c:pt idx="291">
                  <c:v>-356.400829</c:v>
                </c:pt>
                <c:pt idx="292">
                  <c:v>-354.894912</c:v>
                </c:pt>
                <c:pt idx="293">
                  <c:v>-353.393243</c:v>
                </c:pt>
                <c:pt idx="294">
                  <c:v>-351.895816</c:v>
                </c:pt>
                <c:pt idx="295">
                  <c:v>-350.402625</c:v>
                </c:pt>
                <c:pt idx="296">
                  <c:v>-348.913664</c:v>
                </c:pt>
                <c:pt idx="297">
                  <c:v>-347.428927</c:v>
                </c:pt>
                <c:pt idx="298">
                  <c:v>-345.948408</c:v>
                </c:pt>
                <c:pt idx="299">
                  <c:v>-344.472101</c:v>
                </c:pt>
                <c:pt idx="300">
                  <c:v>-343</c:v>
                </c:pt>
                <c:pt idx="301">
                  <c:v>-341.532099</c:v>
                </c:pt>
                <c:pt idx="302">
                  <c:v>-340.068392</c:v>
                </c:pt>
                <c:pt idx="303">
                  <c:v>-338.608873</c:v>
                </c:pt>
                <c:pt idx="304">
                  <c:v>-337.153536</c:v>
                </c:pt>
                <c:pt idx="305">
                  <c:v>-335.702375</c:v>
                </c:pt>
                <c:pt idx="306">
                  <c:v>-334.255384</c:v>
                </c:pt>
                <c:pt idx="307">
                  <c:v>-332.812557</c:v>
                </c:pt>
                <c:pt idx="308">
                  <c:v>-331.373888</c:v>
                </c:pt>
                <c:pt idx="309">
                  <c:v>-329.939371</c:v>
                </c:pt>
                <c:pt idx="310">
                  <c:v>-328.509</c:v>
                </c:pt>
                <c:pt idx="311">
                  <c:v>-327.082769</c:v>
                </c:pt>
                <c:pt idx="312">
                  <c:v>-325.660672</c:v>
                </c:pt>
                <c:pt idx="313">
                  <c:v>-324.242703</c:v>
                </c:pt>
                <c:pt idx="314">
                  <c:v>-322.828856</c:v>
                </c:pt>
                <c:pt idx="315">
                  <c:v>-321.419125</c:v>
                </c:pt>
                <c:pt idx="316">
                  <c:v>-320.013504</c:v>
                </c:pt>
                <c:pt idx="317">
                  <c:v>-318.611987</c:v>
                </c:pt>
                <c:pt idx="318">
                  <c:v>-317.214568</c:v>
                </c:pt>
                <c:pt idx="319">
                  <c:v>-315.821241</c:v>
                </c:pt>
                <c:pt idx="320">
                  <c:v>-314.432</c:v>
                </c:pt>
                <c:pt idx="321">
                  <c:v>-313.046839</c:v>
                </c:pt>
                <c:pt idx="322">
                  <c:v>-311.665752</c:v>
                </c:pt>
                <c:pt idx="323">
                  <c:v>-310.288733</c:v>
                </c:pt>
                <c:pt idx="324">
                  <c:v>-308.915776</c:v>
                </c:pt>
                <c:pt idx="325">
                  <c:v>-307.546875</c:v>
                </c:pt>
                <c:pt idx="326">
                  <c:v>-306.182024</c:v>
                </c:pt>
                <c:pt idx="327">
                  <c:v>-304.821217</c:v>
                </c:pt>
                <c:pt idx="328">
                  <c:v>-303.464448</c:v>
                </c:pt>
                <c:pt idx="329">
                  <c:v>-302.111711</c:v>
                </c:pt>
                <c:pt idx="330">
                  <c:v>-300.763</c:v>
                </c:pt>
                <c:pt idx="331">
                  <c:v>-299.418309</c:v>
                </c:pt>
                <c:pt idx="332">
                  <c:v>-298.077632</c:v>
                </c:pt>
                <c:pt idx="333">
                  <c:v>-296.740963</c:v>
                </c:pt>
                <c:pt idx="334">
                  <c:v>-295.408296</c:v>
                </c:pt>
                <c:pt idx="335">
                  <c:v>-294.079625</c:v>
                </c:pt>
                <c:pt idx="336">
                  <c:v>-292.754944</c:v>
                </c:pt>
                <c:pt idx="337">
                  <c:v>-291.434247</c:v>
                </c:pt>
                <c:pt idx="338">
                  <c:v>-290.117528</c:v>
                </c:pt>
                <c:pt idx="339">
                  <c:v>-288.804781</c:v>
                </c:pt>
                <c:pt idx="340">
                  <c:v>-287.496</c:v>
                </c:pt>
                <c:pt idx="341">
                  <c:v>-286.191179</c:v>
                </c:pt>
                <c:pt idx="342">
                  <c:v>-284.890312</c:v>
                </c:pt>
                <c:pt idx="343">
                  <c:v>-283.593393</c:v>
                </c:pt>
                <c:pt idx="344">
                  <c:v>-282.300416</c:v>
                </c:pt>
                <c:pt idx="345">
                  <c:v>-281.011375</c:v>
                </c:pt>
                <c:pt idx="346">
                  <c:v>-279.726264</c:v>
                </c:pt>
                <c:pt idx="347">
                  <c:v>-278.445077</c:v>
                </c:pt>
                <c:pt idx="348">
                  <c:v>-277.167808</c:v>
                </c:pt>
                <c:pt idx="349">
                  <c:v>-275.894451</c:v>
                </c:pt>
                <c:pt idx="350">
                  <c:v>-274.625</c:v>
                </c:pt>
                <c:pt idx="351">
                  <c:v>-273.359449</c:v>
                </c:pt>
                <c:pt idx="352">
                  <c:v>-272.097792</c:v>
                </c:pt>
                <c:pt idx="353">
                  <c:v>-270.840023</c:v>
                </c:pt>
                <c:pt idx="354">
                  <c:v>-269.586136</c:v>
                </c:pt>
                <c:pt idx="355">
                  <c:v>-268.336125</c:v>
                </c:pt>
                <c:pt idx="356">
                  <c:v>-267.089984</c:v>
                </c:pt>
                <c:pt idx="357">
                  <c:v>-265.847707</c:v>
                </c:pt>
                <c:pt idx="358">
                  <c:v>-264.609288</c:v>
                </c:pt>
                <c:pt idx="359">
                  <c:v>-263.374721</c:v>
                </c:pt>
                <c:pt idx="360">
                  <c:v>-262.144</c:v>
                </c:pt>
                <c:pt idx="361">
                  <c:v>-260.917119</c:v>
                </c:pt>
                <c:pt idx="362">
                  <c:v>-259.694072</c:v>
                </c:pt>
                <c:pt idx="363">
                  <c:v>-258.474853</c:v>
                </c:pt>
                <c:pt idx="364">
                  <c:v>-257.259456</c:v>
                </c:pt>
                <c:pt idx="365">
                  <c:v>-256.047875</c:v>
                </c:pt>
                <c:pt idx="366">
                  <c:v>-254.840104</c:v>
                </c:pt>
                <c:pt idx="367">
                  <c:v>-253.636137</c:v>
                </c:pt>
                <c:pt idx="368">
                  <c:v>-252.435968</c:v>
                </c:pt>
                <c:pt idx="369">
                  <c:v>-251.239591</c:v>
                </c:pt>
                <c:pt idx="370">
                  <c:v>-250.047</c:v>
                </c:pt>
                <c:pt idx="371">
                  <c:v>-248.858189</c:v>
                </c:pt>
                <c:pt idx="372">
                  <c:v>-247.673152</c:v>
                </c:pt>
                <c:pt idx="373">
                  <c:v>-246.491883</c:v>
                </c:pt>
                <c:pt idx="374">
                  <c:v>-245.314376</c:v>
                </c:pt>
                <c:pt idx="375">
                  <c:v>-244.140625</c:v>
                </c:pt>
                <c:pt idx="376">
                  <c:v>-242.970624</c:v>
                </c:pt>
                <c:pt idx="377">
                  <c:v>-241.804367</c:v>
                </c:pt>
                <c:pt idx="378">
                  <c:v>-240.641848</c:v>
                </c:pt>
                <c:pt idx="379">
                  <c:v>-239.483061</c:v>
                </c:pt>
                <c:pt idx="380">
                  <c:v>-238.328</c:v>
                </c:pt>
                <c:pt idx="381">
                  <c:v>-237.176659</c:v>
                </c:pt>
                <c:pt idx="382">
                  <c:v>-236.029032</c:v>
                </c:pt>
                <c:pt idx="383">
                  <c:v>-234.885113</c:v>
                </c:pt>
                <c:pt idx="384">
                  <c:v>-233.744896</c:v>
                </c:pt>
                <c:pt idx="385">
                  <c:v>-232.608375</c:v>
                </c:pt>
                <c:pt idx="386">
                  <c:v>-231.475544</c:v>
                </c:pt>
                <c:pt idx="387">
                  <c:v>-230.346397</c:v>
                </c:pt>
                <c:pt idx="388">
                  <c:v>-229.220928</c:v>
                </c:pt>
                <c:pt idx="389">
                  <c:v>-228.099131</c:v>
                </c:pt>
                <c:pt idx="390">
                  <c:v>-226.981</c:v>
                </c:pt>
                <c:pt idx="391">
                  <c:v>-225.866529</c:v>
                </c:pt>
                <c:pt idx="392">
                  <c:v>-224.755712</c:v>
                </c:pt>
                <c:pt idx="393">
                  <c:v>-223.648543</c:v>
                </c:pt>
                <c:pt idx="394">
                  <c:v>-222.545016</c:v>
                </c:pt>
                <c:pt idx="395">
                  <c:v>-221.445125</c:v>
                </c:pt>
                <c:pt idx="396">
                  <c:v>-220.348864</c:v>
                </c:pt>
                <c:pt idx="397">
                  <c:v>-219.256227</c:v>
                </c:pt>
                <c:pt idx="398">
                  <c:v>-218.167208</c:v>
                </c:pt>
                <c:pt idx="399">
                  <c:v>-217.081801</c:v>
                </c:pt>
                <c:pt idx="400">
                  <c:v>-216</c:v>
                </c:pt>
                <c:pt idx="401">
                  <c:v>-214.921799</c:v>
                </c:pt>
                <c:pt idx="402">
                  <c:v>-213.847192</c:v>
                </c:pt>
                <c:pt idx="403">
                  <c:v>-212.776173</c:v>
                </c:pt>
                <c:pt idx="404">
                  <c:v>-211.708736</c:v>
                </c:pt>
                <c:pt idx="405">
                  <c:v>-210.644875</c:v>
                </c:pt>
                <c:pt idx="406">
                  <c:v>-209.584584</c:v>
                </c:pt>
                <c:pt idx="407">
                  <c:v>-208.527857</c:v>
                </c:pt>
                <c:pt idx="408">
                  <c:v>-207.474688</c:v>
                </c:pt>
                <c:pt idx="409">
                  <c:v>-206.425071</c:v>
                </c:pt>
                <c:pt idx="410">
                  <c:v>-205.379</c:v>
                </c:pt>
                <c:pt idx="411">
                  <c:v>-204.336469</c:v>
                </c:pt>
                <c:pt idx="412">
                  <c:v>-203.297472</c:v>
                </c:pt>
                <c:pt idx="413">
                  <c:v>-202.262003</c:v>
                </c:pt>
                <c:pt idx="414">
                  <c:v>-201.230056</c:v>
                </c:pt>
                <c:pt idx="415">
                  <c:v>-200.201625</c:v>
                </c:pt>
                <c:pt idx="416">
                  <c:v>-199.176704</c:v>
                </c:pt>
                <c:pt idx="417">
                  <c:v>-198.155287</c:v>
                </c:pt>
                <c:pt idx="418">
                  <c:v>-197.137368</c:v>
                </c:pt>
                <c:pt idx="419">
                  <c:v>-196.122941</c:v>
                </c:pt>
                <c:pt idx="420">
                  <c:v>-195.112</c:v>
                </c:pt>
                <c:pt idx="421">
                  <c:v>-194.104539</c:v>
                </c:pt>
                <c:pt idx="422">
                  <c:v>-193.100552</c:v>
                </c:pt>
                <c:pt idx="423">
                  <c:v>-192.100033</c:v>
                </c:pt>
                <c:pt idx="424">
                  <c:v>-191.102976</c:v>
                </c:pt>
                <c:pt idx="425">
                  <c:v>-190.109375</c:v>
                </c:pt>
                <c:pt idx="426">
                  <c:v>-189.119224</c:v>
                </c:pt>
                <c:pt idx="427">
                  <c:v>-188.132517</c:v>
                </c:pt>
                <c:pt idx="428">
                  <c:v>-187.149248</c:v>
                </c:pt>
                <c:pt idx="429">
                  <c:v>-186.169411</c:v>
                </c:pt>
                <c:pt idx="430">
                  <c:v>-185.193</c:v>
                </c:pt>
                <c:pt idx="431">
                  <c:v>-184.220009</c:v>
                </c:pt>
                <c:pt idx="432">
                  <c:v>-183.250432</c:v>
                </c:pt>
                <c:pt idx="433">
                  <c:v>-182.284263</c:v>
                </c:pt>
                <c:pt idx="434">
                  <c:v>-181.321496</c:v>
                </c:pt>
                <c:pt idx="435">
                  <c:v>-180.362125</c:v>
                </c:pt>
                <c:pt idx="436">
                  <c:v>-179.406144</c:v>
                </c:pt>
                <c:pt idx="437">
                  <c:v>-178.453547</c:v>
                </c:pt>
                <c:pt idx="438">
                  <c:v>-177.504328</c:v>
                </c:pt>
                <c:pt idx="439">
                  <c:v>-176.558481</c:v>
                </c:pt>
                <c:pt idx="440">
                  <c:v>-175.616</c:v>
                </c:pt>
                <c:pt idx="441">
                  <c:v>-174.676879</c:v>
                </c:pt>
                <c:pt idx="442">
                  <c:v>-173.741112</c:v>
                </c:pt>
                <c:pt idx="443">
                  <c:v>-172.808693</c:v>
                </c:pt>
                <c:pt idx="444">
                  <c:v>-171.879616</c:v>
                </c:pt>
                <c:pt idx="445">
                  <c:v>-170.953875</c:v>
                </c:pt>
                <c:pt idx="446">
                  <c:v>-170.031464</c:v>
                </c:pt>
                <c:pt idx="447">
                  <c:v>-169.112377</c:v>
                </c:pt>
                <c:pt idx="448">
                  <c:v>-168.196608</c:v>
                </c:pt>
                <c:pt idx="449">
                  <c:v>-167.284151</c:v>
                </c:pt>
                <c:pt idx="450">
                  <c:v>-166.375</c:v>
                </c:pt>
                <c:pt idx="451">
                  <c:v>-165.469149</c:v>
                </c:pt>
                <c:pt idx="452">
                  <c:v>-164.566592</c:v>
                </c:pt>
                <c:pt idx="453">
                  <c:v>-163.667323</c:v>
                </c:pt>
                <c:pt idx="454">
                  <c:v>-162.771336</c:v>
                </c:pt>
                <c:pt idx="455">
                  <c:v>-161.878625</c:v>
                </c:pt>
                <c:pt idx="456">
                  <c:v>-160.989184</c:v>
                </c:pt>
                <c:pt idx="457">
                  <c:v>-160.103007</c:v>
                </c:pt>
                <c:pt idx="458">
                  <c:v>-159.220088</c:v>
                </c:pt>
                <c:pt idx="459">
                  <c:v>-158.340421</c:v>
                </c:pt>
                <c:pt idx="460">
                  <c:v>-157.464</c:v>
                </c:pt>
                <c:pt idx="461">
                  <c:v>-156.590819</c:v>
                </c:pt>
                <c:pt idx="462">
                  <c:v>-155.720872</c:v>
                </c:pt>
                <c:pt idx="463">
                  <c:v>-154.854153</c:v>
                </c:pt>
                <c:pt idx="464">
                  <c:v>-153.990656</c:v>
                </c:pt>
                <c:pt idx="465">
                  <c:v>-153.130375</c:v>
                </c:pt>
                <c:pt idx="466">
                  <c:v>-152.273304</c:v>
                </c:pt>
                <c:pt idx="467">
                  <c:v>-151.419437</c:v>
                </c:pt>
                <c:pt idx="468">
                  <c:v>-150.568768</c:v>
                </c:pt>
                <c:pt idx="469">
                  <c:v>-149.721291</c:v>
                </c:pt>
                <c:pt idx="470">
                  <c:v>-148.877</c:v>
                </c:pt>
                <c:pt idx="471">
                  <c:v>-148.035889</c:v>
                </c:pt>
                <c:pt idx="472">
                  <c:v>-147.197952</c:v>
                </c:pt>
                <c:pt idx="473">
                  <c:v>-146.363183</c:v>
                </c:pt>
                <c:pt idx="474">
                  <c:v>-145.531576</c:v>
                </c:pt>
                <c:pt idx="475">
                  <c:v>-144.703125</c:v>
                </c:pt>
                <c:pt idx="476">
                  <c:v>-143.877824</c:v>
                </c:pt>
                <c:pt idx="477">
                  <c:v>-143.055667</c:v>
                </c:pt>
                <c:pt idx="478">
                  <c:v>-142.236648</c:v>
                </c:pt>
                <c:pt idx="479">
                  <c:v>-141.420761</c:v>
                </c:pt>
                <c:pt idx="480">
                  <c:v>-140.608</c:v>
                </c:pt>
                <c:pt idx="481">
                  <c:v>-139.798359</c:v>
                </c:pt>
                <c:pt idx="482">
                  <c:v>-138.991832</c:v>
                </c:pt>
                <c:pt idx="483">
                  <c:v>-138.188413</c:v>
                </c:pt>
                <c:pt idx="484">
                  <c:v>-137.388096</c:v>
                </c:pt>
                <c:pt idx="485">
                  <c:v>-136.590875</c:v>
                </c:pt>
                <c:pt idx="486">
                  <c:v>-135.796744</c:v>
                </c:pt>
                <c:pt idx="487">
                  <c:v>-135.005697</c:v>
                </c:pt>
                <c:pt idx="488">
                  <c:v>-134.217728</c:v>
                </c:pt>
                <c:pt idx="489">
                  <c:v>-133.432831</c:v>
                </c:pt>
                <c:pt idx="490">
                  <c:v>-132.651</c:v>
                </c:pt>
                <c:pt idx="491">
                  <c:v>-131.872229</c:v>
                </c:pt>
                <c:pt idx="492">
                  <c:v>-131.096512</c:v>
                </c:pt>
                <c:pt idx="493">
                  <c:v>-130.323843</c:v>
                </c:pt>
                <c:pt idx="494">
                  <c:v>-129.554216</c:v>
                </c:pt>
                <c:pt idx="495">
                  <c:v>-128.787625</c:v>
                </c:pt>
                <c:pt idx="496">
                  <c:v>-128.024064</c:v>
                </c:pt>
                <c:pt idx="497">
                  <c:v>-127.263527</c:v>
                </c:pt>
                <c:pt idx="498">
                  <c:v>-126.506008</c:v>
                </c:pt>
                <c:pt idx="499">
                  <c:v>-125.751501</c:v>
                </c:pt>
                <c:pt idx="500">
                  <c:v>-125</c:v>
                </c:pt>
                <c:pt idx="501">
                  <c:v>-124.251499</c:v>
                </c:pt>
                <c:pt idx="502">
                  <c:v>-123.505992</c:v>
                </c:pt>
                <c:pt idx="503">
                  <c:v>-122.763473</c:v>
                </c:pt>
                <c:pt idx="504">
                  <c:v>-122.023936</c:v>
                </c:pt>
                <c:pt idx="505">
                  <c:v>-121.287375</c:v>
                </c:pt>
                <c:pt idx="506">
                  <c:v>-120.553784</c:v>
                </c:pt>
                <c:pt idx="507">
                  <c:v>-119.823157</c:v>
                </c:pt>
                <c:pt idx="508">
                  <c:v>-119.095488</c:v>
                </c:pt>
                <c:pt idx="509">
                  <c:v>-118.370771</c:v>
                </c:pt>
                <c:pt idx="510">
                  <c:v>-117.649</c:v>
                </c:pt>
                <c:pt idx="511">
                  <c:v>-116.930169</c:v>
                </c:pt>
                <c:pt idx="512">
                  <c:v>-116.214272</c:v>
                </c:pt>
                <c:pt idx="513">
                  <c:v>-115.501303</c:v>
                </c:pt>
                <c:pt idx="514">
                  <c:v>-114.791256</c:v>
                </c:pt>
                <c:pt idx="515">
                  <c:v>-114.084125</c:v>
                </c:pt>
                <c:pt idx="516">
                  <c:v>-113.379904</c:v>
                </c:pt>
                <c:pt idx="517">
                  <c:v>-112.678587</c:v>
                </c:pt>
                <c:pt idx="518">
                  <c:v>-111.980168</c:v>
                </c:pt>
                <c:pt idx="519">
                  <c:v>-111.284641</c:v>
                </c:pt>
                <c:pt idx="520">
                  <c:v>-110.592</c:v>
                </c:pt>
                <c:pt idx="521">
                  <c:v>-109.902239</c:v>
                </c:pt>
                <c:pt idx="522">
                  <c:v>-109.215352</c:v>
                </c:pt>
                <c:pt idx="523">
                  <c:v>-108.531333</c:v>
                </c:pt>
                <c:pt idx="524">
                  <c:v>-107.850176</c:v>
                </c:pt>
                <c:pt idx="525">
                  <c:v>-107.171875</c:v>
                </c:pt>
                <c:pt idx="526">
                  <c:v>-106.496424</c:v>
                </c:pt>
                <c:pt idx="527">
                  <c:v>-105.823817</c:v>
                </c:pt>
                <c:pt idx="528">
                  <c:v>-105.154048</c:v>
                </c:pt>
                <c:pt idx="529">
                  <c:v>-104.487111</c:v>
                </c:pt>
                <c:pt idx="530">
                  <c:v>-103.823</c:v>
                </c:pt>
                <c:pt idx="531">
                  <c:v>-103.161709</c:v>
                </c:pt>
                <c:pt idx="532">
                  <c:v>-102.503232</c:v>
                </c:pt>
                <c:pt idx="533">
                  <c:v>-101.847563</c:v>
                </c:pt>
                <c:pt idx="534">
                  <c:v>-101.194696</c:v>
                </c:pt>
                <c:pt idx="535">
                  <c:v>-100.544625</c:v>
                </c:pt>
                <c:pt idx="536">
                  <c:v>-99.897344</c:v>
                </c:pt>
                <c:pt idx="537">
                  <c:v>-99.252847</c:v>
                </c:pt>
                <c:pt idx="538">
                  <c:v>-98.611128</c:v>
                </c:pt>
                <c:pt idx="539">
                  <c:v>-97.972181</c:v>
                </c:pt>
                <c:pt idx="540">
                  <c:v>-97.336</c:v>
                </c:pt>
                <c:pt idx="541">
                  <c:v>-96.702579</c:v>
                </c:pt>
                <c:pt idx="542">
                  <c:v>-96.071912</c:v>
                </c:pt>
                <c:pt idx="543">
                  <c:v>-95.443993</c:v>
                </c:pt>
                <c:pt idx="544">
                  <c:v>-94.818816</c:v>
                </c:pt>
                <c:pt idx="545">
                  <c:v>-94.196375</c:v>
                </c:pt>
                <c:pt idx="546">
                  <c:v>-93.576664</c:v>
                </c:pt>
                <c:pt idx="547">
                  <c:v>-92.959677</c:v>
                </c:pt>
                <c:pt idx="548">
                  <c:v>-92.345408</c:v>
                </c:pt>
                <c:pt idx="549">
                  <c:v>-91.733851</c:v>
                </c:pt>
                <c:pt idx="550">
                  <c:v>-91.125</c:v>
                </c:pt>
                <c:pt idx="551">
                  <c:v>-90.518849</c:v>
                </c:pt>
                <c:pt idx="552">
                  <c:v>-89.915392</c:v>
                </c:pt>
                <c:pt idx="553">
                  <c:v>-89.314623</c:v>
                </c:pt>
                <c:pt idx="554">
                  <c:v>-88.716536</c:v>
                </c:pt>
                <c:pt idx="555">
                  <c:v>-88.121125</c:v>
                </c:pt>
                <c:pt idx="556">
                  <c:v>-87.528384</c:v>
                </c:pt>
                <c:pt idx="557">
                  <c:v>-86.938307</c:v>
                </c:pt>
                <c:pt idx="558">
                  <c:v>-86.350888</c:v>
                </c:pt>
                <c:pt idx="559">
                  <c:v>-85.766121</c:v>
                </c:pt>
                <c:pt idx="560">
                  <c:v>-85.184</c:v>
                </c:pt>
                <c:pt idx="561">
                  <c:v>-84.604519</c:v>
                </c:pt>
                <c:pt idx="562">
                  <c:v>-84.027672</c:v>
                </c:pt>
                <c:pt idx="563">
                  <c:v>-83.453453</c:v>
                </c:pt>
                <c:pt idx="564">
                  <c:v>-82.881856</c:v>
                </c:pt>
                <c:pt idx="565">
                  <c:v>-82.312875</c:v>
                </c:pt>
                <c:pt idx="566">
                  <c:v>-81.746504</c:v>
                </c:pt>
                <c:pt idx="567">
                  <c:v>-81.182737</c:v>
                </c:pt>
                <c:pt idx="568">
                  <c:v>-80.621568</c:v>
                </c:pt>
                <c:pt idx="569">
                  <c:v>-80.062991</c:v>
                </c:pt>
                <c:pt idx="570">
                  <c:v>-79.507</c:v>
                </c:pt>
                <c:pt idx="571">
                  <c:v>-78.953589</c:v>
                </c:pt>
                <c:pt idx="572">
                  <c:v>-78.402752</c:v>
                </c:pt>
                <c:pt idx="573">
                  <c:v>-77.854483</c:v>
                </c:pt>
                <c:pt idx="574">
                  <c:v>-77.308776</c:v>
                </c:pt>
                <c:pt idx="575">
                  <c:v>-76.765625</c:v>
                </c:pt>
                <c:pt idx="576">
                  <c:v>-76.225024</c:v>
                </c:pt>
                <c:pt idx="577">
                  <c:v>-75.686967</c:v>
                </c:pt>
                <c:pt idx="578">
                  <c:v>-75.151448</c:v>
                </c:pt>
                <c:pt idx="579">
                  <c:v>-74.618461</c:v>
                </c:pt>
                <c:pt idx="580">
                  <c:v>-74.088</c:v>
                </c:pt>
                <c:pt idx="581">
                  <c:v>-73.560059</c:v>
                </c:pt>
                <c:pt idx="582">
                  <c:v>-73.034632</c:v>
                </c:pt>
                <c:pt idx="583">
                  <c:v>-72.511713</c:v>
                </c:pt>
                <c:pt idx="584">
                  <c:v>-71.991296</c:v>
                </c:pt>
                <c:pt idx="585">
                  <c:v>-71.473375</c:v>
                </c:pt>
                <c:pt idx="586">
                  <c:v>-70.957944</c:v>
                </c:pt>
                <c:pt idx="587">
                  <c:v>-70.444997</c:v>
                </c:pt>
                <c:pt idx="588">
                  <c:v>-69.934528</c:v>
                </c:pt>
                <c:pt idx="589">
                  <c:v>-69.426531</c:v>
                </c:pt>
                <c:pt idx="590">
                  <c:v>-68.921</c:v>
                </c:pt>
                <c:pt idx="591">
                  <c:v>-68.417929</c:v>
                </c:pt>
                <c:pt idx="592">
                  <c:v>-67.917312</c:v>
                </c:pt>
                <c:pt idx="593">
                  <c:v>-67.419143</c:v>
                </c:pt>
                <c:pt idx="594">
                  <c:v>-66.923416</c:v>
                </c:pt>
                <c:pt idx="595">
                  <c:v>-66.430125</c:v>
                </c:pt>
                <c:pt idx="596">
                  <c:v>-65.939264</c:v>
                </c:pt>
                <c:pt idx="597">
                  <c:v>-65.450827</c:v>
                </c:pt>
                <c:pt idx="598">
                  <c:v>-64.964808</c:v>
                </c:pt>
                <c:pt idx="599">
                  <c:v>-64.481201</c:v>
                </c:pt>
                <c:pt idx="600">
                  <c:v>-64</c:v>
                </c:pt>
                <c:pt idx="601">
                  <c:v>-63.521199</c:v>
                </c:pt>
                <c:pt idx="602">
                  <c:v>-63.044792</c:v>
                </c:pt>
                <c:pt idx="603">
                  <c:v>-62.570773</c:v>
                </c:pt>
                <c:pt idx="604">
                  <c:v>-62.099136</c:v>
                </c:pt>
                <c:pt idx="605">
                  <c:v>-61.629875</c:v>
                </c:pt>
                <c:pt idx="606">
                  <c:v>-61.162984</c:v>
                </c:pt>
                <c:pt idx="607">
                  <c:v>-60.698457</c:v>
                </c:pt>
                <c:pt idx="608">
                  <c:v>-60.236288</c:v>
                </c:pt>
                <c:pt idx="609">
                  <c:v>-59.776471</c:v>
                </c:pt>
                <c:pt idx="610">
                  <c:v>-59.319</c:v>
                </c:pt>
                <c:pt idx="611">
                  <c:v>-58.863869</c:v>
                </c:pt>
                <c:pt idx="612">
                  <c:v>-58.411072</c:v>
                </c:pt>
                <c:pt idx="613">
                  <c:v>-57.960603</c:v>
                </c:pt>
                <c:pt idx="614">
                  <c:v>-57.512456</c:v>
                </c:pt>
                <c:pt idx="615">
                  <c:v>-57.066625</c:v>
                </c:pt>
                <c:pt idx="616">
                  <c:v>-56.623104</c:v>
                </c:pt>
                <c:pt idx="617">
                  <c:v>-56.181887</c:v>
                </c:pt>
                <c:pt idx="618">
                  <c:v>-55.742968</c:v>
                </c:pt>
                <c:pt idx="619">
                  <c:v>-55.306341</c:v>
                </c:pt>
                <c:pt idx="620">
                  <c:v>-54.872</c:v>
                </c:pt>
                <c:pt idx="621">
                  <c:v>-54.439939</c:v>
                </c:pt>
                <c:pt idx="622">
                  <c:v>-54.010152</c:v>
                </c:pt>
                <c:pt idx="623">
                  <c:v>-53.582633</c:v>
                </c:pt>
                <c:pt idx="624">
                  <c:v>-53.157376</c:v>
                </c:pt>
                <c:pt idx="625">
                  <c:v>-52.734375</c:v>
                </c:pt>
                <c:pt idx="626">
                  <c:v>-52.313624</c:v>
                </c:pt>
                <c:pt idx="627">
                  <c:v>-51.895117</c:v>
                </c:pt>
                <c:pt idx="628">
                  <c:v>-51.478848</c:v>
                </c:pt>
                <c:pt idx="629">
                  <c:v>-51.064811</c:v>
                </c:pt>
                <c:pt idx="630">
                  <c:v>-50.653</c:v>
                </c:pt>
                <c:pt idx="631">
                  <c:v>-50.243409</c:v>
                </c:pt>
                <c:pt idx="632">
                  <c:v>-49.836032</c:v>
                </c:pt>
                <c:pt idx="633">
                  <c:v>-49.430863</c:v>
                </c:pt>
                <c:pt idx="634">
                  <c:v>-49.027896</c:v>
                </c:pt>
                <c:pt idx="635">
                  <c:v>-48.627125</c:v>
                </c:pt>
                <c:pt idx="636">
                  <c:v>-48.228544</c:v>
                </c:pt>
                <c:pt idx="637">
                  <c:v>-47.832147</c:v>
                </c:pt>
                <c:pt idx="638">
                  <c:v>-47.437928</c:v>
                </c:pt>
                <c:pt idx="639">
                  <c:v>-47.045881</c:v>
                </c:pt>
                <c:pt idx="640">
                  <c:v>-46.656</c:v>
                </c:pt>
                <c:pt idx="641">
                  <c:v>-46.268279</c:v>
                </c:pt>
                <c:pt idx="642">
                  <c:v>-45.882712</c:v>
                </c:pt>
                <c:pt idx="643">
                  <c:v>-45.499293</c:v>
                </c:pt>
                <c:pt idx="644">
                  <c:v>-45.118016</c:v>
                </c:pt>
                <c:pt idx="645">
                  <c:v>-44.738875</c:v>
                </c:pt>
                <c:pt idx="646">
                  <c:v>-44.361864</c:v>
                </c:pt>
                <c:pt idx="647">
                  <c:v>-43.986977</c:v>
                </c:pt>
                <c:pt idx="648">
                  <c:v>-43.614208</c:v>
                </c:pt>
                <c:pt idx="649">
                  <c:v>-43.243551</c:v>
                </c:pt>
                <c:pt idx="650">
                  <c:v>-42.875</c:v>
                </c:pt>
                <c:pt idx="651">
                  <c:v>-42.508549</c:v>
                </c:pt>
                <c:pt idx="652">
                  <c:v>-42.144192</c:v>
                </c:pt>
                <c:pt idx="653">
                  <c:v>-41.781923</c:v>
                </c:pt>
                <c:pt idx="654">
                  <c:v>-41.421736</c:v>
                </c:pt>
                <c:pt idx="655">
                  <c:v>-41.063625</c:v>
                </c:pt>
                <c:pt idx="656">
                  <c:v>-40.707584</c:v>
                </c:pt>
                <c:pt idx="657">
                  <c:v>-40.353607</c:v>
                </c:pt>
                <c:pt idx="658">
                  <c:v>-40.001688</c:v>
                </c:pt>
                <c:pt idx="659">
                  <c:v>-39.651821</c:v>
                </c:pt>
                <c:pt idx="660">
                  <c:v>-39.304</c:v>
                </c:pt>
                <c:pt idx="661">
                  <c:v>-38.958219</c:v>
                </c:pt>
                <c:pt idx="662">
                  <c:v>-38.614472</c:v>
                </c:pt>
                <c:pt idx="663">
                  <c:v>-38.272753</c:v>
                </c:pt>
                <c:pt idx="664">
                  <c:v>-37.933056</c:v>
                </c:pt>
                <c:pt idx="665">
                  <c:v>-37.595375</c:v>
                </c:pt>
                <c:pt idx="666">
                  <c:v>-37.259704</c:v>
                </c:pt>
                <c:pt idx="667">
                  <c:v>-36.926037</c:v>
                </c:pt>
                <c:pt idx="668">
                  <c:v>-36.594368</c:v>
                </c:pt>
                <c:pt idx="669">
                  <c:v>-36.264691</c:v>
                </c:pt>
                <c:pt idx="670">
                  <c:v>-35.937</c:v>
                </c:pt>
                <c:pt idx="671">
                  <c:v>-35.611289</c:v>
                </c:pt>
                <c:pt idx="672">
                  <c:v>-35.287552</c:v>
                </c:pt>
                <c:pt idx="673">
                  <c:v>-34.965783</c:v>
                </c:pt>
                <c:pt idx="674">
                  <c:v>-34.645976</c:v>
                </c:pt>
                <c:pt idx="675">
                  <c:v>-34.328125</c:v>
                </c:pt>
                <c:pt idx="676">
                  <c:v>-34.012224</c:v>
                </c:pt>
                <c:pt idx="677">
                  <c:v>-33.698267</c:v>
                </c:pt>
                <c:pt idx="678">
                  <c:v>-33.386248</c:v>
                </c:pt>
                <c:pt idx="679">
                  <c:v>-33.076161</c:v>
                </c:pt>
                <c:pt idx="680">
                  <c:v>-32.768</c:v>
                </c:pt>
                <c:pt idx="681">
                  <c:v>-32.461759</c:v>
                </c:pt>
                <c:pt idx="682">
                  <c:v>-32.157432</c:v>
                </c:pt>
                <c:pt idx="683">
                  <c:v>-31.855013</c:v>
                </c:pt>
                <c:pt idx="684">
                  <c:v>-31.554496</c:v>
                </c:pt>
                <c:pt idx="685">
                  <c:v>-31.255875</c:v>
                </c:pt>
                <c:pt idx="686">
                  <c:v>-30.959144</c:v>
                </c:pt>
                <c:pt idx="687">
                  <c:v>-30.664297</c:v>
                </c:pt>
                <c:pt idx="688">
                  <c:v>-30.371328</c:v>
                </c:pt>
                <c:pt idx="689">
                  <c:v>-30.080231</c:v>
                </c:pt>
                <c:pt idx="690">
                  <c:v>-29.791</c:v>
                </c:pt>
                <c:pt idx="691">
                  <c:v>-29.503629</c:v>
                </c:pt>
                <c:pt idx="692">
                  <c:v>-29.218112</c:v>
                </c:pt>
                <c:pt idx="693">
                  <c:v>-28.934443</c:v>
                </c:pt>
                <c:pt idx="694">
                  <c:v>-28.652616</c:v>
                </c:pt>
                <c:pt idx="695">
                  <c:v>-28.372625</c:v>
                </c:pt>
                <c:pt idx="696">
                  <c:v>-28.094464</c:v>
                </c:pt>
                <c:pt idx="697">
                  <c:v>-27.818127</c:v>
                </c:pt>
                <c:pt idx="698">
                  <c:v>-27.543608</c:v>
                </c:pt>
                <c:pt idx="699">
                  <c:v>-27.270901</c:v>
                </c:pt>
                <c:pt idx="700">
                  <c:v>-27</c:v>
                </c:pt>
                <c:pt idx="701">
                  <c:v>-26.730899</c:v>
                </c:pt>
                <c:pt idx="702">
                  <c:v>-26.463592</c:v>
                </c:pt>
                <c:pt idx="703">
                  <c:v>-26.198073</c:v>
                </c:pt>
                <c:pt idx="704">
                  <c:v>-25.934336</c:v>
                </c:pt>
                <c:pt idx="705">
                  <c:v>-25.672375</c:v>
                </c:pt>
                <c:pt idx="706">
                  <c:v>-25.412184</c:v>
                </c:pt>
                <c:pt idx="707">
                  <c:v>-25.153757</c:v>
                </c:pt>
                <c:pt idx="708">
                  <c:v>-24.897088</c:v>
                </c:pt>
                <c:pt idx="709">
                  <c:v>-24.642171</c:v>
                </c:pt>
                <c:pt idx="710">
                  <c:v>-24.389</c:v>
                </c:pt>
                <c:pt idx="711">
                  <c:v>-24.137569</c:v>
                </c:pt>
                <c:pt idx="712">
                  <c:v>-23.887872</c:v>
                </c:pt>
                <c:pt idx="713">
                  <c:v>-23.639903</c:v>
                </c:pt>
                <c:pt idx="714">
                  <c:v>-23.393656</c:v>
                </c:pt>
                <c:pt idx="715">
                  <c:v>-23.149125</c:v>
                </c:pt>
                <c:pt idx="716">
                  <c:v>-22.906304</c:v>
                </c:pt>
                <c:pt idx="717">
                  <c:v>-22.665187</c:v>
                </c:pt>
                <c:pt idx="718">
                  <c:v>-22.425768</c:v>
                </c:pt>
                <c:pt idx="719">
                  <c:v>-22.188041</c:v>
                </c:pt>
                <c:pt idx="720">
                  <c:v>-21.952</c:v>
                </c:pt>
                <c:pt idx="721">
                  <c:v>-21.717639</c:v>
                </c:pt>
                <c:pt idx="722">
                  <c:v>-21.484952</c:v>
                </c:pt>
                <c:pt idx="723">
                  <c:v>-21.253933</c:v>
                </c:pt>
                <c:pt idx="724">
                  <c:v>-21.024576</c:v>
                </c:pt>
                <c:pt idx="725">
                  <c:v>-20.796875</c:v>
                </c:pt>
                <c:pt idx="726">
                  <c:v>-20.570824</c:v>
                </c:pt>
                <c:pt idx="727">
                  <c:v>-20.346417</c:v>
                </c:pt>
                <c:pt idx="728">
                  <c:v>-20.123648</c:v>
                </c:pt>
                <c:pt idx="729">
                  <c:v>-19.902511</c:v>
                </c:pt>
                <c:pt idx="730">
                  <c:v>-19.683</c:v>
                </c:pt>
                <c:pt idx="731">
                  <c:v>-19.465109</c:v>
                </c:pt>
                <c:pt idx="732">
                  <c:v>-19.248832</c:v>
                </c:pt>
                <c:pt idx="733">
                  <c:v>-19.034163</c:v>
                </c:pt>
                <c:pt idx="734">
                  <c:v>-18.821096</c:v>
                </c:pt>
                <c:pt idx="735">
                  <c:v>-18.609625</c:v>
                </c:pt>
                <c:pt idx="736">
                  <c:v>-18.399744</c:v>
                </c:pt>
                <c:pt idx="737">
                  <c:v>-18.191447</c:v>
                </c:pt>
                <c:pt idx="738">
                  <c:v>-17.984728</c:v>
                </c:pt>
                <c:pt idx="739">
                  <c:v>-17.779581</c:v>
                </c:pt>
                <c:pt idx="740">
                  <c:v>-17.576</c:v>
                </c:pt>
                <c:pt idx="741">
                  <c:v>-17.373979</c:v>
                </c:pt>
                <c:pt idx="742">
                  <c:v>-17.173512</c:v>
                </c:pt>
                <c:pt idx="743">
                  <c:v>-16.974593</c:v>
                </c:pt>
                <c:pt idx="744">
                  <c:v>-16.777216</c:v>
                </c:pt>
                <c:pt idx="745">
                  <c:v>-16.581375</c:v>
                </c:pt>
                <c:pt idx="746">
                  <c:v>-16.387064</c:v>
                </c:pt>
                <c:pt idx="747">
                  <c:v>-16.194277</c:v>
                </c:pt>
                <c:pt idx="748">
                  <c:v>-16.003008</c:v>
                </c:pt>
                <c:pt idx="749">
                  <c:v>-15.813251</c:v>
                </c:pt>
                <c:pt idx="750">
                  <c:v>-15.625</c:v>
                </c:pt>
                <c:pt idx="751">
                  <c:v>-15.438249</c:v>
                </c:pt>
                <c:pt idx="752">
                  <c:v>-15.252992</c:v>
                </c:pt>
                <c:pt idx="753">
                  <c:v>-15.069223</c:v>
                </c:pt>
                <c:pt idx="754">
                  <c:v>-14.886936</c:v>
                </c:pt>
                <c:pt idx="755">
                  <c:v>-14.706125</c:v>
                </c:pt>
                <c:pt idx="756">
                  <c:v>-14.526784</c:v>
                </c:pt>
                <c:pt idx="757">
                  <c:v>-14.348907</c:v>
                </c:pt>
                <c:pt idx="758">
                  <c:v>-14.172488</c:v>
                </c:pt>
                <c:pt idx="759">
                  <c:v>-13.997521</c:v>
                </c:pt>
                <c:pt idx="760">
                  <c:v>-13.824</c:v>
                </c:pt>
                <c:pt idx="761">
                  <c:v>-13.651919</c:v>
                </c:pt>
                <c:pt idx="762">
                  <c:v>-13.481272</c:v>
                </c:pt>
                <c:pt idx="763">
                  <c:v>-13.312053</c:v>
                </c:pt>
                <c:pt idx="764">
                  <c:v>-13.144256</c:v>
                </c:pt>
                <c:pt idx="765">
                  <c:v>-12.977875</c:v>
                </c:pt>
                <c:pt idx="766">
                  <c:v>-12.812904</c:v>
                </c:pt>
                <c:pt idx="767">
                  <c:v>-12.649337</c:v>
                </c:pt>
                <c:pt idx="768">
                  <c:v>-12.487168</c:v>
                </c:pt>
                <c:pt idx="769">
                  <c:v>-12.326391</c:v>
                </c:pt>
                <c:pt idx="770">
                  <c:v>-12.167</c:v>
                </c:pt>
                <c:pt idx="771">
                  <c:v>-12.008989</c:v>
                </c:pt>
                <c:pt idx="772">
                  <c:v>-11.852352</c:v>
                </c:pt>
                <c:pt idx="773">
                  <c:v>-11.697083</c:v>
                </c:pt>
                <c:pt idx="774">
                  <c:v>-11.543176</c:v>
                </c:pt>
                <c:pt idx="775">
                  <c:v>-11.390625</c:v>
                </c:pt>
                <c:pt idx="776">
                  <c:v>-11.239424</c:v>
                </c:pt>
                <c:pt idx="777">
                  <c:v>-11.089567</c:v>
                </c:pt>
                <c:pt idx="778">
                  <c:v>-10.941048</c:v>
                </c:pt>
                <c:pt idx="779">
                  <c:v>-10.793861</c:v>
                </c:pt>
                <c:pt idx="780">
                  <c:v>-10.648</c:v>
                </c:pt>
                <c:pt idx="781">
                  <c:v>-10.503459</c:v>
                </c:pt>
                <c:pt idx="782">
                  <c:v>-10.360232</c:v>
                </c:pt>
                <c:pt idx="783">
                  <c:v>-10.218313</c:v>
                </c:pt>
                <c:pt idx="784">
                  <c:v>-10.077696</c:v>
                </c:pt>
                <c:pt idx="785">
                  <c:v>-9.93837499999999</c:v>
                </c:pt>
                <c:pt idx="786">
                  <c:v>-9.800344</c:v>
                </c:pt>
                <c:pt idx="787">
                  <c:v>-9.663597</c:v>
                </c:pt>
                <c:pt idx="788">
                  <c:v>-9.528128</c:v>
                </c:pt>
                <c:pt idx="789">
                  <c:v>-9.39393099999999</c:v>
                </c:pt>
                <c:pt idx="790">
                  <c:v>-9.261</c:v>
                </c:pt>
                <c:pt idx="791">
                  <c:v>-9.129329</c:v>
                </c:pt>
                <c:pt idx="792">
                  <c:v>-8.998912</c:v>
                </c:pt>
                <c:pt idx="793">
                  <c:v>-8.86974299999999</c:v>
                </c:pt>
                <c:pt idx="794">
                  <c:v>-8.741816</c:v>
                </c:pt>
                <c:pt idx="795">
                  <c:v>-8.615125</c:v>
                </c:pt>
                <c:pt idx="796">
                  <c:v>-8.489664</c:v>
                </c:pt>
                <c:pt idx="797">
                  <c:v>-8.365427</c:v>
                </c:pt>
                <c:pt idx="798">
                  <c:v>-8.24240799999999</c:v>
                </c:pt>
                <c:pt idx="799">
                  <c:v>-8.120601</c:v>
                </c:pt>
                <c:pt idx="800">
                  <c:v>-8</c:v>
                </c:pt>
                <c:pt idx="801">
                  <c:v>-7.880599</c:v>
                </c:pt>
                <c:pt idx="802">
                  <c:v>-7.76239200000001</c:v>
                </c:pt>
                <c:pt idx="803">
                  <c:v>-7.64537300000001</c:v>
                </c:pt>
                <c:pt idx="804">
                  <c:v>-7.52953599999999</c:v>
                </c:pt>
                <c:pt idx="805">
                  <c:v>-7.41487499999999</c:v>
                </c:pt>
                <c:pt idx="806">
                  <c:v>-7.30138399999999</c:v>
                </c:pt>
                <c:pt idx="807">
                  <c:v>-7.189057</c:v>
                </c:pt>
                <c:pt idx="808">
                  <c:v>-7.077888</c:v>
                </c:pt>
                <c:pt idx="809">
                  <c:v>-6.967871</c:v>
                </c:pt>
                <c:pt idx="810">
                  <c:v>-6.859</c:v>
                </c:pt>
                <c:pt idx="811">
                  <c:v>-6.75126900000001</c:v>
                </c:pt>
                <c:pt idx="812">
                  <c:v>-6.64467199999999</c:v>
                </c:pt>
                <c:pt idx="813">
                  <c:v>-6.53920299999999</c:v>
                </c:pt>
                <c:pt idx="814">
                  <c:v>-6.43485599999999</c:v>
                </c:pt>
                <c:pt idx="815">
                  <c:v>-6.331625</c:v>
                </c:pt>
                <c:pt idx="816">
                  <c:v>-6.229504</c:v>
                </c:pt>
                <c:pt idx="817">
                  <c:v>-6.128487</c:v>
                </c:pt>
                <c:pt idx="818">
                  <c:v>-6.028568</c:v>
                </c:pt>
                <c:pt idx="819">
                  <c:v>-5.92974100000001</c:v>
                </c:pt>
                <c:pt idx="820">
                  <c:v>-5.83200000000001</c:v>
                </c:pt>
                <c:pt idx="821">
                  <c:v>-5.73533899999999</c:v>
                </c:pt>
                <c:pt idx="822">
                  <c:v>-5.63975199999999</c:v>
                </c:pt>
                <c:pt idx="823">
                  <c:v>-5.545233</c:v>
                </c:pt>
                <c:pt idx="824">
                  <c:v>-5.451776</c:v>
                </c:pt>
                <c:pt idx="825">
                  <c:v>-5.359375</c:v>
                </c:pt>
                <c:pt idx="826">
                  <c:v>-5.268024</c:v>
                </c:pt>
                <c:pt idx="827">
                  <c:v>-5.177717</c:v>
                </c:pt>
                <c:pt idx="828">
                  <c:v>-5.08844800000001</c:v>
                </c:pt>
                <c:pt idx="829">
                  <c:v>-5.00021099999999</c:v>
                </c:pt>
                <c:pt idx="830">
                  <c:v>-4.91299999999999</c:v>
                </c:pt>
                <c:pt idx="831">
                  <c:v>-4.826809</c:v>
                </c:pt>
                <c:pt idx="832">
                  <c:v>-4.741632</c:v>
                </c:pt>
                <c:pt idx="833">
                  <c:v>-4.657463</c:v>
                </c:pt>
                <c:pt idx="834">
                  <c:v>-4.574296</c:v>
                </c:pt>
                <c:pt idx="835">
                  <c:v>-4.492125</c:v>
                </c:pt>
                <c:pt idx="836">
                  <c:v>-4.410944</c:v>
                </c:pt>
                <c:pt idx="837">
                  <c:v>-4.33074699999999</c:v>
                </c:pt>
                <c:pt idx="838">
                  <c:v>-4.25152799999999</c:v>
                </c:pt>
                <c:pt idx="839">
                  <c:v>-4.173281</c:v>
                </c:pt>
                <c:pt idx="840">
                  <c:v>-4.096</c:v>
                </c:pt>
                <c:pt idx="841">
                  <c:v>-4.019679</c:v>
                </c:pt>
                <c:pt idx="842">
                  <c:v>-3.944312</c:v>
                </c:pt>
                <c:pt idx="843">
                  <c:v>-3.869893</c:v>
                </c:pt>
                <c:pt idx="844">
                  <c:v>-3.796416</c:v>
                </c:pt>
                <c:pt idx="845">
                  <c:v>-3.72387500000001</c:v>
                </c:pt>
                <c:pt idx="846">
                  <c:v>-3.65226399999999</c:v>
                </c:pt>
                <c:pt idx="847">
                  <c:v>-3.581577</c:v>
                </c:pt>
                <c:pt idx="848">
                  <c:v>-3.511808</c:v>
                </c:pt>
                <c:pt idx="849">
                  <c:v>-3.442951</c:v>
                </c:pt>
                <c:pt idx="850">
                  <c:v>-3.375</c:v>
                </c:pt>
                <c:pt idx="851">
                  <c:v>-3.307949</c:v>
                </c:pt>
                <c:pt idx="852">
                  <c:v>-3.241792</c:v>
                </c:pt>
                <c:pt idx="853">
                  <c:v>-3.176523</c:v>
                </c:pt>
                <c:pt idx="854">
                  <c:v>-3.11213599999999</c:v>
                </c:pt>
                <c:pt idx="855">
                  <c:v>-3.048625</c:v>
                </c:pt>
                <c:pt idx="856">
                  <c:v>-2.985984</c:v>
                </c:pt>
                <c:pt idx="857">
                  <c:v>-2.924207</c:v>
                </c:pt>
                <c:pt idx="858">
                  <c:v>-2.863288</c:v>
                </c:pt>
                <c:pt idx="859">
                  <c:v>-2.803221</c:v>
                </c:pt>
                <c:pt idx="860">
                  <c:v>-2.744</c:v>
                </c:pt>
                <c:pt idx="861">
                  <c:v>-2.685619</c:v>
                </c:pt>
                <c:pt idx="862">
                  <c:v>-2.62807199999999</c:v>
                </c:pt>
                <c:pt idx="863">
                  <c:v>-2.571353</c:v>
                </c:pt>
                <c:pt idx="864">
                  <c:v>-2.515456</c:v>
                </c:pt>
                <c:pt idx="865">
                  <c:v>-2.460375</c:v>
                </c:pt>
                <c:pt idx="866">
                  <c:v>-2.406104</c:v>
                </c:pt>
                <c:pt idx="867">
                  <c:v>-2.352637</c:v>
                </c:pt>
                <c:pt idx="868">
                  <c:v>-2.299968</c:v>
                </c:pt>
                <c:pt idx="869">
                  <c:v>-2.248091</c:v>
                </c:pt>
                <c:pt idx="870">
                  <c:v>-2.19699999999999</c:v>
                </c:pt>
                <c:pt idx="871">
                  <c:v>-2.146689</c:v>
                </c:pt>
                <c:pt idx="872">
                  <c:v>-2.097152</c:v>
                </c:pt>
                <c:pt idx="873">
                  <c:v>-2.048383</c:v>
                </c:pt>
                <c:pt idx="874">
                  <c:v>-2.000376</c:v>
                </c:pt>
                <c:pt idx="875">
                  <c:v>-1.953125</c:v>
                </c:pt>
                <c:pt idx="876">
                  <c:v>-1.906624</c:v>
                </c:pt>
                <c:pt idx="877">
                  <c:v>-1.860867</c:v>
                </c:pt>
                <c:pt idx="878">
                  <c:v>-1.815848</c:v>
                </c:pt>
                <c:pt idx="879">
                  <c:v>-1.771561</c:v>
                </c:pt>
                <c:pt idx="880">
                  <c:v>-1.728</c:v>
                </c:pt>
                <c:pt idx="881">
                  <c:v>-1.685159</c:v>
                </c:pt>
                <c:pt idx="882">
                  <c:v>-1.643032</c:v>
                </c:pt>
                <c:pt idx="883">
                  <c:v>-1.601613</c:v>
                </c:pt>
                <c:pt idx="884">
                  <c:v>-1.560896</c:v>
                </c:pt>
                <c:pt idx="885">
                  <c:v>-1.520875</c:v>
                </c:pt>
                <c:pt idx="886">
                  <c:v>-1.481544</c:v>
                </c:pt>
                <c:pt idx="887">
                  <c:v>-1.442897</c:v>
                </c:pt>
                <c:pt idx="888">
                  <c:v>-1.404928</c:v>
                </c:pt>
                <c:pt idx="889">
                  <c:v>-1.367631</c:v>
                </c:pt>
                <c:pt idx="890">
                  <c:v>-1.331</c:v>
                </c:pt>
                <c:pt idx="891">
                  <c:v>-1.295029</c:v>
                </c:pt>
                <c:pt idx="892">
                  <c:v>-1.259712</c:v>
                </c:pt>
                <c:pt idx="893">
                  <c:v>-1.225043</c:v>
                </c:pt>
                <c:pt idx="894">
                  <c:v>-1.191016</c:v>
                </c:pt>
                <c:pt idx="895">
                  <c:v>-1.157625</c:v>
                </c:pt>
                <c:pt idx="896">
                  <c:v>-1.124864</c:v>
                </c:pt>
                <c:pt idx="897">
                  <c:v>-1.092727</c:v>
                </c:pt>
                <c:pt idx="898">
                  <c:v>-1.061208</c:v>
                </c:pt>
                <c:pt idx="899">
                  <c:v>-1.030301</c:v>
                </c:pt>
                <c:pt idx="900">
                  <c:v>-1</c:v>
                </c:pt>
                <c:pt idx="901">
                  <c:v>-0.970299000000001</c:v>
                </c:pt>
                <c:pt idx="902">
                  <c:v>-0.941192000000001</c:v>
                </c:pt>
                <c:pt idx="903">
                  <c:v>-0.912673000000002</c:v>
                </c:pt>
                <c:pt idx="904">
                  <c:v>-0.884735999999997</c:v>
                </c:pt>
                <c:pt idx="905">
                  <c:v>-0.857374999999998</c:v>
                </c:pt>
                <c:pt idx="906">
                  <c:v>-0.830583999999999</c:v>
                </c:pt>
                <c:pt idx="907">
                  <c:v>-0.804356999999999</c:v>
                </c:pt>
                <c:pt idx="908">
                  <c:v>-0.778688</c:v>
                </c:pt>
                <c:pt idx="909">
                  <c:v>-0.753571</c:v>
                </c:pt>
                <c:pt idx="910">
                  <c:v>-0.729000000000001</c:v>
                </c:pt>
                <c:pt idx="911">
                  <c:v>-0.704969000000001</c:v>
                </c:pt>
                <c:pt idx="912">
                  <c:v>-0.681471999999998</c:v>
                </c:pt>
                <c:pt idx="913">
                  <c:v>-0.658502999999998</c:v>
                </c:pt>
                <c:pt idx="914">
                  <c:v>-0.636055999999999</c:v>
                </c:pt>
                <c:pt idx="915">
                  <c:v>-0.614124999999999</c:v>
                </c:pt>
                <c:pt idx="916">
                  <c:v>-0.592704</c:v>
                </c:pt>
                <c:pt idx="917">
                  <c:v>-0.571787</c:v>
                </c:pt>
                <c:pt idx="918">
                  <c:v>-0.551368000000001</c:v>
                </c:pt>
                <c:pt idx="919">
                  <c:v>-0.531441000000001</c:v>
                </c:pt>
                <c:pt idx="920">
                  <c:v>-0.511999999999998</c:v>
                </c:pt>
                <c:pt idx="921">
                  <c:v>-0.493038999999998</c:v>
                </c:pt>
                <c:pt idx="922">
                  <c:v>-0.474551999999999</c:v>
                </c:pt>
                <c:pt idx="923">
                  <c:v>-0.456532999999999</c:v>
                </c:pt>
                <c:pt idx="924">
                  <c:v>-0.438976</c:v>
                </c:pt>
                <c:pt idx="925">
                  <c:v>-0.421875</c:v>
                </c:pt>
                <c:pt idx="926">
                  <c:v>-0.405224</c:v>
                </c:pt>
                <c:pt idx="927">
                  <c:v>-0.389017000000001</c:v>
                </c:pt>
                <c:pt idx="928">
                  <c:v>-0.373248000000001</c:v>
                </c:pt>
                <c:pt idx="929">
                  <c:v>-0.357910999999999</c:v>
                </c:pt>
                <c:pt idx="930">
                  <c:v>-0.342999999999999</c:v>
                </c:pt>
                <c:pt idx="931">
                  <c:v>-0.328508999999999</c:v>
                </c:pt>
                <c:pt idx="932">
                  <c:v>-0.314432</c:v>
                </c:pt>
                <c:pt idx="933">
                  <c:v>-0.300763</c:v>
                </c:pt>
                <c:pt idx="934">
                  <c:v>-0.287496</c:v>
                </c:pt>
                <c:pt idx="935">
                  <c:v>-0.274625</c:v>
                </c:pt>
                <c:pt idx="936">
                  <c:v>-0.262144000000001</c:v>
                </c:pt>
                <c:pt idx="937">
                  <c:v>-0.250046999999999</c:v>
                </c:pt>
                <c:pt idx="938">
                  <c:v>-0.238327999999999</c:v>
                </c:pt>
                <c:pt idx="939">
                  <c:v>-0.226980999999999</c:v>
                </c:pt>
                <c:pt idx="940">
                  <c:v>-0.216</c:v>
                </c:pt>
                <c:pt idx="941">
                  <c:v>-0.205379</c:v>
                </c:pt>
                <c:pt idx="942">
                  <c:v>-0.195112</c:v>
                </c:pt>
                <c:pt idx="943">
                  <c:v>-0.185193</c:v>
                </c:pt>
                <c:pt idx="944">
                  <c:v>-0.175616</c:v>
                </c:pt>
                <c:pt idx="945">
                  <c:v>-0.166374999999999</c:v>
                </c:pt>
                <c:pt idx="946">
                  <c:v>-0.157463999999999</c:v>
                </c:pt>
                <c:pt idx="947">
                  <c:v>-0.148876999999999</c:v>
                </c:pt>
                <c:pt idx="948">
                  <c:v>-0.140608</c:v>
                </c:pt>
                <c:pt idx="949">
                  <c:v>-0.132651</c:v>
                </c:pt>
                <c:pt idx="950">
                  <c:v>-0.125</c:v>
                </c:pt>
                <c:pt idx="951">
                  <c:v>-0.117649</c:v>
                </c:pt>
                <c:pt idx="952">
                  <c:v>-0.110592</c:v>
                </c:pt>
                <c:pt idx="953">
                  <c:v>-0.103823</c:v>
                </c:pt>
                <c:pt idx="954">
                  <c:v>-0.0973359999999994</c:v>
                </c:pt>
                <c:pt idx="955">
                  <c:v>-0.0911249999999996</c:v>
                </c:pt>
                <c:pt idx="956">
                  <c:v>-0.0851839999999997</c:v>
                </c:pt>
                <c:pt idx="957">
                  <c:v>-0.0795069999999998</c:v>
                </c:pt>
                <c:pt idx="958">
                  <c:v>-0.074088</c:v>
                </c:pt>
                <c:pt idx="959">
                  <c:v>-0.0689210000000001</c:v>
                </c:pt>
                <c:pt idx="960">
                  <c:v>-0.0640000000000002</c:v>
                </c:pt>
                <c:pt idx="961">
                  <c:v>-0.0593190000000003</c:v>
                </c:pt>
                <c:pt idx="962">
                  <c:v>-0.0548719999999996</c:v>
                </c:pt>
                <c:pt idx="963">
                  <c:v>-0.0506529999999997</c:v>
                </c:pt>
                <c:pt idx="964">
                  <c:v>-0.0466559999999998</c:v>
                </c:pt>
                <c:pt idx="965">
                  <c:v>-0.0428749999999999</c:v>
                </c:pt>
                <c:pt idx="966">
                  <c:v>-0.039304</c:v>
                </c:pt>
                <c:pt idx="967">
                  <c:v>-0.035937</c:v>
                </c:pt>
                <c:pt idx="968">
                  <c:v>-0.0327680000000001</c:v>
                </c:pt>
                <c:pt idx="969">
                  <c:v>-0.0297910000000001</c:v>
                </c:pt>
                <c:pt idx="970">
                  <c:v>-0.0269999999999997</c:v>
                </c:pt>
                <c:pt idx="971">
                  <c:v>-0.0243889999999998</c:v>
                </c:pt>
                <c:pt idx="972">
                  <c:v>-0.0219519999999998</c:v>
                </c:pt>
                <c:pt idx="973">
                  <c:v>-0.0196829999999999</c:v>
                </c:pt>
                <c:pt idx="974">
                  <c:v>-0.017576</c:v>
                </c:pt>
                <c:pt idx="975">
                  <c:v>-0.015625</c:v>
                </c:pt>
                <c:pt idx="976">
                  <c:v>-0.013824</c:v>
                </c:pt>
                <c:pt idx="977">
                  <c:v>-0.0121670000000001</c:v>
                </c:pt>
                <c:pt idx="978">
                  <c:v>-0.0106480000000001</c:v>
                </c:pt>
                <c:pt idx="979">
                  <c:v>-0.00926099999999988</c:v>
                </c:pt>
                <c:pt idx="980">
                  <c:v>-0.00799999999999992</c:v>
                </c:pt>
                <c:pt idx="981">
                  <c:v>-0.00685899999999995</c:v>
                </c:pt>
                <c:pt idx="982">
                  <c:v>-0.00583199999999997</c:v>
                </c:pt>
                <c:pt idx="983">
                  <c:v>-0.00491299999999999</c:v>
                </c:pt>
                <c:pt idx="984">
                  <c:v>-0.00409600000000001</c:v>
                </c:pt>
                <c:pt idx="985">
                  <c:v>-0.00337500000000002</c:v>
                </c:pt>
                <c:pt idx="986">
                  <c:v>-0.00274400000000003</c:v>
                </c:pt>
                <c:pt idx="987">
                  <c:v>-0.00219699999999995</c:v>
                </c:pt>
                <c:pt idx="988">
                  <c:v>-0.00172799999999997</c:v>
                </c:pt>
                <c:pt idx="989">
                  <c:v>-0.00133099999999998</c:v>
                </c:pt>
                <c:pt idx="990">
                  <c:v>-0.000999999999999989</c:v>
                </c:pt>
                <c:pt idx="991">
                  <c:v>-0.000728999999999997</c:v>
                </c:pt>
                <c:pt idx="992">
                  <c:v>-0.000512000000000001</c:v>
                </c:pt>
                <c:pt idx="993">
                  <c:v>-0.000343000000000004</c:v>
                </c:pt>
                <c:pt idx="994">
                  <c:v>-0.000216000000000005</c:v>
                </c:pt>
                <c:pt idx="995">
                  <c:v>-0.000124999999999992</c:v>
                </c:pt>
                <c:pt idx="996">
                  <c:v>-6.39999999999959E-005</c:v>
                </c:pt>
                <c:pt idx="997">
                  <c:v>-2.69999999999983E-005</c:v>
                </c:pt>
                <c:pt idx="998">
                  <c:v>-7.99999999999949E-006</c:v>
                </c:pt>
                <c:pt idx="999">
                  <c:v>-9.99999999999936E-007</c:v>
                </c:pt>
                <c:pt idx="1000">
                  <c:v>0</c:v>
                </c:pt>
                <c:pt idx="1001">
                  <c:v>9.99999999999936E-007</c:v>
                </c:pt>
                <c:pt idx="1002">
                  <c:v>7.99999999999949E-006</c:v>
                </c:pt>
                <c:pt idx="1003">
                  <c:v>2.69999999999983E-005</c:v>
                </c:pt>
                <c:pt idx="1004">
                  <c:v>6.40000000000044E-005</c:v>
                </c:pt>
                <c:pt idx="1005">
                  <c:v>0.000125000000000005</c:v>
                </c:pt>
                <c:pt idx="1006">
                  <c:v>0.000216000000000005</c:v>
                </c:pt>
                <c:pt idx="1007">
                  <c:v>0.000343000000000004</c:v>
                </c:pt>
                <c:pt idx="1008">
                  <c:v>0.000512000000000001</c:v>
                </c:pt>
                <c:pt idx="1009">
                  <c:v>0.000728999999999997</c:v>
                </c:pt>
                <c:pt idx="1010">
                  <c:v>0.000999999999999989</c:v>
                </c:pt>
                <c:pt idx="1011">
                  <c:v>0.00133099999999998</c:v>
                </c:pt>
                <c:pt idx="1012">
                  <c:v>0.00172800000000004</c:v>
                </c:pt>
                <c:pt idx="1013">
                  <c:v>0.00219700000000004</c:v>
                </c:pt>
                <c:pt idx="1014">
                  <c:v>0.00274400000000003</c:v>
                </c:pt>
                <c:pt idx="1015">
                  <c:v>0.00337500000000002</c:v>
                </c:pt>
                <c:pt idx="1016">
                  <c:v>0.00409600000000001</c:v>
                </c:pt>
                <c:pt idx="1017">
                  <c:v>0.00491299999999999</c:v>
                </c:pt>
                <c:pt idx="1018">
                  <c:v>0.00583199999999997</c:v>
                </c:pt>
                <c:pt idx="1019">
                  <c:v>0.00685899999999995</c:v>
                </c:pt>
                <c:pt idx="1020">
                  <c:v>0.00800000000000013</c:v>
                </c:pt>
                <c:pt idx="1021">
                  <c:v>0.00926100000000011</c:v>
                </c:pt>
                <c:pt idx="1022">
                  <c:v>0.0106480000000001</c:v>
                </c:pt>
                <c:pt idx="1023">
                  <c:v>0.0121670000000001</c:v>
                </c:pt>
                <c:pt idx="1024">
                  <c:v>0.013824</c:v>
                </c:pt>
                <c:pt idx="1025">
                  <c:v>0.015625</c:v>
                </c:pt>
                <c:pt idx="1026">
                  <c:v>0.017576</c:v>
                </c:pt>
                <c:pt idx="1027">
                  <c:v>0.0196829999999999</c:v>
                </c:pt>
                <c:pt idx="1028">
                  <c:v>0.0219519999999998</c:v>
                </c:pt>
                <c:pt idx="1029">
                  <c:v>0.0243890000000002</c:v>
                </c:pt>
                <c:pt idx="1030">
                  <c:v>0.0270000000000002</c:v>
                </c:pt>
                <c:pt idx="1031">
                  <c:v>0.0297910000000001</c:v>
                </c:pt>
                <c:pt idx="1032">
                  <c:v>0.0327680000000001</c:v>
                </c:pt>
                <c:pt idx="1033">
                  <c:v>0.035937</c:v>
                </c:pt>
                <c:pt idx="1034">
                  <c:v>0.039304</c:v>
                </c:pt>
                <c:pt idx="1035">
                  <c:v>0.0428749999999999</c:v>
                </c:pt>
                <c:pt idx="1036">
                  <c:v>0.0466559999999998</c:v>
                </c:pt>
                <c:pt idx="1037">
                  <c:v>0.0506530000000004</c:v>
                </c:pt>
                <c:pt idx="1038">
                  <c:v>0.0548720000000003</c:v>
                </c:pt>
                <c:pt idx="1039">
                  <c:v>0.0593190000000003</c:v>
                </c:pt>
                <c:pt idx="1040">
                  <c:v>0.0640000000000002</c:v>
                </c:pt>
                <c:pt idx="1041">
                  <c:v>0.0689210000000001</c:v>
                </c:pt>
                <c:pt idx="1042">
                  <c:v>0.074088</c:v>
                </c:pt>
                <c:pt idx="1043">
                  <c:v>0.0795069999999998</c:v>
                </c:pt>
                <c:pt idx="1044">
                  <c:v>0.0851839999999997</c:v>
                </c:pt>
                <c:pt idx="1045">
                  <c:v>0.0911250000000007</c:v>
                </c:pt>
                <c:pt idx="1046">
                  <c:v>0.0973360000000006</c:v>
                </c:pt>
                <c:pt idx="1047">
                  <c:v>0.103823</c:v>
                </c:pt>
                <c:pt idx="1048">
                  <c:v>0.110592</c:v>
                </c:pt>
                <c:pt idx="1049">
                  <c:v>0.117649</c:v>
                </c:pt>
                <c:pt idx="1050">
                  <c:v>0.125</c:v>
                </c:pt>
                <c:pt idx="1051">
                  <c:v>0.132651</c:v>
                </c:pt>
                <c:pt idx="1052">
                  <c:v>0.140608</c:v>
                </c:pt>
                <c:pt idx="1053">
                  <c:v>0.148876999999999</c:v>
                </c:pt>
                <c:pt idx="1054">
                  <c:v>0.157464000000001</c:v>
                </c:pt>
                <c:pt idx="1055">
                  <c:v>0.166375000000001</c:v>
                </c:pt>
                <c:pt idx="1056">
                  <c:v>0.175616</c:v>
                </c:pt>
                <c:pt idx="1057">
                  <c:v>0.185193</c:v>
                </c:pt>
                <c:pt idx="1058">
                  <c:v>0.195112</c:v>
                </c:pt>
                <c:pt idx="1059">
                  <c:v>0.205379</c:v>
                </c:pt>
                <c:pt idx="1060">
                  <c:v>0.216</c:v>
                </c:pt>
                <c:pt idx="1061">
                  <c:v>0.226980999999999</c:v>
                </c:pt>
                <c:pt idx="1062">
                  <c:v>0.238328000000001</c:v>
                </c:pt>
                <c:pt idx="1063">
                  <c:v>0.250047000000001</c:v>
                </c:pt>
                <c:pt idx="1064">
                  <c:v>0.262144000000001</c:v>
                </c:pt>
                <c:pt idx="1065">
                  <c:v>0.274625</c:v>
                </c:pt>
                <c:pt idx="1066">
                  <c:v>0.287496</c:v>
                </c:pt>
                <c:pt idx="1067">
                  <c:v>0.300763</c:v>
                </c:pt>
                <c:pt idx="1068">
                  <c:v>0.314432</c:v>
                </c:pt>
                <c:pt idx="1069">
                  <c:v>0.328508999999999</c:v>
                </c:pt>
                <c:pt idx="1070">
                  <c:v>0.343000000000002</c:v>
                </c:pt>
                <c:pt idx="1071">
                  <c:v>0.357911000000001</c:v>
                </c:pt>
                <c:pt idx="1072">
                  <c:v>0.373248000000001</c:v>
                </c:pt>
                <c:pt idx="1073">
                  <c:v>0.389017000000001</c:v>
                </c:pt>
                <c:pt idx="1074">
                  <c:v>0.405224</c:v>
                </c:pt>
                <c:pt idx="1075">
                  <c:v>0.421875</c:v>
                </c:pt>
                <c:pt idx="1076">
                  <c:v>0.438976</c:v>
                </c:pt>
                <c:pt idx="1077">
                  <c:v>0.456532999999999</c:v>
                </c:pt>
                <c:pt idx="1078">
                  <c:v>0.474551999999999</c:v>
                </c:pt>
                <c:pt idx="1079">
                  <c:v>0.493039000000002</c:v>
                </c:pt>
                <c:pt idx="1080">
                  <c:v>0.512000000000001</c:v>
                </c:pt>
                <c:pt idx="1081">
                  <c:v>0.531441000000001</c:v>
                </c:pt>
                <c:pt idx="1082">
                  <c:v>0.551368000000001</c:v>
                </c:pt>
                <c:pt idx="1083">
                  <c:v>0.571787</c:v>
                </c:pt>
                <c:pt idx="1084">
                  <c:v>0.592704</c:v>
                </c:pt>
                <c:pt idx="1085">
                  <c:v>0.614124999999999</c:v>
                </c:pt>
                <c:pt idx="1086">
                  <c:v>0.636055999999999</c:v>
                </c:pt>
                <c:pt idx="1087">
                  <c:v>0.658503000000002</c:v>
                </c:pt>
                <c:pt idx="1088">
                  <c:v>0.681472000000002</c:v>
                </c:pt>
                <c:pt idx="1089">
                  <c:v>0.704969000000001</c:v>
                </c:pt>
                <c:pt idx="1090">
                  <c:v>0.729000000000001</c:v>
                </c:pt>
                <c:pt idx="1091">
                  <c:v>0.753571</c:v>
                </c:pt>
                <c:pt idx="1092">
                  <c:v>0.778688</c:v>
                </c:pt>
                <c:pt idx="1093">
                  <c:v>0.804356999999999</c:v>
                </c:pt>
                <c:pt idx="1094">
                  <c:v>0.830583999999999</c:v>
                </c:pt>
                <c:pt idx="1095">
                  <c:v>0.857375000000003</c:v>
                </c:pt>
                <c:pt idx="1096">
                  <c:v>0.884736000000002</c:v>
                </c:pt>
                <c:pt idx="1097">
                  <c:v>0.912673000000002</c:v>
                </c:pt>
                <c:pt idx="1098">
                  <c:v>0.941192000000001</c:v>
                </c:pt>
                <c:pt idx="1099">
                  <c:v>0.970299000000001</c:v>
                </c:pt>
                <c:pt idx="1100">
                  <c:v>1</c:v>
                </c:pt>
                <c:pt idx="1101">
                  <c:v>1.030301</c:v>
                </c:pt>
                <c:pt idx="1102">
                  <c:v>1.061208</c:v>
                </c:pt>
                <c:pt idx="1103">
                  <c:v>1.092727</c:v>
                </c:pt>
                <c:pt idx="1104">
                  <c:v>1.124864</c:v>
                </c:pt>
                <c:pt idx="1105">
                  <c:v>1.157625</c:v>
                </c:pt>
                <c:pt idx="1106">
                  <c:v>1.191016</c:v>
                </c:pt>
                <c:pt idx="1107">
                  <c:v>1.225043</c:v>
                </c:pt>
                <c:pt idx="1108">
                  <c:v>1.259712</c:v>
                </c:pt>
                <c:pt idx="1109">
                  <c:v>1.295029</c:v>
                </c:pt>
                <c:pt idx="1110">
                  <c:v>1.331</c:v>
                </c:pt>
                <c:pt idx="1111">
                  <c:v>1.367631</c:v>
                </c:pt>
                <c:pt idx="1112">
                  <c:v>1.404928</c:v>
                </c:pt>
                <c:pt idx="1113">
                  <c:v>1.442897</c:v>
                </c:pt>
                <c:pt idx="1114">
                  <c:v>1.481544</c:v>
                </c:pt>
                <c:pt idx="1115">
                  <c:v>1.520875</c:v>
                </c:pt>
                <c:pt idx="1116">
                  <c:v>1.560896</c:v>
                </c:pt>
                <c:pt idx="1117">
                  <c:v>1.601613</c:v>
                </c:pt>
                <c:pt idx="1118">
                  <c:v>1.643032</c:v>
                </c:pt>
                <c:pt idx="1119">
                  <c:v>1.685159</c:v>
                </c:pt>
                <c:pt idx="1120">
                  <c:v>1.728</c:v>
                </c:pt>
                <c:pt idx="1121">
                  <c:v>1.771561</c:v>
                </c:pt>
                <c:pt idx="1122">
                  <c:v>1.815848</c:v>
                </c:pt>
                <c:pt idx="1123">
                  <c:v>1.860867</c:v>
                </c:pt>
                <c:pt idx="1124">
                  <c:v>1.906624</c:v>
                </c:pt>
                <c:pt idx="1125">
                  <c:v>1.953125</c:v>
                </c:pt>
                <c:pt idx="1126">
                  <c:v>2.000376</c:v>
                </c:pt>
                <c:pt idx="1127">
                  <c:v>2.048383</c:v>
                </c:pt>
                <c:pt idx="1128">
                  <c:v>2.097152</c:v>
                </c:pt>
                <c:pt idx="1129">
                  <c:v>2.146689</c:v>
                </c:pt>
                <c:pt idx="1130">
                  <c:v>2.197</c:v>
                </c:pt>
                <c:pt idx="1131">
                  <c:v>2.248091</c:v>
                </c:pt>
                <c:pt idx="1132">
                  <c:v>2.299968</c:v>
                </c:pt>
                <c:pt idx="1133">
                  <c:v>2.352637</c:v>
                </c:pt>
                <c:pt idx="1134">
                  <c:v>2.406104</c:v>
                </c:pt>
                <c:pt idx="1135">
                  <c:v>2.460375</c:v>
                </c:pt>
                <c:pt idx="1136">
                  <c:v>2.515456</c:v>
                </c:pt>
                <c:pt idx="1137">
                  <c:v>2.57135300000001</c:v>
                </c:pt>
                <c:pt idx="1138">
                  <c:v>2.628072</c:v>
                </c:pt>
                <c:pt idx="1139">
                  <c:v>2.685619</c:v>
                </c:pt>
                <c:pt idx="1140">
                  <c:v>2.744</c:v>
                </c:pt>
                <c:pt idx="1141">
                  <c:v>2.803221</c:v>
                </c:pt>
                <c:pt idx="1142">
                  <c:v>2.863288</c:v>
                </c:pt>
                <c:pt idx="1143">
                  <c:v>2.924207</c:v>
                </c:pt>
                <c:pt idx="1144">
                  <c:v>2.985984</c:v>
                </c:pt>
                <c:pt idx="1145">
                  <c:v>3.04862500000001</c:v>
                </c:pt>
                <c:pt idx="1146">
                  <c:v>3.11213600000001</c:v>
                </c:pt>
                <c:pt idx="1147">
                  <c:v>3.176523</c:v>
                </c:pt>
                <c:pt idx="1148">
                  <c:v>3.241792</c:v>
                </c:pt>
                <c:pt idx="1149">
                  <c:v>3.307949</c:v>
                </c:pt>
                <c:pt idx="1150">
                  <c:v>3.375</c:v>
                </c:pt>
                <c:pt idx="1151">
                  <c:v>3.442951</c:v>
                </c:pt>
                <c:pt idx="1152">
                  <c:v>3.511808</c:v>
                </c:pt>
                <c:pt idx="1153">
                  <c:v>3.581577</c:v>
                </c:pt>
                <c:pt idx="1154">
                  <c:v>3.65226400000001</c:v>
                </c:pt>
                <c:pt idx="1155">
                  <c:v>3.72387500000001</c:v>
                </c:pt>
                <c:pt idx="1156">
                  <c:v>3.796416</c:v>
                </c:pt>
                <c:pt idx="1157">
                  <c:v>3.869893</c:v>
                </c:pt>
                <c:pt idx="1158">
                  <c:v>3.944312</c:v>
                </c:pt>
                <c:pt idx="1159">
                  <c:v>4.019679</c:v>
                </c:pt>
                <c:pt idx="1160">
                  <c:v>4.096</c:v>
                </c:pt>
                <c:pt idx="1161">
                  <c:v>4.173281</c:v>
                </c:pt>
                <c:pt idx="1162">
                  <c:v>4.25152800000001</c:v>
                </c:pt>
                <c:pt idx="1163">
                  <c:v>4.33074700000001</c:v>
                </c:pt>
                <c:pt idx="1164">
                  <c:v>4.410944</c:v>
                </c:pt>
                <c:pt idx="1165">
                  <c:v>4.492125</c:v>
                </c:pt>
                <c:pt idx="1166">
                  <c:v>4.574296</c:v>
                </c:pt>
                <c:pt idx="1167">
                  <c:v>4.657463</c:v>
                </c:pt>
                <c:pt idx="1168">
                  <c:v>4.741632</c:v>
                </c:pt>
                <c:pt idx="1169">
                  <c:v>4.826809</c:v>
                </c:pt>
                <c:pt idx="1170">
                  <c:v>4.91300000000001</c:v>
                </c:pt>
                <c:pt idx="1171">
                  <c:v>5.00021100000001</c:v>
                </c:pt>
                <c:pt idx="1172">
                  <c:v>5.08844800000001</c:v>
                </c:pt>
                <c:pt idx="1173">
                  <c:v>5.177717</c:v>
                </c:pt>
                <c:pt idx="1174">
                  <c:v>5.268024</c:v>
                </c:pt>
                <c:pt idx="1175">
                  <c:v>5.359375</c:v>
                </c:pt>
                <c:pt idx="1176">
                  <c:v>5.451776</c:v>
                </c:pt>
                <c:pt idx="1177">
                  <c:v>5.545233</c:v>
                </c:pt>
                <c:pt idx="1178">
                  <c:v>5.63975199999999</c:v>
                </c:pt>
                <c:pt idx="1179">
                  <c:v>5.73533900000001</c:v>
                </c:pt>
                <c:pt idx="1180">
                  <c:v>5.83200000000001</c:v>
                </c:pt>
                <c:pt idx="1181">
                  <c:v>5.92974100000001</c:v>
                </c:pt>
                <c:pt idx="1182">
                  <c:v>6.028568</c:v>
                </c:pt>
                <c:pt idx="1183">
                  <c:v>6.128487</c:v>
                </c:pt>
                <c:pt idx="1184">
                  <c:v>6.229504</c:v>
                </c:pt>
                <c:pt idx="1185">
                  <c:v>6.331625</c:v>
                </c:pt>
                <c:pt idx="1186">
                  <c:v>6.43485599999999</c:v>
                </c:pt>
                <c:pt idx="1187">
                  <c:v>6.53920300000001</c:v>
                </c:pt>
                <c:pt idx="1188">
                  <c:v>6.64467200000001</c:v>
                </c:pt>
                <c:pt idx="1189">
                  <c:v>6.75126900000001</c:v>
                </c:pt>
                <c:pt idx="1190">
                  <c:v>6.859</c:v>
                </c:pt>
                <c:pt idx="1191">
                  <c:v>6.967871</c:v>
                </c:pt>
                <c:pt idx="1192">
                  <c:v>7.077888</c:v>
                </c:pt>
                <c:pt idx="1193">
                  <c:v>7.189057</c:v>
                </c:pt>
                <c:pt idx="1194">
                  <c:v>7.30138399999999</c:v>
                </c:pt>
                <c:pt idx="1195">
                  <c:v>7.41487500000001</c:v>
                </c:pt>
                <c:pt idx="1196">
                  <c:v>7.52953600000001</c:v>
                </c:pt>
                <c:pt idx="1197">
                  <c:v>7.64537300000001</c:v>
                </c:pt>
                <c:pt idx="1198">
                  <c:v>7.76239200000001</c:v>
                </c:pt>
                <c:pt idx="1199">
                  <c:v>7.880599</c:v>
                </c:pt>
                <c:pt idx="1200">
                  <c:v>8</c:v>
                </c:pt>
                <c:pt idx="1201">
                  <c:v>8.120601</c:v>
                </c:pt>
                <c:pt idx="1202">
                  <c:v>8.24240799999999</c:v>
                </c:pt>
                <c:pt idx="1203">
                  <c:v>8.36542700000001</c:v>
                </c:pt>
                <c:pt idx="1204">
                  <c:v>8.48966400000001</c:v>
                </c:pt>
                <c:pt idx="1205">
                  <c:v>8.61512500000001</c:v>
                </c:pt>
                <c:pt idx="1206">
                  <c:v>8.74181600000001</c:v>
                </c:pt>
                <c:pt idx="1207">
                  <c:v>8.869743</c:v>
                </c:pt>
                <c:pt idx="1208">
                  <c:v>8.998912</c:v>
                </c:pt>
                <c:pt idx="1209">
                  <c:v>9.129329</c:v>
                </c:pt>
                <c:pt idx="1210">
                  <c:v>9.261</c:v>
                </c:pt>
                <c:pt idx="1211">
                  <c:v>9.39393099999999</c:v>
                </c:pt>
                <c:pt idx="1212">
                  <c:v>9.52812800000001</c:v>
                </c:pt>
                <c:pt idx="1213">
                  <c:v>9.66359700000001</c:v>
                </c:pt>
                <c:pt idx="1214">
                  <c:v>9.80034400000001</c:v>
                </c:pt>
                <c:pt idx="1215">
                  <c:v>9.938375</c:v>
                </c:pt>
                <c:pt idx="1216">
                  <c:v>10.077696</c:v>
                </c:pt>
                <c:pt idx="1217">
                  <c:v>10.218313</c:v>
                </c:pt>
                <c:pt idx="1218">
                  <c:v>10.360232</c:v>
                </c:pt>
                <c:pt idx="1219">
                  <c:v>10.503459</c:v>
                </c:pt>
                <c:pt idx="1220">
                  <c:v>10.648</c:v>
                </c:pt>
                <c:pt idx="1221">
                  <c:v>10.793861</c:v>
                </c:pt>
                <c:pt idx="1222">
                  <c:v>10.941048</c:v>
                </c:pt>
                <c:pt idx="1223">
                  <c:v>11.089567</c:v>
                </c:pt>
                <c:pt idx="1224">
                  <c:v>11.239424</c:v>
                </c:pt>
                <c:pt idx="1225">
                  <c:v>11.390625</c:v>
                </c:pt>
                <c:pt idx="1226">
                  <c:v>11.543176</c:v>
                </c:pt>
                <c:pt idx="1227">
                  <c:v>11.697083</c:v>
                </c:pt>
                <c:pt idx="1228">
                  <c:v>11.852352</c:v>
                </c:pt>
                <c:pt idx="1229">
                  <c:v>12.008989</c:v>
                </c:pt>
                <c:pt idx="1230">
                  <c:v>12.167</c:v>
                </c:pt>
                <c:pt idx="1231">
                  <c:v>12.326391</c:v>
                </c:pt>
                <c:pt idx="1232">
                  <c:v>12.487168</c:v>
                </c:pt>
                <c:pt idx="1233">
                  <c:v>12.649337</c:v>
                </c:pt>
                <c:pt idx="1234">
                  <c:v>12.812904</c:v>
                </c:pt>
                <c:pt idx="1235">
                  <c:v>12.977875</c:v>
                </c:pt>
                <c:pt idx="1236">
                  <c:v>13.144256</c:v>
                </c:pt>
                <c:pt idx="1237">
                  <c:v>13.312053</c:v>
                </c:pt>
                <c:pt idx="1238">
                  <c:v>13.481272</c:v>
                </c:pt>
                <c:pt idx="1239">
                  <c:v>13.651919</c:v>
                </c:pt>
                <c:pt idx="1240">
                  <c:v>13.824</c:v>
                </c:pt>
                <c:pt idx="1241">
                  <c:v>13.997521</c:v>
                </c:pt>
                <c:pt idx="1242">
                  <c:v>14.172488</c:v>
                </c:pt>
                <c:pt idx="1243">
                  <c:v>14.348907</c:v>
                </c:pt>
                <c:pt idx="1244">
                  <c:v>14.526784</c:v>
                </c:pt>
                <c:pt idx="1245">
                  <c:v>14.706125</c:v>
                </c:pt>
                <c:pt idx="1246">
                  <c:v>14.886936</c:v>
                </c:pt>
                <c:pt idx="1247">
                  <c:v>15.069223</c:v>
                </c:pt>
                <c:pt idx="1248">
                  <c:v>15.252992</c:v>
                </c:pt>
                <c:pt idx="1249">
                  <c:v>15.438249</c:v>
                </c:pt>
                <c:pt idx="1250">
                  <c:v>15.625</c:v>
                </c:pt>
                <c:pt idx="1251">
                  <c:v>15.813251</c:v>
                </c:pt>
                <c:pt idx="1252">
                  <c:v>16.003008</c:v>
                </c:pt>
                <c:pt idx="1253">
                  <c:v>16.194277</c:v>
                </c:pt>
                <c:pt idx="1254">
                  <c:v>16.387064</c:v>
                </c:pt>
                <c:pt idx="1255">
                  <c:v>16.581375</c:v>
                </c:pt>
                <c:pt idx="1256">
                  <c:v>16.777216</c:v>
                </c:pt>
                <c:pt idx="1257">
                  <c:v>16.974593</c:v>
                </c:pt>
                <c:pt idx="1258">
                  <c:v>17.173512</c:v>
                </c:pt>
                <c:pt idx="1259">
                  <c:v>17.373979</c:v>
                </c:pt>
                <c:pt idx="1260">
                  <c:v>17.576</c:v>
                </c:pt>
                <c:pt idx="1261">
                  <c:v>17.779581</c:v>
                </c:pt>
                <c:pt idx="1262">
                  <c:v>17.984728</c:v>
                </c:pt>
                <c:pt idx="1263">
                  <c:v>18.191447</c:v>
                </c:pt>
                <c:pt idx="1264">
                  <c:v>18.399744</c:v>
                </c:pt>
                <c:pt idx="1265">
                  <c:v>18.609625</c:v>
                </c:pt>
                <c:pt idx="1266">
                  <c:v>18.821096</c:v>
                </c:pt>
                <c:pt idx="1267">
                  <c:v>19.034163</c:v>
                </c:pt>
                <c:pt idx="1268">
                  <c:v>19.248832</c:v>
                </c:pt>
                <c:pt idx="1269">
                  <c:v>19.465109</c:v>
                </c:pt>
                <c:pt idx="1270">
                  <c:v>19.683</c:v>
                </c:pt>
                <c:pt idx="1271">
                  <c:v>19.902511</c:v>
                </c:pt>
                <c:pt idx="1272">
                  <c:v>20.123648</c:v>
                </c:pt>
                <c:pt idx="1273">
                  <c:v>20.346417</c:v>
                </c:pt>
                <c:pt idx="1274">
                  <c:v>20.570824</c:v>
                </c:pt>
                <c:pt idx="1275">
                  <c:v>20.796875</c:v>
                </c:pt>
                <c:pt idx="1276">
                  <c:v>21.024576</c:v>
                </c:pt>
                <c:pt idx="1277">
                  <c:v>21.253933</c:v>
                </c:pt>
                <c:pt idx="1278">
                  <c:v>21.484952</c:v>
                </c:pt>
                <c:pt idx="1279">
                  <c:v>21.717639</c:v>
                </c:pt>
                <c:pt idx="1280">
                  <c:v>21.952</c:v>
                </c:pt>
                <c:pt idx="1281">
                  <c:v>22.188041</c:v>
                </c:pt>
                <c:pt idx="1282">
                  <c:v>22.425768</c:v>
                </c:pt>
                <c:pt idx="1283">
                  <c:v>22.665187</c:v>
                </c:pt>
                <c:pt idx="1284">
                  <c:v>22.906304</c:v>
                </c:pt>
                <c:pt idx="1285">
                  <c:v>23.149125</c:v>
                </c:pt>
                <c:pt idx="1286">
                  <c:v>23.393656</c:v>
                </c:pt>
                <c:pt idx="1287">
                  <c:v>23.639903</c:v>
                </c:pt>
                <c:pt idx="1288">
                  <c:v>23.887872</c:v>
                </c:pt>
                <c:pt idx="1289">
                  <c:v>24.137569</c:v>
                </c:pt>
                <c:pt idx="1290">
                  <c:v>24.389</c:v>
                </c:pt>
                <c:pt idx="1291">
                  <c:v>24.642171</c:v>
                </c:pt>
                <c:pt idx="1292">
                  <c:v>24.897088</c:v>
                </c:pt>
                <c:pt idx="1293">
                  <c:v>25.153757</c:v>
                </c:pt>
                <c:pt idx="1294">
                  <c:v>25.412184</c:v>
                </c:pt>
                <c:pt idx="1295">
                  <c:v>25.672375</c:v>
                </c:pt>
                <c:pt idx="1296">
                  <c:v>25.934336</c:v>
                </c:pt>
                <c:pt idx="1297">
                  <c:v>26.198073</c:v>
                </c:pt>
                <c:pt idx="1298">
                  <c:v>26.463592</c:v>
                </c:pt>
                <c:pt idx="1299">
                  <c:v>26.730899</c:v>
                </c:pt>
                <c:pt idx="1300">
                  <c:v>27</c:v>
                </c:pt>
                <c:pt idx="1301">
                  <c:v>27.270901</c:v>
                </c:pt>
                <c:pt idx="1302">
                  <c:v>27.543608</c:v>
                </c:pt>
                <c:pt idx="1303">
                  <c:v>27.818127</c:v>
                </c:pt>
                <c:pt idx="1304">
                  <c:v>28.094464</c:v>
                </c:pt>
                <c:pt idx="1305">
                  <c:v>28.372625</c:v>
                </c:pt>
                <c:pt idx="1306">
                  <c:v>28.652616</c:v>
                </c:pt>
                <c:pt idx="1307">
                  <c:v>28.934443</c:v>
                </c:pt>
                <c:pt idx="1308">
                  <c:v>29.218112</c:v>
                </c:pt>
                <c:pt idx="1309">
                  <c:v>29.503629</c:v>
                </c:pt>
                <c:pt idx="1310">
                  <c:v>29.791</c:v>
                </c:pt>
                <c:pt idx="1311">
                  <c:v>30.080231</c:v>
                </c:pt>
                <c:pt idx="1312">
                  <c:v>30.371328</c:v>
                </c:pt>
                <c:pt idx="1313">
                  <c:v>30.664297</c:v>
                </c:pt>
                <c:pt idx="1314">
                  <c:v>30.959144</c:v>
                </c:pt>
                <c:pt idx="1315">
                  <c:v>31.255875</c:v>
                </c:pt>
                <c:pt idx="1316">
                  <c:v>31.554496</c:v>
                </c:pt>
                <c:pt idx="1317">
                  <c:v>31.855013</c:v>
                </c:pt>
                <c:pt idx="1318">
                  <c:v>32.157432</c:v>
                </c:pt>
                <c:pt idx="1319">
                  <c:v>32.461759</c:v>
                </c:pt>
                <c:pt idx="1320">
                  <c:v>32.768</c:v>
                </c:pt>
                <c:pt idx="1321">
                  <c:v>33.076161</c:v>
                </c:pt>
                <c:pt idx="1322">
                  <c:v>33.386248</c:v>
                </c:pt>
                <c:pt idx="1323">
                  <c:v>33.698267</c:v>
                </c:pt>
                <c:pt idx="1324">
                  <c:v>34.012224</c:v>
                </c:pt>
                <c:pt idx="1325">
                  <c:v>34.328125</c:v>
                </c:pt>
                <c:pt idx="1326">
                  <c:v>34.645976</c:v>
                </c:pt>
                <c:pt idx="1327">
                  <c:v>34.965783</c:v>
                </c:pt>
                <c:pt idx="1328">
                  <c:v>35.287552</c:v>
                </c:pt>
                <c:pt idx="1329">
                  <c:v>35.611289</c:v>
                </c:pt>
                <c:pt idx="1330">
                  <c:v>35.937</c:v>
                </c:pt>
                <c:pt idx="1331">
                  <c:v>36.264691</c:v>
                </c:pt>
                <c:pt idx="1332">
                  <c:v>36.594368</c:v>
                </c:pt>
                <c:pt idx="1333">
                  <c:v>36.926037</c:v>
                </c:pt>
                <c:pt idx="1334">
                  <c:v>37.259704</c:v>
                </c:pt>
                <c:pt idx="1335">
                  <c:v>37.595375</c:v>
                </c:pt>
                <c:pt idx="1336">
                  <c:v>37.933056</c:v>
                </c:pt>
                <c:pt idx="1337">
                  <c:v>38.272753</c:v>
                </c:pt>
                <c:pt idx="1338">
                  <c:v>38.614472</c:v>
                </c:pt>
                <c:pt idx="1339">
                  <c:v>38.958219</c:v>
                </c:pt>
                <c:pt idx="1340">
                  <c:v>39.304</c:v>
                </c:pt>
                <c:pt idx="1341">
                  <c:v>39.651821</c:v>
                </c:pt>
                <c:pt idx="1342">
                  <c:v>40.001688</c:v>
                </c:pt>
                <c:pt idx="1343">
                  <c:v>40.353607</c:v>
                </c:pt>
                <c:pt idx="1344">
                  <c:v>40.707584</c:v>
                </c:pt>
                <c:pt idx="1345">
                  <c:v>41.063625</c:v>
                </c:pt>
                <c:pt idx="1346">
                  <c:v>41.421736</c:v>
                </c:pt>
                <c:pt idx="1347">
                  <c:v>41.781923</c:v>
                </c:pt>
                <c:pt idx="1348">
                  <c:v>42.144192</c:v>
                </c:pt>
                <c:pt idx="1349">
                  <c:v>42.508549</c:v>
                </c:pt>
                <c:pt idx="1350">
                  <c:v>42.875</c:v>
                </c:pt>
                <c:pt idx="1351">
                  <c:v>43.243551</c:v>
                </c:pt>
                <c:pt idx="1352">
                  <c:v>43.614208</c:v>
                </c:pt>
                <c:pt idx="1353">
                  <c:v>43.986977</c:v>
                </c:pt>
                <c:pt idx="1354">
                  <c:v>44.361864</c:v>
                </c:pt>
                <c:pt idx="1355">
                  <c:v>44.738875</c:v>
                </c:pt>
                <c:pt idx="1356">
                  <c:v>45.118016</c:v>
                </c:pt>
                <c:pt idx="1357">
                  <c:v>45.499293</c:v>
                </c:pt>
                <c:pt idx="1358">
                  <c:v>45.882712</c:v>
                </c:pt>
                <c:pt idx="1359">
                  <c:v>46.268279</c:v>
                </c:pt>
                <c:pt idx="1360">
                  <c:v>46.656</c:v>
                </c:pt>
                <c:pt idx="1361">
                  <c:v>47.045881</c:v>
                </c:pt>
                <c:pt idx="1362">
                  <c:v>47.437928</c:v>
                </c:pt>
                <c:pt idx="1363">
                  <c:v>47.832147</c:v>
                </c:pt>
                <c:pt idx="1364">
                  <c:v>48.228544</c:v>
                </c:pt>
                <c:pt idx="1365">
                  <c:v>48.627125</c:v>
                </c:pt>
                <c:pt idx="1366">
                  <c:v>49.027896</c:v>
                </c:pt>
                <c:pt idx="1367">
                  <c:v>49.430863</c:v>
                </c:pt>
                <c:pt idx="1368">
                  <c:v>49.836032</c:v>
                </c:pt>
                <c:pt idx="1369">
                  <c:v>50.243409</c:v>
                </c:pt>
                <c:pt idx="1370">
                  <c:v>50.6530000000001</c:v>
                </c:pt>
                <c:pt idx="1371">
                  <c:v>51.064811</c:v>
                </c:pt>
                <c:pt idx="1372">
                  <c:v>51.478848</c:v>
                </c:pt>
                <c:pt idx="1373">
                  <c:v>51.895117</c:v>
                </c:pt>
                <c:pt idx="1374">
                  <c:v>52.313624</c:v>
                </c:pt>
                <c:pt idx="1375">
                  <c:v>52.734375</c:v>
                </c:pt>
                <c:pt idx="1376">
                  <c:v>53.157376</c:v>
                </c:pt>
                <c:pt idx="1377">
                  <c:v>53.582633</c:v>
                </c:pt>
                <c:pt idx="1378">
                  <c:v>54.0101520000001</c:v>
                </c:pt>
                <c:pt idx="1379">
                  <c:v>54.439939</c:v>
                </c:pt>
                <c:pt idx="1380">
                  <c:v>54.872</c:v>
                </c:pt>
                <c:pt idx="1381">
                  <c:v>55.306341</c:v>
                </c:pt>
                <c:pt idx="1382">
                  <c:v>55.742968</c:v>
                </c:pt>
                <c:pt idx="1383">
                  <c:v>56.181887</c:v>
                </c:pt>
                <c:pt idx="1384">
                  <c:v>56.623104</c:v>
                </c:pt>
                <c:pt idx="1385">
                  <c:v>57.066625</c:v>
                </c:pt>
                <c:pt idx="1386">
                  <c:v>57.512456</c:v>
                </c:pt>
                <c:pt idx="1387">
                  <c:v>57.960603</c:v>
                </c:pt>
                <c:pt idx="1388">
                  <c:v>58.411072</c:v>
                </c:pt>
                <c:pt idx="1389">
                  <c:v>58.863869</c:v>
                </c:pt>
                <c:pt idx="1390">
                  <c:v>59.319</c:v>
                </c:pt>
                <c:pt idx="1391">
                  <c:v>59.776471</c:v>
                </c:pt>
                <c:pt idx="1392">
                  <c:v>60.236288</c:v>
                </c:pt>
                <c:pt idx="1393">
                  <c:v>60.698457</c:v>
                </c:pt>
                <c:pt idx="1394">
                  <c:v>61.162984</c:v>
                </c:pt>
                <c:pt idx="1395">
                  <c:v>61.6298750000001</c:v>
                </c:pt>
                <c:pt idx="1396">
                  <c:v>62.099136</c:v>
                </c:pt>
                <c:pt idx="1397">
                  <c:v>62.570773</c:v>
                </c:pt>
                <c:pt idx="1398">
                  <c:v>63.044792</c:v>
                </c:pt>
                <c:pt idx="1399">
                  <c:v>63.521199</c:v>
                </c:pt>
                <c:pt idx="1400">
                  <c:v>64</c:v>
                </c:pt>
                <c:pt idx="1401">
                  <c:v>64.481201</c:v>
                </c:pt>
                <c:pt idx="1402">
                  <c:v>64.964808</c:v>
                </c:pt>
                <c:pt idx="1403">
                  <c:v>65.4508270000001</c:v>
                </c:pt>
                <c:pt idx="1404">
                  <c:v>65.9392640000001</c:v>
                </c:pt>
                <c:pt idx="1405">
                  <c:v>66.4301250000001</c:v>
                </c:pt>
                <c:pt idx="1406">
                  <c:v>66.923416</c:v>
                </c:pt>
                <c:pt idx="1407">
                  <c:v>67.419143</c:v>
                </c:pt>
                <c:pt idx="1408">
                  <c:v>67.917312</c:v>
                </c:pt>
                <c:pt idx="1409">
                  <c:v>68.417929</c:v>
                </c:pt>
                <c:pt idx="1410">
                  <c:v>68.921</c:v>
                </c:pt>
                <c:pt idx="1411">
                  <c:v>69.426531</c:v>
                </c:pt>
                <c:pt idx="1412">
                  <c:v>69.9345280000001</c:v>
                </c:pt>
                <c:pt idx="1413">
                  <c:v>70.444997</c:v>
                </c:pt>
                <c:pt idx="1414">
                  <c:v>70.957944</c:v>
                </c:pt>
                <c:pt idx="1415">
                  <c:v>71.473375</c:v>
                </c:pt>
                <c:pt idx="1416">
                  <c:v>71.991296</c:v>
                </c:pt>
                <c:pt idx="1417">
                  <c:v>72.511713</c:v>
                </c:pt>
                <c:pt idx="1418">
                  <c:v>73.034632</c:v>
                </c:pt>
                <c:pt idx="1419">
                  <c:v>73.560059</c:v>
                </c:pt>
                <c:pt idx="1420">
                  <c:v>74.0880000000001</c:v>
                </c:pt>
                <c:pt idx="1421">
                  <c:v>74.618461</c:v>
                </c:pt>
                <c:pt idx="1422">
                  <c:v>75.151448</c:v>
                </c:pt>
                <c:pt idx="1423">
                  <c:v>75.686967</c:v>
                </c:pt>
                <c:pt idx="1424">
                  <c:v>76.225024</c:v>
                </c:pt>
                <c:pt idx="1425">
                  <c:v>76.765625</c:v>
                </c:pt>
                <c:pt idx="1426">
                  <c:v>77.308776</c:v>
                </c:pt>
                <c:pt idx="1427">
                  <c:v>77.854483</c:v>
                </c:pt>
                <c:pt idx="1428">
                  <c:v>78.4027520000001</c:v>
                </c:pt>
                <c:pt idx="1429">
                  <c:v>78.9535890000001</c:v>
                </c:pt>
                <c:pt idx="1430">
                  <c:v>79.507</c:v>
                </c:pt>
                <c:pt idx="1431">
                  <c:v>80.062991</c:v>
                </c:pt>
                <c:pt idx="1432">
                  <c:v>80.621568</c:v>
                </c:pt>
                <c:pt idx="1433">
                  <c:v>81.182737</c:v>
                </c:pt>
                <c:pt idx="1434">
                  <c:v>81.746504</c:v>
                </c:pt>
                <c:pt idx="1435">
                  <c:v>82.312875</c:v>
                </c:pt>
                <c:pt idx="1436">
                  <c:v>82.881856</c:v>
                </c:pt>
                <c:pt idx="1437">
                  <c:v>83.4534530000001</c:v>
                </c:pt>
                <c:pt idx="1438">
                  <c:v>84.0276720000001</c:v>
                </c:pt>
                <c:pt idx="1439">
                  <c:v>84.604519</c:v>
                </c:pt>
                <c:pt idx="1440">
                  <c:v>85.184</c:v>
                </c:pt>
                <c:pt idx="1441">
                  <c:v>85.766121</c:v>
                </c:pt>
                <c:pt idx="1442">
                  <c:v>86.350888</c:v>
                </c:pt>
                <c:pt idx="1443">
                  <c:v>86.938307</c:v>
                </c:pt>
                <c:pt idx="1444">
                  <c:v>87.528384</c:v>
                </c:pt>
                <c:pt idx="1445">
                  <c:v>88.1211250000001</c:v>
                </c:pt>
                <c:pt idx="1446">
                  <c:v>88.7165360000001</c:v>
                </c:pt>
                <c:pt idx="1447">
                  <c:v>89.314623</c:v>
                </c:pt>
                <c:pt idx="1448">
                  <c:v>89.915392</c:v>
                </c:pt>
                <c:pt idx="1449">
                  <c:v>90.518849</c:v>
                </c:pt>
                <c:pt idx="1450">
                  <c:v>91.125</c:v>
                </c:pt>
                <c:pt idx="1451">
                  <c:v>91.733851</c:v>
                </c:pt>
                <c:pt idx="1452">
                  <c:v>92.345408</c:v>
                </c:pt>
                <c:pt idx="1453">
                  <c:v>92.9596770000001</c:v>
                </c:pt>
                <c:pt idx="1454">
                  <c:v>93.5766640000001</c:v>
                </c:pt>
                <c:pt idx="1455">
                  <c:v>94.1963750000001</c:v>
                </c:pt>
                <c:pt idx="1456">
                  <c:v>94.818816</c:v>
                </c:pt>
                <c:pt idx="1457">
                  <c:v>95.443993</c:v>
                </c:pt>
                <c:pt idx="1458">
                  <c:v>96.071912</c:v>
                </c:pt>
                <c:pt idx="1459">
                  <c:v>96.702579</c:v>
                </c:pt>
                <c:pt idx="1460">
                  <c:v>97.336</c:v>
                </c:pt>
                <c:pt idx="1461">
                  <c:v>97.972181</c:v>
                </c:pt>
                <c:pt idx="1462">
                  <c:v>98.6111280000001</c:v>
                </c:pt>
                <c:pt idx="1463">
                  <c:v>99.2528470000001</c:v>
                </c:pt>
                <c:pt idx="1464">
                  <c:v>99.897344</c:v>
                </c:pt>
                <c:pt idx="1465">
                  <c:v>100.544625</c:v>
                </c:pt>
                <c:pt idx="1466">
                  <c:v>101.194696</c:v>
                </c:pt>
                <c:pt idx="1467">
                  <c:v>101.847563</c:v>
                </c:pt>
                <c:pt idx="1468">
                  <c:v>102.503232</c:v>
                </c:pt>
                <c:pt idx="1469">
                  <c:v>103.161709</c:v>
                </c:pt>
                <c:pt idx="1470">
                  <c:v>103.823</c:v>
                </c:pt>
                <c:pt idx="1471">
                  <c:v>104.487111</c:v>
                </c:pt>
                <c:pt idx="1472">
                  <c:v>105.154048</c:v>
                </c:pt>
                <c:pt idx="1473">
                  <c:v>105.823817</c:v>
                </c:pt>
                <c:pt idx="1474">
                  <c:v>106.496424</c:v>
                </c:pt>
                <c:pt idx="1475">
                  <c:v>107.171875</c:v>
                </c:pt>
                <c:pt idx="1476">
                  <c:v>107.850176</c:v>
                </c:pt>
                <c:pt idx="1477">
                  <c:v>108.531333</c:v>
                </c:pt>
                <c:pt idx="1478">
                  <c:v>109.215352</c:v>
                </c:pt>
                <c:pt idx="1479">
                  <c:v>109.902239</c:v>
                </c:pt>
                <c:pt idx="1480">
                  <c:v>110.592</c:v>
                </c:pt>
                <c:pt idx="1481">
                  <c:v>111.284641</c:v>
                </c:pt>
                <c:pt idx="1482">
                  <c:v>111.980168</c:v>
                </c:pt>
                <c:pt idx="1483">
                  <c:v>112.678587</c:v>
                </c:pt>
                <c:pt idx="1484">
                  <c:v>113.379904</c:v>
                </c:pt>
                <c:pt idx="1485">
                  <c:v>114.084125</c:v>
                </c:pt>
                <c:pt idx="1486">
                  <c:v>114.791256</c:v>
                </c:pt>
                <c:pt idx="1487">
                  <c:v>115.501303</c:v>
                </c:pt>
                <c:pt idx="1488">
                  <c:v>116.214272</c:v>
                </c:pt>
                <c:pt idx="1489">
                  <c:v>116.930169</c:v>
                </c:pt>
                <c:pt idx="1490">
                  <c:v>117.649</c:v>
                </c:pt>
                <c:pt idx="1491">
                  <c:v>118.370771</c:v>
                </c:pt>
                <c:pt idx="1492">
                  <c:v>119.095488</c:v>
                </c:pt>
                <c:pt idx="1493">
                  <c:v>119.823157</c:v>
                </c:pt>
                <c:pt idx="1494">
                  <c:v>120.553784</c:v>
                </c:pt>
                <c:pt idx="1495">
                  <c:v>121.287375</c:v>
                </c:pt>
                <c:pt idx="1496">
                  <c:v>122.023936</c:v>
                </c:pt>
                <c:pt idx="1497">
                  <c:v>122.763473</c:v>
                </c:pt>
                <c:pt idx="1498">
                  <c:v>123.505992</c:v>
                </c:pt>
                <c:pt idx="1499">
                  <c:v>124.251499</c:v>
                </c:pt>
                <c:pt idx="1500">
                  <c:v>125</c:v>
                </c:pt>
                <c:pt idx="1501">
                  <c:v>125.751501</c:v>
                </c:pt>
                <c:pt idx="1502">
                  <c:v>126.506008</c:v>
                </c:pt>
                <c:pt idx="1503">
                  <c:v>127.263527</c:v>
                </c:pt>
                <c:pt idx="1504">
                  <c:v>128.024064</c:v>
                </c:pt>
                <c:pt idx="1505">
                  <c:v>128.787625</c:v>
                </c:pt>
                <c:pt idx="1506">
                  <c:v>129.554216</c:v>
                </c:pt>
                <c:pt idx="1507">
                  <c:v>130.323843</c:v>
                </c:pt>
                <c:pt idx="1508">
                  <c:v>131.096512</c:v>
                </c:pt>
                <c:pt idx="1509">
                  <c:v>131.872229</c:v>
                </c:pt>
                <c:pt idx="1510">
                  <c:v>132.651</c:v>
                </c:pt>
                <c:pt idx="1511">
                  <c:v>133.432831</c:v>
                </c:pt>
                <c:pt idx="1512">
                  <c:v>134.217728</c:v>
                </c:pt>
                <c:pt idx="1513">
                  <c:v>135.005697</c:v>
                </c:pt>
                <c:pt idx="1514">
                  <c:v>135.796744</c:v>
                </c:pt>
                <c:pt idx="1515">
                  <c:v>136.590875</c:v>
                </c:pt>
                <c:pt idx="1516">
                  <c:v>137.388096</c:v>
                </c:pt>
                <c:pt idx="1517">
                  <c:v>138.188413</c:v>
                </c:pt>
                <c:pt idx="1518">
                  <c:v>138.991832</c:v>
                </c:pt>
                <c:pt idx="1519">
                  <c:v>139.798359</c:v>
                </c:pt>
                <c:pt idx="1520">
                  <c:v>140.608</c:v>
                </c:pt>
                <c:pt idx="1521">
                  <c:v>141.420761</c:v>
                </c:pt>
                <c:pt idx="1522">
                  <c:v>142.236648</c:v>
                </c:pt>
                <c:pt idx="1523">
                  <c:v>143.055667</c:v>
                </c:pt>
                <c:pt idx="1524">
                  <c:v>143.877824</c:v>
                </c:pt>
                <c:pt idx="1525">
                  <c:v>144.703125</c:v>
                </c:pt>
                <c:pt idx="1526">
                  <c:v>145.531576</c:v>
                </c:pt>
                <c:pt idx="1527">
                  <c:v>146.363183</c:v>
                </c:pt>
                <c:pt idx="1528">
                  <c:v>147.197952</c:v>
                </c:pt>
                <c:pt idx="1529">
                  <c:v>148.035889</c:v>
                </c:pt>
                <c:pt idx="1530">
                  <c:v>148.877</c:v>
                </c:pt>
                <c:pt idx="1531">
                  <c:v>149.721291</c:v>
                </c:pt>
                <c:pt idx="1532">
                  <c:v>150.568768</c:v>
                </c:pt>
                <c:pt idx="1533">
                  <c:v>151.419437</c:v>
                </c:pt>
                <c:pt idx="1534">
                  <c:v>152.273304</c:v>
                </c:pt>
                <c:pt idx="1535">
                  <c:v>153.130375</c:v>
                </c:pt>
                <c:pt idx="1536">
                  <c:v>153.990656</c:v>
                </c:pt>
                <c:pt idx="1537">
                  <c:v>154.854153</c:v>
                </c:pt>
                <c:pt idx="1538">
                  <c:v>155.720872</c:v>
                </c:pt>
                <c:pt idx="1539">
                  <c:v>156.590819</c:v>
                </c:pt>
                <c:pt idx="1540">
                  <c:v>157.464</c:v>
                </c:pt>
                <c:pt idx="1541">
                  <c:v>158.340421</c:v>
                </c:pt>
                <c:pt idx="1542">
                  <c:v>159.220088</c:v>
                </c:pt>
                <c:pt idx="1543">
                  <c:v>160.103007</c:v>
                </c:pt>
                <c:pt idx="1544">
                  <c:v>160.989184</c:v>
                </c:pt>
                <c:pt idx="1545">
                  <c:v>161.878625</c:v>
                </c:pt>
                <c:pt idx="1546">
                  <c:v>162.771336</c:v>
                </c:pt>
                <c:pt idx="1547">
                  <c:v>163.667323</c:v>
                </c:pt>
                <c:pt idx="1548">
                  <c:v>164.566592</c:v>
                </c:pt>
                <c:pt idx="1549">
                  <c:v>165.469149</c:v>
                </c:pt>
                <c:pt idx="1550">
                  <c:v>166.375</c:v>
                </c:pt>
                <c:pt idx="1551">
                  <c:v>167.284151</c:v>
                </c:pt>
                <c:pt idx="1552">
                  <c:v>168.196608</c:v>
                </c:pt>
                <c:pt idx="1553">
                  <c:v>169.112377</c:v>
                </c:pt>
                <c:pt idx="1554">
                  <c:v>170.031464</c:v>
                </c:pt>
                <c:pt idx="1555">
                  <c:v>170.953875</c:v>
                </c:pt>
                <c:pt idx="1556">
                  <c:v>171.879616</c:v>
                </c:pt>
                <c:pt idx="1557">
                  <c:v>172.808693</c:v>
                </c:pt>
                <c:pt idx="1558">
                  <c:v>173.741112</c:v>
                </c:pt>
                <c:pt idx="1559">
                  <c:v>174.676879</c:v>
                </c:pt>
                <c:pt idx="1560">
                  <c:v>175.616</c:v>
                </c:pt>
                <c:pt idx="1561">
                  <c:v>176.558481</c:v>
                </c:pt>
                <c:pt idx="1562">
                  <c:v>177.504328</c:v>
                </c:pt>
                <c:pt idx="1563">
                  <c:v>178.453547</c:v>
                </c:pt>
                <c:pt idx="1564">
                  <c:v>179.406144</c:v>
                </c:pt>
                <c:pt idx="1565">
                  <c:v>180.362125</c:v>
                </c:pt>
                <c:pt idx="1566">
                  <c:v>181.321496</c:v>
                </c:pt>
                <c:pt idx="1567">
                  <c:v>182.284263</c:v>
                </c:pt>
                <c:pt idx="1568">
                  <c:v>183.250432</c:v>
                </c:pt>
                <c:pt idx="1569">
                  <c:v>184.220009</c:v>
                </c:pt>
                <c:pt idx="1570">
                  <c:v>185.193</c:v>
                </c:pt>
                <c:pt idx="1571">
                  <c:v>186.169411</c:v>
                </c:pt>
                <c:pt idx="1572">
                  <c:v>187.149248</c:v>
                </c:pt>
                <c:pt idx="1573">
                  <c:v>188.132517</c:v>
                </c:pt>
                <c:pt idx="1574">
                  <c:v>189.119224</c:v>
                </c:pt>
                <c:pt idx="1575">
                  <c:v>190.109375</c:v>
                </c:pt>
                <c:pt idx="1576">
                  <c:v>191.102976</c:v>
                </c:pt>
                <c:pt idx="1577">
                  <c:v>192.100033</c:v>
                </c:pt>
                <c:pt idx="1578">
                  <c:v>193.100552</c:v>
                </c:pt>
                <c:pt idx="1579">
                  <c:v>194.104539</c:v>
                </c:pt>
                <c:pt idx="1580">
                  <c:v>195.112</c:v>
                </c:pt>
                <c:pt idx="1581">
                  <c:v>196.122941</c:v>
                </c:pt>
                <c:pt idx="1582">
                  <c:v>197.137368</c:v>
                </c:pt>
                <c:pt idx="1583">
                  <c:v>198.155287</c:v>
                </c:pt>
                <c:pt idx="1584">
                  <c:v>199.176704</c:v>
                </c:pt>
                <c:pt idx="1585">
                  <c:v>200.201625</c:v>
                </c:pt>
                <c:pt idx="1586">
                  <c:v>201.230056</c:v>
                </c:pt>
                <c:pt idx="1587">
                  <c:v>202.262003</c:v>
                </c:pt>
                <c:pt idx="1588">
                  <c:v>203.297472</c:v>
                </c:pt>
                <c:pt idx="1589">
                  <c:v>204.336469</c:v>
                </c:pt>
                <c:pt idx="1590">
                  <c:v>205.379</c:v>
                </c:pt>
                <c:pt idx="1591">
                  <c:v>206.425071</c:v>
                </c:pt>
                <c:pt idx="1592">
                  <c:v>207.474688</c:v>
                </c:pt>
                <c:pt idx="1593">
                  <c:v>208.527857</c:v>
                </c:pt>
                <c:pt idx="1594">
                  <c:v>209.584584</c:v>
                </c:pt>
                <c:pt idx="1595">
                  <c:v>210.644875</c:v>
                </c:pt>
                <c:pt idx="1596">
                  <c:v>211.708736</c:v>
                </c:pt>
                <c:pt idx="1597">
                  <c:v>212.776173</c:v>
                </c:pt>
                <c:pt idx="1598">
                  <c:v>213.847192</c:v>
                </c:pt>
                <c:pt idx="1599">
                  <c:v>214.921799</c:v>
                </c:pt>
                <c:pt idx="1600">
                  <c:v>216</c:v>
                </c:pt>
                <c:pt idx="1601">
                  <c:v>217.081801</c:v>
                </c:pt>
                <c:pt idx="1602">
                  <c:v>218.167208</c:v>
                </c:pt>
                <c:pt idx="1603">
                  <c:v>219.256227</c:v>
                </c:pt>
                <c:pt idx="1604">
                  <c:v>220.348864</c:v>
                </c:pt>
                <c:pt idx="1605">
                  <c:v>221.445125</c:v>
                </c:pt>
                <c:pt idx="1606">
                  <c:v>222.545016</c:v>
                </c:pt>
                <c:pt idx="1607">
                  <c:v>223.648543</c:v>
                </c:pt>
                <c:pt idx="1608">
                  <c:v>224.755712</c:v>
                </c:pt>
                <c:pt idx="1609">
                  <c:v>225.866529</c:v>
                </c:pt>
                <c:pt idx="1610">
                  <c:v>226.981</c:v>
                </c:pt>
                <c:pt idx="1611">
                  <c:v>228.099131</c:v>
                </c:pt>
                <c:pt idx="1612">
                  <c:v>229.220928</c:v>
                </c:pt>
                <c:pt idx="1613">
                  <c:v>230.346397</c:v>
                </c:pt>
                <c:pt idx="1614">
                  <c:v>231.475544</c:v>
                </c:pt>
                <c:pt idx="1615">
                  <c:v>232.608375</c:v>
                </c:pt>
                <c:pt idx="1616">
                  <c:v>233.744896</c:v>
                </c:pt>
                <c:pt idx="1617">
                  <c:v>234.885113</c:v>
                </c:pt>
                <c:pt idx="1618">
                  <c:v>236.029032</c:v>
                </c:pt>
                <c:pt idx="1619">
                  <c:v>237.176659</c:v>
                </c:pt>
                <c:pt idx="1620">
                  <c:v>238.328</c:v>
                </c:pt>
                <c:pt idx="1621">
                  <c:v>239.483061</c:v>
                </c:pt>
                <c:pt idx="1622">
                  <c:v>240.641848</c:v>
                </c:pt>
                <c:pt idx="1623">
                  <c:v>241.804367</c:v>
                </c:pt>
                <c:pt idx="1624">
                  <c:v>242.970624</c:v>
                </c:pt>
                <c:pt idx="1625">
                  <c:v>244.140625</c:v>
                </c:pt>
                <c:pt idx="1626">
                  <c:v>245.314376</c:v>
                </c:pt>
                <c:pt idx="1627">
                  <c:v>246.491883</c:v>
                </c:pt>
                <c:pt idx="1628">
                  <c:v>247.673152</c:v>
                </c:pt>
                <c:pt idx="1629">
                  <c:v>248.858189</c:v>
                </c:pt>
                <c:pt idx="1630">
                  <c:v>250.047</c:v>
                </c:pt>
                <c:pt idx="1631">
                  <c:v>251.239591</c:v>
                </c:pt>
                <c:pt idx="1632">
                  <c:v>252.435968</c:v>
                </c:pt>
                <c:pt idx="1633">
                  <c:v>253.636137</c:v>
                </c:pt>
                <c:pt idx="1634">
                  <c:v>254.840104</c:v>
                </c:pt>
                <c:pt idx="1635">
                  <c:v>256.047875</c:v>
                </c:pt>
                <c:pt idx="1636">
                  <c:v>257.259456</c:v>
                </c:pt>
                <c:pt idx="1637">
                  <c:v>258.474853</c:v>
                </c:pt>
                <c:pt idx="1638">
                  <c:v>259.694072</c:v>
                </c:pt>
                <c:pt idx="1639">
                  <c:v>260.917119</c:v>
                </c:pt>
                <c:pt idx="1640">
                  <c:v>262.144</c:v>
                </c:pt>
                <c:pt idx="1641">
                  <c:v>263.374721</c:v>
                </c:pt>
                <c:pt idx="1642">
                  <c:v>264.609288</c:v>
                </c:pt>
                <c:pt idx="1643">
                  <c:v>265.847707</c:v>
                </c:pt>
                <c:pt idx="1644">
                  <c:v>267.089984</c:v>
                </c:pt>
                <c:pt idx="1645">
                  <c:v>268.336125</c:v>
                </c:pt>
                <c:pt idx="1646">
                  <c:v>269.586136</c:v>
                </c:pt>
                <c:pt idx="1647">
                  <c:v>270.840023</c:v>
                </c:pt>
                <c:pt idx="1648">
                  <c:v>272.097792</c:v>
                </c:pt>
                <c:pt idx="1649">
                  <c:v>273.359449</c:v>
                </c:pt>
                <c:pt idx="1650">
                  <c:v>274.625</c:v>
                </c:pt>
                <c:pt idx="1651">
                  <c:v>275.894451</c:v>
                </c:pt>
                <c:pt idx="1652">
                  <c:v>277.167808</c:v>
                </c:pt>
                <c:pt idx="1653">
                  <c:v>278.445077</c:v>
                </c:pt>
                <c:pt idx="1654">
                  <c:v>279.726264</c:v>
                </c:pt>
                <c:pt idx="1655">
                  <c:v>281.011375</c:v>
                </c:pt>
                <c:pt idx="1656">
                  <c:v>282.300416</c:v>
                </c:pt>
                <c:pt idx="1657">
                  <c:v>283.593393</c:v>
                </c:pt>
                <c:pt idx="1658">
                  <c:v>284.890312</c:v>
                </c:pt>
                <c:pt idx="1659">
                  <c:v>286.191179</c:v>
                </c:pt>
                <c:pt idx="1660">
                  <c:v>287.496</c:v>
                </c:pt>
                <c:pt idx="1661">
                  <c:v>288.804781</c:v>
                </c:pt>
                <c:pt idx="1662">
                  <c:v>290.117528</c:v>
                </c:pt>
                <c:pt idx="1663">
                  <c:v>291.434247</c:v>
                </c:pt>
                <c:pt idx="1664">
                  <c:v>292.754944</c:v>
                </c:pt>
                <c:pt idx="1665">
                  <c:v>294.079625</c:v>
                </c:pt>
                <c:pt idx="1666">
                  <c:v>295.408296</c:v>
                </c:pt>
                <c:pt idx="1667">
                  <c:v>296.740963</c:v>
                </c:pt>
                <c:pt idx="1668">
                  <c:v>298.077632</c:v>
                </c:pt>
                <c:pt idx="1669">
                  <c:v>299.418309</c:v>
                </c:pt>
                <c:pt idx="1670">
                  <c:v>300.763</c:v>
                </c:pt>
                <c:pt idx="1671">
                  <c:v>302.111711</c:v>
                </c:pt>
                <c:pt idx="1672">
                  <c:v>303.464448</c:v>
                </c:pt>
                <c:pt idx="1673">
                  <c:v>304.821217</c:v>
                </c:pt>
                <c:pt idx="1674">
                  <c:v>306.182024</c:v>
                </c:pt>
                <c:pt idx="1675">
                  <c:v>307.546875</c:v>
                </c:pt>
                <c:pt idx="1676">
                  <c:v>308.915776</c:v>
                </c:pt>
                <c:pt idx="1677">
                  <c:v>310.288733</c:v>
                </c:pt>
                <c:pt idx="1678">
                  <c:v>311.665752</c:v>
                </c:pt>
                <c:pt idx="1679">
                  <c:v>313.046839</c:v>
                </c:pt>
                <c:pt idx="1680">
                  <c:v>314.432</c:v>
                </c:pt>
                <c:pt idx="1681">
                  <c:v>315.821241</c:v>
                </c:pt>
                <c:pt idx="1682">
                  <c:v>317.214568</c:v>
                </c:pt>
                <c:pt idx="1683">
                  <c:v>318.611987</c:v>
                </c:pt>
                <c:pt idx="1684">
                  <c:v>320.013504</c:v>
                </c:pt>
                <c:pt idx="1685">
                  <c:v>321.419125</c:v>
                </c:pt>
                <c:pt idx="1686">
                  <c:v>322.828856</c:v>
                </c:pt>
                <c:pt idx="1687">
                  <c:v>324.242703</c:v>
                </c:pt>
                <c:pt idx="1688">
                  <c:v>325.660672</c:v>
                </c:pt>
                <c:pt idx="1689">
                  <c:v>327.082769</c:v>
                </c:pt>
                <c:pt idx="1690">
                  <c:v>328.509</c:v>
                </c:pt>
                <c:pt idx="1691">
                  <c:v>329.939371</c:v>
                </c:pt>
                <c:pt idx="1692">
                  <c:v>331.373888</c:v>
                </c:pt>
                <c:pt idx="1693">
                  <c:v>332.812557</c:v>
                </c:pt>
                <c:pt idx="1694">
                  <c:v>334.255384</c:v>
                </c:pt>
                <c:pt idx="1695">
                  <c:v>335.702375</c:v>
                </c:pt>
                <c:pt idx="1696">
                  <c:v>337.153536</c:v>
                </c:pt>
                <c:pt idx="1697">
                  <c:v>338.608873</c:v>
                </c:pt>
                <c:pt idx="1698">
                  <c:v>340.068392</c:v>
                </c:pt>
                <c:pt idx="1699">
                  <c:v>341.532099</c:v>
                </c:pt>
                <c:pt idx="1700">
                  <c:v>343</c:v>
                </c:pt>
                <c:pt idx="1701">
                  <c:v>344.472101</c:v>
                </c:pt>
                <c:pt idx="1702">
                  <c:v>345.948408</c:v>
                </c:pt>
                <c:pt idx="1703">
                  <c:v>347.428927</c:v>
                </c:pt>
                <c:pt idx="1704">
                  <c:v>348.913664</c:v>
                </c:pt>
                <c:pt idx="1705">
                  <c:v>350.402625</c:v>
                </c:pt>
                <c:pt idx="1706">
                  <c:v>351.895816</c:v>
                </c:pt>
                <c:pt idx="1707">
                  <c:v>353.393243</c:v>
                </c:pt>
                <c:pt idx="1708">
                  <c:v>354.894912</c:v>
                </c:pt>
                <c:pt idx="1709">
                  <c:v>356.400829</c:v>
                </c:pt>
                <c:pt idx="1710">
                  <c:v>357.911</c:v>
                </c:pt>
                <c:pt idx="1711">
                  <c:v>359.425431</c:v>
                </c:pt>
                <c:pt idx="1712">
                  <c:v>360.944128</c:v>
                </c:pt>
                <c:pt idx="1713">
                  <c:v>362.467097</c:v>
                </c:pt>
                <c:pt idx="1714">
                  <c:v>363.994344</c:v>
                </c:pt>
                <c:pt idx="1715">
                  <c:v>365.525875</c:v>
                </c:pt>
                <c:pt idx="1716">
                  <c:v>367.061696</c:v>
                </c:pt>
                <c:pt idx="1717">
                  <c:v>368.601813</c:v>
                </c:pt>
                <c:pt idx="1718">
                  <c:v>370.146232</c:v>
                </c:pt>
                <c:pt idx="1719">
                  <c:v>371.694959</c:v>
                </c:pt>
                <c:pt idx="1720">
                  <c:v>373.248</c:v>
                </c:pt>
                <c:pt idx="1721">
                  <c:v>374.805361</c:v>
                </c:pt>
                <c:pt idx="1722">
                  <c:v>376.367048</c:v>
                </c:pt>
                <c:pt idx="1723">
                  <c:v>377.933067</c:v>
                </c:pt>
                <c:pt idx="1724">
                  <c:v>379.503424</c:v>
                </c:pt>
                <c:pt idx="1725">
                  <c:v>381.078125</c:v>
                </c:pt>
                <c:pt idx="1726">
                  <c:v>382.657176</c:v>
                </c:pt>
                <c:pt idx="1727">
                  <c:v>384.240583</c:v>
                </c:pt>
                <c:pt idx="1728">
                  <c:v>385.828352</c:v>
                </c:pt>
                <c:pt idx="1729">
                  <c:v>387.420489</c:v>
                </c:pt>
                <c:pt idx="1730">
                  <c:v>389.017</c:v>
                </c:pt>
                <c:pt idx="1731">
                  <c:v>390.617891</c:v>
                </c:pt>
                <c:pt idx="1732">
                  <c:v>392.223168</c:v>
                </c:pt>
                <c:pt idx="1733">
                  <c:v>393.832837</c:v>
                </c:pt>
                <c:pt idx="1734">
                  <c:v>395.446904</c:v>
                </c:pt>
                <c:pt idx="1735">
                  <c:v>397.065375</c:v>
                </c:pt>
                <c:pt idx="1736">
                  <c:v>398.688256</c:v>
                </c:pt>
                <c:pt idx="1737">
                  <c:v>400.315553</c:v>
                </c:pt>
                <c:pt idx="1738">
                  <c:v>401.947272</c:v>
                </c:pt>
                <c:pt idx="1739">
                  <c:v>403.583419</c:v>
                </c:pt>
                <c:pt idx="1740">
                  <c:v>405.224</c:v>
                </c:pt>
                <c:pt idx="1741">
                  <c:v>406.869021</c:v>
                </c:pt>
                <c:pt idx="1742">
                  <c:v>408.518488</c:v>
                </c:pt>
                <c:pt idx="1743">
                  <c:v>410.172407</c:v>
                </c:pt>
                <c:pt idx="1744">
                  <c:v>411.830784</c:v>
                </c:pt>
                <c:pt idx="1745">
                  <c:v>413.493625</c:v>
                </c:pt>
                <c:pt idx="1746">
                  <c:v>415.160936</c:v>
                </c:pt>
                <c:pt idx="1747">
                  <c:v>416.832723</c:v>
                </c:pt>
                <c:pt idx="1748">
                  <c:v>418.508992</c:v>
                </c:pt>
                <c:pt idx="1749">
                  <c:v>420.189749</c:v>
                </c:pt>
                <c:pt idx="1750">
                  <c:v>421.875</c:v>
                </c:pt>
                <c:pt idx="1751">
                  <c:v>423.564751</c:v>
                </c:pt>
                <c:pt idx="1752">
                  <c:v>425.259008</c:v>
                </c:pt>
                <c:pt idx="1753">
                  <c:v>426.957777</c:v>
                </c:pt>
                <c:pt idx="1754">
                  <c:v>428.661064</c:v>
                </c:pt>
                <c:pt idx="1755">
                  <c:v>430.368875</c:v>
                </c:pt>
                <c:pt idx="1756">
                  <c:v>432.081216</c:v>
                </c:pt>
                <c:pt idx="1757">
                  <c:v>433.798093</c:v>
                </c:pt>
                <c:pt idx="1758">
                  <c:v>435.519512</c:v>
                </c:pt>
                <c:pt idx="1759">
                  <c:v>437.245479</c:v>
                </c:pt>
                <c:pt idx="1760">
                  <c:v>438.976</c:v>
                </c:pt>
                <c:pt idx="1761">
                  <c:v>440.711081</c:v>
                </c:pt>
                <c:pt idx="1762">
                  <c:v>442.450728</c:v>
                </c:pt>
                <c:pt idx="1763">
                  <c:v>444.194947</c:v>
                </c:pt>
                <c:pt idx="1764">
                  <c:v>445.943744</c:v>
                </c:pt>
                <c:pt idx="1765">
                  <c:v>447.697125</c:v>
                </c:pt>
                <c:pt idx="1766">
                  <c:v>449.455096</c:v>
                </c:pt>
                <c:pt idx="1767">
                  <c:v>451.217663</c:v>
                </c:pt>
                <c:pt idx="1768">
                  <c:v>452.984832</c:v>
                </c:pt>
                <c:pt idx="1769">
                  <c:v>454.756609</c:v>
                </c:pt>
                <c:pt idx="1770">
                  <c:v>456.533</c:v>
                </c:pt>
                <c:pt idx="1771">
                  <c:v>458.314011</c:v>
                </c:pt>
                <c:pt idx="1772">
                  <c:v>460.099648</c:v>
                </c:pt>
                <c:pt idx="1773">
                  <c:v>461.889917</c:v>
                </c:pt>
                <c:pt idx="1774">
                  <c:v>463.684824</c:v>
                </c:pt>
                <c:pt idx="1775">
                  <c:v>465.484375</c:v>
                </c:pt>
                <c:pt idx="1776">
                  <c:v>467.288576</c:v>
                </c:pt>
                <c:pt idx="1777">
                  <c:v>469.097433</c:v>
                </c:pt>
                <c:pt idx="1778">
                  <c:v>470.910952</c:v>
                </c:pt>
                <c:pt idx="1779">
                  <c:v>472.729139</c:v>
                </c:pt>
                <c:pt idx="1780">
                  <c:v>474.552</c:v>
                </c:pt>
                <c:pt idx="1781">
                  <c:v>476.379541</c:v>
                </c:pt>
                <c:pt idx="1782">
                  <c:v>478.211768</c:v>
                </c:pt>
                <c:pt idx="1783">
                  <c:v>480.048687</c:v>
                </c:pt>
                <c:pt idx="1784">
                  <c:v>481.890304</c:v>
                </c:pt>
                <c:pt idx="1785">
                  <c:v>483.736625</c:v>
                </c:pt>
                <c:pt idx="1786">
                  <c:v>485.587656</c:v>
                </c:pt>
                <c:pt idx="1787">
                  <c:v>487.443403</c:v>
                </c:pt>
                <c:pt idx="1788">
                  <c:v>489.303872</c:v>
                </c:pt>
                <c:pt idx="1789">
                  <c:v>491.169069</c:v>
                </c:pt>
                <c:pt idx="1790">
                  <c:v>493.039</c:v>
                </c:pt>
                <c:pt idx="1791">
                  <c:v>494.913671</c:v>
                </c:pt>
                <c:pt idx="1792">
                  <c:v>496.793088</c:v>
                </c:pt>
                <c:pt idx="1793">
                  <c:v>498.677257</c:v>
                </c:pt>
                <c:pt idx="1794">
                  <c:v>500.566184</c:v>
                </c:pt>
                <c:pt idx="1795">
                  <c:v>502.459875</c:v>
                </c:pt>
                <c:pt idx="1796">
                  <c:v>504.358336</c:v>
                </c:pt>
                <c:pt idx="1797">
                  <c:v>506.261573</c:v>
                </c:pt>
                <c:pt idx="1798">
                  <c:v>508.169592</c:v>
                </c:pt>
                <c:pt idx="1799">
                  <c:v>510.082399</c:v>
                </c:pt>
                <c:pt idx="1800">
                  <c:v>512</c:v>
                </c:pt>
                <c:pt idx="1801">
                  <c:v>513.922401</c:v>
                </c:pt>
                <c:pt idx="1802">
                  <c:v>515.849608</c:v>
                </c:pt>
                <c:pt idx="1803">
                  <c:v>517.781627</c:v>
                </c:pt>
                <c:pt idx="1804">
                  <c:v>519.718464</c:v>
                </c:pt>
                <c:pt idx="1805">
                  <c:v>521.660125</c:v>
                </c:pt>
                <c:pt idx="1806">
                  <c:v>523.606616</c:v>
                </c:pt>
                <c:pt idx="1807">
                  <c:v>525.557943</c:v>
                </c:pt>
                <c:pt idx="1808">
                  <c:v>527.514112</c:v>
                </c:pt>
                <c:pt idx="1809">
                  <c:v>529.475129</c:v>
                </c:pt>
                <c:pt idx="1810">
                  <c:v>531.441</c:v>
                </c:pt>
                <c:pt idx="1811">
                  <c:v>533.411731</c:v>
                </c:pt>
                <c:pt idx="1812">
                  <c:v>535.387328</c:v>
                </c:pt>
                <c:pt idx="1813">
                  <c:v>537.367797</c:v>
                </c:pt>
                <c:pt idx="1814">
                  <c:v>539.353144</c:v>
                </c:pt>
                <c:pt idx="1815">
                  <c:v>541.343375</c:v>
                </c:pt>
                <c:pt idx="1816">
                  <c:v>543.338496</c:v>
                </c:pt>
                <c:pt idx="1817">
                  <c:v>545.338513</c:v>
                </c:pt>
                <c:pt idx="1818">
                  <c:v>547.343432</c:v>
                </c:pt>
                <c:pt idx="1819">
                  <c:v>549.353259</c:v>
                </c:pt>
                <c:pt idx="1820">
                  <c:v>551.368</c:v>
                </c:pt>
                <c:pt idx="1821">
                  <c:v>553.387661</c:v>
                </c:pt>
                <c:pt idx="1822">
                  <c:v>555.412248</c:v>
                </c:pt>
                <c:pt idx="1823">
                  <c:v>557.441767</c:v>
                </c:pt>
                <c:pt idx="1824">
                  <c:v>559.476224000001</c:v>
                </c:pt>
                <c:pt idx="1825">
                  <c:v>561.515625</c:v>
                </c:pt>
                <c:pt idx="1826">
                  <c:v>563.559976</c:v>
                </c:pt>
                <c:pt idx="1827">
                  <c:v>565.609283</c:v>
                </c:pt>
                <c:pt idx="1828">
                  <c:v>567.663552</c:v>
                </c:pt>
                <c:pt idx="1829">
                  <c:v>569.722789</c:v>
                </c:pt>
                <c:pt idx="1830">
                  <c:v>571.787</c:v>
                </c:pt>
                <c:pt idx="1831">
                  <c:v>573.856191</c:v>
                </c:pt>
                <c:pt idx="1832">
                  <c:v>575.930368</c:v>
                </c:pt>
                <c:pt idx="1833">
                  <c:v>578.009537</c:v>
                </c:pt>
                <c:pt idx="1834">
                  <c:v>580.093704</c:v>
                </c:pt>
                <c:pt idx="1835">
                  <c:v>582.182875</c:v>
                </c:pt>
                <c:pt idx="1836">
                  <c:v>584.277056</c:v>
                </c:pt>
                <c:pt idx="1837">
                  <c:v>586.376253</c:v>
                </c:pt>
                <c:pt idx="1838">
                  <c:v>588.480472</c:v>
                </c:pt>
                <c:pt idx="1839">
                  <c:v>590.589719</c:v>
                </c:pt>
                <c:pt idx="1840">
                  <c:v>592.704</c:v>
                </c:pt>
                <c:pt idx="1841">
                  <c:v>594.823321</c:v>
                </c:pt>
                <c:pt idx="1842">
                  <c:v>596.947688</c:v>
                </c:pt>
                <c:pt idx="1843">
                  <c:v>599.077107</c:v>
                </c:pt>
                <c:pt idx="1844">
                  <c:v>601.211584</c:v>
                </c:pt>
                <c:pt idx="1845">
                  <c:v>603.351125</c:v>
                </c:pt>
                <c:pt idx="1846">
                  <c:v>605.495736</c:v>
                </c:pt>
                <c:pt idx="1847">
                  <c:v>607.645423</c:v>
                </c:pt>
                <c:pt idx="1848">
                  <c:v>609.800192</c:v>
                </c:pt>
                <c:pt idx="1849">
                  <c:v>611.960049</c:v>
                </c:pt>
                <c:pt idx="1850">
                  <c:v>614.125</c:v>
                </c:pt>
                <c:pt idx="1851">
                  <c:v>616.295051</c:v>
                </c:pt>
                <c:pt idx="1852">
                  <c:v>618.470208</c:v>
                </c:pt>
                <c:pt idx="1853">
                  <c:v>620.650477</c:v>
                </c:pt>
                <c:pt idx="1854">
                  <c:v>622.835864</c:v>
                </c:pt>
                <c:pt idx="1855">
                  <c:v>625.026375</c:v>
                </c:pt>
                <c:pt idx="1856">
                  <c:v>627.222016</c:v>
                </c:pt>
                <c:pt idx="1857">
                  <c:v>629.422793</c:v>
                </c:pt>
                <c:pt idx="1858">
                  <c:v>631.628712</c:v>
                </c:pt>
                <c:pt idx="1859">
                  <c:v>633.839779</c:v>
                </c:pt>
                <c:pt idx="1860">
                  <c:v>636.056</c:v>
                </c:pt>
                <c:pt idx="1861">
                  <c:v>638.277381</c:v>
                </c:pt>
                <c:pt idx="1862">
                  <c:v>640.503928</c:v>
                </c:pt>
                <c:pt idx="1863">
                  <c:v>642.735647</c:v>
                </c:pt>
                <c:pt idx="1864">
                  <c:v>644.972544</c:v>
                </c:pt>
                <c:pt idx="1865">
                  <c:v>647.214625</c:v>
                </c:pt>
                <c:pt idx="1866">
                  <c:v>649.461896</c:v>
                </c:pt>
                <c:pt idx="1867">
                  <c:v>651.714363</c:v>
                </c:pt>
                <c:pt idx="1868">
                  <c:v>653.972032</c:v>
                </c:pt>
                <c:pt idx="1869">
                  <c:v>656.234909</c:v>
                </c:pt>
                <c:pt idx="1870">
                  <c:v>658.503</c:v>
                </c:pt>
                <c:pt idx="1871">
                  <c:v>660.776311</c:v>
                </c:pt>
                <c:pt idx="1872">
                  <c:v>663.054848</c:v>
                </c:pt>
                <c:pt idx="1873">
                  <c:v>665.338617</c:v>
                </c:pt>
                <c:pt idx="1874">
                  <c:v>667.627624</c:v>
                </c:pt>
                <c:pt idx="1875">
                  <c:v>669.921875</c:v>
                </c:pt>
                <c:pt idx="1876">
                  <c:v>672.221376</c:v>
                </c:pt>
                <c:pt idx="1877">
                  <c:v>674.526133</c:v>
                </c:pt>
                <c:pt idx="1878">
                  <c:v>676.836152</c:v>
                </c:pt>
                <c:pt idx="1879">
                  <c:v>679.151439</c:v>
                </c:pt>
                <c:pt idx="1880">
                  <c:v>681.472</c:v>
                </c:pt>
                <c:pt idx="1881">
                  <c:v>683.797841</c:v>
                </c:pt>
                <c:pt idx="1882">
                  <c:v>686.128968</c:v>
                </c:pt>
                <c:pt idx="1883">
                  <c:v>688.465387</c:v>
                </c:pt>
                <c:pt idx="1884">
                  <c:v>690.807104</c:v>
                </c:pt>
                <c:pt idx="1885">
                  <c:v>693.154125</c:v>
                </c:pt>
                <c:pt idx="1886">
                  <c:v>695.506456</c:v>
                </c:pt>
                <c:pt idx="1887">
                  <c:v>697.864103</c:v>
                </c:pt>
                <c:pt idx="1888">
                  <c:v>700.227072</c:v>
                </c:pt>
                <c:pt idx="1889">
                  <c:v>702.595369</c:v>
                </c:pt>
                <c:pt idx="1890">
                  <c:v>704.969000000001</c:v>
                </c:pt>
                <c:pt idx="1891">
                  <c:v>707.347971</c:v>
                </c:pt>
                <c:pt idx="1892">
                  <c:v>709.732288</c:v>
                </c:pt>
                <c:pt idx="1893">
                  <c:v>712.121957</c:v>
                </c:pt>
                <c:pt idx="1894">
                  <c:v>714.516984</c:v>
                </c:pt>
                <c:pt idx="1895">
                  <c:v>716.917375</c:v>
                </c:pt>
                <c:pt idx="1896">
                  <c:v>719.323136</c:v>
                </c:pt>
                <c:pt idx="1897">
                  <c:v>721.734273</c:v>
                </c:pt>
                <c:pt idx="1898">
                  <c:v>724.150792</c:v>
                </c:pt>
                <c:pt idx="1899">
                  <c:v>726.572699000001</c:v>
                </c:pt>
                <c:pt idx="1900">
                  <c:v>729</c:v>
                </c:pt>
                <c:pt idx="1901">
                  <c:v>731.432701</c:v>
                </c:pt>
                <c:pt idx="1902">
                  <c:v>733.870808</c:v>
                </c:pt>
                <c:pt idx="1903">
                  <c:v>736.314327</c:v>
                </c:pt>
                <c:pt idx="1904">
                  <c:v>738.763264</c:v>
                </c:pt>
                <c:pt idx="1905">
                  <c:v>741.217625</c:v>
                </c:pt>
                <c:pt idx="1906">
                  <c:v>743.677416</c:v>
                </c:pt>
                <c:pt idx="1907">
                  <c:v>746.142643</c:v>
                </c:pt>
                <c:pt idx="1908">
                  <c:v>748.613312000001</c:v>
                </c:pt>
                <c:pt idx="1909">
                  <c:v>751.089429</c:v>
                </c:pt>
                <c:pt idx="1910">
                  <c:v>753.571</c:v>
                </c:pt>
                <c:pt idx="1911">
                  <c:v>756.058031</c:v>
                </c:pt>
                <c:pt idx="1912">
                  <c:v>758.550528</c:v>
                </c:pt>
                <c:pt idx="1913">
                  <c:v>761.048497</c:v>
                </c:pt>
                <c:pt idx="1914">
                  <c:v>763.551944</c:v>
                </c:pt>
                <c:pt idx="1915">
                  <c:v>766.060875000001</c:v>
                </c:pt>
                <c:pt idx="1916">
                  <c:v>768.575296</c:v>
                </c:pt>
                <c:pt idx="1917">
                  <c:v>771.095213000001</c:v>
                </c:pt>
                <c:pt idx="1918">
                  <c:v>773.620632</c:v>
                </c:pt>
                <c:pt idx="1919">
                  <c:v>776.151559</c:v>
                </c:pt>
                <c:pt idx="1920">
                  <c:v>778.688</c:v>
                </c:pt>
                <c:pt idx="1921">
                  <c:v>781.229961</c:v>
                </c:pt>
                <c:pt idx="1922">
                  <c:v>783.777448</c:v>
                </c:pt>
                <c:pt idx="1923">
                  <c:v>786.330467</c:v>
                </c:pt>
                <c:pt idx="1924">
                  <c:v>788.889024000001</c:v>
                </c:pt>
                <c:pt idx="1925">
                  <c:v>791.453125</c:v>
                </c:pt>
                <c:pt idx="1926">
                  <c:v>794.022776000001</c:v>
                </c:pt>
                <c:pt idx="1927">
                  <c:v>796.597983</c:v>
                </c:pt>
                <c:pt idx="1928">
                  <c:v>799.178752</c:v>
                </c:pt>
                <c:pt idx="1929">
                  <c:v>801.765089</c:v>
                </c:pt>
                <c:pt idx="1930">
                  <c:v>804.357</c:v>
                </c:pt>
                <c:pt idx="1931">
                  <c:v>806.954491</c:v>
                </c:pt>
                <c:pt idx="1932">
                  <c:v>809.557568</c:v>
                </c:pt>
                <c:pt idx="1933">
                  <c:v>812.166237000001</c:v>
                </c:pt>
                <c:pt idx="1934">
                  <c:v>814.780504</c:v>
                </c:pt>
                <c:pt idx="1935">
                  <c:v>817.400375</c:v>
                </c:pt>
                <c:pt idx="1936">
                  <c:v>820.025856</c:v>
                </c:pt>
                <c:pt idx="1937">
                  <c:v>822.656953</c:v>
                </c:pt>
                <c:pt idx="1938">
                  <c:v>825.293672</c:v>
                </c:pt>
                <c:pt idx="1939">
                  <c:v>827.936019</c:v>
                </c:pt>
                <c:pt idx="1940">
                  <c:v>830.584000000001</c:v>
                </c:pt>
                <c:pt idx="1941">
                  <c:v>833.237621</c:v>
                </c:pt>
                <c:pt idx="1942">
                  <c:v>835.896888</c:v>
                </c:pt>
                <c:pt idx="1943">
                  <c:v>838.561807</c:v>
                </c:pt>
                <c:pt idx="1944">
                  <c:v>841.232384</c:v>
                </c:pt>
                <c:pt idx="1945">
                  <c:v>843.908625</c:v>
                </c:pt>
                <c:pt idx="1946">
                  <c:v>846.590536</c:v>
                </c:pt>
                <c:pt idx="1947">
                  <c:v>849.278123</c:v>
                </c:pt>
                <c:pt idx="1948">
                  <c:v>851.971392</c:v>
                </c:pt>
                <c:pt idx="1949">
                  <c:v>854.670349000001</c:v>
                </c:pt>
                <c:pt idx="1950">
                  <c:v>857.375</c:v>
                </c:pt>
                <c:pt idx="1951">
                  <c:v>860.085351</c:v>
                </c:pt>
                <c:pt idx="1952">
                  <c:v>862.801408</c:v>
                </c:pt>
                <c:pt idx="1953">
                  <c:v>865.523177</c:v>
                </c:pt>
                <c:pt idx="1954">
                  <c:v>868.250664</c:v>
                </c:pt>
                <c:pt idx="1955">
                  <c:v>870.983875</c:v>
                </c:pt>
                <c:pt idx="1956">
                  <c:v>873.722816</c:v>
                </c:pt>
                <c:pt idx="1957">
                  <c:v>876.467493</c:v>
                </c:pt>
                <c:pt idx="1958">
                  <c:v>879.217912000001</c:v>
                </c:pt>
                <c:pt idx="1959">
                  <c:v>881.974079</c:v>
                </c:pt>
                <c:pt idx="1960">
                  <c:v>884.736</c:v>
                </c:pt>
                <c:pt idx="1961">
                  <c:v>887.503681</c:v>
                </c:pt>
                <c:pt idx="1962">
                  <c:v>890.277128</c:v>
                </c:pt>
                <c:pt idx="1963">
                  <c:v>893.056347</c:v>
                </c:pt>
                <c:pt idx="1964">
                  <c:v>895.841344</c:v>
                </c:pt>
                <c:pt idx="1965">
                  <c:v>898.632125000001</c:v>
                </c:pt>
                <c:pt idx="1966">
                  <c:v>901.428696</c:v>
                </c:pt>
                <c:pt idx="1967">
                  <c:v>904.231063000001</c:v>
                </c:pt>
                <c:pt idx="1968">
                  <c:v>907.039232</c:v>
                </c:pt>
                <c:pt idx="1969">
                  <c:v>909.853209</c:v>
                </c:pt>
                <c:pt idx="1970">
                  <c:v>912.673</c:v>
                </c:pt>
                <c:pt idx="1971">
                  <c:v>915.498611</c:v>
                </c:pt>
                <c:pt idx="1972">
                  <c:v>918.330048</c:v>
                </c:pt>
                <c:pt idx="1973">
                  <c:v>921.167317</c:v>
                </c:pt>
                <c:pt idx="1974">
                  <c:v>924.010424000001</c:v>
                </c:pt>
                <c:pt idx="1975">
                  <c:v>926.859375</c:v>
                </c:pt>
                <c:pt idx="1976">
                  <c:v>929.714176</c:v>
                </c:pt>
                <c:pt idx="1977">
                  <c:v>932.574833</c:v>
                </c:pt>
                <c:pt idx="1978">
                  <c:v>935.441352</c:v>
                </c:pt>
                <c:pt idx="1979">
                  <c:v>938.313739</c:v>
                </c:pt>
                <c:pt idx="1980">
                  <c:v>941.192</c:v>
                </c:pt>
                <c:pt idx="1981">
                  <c:v>944.076141</c:v>
                </c:pt>
                <c:pt idx="1982">
                  <c:v>946.966168</c:v>
                </c:pt>
                <c:pt idx="1983">
                  <c:v>949.862087</c:v>
                </c:pt>
                <c:pt idx="1984">
                  <c:v>952.763904</c:v>
                </c:pt>
                <c:pt idx="1985">
                  <c:v>955.671625</c:v>
                </c:pt>
                <c:pt idx="1986">
                  <c:v>958.585256</c:v>
                </c:pt>
                <c:pt idx="1987">
                  <c:v>961.504803</c:v>
                </c:pt>
                <c:pt idx="1988">
                  <c:v>964.430272</c:v>
                </c:pt>
                <c:pt idx="1989">
                  <c:v>967.361669</c:v>
                </c:pt>
                <c:pt idx="1990">
                  <c:v>970.299000000001</c:v>
                </c:pt>
                <c:pt idx="1991">
                  <c:v>973.242271</c:v>
                </c:pt>
                <c:pt idx="1992">
                  <c:v>976.191488000001</c:v>
                </c:pt>
                <c:pt idx="1993">
                  <c:v>979.146657</c:v>
                </c:pt>
                <c:pt idx="1994">
                  <c:v>982.107784000001</c:v>
                </c:pt>
                <c:pt idx="1995">
                  <c:v>985.074875</c:v>
                </c:pt>
                <c:pt idx="1996">
                  <c:v>988.047936</c:v>
                </c:pt>
                <c:pt idx="1997">
                  <c:v>991.026973</c:v>
                </c:pt>
                <c:pt idx="1998">
                  <c:v>994.011992</c:v>
                </c:pt>
                <c:pt idx="1999">
                  <c:v>997.002999000001</c:v>
                </c:pt>
                <c:pt idx="2000">
                  <c:v>1000</c:v>
                </c:pt>
              </c:numCache>
            </c:numRef>
          </c:yVal>
          <c:smooth val="1"/>
        </c:ser>
        <c:ser>
          <c:idx val="1"/>
          <c:order val="1"/>
          <c:tx>
            <c:strRef>
              <c:f>label 2</c:f>
              <c:strCache>
                <c:ptCount val="1"/>
                <c:pt idx="0">
                  <c:v>Sloupec1</c:v>
                </c:pt>
              </c:strCache>
            </c:strRef>
          </c:tx>
          <c:spPr>
            <a:solidFill>
              <a:srgbClr val="be4b48"/>
            </a:solidFill>
            <a:ln w="28440">
              <a:solidFill>
                <a:srgbClr val="be4b48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3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2</c:f>
              <c:numCache>
                <c:formatCode>General</c:formatCode>
                <c:ptCount val="2001"/>
                <c:pt idx="0">
                  <c:v>1000</c:v>
                </c:pt>
                <c:pt idx="1">
                  <c:v>997.002999</c:v>
                </c:pt>
                <c:pt idx="2">
                  <c:v>994.011992</c:v>
                </c:pt>
                <c:pt idx="3">
                  <c:v>991.026973</c:v>
                </c:pt>
                <c:pt idx="4">
                  <c:v>988.047936</c:v>
                </c:pt>
                <c:pt idx="5">
                  <c:v>985.074875</c:v>
                </c:pt>
                <c:pt idx="6">
                  <c:v>982.107784</c:v>
                </c:pt>
                <c:pt idx="7">
                  <c:v>979.146657</c:v>
                </c:pt>
                <c:pt idx="8">
                  <c:v>976.191488</c:v>
                </c:pt>
                <c:pt idx="9">
                  <c:v>973.242271</c:v>
                </c:pt>
                <c:pt idx="10">
                  <c:v>970.299</c:v>
                </c:pt>
                <c:pt idx="11">
                  <c:v>967.361669</c:v>
                </c:pt>
                <c:pt idx="12">
                  <c:v>964.430272</c:v>
                </c:pt>
                <c:pt idx="13">
                  <c:v>961.504803</c:v>
                </c:pt>
                <c:pt idx="14">
                  <c:v>958.585256</c:v>
                </c:pt>
                <c:pt idx="15">
                  <c:v>955.671625</c:v>
                </c:pt>
                <c:pt idx="16">
                  <c:v>952.763904</c:v>
                </c:pt>
                <c:pt idx="17">
                  <c:v>949.862087</c:v>
                </c:pt>
                <c:pt idx="18">
                  <c:v>946.966168</c:v>
                </c:pt>
                <c:pt idx="19">
                  <c:v>944.076141</c:v>
                </c:pt>
                <c:pt idx="20">
                  <c:v>941.192</c:v>
                </c:pt>
                <c:pt idx="21">
                  <c:v>938.313739</c:v>
                </c:pt>
                <c:pt idx="22">
                  <c:v>935.441352</c:v>
                </c:pt>
                <c:pt idx="23">
                  <c:v>932.574833</c:v>
                </c:pt>
                <c:pt idx="24">
                  <c:v>929.714176</c:v>
                </c:pt>
                <c:pt idx="25">
                  <c:v>926.859375</c:v>
                </c:pt>
                <c:pt idx="26">
                  <c:v>924.010424</c:v>
                </c:pt>
                <c:pt idx="27">
                  <c:v>921.167317</c:v>
                </c:pt>
                <c:pt idx="28">
                  <c:v>918.330048</c:v>
                </c:pt>
                <c:pt idx="29">
                  <c:v>915.498611</c:v>
                </c:pt>
                <c:pt idx="30">
                  <c:v>912.673</c:v>
                </c:pt>
                <c:pt idx="31">
                  <c:v>909.853209</c:v>
                </c:pt>
                <c:pt idx="32">
                  <c:v>907.039232</c:v>
                </c:pt>
                <c:pt idx="33">
                  <c:v>904.231063</c:v>
                </c:pt>
                <c:pt idx="34">
                  <c:v>901.428696</c:v>
                </c:pt>
                <c:pt idx="35">
                  <c:v>898.632125</c:v>
                </c:pt>
                <c:pt idx="36">
                  <c:v>895.841344</c:v>
                </c:pt>
                <c:pt idx="37">
                  <c:v>893.056347</c:v>
                </c:pt>
                <c:pt idx="38">
                  <c:v>890.277128</c:v>
                </c:pt>
                <c:pt idx="39">
                  <c:v>887.503681</c:v>
                </c:pt>
                <c:pt idx="40">
                  <c:v>884.736</c:v>
                </c:pt>
                <c:pt idx="41">
                  <c:v>881.974079</c:v>
                </c:pt>
                <c:pt idx="42">
                  <c:v>879.217912</c:v>
                </c:pt>
                <c:pt idx="43">
                  <c:v>876.467493</c:v>
                </c:pt>
                <c:pt idx="44">
                  <c:v>873.722816</c:v>
                </c:pt>
                <c:pt idx="45">
                  <c:v>870.983875</c:v>
                </c:pt>
                <c:pt idx="46">
                  <c:v>868.250664</c:v>
                </c:pt>
                <c:pt idx="47">
                  <c:v>865.523177</c:v>
                </c:pt>
                <c:pt idx="48">
                  <c:v>862.801408</c:v>
                </c:pt>
                <c:pt idx="49">
                  <c:v>860.085351</c:v>
                </c:pt>
                <c:pt idx="50">
                  <c:v>857.375</c:v>
                </c:pt>
                <c:pt idx="51">
                  <c:v>854.670349</c:v>
                </c:pt>
                <c:pt idx="52">
                  <c:v>851.971392</c:v>
                </c:pt>
                <c:pt idx="53">
                  <c:v>849.278123</c:v>
                </c:pt>
                <c:pt idx="54">
                  <c:v>846.590536</c:v>
                </c:pt>
                <c:pt idx="55">
                  <c:v>843.908625</c:v>
                </c:pt>
                <c:pt idx="56">
                  <c:v>841.232384</c:v>
                </c:pt>
                <c:pt idx="57">
                  <c:v>838.561807</c:v>
                </c:pt>
                <c:pt idx="58">
                  <c:v>835.896888</c:v>
                </c:pt>
                <c:pt idx="59">
                  <c:v>833.237621</c:v>
                </c:pt>
                <c:pt idx="60">
                  <c:v>830.584</c:v>
                </c:pt>
                <c:pt idx="61">
                  <c:v>827.936019</c:v>
                </c:pt>
                <c:pt idx="62">
                  <c:v>825.293672</c:v>
                </c:pt>
                <c:pt idx="63">
                  <c:v>822.656953</c:v>
                </c:pt>
                <c:pt idx="64">
                  <c:v>820.025856</c:v>
                </c:pt>
                <c:pt idx="65">
                  <c:v>817.400375</c:v>
                </c:pt>
                <c:pt idx="66">
                  <c:v>814.780504</c:v>
                </c:pt>
                <c:pt idx="67">
                  <c:v>812.166237</c:v>
                </c:pt>
                <c:pt idx="68">
                  <c:v>809.557568</c:v>
                </c:pt>
                <c:pt idx="69">
                  <c:v>806.954491</c:v>
                </c:pt>
                <c:pt idx="70">
                  <c:v>804.357</c:v>
                </c:pt>
                <c:pt idx="71">
                  <c:v>801.765089</c:v>
                </c:pt>
                <c:pt idx="72">
                  <c:v>799.178752</c:v>
                </c:pt>
                <c:pt idx="73">
                  <c:v>796.597983</c:v>
                </c:pt>
                <c:pt idx="74">
                  <c:v>794.022776</c:v>
                </c:pt>
                <c:pt idx="75">
                  <c:v>791.453125</c:v>
                </c:pt>
                <c:pt idx="76">
                  <c:v>788.889024</c:v>
                </c:pt>
                <c:pt idx="77">
                  <c:v>786.330467</c:v>
                </c:pt>
                <c:pt idx="78">
                  <c:v>783.777448</c:v>
                </c:pt>
                <c:pt idx="79">
                  <c:v>781.229961</c:v>
                </c:pt>
                <c:pt idx="80">
                  <c:v>778.688</c:v>
                </c:pt>
                <c:pt idx="81">
                  <c:v>776.151559</c:v>
                </c:pt>
                <c:pt idx="82">
                  <c:v>773.620632</c:v>
                </c:pt>
                <c:pt idx="83">
                  <c:v>771.095213</c:v>
                </c:pt>
                <c:pt idx="84">
                  <c:v>768.575296</c:v>
                </c:pt>
                <c:pt idx="85">
                  <c:v>766.060875</c:v>
                </c:pt>
                <c:pt idx="86">
                  <c:v>763.551944</c:v>
                </c:pt>
                <c:pt idx="87">
                  <c:v>761.048497</c:v>
                </c:pt>
                <c:pt idx="88">
                  <c:v>758.550528</c:v>
                </c:pt>
                <c:pt idx="89">
                  <c:v>756.058031</c:v>
                </c:pt>
                <c:pt idx="90">
                  <c:v>753.571</c:v>
                </c:pt>
                <c:pt idx="91">
                  <c:v>751.089429</c:v>
                </c:pt>
                <c:pt idx="92">
                  <c:v>748.613312</c:v>
                </c:pt>
                <c:pt idx="93">
                  <c:v>746.142643</c:v>
                </c:pt>
                <c:pt idx="94">
                  <c:v>743.677416</c:v>
                </c:pt>
                <c:pt idx="95">
                  <c:v>741.217625</c:v>
                </c:pt>
                <c:pt idx="96">
                  <c:v>738.763264</c:v>
                </c:pt>
                <c:pt idx="97">
                  <c:v>736.314327</c:v>
                </c:pt>
                <c:pt idx="98">
                  <c:v>733.870808</c:v>
                </c:pt>
                <c:pt idx="99">
                  <c:v>731.432701</c:v>
                </c:pt>
                <c:pt idx="100">
                  <c:v>729</c:v>
                </c:pt>
                <c:pt idx="101">
                  <c:v>726.572699</c:v>
                </c:pt>
                <c:pt idx="102">
                  <c:v>724.150792</c:v>
                </c:pt>
                <c:pt idx="103">
                  <c:v>721.734273</c:v>
                </c:pt>
                <c:pt idx="104">
                  <c:v>719.323136</c:v>
                </c:pt>
                <c:pt idx="105">
                  <c:v>716.917375</c:v>
                </c:pt>
                <c:pt idx="106">
                  <c:v>714.516984</c:v>
                </c:pt>
                <c:pt idx="107">
                  <c:v>712.121957</c:v>
                </c:pt>
                <c:pt idx="108">
                  <c:v>709.732288</c:v>
                </c:pt>
                <c:pt idx="109">
                  <c:v>707.347971</c:v>
                </c:pt>
                <c:pt idx="110">
                  <c:v>704.969</c:v>
                </c:pt>
                <c:pt idx="111">
                  <c:v>702.595369</c:v>
                </c:pt>
                <c:pt idx="112">
                  <c:v>700.227072</c:v>
                </c:pt>
                <c:pt idx="113">
                  <c:v>697.864103</c:v>
                </c:pt>
                <c:pt idx="114">
                  <c:v>695.506456</c:v>
                </c:pt>
                <c:pt idx="115">
                  <c:v>693.154125</c:v>
                </c:pt>
                <c:pt idx="116">
                  <c:v>690.807104</c:v>
                </c:pt>
                <c:pt idx="117">
                  <c:v>688.465387</c:v>
                </c:pt>
                <c:pt idx="118">
                  <c:v>686.128968</c:v>
                </c:pt>
                <c:pt idx="119">
                  <c:v>683.797841</c:v>
                </c:pt>
                <c:pt idx="120">
                  <c:v>681.472</c:v>
                </c:pt>
                <c:pt idx="121">
                  <c:v>679.151439</c:v>
                </c:pt>
                <c:pt idx="122">
                  <c:v>676.836152</c:v>
                </c:pt>
                <c:pt idx="123">
                  <c:v>674.526133</c:v>
                </c:pt>
                <c:pt idx="124">
                  <c:v>672.221376</c:v>
                </c:pt>
                <c:pt idx="125">
                  <c:v>669.921875</c:v>
                </c:pt>
                <c:pt idx="126">
                  <c:v>667.627624</c:v>
                </c:pt>
                <c:pt idx="127">
                  <c:v>665.338617</c:v>
                </c:pt>
                <c:pt idx="128">
                  <c:v>663.054848</c:v>
                </c:pt>
                <c:pt idx="129">
                  <c:v>660.776311</c:v>
                </c:pt>
                <c:pt idx="130">
                  <c:v>658.503</c:v>
                </c:pt>
                <c:pt idx="131">
                  <c:v>656.234909</c:v>
                </c:pt>
                <c:pt idx="132">
                  <c:v>653.972032</c:v>
                </c:pt>
                <c:pt idx="133">
                  <c:v>651.714363</c:v>
                </c:pt>
                <c:pt idx="134">
                  <c:v>649.461896</c:v>
                </c:pt>
                <c:pt idx="135">
                  <c:v>647.214625</c:v>
                </c:pt>
                <c:pt idx="136">
                  <c:v>644.972544</c:v>
                </c:pt>
                <c:pt idx="137">
                  <c:v>642.735647</c:v>
                </c:pt>
                <c:pt idx="138">
                  <c:v>640.503928</c:v>
                </c:pt>
                <c:pt idx="139">
                  <c:v>638.277381</c:v>
                </c:pt>
                <c:pt idx="140">
                  <c:v>636.056</c:v>
                </c:pt>
                <c:pt idx="141">
                  <c:v>633.839779</c:v>
                </c:pt>
                <c:pt idx="142">
                  <c:v>631.628712</c:v>
                </c:pt>
                <c:pt idx="143">
                  <c:v>629.422793</c:v>
                </c:pt>
                <c:pt idx="144">
                  <c:v>627.222016</c:v>
                </c:pt>
                <c:pt idx="145">
                  <c:v>625.026375</c:v>
                </c:pt>
                <c:pt idx="146">
                  <c:v>622.835864</c:v>
                </c:pt>
                <c:pt idx="147">
                  <c:v>620.650477</c:v>
                </c:pt>
                <c:pt idx="148">
                  <c:v>618.470208</c:v>
                </c:pt>
                <c:pt idx="149">
                  <c:v>616.295051</c:v>
                </c:pt>
                <c:pt idx="150">
                  <c:v>614.125</c:v>
                </c:pt>
                <c:pt idx="151">
                  <c:v>611.960049</c:v>
                </c:pt>
                <c:pt idx="152">
                  <c:v>609.800192</c:v>
                </c:pt>
                <c:pt idx="153">
                  <c:v>607.645423</c:v>
                </c:pt>
                <c:pt idx="154">
                  <c:v>605.495736</c:v>
                </c:pt>
                <c:pt idx="155">
                  <c:v>603.351125</c:v>
                </c:pt>
                <c:pt idx="156">
                  <c:v>601.211584</c:v>
                </c:pt>
                <c:pt idx="157">
                  <c:v>599.077107</c:v>
                </c:pt>
                <c:pt idx="158">
                  <c:v>596.947688</c:v>
                </c:pt>
                <c:pt idx="159">
                  <c:v>594.823321</c:v>
                </c:pt>
                <c:pt idx="160">
                  <c:v>592.704</c:v>
                </c:pt>
                <c:pt idx="161">
                  <c:v>590.589719</c:v>
                </c:pt>
                <c:pt idx="162">
                  <c:v>588.480472</c:v>
                </c:pt>
                <c:pt idx="163">
                  <c:v>586.376253</c:v>
                </c:pt>
                <c:pt idx="164">
                  <c:v>584.277056</c:v>
                </c:pt>
                <c:pt idx="165">
                  <c:v>582.182875</c:v>
                </c:pt>
                <c:pt idx="166">
                  <c:v>580.093704</c:v>
                </c:pt>
                <c:pt idx="167">
                  <c:v>578.009537</c:v>
                </c:pt>
                <c:pt idx="168">
                  <c:v>575.930368</c:v>
                </c:pt>
                <c:pt idx="169">
                  <c:v>573.856191</c:v>
                </c:pt>
                <c:pt idx="170">
                  <c:v>571.787</c:v>
                </c:pt>
                <c:pt idx="171">
                  <c:v>569.722789</c:v>
                </c:pt>
                <c:pt idx="172">
                  <c:v>567.663552</c:v>
                </c:pt>
                <c:pt idx="173">
                  <c:v>565.609283</c:v>
                </c:pt>
                <c:pt idx="174">
                  <c:v>563.559976</c:v>
                </c:pt>
                <c:pt idx="175">
                  <c:v>561.515625</c:v>
                </c:pt>
                <c:pt idx="176">
                  <c:v>559.476224</c:v>
                </c:pt>
                <c:pt idx="177">
                  <c:v>557.441767</c:v>
                </c:pt>
                <c:pt idx="178">
                  <c:v>555.412248</c:v>
                </c:pt>
                <c:pt idx="179">
                  <c:v>553.387661</c:v>
                </c:pt>
                <c:pt idx="180">
                  <c:v>551.368</c:v>
                </c:pt>
                <c:pt idx="181">
                  <c:v>549.353259</c:v>
                </c:pt>
                <c:pt idx="182">
                  <c:v>547.343432</c:v>
                </c:pt>
                <c:pt idx="183">
                  <c:v>545.338513</c:v>
                </c:pt>
                <c:pt idx="184">
                  <c:v>543.338496</c:v>
                </c:pt>
                <c:pt idx="185">
                  <c:v>541.343375</c:v>
                </c:pt>
                <c:pt idx="186">
                  <c:v>539.353144</c:v>
                </c:pt>
                <c:pt idx="187">
                  <c:v>537.367797</c:v>
                </c:pt>
                <c:pt idx="188">
                  <c:v>535.387328</c:v>
                </c:pt>
                <c:pt idx="189">
                  <c:v>533.411731</c:v>
                </c:pt>
                <c:pt idx="190">
                  <c:v>531.441</c:v>
                </c:pt>
                <c:pt idx="191">
                  <c:v>529.475129</c:v>
                </c:pt>
                <c:pt idx="192">
                  <c:v>527.514112</c:v>
                </c:pt>
                <c:pt idx="193">
                  <c:v>525.557943</c:v>
                </c:pt>
                <c:pt idx="194">
                  <c:v>523.606616</c:v>
                </c:pt>
                <c:pt idx="195">
                  <c:v>521.660125</c:v>
                </c:pt>
                <c:pt idx="196">
                  <c:v>519.718464</c:v>
                </c:pt>
                <c:pt idx="197">
                  <c:v>517.781627</c:v>
                </c:pt>
                <c:pt idx="198">
                  <c:v>515.849608</c:v>
                </c:pt>
                <c:pt idx="199">
                  <c:v>513.922401</c:v>
                </c:pt>
                <c:pt idx="200">
                  <c:v>512</c:v>
                </c:pt>
                <c:pt idx="201">
                  <c:v>510.082399</c:v>
                </c:pt>
                <c:pt idx="202">
                  <c:v>508.169592</c:v>
                </c:pt>
                <c:pt idx="203">
                  <c:v>506.261573</c:v>
                </c:pt>
                <c:pt idx="204">
                  <c:v>504.358336</c:v>
                </c:pt>
                <c:pt idx="205">
                  <c:v>502.459875</c:v>
                </c:pt>
                <c:pt idx="206">
                  <c:v>500.566184</c:v>
                </c:pt>
                <c:pt idx="207">
                  <c:v>498.677257</c:v>
                </c:pt>
                <c:pt idx="208">
                  <c:v>496.793088</c:v>
                </c:pt>
                <c:pt idx="209">
                  <c:v>494.913671</c:v>
                </c:pt>
                <c:pt idx="210">
                  <c:v>493.039</c:v>
                </c:pt>
                <c:pt idx="211">
                  <c:v>491.169069</c:v>
                </c:pt>
                <c:pt idx="212">
                  <c:v>489.303872</c:v>
                </c:pt>
                <c:pt idx="213">
                  <c:v>487.443403</c:v>
                </c:pt>
                <c:pt idx="214">
                  <c:v>485.587656</c:v>
                </c:pt>
                <c:pt idx="215">
                  <c:v>483.736625</c:v>
                </c:pt>
                <c:pt idx="216">
                  <c:v>481.890304</c:v>
                </c:pt>
                <c:pt idx="217">
                  <c:v>480.048687</c:v>
                </c:pt>
                <c:pt idx="218">
                  <c:v>478.211768</c:v>
                </c:pt>
                <c:pt idx="219">
                  <c:v>476.379541</c:v>
                </c:pt>
                <c:pt idx="220">
                  <c:v>474.552</c:v>
                </c:pt>
                <c:pt idx="221">
                  <c:v>472.729139</c:v>
                </c:pt>
                <c:pt idx="222">
                  <c:v>470.910952</c:v>
                </c:pt>
                <c:pt idx="223">
                  <c:v>469.097433</c:v>
                </c:pt>
                <c:pt idx="224">
                  <c:v>467.288576</c:v>
                </c:pt>
                <c:pt idx="225">
                  <c:v>465.484375</c:v>
                </c:pt>
                <c:pt idx="226">
                  <c:v>463.684824</c:v>
                </c:pt>
                <c:pt idx="227">
                  <c:v>461.889917</c:v>
                </c:pt>
                <c:pt idx="228">
                  <c:v>460.099648</c:v>
                </c:pt>
                <c:pt idx="229">
                  <c:v>458.314011</c:v>
                </c:pt>
                <c:pt idx="230">
                  <c:v>456.533</c:v>
                </c:pt>
                <c:pt idx="231">
                  <c:v>454.756609</c:v>
                </c:pt>
                <c:pt idx="232">
                  <c:v>452.984832</c:v>
                </c:pt>
                <c:pt idx="233">
                  <c:v>451.217663</c:v>
                </c:pt>
                <c:pt idx="234">
                  <c:v>449.455096</c:v>
                </c:pt>
                <c:pt idx="235">
                  <c:v>447.697125</c:v>
                </c:pt>
                <c:pt idx="236">
                  <c:v>445.943744</c:v>
                </c:pt>
                <c:pt idx="237">
                  <c:v>444.194947</c:v>
                </c:pt>
                <c:pt idx="238">
                  <c:v>442.450728</c:v>
                </c:pt>
                <c:pt idx="239">
                  <c:v>440.711081</c:v>
                </c:pt>
                <c:pt idx="240">
                  <c:v>438.976</c:v>
                </c:pt>
                <c:pt idx="241">
                  <c:v>437.245479</c:v>
                </c:pt>
                <c:pt idx="242">
                  <c:v>435.519512</c:v>
                </c:pt>
                <c:pt idx="243">
                  <c:v>433.798093</c:v>
                </c:pt>
                <c:pt idx="244">
                  <c:v>432.081216</c:v>
                </c:pt>
                <c:pt idx="245">
                  <c:v>430.368875</c:v>
                </c:pt>
                <c:pt idx="246">
                  <c:v>428.661064</c:v>
                </c:pt>
                <c:pt idx="247">
                  <c:v>426.957777</c:v>
                </c:pt>
                <c:pt idx="248">
                  <c:v>425.259008</c:v>
                </c:pt>
                <c:pt idx="249">
                  <c:v>423.564751</c:v>
                </c:pt>
                <c:pt idx="250">
                  <c:v>421.875</c:v>
                </c:pt>
                <c:pt idx="251">
                  <c:v>420.189749</c:v>
                </c:pt>
                <c:pt idx="252">
                  <c:v>418.508992</c:v>
                </c:pt>
                <c:pt idx="253">
                  <c:v>416.832723</c:v>
                </c:pt>
                <c:pt idx="254">
                  <c:v>415.160936</c:v>
                </c:pt>
                <c:pt idx="255">
                  <c:v>413.493625</c:v>
                </c:pt>
                <c:pt idx="256">
                  <c:v>411.830784</c:v>
                </c:pt>
                <c:pt idx="257">
                  <c:v>410.172407</c:v>
                </c:pt>
                <c:pt idx="258">
                  <c:v>408.518488</c:v>
                </c:pt>
                <c:pt idx="259">
                  <c:v>406.869021</c:v>
                </c:pt>
                <c:pt idx="260">
                  <c:v>405.224</c:v>
                </c:pt>
                <c:pt idx="261">
                  <c:v>403.583419</c:v>
                </c:pt>
                <c:pt idx="262">
                  <c:v>401.947272</c:v>
                </c:pt>
                <c:pt idx="263">
                  <c:v>400.315553</c:v>
                </c:pt>
                <c:pt idx="264">
                  <c:v>398.688256</c:v>
                </c:pt>
                <c:pt idx="265">
                  <c:v>397.065375</c:v>
                </c:pt>
                <c:pt idx="266">
                  <c:v>395.446904</c:v>
                </c:pt>
                <c:pt idx="267">
                  <c:v>393.832837</c:v>
                </c:pt>
                <c:pt idx="268">
                  <c:v>392.223168</c:v>
                </c:pt>
                <c:pt idx="269">
                  <c:v>390.617891</c:v>
                </c:pt>
                <c:pt idx="270">
                  <c:v>389.017</c:v>
                </c:pt>
                <c:pt idx="271">
                  <c:v>387.420489</c:v>
                </c:pt>
                <c:pt idx="272">
                  <c:v>385.828352</c:v>
                </c:pt>
                <c:pt idx="273">
                  <c:v>384.240583</c:v>
                </c:pt>
                <c:pt idx="274">
                  <c:v>382.657176</c:v>
                </c:pt>
                <c:pt idx="275">
                  <c:v>381.078125</c:v>
                </c:pt>
                <c:pt idx="276">
                  <c:v>379.503424</c:v>
                </c:pt>
                <c:pt idx="277">
                  <c:v>377.933067</c:v>
                </c:pt>
                <c:pt idx="278">
                  <c:v>376.367048</c:v>
                </c:pt>
                <c:pt idx="279">
                  <c:v>374.805361</c:v>
                </c:pt>
                <c:pt idx="280">
                  <c:v>373.248</c:v>
                </c:pt>
                <c:pt idx="281">
                  <c:v>371.694959</c:v>
                </c:pt>
                <c:pt idx="282">
                  <c:v>370.146232</c:v>
                </c:pt>
                <c:pt idx="283">
                  <c:v>368.601813</c:v>
                </c:pt>
                <c:pt idx="284">
                  <c:v>367.061696</c:v>
                </c:pt>
                <c:pt idx="285">
                  <c:v>365.525875</c:v>
                </c:pt>
                <c:pt idx="286">
                  <c:v>363.994344</c:v>
                </c:pt>
                <c:pt idx="287">
                  <c:v>362.467097</c:v>
                </c:pt>
                <c:pt idx="288">
                  <c:v>360.944128</c:v>
                </c:pt>
                <c:pt idx="289">
                  <c:v>359.425431</c:v>
                </c:pt>
                <c:pt idx="290">
                  <c:v>357.911</c:v>
                </c:pt>
                <c:pt idx="291">
                  <c:v>356.400829</c:v>
                </c:pt>
                <c:pt idx="292">
                  <c:v>354.894912</c:v>
                </c:pt>
                <c:pt idx="293">
                  <c:v>353.393243</c:v>
                </c:pt>
                <c:pt idx="294">
                  <c:v>351.895816</c:v>
                </c:pt>
                <c:pt idx="295">
                  <c:v>350.402625</c:v>
                </c:pt>
                <c:pt idx="296">
                  <c:v>348.913664</c:v>
                </c:pt>
                <c:pt idx="297">
                  <c:v>347.428927</c:v>
                </c:pt>
                <c:pt idx="298">
                  <c:v>345.948408</c:v>
                </c:pt>
                <c:pt idx="299">
                  <c:v>344.472101</c:v>
                </c:pt>
                <c:pt idx="300">
                  <c:v>343</c:v>
                </c:pt>
                <c:pt idx="301">
                  <c:v>341.532099</c:v>
                </c:pt>
                <c:pt idx="302">
                  <c:v>340.068392</c:v>
                </c:pt>
                <c:pt idx="303">
                  <c:v>338.608873</c:v>
                </c:pt>
                <c:pt idx="304">
                  <c:v>337.153536</c:v>
                </c:pt>
                <c:pt idx="305">
                  <c:v>335.702375</c:v>
                </c:pt>
                <c:pt idx="306">
                  <c:v>334.255384</c:v>
                </c:pt>
                <c:pt idx="307">
                  <c:v>332.812557</c:v>
                </c:pt>
                <c:pt idx="308">
                  <c:v>331.373888</c:v>
                </c:pt>
                <c:pt idx="309">
                  <c:v>329.939371</c:v>
                </c:pt>
                <c:pt idx="310">
                  <c:v>328.509</c:v>
                </c:pt>
                <c:pt idx="311">
                  <c:v>327.082769</c:v>
                </c:pt>
                <c:pt idx="312">
                  <c:v>325.660672</c:v>
                </c:pt>
                <c:pt idx="313">
                  <c:v>324.242703</c:v>
                </c:pt>
                <c:pt idx="314">
                  <c:v>322.828856</c:v>
                </c:pt>
                <c:pt idx="315">
                  <c:v>321.419125</c:v>
                </c:pt>
                <c:pt idx="316">
                  <c:v>320.013504</c:v>
                </c:pt>
                <c:pt idx="317">
                  <c:v>318.611987</c:v>
                </c:pt>
                <c:pt idx="318">
                  <c:v>317.214568</c:v>
                </c:pt>
                <c:pt idx="319">
                  <c:v>315.821241</c:v>
                </c:pt>
                <c:pt idx="320">
                  <c:v>314.432</c:v>
                </c:pt>
                <c:pt idx="321">
                  <c:v>313.046839</c:v>
                </c:pt>
                <c:pt idx="322">
                  <c:v>311.665752</c:v>
                </c:pt>
                <c:pt idx="323">
                  <c:v>310.288733</c:v>
                </c:pt>
                <c:pt idx="324">
                  <c:v>308.915776</c:v>
                </c:pt>
                <c:pt idx="325">
                  <c:v>307.546875</c:v>
                </c:pt>
                <c:pt idx="326">
                  <c:v>306.182024</c:v>
                </c:pt>
                <c:pt idx="327">
                  <c:v>304.821217</c:v>
                </c:pt>
                <c:pt idx="328">
                  <c:v>303.464448</c:v>
                </c:pt>
                <c:pt idx="329">
                  <c:v>302.111711</c:v>
                </c:pt>
                <c:pt idx="330">
                  <c:v>300.763</c:v>
                </c:pt>
                <c:pt idx="331">
                  <c:v>299.418309</c:v>
                </c:pt>
                <c:pt idx="332">
                  <c:v>298.077632</c:v>
                </c:pt>
                <c:pt idx="333">
                  <c:v>296.740963</c:v>
                </c:pt>
                <c:pt idx="334">
                  <c:v>295.408296</c:v>
                </c:pt>
                <c:pt idx="335">
                  <c:v>294.079625</c:v>
                </c:pt>
                <c:pt idx="336">
                  <c:v>292.754944</c:v>
                </c:pt>
                <c:pt idx="337">
                  <c:v>291.434247</c:v>
                </c:pt>
                <c:pt idx="338">
                  <c:v>290.117528</c:v>
                </c:pt>
                <c:pt idx="339">
                  <c:v>288.804781</c:v>
                </c:pt>
                <c:pt idx="340">
                  <c:v>287.496</c:v>
                </c:pt>
                <c:pt idx="341">
                  <c:v>286.191179</c:v>
                </c:pt>
                <c:pt idx="342">
                  <c:v>284.890312</c:v>
                </c:pt>
                <c:pt idx="343">
                  <c:v>283.593393</c:v>
                </c:pt>
                <c:pt idx="344">
                  <c:v>282.300416</c:v>
                </c:pt>
                <c:pt idx="345">
                  <c:v>281.011375</c:v>
                </c:pt>
                <c:pt idx="346">
                  <c:v>279.726264</c:v>
                </c:pt>
                <c:pt idx="347">
                  <c:v>278.445077</c:v>
                </c:pt>
                <c:pt idx="348">
                  <c:v>277.167808</c:v>
                </c:pt>
                <c:pt idx="349">
                  <c:v>275.894451</c:v>
                </c:pt>
                <c:pt idx="350">
                  <c:v>274.625</c:v>
                </c:pt>
                <c:pt idx="351">
                  <c:v>273.359449</c:v>
                </c:pt>
                <c:pt idx="352">
                  <c:v>272.097792</c:v>
                </c:pt>
                <c:pt idx="353">
                  <c:v>270.840023</c:v>
                </c:pt>
                <c:pt idx="354">
                  <c:v>269.586136</c:v>
                </c:pt>
                <c:pt idx="355">
                  <c:v>268.336125</c:v>
                </c:pt>
                <c:pt idx="356">
                  <c:v>267.089984</c:v>
                </c:pt>
                <c:pt idx="357">
                  <c:v>265.847707</c:v>
                </c:pt>
                <c:pt idx="358">
                  <c:v>264.609288</c:v>
                </c:pt>
                <c:pt idx="359">
                  <c:v>263.374721</c:v>
                </c:pt>
                <c:pt idx="360">
                  <c:v>262.144</c:v>
                </c:pt>
                <c:pt idx="361">
                  <c:v>260.917119</c:v>
                </c:pt>
                <c:pt idx="362">
                  <c:v>259.694072</c:v>
                </c:pt>
                <c:pt idx="363">
                  <c:v>258.474853</c:v>
                </c:pt>
                <c:pt idx="364">
                  <c:v>257.259456</c:v>
                </c:pt>
                <c:pt idx="365">
                  <c:v>256.047875</c:v>
                </c:pt>
                <c:pt idx="366">
                  <c:v>254.840104</c:v>
                </c:pt>
                <c:pt idx="367">
                  <c:v>253.636137</c:v>
                </c:pt>
                <c:pt idx="368">
                  <c:v>252.435968</c:v>
                </c:pt>
                <c:pt idx="369">
                  <c:v>251.239591</c:v>
                </c:pt>
                <c:pt idx="370">
                  <c:v>250.047</c:v>
                </c:pt>
                <c:pt idx="371">
                  <c:v>248.858189</c:v>
                </c:pt>
                <c:pt idx="372">
                  <c:v>247.673152</c:v>
                </c:pt>
                <c:pt idx="373">
                  <c:v>246.491883</c:v>
                </c:pt>
                <c:pt idx="374">
                  <c:v>245.314376</c:v>
                </c:pt>
                <c:pt idx="375">
                  <c:v>244.140625</c:v>
                </c:pt>
                <c:pt idx="376">
                  <c:v>242.970624</c:v>
                </c:pt>
                <c:pt idx="377">
                  <c:v>241.804367</c:v>
                </c:pt>
                <c:pt idx="378">
                  <c:v>240.641848</c:v>
                </c:pt>
                <c:pt idx="379">
                  <c:v>239.483061</c:v>
                </c:pt>
                <c:pt idx="380">
                  <c:v>238.328</c:v>
                </c:pt>
                <c:pt idx="381">
                  <c:v>237.176659</c:v>
                </c:pt>
                <c:pt idx="382">
                  <c:v>236.029032</c:v>
                </c:pt>
                <c:pt idx="383">
                  <c:v>234.885113</c:v>
                </c:pt>
                <c:pt idx="384">
                  <c:v>233.744896</c:v>
                </c:pt>
                <c:pt idx="385">
                  <c:v>232.608375</c:v>
                </c:pt>
                <c:pt idx="386">
                  <c:v>231.475544</c:v>
                </c:pt>
                <c:pt idx="387">
                  <c:v>230.346397</c:v>
                </c:pt>
                <c:pt idx="388">
                  <c:v>229.220928</c:v>
                </c:pt>
                <c:pt idx="389">
                  <c:v>228.099131</c:v>
                </c:pt>
                <c:pt idx="390">
                  <c:v>226.981</c:v>
                </c:pt>
                <c:pt idx="391">
                  <c:v>225.866529</c:v>
                </c:pt>
                <c:pt idx="392">
                  <c:v>224.755712</c:v>
                </c:pt>
                <c:pt idx="393">
                  <c:v>223.648543</c:v>
                </c:pt>
                <c:pt idx="394">
                  <c:v>222.545016</c:v>
                </c:pt>
                <c:pt idx="395">
                  <c:v>221.445125</c:v>
                </c:pt>
                <c:pt idx="396">
                  <c:v>220.348864</c:v>
                </c:pt>
                <c:pt idx="397">
                  <c:v>219.256227</c:v>
                </c:pt>
                <c:pt idx="398">
                  <c:v>218.167208</c:v>
                </c:pt>
                <c:pt idx="399">
                  <c:v>217.081801</c:v>
                </c:pt>
                <c:pt idx="400">
                  <c:v>216</c:v>
                </c:pt>
                <c:pt idx="401">
                  <c:v>214.921799</c:v>
                </c:pt>
                <c:pt idx="402">
                  <c:v>213.847192</c:v>
                </c:pt>
                <c:pt idx="403">
                  <c:v>212.776173</c:v>
                </c:pt>
                <c:pt idx="404">
                  <c:v>211.708736</c:v>
                </c:pt>
                <c:pt idx="405">
                  <c:v>210.644875</c:v>
                </c:pt>
                <c:pt idx="406">
                  <c:v>209.584584</c:v>
                </c:pt>
                <c:pt idx="407">
                  <c:v>208.527857</c:v>
                </c:pt>
                <c:pt idx="408">
                  <c:v>207.474688</c:v>
                </c:pt>
                <c:pt idx="409">
                  <c:v>206.425071</c:v>
                </c:pt>
                <c:pt idx="410">
                  <c:v>205.379</c:v>
                </c:pt>
                <c:pt idx="411">
                  <c:v>204.336469</c:v>
                </c:pt>
                <c:pt idx="412">
                  <c:v>203.297472</c:v>
                </c:pt>
                <c:pt idx="413">
                  <c:v>202.262003</c:v>
                </c:pt>
                <c:pt idx="414">
                  <c:v>201.230056</c:v>
                </c:pt>
                <c:pt idx="415">
                  <c:v>200.201625</c:v>
                </c:pt>
                <c:pt idx="416">
                  <c:v>199.176704</c:v>
                </c:pt>
                <c:pt idx="417">
                  <c:v>198.155287</c:v>
                </c:pt>
                <c:pt idx="418">
                  <c:v>197.137368</c:v>
                </c:pt>
                <c:pt idx="419">
                  <c:v>196.122941</c:v>
                </c:pt>
                <c:pt idx="420">
                  <c:v>195.112</c:v>
                </c:pt>
                <c:pt idx="421">
                  <c:v>194.104539</c:v>
                </c:pt>
                <c:pt idx="422">
                  <c:v>193.100552</c:v>
                </c:pt>
                <c:pt idx="423">
                  <c:v>192.100033</c:v>
                </c:pt>
                <c:pt idx="424">
                  <c:v>191.102976</c:v>
                </c:pt>
                <c:pt idx="425">
                  <c:v>190.109375</c:v>
                </c:pt>
                <c:pt idx="426">
                  <c:v>189.119224</c:v>
                </c:pt>
                <c:pt idx="427">
                  <c:v>188.132517</c:v>
                </c:pt>
                <c:pt idx="428">
                  <c:v>187.149248</c:v>
                </c:pt>
                <c:pt idx="429">
                  <c:v>186.169411</c:v>
                </c:pt>
                <c:pt idx="430">
                  <c:v>185.193</c:v>
                </c:pt>
                <c:pt idx="431">
                  <c:v>184.220009</c:v>
                </c:pt>
                <c:pt idx="432">
                  <c:v>183.250432</c:v>
                </c:pt>
                <c:pt idx="433">
                  <c:v>182.284263</c:v>
                </c:pt>
                <c:pt idx="434">
                  <c:v>181.321496</c:v>
                </c:pt>
                <c:pt idx="435">
                  <c:v>180.362125</c:v>
                </c:pt>
                <c:pt idx="436">
                  <c:v>179.406144</c:v>
                </c:pt>
                <c:pt idx="437">
                  <c:v>178.453547</c:v>
                </c:pt>
                <c:pt idx="438">
                  <c:v>177.504328</c:v>
                </c:pt>
                <c:pt idx="439">
                  <c:v>176.558481</c:v>
                </c:pt>
                <c:pt idx="440">
                  <c:v>175.616</c:v>
                </c:pt>
                <c:pt idx="441">
                  <c:v>174.676879</c:v>
                </c:pt>
                <c:pt idx="442">
                  <c:v>173.741112</c:v>
                </c:pt>
                <c:pt idx="443">
                  <c:v>172.808693</c:v>
                </c:pt>
                <c:pt idx="444">
                  <c:v>171.879616</c:v>
                </c:pt>
                <c:pt idx="445">
                  <c:v>170.953875</c:v>
                </c:pt>
                <c:pt idx="446">
                  <c:v>170.031464</c:v>
                </c:pt>
                <c:pt idx="447">
                  <c:v>169.112377</c:v>
                </c:pt>
                <c:pt idx="448">
                  <c:v>168.196608</c:v>
                </c:pt>
                <c:pt idx="449">
                  <c:v>167.284151</c:v>
                </c:pt>
                <c:pt idx="450">
                  <c:v>166.375</c:v>
                </c:pt>
                <c:pt idx="451">
                  <c:v>165.469149</c:v>
                </c:pt>
                <c:pt idx="452">
                  <c:v>164.566592</c:v>
                </c:pt>
                <c:pt idx="453">
                  <c:v>163.667323</c:v>
                </c:pt>
                <c:pt idx="454">
                  <c:v>162.771336</c:v>
                </c:pt>
                <c:pt idx="455">
                  <c:v>161.878625</c:v>
                </c:pt>
                <c:pt idx="456">
                  <c:v>160.989184</c:v>
                </c:pt>
                <c:pt idx="457">
                  <c:v>160.103007</c:v>
                </c:pt>
                <c:pt idx="458">
                  <c:v>159.220088</c:v>
                </c:pt>
                <c:pt idx="459">
                  <c:v>158.340421</c:v>
                </c:pt>
                <c:pt idx="460">
                  <c:v>157.464</c:v>
                </c:pt>
                <c:pt idx="461">
                  <c:v>156.590819</c:v>
                </c:pt>
                <c:pt idx="462">
                  <c:v>155.720872</c:v>
                </c:pt>
                <c:pt idx="463">
                  <c:v>154.854153</c:v>
                </c:pt>
                <c:pt idx="464">
                  <c:v>153.990656</c:v>
                </c:pt>
                <c:pt idx="465">
                  <c:v>153.130375</c:v>
                </c:pt>
                <c:pt idx="466">
                  <c:v>152.273304</c:v>
                </c:pt>
                <c:pt idx="467">
                  <c:v>151.419437</c:v>
                </c:pt>
                <c:pt idx="468">
                  <c:v>150.568768</c:v>
                </c:pt>
                <c:pt idx="469">
                  <c:v>149.721291</c:v>
                </c:pt>
                <c:pt idx="470">
                  <c:v>148.877</c:v>
                </c:pt>
                <c:pt idx="471">
                  <c:v>148.035889</c:v>
                </c:pt>
                <c:pt idx="472">
                  <c:v>147.197952</c:v>
                </c:pt>
                <c:pt idx="473">
                  <c:v>146.363183</c:v>
                </c:pt>
                <c:pt idx="474">
                  <c:v>145.531576</c:v>
                </c:pt>
                <c:pt idx="475">
                  <c:v>144.703125</c:v>
                </c:pt>
                <c:pt idx="476">
                  <c:v>143.877824</c:v>
                </c:pt>
                <c:pt idx="477">
                  <c:v>143.055667</c:v>
                </c:pt>
                <c:pt idx="478">
                  <c:v>142.236648</c:v>
                </c:pt>
                <c:pt idx="479">
                  <c:v>141.420761</c:v>
                </c:pt>
                <c:pt idx="480">
                  <c:v>140.608</c:v>
                </c:pt>
                <c:pt idx="481">
                  <c:v>139.798359</c:v>
                </c:pt>
                <c:pt idx="482">
                  <c:v>138.991832</c:v>
                </c:pt>
                <c:pt idx="483">
                  <c:v>138.188413</c:v>
                </c:pt>
                <c:pt idx="484">
                  <c:v>137.388096</c:v>
                </c:pt>
                <c:pt idx="485">
                  <c:v>136.590875</c:v>
                </c:pt>
                <c:pt idx="486">
                  <c:v>135.796744</c:v>
                </c:pt>
                <c:pt idx="487">
                  <c:v>135.005697</c:v>
                </c:pt>
                <c:pt idx="488">
                  <c:v>134.217728</c:v>
                </c:pt>
                <c:pt idx="489">
                  <c:v>133.432831</c:v>
                </c:pt>
                <c:pt idx="490">
                  <c:v>132.651</c:v>
                </c:pt>
                <c:pt idx="491">
                  <c:v>131.872229</c:v>
                </c:pt>
                <c:pt idx="492">
                  <c:v>131.096512</c:v>
                </c:pt>
                <c:pt idx="493">
                  <c:v>130.323843</c:v>
                </c:pt>
                <c:pt idx="494">
                  <c:v>129.554216</c:v>
                </c:pt>
                <c:pt idx="495">
                  <c:v>128.787625</c:v>
                </c:pt>
                <c:pt idx="496">
                  <c:v>128.024064</c:v>
                </c:pt>
                <c:pt idx="497">
                  <c:v>127.263527</c:v>
                </c:pt>
                <c:pt idx="498">
                  <c:v>126.506008</c:v>
                </c:pt>
                <c:pt idx="499">
                  <c:v>125.751501</c:v>
                </c:pt>
                <c:pt idx="500">
                  <c:v>125</c:v>
                </c:pt>
                <c:pt idx="501">
                  <c:v>124.251499</c:v>
                </c:pt>
                <c:pt idx="502">
                  <c:v>123.505992</c:v>
                </c:pt>
                <c:pt idx="503">
                  <c:v>122.763473</c:v>
                </c:pt>
                <c:pt idx="504">
                  <c:v>122.023936</c:v>
                </c:pt>
                <c:pt idx="505">
                  <c:v>121.287375</c:v>
                </c:pt>
                <c:pt idx="506">
                  <c:v>120.553784</c:v>
                </c:pt>
                <c:pt idx="507">
                  <c:v>119.823157</c:v>
                </c:pt>
                <c:pt idx="508">
                  <c:v>119.095488</c:v>
                </c:pt>
                <c:pt idx="509">
                  <c:v>118.370771</c:v>
                </c:pt>
                <c:pt idx="510">
                  <c:v>117.649</c:v>
                </c:pt>
                <c:pt idx="511">
                  <c:v>116.930169</c:v>
                </c:pt>
                <c:pt idx="512">
                  <c:v>116.214272</c:v>
                </c:pt>
                <c:pt idx="513">
                  <c:v>115.501303</c:v>
                </c:pt>
                <c:pt idx="514">
                  <c:v>114.791256</c:v>
                </c:pt>
                <c:pt idx="515">
                  <c:v>114.084125</c:v>
                </c:pt>
                <c:pt idx="516">
                  <c:v>113.379904</c:v>
                </c:pt>
                <c:pt idx="517">
                  <c:v>112.678587</c:v>
                </c:pt>
                <c:pt idx="518">
                  <c:v>111.980168</c:v>
                </c:pt>
                <c:pt idx="519">
                  <c:v>111.284641</c:v>
                </c:pt>
                <c:pt idx="520">
                  <c:v>110.592</c:v>
                </c:pt>
                <c:pt idx="521">
                  <c:v>109.902239</c:v>
                </c:pt>
                <c:pt idx="522">
                  <c:v>109.215352</c:v>
                </c:pt>
                <c:pt idx="523">
                  <c:v>108.531333</c:v>
                </c:pt>
                <c:pt idx="524">
                  <c:v>107.850176</c:v>
                </c:pt>
                <c:pt idx="525">
                  <c:v>107.171875</c:v>
                </c:pt>
                <c:pt idx="526">
                  <c:v>106.496424</c:v>
                </c:pt>
                <c:pt idx="527">
                  <c:v>105.823817</c:v>
                </c:pt>
                <c:pt idx="528">
                  <c:v>105.154048</c:v>
                </c:pt>
                <c:pt idx="529">
                  <c:v>104.487111</c:v>
                </c:pt>
                <c:pt idx="530">
                  <c:v>103.823</c:v>
                </c:pt>
                <c:pt idx="531">
                  <c:v>103.161709</c:v>
                </c:pt>
                <c:pt idx="532">
                  <c:v>102.503232</c:v>
                </c:pt>
                <c:pt idx="533">
                  <c:v>101.847563</c:v>
                </c:pt>
                <c:pt idx="534">
                  <c:v>101.194696</c:v>
                </c:pt>
                <c:pt idx="535">
                  <c:v>100.544625</c:v>
                </c:pt>
                <c:pt idx="536">
                  <c:v>99.897344</c:v>
                </c:pt>
                <c:pt idx="537">
                  <c:v>99.252847</c:v>
                </c:pt>
                <c:pt idx="538">
                  <c:v>98.611128</c:v>
                </c:pt>
                <c:pt idx="539">
                  <c:v>97.972181</c:v>
                </c:pt>
                <c:pt idx="540">
                  <c:v>97.336</c:v>
                </c:pt>
                <c:pt idx="541">
                  <c:v>96.702579</c:v>
                </c:pt>
                <c:pt idx="542">
                  <c:v>96.071912</c:v>
                </c:pt>
                <c:pt idx="543">
                  <c:v>95.443993</c:v>
                </c:pt>
                <c:pt idx="544">
                  <c:v>94.818816</c:v>
                </c:pt>
                <c:pt idx="545">
                  <c:v>94.196375</c:v>
                </c:pt>
                <c:pt idx="546">
                  <c:v>93.576664</c:v>
                </c:pt>
                <c:pt idx="547">
                  <c:v>92.959677</c:v>
                </c:pt>
                <c:pt idx="548">
                  <c:v>92.345408</c:v>
                </c:pt>
                <c:pt idx="549">
                  <c:v>91.733851</c:v>
                </c:pt>
                <c:pt idx="550">
                  <c:v>91.125</c:v>
                </c:pt>
                <c:pt idx="551">
                  <c:v>90.518849</c:v>
                </c:pt>
                <c:pt idx="552">
                  <c:v>89.915392</c:v>
                </c:pt>
                <c:pt idx="553">
                  <c:v>89.314623</c:v>
                </c:pt>
                <c:pt idx="554">
                  <c:v>88.716536</c:v>
                </c:pt>
                <c:pt idx="555">
                  <c:v>88.121125</c:v>
                </c:pt>
                <c:pt idx="556">
                  <c:v>87.528384</c:v>
                </c:pt>
                <c:pt idx="557">
                  <c:v>86.938307</c:v>
                </c:pt>
                <c:pt idx="558">
                  <c:v>86.350888</c:v>
                </c:pt>
                <c:pt idx="559">
                  <c:v>85.766121</c:v>
                </c:pt>
                <c:pt idx="560">
                  <c:v>85.184</c:v>
                </c:pt>
                <c:pt idx="561">
                  <c:v>84.604519</c:v>
                </c:pt>
                <c:pt idx="562">
                  <c:v>84.027672</c:v>
                </c:pt>
                <c:pt idx="563">
                  <c:v>83.453453</c:v>
                </c:pt>
                <c:pt idx="564">
                  <c:v>82.881856</c:v>
                </c:pt>
                <c:pt idx="565">
                  <c:v>82.312875</c:v>
                </c:pt>
                <c:pt idx="566">
                  <c:v>81.746504</c:v>
                </c:pt>
                <c:pt idx="567">
                  <c:v>81.182737</c:v>
                </c:pt>
                <c:pt idx="568">
                  <c:v>80.621568</c:v>
                </c:pt>
                <c:pt idx="569">
                  <c:v>80.062991</c:v>
                </c:pt>
                <c:pt idx="570">
                  <c:v>79.507</c:v>
                </c:pt>
                <c:pt idx="571">
                  <c:v>78.953589</c:v>
                </c:pt>
                <c:pt idx="572">
                  <c:v>78.402752</c:v>
                </c:pt>
                <c:pt idx="573">
                  <c:v>77.854483</c:v>
                </c:pt>
                <c:pt idx="574">
                  <c:v>77.308776</c:v>
                </c:pt>
                <c:pt idx="575">
                  <c:v>76.765625</c:v>
                </c:pt>
                <c:pt idx="576">
                  <c:v>76.225024</c:v>
                </c:pt>
                <c:pt idx="577">
                  <c:v>75.686967</c:v>
                </c:pt>
                <c:pt idx="578">
                  <c:v>75.151448</c:v>
                </c:pt>
                <c:pt idx="579">
                  <c:v>74.618461</c:v>
                </c:pt>
                <c:pt idx="580">
                  <c:v>74.088</c:v>
                </c:pt>
                <c:pt idx="581">
                  <c:v>73.560059</c:v>
                </c:pt>
                <c:pt idx="582">
                  <c:v>73.034632</c:v>
                </c:pt>
                <c:pt idx="583">
                  <c:v>72.511713</c:v>
                </c:pt>
                <c:pt idx="584">
                  <c:v>71.991296</c:v>
                </c:pt>
                <c:pt idx="585">
                  <c:v>71.473375</c:v>
                </c:pt>
                <c:pt idx="586">
                  <c:v>70.957944</c:v>
                </c:pt>
                <c:pt idx="587">
                  <c:v>70.444997</c:v>
                </c:pt>
                <c:pt idx="588">
                  <c:v>69.934528</c:v>
                </c:pt>
                <c:pt idx="589">
                  <c:v>69.426531</c:v>
                </c:pt>
                <c:pt idx="590">
                  <c:v>68.921</c:v>
                </c:pt>
                <c:pt idx="591">
                  <c:v>68.417929</c:v>
                </c:pt>
                <c:pt idx="592">
                  <c:v>67.917312</c:v>
                </c:pt>
                <c:pt idx="593">
                  <c:v>67.419143</c:v>
                </c:pt>
                <c:pt idx="594">
                  <c:v>66.923416</c:v>
                </c:pt>
                <c:pt idx="595">
                  <c:v>66.430125</c:v>
                </c:pt>
                <c:pt idx="596">
                  <c:v>65.939264</c:v>
                </c:pt>
                <c:pt idx="597">
                  <c:v>65.450827</c:v>
                </c:pt>
                <c:pt idx="598">
                  <c:v>64.964808</c:v>
                </c:pt>
                <c:pt idx="599">
                  <c:v>64.481201</c:v>
                </c:pt>
                <c:pt idx="600">
                  <c:v>64</c:v>
                </c:pt>
                <c:pt idx="601">
                  <c:v>63.521199</c:v>
                </c:pt>
                <c:pt idx="602">
                  <c:v>63.044792</c:v>
                </c:pt>
                <c:pt idx="603">
                  <c:v>62.570773</c:v>
                </c:pt>
                <c:pt idx="604">
                  <c:v>62.099136</c:v>
                </c:pt>
                <c:pt idx="605">
                  <c:v>61.629875</c:v>
                </c:pt>
                <c:pt idx="606">
                  <c:v>61.162984</c:v>
                </c:pt>
                <c:pt idx="607">
                  <c:v>60.698457</c:v>
                </c:pt>
                <c:pt idx="608">
                  <c:v>60.236288</c:v>
                </c:pt>
                <c:pt idx="609">
                  <c:v>59.776471</c:v>
                </c:pt>
                <c:pt idx="610">
                  <c:v>59.319</c:v>
                </c:pt>
                <c:pt idx="611">
                  <c:v>58.863869</c:v>
                </c:pt>
                <c:pt idx="612">
                  <c:v>58.411072</c:v>
                </c:pt>
                <c:pt idx="613">
                  <c:v>57.960603</c:v>
                </c:pt>
                <c:pt idx="614">
                  <c:v>57.512456</c:v>
                </c:pt>
                <c:pt idx="615">
                  <c:v>57.066625</c:v>
                </c:pt>
                <c:pt idx="616">
                  <c:v>56.623104</c:v>
                </c:pt>
                <c:pt idx="617">
                  <c:v>56.181887</c:v>
                </c:pt>
                <c:pt idx="618">
                  <c:v>55.742968</c:v>
                </c:pt>
                <c:pt idx="619">
                  <c:v>55.306341</c:v>
                </c:pt>
                <c:pt idx="620">
                  <c:v>54.872</c:v>
                </c:pt>
                <c:pt idx="621">
                  <c:v>54.439939</c:v>
                </c:pt>
                <c:pt idx="622">
                  <c:v>54.010152</c:v>
                </c:pt>
                <c:pt idx="623">
                  <c:v>53.582633</c:v>
                </c:pt>
                <c:pt idx="624">
                  <c:v>53.157376</c:v>
                </c:pt>
                <c:pt idx="625">
                  <c:v>52.734375</c:v>
                </c:pt>
                <c:pt idx="626">
                  <c:v>52.313624</c:v>
                </c:pt>
                <c:pt idx="627">
                  <c:v>51.895117</c:v>
                </c:pt>
                <c:pt idx="628">
                  <c:v>51.478848</c:v>
                </c:pt>
                <c:pt idx="629">
                  <c:v>51.064811</c:v>
                </c:pt>
                <c:pt idx="630">
                  <c:v>50.653</c:v>
                </c:pt>
                <c:pt idx="631">
                  <c:v>50.243409</c:v>
                </c:pt>
                <c:pt idx="632">
                  <c:v>49.836032</c:v>
                </c:pt>
                <c:pt idx="633">
                  <c:v>49.430863</c:v>
                </c:pt>
                <c:pt idx="634">
                  <c:v>49.027896</c:v>
                </c:pt>
                <c:pt idx="635">
                  <c:v>48.627125</c:v>
                </c:pt>
                <c:pt idx="636">
                  <c:v>48.228544</c:v>
                </c:pt>
                <c:pt idx="637">
                  <c:v>47.832147</c:v>
                </c:pt>
                <c:pt idx="638">
                  <c:v>47.437928</c:v>
                </c:pt>
                <c:pt idx="639">
                  <c:v>47.045881</c:v>
                </c:pt>
                <c:pt idx="640">
                  <c:v>46.656</c:v>
                </c:pt>
                <c:pt idx="641">
                  <c:v>46.268279</c:v>
                </c:pt>
                <c:pt idx="642">
                  <c:v>45.882712</c:v>
                </c:pt>
                <c:pt idx="643">
                  <c:v>45.499293</c:v>
                </c:pt>
                <c:pt idx="644">
                  <c:v>45.118016</c:v>
                </c:pt>
                <c:pt idx="645">
                  <c:v>44.738875</c:v>
                </c:pt>
                <c:pt idx="646">
                  <c:v>44.361864</c:v>
                </c:pt>
                <c:pt idx="647">
                  <c:v>43.986977</c:v>
                </c:pt>
                <c:pt idx="648">
                  <c:v>43.614208</c:v>
                </c:pt>
                <c:pt idx="649">
                  <c:v>43.243551</c:v>
                </c:pt>
                <c:pt idx="650">
                  <c:v>42.875</c:v>
                </c:pt>
                <c:pt idx="651">
                  <c:v>42.508549</c:v>
                </c:pt>
                <c:pt idx="652">
                  <c:v>42.144192</c:v>
                </c:pt>
                <c:pt idx="653">
                  <c:v>41.781923</c:v>
                </c:pt>
                <c:pt idx="654">
                  <c:v>41.421736</c:v>
                </c:pt>
                <c:pt idx="655">
                  <c:v>41.063625</c:v>
                </c:pt>
                <c:pt idx="656">
                  <c:v>40.707584</c:v>
                </c:pt>
                <c:pt idx="657">
                  <c:v>40.353607</c:v>
                </c:pt>
                <c:pt idx="658">
                  <c:v>40.001688</c:v>
                </c:pt>
                <c:pt idx="659">
                  <c:v>39.651821</c:v>
                </c:pt>
                <c:pt idx="660">
                  <c:v>39.304</c:v>
                </c:pt>
                <c:pt idx="661">
                  <c:v>38.958219</c:v>
                </c:pt>
                <c:pt idx="662">
                  <c:v>38.614472</c:v>
                </c:pt>
                <c:pt idx="663">
                  <c:v>38.272753</c:v>
                </c:pt>
                <c:pt idx="664">
                  <c:v>37.933056</c:v>
                </c:pt>
                <c:pt idx="665">
                  <c:v>37.595375</c:v>
                </c:pt>
                <c:pt idx="666">
                  <c:v>37.259704</c:v>
                </c:pt>
                <c:pt idx="667">
                  <c:v>36.926037</c:v>
                </c:pt>
                <c:pt idx="668">
                  <c:v>36.594368</c:v>
                </c:pt>
                <c:pt idx="669">
                  <c:v>36.264691</c:v>
                </c:pt>
                <c:pt idx="670">
                  <c:v>35.937</c:v>
                </c:pt>
                <c:pt idx="671">
                  <c:v>35.611289</c:v>
                </c:pt>
                <c:pt idx="672">
                  <c:v>35.287552</c:v>
                </c:pt>
                <c:pt idx="673">
                  <c:v>34.965783</c:v>
                </c:pt>
                <c:pt idx="674">
                  <c:v>34.645976</c:v>
                </c:pt>
                <c:pt idx="675">
                  <c:v>34.328125</c:v>
                </c:pt>
                <c:pt idx="676">
                  <c:v>34.012224</c:v>
                </c:pt>
                <c:pt idx="677">
                  <c:v>33.698267</c:v>
                </c:pt>
                <c:pt idx="678">
                  <c:v>33.386248</c:v>
                </c:pt>
                <c:pt idx="679">
                  <c:v>33.076161</c:v>
                </c:pt>
                <c:pt idx="680">
                  <c:v>32.768</c:v>
                </c:pt>
                <c:pt idx="681">
                  <c:v>32.461759</c:v>
                </c:pt>
                <c:pt idx="682">
                  <c:v>32.157432</c:v>
                </c:pt>
                <c:pt idx="683">
                  <c:v>31.855013</c:v>
                </c:pt>
                <c:pt idx="684">
                  <c:v>31.554496</c:v>
                </c:pt>
                <c:pt idx="685">
                  <c:v>31.255875</c:v>
                </c:pt>
                <c:pt idx="686">
                  <c:v>30.959144</c:v>
                </c:pt>
                <c:pt idx="687">
                  <c:v>30.664297</c:v>
                </c:pt>
                <c:pt idx="688">
                  <c:v>30.371328</c:v>
                </c:pt>
                <c:pt idx="689">
                  <c:v>30.080231</c:v>
                </c:pt>
                <c:pt idx="690">
                  <c:v>29.791</c:v>
                </c:pt>
                <c:pt idx="691">
                  <c:v>29.503629</c:v>
                </c:pt>
                <c:pt idx="692">
                  <c:v>29.218112</c:v>
                </c:pt>
                <c:pt idx="693">
                  <c:v>28.934443</c:v>
                </c:pt>
                <c:pt idx="694">
                  <c:v>28.652616</c:v>
                </c:pt>
                <c:pt idx="695">
                  <c:v>28.372625</c:v>
                </c:pt>
                <c:pt idx="696">
                  <c:v>28.094464</c:v>
                </c:pt>
                <c:pt idx="697">
                  <c:v>27.818127</c:v>
                </c:pt>
                <c:pt idx="698">
                  <c:v>27.543608</c:v>
                </c:pt>
                <c:pt idx="699">
                  <c:v>27.270901</c:v>
                </c:pt>
                <c:pt idx="700">
                  <c:v>27</c:v>
                </c:pt>
                <c:pt idx="701">
                  <c:v>26.730899</c:v>
                </c:pt>
                <c:pt idx="702">
                  <c:v>26.463592</c:v>
                </c:pt>
                <c:pt idx="703">
                  <c:v>26.198073</c:v>
                </c:pt>
                <c:pt idx="704">
                  <c:v>25.934336</c:v>
                </c:pt>
                <c:pt idx="705">
                  <c:v>25.672375</c:v>
                </c:pt>
                <c:pt idx="706">
                  <c:v>25.412184</c:v>
                </c:pt>
                <c:pt idx="707">
                  <c:v>25.153757</c:v>
                </c:pt>
                <c:pt idx="708">
                  <c:v>24.897088</c:v>
                </c:pt>
                <c:pt idx="709">
                  <c:v>24.642171</c:v>
                </c:pt>
                <c:pt idx="710">
                  <c:v>24.389</c:v>
                </c:pt>
                <c:pt idx="711">
                  <c:v>24.137569</c:v>
                </c:pt>
                <c:pt idx="712">
                  <c:v>23.887872</c:v>
                </c:pt>
                <c:pt idx="713">
                  <c:v>23.639903</c:v>
                </c:pt>
                <c:pt idx="714">
                  <c:v>23.393656</c:v>
                </c:pt>
                <c:pt idx="715">
                  <c:v>23.149125</c:v>
                </c:pt>
                <c:pt idx="716">
                  <c:v>22.906304</c:v>
                </c:pt>
                <c:pt idx="717">
                  <c:v>22.665187</c:v>
                </c:pt>
                <c:pt idx="718">
                  <c:v>22.425768</c:v>
                </c:pt>
                <c:pt idx="719">
                  <c:v>22.188041</c:v>
                </c:pt>
                <c:pt idx="720">
                  <c:v>21.952</c:v>
                </c:pt>
                <c:pt idx="721">
                  <c:v>21.717639</c:v>
                </c:pt>
                <c:pt idx="722">
                  <c:v>21.484952</c:v>
                </c:pt>
                <c:pt idx="723">
                  <c:v>21.253933</c:v>
                </c:pt>
                <c:pt idx="724">
                  <c:v>21.024576</c:v>
                </c:pt>
                <c:pt idx="725">
                  <c:v>20.796875</c:v>
                </c:pt>
                <c:pt idx="726">
                  <c:v>20.570824</c:v>
                </c:pt>
                <c:pt idx="727">
                  <c:v>20.346417</c:v>
                </c:pt>
                <c:pt idx="728">
                  <c:v>20.123648</c:v>
                </c:pt>
                <c:pt idx="729">
                  <c:v>19.902511</c:v>
                </c:pt>
                <c:pt idx="730">
                  <c:v>19.683</c:v>
                </c:pt>
                <c:pt idx="731">
                  <c:v>19.465109</c:v>
                </c:pt>
                <c:pt idx="732">
                  <c:v>19.248832</c:v>
                </c:pt>
                <c:pt idx="733">
                  <c:v>19.034163</c:v>
                </c:pt>
                <c:pt idx="734">
                  <c:v>18.821096</c:v>
                </c:pt>
                <c:pt idx="735">
                  <c:v>18.609625</c:v>
                </c:pt>
                <c:pt idx="736">
                  <c:v>18.399744</c:v>
                </c:pt>
                <c:pt idx="737">
                  <c:v>18.191447</c:v>
                </c:pt>
                <c:pt idx="738">
                  <c:v>17.984728</c:v>
                </c:pt>
                <c:pt idx="739">
                  <c:v>17.779581</c:v>
                </c:pt>
                <c:pt idx="740">
                  <c:v>17.576</c:v>
                </c:pt>
                <c:pt idx="741">
                  <c:v>17.373979</c:v>
                </c:pt>
                <c:pt idx="742">
                  <c:v>17.173512</c:v>
                </c:pt>
                <c:pt idx="743">
                  <c:v>16.974593</c:v>
                </c:pt>
                <c:pt idx="744">
                  <c:v>16.777216</c:v>
                </c:pt>
                <c:pt idx="745">
                  <c:v>16.581375</c:v>
                </c:pt>
                <c:pt idx="746">
                  <c:v>16.387064</c:v>
                </c:pt>
                <c:pt idx="747">
                  <c:v>16.194277</c:v>
                </c:pt>
                <c:pt idx="748">
                  <c:v>16.003008</c:v>
                </c:pt>
                <c:pt idx="749">
                  <c:v>15.813251</c:v>
                </c:pt>
                <c:pt idx="750">
                  <c:v>15.625</c:v>
                </c:pt>
                <c:pt idx="751">
                  <c:v>15.438249</c:v>
                </c:pt>
                <c:pt idx="752">
                  <c:v>15.252992</c:v>
                </c:pt>
                <c:pt idx="753">
                  <c:v>15.069223</c:v>
                </c:pt>
                <c:pt idx="754">
                  <c:v>14.886936</c:v>
                </c:pt>
                <c:pt idx="755">
                  <c:v>14.706125</c:v>
                </c:pt>
                <c:pt idx="756">
                  <c:v>14.526784</c:v>
                </c:pt>
                <c:pt idx="757">
                  <c:v>14.348907</c:v>
                </c:pt>
                <c:pt idx="758">
                  <c:v>14.172488</c:v>
                </c:pt>
                <c:pt idx="759">
                  <c:v>13.997521</c:v>
                </c:pt>
                <c:pt idx="760">
                  <c:v>13.824</c:v>
                </c:pt>
                <c:pt idx="761">
                  <c:v>13.651919</c:v>
                </c:pt>
                <c:pt idx="762">
                  <c:v>13.481272</c:v>
                </c:pt>
                <c:pt idx="763">
                  <c:v>13.312053</c:v>
                </c:pt>
                <c:pt idx="764">
                  <c:v>13.144256</c:v>
                </c:pt>
                <c:pt idx="765">
                  <c:v>12.977875</c:v>
                </c:pt>
                <c:pt idx="766">
                  <c:v>12.812904</c:v>
                </c:pt>
                <c:pt idx="767">
                  <c:v>12.649337</c:v>
                </c:pt>
                <c:pt idx="768">
                  <c:v>12.487168</c:v>
                </c:pt>
                <c:pt idx="769">
                  <c:v>12.326391</c:v>
                </c:pt>
                <c:pt idx="770">
                  <c:v>12.167</c:v>
                </c:pt>
                <c:pt idx="771">
                  <c:v>12.008989</c:v>
                </c:pt>
                <c:pt idx="772">
                  <c:v>11.852352</c:v>
                </c:pt>
                <c:pt idx="773">
                  <c:v>11.697083</c:v>
                </c:pt>
                <c:pt idx="774">
                  <c:v>11.543176</c:v>
                </c:pt>
                <c:pt idx="775">
                  <c:v>11.390625</c:v>
                </c:pt>
                <c:pt idx="776">
                  <c:v>11.239424</c:v>
                </c:pt>
                <c:pt idx="777">
                  <c:v>11.089567</c:v>
                </c:pt>
                <c:pt idx="778">
                  <c:v>10.941048</c:v>
                </c:pt>
                <c:pt idx="779">
                  <c:v>10.793861</c:v>
                </c:pt>
                <c:pt idx="780">
                  <c:v>10.648</c:v>
                </c:pt>
                <c:pt idx="781">
                  <c:v>10.503459</c:v>
                </c:pt>
                <c:pt idx="782">
                  <c:v>10.360232</c:v>
                </c:pt>
                <c:pt idx="783">
                  <c:v>10.218313</c:v>
                </c:pt>
                <c:pt idx="784">
                  <c:v>10.077696</c:v>
                </c:pt>
                <c:pt idx="785">
                  <c:v>9.93837499999999</c:v>
                </c:pt>
                <c:pt idx="786">
                  <c:v>9.800344</c:v>
                </c:pt>
                <c:pt idx="787">
                  <c:v>9.663597</c:v>
                </c:pt>
                <c:pt idx="788">
                  <c:v>9.528128</c:v>
                </c:pt>
                <c:pt idx="789">
                  <c:v>9.39393099999999</c:v>
                </c:pt>
                <c:pt idx="790">
                  <c:v>9.261</c:v>
                </c:pt>
                <c:pt idx="791">
                  <c:v>9.129329</c:v>
                </c:pt>
                <c:pt idx="792">
                  <c:v>8.998912</c:v>
                </c:pt>
                <c:pt idx="793">
                  <c:v>8.86974299999999</c:v>
                </c:pt>
                <c:pt idx="794">
                  <c:v>8.741816</c:v>
                </c:pt>
                <c:pt idx="795">
                  <c:v>8.615125</c:v>
                </c:pt>
                <c:pt idx="796">
                  <c:v>8.489664</c:v>
                </c:pt>
                <c:pt idx="797">
                  <c:v>8.365427</c:v>
                </c:pt>
                <c:pt idx="798">
                  <c:v>8.24240799999999</c:v>
                </c:pt>
                <c:pt idx="799">
                  <c:v>8.120601</c:v>
                </c:pt>
                <c:pt idx="800">
                  <c:v>8</c:v>
                </c:pt>
                <c:pt idx="801">
                  <c:v>7.880599</c:v>
                </c:pt>
                <c:pt idx="802">
                  <c:v>7.76239200000001</c:v>
                </c:pt>
                <c:pt idx="803">
                  <c:v>7.64537300000001</c:v>
                </c:pt>
                <c:pt idx="804">
                  <c:v>7.52953599999999</c:v>
                </c:pt>
                <c:pt idx="805">
                  <c:v>7.41487499999999</c:v>
                </c:pt>
                <c:pt idx="806">
                  <c:v>7.30138399999999</c:v>
                </c:pt>
                <c:pt idx="807">
                  <c:v>7.189057</c:v>
                </c:pt>
                <c:pt idx="808">
                  <c:v>7.077888</c:v>
                </c:pt>
                <c:pt idx="809">
                  <c:v>6.967871</c:v>
                </c:pt>
                <c:pt idx="810">
                  <c:v>6.859</c:v>
                </c:pt>
                <c:pt idx="811">
                  <c:v>6.75126900000001</c:v>
                </c:pt>
                <c:pt idx="812">
                  <c:v>6.64467199999999</c:v>
                </c:pt>
                <c:pt idx="813">
                  <c:v>6.53920299999999</c:v>
                </c:pt>
                <c:pt idx="814">
                  <c:v>6.43485599999999</c:v>
                </c:pt>
                <c:pt idx="815">
                  <c:v>6.331625</c:v>
                </c:pt>
                <c:pt idx="816">
                  <c:v>6.229504</c:v>
                </c:pt>
                <c:pt idx="817">
                  <c:v>6.128487</c:v>
                </c:pt>
                <c:pt idx="818">
                  <c:v>6.028568</c:v>
                </c:pt>
                <c:pt idx="819">
                  <c:v>5.92974100000001</c:v>
                </c:pt>
                <c:pt idx="820">
                  <c:v>5.83200000000001</c:v>
                </c:pt>
                <c:pt idx="821">
                  <c:v>5.73533899999999</c:v>
                </c:pt>
                <c:pt idx="822">
                  <c:v>5.63975199999999</c:v>
                </c:pt>
                <c:pt idx="823">
                  <c:v>5.545233</c:v>
                </c:pt>
                <c:pt idx="824">
                  <c:v>5.451776</c:v>
                </c:pt>
                <c:pt idx="825">
                  <c:v>5.359375</c:v>
                </c:pt>
                <c:pt idx="826">
                  <c:v>5.268024</c:v>
                </c:pt>
                <c:pt idx="827">
                  <c:v>5.177717</c:v>
                </c:pt>
                <c:pt idx="828">
                  <c:v>5.08844800000001</c:v>
                </c:pt>
                <c:pt idx="829">
                  <c:v>5.00021099999999</c:v>
                </c:pt>
                <c:pt idx="830">
                  <c:v>4.91299999999999</c:v>
                </c:pt>
                <c:pt idx="831">
                  <c:v>4.826809</c:v>
                </c:pt>
                <c:pt idx="832">
                  <c:v>4.741632</c:v>
                </c:pt>
                <c:pt idx="833">
                  <c:v>4.657463</c:v>
                </c:pt>
                <c:pt idx="834">
                  <c:v>4.574296</c:v>
                </c:pt>
                <c:pt idx="835">
                  <c:v>4.492125</c:v>
                </c:pt>
                <c:pt idx="836">
                  <c:v>4.410944</c:v>
                </c:pt>
                <c:pt idx="837">
                  <c:v>4.33074699999999</c:v>
                </c:pt>
                <c:pt idx="838">
                  <c:v>4.25152799999999</c:v>
                </c:pt>
                <c:pt idx="839">
                  <c:v>4.173281</c:v>
                </c:pt>
                <c:pt idx="840">
                  <c:v>4.096</c:v>
                </c:pt>
                <c:pt idx="841">
                  <c:v>4.019679</c:v>
                </c:pt>
                <c:pt idx="842">
                  <c:v>3.944312</c:v>
                </c:pt>
                <c:pt idx="843">
                  <c:v>3.869893</c:v>
                </c:pt>
                <c:pt idx="844">
                  <c:v>3.796416</c:v>
                </c:pt>
                <c:pt idx="845">
                  <c:v>3.72387500000001</c:v>
                </c:pt>
                <c:pt idx="846">
                  <c:v>3.65226399999999</c:v>
                </c:pt>
                <c:pt idx="847">
                  <c:v>3.581577</c:v>
                </c:pt>
                <c:pt idx="848">
                  <c:v>3.511808</c:v>
                </c:pt>
                <c:pt idx="849">
                  <c:v>3.442951</c:v>
                </c:pt>
                <c:pt idx="850">
                  <c:v>3.375</c:v>
                </c:pt>
                <c:pt idx="851">
                  <c:v>3.307949</c:v>
                </c:pt>
                <c:pt idx="852">
                  <c:v>3.241792</c:v>
                </c:pt>
                <c:pt idx="853">
                  <c:v>3.176523</c:v>
                </c:pt>
                <c:pt idx="854">
                  <c:v>3.11213599999999</c:v>
                </c:pt>
                <c:pt idx="855">
                  <c:v>3.048625</c:v>
                </c:pt>
                <c:pt idx="856">
                  <c:v>2.985984</c:v>
                </c:pt>
                <c:pt idx="857">
                  <c:v>2.924207</c:v>
                </c:pt>
                <c:pt idx="858">
                  <c:v>2.863288</c:v>
                </c:pt>
                <c:pt idx="859">
                  <c:v>2.803221</c:v>
                </c:pt>
                <c:pt idx="860">
                  <c:v>2.744</c:v>
                </c:pt>
                <c:pt idx="861">
                  <c:v>2.685619</c:v>
                </c:pt>
                <c:pt idx="862">
                  <c:v>2.62807199999999</c:v>
                </c:pt>
                <c:pt idx="863">
                  <c:v>2.571353</c:v>
                </c:pt>
                <c:pt idx="864">
                  <c:v>2.515456</c:v>
                </c:pt>
                <c:pt idx="865">
                  <c:v>2.460375</c:v>
                </c:pt>
                <c:pt idx="866">
                  <c:v>2.406104</c:v>
                </c:pt>
                <c:pt idx="867">
                  <c:v>2.352637</c:v>
                </c:pt>
                <c:pt idx="868">
                  <c:v>2.299968</c:v>
                </c:pt>
                <c:pt idx="869">
                  <c:v>2.248091</c:v>
                </c:pt>
                <c:pt idx="870">
                  <c:v>2.19699999999999</c:v>
                </c:pt>
                <c:pt idx="871">
                  <c:v>2.146689</c:v>
                </c:pt>
                <c:pt idx="872">
                  <c:v>2.097152</c:v>
                </c:pt>
                <c:pt idx="873">
                  <c:v>2.048383</c:v>
                </c:pt>
                <c:pt idx="874">
                  <c:v>2.000376</c:v>
                </c:pt>
                <c:pt idx="875">
                  <c:v>1.953125</c:v>
                </c:pt>
                <c:pt idx="876">
                  <c:v>1.906624</c:v>
                </c:pt>
                <c:pt idx="877">
                  <c:v>1.860867</c:v>
                </c:pt>
                <c:pt idx="878">
                  <c:v>1.815848</c:v>
                </c:pt>
                <c:pt idx="879">
                  <c:v>1.771561</c:v>
                </c:pt>
                <c:pt idx="880">
                  <c:v>1.728</c:v>
                </c:pt>
                <c:pt idx="881">
                  <c:v>1.685159</c:v>
                </c:pt>
                <c:pt idx="882">
                  <c:v>1.643032</c:v>
                </c:pt>
                <c:pt idx="883">
                  <c:v>1.601613</c:v>
                </c:pt>
                <c:pt idx="884">
                  <c:v>1.560896</c:v>
                </c:pt>
                <c:pt idx="885">
                  <c:v>1.520875</c:v>
                </c:pt>
                <c:pt idx="886">
                  <c:v>1.481544</c:v>
                </c:pt>
                <c:pt idx="887">
                  <c:v>1.442897</c:v>
                </c:pt>
                <c:pt idx="888">
                  <c:v>1.404928</c:v>
                </c:pt>
                <c:pt idx="889">
                  <c:v>1.367631</c:v>
                </c:pt>
                <c:pt idx="890">
                  <c:v>1.331</c:v>
                </c:pt>
                <c:pt idx="891">
                  <c:v>1.295029</c:v>
                </c:pt>
                <c:pt idx="892">
                  <c:v>1.259712</c:v>
                </c:pt>
                <c:pt idx="893">
                  <c:v>1.225043</c:v>
                </c:pt>
                <c:pt idx="894">
                  <c:v>1.191016</c:v>
                </c:pt>
                <c:pt idx="895">
                  <c:v>1.157625</c:v>
                </c:pt>
                <c:pt idx="896">
                  <c:v>1.124864</c:v>
                </c:pt>
                <c:pt idx="897">
                  <c:v>1.092727</c:v>
                </c:pt>
                <c:pt idx="898">
                  <c:v>1.061208</c:v>
                </c:pt>
                <c:pt idx="899">
                  <c:v>1.030301</c:v>
                </c:pt>
                <c:pt idx="900">
                  <c:v>1</c:v>
                </c:pt>
                <c:pt idx="901">
                  <c:v>0.970299000000001</c:v>
                </c:pt>
                <c:pt idx="902">
                  <c:v>0.941192000000001</c:v>
                </c:pt>
                <c:pt idx="903">
                  <c:v>0.912673000000002</c:v>
                </c:pt>
                <c:pt idx="904">
                  <c:v>0.884735999999997</c:v>
                </c:pt>
                <c:pt idx="905">
                  <c:v>0.857374999999998</c:v>
                </c:pt>
                <c:pt idx="906">
                  <c:v>0.830583999999999</c:v>
                </c:pt>
                <c:pt idx="907">
                  <c:v>0.804356999999999</c:v>
                </c:pt>
                <c:pt idx="908">
                  <c:v>0.778688</c:v>
                </c:pt>
                <c:pt idx="909">
                  <c:v>0.753571</c:v>
                </c:pt>
                <c:pt idx="910">
                  <c:v>0.729000000000001</c:v>
                </c:pt>
                <c:pt idx="911">
                  <c:v>0.704969000000001</c:v>
                </c:pt>
                <c:pt idx="912">
                  <c:v>0.681471999999998</c:v>
                </c:pt>
                <c:pt idx="913">
                  <c:v>0.658502999999998</c:v>
                </c:pt>
                <c:pt idx="914">
                  <c:v>0.636055999999999</c:v>
                </c:pt>
                <c:pt idx="915">
                  <c:v>0.614124999999999</c:v>
                </c:pt>
                <c:pt idx="916">
                  <c:v>0.592704</c:v>
                </c:pt>
                <c:pt idx="917">
                  <c:v>0.571787</c:v>
                </c:pt>
                <c:pt idx="918">
                  <c:v>0.551368000000001</c:v>
                </c:pt>
                <c:pt idx="919">
                  <c:v>0.531441000000001</c:v>
                </c:pt>
                <c:pt idx="920">
                  <c:v>0.511999999999998</c:v>
                </c:pt>
                <c:pt idx="921">
                  <c:v>0.493038999999998</c:v>
                </c:pt>
                <c:pt idx="922">
                  <c:v>0.474551999999999</c:v>
                </c:pt>
                <c:pt idx="923">
                  <c:v>0.456532999999999</c:v>
                </c:pt>
                <c:pt idx="924">
                  <c:v>0.438976</c:v>
                </c:pt>
                <c:pt idx="925">
                  <c:v>0.421875</c:v>
                </c:pt>
                <c:pt idx="926">
                  <c:v>0.405224</c:v>
                </c:pt>
                <c:pt idx="927">
                  <c:v>0.389017000000001</c:v>
                </c:pt>
                <c:pt idx="928">
                  <c:v>0.373248000000001</c:v>
                </c:pt>
                <c:pt idx="929">
                  <c:v>0.357910999999999</c:v>
                </c:pt>
                <c:pt idx="930">
                  <c:v>0.342999999999999</c:v>
                </c:pt>
                <c:pt idx="931">
                  <c:v>0.328508999999999</c:v>
                </c:pt>
                <c:pt idx="932">
                  <c:v>0.314432</c:v>
                </c:pt>
                <c:pt idx="933">
                  <c:v>0.300763</c:v>
                </c:pt>
                <c:pt idx="934">
                  <c:v>0.287496</c:v>
                </c:pt>
                <c:pt idx="935">
                  <c:v>0.274625</c:v>
                </c:pt>
                <c:pt idx="936">
                  <c:v>0.262144000000001</c:v>
                </c:pt>
                <c:pt idx="937">
                  <c:v>0.250046999999999</c:v>
                </c:pt>
                <c:pt idx="938">
                  <c:v>0.238327999999999</c:v>
                </c:pt>
                <c:pt idx="939">
                  <c:v>0.226980999999999</c:v>
                </c:pt>
                <c:pt idx="940">
                  <c:v>0.216</c:v>
                </c:pt>
                <c:pt idx="941">
                  <c:v>0.205379</c:v>
                </c:pt>
                <c:pt idx="942">
                  <c:v>0.195112</c:v>
                </c:pt>
                <c:pt idx="943">
                  <c:v>0.185193</c:v>
                </c:pt>
                <c:pt idx="944">
                  <c:v>0.175616</c:v>
                </c:pt>
                <c:pt idx="945">
                  <c:v>0.166374999999999</c:v>
                </c:pt>
                <c:pt idx="946">
                  <c:v>0.157463999999999</c:v>
                </c:pt>
                <c:pt idx="947">
                  <c:v>0.148876999999999</c:v>
                </c:pt>
                <c:pt idx="948">
                  <c:v>0.140608</c:v>
                </c:pt>
                <c:pt idx="949">
                  <c:v>0.132651</c:v>
                </c:pt>
                <c:pt idx="950">
                  <c:v>0.125</c:v>
                </c:pt>
                <c:pt idx="951">
                  <c:v>0.117649</c:v>
                </c:pt>
                <c:pt idx="952">
                  <c:v>0.110592</c:v>
                </c:pt>
                <c:pt idx="953">
                  <c:v>0.103823</c:v>
                </c:pt>
                <c:pt idx="954">
                  <c:v>0.0973359999999994</c:v>
                </c:pt>
                <c:pt idx="955">
                  <c:v>0.0911249999999996</c:v>
                </c:pt>
                <c:pt idx="956">
                  <c:v>0.0851839999999997</c:v>
                </c:pt>
                <c:pt idx="957">
                  <c:v>0.0795069999999998</c:v>
                </c:pt>
                <c:pt idx="958">
                  <c:v>0.074088</c:v>
                </c:pt>
                <c:pt idx="959">
                  <c:v>0.0689210000000001</c:v>
                </c:pt>
                <c:pt idx="960">
                  <c:v>0.0640000000000002</c:v>
                </c:pt>
                <c:pt idx="961">
                  <c:v>0.0593190000000003</c:v>
                </c:pt>
                <c:pt idx="962">
                  <c:v>0.0548719999999996</c:v>
                </c:pt>
                <c:pt idx="963">
                  <c:v>0.0506529999999997</c:v>
                </c:pt>
                <c:pt idx="964">
                  <c:v>0.0466559999999998</c:v>
                </c:pt>
                <c:pt idx="965">
                  <c:v>0.0428749999999999</c:v>
                </c:pt>
                <c:pt idx="966">
                  <c:v>0.039304</c:v>
                </c:pt>
                <c:pt idx="967">
                  <c:v>0.035937</c:v>
                </c:pt>
                <c:pt idx="968">
                  <c:v>0.0327680000000001</c:v>
                </c:pt>
                <c:pt idx="969">
                  <c:v>0.0297910000000001</c:v>
                </c:pt>
                <c:pt idx="970">
                  <c:v>0.0269999999999997</c:v>
                </c:pt>
                <c:pt idx="971">
                  <c:v>0.0243889999999998</c:v>
                </c:pt>
                <c:pt idx="972">
                  <c:v>0.0219519999999998</c:v>
                </c:pt>
                <c:pt idx="973">
                  <c:v>0.0196829999999999</c:v>
                </c:pt>
                <c:pt idx="974">
                  <c:v>0.017576</c:v>
                </c:pt>
                <c:pt idx="975">
                  <c:v>0.015625</c:v>
                </c:pt>
                <c:pt idx="976">
                  <c:v>0.013824</c:v>
                </c:pt>
                <c:pt idx="977">
                  <c:v>0.0121670000000001</c:v>
                </c:pt>
                <c:pt idx="978">
                  <c:v>0.0106480000000001</c:v>
                </c:pt>
                <c:pt idx="979">
                  <c:v>0.00926099999999988</c:v>
                </c:pt>
                <c:pt idx="980">
                  <c:v>0.00799999999999992</c:v>
                </c:pt>
                <c:pt idx="981">
                  <c:v>0.00685899999999995</c:v>
                </c:pt>
                <c:pt idx="982">
                  <c:v>0.00583199999999997</c:v>
                </c:pt>
                <c:pt idx="983">
                  <c:v>0.00491299999999999</c:v>
                </c:pt>
                <c:pt idx="984">
                  <c:v>0.00409600000000001</c:v>
                </c:pt>
                <c:pt idx="985">
                  <c:v>0.00337500000000002</c:v>
                </c:pt>
                <c:pt idx="986">
                  <c:v>0.00274400000000003</c:v>
                </c:pt>
                <c:pt idx="987">
                  <c:v>0.00219699999999995</c:v>
                </c:pt>
                <c:pt idx="988">
                  <c:v>0.00172799999999997</c:v>
                </c:pt>
                <c:pt idx="989">
                  <c:v>0.00133099999999998</c:v>
                </c:pt>
                <c:pt idx="990">
                  <c:v>0.000999999999999989</c:v>
                </c:pt>
                <c:pt idx="991">
                  <c:v>0.000728999999999997</c:v>
                </c:pt>
                <c:pt idx="992">
                  <c:v>0.000512000000000001</c:v>
                </c:pt>
                <c:pt idx="993">
                  <c:v>0.000343000000000004</c:v>
                </c:pt>
                <c:pt idx="994">
                  <c:v>0.000216000000000005</c:v>
                </c:pt>
                <c:pt idx="995">
                  <c:v>0.000124999999999992</c:v>
                </c:pt>
                <c:pt idx="996">
                  <c:v>6.39999999999959E-005</c:v>
                </c:pt>
                <c:pt idx="997">
                  <c:v>2.69999999999983E-005</c:v>
                </c:pt>
                <c:pt idx="998">
                  <c:v>7.99999999999949E-006</c:v>
                </c:pt>
                <c:pt idx="999">
                  <c:v>9.99999999999936E-007</c:v>
                </c:pt>
                <c:pt idx="1000">
                  <c:v>0</c:v>
                </c:pt>
                <c:pt idx="1001">
                  <c:v>-9.99999999999936E-007</c:v>
                </c:pt>
                <c:pt idx="1002">
                  <c:v>-7.99999999999949E-006</c:v>
                </c:pt>
                <c:pt idx="1003">
                  <c:v>-2.69999999999983E-005</c:v>
                </c:pt>
                <c:pt idx="1004">
                  <c:v>-6.40000000000044E-005</c:v>
                </c:pt>
                <c:pt idx="1005">
                  <c:v>-0.000125000000000005</c:v>
                </c:pt>
                <c:pt idx="1006">
                  <c:v>-0.000216000000000005</c:v>
                </c:pt>
                <c:pt idx="1007">
                  <c:v>-0.000343000000000004</c:v>
                </c:pt>
                <c:pt idx="1008">
                  <c:v>-0.000512000000000001</c:v>
                </c:pt>
                <c:pt idx="1009">
                  <c:v>-0.000728999999999997</c:v>
                </c:pt>
                <c:pt idx="1010">
                  <c:v>-0.000999999999999989</c:v>
                </c:pt>
                <c:pt idx="1011">
                  <c:v>-0.00133099999999998</c:v>
                </c:pt>
                <c:pt idx="1012">
                  <c:v>-0.00172800000000004</c:v>
                </c:pt>
                <c:pt idx="1013">
                  <c:v>-0.00219700000000004</c:v>
                </c:pt>
                <c:pt idx="1014">
                  <c:v>-0.00274400000000003</c:v>
                </c:pt>
                <c:pt idx="1015">
                  <c:v>-0.00337500000000002</c:v>
                </c:pt>
                <c:pt idx="1016">
                  <c:v>-0.00409600000000001</c:v>
                </c:pt>
                <c:pt idx="1017">
                  <c:v>-0.00491299999999999</c:v>
                </c:pt>
                <c:pt idx="1018">
                  <c:v>-0.00583199999999997</c:v>
                </c:pt>
                <c:pt idx="1019">
                  <c:v>-0.00685899999999995</c:v>
                </c:pt>
                <c:pt idx="1020">
                  <c:v>-0.00800000000000013</c:v>
                </c:pt>
                <c:pt idx="1021">
                  <c:v>-0.00926100000000011</c:v>
                </c:pt>
                <c:pt idx="1022">
                  <c:v>-0.0106480000000001</c:v>
                </c:pt>
                <c:pt idx="1023">
                  <c:v>-0.0121670000000001</c:v>
                </c:pt>
                <c:pt idx="1024">
                  <c:v>-0.013824</c:v>
                </c:pt>
                <c:pt idx="1025">
                  <c:v>-0.015625</c:v>
                </c:pt>
                <c:pt idx="1026">
                  <c:v>-0.017576</c:v>
                </c:pt>
                <c:pt idx="1027">
                  <c:v>-0.0196829999999999</c:v>
                </c:pt>
                <c:pt idx="1028">
                  <c:v>-0.0219519999999998</c:v>
                </c:pt>
                <c:pt idx="1029">
                  <c:v>-0.0243890000000002</c:v>
                </c:pt>
                <c:pt idx="1030">
                  <c:v>-0.0270000000000002</c:v>
                </c:pt>
                <c:pt idx="1031">
                  <c:v>-0.0297910000000001</c:v>
                </c:pt>
                <c:pt idx="1032">
                  <c:v>-0.0327680000000001</c:v>
                </c:pt>
                <c:pt idx="1033">
                  <c:v>-0.035937</c:v>
                </c:pt>
                <c:pt idx="1034">
                  <c:v>-0.039304</c:v>
                </c:pt>
                <c:pt idx="1035">
                  <c:v>-0.0428749999999999</c:v>
                </c:pt>
                <c:pt idx="1036">
                  <c:v>-0.0466559999999998</c:v>
                </c:pt>
                <c:pt idx="1037">
                  <c:v>-0.0506530000000004</c:v>
                </c:pt>
                <c:pt idx="1038">
                  <c:v>-0.0548720000000003</c:v>
                </c:pt>
                <c:pt idx="1039">
                  <c:v>-0.0593190000000003</c:v>
                </c:pt>
                <c:pt idx="1040">
                  <c:v>-0.0640000000000002</c:v>
                </c:pt>
                <c:pt idx="1041">
                  <c:v>-0.0689210000000001</c:v>
                </c:pt>
                <c:pt idx="1042">
                  <c:v>-0.074088</c:v>
                </c:pt>
                <c:pt idx="1043">
                  <c:v>-0.0795069999999998</c:v>
                </c:pt>
                <c:pt idx="1044">
                  <c:v>-0.0851839999999997</c:v>
                </c:pt>
                <c:pt idx="1045">
                  <c:v>-0.0911250000000007</c:v>
                </c:pt>
                <c:pt idx="1046">
                  <c:v>-0.0973360000000006</c:v>
                </c:pt>
                <c:pt idx="1047">
                  <c:v>-0.103823</c:v>
                </c:pt>
                <c:pt idx="1048">
                  <c:v>-0.110592</c:v>
                </c:pt>
                <c:pt idx="1049">
                  <c:v>-0.117649</c:v>
                </c:pt>
                <c:pt idx="1050">
                  <c:v>-0.125</c:v>
                </c:pt>
                <c:pt idx="1051">
                  <c:v>-0.132651</c:v>
                </c:pt>
                <c:pt idx="1052">
                  <c:v>-0.140608</c:v>
                </c:pt>
                <c:pt idx="1053">
                  <c:v>-0.148876999999999</c:v>
                </c:pt>
                <c:pt idx="1054">
                  <c:v>-0.157464000000001</c:v>
                </c:pt>
                <c:pt idx="1055">
                  <c:v>-0.166375000000001</c:v>
                </c:pt>
                <c:pt idx="1056">
                  <c:v>-0.175616</c:v>
                </c:pt>
                <c:pt idx="1057">
                  <c:v>-0.185193</c:v>
                </c:pt>
                <c:pt idx="1058">
                  <c:v>-0.195112</c:v>
                </c:pt>
                <c:pt idx="1059">
                  <c:v>-0.205379</c:v>
                </c:pt>
                <c:pt idx="1060">
                  <c:v>-0.216</c:v>
                </c:pt>
                <c:pt idx="1061">
                  <c:v>-0.226980999999999</c:v>
                </c:pt>
                <c:pt idx="1062">
                  <c:v>-0.238328000000001</c:v>
                </c:pt>
                <c:pt idx="1063">
                  <c:v>-0.250047000000001</c:v>
                </c:pt>
                <c:pt idx="1064">
                  <c:v>-0.262144000000001</c:v>
                </c:pt>
                <c:pt idx="1065">
                  <c:v>-0.274625</c:v>
                </c:pt>
                <c:pt idx="1066">
                  <c:v>-0.287496</c:v>
                </c:pt>
                <c:pt idx="1067">
                  <c:v>-0.300763</c:v>
                </c:pt>
                <c:pt idx="1068">
                  <c:v>-0.314432</c:v>
                </c:pt>
                <c:pt idx="1069">
                  <c:v>-0.328508999999999</c:v>
                </c:pt>
                <c:pt idx="1070">
                  <c:v>-0.343000000000002</c:v>
                </c:pt>
                <c:pt idx="1071">
                  <c:v>-0.357911000000001</c:v>
                </c:pt>
                <c:pt idx="1072">
                  <c:v>-0.373248000000001</c:v>
                </c:pt>
                <c:pt idx="1073">
                  <c:v>-0.389017000000001</c:v>
                </c:pt>
                <c:pt idx="1074">
                  <c:v>-0.405224</c:v>
                </c:pt>
                <c:pt idx="1075">
                  <c:v>-0.421875</c:v>
                </c:pt>
                <c:pt idx="1076">
                  <c:v>-0.438976</c:v>
                </c:pt>
                <c:pt idx="1077">
                  <c:v>-0.456532999999999</c:v>
                </c:pt>
                <c:pt idx="1078">
                  <c:v>-0.474551999999999</c:v>
                </c:pt>
                <c:pt idx="1079">
                  <c:v>-0.493039000000002</c:v>
                </c:pt>
                <c:pt idx="1080">
                  <c:v>-0.512000000000001</c:v>
                </c:pt>
                <c:pt idx="1081">
                  <c:v>-0.531441000000001</c:v>
                </c:pt>
                <c:pt idx="1082">
                  <c:v>-0.551368000000001</c:v>
                </c:pt>
                <c:pt idx="1083">
                  <c:v>-0.571787</c:v>
                </c:pt>
                <c:pt idx="1084">
                  <c:v>-0.592704</c:v>
                </c:pt>
                <c:pt idx="1085">
                  <c:v>-0.614124999999999</c:v>
                </c:pt>
                <c:pt idx="1086">
                  <c:v>-0.636055999999999</c:v>
                </c:pt>
                <c:pt idx="1087">
                  <c:v>-0.658503000000002</c:v>
                </c:pt>
                <c:pt idx="1088">
                  <c:v>-0.681472000000002</c:v>
                </c:pt>
                <c:pt idx="1089">
                  <c:v>-0.704969000000001</c:v>
                </c:pt>
                <c:pt idx="1090">
                  <c:v>-0.729000000000001</c:v>
                </c:pt>
                <c:pt idx="1091">
                  <c:v>-0.753571</c:v>
                </c:pt>
                <c:pt idx="1092">
                  <c:v>-0.778688</c:v>
                </c:pt>
                <c:pt idx="1093">
                  <c:v>-0.804356999999999</c:v>
                </c:pt>
                <c:pt idx="1094">
                  <c:v>-0.830583999999999</c:v>
                </c:pt>
                <c:pt idx="1095">
                  <c:v>-0.857375000000003</c:v>
                </c:pt>
                <c:pt idx="1096">
                  <c:v>-0.884736000000002</c:v>
                </c:pt>
                <c:pt idx="1097">
                  <c:v>-0.912673000000002</c:v>
                </c:pt>
                <c:pt idx="1098">
                  <c:v>-0.941192000000001</c:v>
                </c:pt>
                <c:pt idx="1099">
                  <c:v>-0.970299000000001</c:v>
                </c:pt>
                <c:pt idx="1100">
                  <c:v>-1</c:v>
                </c:pt>
                <c:pt idx="1101">
                  <c:v>-1.030301</c:v>
                </c:pt>
                <c:pt idx="1102">
                  <c:v>-1.061208</c:v>
                </c:pt>
                <c:pt idx="1103">
                  <c:v>-1.092727</c:v>
                </c:pt>
                <c:pt idx="1104">
                  <c:v>-1.124864</c:v>
                </c:pt>
                <c:pt idx="1105">
                  <c:v>-1.157625</c:v>
                </c:pt>
                <c:pt idx="1106">
                  <c:v>-1.191016</c:v>
                </c:pt>
                <c:pt idx="1107">
                  <c:v>-1.225043</c:v>
                </c:pt>
                <c:pt idx="1108">
                  <c:v>-1.259712</c:v>
                </c:pt>
                <c:pt idx="1109">
                  <c:v>-1.295029</c:v>
                </c:pt>
                <c:pt idx="1110">
                  <c:v>-1.331</c:v>
                </c:pt>
                <c:pt idx="1111">
                  <c:v>-1.367631</c:v>
                </c:pt>
                <c:pt idx="1112">
                  <c:v>-1.404928</c:v>
                </c:pt>
                <c:pt idx="1113">
                  <c:v>-1.442897</c:v>
                </c:pt>
                <c:pt idx="1114">
                  <c:v>-1.481544</c:v>
                </c:pt>
                <c:pt idx="1115">
                  <c:v>-1.520875</c:v>
                </c:pt>
                <c:pt idx="1116">
                  <c:v>-1.560896</c:v>
                </c:pt>
                <c:pt idx="1117">
                  <c:v>-1.601613</c:v>
                </c:pt>
                <c:pt idx="1118">
                  <c:v>-1.643032</c:v>
                </c:pt>
                <c:pt idx="1119">
                  <c:v>-1.685159</c:v>
                </c:pt>
                <c:pt idx="1120">
                  <c:v>-1.728</c:v>
                </c:pt>
                <c:pt idx="1121">
                  <c:v>-1.771561</c:v>
                </c:pt>
                <c:pt idx="1122">
                  <c:v>-1.815848</c:v>
                </c:pt>
                <c:pt idx="1123">
                  <c:v>-1.860867</c:v>
                </c:pt>
                <c:pt idx="1124">
                  <c:v>-1.906624</c:v>
                </c:pt>
                <c:pt idx="1125">
                  <c:v>-1.953125</c:v>
                </c:pt>
                <c:pt idx="1126">
                  <c:v>-2.000376</c:v>
                </c:pt>
                <c:pt idx="1127">
                  <c:v>-2.048383</c:v>
                </c:pt>
                <c:pt idx="1128">
                  <c:v>-2.097152</c:v>
                </c:pt>
                <c:pt idx="1129">
                  <c:v>-2.146689</c:v>
                </c:pt>
                <c:pt idx="1130">
                  <c:v>-2.197</c:v>
                </c:pt>
                <c:pt idx="1131">
                  <c:v>-2.248091</c:v>
                </c:pt>
                <c:pt idx="1132">
                  <c:v>-2.299968</c:v>
                </c:pt>
                <c:pt idx="1133">
                  <c:v>-2.352637</c:v>
                </c:pt>
                <c:pt idx="1134">
                  <c:v>-2.406104</c:v>
                </c:pt>
                <c:pt idx="1135">
                  <c:v>-2.460375</c:v>
                </c:pt>
                <c:pt idx="1136">
                  <c:v>-2.515456</c:v>
                </c:pt>
                <c:pt idx="1137">
                  <c:v>-2.57135300000001</c:v>
                </c:pt>
                <c:pt idx="1138">
                  <c:v>-2.628072</c:v>
                </c:pt>
                <c:pt idx="1139">
                  <c:v>-2.685619</c:v>
                </c:pt>
                <c:pt idx="1140">
                  <c:v>-2.744</c:v>
                </c:pt>
                <c:pt idx="1141">
                  <c:v>-2.803221</c:v>
                </c:pt>
                <c:pt idx="1142">
                  <c:v>-2.863288</c:v>
                </c:pt>
                <c:pt idx="1143">
                  <c:v>-2.924207</c:v>
                </c:pt>
                <c:pt idx="1144">
                  <c:v>-2.985984</c:v>
                </c:pt>
                <c:pt idx="1145">
                  <c:v>-3.04862500000001</c:v>
                </c:pt>
                <c:pt idx="1146">
                  <c:v>-3.11213600000001</c:v>
                </c:pt>
                <c:pt idx="1147">
                  <c:v>-3.176523</c:v>
                </c:pt>
                <c:pt idx="1148">
                  <c:v>-3.241792</c:v>
                </c:pt>
                <c:pt idx="1149">
                  <c:v>-3.307949</c:v>
                </c:pt>
                <c:pt idx="1150">
                  <c:v>-3.375</c:v>
                </c:pt>
                <c:pt idx="1151">
                  <c:v>-3.442951</c:v>
                </c:pt>
                <c:pt idx="1152">
                  <c:v>-3.511808</c:v>
                </c:pt>
                <c:pt idx="1153">
                  <c:v>-3.581577</c:v>
                </c:pt>
                <c:pt idx="1154">
                  <c:v>-3.65226400000001</c:v>
                </c:pt>
                <c:pt idx="1155">
                  <c:v>-3.72387500000001</c:v>
                </c:pt>
                <c:pt idx="1156">
                  <c:v>-3.796416</c:v>
                </c:pt>
                <c:pt idx="1157">
                  <c:v>-3.869893</c:v>
                </c:pt>
                <c:pt idx="1158">
                  <c:v>-3.944312</c:v>
                </c:pt>
                <c:pt idx="1159">
                  <c:v>-4.019679</c:v>
                </c:pt>
                <c:pt idx="1160">
                  <c:v>-4.096</c:v>
                </c:pt>
                <c:pt idx="1161">
                  <c:v>-4.173281</c:v>
                </c:pt>
                <c:pt idx="1162">
                  <c:v>-4.25152800000001</c:v>
                </c:pt>
                <c:pt idx="1163">
                  <c:v>-4.33074700000001</c:v>
                </c:pt>
                <c:pt idx="1164">
                  <c:v>-4.410944</c:v>
                </c:pt>
                <c:pt idx="1165">
                  <c:v>-4.492125</c:v>
                </c:pt>
                <c:pt idx="1166">
                  <c:v>-4.574296</c:v>
                </c:pt>
                <c:pt idx="1167">
                  <c:v>-4.657463</c:v>
                </c:pt>
                <c:pt idx="1168">
                  <c:v>-4.741632</c:v>
                </c:pt>
                <c:pt idx="1169">
                  <c:v>-4.826809</c:v>
                </c:pt>
                <c:pt idx="1170">
                  <c:v>-4.91300000000001</c:v>
                </c:pt>
                <c:pt idx="1171">
                  <c:v>-5.00021100000001</c:v>
                </c:pt>
                <c:pt idx="1172">
                  <c:v>-5.08844800000001</c:v>
                </c:pt>
                <c:pt idx="1173">
                  <c:v>-5.177717</c:v>
                </c:pt>
                <c:pt idx="1174">
                  <c:v>-5.268024</c:v>
                </c:pt>
                <c:pt idx="1175">
                  <c:v>-5.359375</c:v>
                </c:pt>
                <c:pt idx="1176">
                  <c:v>-5.451776</c:v>
                </c:pt>
                <c:pt idx="1177">
                  <c:v>-5.545233</c:v>
                </c:pt>
                <c:pt idx="1178">
                  <c:v>-5.63975199999999</c:v>
                </c:pt>
                <c:pt idx="1179">
                  <c:v>-5.73533900000001</c:v>
                </c:pt>
                <c:pt idx="1180">
                  <c:v>-5.83200000000001</c:v>
                </c:pt>
                <c:pt idx="1181">
                  <c:v>-5.92974100000001</c:v>
                </c:pt>
                <c:pt idx="1182">
                  <c:v>-6.028568</c:v>
                </c:pt>
                <c:pt idx="1183">
                  <c:v>-6.128487</c:v>
                </c:pt>
                <c:pt idx="1184">
                  <c:v>-6.229504</c:v>
                </c:pt>
                <c:pt idx="1185">
                  <c:v>-6.331625</c:v>
                </c:pt>
                <c:pt idx="1186">
                  <c:v>-6.43485599999999</c:v>
                </c:pt>
                <c:pt idx="1187">
                  <c:v>-6.53920300000001</c:v>
                </c:pt>
                <c:pt idx="1188">
                  <c:v>-6.64467200000001</c:v>
                </c:pt>
                <c:pt idx="1189">
                  <c:v>-6.75126900000001</c:v>
                </c:pt>
                <c:pt idx="1190">
                  <c:v>-6.859</c:v>
                </c:pt>
                <c:pt idx="1191">
                  <c:v>-6.967871</c:v>
                </c:pt>
                <c:pt idx="1192">
                  <c:v>-7.077888</c:v>
                </c:pt>
                <c:pt idx="1193">
                  <c:v>-7.189057</c:v>
                </c:pt>
                <c:pt idx="1194">
                  <c:v>-7.30138399999999</c:v>
                </c:pt>
                <c:pt idx="1195">
                  <c:v>-7.41487500000001</c:v>
                </c:pt>
                <c:pt idx="1196">
                  <c:v>-7.52953600000001</c:v>
                </c:pt>
                <c:pt idx="1197">
                  <c:v>-7.64537300000001</c:v>
                </c:pt>
                <c:pt idx="1198">
                  <c:v>-7.76239200000001</c:v>
                </c:pt>
                <c:pt idx="1199">
                  <c:v>-7.880599</c:v>
                </c:pt>
                <c:pt idx="1200">
                  <c:v>-8</c:v>
                </c:pt>
                <c:pt idx="1201">
                  <c:v>-8.120601</c:v>
                </c:pt>
                <c:pt idx="1202">
                  <c:v>-8.24240799999999</c:v>
                </c:pt>
                <c:pt idx="1203">
                  <c:v>-8.36542700000001</c:v>
                </c:pt>
                <c:pt idx="1204">
                  <c:v>-8.48966400000001</c:v>
                </c:pt>
                <c:pt idx="1205">
                  <c:v>-8.61512500000001</c:v>
                </c:pt>
                <c:pt idx="1206">
                  <c:v>-8.74181600000001</c:v>
                </c:pt>
                <c:pt idx="1207">
                  <c:v>-8.869743</c:v>
                </c:pt>
                <c:pt idx="1208">
                  <c:v>-8.998912</c:v>
                </c:pt>
                <c:pt idx="1209">
                  <c:v>-9.129329</c:v>
                </c:pt>
                <c:pt idx="1210">
                  <c:v>-9.261</c:v>
                </c:pt>
                <c:pt idx="1211">
                  <c:v>-9.39393099999999</c:v>
                </c:pt>
                <c:pt idx="1212">
                  <c:v>-9.52812800000001</c:v>
                </c:pt>
                <c:pt idx="1213">
                  <c:v>-9.66359700000001</c:v>
                </c:pt>
                <c:pt idx="1214">
                  <c:v>-9.80034400000001</c:v>
                </c:pt>
                <c:pt idx="1215">
                  <c:v>-9.938375</c:v>
                </c:pt>
                <c:pt idx="1216">
                  <c:v>-10.077696</c:v>
                </c:pt>
                <c:pt idx="1217">
                  <c:v>-10.218313</c:v>
                </c:pt>
                <c:pt idx="1218">
                  <c:v>-10.360232</c:v>
                </c:pt>
                <c:pt idx="1219">
                  <c:v>-10.503459</c:v>
                </c:pt>
                <c:pt idx="1220">
                  <c:v>-10.648</c:v>
                </c:pt>
                <c:pt idx="1221">
                  <c:v>-10.793861</c:v>
                </c:pt>
                <c:pt idx="1222">
                  <c:v>-10.941048</c:v>
                </c:pt>
                <c:pt idx="1223">
                  <c:v>-11.089567</c:v>
                </c:pt>
                <c:pt idx="1224">
                  <c:v>-11.239424</c:v>
                </c:pt>
                <c:pt idx="1225">
                  <c:v>-11.390625</c:v>
                </c:pt>
                <c:pt idx="1226">
                  <c:v>-11.543176</c:v>
                </c:pt>
                <c:pt idx="1227">
                  <c:v>-11.697083</c:v>
                </c:pt>
                <c:pt idx="1228">
                  <c:v>-11.852352</c:v>
                </c:pt>
                <c:pt idx="1229">
                  <c:v>-12.008989</c:v>
                </c:pt>
                <c:pt idx="1230">
                  <c:v>-12.167</c:v>
                </c:pt>
                <c:pt idx="1231">
                  <c:v>-12.326391</c:v>
                </c:pt>
                <c:pt idx="1232">
                  <c:v>-12.487168</c:v>
                </c:pt>
                <c:pt idx="1233">
                  <c:v>-12.649337</c:v>
                </c:pt>
                <c:pt idx="1234">
                  <c:v>-12.812904</c:v>
                </c:pt>
                <c:pt idx="1235">
                  <c:v>-12.977875</c:v>
                </c:pt>
                <c:pt idx="1236">
                  <c:v>-13.144256</c:v>
                </c:pt>
                <c:pt idx="1237">
                  <c:v>-13.312053</c:v>
                </c:pt>
                <c:pt idx="1238">
                  <c:v>-13.481272</c:v>
                </c:pt>
                <c:pt idx="1239">
                  <c:v>-13.651919</c:v>
                </c:pt>
                <c:pt idx="1240">
                  <c:v>-13.824</c:v>
                </c:pt>
                <c:pt idx="1241">
                  <c:v>-13.997521</c:v>
                </c:pt>
                <c:pt idx="1242">
                  <c:v>-14.172488</c:v>
                </c:pt>
                <c:pt idx="1243">
                  <c:v>-14.348907</c:v>
                </c:pt>
                <c:pt idx="1244">
                  <c:v>-14.526784</c:v>
                </c:pt>
                <c:pt idx="1245">
                  <c:v>-14.706125</c:v>
                </c:pt>
                <c:pt idx="1246">
                  <c:v>-14.886936</c:v>
                </c:pt>
                <c:pt idx="1247">
                  <c:v>-15.069223</c:v>
                </c:pt>
                <c:pt idx="1248">
                  <c:v>-15.252992</c:v>
                </c:pt>
                <c:pt idx="1249">
                  <c:v>-15.438249</c:v>
                </c:pt>
                <c:pt idx="1250">
                  <c:v>-15.625</c:v>
                </c:pt>
                <c:pt idx="1251">
                  <c:v>-15.813251</c:v>
                </c:pt>
                <c:pt idx="1252">
                  <c:v>-16.003008</c:v>
                </c:pt>
                <c:pt idx="1253">
                  <c:v>-16.194277</c:v>
                </c:pt>
                <c:pt idx="1254">
                  <c:v>-16.387064</c:v>
                </c:pt>
                <c:pt idx="1255">
                  <c:v>-16.581375</c:v>
                </c:pt>
                <c:pt idx="1256">
                  <c:v>-16.777216</c:v>
                </c:pt>
                <c:pt idx="1257">
                  <c:v>-16.974593</c:v>
                </c:pt>
                <c:pt idx="1258">
                  <c:v>-17.173512</c:v>
                </c:pt>
                <c:pt idx="1259">
                  <c:v>-17.373979</c:v>
                </c:pt>
                <c:pt idx="1260">
                  <c:v>-17.576</c:v>
                </c:pt>
                <c:pt idx="1261">
                  <c:v>-17.779581</c:v>
                </c:pt>
                <c:pt idx="1262">
                  <c:v>-17.984728</c:v>
                </c:pt>
                <c:pt idx="1263">
                  <c:v>-18.191447</c:v>
                </c:pt>
                <c:pt idx="1264">
                  <c:v>-18.399744</c:v>
                </c:pt>
                <c:pt idx="1265">
                  <c:v>-18.609625</c:v>
                </c:pt>
                <c:pt idx="1266">
                  <c:v>-18.821096</c:v>
                </c:pt>
                <c:pt idx="1267">
                  <c:v>-19.034163</c:v>
                </c:pt>
                <c:pt idx="1268">
                  <c:v>-19.248832</c:v>
                </c:pt>
                <c:pt idx="1269">
                  <c:v>-19.465109</c:v>
                </c:pt>
                <c:pt idx="1270">
                  <c:v>-19.683</c:v>
                </c:pt>
                <c:pt idx="1271">
                  <c:v>-19.902511</c:v>
                </c:pt>
                <c:pt idx="1272">
                  <c:v>-20.123648</c:v>
                </c:pt>
                <c:pt idx="1273">
                  <c:v>-20.346417</c:v>
                </c:pt>
                <c:pt idx="1274">
                  <c:v>-20.570824</c:v>
                </c:pt>
                <c:pt idx="1275">
                  <c:v>-20.796875</c:v>
                </c:pt>
                <c:pt idx="1276">
                  <c:v>-21.024576</c:v>
                </c:pt>
                <c:pt idx="1277">
                  <c:v>-21.253933</c:v>
                </c:pt>
                <c:pt idx="1278">
                  <c:v>-21.484952</c:v>
                </c:pt>
                <c:pt idx="1279">
                  <c:v>-21.717639</c:v>
                </c:pt>
                <c:pt idx="1280">
                  <c:v>-21.952</c:v>
                </c:pt>
                <c:pt idx="1281">
                  <c:v>-22.188041</c:v>
                </c:pt>
                <c:pt idx="1282">
                  <c:v>-22.425768</c:v>
                </c:pt>
                <c:pt idx="1283">
                  <c:v>-22.665187</c:v>
                </c:pt>
                <c:pt idx="1284">
                  <c:v>-22.906304</c:v>
                </c:pt>
                <c:pt idx="1285">
                  <c:v>-23.149125</c:v>
                </c:pt>
                <c:pt idx="1286">
                  <c:v>-23.393656</c:v>
                </c:pt>
                <c:pt idx="1287">
                  <c:v>-23.639903</c:v>
                </c:pt>
                <c:pt idx="1288">
                  <c:v>-23.887872</c:v>
                </c:pt>
                <c:pt idx="1289">
                  <c:v>-24.137569</c:v>
                </c:pt>
                <c:pt idx="1290">
                  <c:v>-24.389</c:v>
                </c:pt>
                <c:pt idx="1291">
                  <c:v>-24.642171</c:v>
                </c:pt>
                <c:pt idx="1292">
                  <c:v>-24.897088</c:v>
                </c:pt>
                <c:pt idx="1293">
                  <c:v>-25.153757</c:v>
                </c:pt>
                <c:pt idx="1294">
                  <c:v>-25.412184</c:v>
                </c:pt>
                <c:pt idx="1295">
                  <c:v>-25.672375</c:v>
                </c:pt>
                <c:pt idx="1296">
                  <c:v>-25.934336</c:v>
                </c:pt>
                <c:pt idx="1297">
                  <c:v>-26.198073</c:v>
                </c:pt>
                <c:pt idx="1298">
                  <c:v>-26.463592</c:v>
                </c:pt>
                <c:pt idx="1299">
                  <c:v>-26.730899</c:v>
                </c:pt>
                <c:pt idx="1300">
                  <c:v>-27</c:v>
                </c:pt>
                <c:pt idx="1301">
                  <c:v>-27.270901</c:v>
                </c:pt>
                <c:pt idx="1302">
                  <c:v>-27.543608</c:v>
                </c:pt>
                <c:pt idx="1303">
                  <c:v>-27.818127</c:v>
                </c:pt>
                <c:pt idx="1304">
                  <c:v>-28.094464</c:v>
                </c:pt>
                <c:pt idx="1305">
                  <c:v>-28.372625</c:v>
                </c:pt>
                <c:pt idx="1306">
                  <c:v>-28.652616</c:v>
                </c:pt>
                <c:pt idx="1307">
                  <c:v>-28.934443</c:v>
                </c:pt>
                <c:pt idx="1308">
                  <c:v>-29.218112</c:v>
                </c:pt>
                <c:pt idx="1309">
                  <c:v>-29.503629</c:v>
                </c:pt>
                <c:pt idx="1310">
                  <c:v>-29.791</c:v>
                </c:pt>
                <c:pt idx="1311">
                  <c:v>-30.080231</c:v>
                </c:pt>
                <c:pt idx="1312">
                  <c:v>-30.371328</c:v>
                </c:pt>
                <c:pt idx="1313">
                  <c:v>-30.664297</c:v>
                </c:pt>
                <c:pt idx="1314">
                  <c:v>-30.959144</c:v>
                </c:pt>
                <c:pt idx="1315">
                  <c:v>-31.255875</c:v>
                </c:pt>
                <c:pt idx="1316">
                  <c:v>-31.554496</c:v>
                </c:pt>
                <c:pt idx="1317">
                  <c:v>-31.855013</c:v>
                </c:pt>
                <c:pt idx="1318">
                  <c:v>-32.157432</c:v>
                </c:pt>
                <c:pt idx="1319">
                  <c:v>-32.461759</c:v>
                </c:pt>
                <c:pt idx="1320">
                  <c:v>-32.768</c:v>
                </c:pt>
                <c:pt idx="1321">
                  <c:v>-33.076161</c:v>
                </c:pt>
                <c:pt idx="1322">
                  <c:v>-33.386248</c:v>
                </c:pt>
                <c:pt idx="1323">
                  <c:v>-33.698267</c:v>
                </c:pt>
                <c:pt idx="1324">
                  <c:v>-34.012224</c:v>
                </c:pt>
                <c:pt idx="1325">
                  <c:v>-34.328125</c:v>
                </c:pt>
                <c:pt idx="1326">
                  <c:v>-34.645976</c:v>
                </c:pt>
                <c:pt idx="1327">
                  <c:v>-34.965783</c:v>
                </c:pt>
                <c:pt idx="1328">
                  <c:v>-35.287552</c:v>
                </c:pt>
                <c:pt idx="1329">
                  <c:v>-35.611289</c:v>
                </c:pt>
                <c:pt idx="1330">
                  <c:v>-35.937</c:v>
                </c:pt>
                <c:pt idx="1331">
                  <c:v>-36.264691</c:v>
                </c:pt>
                <c:pt idx="1332">
                  <c:v>-36.594368</c:v>
                </c:pt>
                <c:pt idx="1333">
                  <c:v>-36.926037</c:v>
                </c:pt>
                <c:pt idx="1334">
                  <c:v>-37.259704</c:v>
                </c:pt>
                <c:pt idx="1335">
                  <c:v>-37.595375</c:v>
                </c:pt>
                <c:pt idx="1336">
                  <c:v>-37.933056</c:v>
                </c:pt>
                <c:pt idx="1337">
                  <c:v>-38.272753</c:v>
                </c:pt>
                <c:pt idx="1338">
                  <c:v>-38.614472</c:v>
                </c:pt>
                <c:pt idx="1339">
                  <c:v>-38.958219</c:v>
                </c:pt>
                <c:pt idx="1340">
                  <c:v>-39.304</c:v>
                </c:pt>
                <c:pt idx="1341">
                  <c:v>-39.651821</c:v>
                </c:pt>
                <c:pt idx="1342">
                  <c:v>-40.001688</c:v>
                </c:pt>
                <c:pt idx="1343">
                  <c:v>-40.353607</c:v>
                </c:pt>
                <c:pt idx="1344">
                  <c:v>-40.707584</c:v>
                </c:pt>
                <c:pt idx="1345">
                  <c:v>-41.063625</c:v>
                </c:pt>
                <c:pt idx="1346">
                  <c:v>-41.421736</c:v>
                </c:pt>
                <c:pt idx="1347">
                  <c:v>-41.781923</c:v>
                </c:pt>
                <c:pt idx="1348">
                  <c:v>-42.144192</c:v>
                </c:pt>
                <c:pt idx="1349">
                  <c:v>-42.508549</c:v>
                </c:pt>
                <c:pt idx="1350">
                  <c:v>-42.875</c:v>
                </c:pt>
                <c:pt idx="1351">
                  <c:v>-43.243551</c:v>
                </c:pt>
                <c:pt idx="1352">
                  <c:v>-43.614208</c:v>
                </c:pt>
                <c:pt idx="1353">
                  <c:v>-43.986977</c:v>
                </c:pt>
                <c:pt idx="1354">
                  <c:v>-44.361864</c:v>
                </c:pt>
                <c:pt idx="1355">
                  <c:v>-44.738875</c:v>
                </c:pt>
                <c:pt idx="1356">
                  <c:v>-45.118016</c:v>
                </c:pt>
                <c:pt idx="1357">
                  <c:v>-45.499293</c:v>
                </c:pt>
                <c:pt idx="1358">
                  <c:v>-45.882712</c:v>
                </c:pt>
                <c:pt idx="1359">
                  <c:v>-46.268279</c:v>
                </c:pt>
                <c:pt idx="1360">
                  <c:v>-46.656</c:v>
                </c:pt>
                <c:pt idx="1361">
                  <c:v>-47.045881</c:v>
                </c:pt>
                <c:pt idx="1362">
                  <c:v>-47.437928</c:v>
                </c:pt>
                <c:pt idx="1363">
                  <c:v>-47.832147</c:v>
                </c:pt>
                <c:pt idx="1364">
                  <c:v>-48.228544</c:v>
                </c:pt>
                <c:pt idx="1365">
                  <c:v>-48.627125</c:v>
                </c:pt>
                <c:pt idx="1366">
                  <c:v>-49.027896</c:v>
                </c:pt>
                <c:pt idx="1367">
                  <c:v>-49.430863</c:v>
                </c:pt>
                <c:pt idx="1368">
                  <c:v>-49.836032</c:v>
                </c:pt>
                <c:pt idx="1369">
                  <c:v>-50.243409</c:v>
                </c:pt>
                <c:pt idx="1370">
                  <c:v>-50.6530000000001</c:v>
                </c:pt>
                <c:pt idx="1371">
                  <c:v>-51.064811</c:v>
                </c:pt>
                <c:pt idx="1372">
                  <c:v>-51.478848</c:v>
                </c:pt>
                <c:pt idx="1373">
                  <c:v>-51.895117</c:v>
                </c:pt>
                <c:pt idx="1374">
                  <c:v>-52.313624</c:v>
                </c:pt>
                <c:pt idx="1375">
                  <c:v>-52.734375</c:v>
                </c:pt>
                <c:pt idx="1376">
                  <c:v>-53.157376</c:v>
                </c:pt>
                <c:pt idx="1377">
                  <c:v>-53.582633</c:v>
                </c:pt>
                <c:pt idx="1378">
                  <c:v>-54.0101520000001</c:v>
                </c:pt>
                <c:pt idx="1379">
                  <c:v>-54.439939</c:v>
                </c:pt>
                <c:pt idx="1380">
                  <c:v>-54.872</c:v>
                </c:pt>
                <c:pt idx="1381">
                  <c:v>-55.306341</c:v>
                </c:pt>
                <c:pt idx="1382">
                  <c:v>-55.742968</c:v>
                </c:pt>
                <c:pt idx="1383">
                  <c:v>-56.181887</c:v>
                </c:pt>
                <c:pt idx="1384">
                  <c:v>-56.623104</c:v>
                </c:pt>
                <c:pt idx="1385">
                  <c:v>-57.066625</c:v>
                </c:pt>
                <c:pt idx="1386">
                  <c:v>-57.512456</c:v>
                </c:pt>
                <c:pt idx="1387">
                  <c:v>-57.960603</c:v>
                </c:pt>
                <c:pt idx="1388">
                  <c:v>-58.411072</c:v>
                </c:pt>
                <c:pt idx="1389">
                  <c:v>-58.863869</c:v>
                </c:pt>
                <c:pt idx="1390">
                  <c:v>-59.319</c:v>
                </c:pt>
                <c:pt idx="1391">
                  <c:v>-59.776471</c:v>
                </c:pt>
                <c:pt idx="1392">
                  <c:v>-60.236288</c:v>
                </c:pt>
                <c:pt idx="1393">
                  <c:v>-60.698457</c:v>
                </c:pt>
                <c:pt idx="1394">
                  <c:v>-61.162984</c:v>
                </c:pt>
                <c:pt idx="1395">
                  <c:v>-61.6298750000001</c:v>
                </c:pt>
                <c:pt idx="1396">
                  <c:v>-62.099136</c:v>
                </c:pt>
                <c:pt idx="1397">
                  <c:v>-62.570773</c:v>
                </c:pt>
                <c:pt idx="1398">
                  <c:v>-63.044792</c:v>
                </c:pt>
                <c:pt idx="1399">
                  <c:v>-63.521199</c:v>
                </c:pt>
                <c:pt idx="1400">
                  <c:v>-64</c:v>
                </c:pt>
                <c:pt idx="1401">
                  <c:v>-64.481201</c:v>
                </c:pt>
                <c:pt idx="1402">
                  <c:v>-64.964808</c:v>
                </c:pt>
                <c:pt idx="1403">
                  <c:v>-65.4508270000001</c:v>
                </c:pt>
                <c:pt idx="1404">
                  <c:v>-65.9392640000001</c:v>
                </c:pt>
                <c:pt idx="1405">
                  <c:v>-66.4301250000001</c:v>
                </c:pt>
                <c:pt idx="1406">
                  <c:v>-66.923416</c:v>
                </c:pt>
                <c:pt idx="1407">
                  <c:v>-67.419143</c:v>
                </c:pt>
                <c:pt idx="1408">
                  <c:v>-67.917312</c:v>
                </c:pt>
                <c:pt idx="1409">
                  <c:v>-68.417929</c:v>
                </c:pt>
                <c:pt idx="1410">
                  <c:v>-68.921</c:v>
                </c:pt>
                <c:pt idx="1411">
                  <c:v>-69.426531</c:v>
                </c:pt>
                <c:pt idx="1412">
                  <c:v>-69.9345280000001</c:v>
                </c:pt>
                <c:pt idx="1413">
                  <c:v>-70.444997</c:v>
                </c:pt>
                <c:pt idx="1414">
                  <c:v>-70.957944</c:v>
                </c:pt>
                <c:pt idx="1415">
                  <c:v>-71.473375</c:v>
                </c:pt>
                <c:pt idx="1416">
                  <c:v>-71.991296</c:v>
                </c:pt>
                <c:pt idx="1417">
                  <c:v>-72.511713</c:v>
                </c:pt>
                <c:pt idx="1418">
                  <c:v>-73.034632</c:v>
                </c:pt>
                <c:pt idx="1419">
                  <c:v>-73.560059</c:v>
                </c:pt>
                <c:pt idx="1420">
                  <c:v>-74.0880000000001</c:v>
                </c:pt>
                <c:pt idx="1421">
                  <c:v>-74.618461</c:v>
                </c:pt>
                <c:pt idx="1422">
                  <c:v>-75.151448</c:v>
                </c:pt>
                <c:pt idx="1423">
                  <c:v>-75.686967</c:v>
                </c:pt>
                <c:pt idx="1424">
                  <c:v>-76.225024</c:v>
                </c:pt>
                <c:pt idx="1425">
                  <c:v>-76.765625</c:v>
                </c:pt>
                <c:pt idx="1426">
                  <c:v>-77.308776</c:v>
                </c:pt>
                <c:pt idx="1427">
                  <c:v>-77.854483</c:v>
                </c:pt>
                <c:pt idx="1428">
                  <c:v>-78.4027520000001</c:v>
                </c:pt>
                <c:pt idx="1429">
                  <c:v>-78.9535890000001</c:v>
                </c:pt>
                <c:pt idx="1430">
                  <c:v>-79.507</c:v>
                </c:pt>
                <c:pt idx="1431">
                  <c:v>-80.062991</c:v>
                </c:pt>
                <c:pt idx="1432">
                  <c:v>-80.621568</c:v>
                </c:pt>
                <c:pt idx="1433">
                  <c:v>-81.182737</c:v>
                </c:pt>
                <c:pt idx="1434">
                  <c:v>-81.746504</c:v>
                </c:pt>
                <c:pt idx="1435">
                  <c:v>-82.312875</c:v>
                </c:pt>
                <c:pt idx="1436">
                  <c:v>-82.881856</c:v>
                </c:pt>
                <c:pt idx="1437">
                  <c:v>-83.4534530000001</c:v>
                </c:pt>
                <c:pt idx="1438">
                  <c:v>-84.0276720000001</c:v>
                </c:pt>
                <c:pt idx="1439">
                  <c:v>-84.604519</c:v>
                </c:pt>
                <c:pt idx="1440">
                  <c:v>-85.184</c:v>
                </c:pt>
                <c:pt idx="1441">
                  <c:v>-85.766121</c:v>
                </c:pt>
                <c:pt idx="1442">
                  <c:v>-86.350888</c:v>
                </c:pt>
                <c:pt idx="1443">
                  <c:v>-86.938307</c:v>
                </c:pt>
                <c:pt idx="1444">
                  <c:v>-87.528384</c:v>
                </c:pt>
                <c:pt idx="1445">
                  <c:v>-88.1211250000001</c:v>
                </c:pt>
                <c:pt idx="1446">
                  <c:v>-88.7165360000001</c:v>
                </c:pt>
                <c:pt idx="1447">
                  <c:v>-89.314623</c:v>
                </c:pt>
                <c:pt idx="1448">
                  <c:v>-89.915392</c:v>
                </c:pt>
                <c:pt idx="1449">
                  <c:v>-90.518849</c:v>
                </c:pt>
                <c:pt idx="1450">
                  <c:v>-91.125</c:v>
                </c:pt>
                <c:pt idx="1451">
                  <c:v>-91.733851</c:v>
                </c:pt>
                <c:pt idx="1452">
                  <c:v>-92.345408</c:v>
                </c:pt>
                <c:pt idx="1453">
                  <c:v>-92.9596770000001</c:v>
                </c:pt>
                <c:pt idx="1454">
                  <c:v>-93.5766640000001</c:v>
                </c:pt>
                <c:pt idx="1455">
                  <c:v>-94.1963750000001</c:v>
                </c:pt>
                <c:pt idx="1456">
                  <c:v>-94.818816</c:v>
                </c:pt>
                <c:pt idx="1457">
                  <c:v>-95.443993</c:v>
                </c:pt>
                <c:pt idx="1458">
                  <c:v>-96.071912</c:v>
                </c:pt>
                <c:pt idx="1459">
                  <c:v>-96.702579</c:v>
                </c:pt>
                <c:pt idx="1460">
                  <c:v>-97.336</c:v>
                </c:pt>
                <c:pt idx="1461">
                  <c:v>-97.972181</c:v>
                </c:pt>
                <c:pt idx="1462">
                  <c:v>-98.6111280000001</c:v>
                </c:pt>
                <c:pt idx="1463">
                  <c:v>-99.2528470000001</c:v>
                </c:pt>
                <c:pt idx="1464">
                  <c:v>-99.897344</c:v>
                </c:pt>
                <c:pt idx="1465">
                  <c:v>-100.544625</c:v>
                </c:pt>
                <c:pt idx="1466">
                  <c:v>-101.194696</c:v>
                </c:pt>
                <c:pt idx="1467">
                  <c:v>-101.847563</c:v>
                </c:pt>
                <c:pt idx="1468">
                  <c:v>-102.503232</c:v>
                </c:pt>
                <c:pt idx="1469">
                  <c:v>-103.161709</c:v>
                </c:pt>
                <c:pt idx="1470">
                  <c:v>-103.823</c:v>
                </c:pt>
                <c:pt idx="1471">
                  <c:v>-104.487111</c:v>
                </c:pt>
                <c:pt idx="1472">
                  <c:v>-105.154048</c:v>
                </c:pt>
                <c:pt idx="1473">
                  <c:v>-105.823817</c:v>
                </c:pt>
                <c:pt idx="1474">
                  <c:v>-106.496424</c:v>
                </c:pt>
                <c:pt idx="1475">
                  <c:v>-107.171875</c:v>
                </c:pt>
                <c:pt idx="1476">
                  <c:v>-107.850176</c:v>
                </c:pt>
                <c:pt idx="1477">
                  <c:v>-108.531333</c:v>
                </c:pt>
                <c:pt idx="1478">
                  <c:v>-109.215352</c:v>
                </c:pt>
                <c:pt idx="1479">
                  <c:v>-109.902239</c:v>
                </c:pt>
                <c:pt idx="1480">
                  <c:v>-110.592</c:v>
                </c:pt>
                <c:pt idx="1481">
                  <c:v>-111.284641</c:v>
                </c:pt>
                <c:pt idx="1482">
                  <c:v>-111.980168</c:v>
                </c:pt>
                <c:pt idx="1483">
                  <c:v>-112.678587</c:v>
                </c:pt>
                <c:pt idx="1484">
                  <c:v>-113.379904</c:v>
                </c:pt>
                <c:pt idx="1485">
                  <c:v>-114.084125</c:v>
                </c:pt>
                <c:pt idx="1486">
                  <c:v>-114.791256</c:v>
                </c:pt>
                <c:pt idx="1487">
                  <c:v>-115.501303</c:v>
                </c:pt>
                <c:pt idx="1488">
                  <c:v>-116.214272</c:v>
                </c:pt>
                <c:pt idx="1489">
                  <c:v>-116.930169</c:v>
                </c:pt>
                <c:pt idx="1490">
                  <c:v>-117.649</c:v>
                </c:pt>
                <c:pt idx="1491">
                  <c:v>-118.370771</c:v>
                </c:pt>
                <c:pt idx="1492">
                  <c:v>-119.095488</c:v>
                </c:pt>
                <c:pt idx="1493">
                  <c:v>-119.823157</c:v>
                </c:pt>
                <c:pt idx="1494">
                  <c:v>-120.553784</c:v>
                </c:pt>
                <c:pt idx="1495">
                  <c:v>-121.287375</c:v>
                </c:pt>
                <c:pt idx="1496">
                  <c:v>-122.023936</c:v>
                </c:pt>
                <c:pt idx="1497">
                  <c:v>-122.763473</c:v>
                </c:pt>
                <c:pt idx="1498">
                  <c:v>-123.505992</c:v>
                </c:pt>
                <c:pt idx="1499">
                  <c:v>-124.251499</c:v>
                </c:pt>
                <c:pt idx="1500">
                  <c:v>-125</c:v>
                </c:pt>
                <c:pt idx="1501">
                  <c:v>-125.751501</c:v>
                </c:pt>
                <c:pt idx="1502">
                  <c:v>-126.506008</c:v>
                </c:pt>
                <c:pt idx="1503">
                  <c:v>-127.263527</c:v>
                </c:pt>
                <c:pt idx="1504">
                  <c:v>-128.024064</c:v>
                </c:pt>
                <c:pt idx="1505">
                  <c:v>-128.787625</c:v>
                </c:pt>
                <c:pt idx="1506">
                  <c:v>-129.554216</c:v>
                </c:pt>
                <c:pt idx="1507">
                  <c:v>-130.323843</c:v>
                </c:pt>
                <c:pt idx="1508">
                  <c:v>-131.096512</c:v>
                </c:pt>
                <c:pt idx="1509">
                  <c:v>-131.872229</c:v>
                </c:pt>
                <c:pt idx="1510">
                  <c:v>-132.651</c:v>
                </c:pt>
                <c:pt idx="1511">
                  <c:v>-133.432831</c:v>
                </c:pt>
                <c:pt idx="1512">
                  <c:v>-134.217728</c:v>
                </c:pt>
                <c:pt idx="1513">
                  <c:v>-135.005697</c:v>
                </c:pt>
                <c:pt idx="1514">
                  <c:v>-135.796744</c:v>
                </c:pt>
                <c:pt idx="1515">
                  <c:v>-136.590875</c:v>
                </c:pt>
                <c:pt idx="1516">
                  <c:v>-137.388096</c:v>
                </c:pt>
                <c:pt idx="1517">
                  <c:v>-138.188413</c:v>
                </c:pt>
                <c:pt idx="1518">
                  <c:v>-138.991832</c:v>
                </c:pt>
                <c:pt idx="1519">
                  <c:v>-139.798359</c:v>
                </c:pt>
                <c:pt idx="1520">
                  <c:v>-140.608</c:v>
                </c:pt>
                <c:pt idx="1521">
                  <c:v>-141.420761</c:v>
                </c:pt>
                <c:pt idx="1522">
                  <c:v>-142.236648</c:v>
                </c:pt>
                <c:pt idx="1523">
                  <c:v>-143.055667</c:v>
                </c:pt>
                <c:pt idx="1524">
                  <c:v>-143.877824</c:v>
                </c:pt>
                <c:pt idx="1525">
                  <c:v>-144.703125</c:v>
                </c:pt>
                <c:pt idx="1526">
                  <c:v>-145.531576</c:v>
                </c:pt>
                <c:pt idx="1527">
                  <c:v>-146.363183</c:v>
                </c:pt>
                <c:pt idx="1528">
                  <c:v>-147.197952</c:v>
                </c:pt>
                <c:pt idx="1529">
                  <c:v>-148.035889</c:v>
                </c:pt>
                <c:pt idx="1530">
                  <c:v>-148.877</c:v>
                </c:pt>
                <c:pt idx="1531">
                  <c:v>-149.721291</c:v>
                </c:pt>
                <c:pt idx="1532">
                  <c:v>-150.568768</c:v>
                </c:pt>
                <c:pt idx="1533">
                  <c:v>-151.419437</c:v>
                </c:pt>
                <c:pt idx="1534">
                  <c:v>-152.273304</c:v>
                </c:pt>
                <c:pt idx="1535">
                  <c:v>-153.130375</c:v>
                </c:pt>
                <c:pt idx="1536">
                  <c:v>-153.990656</c:v>
                </c:pt>
                <c:pt idx="1537">
                  <c:v>-154.854153</c:v>
                </c:pt>
                <c:pt idx="1538">
                  <c:v>-155.720872</c:v>
                </c:pt>
                <c:pt idx="1539">
                  <c:v>-156.590819</c:v>
                </c:pt>
                <c:pt idx="1540">
                  <c:v>-157.464</c:v>
                </c:pt>
                <c:pt idx="1541">
                  <c:v>-158.340421</c:v>
                </c:pt>
                <c:pt idx="1542">
                  <c:v>-159.220088</c:v>
                </c:pt>
                <c:pt idx="1543">
                  <c:v>-160.103007</c:v>
                </c:pt>
                <c:pt idx="1544">
                  <c:v>-160.989184</c:v>
                </c:pt>
                <c:pt idx="1545">
                  <c:v>-161.878625</c:v>
                </c:pt>
                <c:pt idx="1546">
                  <c:v>-162.771336</c:v>
                </c:pt>
                <c:pt idx="1547">
                  <c:v>-163.667323</c:v>
                </c:pt>
                <c:pt idx="1548">
                  <c:v>-164.566592</c:v>
                </c:pt>
                <c:pt idx="1549">
                  <c:v>-165.469149</c:v>
                </c:pt>
                <c:pt idx="1550">
                  <c:v>-166.375</c:v>
                </c:pt>
                <c:pt idx="1551">
                  <c:v>-167.284151</c:v>
                </c:pt>
                <c:pt idx="1552">
                  <c:v>-168.196608</c:v>
                </c:pt>
                <c:pt idx="1553">
                  <c:v>-169.112377</c:v>
                </c:pt>
                <c:pt idx="1554">
                  <c:v>-170.031464</c:v>
                </c:pt>
                <c:pt idx="1555">
                  <c:v>-170.953875</c:v>
                </c:pt>
                <c:pt idx="1556">
                  <c:v>-171.879616</c:v>
                </c:pt>
                <c:pt idx="1557">
                  <c:v>-172.808693</c:v>
                </c:pt>
                <c:pt idx="1558">
                  <c:v>-173.741112</c:v>
                </c:pt>
                <c:pt idx="1559">
                  <c:v>-174.676879</c:v>
                </c:pt>
                <c:pt idx="1560">
                  <c:v>-175.616</c:v>
                </c:pt>
                <c:pt idx="1561">
                  <c:v>-176.558481</c:v>
                </c:pt>
                <c:pt idx="1562">
                  <c:v>-177.504328</c:v>
                </c:pt>
                <c:pt idx="1563">
                  <c:v>-178.453547</c:v>
                </c:pt>
                <c:pt idx="1564">
                  <c:v>-179.406144</c:v>
                </c:pt>
                <c:pt idx="1565">
                  <c:v>-180.362125</c:v>
                </c:pt>
                <c:pt idx="1566">
                  <c:v>-181.321496</c:v>
                </c:pt>
                <c:pt idx="1567">
                  <c:v>-182.284263</c:v>
                </c:pt>
                <c:pt idx="1568">
                  <c:v>-183.250432</c:v>
                </c:pt>
                <c:pt idx="1569">
                  <c:v>-184.220009</c:v>
                </c:pt>
                <c:pt idx="1570">
                  <c:v>-185.193</c:v>
                </c:pt>
                <c:pt idx="1571">
                  <c:v>-186.169411</c:v>
                </c:pt>
                <c:pt idx="1572">
                  <c:v>-187.149248</c:v>
                </c:pt>
                <c:pt idx="1573">
                  <c:v>-188.132517</c:v>
                </c:pt>
                <c:pt idx="1574">
                  <c:v>-189.119224</c:v>
                </c:pt>
                <c:pt idx="1575">
                  <c:v>-190.109375</c:v>
                </c:pt>
                <c:pt idx="1576">
                  <c:v>-191.102976</c:v>
                </c:pt>
                <c:pt idx="1577">
                  <c:v>-192.100033</c:v>
                </c:pt>
                <c:pt idx="1578">
                  <c:v>-193.100552</c:v>
                </c:pt>
                <c:pt idx="1579">
                  <c:v>-194.104539</c:v>
                </c:pt>
                <c:pt idx="1580">
                  <c:v>-195.112</c:v>
                </c:pt>
                <c:pt idx="1581">
                  <c:v>-196.122941</c:v>
                </c:pt>
                <c:pt idx="1582">
                  <c:v>-197.137368</c:v>
                </c:pt>
                <c:pt idx="1583">
                  <c:v>-198.155287</c:v>
                </c:pt>
                <c:pt idx="1584">
                  <c:v>-199.176704</c:v>
                </c:pt>
                <c:pt idx="1585">
                  <c:v>-200.201625</c:v>
                </c:pt>
                <c:pt idx="1586">
                  <c:v>-201.230056</c:v>
                </c:pt>
                <c:pt idx="1587">
                  <c:v>-202.262003</c:v>
                </c:pt>
                <c:pt idx="1588">
                  <c:v>-203.297472</c:v>
                </c:pt>
                <c:pt idx="1589">
                  <c:v>-204.336469</c:v>
                </c:pt>
                <c:pt idx="1590">
                  <c:v>-205.379</c:v>
                </c:pt>
                <c:pt idx="1591">
                  <c:v>-206.425071</c:v>
                </c:pt>
                <c:pt idx="1592">
                  <c:v>-207.474688</c:v>
                </c:pt>
                <c:pt idx="1593">
                  <c:v>-208.527857</c:v>
                </c:pt>
                <c:pt idx="1594">
                  <c:v>-209.584584</c:v>
                </c:pt>
                <c:pt idx="1595">
                  <c:v>-210.644875</c:v>
                </c:pt>
                <c:pt idx="1596">
                  <c:v>-211.708736</c:v>
                </c:pt>
                <c:pt idx="1597">
                  <c:v>-212.776173</c:v>
                </c:pt>
                <c:pt idx="1598">
                  <c:v>-213.847192</c:v>
                </c:pt>
                <c:pt idx="1599">
                  <c:v>-214.921799</c:v>
                </c:pt>
                <c:pt idx="1600">
                  <c:v>-216</c:v>
                </c:pt>
                <c:pt idx="1601">
                  <c:v>-217.081801</c:v>
                </c:pt>
                <c:pt idx="1602">
                  <c:v>-218.167208</c:v>
                </c:pt>
                <c:pt idx="1603">
                  <c:v>-219.256227</c:v>
                </c:pt>
                <c:pt idx="1604">
                  <c:v>-220.348864</c:v>
                </c:pt>
                <c:pt idx="1605">
                  <c:v>-221.445125</c:v>
                </c:pt>
                <c:pt idx="1606">
                  <c:v>-222.545016</c:v>
                </c:pt>
                <c:pt idx="1607">
                  <c:v>-223.648543</c:v>
                </c:pt>
                <c:pt idx="1608">
                  <c:v>-224.755712</c:v>
                </c:pt>
                <c:pt idx="1609">
                  <c:v>-225.866529</c:v>
                </c:pt>
                <c:pt idx="1610">
                  <c:v>-226.981</c:v>
                </c:pt>
                <c:pt idx="1611">
                  <c:v>-228.099131</c:v>
                </c:pt>
                <c:pt idx="1612">
                  <c:v>-229.220928</c:v>
                </c:pt>
                <c:pt idx="1613">
                  <c:v>-230.346397</c:v>
                </c:pt>
                <c:pt idx="1614">
                  <c:v>-231.475544</c:v>
                </c:pt>
                <c:pt idx="1615">
                  <c:v>-232.608375</c:v>
                </c:pt>
                <c:pt idx="1616">
                  <c:v>-233.744896</c:v>
                </c:pt>
                <c:pt idx="1617">
                  <c:v>-234.885113</c:v>
                </c:pt>
                <c:pt idx="1618">
                  <c:v>-236.029032</c:v>
                </c:pt>
                <c:pt idx="1619">
                  <c:v>-237.176659</c:v>
                </c:pt>
                <c:pt idx="1620">
                  <c:v>-238.328</c:v>
                </c:pt>
                <c:pt idx="1621">
                  <c:v>-239.483061</c:v>
                </c:pt>
                <c:pt idx="1622">
                  <c:v>-240.641848</c:v>
                </c:pt>
                <c:pt idx="1623">
                  <c:v>-241.804367</c:v>
                </c:pt>
                <c:pt idx="1624">
                  <c:v>-242.970624</c:v>
                </c:pt>
                <c:pt idx="1625">
                  <c:v>-244.140625</c:v>
                </c:pt>
                <c:pt idx="1626">
                  <c:v>-245.314376</c:v>
                </c:pt>
                <c:pt idx="1627">
                  <c:v>-246.491883</c:v>
                </c:pt>
                <c:pt idx="1628">
                  <c:v>-247.673152</c:v>
                </c:pt>
                <c:pt idx="1629">
                  <c:v>-248.858189</c:v>
                </c:pt>
                <c:pt idx="1630">
                  <c:v>-250.047</c:v>
                </c:pt>
                <c:pt idx="1631">
                  <c:v>-251.239591</c:v>
                </c:pt>
                <c:pt idx="1632">
                  <c:v>-252.435968</c:v>
                </c:pt>
                <c:pt idx="1633">
                  <c:v>-253.636137</c:v>
                </c:pt>
                <c:pt idx="1634">
                  <c:v>-254.840104</c:v>
                </c:pt>
                <c:pt idx="1635">
                  <c:v>-256.047875</c:v>
                </c:pt>
                <c:pt idx="1636">
                  <c:v>-257.259456</c:v>
                </c:pt>
                <c:pt idx="1637">
                  <c:v>-258.474853</c:v>
                </c:pt>
                <c:pt idx="1638">
                  <c:v>-259.694072</c:v>
                </c:pt>
                <c:pt idx="1639">
                  <c:v>-260.917119</c:v>
                </c:pt>
                <c:pt idx="1640">
                  <c:v>-262.144</c:v>
                </c:pt>
                <c:pt idx="1641">
                  <c:v>-263.374721</c:v>
                </c:pt>
                <c:pt idx="1642">
                  <c:v>-264.609288</c:v>
                </c:pt>
                <c:pt idx="1643">
                  <c:v>-265.847707</c:v>
                </c:pt>
                <c:pt idx="1644">
                  <c:v>-267.089984</c:v>
                </c:pt>
                <c:pt idx="1645">
                  <c:v>-268.336125</c:v>
                </c:pt>
                <c:pt idx="1646">
                  <c:v>-269.586136</c:v>
                </c:pt>
                <c:pt idx="1647">
                  <c:v>-270.840023</c:v>
                </c:pt>
                <c:pt idx="1648">
                  <c:v>-272.097792</c:v>
                </c:pt>
                <c:pt idx="1649">
                  <c:v>-273.359449</c:v>
                </c:pt>
                <c:pt idx="1650">
                  <c:v>-274.625</c:v>
                </c:pt>
                <c:pt idx="1651">
                  <c:v>-275.894451</c:v>
                </c:pt>
                <c:pt idx="1652">
                  <c:v>-277.167808</c:v>
                </c:pt>
                <c:pt idx="1653">
                  <c:v>-278.445077</c:v>
                </c:pt>
                <c:pt idx="1654">
                  <c:v>-279.726264</c:v>
                </c:pt>
                <c:pt idx="1655">
                  <c:v>-281.011375</c:v>
                </c:pt>
                <c:pt idx="1656">
                  <c:v>-282.300416</c:v>
                </c:pt>
                <c:pt idx="1657">
                  <c:v>-283.593393</c:v>
                </c:pt>
                <c:pt idx="1658">
                  <c:v>-284.890312</c:v>
                </c:pt>
                <c:pt idx="1659">
                  <c:v>-286.191179</c:v>
                </c:pt>
                <c:pt idx="1660">
                  <c:v>-287.496</c:v>
                </c:pt>
                <c:pt idx="1661">
                  <c:v>-288.804781</c:v>
                </c:pt>
                <c:pt idx="1662">
                  <c:v>-290.117528</c:v>
                </c:pt>
                <c:pt idx="1663">
                  <c:v>-291.434247</c:v>
                </c:pt>
                <c:pt idx="1664">
                  <c:v>-292.754944</c:v>
                </c:pt>
                <c:pt idx="1665">
                  <c:v>-294.079625</c:v>
                </c:pt>
                <c:pt idx="1666">
                  <c:v>-295.408296</c:v>
                </c:pt>
                <c:pt idx="1667">
                  <c:v>-296.740963</c:v>
                </c:pt>
                <c:pt idx="1668">
                  <c:v>-298.077632</c:v>
                </c:pt>
                <c:pt idx="1669">
                  <c:v>-299.418309</c:v>
                </c:pt>
                <c:pt idx="1670">
                  <c:v>-300.763</c:v>
                </c:pt>
                <c:pt idx="1671">
                  <c:v>-302.111711</c:v>
                </c:pt>
                <c:pt idx="1672">
                  <c:v>-303.464448</c:v>
                </c:pt>
                <c:pt idx="1673">
                  <c:v>-304.821217</c:v>
                </c:pt>
                <c:pt idx="1674">
                  <c:v>-306.182024</c:v>
                </c:pt>
                <c:pt idx="1675">
                  <c:v>-307.546875</c:v>
                </c:pt>
                <c:pt idx="1676">
                  <c:v>-308.915776</c:v>
                </c:pt>
                <c:pt idx="1677">
                  <c:v>-310.288733</c:v>
                </c:pt>
                <c:pt idx="1678">
                  <c:v>-311.665752</c:v>
                </c:pt>
                <c:pt idx="1679">
                  <c:v>-313.046839</c:v>
                </c:pt>
                <c:pt idx="1680">
                  <c:v>-314.432</c:v>
                </c:pt>
                <c:pt idx="1681">
                  <c:v>-315.821241</c:v>
                </c:pt>
                <c:pt idx="1682">
                  <c:v>-317.214568</c:v>
                </c:pt>
                <c:pt idx="1683">
                  <c:v>-318.611987</c:v>
                </c:pt>
                <c:pt idx="1684">
                  <c:v>-320.013504</c:v>
                </c:pt>
                <c:pt idx="1685">
                  <c:v>-321.419125</c:v>
                </c:pt>
                <c:pt idx="1686">
                  <c:v>-322.828856</c:v>
                </c:pt>
                <c:pt idx="1687">
                  <c:v>-324.242703</c:v>
                </c:pt>
                <c:pt idx="1688">
                  <c:v>-325.660672</c:v>
                </c:pt>
                <c:pt idx="1689">
                  <c:v>-327.082769</c:v>
                </c:pt>
                <c:pt idx="1690">
                  <c:v>-328.509</c:v>
                </c:pt>
                <c:pt idx="1691">
                  <c:v>-329.939371</c:v>
                </c:pt>
                <c:pt idx="1692">
                  <c:v>-331.373888</c:v>
                </c:pt>
                <c:pt idx="1693">
                  <c:v>-332.812557</c:v>
                </c:pt>
                <c:pt idx="1694">
                  <c:v>-334.255384</c:v>
                </c:pt>
                <c:pt idx="1695">
                  <c:v>-335.702375</c:v>
                </c:pt>
                <c:pt idx="1696">
                  <c:v>-337.153536</c:v>
                </c:pt>
                <c:pt idx="1697">
                  <c:v>-338.608873</c:v>
                </c:pt>
                <c:pt idx="1698">
                  <c:v>-340.068392</c:v>
                </c:pt>
                <c:pt idx="1699">
                  <c:v>-341.532099</c:v>
                </c:pt>
                <c:pt idx="1700">
                  <c:v>-343</c:v>
                </c:pt>
                <c:pt idx="1701">
                  <c:v>-344.472101</c:v>
                </c:pt>
                <c:pt idx="1702">
                  <c:v>-345.948408</c:v>
                </c:pt>
                <c:pt idx="1703">
                  <c:v>-347.428927</c:v>
                </c:pt>
                <c:pt idx="1704">
                  <c:v>-348.913664</c:v>
                </c:pt>
                <c:pt idx="1705">
                  <c:v>-350.402625</c:v>
                </c:pt>
                <c:pt idx="1706">
                  <c:v>-351.895816</c:v>
                </c:pt>
                <c:pt idx="1707">
                  <c:v>-353.393243</c:v>
                </c:pt>
                <c:pt idx="1708">
                  <c:v>-354.894912</c:v>
                </c:pt>
                <c:pt idx="1709">
                  <c:v>-356.400829</c:v>
                </c:pt>
                <c:pt idx="1710">
                  <c:v>-357.911</c:v>
                </c:pt>
                <c:pt idx="1711">
                  <c:v>-359.425431</c:v>
                </c:pt>
                <c:pt idx="1712">
                  <c:v>-360.944128</c:v>
                </c:pt>
                <c:pt idx="1713">
                  <c:v>-362.467097</c:v>
                </c:pt>
                <c:pt idx="1714">
                  <c:v>-363.994344</c:v>
                </c:pt>
                <c:pt idx="1715">
                  <c:v>-365.525875</c:v>
                </c:pt>
                <c:pt idx="1716">
                  <c:v>-367.061696</c:v>
                </c:pt>
                <c:pt idx="1717">
                  <c:v>-368.601813</c:v>
                </c:pt>
                <c:pt idx="1718">
                  <c:v>-370.146232</c:v>
                </c:pt>
                <c:pt idx="1719">
                  <c:v>-371.694959</c:v>
                </c:pt>
                <c:pt idx="1720">
                  <c:v>-373.248</c:v>
                </c:pt>
                <c:pt idx="1721">
                  <c:v>-374.805361</c:v>
                </c:pt>
                <c:pt idx="1722">
                  <c:v>-376.367048</c:v>
                </c:pt>
                <c:pt idx="1723">
                  <c:v>-377.933067</c:v>
                </c:pt>
                <c:pt idx="1724">
                  <c:v>-379.503424</c:v>
                </c:pt>
                <c:pt idx="1725">
                  <c:v>-381.078125</c:v>
                </c:pt>
                <c:pt idx="1726">
                  <c:v>-382.657176</c:v>
                </c:pt>
                <c:pt idx="1727">
                  <c:v>-384.240583</c:v>
                </c:pt>
                <c:pt idx="1728">
                  <c:v>-385.828352</c:v>
                </c:pt>
                <c:pt idx="1729">
                  <c:v>-387.420489</c:v>
                </c:pt>
                <c:pt idx="1730">
                  <c:v>-389.017</c:v>
                </c:pt>
                <c:pt idx="1731">
                  <c:v>-390.617891</c:v>
                </c:pt>
                <c:pt idx="1732">
                  <c:v>-392.223168</c:v>
                </c:pt>
                <c:pt idx="1733">
                  <c:v>-393.832837</c:v>
                </c:pt>
                <c:pt idx="1734">
                  <c:v>-395.446904</c:v>
                </c:pt>
                <c:pt idx="1735">
                  <c:v>-397.065375</c:v>
                </c:pt>
                <c:pt idx="1736">
                  <c:v>-398.688256</c:v>
                </c:pt>
                <c:pt idx="1737">
                  <c:v>-400.315553</c:v>
                </c:pt>
                <c:pt idx="1738">
                  <c:v>-401.947272</c:v>
                </c:pt>
                <c:pt idx="1739">
                  <c:v>-403.583419</c:v>
                </c:pt>
                <c:pt idx="1740">
                  <c:v>-405.224</c:v>
                </c:pt>
                <c:pt idx="1741">
                  <c:v>-406.869021</c:v>
                </c:pt>
                <c:pt idx="1742">
                  <c:v>-408.518488</c:v>
                </c:pt>
                <c:pt idx="1743">
                  <c:v>-410.172407</c:v>
                </c:pt>
                <c:pt idx="1744">
                  <c:v>-411.830784</c:v>
                </c:pt>
                <c:pt idx="1745">
                  <c:v>-413.493625</c:v>
                </c:pt>
                <c:pt idx="1746">
                  <c:v>-415.160936</c:v>
                </c:pt>
                <c:pt idx="1747">
                  <c:v>-416.832723</c:v>
                </c:pt>
                <c:pt idx="1748">
                  <c:v>-418.508992</c:v>
                </c:pt>
                <c:pt idx="1749">
                  <c:v>-420.189749</c:v>
                </c:pt>
                <c:pt idx="1750">
                  <c:v>-421.875</c:v>
                </c:pt>
                <c:pt idx="1751">
                  <c:v>-423.564751</c:v>
                </c:pt>
                <c:pt idx="1752">
                  <c:v>-425.259008</c:v>
                </c:pt>
                <c:pt idx="1753">
                  <c:v>-426.957777</c:v>
                </c:pt>
                <c:pt idx="1754">
                  <c:v>-428.661064</c:v>
                </c:pt>
                <c:pt idx="1755">
                  <c:v>-430.368875</c:v>
                </c:pt>
                <c:pt idx="1756">
                  <c:v>-432.081216</c:v>
                </c:pt>
                <c:pt idx="1757">
                  <c:v>-433.798093</c:v>
                </c:pt>
                <c:pt idx="1758">
                  <c:v>-435.519512</c:v>
                </c:pt>
                <c:pt idx="1759">
                  <c:v>-437.245479</c:v>
                </c:pt>
                <c:pt idx="1760">
                  <c:v>-438.976</c:v>
                </c:pt>
                <c:pt idx="1761">
                  <c:v>-440.711081</c:v>
                </c:pt>
                <c:pt idx="1762">
                  <c:v>-442.450728</c:v>
                </c:pt>
                <c:pt idx="1763">
                  <c:v>-444.194947</c:v>
                </c:pt>
                <c:pt idx="1764">
                  <c:v>-445.943744</c:v>
                </c:pt>
                <c:pt idx="1765">
                  <c:v>-447.697125</c:v>
                </c:pt>
                <c:pt idx="1766">
                  <c:v>-449.455096</c:v>
                </c:pt>
                <c:pt idx="1767">
                  <c:v>-451.217663</c:v>
                </c:pt>
                <c:pt idx="1768">
                  <c:v>-452.984832</c:v>
                </c:pt>
                <c:pt idx="1769">
                  <c:v>-454.756609</c:v>
                </c:pt>
                <c:pt idx="1770">
                  <c:v>-456.533</c:v>
                </c:pt>
                <c:pt idx="1771">
                  <c:v>-458.314011</c:v>
                </c:pt>
                <c:pt idx="1772">
                  <c:v>-460.099648</c:v>
                </c:pt>
                <c:pt idx="1773">
                  <c:v>-461.889917</c:v>
                </c:pt>
                <c:pt idx="1774">
                  <c:v>-463.684824</c:v>
                </c:pt>
                <c:pt idx="1775">
                  <c:v>-465.484375</c:v>
                </c:pt>
                <c:pt idx="1776">
                  <c:v>-467.288576</c:v>
                </c:pt>
                <c:pt idx="1777">
                  <c:v>-469.097433</c:v>
                </c:pt>
                <c:pt idx="1778">
                  <c:v>-470.910952</c:v>
                </c:pt>
                <c:pt idx="1779">
                  <c:v>-472.729139</c:v>
                </c:pt>
                <c:pt idx="1780">
                  <c:v>-474.552</c:v>
                </c:pt>
                <c:pt idx="1781">
                  <c:v>-476.379541</c:v>
                </c:pt>
                <c:pt idx="1782">
                  <c:v>-478.211768</c:v>
                </c:pt>
                <c:pt idx="1783">
                  <c:v>-480.048687</c:v>
                </c:pt>
                <c:pt idx="1784">
                  <c:v>-481.890304</c:v>
                </c:pt>
                <c:pt idx="1785">
                  <c:v>-483.736625</c:v>
                </c:pt>
                <c:pt idx="1786">
                  <c:v>-485.587656</c:v>
                </c:pt>
                <c:pt idx="1787">
                  <c:v>-487.443403</c:v>
                </c:pt>
                <c:pt idx="1788">
                  <c:v>-489.303872</c:v>
                </c:pt>
                <c:pt idx="1789">
                  <c:v>-491.169069</c:v>
                </c:pt>
                <c:pt idx="1790">
                  <c:v>-493.039</c:v>
                </c:pt>
                <c:pt idx="1791">
                  <c:v>-494.913671</c:v>
                </c:pt>
                <c:pt idx="1792">
                  <c:v>-496.793088</c:v>
                </c:pt>
                <c:pt idx="1793">
                  <c:v>-498.677257</c:v>
                </c:pt>
                <c:pt idx="1794">
                  <c:v>-500.566184</c:v>
                </c:pt>
                <c:pt idx="1795">
                  <c:v>-502.459875</c:v>
                </c:pt>
                <c:pt idx="1796">
                  <c:v>-504.358336</c:v>
                </c:pt>
                <c:pt idx="1797">
                  <c:v>-506.261573</c:v>
                </c:pt>
                <c:pt idx="1798">
                  <c:v>-508.169592</c:v>
                </c:pt>
                <c:pt idx="1799">
                  <c:v>-510.082399</c:v>
                </c:pt>
                <c:pt idx="1800">
                  <c:v>-512</c:v>
                </c:pt>
                <c:pt idx="1801">
                  <c:v>-513.922401</c:v>
                </c:pt>
                <c:pt idx="1802">
                  <c:v>-515.849608</c:v>
                </c:pt>
                <c:pt idx="1803">
                  <c:v>-517.781627</c:v>
                </c:pt>
                <c:pt idx="1804">
                  <c:v>-519.718464</c:v>
                </c:pt>
                <c:pt idx="1805">
                  <c:v>-521.660125</c:v>
                </c:pt>
                <c:pt idx="1806">
                  <c:v>-523.606616</c:v>
                </c:pt>
                <c:pt idx="1807">
                  <c:v>-525.557943</c:v>
                </c:pt>
                <c:pt idx="1808">
                  <c:v>-527.514112</c:v>
                </c:pt>
                <c:pt idx="1809">
                  <c:v>-529.475129</c:v>
                </c:pt>
                <c:pt idx="1810">
                  <c:v>-531.441</c:v>
                </c:pt>
                <c:pt idx="1811">
                  <c:v>-533.411731</c:v>
                </c:pt>
                <c:pt idx="1812">
                  <c:v>-535.387328</c:v>
                </c:pt>
                <c:pt idx="1813">
                  <c:v>-537.367797</c:v>
                </c:pt>
                <c:pt idx="1814">
                  <c:v>-539.353144</c:v>
                </c:pt>
                <c:pt idx="1815">
                  <c:v>-541.343375</c:v>
                </c:pt>
                <c:pt idx="1816">
                  <c:v>-543.338496</c:v>
                </c:pt>
                <c:pt idx="1817">
                  <c:v>-545.338513</c:v>
                </c:pt>
                <c:pt idx="1818">
                  <c:v>-547.343432</c:v>
                </c:pt>
                <c:pt idx="1819">
                  <c:v>-549.353259</c:v>
                </c:pt>
                <c:pt idx="1820">
                  <c:v>-551.368</c:v>
                </c:pt>
                <c:pt idx="1821">
                  <c:v>-553.387661</c:v>
                </c:pt>
                <c:pt idx="1822">
                  <c:v>-555.412248</c:v>
                </c:pt>
                <c:pt idx="1823">
                  <c:v>-557.441767</c:v>
                </c:pt>
                <c:pt idx="1824">
                  <c:v>-559.476224000001</c:v>
                </c:pt>
                <c:pt idx="1825">
                  <c:v>-561.515625</c:v>
                </c:pt>
                <c:pt idx="1826">
                  <c:v>-563.559976</c:v>
                </c:pt>
                <c:pt idx="1827">
                  <c:v>-565.609283</c:v>
                </c:pt>
                <c:pt idx="1828">
                  <c:v>-567.663552</c:v>
                </c:pt>
                <c:pt idx="1829">
                  <c:v>-569.722789</c:v>
                </c:pt>
                <c:pt idx="1830">
                  <c:v>-571.787</c:v>
                </c:pt>
                <c:pt idx="1831">
                  <c:v>-573.856191</c:v>
                </c:pt>
                <c:pt idx="1832">
                  <c:v>-575.930368</c:v>
                </c:pt>
                <c:pt idx="1833">
                  <c:v>-578.009537</c:v>
                </c:pt>
                <c:pt idx="1834">
                  <c:v>-580.093704</c:v>
                </c:pt>
                <c:pt idx="1835">
                  <c:v>-582.182875</c:v>
                </c:pt>
                <c:pt idx="1836">
                  <c:v>-584.277056</c:v>
                </c:pt>
                <c:pt idx="1837">
                  <c:v>-586.376253</c:v>
                </c:pt>
                <c:pt idx="1838">
                  <c:v>-588.480472</c:v>
                </c:pt>
                <c:pt idx="1839">
                  <c:v>-590.589719</c:v>
                </c:pt>
                <c:pt idx="1840">
                  <c:v>-592.704</c:v>
                </c:pt>
                <c:pt idx="1841">
                  <c:v>-594.823321</c:v>
                </c:pt>
                <c:pt idx="1842">
                  <c:v>-596.947688</c:v>
                </c:pt>
                <c:pt idx="1843">
                  <c:v>-599.077107</c:v>
                </c:pt>
                <c:pt idx="1844">
                  <c:v>-601.211584</c:v>
                </c:pt>
                <c:pt idx="1845">
                  <c:v>-603.351125</c:v>
                </c:pt>
                <c:pt idx="1846">
                  <c:v>-605.495736</c:v>
                </c:pt>
                <c:pt idx="1847">
                  <c:v>-607.645423</c:v>
                </c:pt>
                <c:pt idx="1848">
                  <c:v>-609.800192</c:v>
                </c:pt>
                <c:pt idx="1849">
                  <c:v>-611.960049</c:v>
                </c:pt>
                <c:pt idx="1850">
                  <c:v>-614.125</c:v>
                </c:pt>
                <c:pt idx="1851">
                  <c:v>-616.295051</c:v>
                </c:pt>
                <c:pt idx="1852">
                  <c:v>-618.470208</c:v>
                </c:pt>
                <c:pt idx="1853">
                  <c:v>-620.650477</c:v>
                </c:pt>
                <c:pt idx="1854">
                  <c:v>-622.835864</c:v>
                </c:pt>
                <c:pt idx="1855">
                  <c:v>-625.026375</c:v>
                </c:pt>
                <c:pt idx="1856">
                  <c:v>-627.222016</c:v>
                </c:pt>
                <c:pt idx="1857">
                  <c:v>-629.422793</c:v>
                </c:pt>
                <c:pt idx="1858">
                  <c:v>-631.628712</c:v>
                </c:pt>
                <c:pt idx="1859">
                  <c:v>-633.839779</c:v>
                </c:pt>
                <c:pt idx="1860">
                  <c:v>-636.056</c:v>
                </c:pt>
                <c:pt idx="1861">
                  <c:v>-638.277381</c:v>
                </c:pt>
                <c:pt idx="1862">
                  <c:v>-640.503928</c:v>
                </c:pt>
                <c:pt idx="1863">
                  <c:v>-642.735647</c:v>
                </c:pt>
                <c:pt idx="1864">
                  <c:v>-644.972544</c:v>
                </c:pt>
                <c:pt idx="1865">
                  <c:v>-647.214625</c:v>
                </c:pt>
                <c:pt idx="1866">
                  <c:v>-649.461896</c:v>
                </c:pt>
                <c:pt idx="1867">
                  <c:v>-651.714363</c:v>
                </c:pt>
                <c:pt idx="1868">
                  <c:v>-653.972032</c:v>
                </c:pt>
                <c:pt idx="1869">
                  <c:v>-656.234909</c:v>
                </c:pt>
                <c:pt idx="1870">
                  <c:v>-658.503</c:v>
                </c:pt>
                <c:pt idx="1871">
                  <c:v>-660.776311</c:v>
                </c:pt>
                <c:pt idx="1872">
                  <c:v>-663.054848</c:v>
                </c:pt>
                <c:pt idx="1873">
                  <c:v>-665.338617</c:v>
                </c:pt>
                <c:pt idx="1874">
                  <c:v>-667.627624</c:v>
                </c:pt>
                <c:pt idx="1875">
                  <c:v>-669.921875</c:v>
                </c:pt>
                <c:pt idx="1876">
                  <c:v>-672.221376</c:v>
                </c:pt>
                <c:pt idx="1877">
                  <c:v>-674.526133</c:v>
                </c:pt>
                <c:pt idx="1878">
                  <c:v>-676.836152</c:v>
                </c:pt>
                <c:pt idx="1879">
                  <c:v>-679.151439</c:v>
                </c:pt>
                <c:pt idx="1880">
                  <c:v>-681.472</c:v>
                </c:pt>
                <c:pt idx="1881">
                  <c:v>-683.797841</c:v>
                </c:pt>
                <c:pt idx="1882">
                  <c:v>-686.128968</c:v>
                </c:pt>
                <c:pt idx="1883">
                  <c:v>-688.465387</c:v>
                </c:pt>
                <c:pt idx="1884">
                  <c:v>-690.807104</c:v>
                </c:pt>
                <c:pt idx="1885">
                  <c:v>-693.154125</c:v>
                </c:pt>
                <c:pt idx="1886">
                  <c:v>-695.506456</c:v>
                </c:pt>
                <c:pt idx="1887">
                  <c:v>-697.864103</c:v>
                </c:pt>
                <c:pt idx="1888">
                  <c:v>-700.227072</c:v>
                </c:pt>
                <c:pt idx="1889">
                  <c:v>-702.595369</c:v>
                </c:pt>
                <c:pt idx="1890">
                  <c:v>-704.969000000001</c:v>
                </c:pt>
                <c:pt idx="1891">
                  <c:v>-707.347971</c:v>
                </c:pt>
                <c:pt idx="1892">
                  <c:v>-709.732288</c:v>
                </c:pt>
                <c:pt idx="1893">
                  <c:v>-712.121957</c:v>
                </c:pt>
                <c:pt idx="1894">
                  <c:v>-714.516984</c:v>
                </c:pt>
                <c:pt idx="1895">
                  <c:v>-716.917375</c:v>
                </c:pt>
                <c:pt idx="1896">
                  <c:v>-719.323136</c:v>
                </c:pt>
                <c:pt idx="1897">
                  <c:v>-721.734273</c:v>
                </c:pt>
                <c:pt idx="1898">
                  <c:v>-724.150792</c:v>
                </c:pt>
                <c:pt idx="1899">
                  <c:v>-726.572699000001</c:v>
                </c:pt>
                <c:pt idx="1900">
                  <c:v>-729</c:v>
                </c:pt>
                <c:pt idx="1901">
                  <c:v>-731.432701</c:v>
                </c:pt>
                <c:pt idx="1902">
                  <c:v>-733.870808</c:v>
                </c:pt>
                <c:pt idx="1903">
                  <c:v>-736.314327</c:v>
                </c:pt>
                <c:pt idx="1904">
                  <c:v>-738.763264</c:v>
                </c:pt>
                <c:pt idx="1905">
                  <c:v>-741.217625</c:v>
                </c:pt>
                <c:pt idx="1906">
                  <c:v>-743.677416</c:v>
                </c:pt>
                <c:pt idx="1907">
                  <c:v>-746.142643</c:v>
                </c:pt>
                <c:pt idx="1908">
                  <c:v>-748.613312000001</c:v>
                </c:pt>
                <c:pt idx="1909">
                  <c:v>-751.089429</c:v>
                </c:pt>
                <c:pt idx="1910">
                  <c:v>-753.571</c:v>
                </c:pt>
                <c:pt idx="1911">
                  <c:v>-756.058031</c:v>
                </c:pt>
                <c:pt idx="1912">
                  <c:v>-758.550528</c:v>
                </c:pt>
                <c:pt idx="1913">
                  <c:v>-761.048497</c:v>
                </c:pt>
                <c:pt idx="1914">
                  <c:v>-763.551944</c:v>
                </c:pt>
                <c:pt idx="1915">
                  <c:v>-766.060875000001</c:v>
                </c:pt>
                <c:pt idx="1916">
                  <c:v>-768.575296</c:v>
                </c:pt>
                <c:pt idx="1917">
                  <c:v>-771.095213000001</c:v>
                </c:pt>
                <c:pt idx="1918">
                  <c:v>-773.620632</c:v>
                </c:pt>
                <c:pt idx="1919">
                  <c:v>-776.151559</c:v>
                </c:pt>
                <c:pt idx="1920">
                  <c:v>-778.688</c:v>
                </c:pt>
                <c:pt idx="1921">
                  <c:v>-781.229961</c:v>
                </c:pt>
                <c:pt idx="1922">
                  <c:v>-783.777448</c:v>
                </c:pt>
                <c:pt idx="1923">
                  <c:v>-786.330467</c:v>
                </c:pt>
                <c:pt idx="1924">
                  <c:v>-788.889024000001</c:v>
                </c:pt>
                <c:pt idx="1925">
                  <c:v>-791.453125</c:v>
                </c:pt>
                <c:pt idx="1926">
                  <c:v>-794.022776000001</c:v>
                </c:pt>
                <c:pt idx="1927">
                  <c:v>-796.597983</c:v>
                </c:pt>
                <c:pt idx="1928">
                  <c:v>-799.178752</c:v>
                </c:pt>
                <c:pt idx="1929">
                  <c:v>-801.765089</c:v>
                </c:pt>
                <c:pt idx="1930">
                  <c:v>-804.357</c:v>
                </c:pt>
                <c:pt idx="1931">
                  <c:v>-806.954491</c:v>
                </c:pt>
                <c:pt idx="1932">
                  <c:v>-809.557568</c:v>
                </c:pt>
                <c:pt idx="1933">
                  <c:v>-812.166237000001</c:v>
                </c:pt>
                <c:pt idx="1934">
                  <c:v>-814.780504</c:v>
                </c:pt>
                <c:pt idx="1935">
                  <c:v>-817.400375</c:v>
                </c:pt>
                <c:pt idx="1936">
                  <c:v>-820.025856</c:v>
                </c:pt>
                <c:pt idx="1937">
                  <c:v>-822.656953</c:v>
                </c:pt>
                <c:pt idx="1938">
                  <c:v>-825.293672</c:v>
                </c:pt>
                <c:pt idx="1939">
                  <c:v>-827.936019</c:v>
                </c:pt>
                <c:pt idx="1940">
                  <c:v>-830.584000000001</c:v>
                </c:pt>
                <c:pt idx="1941">
                  <c:v>-833.237621</c:v>
                </c:pt>
                <c:pt idx="1942">
                  <c:v>-835.896888</c:v>
                </c:pt>
                <c:pt idx="1943">
                  <c:v>-838.561807</c:v>
                </c:pt>
                <c:pt idx="1944">
                  <c:v>-841.232384</c:v>
                </c:pt>
                <c:pt idx="1945">
                  <c:v>-843.908625</c:v>
                </c:pt>
                <c:pt idx="1946">
                  <c:v>-846.590536</c:v>
                </c:pt>
                <c:pt idx="1947">
                  <c:v>-849.278123</c:v>
                </c:pt>
                <c:pt idx="1948">
                  <c:v>-851.971392</c:v>
                </c:pt>
                <c:pt idx="1949">
                  <c:v>-854.670349000001</c:v>
                </c:pt>
                <c:pt idx="1950">
                  <c:v>-857.375</c:v>
                </c:pt>
                <c:pt idx="1951">
                  <c:v>-860.085351</c:v>
                </c:pt>
                <c:pt idx="1952">
                  <c:v>-862.801408</c:v>
                </c:pt>
                <c:pt idx="1953">
                  <c:v>-865.523177</c:v>
                </c:pt>
                <c:pt idx="1954">
                  <c:v>-868.250664</c:v>
                </c:pt>
                <c:pt idx="1955">
                  <c:v>-870.983875</c:v>
                </c:pt>
                <c:pt idx="1956">
                  <c:v>-873.722816</c:v>
                </c:pt>
                <c:pt idx="1957">
                  <c:v>-876.467493</c:v>
                </c:pt>
                <c:pt idx="1958">
                  <c:v>-879.217912000001</c:v>
                </c:pt>
                <c:pt idx="1959">
                  <c:v>-881.974079</c:v>
                </c:pt>
                <c:pt idx="1960">
                  <c:v>-884.736</c:v>
                </c:pt>
                <c:pt idx="1961">
                  <c:v>-887.503681</c:v>
                </c:pt>
                <c:pt idx="1962">
                  <c:v>-890.277128</c:v>
                </c:pt>
                <c:pt idx="1963">
                  <c:v>-893.056347</c:v>
                </c:pt>
                <c:pt idx="1964">
                  <c:v>-895.841344</c:v>
                </c:pt>
                <c:pt idx="1965">
                  <c:v>-898.632125000001</c:v>
                </c:pt>
                <c:pt idx="1966">
                  <c:v>-901.428696</c:v>
                </c:pt>
                <c:pt idx="1967">
                  <c:v>-904.231063000001</c:v>
                </c:pt>
                <c:pt idx="1968">
                  <c:v>-907.039232</c:v>
                </c:pt>
                <c:pt idx="1969">
                  <c:v>-909.853209</c:v>
                </c:pt>
                <c:pt idx="1970">
                  <c:v>-912.673</c:v>
                </c:pt>
                <c:pt idx="1971">
                  <c:v>-915.498611</c:v>
                </c:pt>
                <c:pt idx="1972">
                  <c:v>-918.330048</c:v>
                </c:pt>
                <c:pt idx="1973">
                  <c:v>-921.167317</c:v>
                </c:pt>
                <c:pt idx="1974">
                  <c:v>-924.010424000001</c:v>
                </c:pt>
                <c:pt idx="1975">
                  <c:v>-926.859375</c:v>
                </c:pt>
                <c:pt idx="1976">
                  <c:v>-929.714176</c:v>
                </c:pt>
                <c:pt idx="1977">
                  <c:v>-932.574833</c:v>
                </c:pt>
                <c:pt idx="1978">
                  <c:v>-935.441352</c:v>
                </c:pt>
                <c:pt idx="1979">
                  <c:v>-938.313739</c:v>
                </c:pt>
                <c:pt idx="1980">
                  <c:v>-941.192</c:v>
                </c:pt>
                <c:pt idx="1981">
                  <c:v>-944.076141</c:v>
                </c:pt>
                <c:pt idx="1982">
                  <c:v>-946.966168</c:v>
                </c:pt>
                <c:pt idx="1983">
                  <c:v>-949.862087</c:v>
                </c:pt>
                <c:pt idx="1984">
                  <c:v>-952.763904</c:v>
                </c:pt>
                <c:pt idx="1985">
                  <c:v>-955.671625</c:v>
                </c:pt>
                <c:pt idx="1986">
                  <c:v>-958.585256</c:v>
                </c:pt>
                <c:pt idx="1987">
                  <c:v>-961.504803</c:v>
                </c:pt>
                <c:pt idx="1988">
                  <c:v>-964.430272</c:v>
                </c:pt>
                <c:pt idx="1989">
                  <c:v>-967.361669</c:v>
                </c:pt>
                <c:pt idx="1990">
                  <c:v>-970.299000000001</c:v>
                </c:pt>
                <c:pt idx="1991">
                  <c:v>-973.242271</c:v>
                </c:pt>
                <c:pt idx="1992">
                  <c:v>-976.191488000001</c:v>
                </c:pt>
                <c:pt idx="1993">
                  <c:v>-979.146657</c:v>
                </c:pt>
                <c:pt idx="1994">
                  <c:v>-982.107784000001</c:v>
                </c:pt>
                <c:pt idx="1995">
                  <c:v>-985.074875</c:v>
                </c:pt>
                <c:pt idx="1996">
                  <c:v>-988.047936</c:v>
                </c:pt>
                <c:pt idx="1997">
                  <c:v>-991.026973</c:v>
                </c:pt>
                <c:pt idx="1998">
                  <c:v>-994.011992</c:v>
                </c:pt>
                <c:pt idx="1999">
                  <c:v>-997.002999000001</c:v>
                </c:pt>
                <c:pt idx="2000">
                  <c:v>-1000</c:v>
                </c:pt>
              </c:numCache>
            </c:numRef>
          </c:yVal>
          <c:smooth val="1"/>
        </c:ser>
        <c:axId val="83192271"/>
        <c:axId val="8230962"/>
      </c:scatterChart>
      <c:valAx>
        <c:axId val="83192271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8230962"/>
        <c:crosses val="autoZero"/>
        <c:crossBetween val="midCat"/>
        <c:majorUnit val="2"/>
        <c:minorUnit val="0.05"/>
      </c:valAx>
      <c:valAx>
        <c:axId val="8230962"/>
        <c:scaling>
          <c:orientation val="minMax"/>
          <c:max val="7"/>
          <c:min val="-6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83192271"/>
        <c:crosses val="autoZero"/>
        <c:crossBetween val="midCat"/>
        <c:majorUnit val="2"/>
        <c:minorUnit val="0.0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dt" idx="2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3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4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E1FB799-CA4E-4E1D-8530-06F2033410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Num" idx="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cs-CZ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BCBCADD-43D4-49E4-A35F-26125B53A31F}" type="slidenum">
              <a:rPr b="0" lang="cs-CZ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sldNum" idx="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cs-CZ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230C968-1B80-41D1-AB19-C04E492EAE48}" type="slidenum">
              <a:rPr b="0" lang="cs-CZ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sldNum" idx="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cs-CZ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E5C49B6-B835-45EC-8A86-B888B68975EE}" type="slidenum">
              <a:rPr b="0" lang="cs-CZ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Kliknutím lze upravit styl.</a:t>
            </a: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Kliknutím lze upravit styly předlohy textu.</a:t>
            </a: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Druhá úroveň</a:t>
            </a:r>
            <a:endParaRPr b="0" lang="cs-CZ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Třetí úroveň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Čtvrtá úroveň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Pátá úroveň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476640" y="6399360"/>
            <a:ext cx="82357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chart" Target="../charts/chart8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chart" Target="../charts/chart9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chart" Target="../charts/chart2.xm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chart" Target="../charts/chart3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7.xml"/><Relationship Id="rId3" Type="http://schemas.openxmlformats.org/officeDocument/2006/relationships/chart" Target="../charts/chart4.xm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chart" Target="../charts/chart5.xm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8.xml"/><Relationship Id="rId3" Type="http://schemas.openxmlformats.org/officeDocument/2006/relationships/chart" Target="../charts/chart6.xml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chart" Target="../charts/chart7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1583640"/>
            <a:ext cx="8229240" cy="459000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961"/>
              </a:spcBef>
              <a:buNone/>
              <a:tabLst>
                <a:tab algn="l" pos="0"/>
              </a:tabLst>
            </a:pPr>
            <a:endParaRPr b="0" lang="cs-CZ" sz="4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961"/>
              </a:spcBef>
              <a:buNone/>
              <a:tabLst>
                <a:tab algn="l" pos="0"/>
              </a:tabLst>
            </a:pPr>
            <a:endParaRPr b="0" lang="cs-CZ" sz="4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961"/>
              </a:spcBef>
              <a:buNone/>
              <a:tabLst>
                <a:tab algn="l" pos="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Calibri"/>
              </a:rPr>
              <a:t>Nevlastní limita                                  </a:t>
            </a:r>
            <a:endParaRPr b="0" lang="cs-CZ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53000"/>
          </a:bodyPr>
          <a:p>
            <a:pPr indent="0" algn="ctr">
              <a:lnSpc>
                <a:spcPct val="100000"/>
              </a:lnSpc>
              <a:buNone/>
            </a:pPr>
            <a:br>
              <a:rPr sz="4000"/>
            </a:br>
            <a:r>
              <a:rPr b="1" lang="cs-CZ" sz="4400" spc="-1" strike="noStrike">
                <a:solidFill>
                  <a:srgbClr val="000000"/>
                </a:solidFill>
                <a:latin typeface="Calibri"/>
              </a:rPr>
              <a:t>Základy infinitezimálního počtu</a:t>
            </a:r>
            <a:br>
              <a:rPr sz="4400"/>
            </a:b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476640" y="6219360"/>
            <a:ext cx="8370720" cy="54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i="1" lang="cs-CZ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</a:pPr>
            <a:r>
              <a:rPr b="0" i="1" lang="cs-CZ" sz="1100" spc="-1" strike="noStrike">
                <a:solidFill>
                  <a:srgbClr val="8b8b8b"/>
                </a:solidFill>
                <a:latin typeface="Calibri"/>
              </a:rPr>
              <a:t>Autorem materiálu a všech jeho částí, není-li uvedeno jinak, je Mgr. Ivana Mastíková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</a:pPr>
            <a:r>
              <a:rPr b="0" i="1" lang="cs-CZ" sz="1100" spc="-1" strike="noStrike">
                <a:solidFill>
                  <a:srgbClr val="8b8b8b"/>
                </a:solidFill>
                <a:latin typeface="Calibri"/>
              </a:rPr>
              <a:t> </a:t>
            </a:r>
            <a:r>
              <a:rPr b="0" i="1" lang="cs-CZ" sz="1100" spc="-1" strike="noStrike">
                <a:solidFill>
                  <a:srgbClr val="8b8b8b"/>
                </a:solidFill>
                <a:latin typeface="Calibri"/>
              </a:rPr>
              <a:t>Dostupné z Metodického portálu www.rvp.cz; ISSN 1802-4785. </a:t>
            </a:r>
            <a:br>
              <a:rPr sz="1100"/>
            </a:br>
            <a:r>
              <a:rPr b="0" i="1" lang="cs-CZ" sz="1100" spc="-1" strike="noStrike">
                <a:solidFill>
                  <a:srgbClr val="8b8b8b"/>
                </a:solidFill>
                <a:latin typeface="Calibri"/>
              </a:rPr>
              <a:t>Provozuje Národní ústav pro vzdělávání, školské poradenské zařízení a zařízení pro další vzdělávání pedagogických pracovníků (NÚV)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Limita funkce v nevlastním bodě</a:t>
            </a:r>
            <a:endParaRPr b="0" lang="cs-CZ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861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 intervalu  je funkce  rostoucí.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ovéPole 53"/>
          <p:cNvSpPr/>
          <p:nvPr/>
        </p:nvSpPr>
        <p:spPr>
          <a:xfrm>
            <a:off x="3537000" y="2074680"/>
            <a:ext cx="5175360" cy="161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zmenšujícím s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se funkční hodnota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menšuj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-li s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k mínus nekonečnu, funkční hodnota 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k nu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Říkáme, že funkce  má v nevlastní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odě  limitu nula. Zapisuje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ovéPole 7"/>
          <p:cNvSpPr/>
          <p:nvPr/>
        </p:nvSpPr>
        <p:spPr>
          <a:xfrm>
            <a:off x="623880" y="4284000"/>
            <a:ext cx="7953120" cy="1840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m bodě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limit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stliže ke každému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exist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akový bod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že 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gt; 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patří funkční hodnoty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do okolí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b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m bodě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limit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stliže ke každému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exist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akový bod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že 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lt; 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patří funkční hodnoty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do okolí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b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pisujeme: a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Graf 6"/>
          <p:cNvGraphicFramePr/>
          <p:nvPr/>
        </p:nvGraphicFramePr>
        <p:xfrm>
          <a:off x="386640" y="1944000"/>
          <a:ext cx="2647440" cy="23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0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6" dur="2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2000"/>
                            </p:stCondLst>
                            <p:childTnLst>
                              <p:par>
                                <p:cTn id="4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0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4000"/>
                            </p:stCondLst>
                            <p:childTnLst>
                              <p:par>
                                <p:cTn id="5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4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9" dur="2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4" dur="2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9" dur="2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4" dur="20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9" dur="20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4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7" dur="2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2000"/>
                            </p:stCondLst>
                            <p:childTnLst>
                              <p:par>
                                <p:cTn id="5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1" dur="2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6" dur="20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2000"/>
                            </p:stCondLst>
                            <p:childTnLst>
                              <p:par>
                                <p:cTn id="5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20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4000"/>
                            </p:stCondLst>
                            <p:childTnLst>
                              <p:par>
                                <p:cTn id="5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4" dur="20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Nevlastní limita funkce v nevlastním bodě</a:t>
            </a:r>
            <a:endParaRPr b="0" lang="cs-CZ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816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Kromě limit funkcí v nevlastním bodě existují i nevlastní limity v nevlastním bodě.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latí: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ovéPole 63"/>
          <p:cNvSpPr/>
          <p:nvPr/>
        </p:nvSpPr>
        <p:spPr>
          <a:xfrm>
            <a:off x="2816640" y="2124000"/>
            <a:ext cx="5850360" cy="192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,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R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v celém definičním obo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rostoucí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zřejmé že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blížící se k  bude lim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blížící se k  bude limita funk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, je klesající a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blížící se 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ude limita 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blížící se k  bu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limita funk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ovéPole 19"/>
          <p:cNvSpPr/>
          <p:nvPr/>
        </p:nvSpPr>
        <p:spPr>
          <a:xfrm>
            <a:off x="623880" y="4734000"/>
            <a:ext cx="7911360" cy="1566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m bodě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()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 takové čísl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že pro všechna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gt; 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latí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(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l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m bodě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()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 takové čísl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že pro všechna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lt; 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latí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(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l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Zástupný symbol pro obsah 3"/>
          <p:cNvGraphicFramePr/>
          <p:nvPr/>
        </p:nvGraphicFramePr>
        <p:xfrm>
          <a:off x="386640" y="1899000"/>
          <a:ext cx="2475000" cy="243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0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1" dur="2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2000"/>
                            </p:stCondLst>
                            <p:childTnLst>
                              <p:par>
                                <p:cTn id="5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5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4000"/>
                            </p:stCondLst>
                            <p:childTnLst>
                              <p:par>
                                <p:cTn id="5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9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2" dur="2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6000"/>
                            </p:stCondLst>
                            <p:childTnLst>
                              <p:par>
                                <p:cTn id="5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6" dur="2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8000"/>
                            </p:stCondLst>
                            <p:childTnLst>
                              <p:par>
                                <p:cTn id="5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0" dur="2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7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2000"/>
                            </p:stCondLst>
                            <p:childTnLst>
                              <p:par>
                                <p:cTn id="5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1" dur="20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4000"/>
                            </p:stCondLst>
                            <p:childTnLst>
                              <p:par>
                                <p:cTn id="5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5" dur="20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6000"/>
                            </p:stCondLst>
                            <p:childTnLst>
                              <p:par>
                                <p:cTn id="5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9" dur="200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4" dur="2000"/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2000"/>
                            </p:stCondLst>
                            <p:childTnLst>
                              <p:par>
                                <p:cTn id="6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8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1" dur="2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6" dur="2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7640" y="26064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Nevlastní limity 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cvičení 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7640" y="1598040"/>
            <a:ext cx="8229240" cy="471096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380"/>
              </a:spcBef>
              <a:buNone/>
              <a:tabLst>
                <a:tab algn="l" pos="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Vypočtěte limity daných funkcí pro :</a:t>
            </a:r>
            <a:endParaRPr b="0" lang="cs-CZ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80"/>
              </a:spcBef>
              <a:buNone/>
              <a:tabLst>
                <a:tab algn="l" pos="0"/>
              </a:tabLst>
            </a:pPr>
            <a:endParaRPr b="0" lang="cs-CZ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0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3" dur="2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fill="hold">
                            <p:stCondLst>
                              <p:cond delay="2000"/>
                            </p:stCondLst>
                            <p:childTnLst>
                              <p:par>
                                <p:cTn id="6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7" dur="2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fill="hold">
                            <p:stCondLst>
                              <p:cond delay="4000"/>
                            </p:stCondLst>
                            <p:childTnLst>
                              <p:par>
                                <p:cTn id="6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1" dur="20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fill="hold">
                            <p:stCondLst>
                              <p:cond delay="6000"/>
                            </p:stCondLst>
                            <p:childTnLst>
                              <p:par>
                                <p:cTn id="6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5" dur="200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8000"/>
                            </p:stCondLst>
                            <p:childTnLst>
                              <p:par>
                                <p:cTn id="6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9" dur="2000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fill="hold">
                            <p:stCondLst>
                              <p:cond delay="10000"/>
                            </p:stCondLst>
                            <p:childTnLst>
                              <p:par>
                                <p:cTn id="6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3" dur="2000"/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fill="hold">
                            <p:stCondLst>
                              <p:cond delay="12000"/>
                            </p:stCondLst>
                            <p:childTnLst>
                              <p:par>
                                <p:cTn id="6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7" dur="2000"/>
                                        <p:tgtEl>
                                          <p:spTgt spid="10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Limita funkce v bodě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 shrnutí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7640" y="1598040"/>
            <a:ext cx="8229240" cy="471096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rmAutofit fontScale="84000"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Připomeneme si nové pojmy: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cs-CZ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V další kapitole se seznámíme s užitím limit při určení asymptot grafu funkce.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8" dur="indefinite" restart="never" nodeType="tmRoot">
          <p:childTnLst>
            <p:seq>
              <p:cTn id="649" dur="indefinite" nodeType="mainSeq">
                <p:childTnLst>
                  <p:par>
                    <p:cTn id="650" fill="hold">
                      <p:stCondLst>
                        <p:cond delay="0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4" dur="24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fill="hold">
                            <p:stCondLst>
                              <p:cond delay="2400"/>
                            </p:stCondLst>
                            <p:childTnLst>
                              <p:par>
                                <p:cTn id="6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8" dur="2400"/>
                                        <p:tgtEl>
                                          <p:spTgt spid="10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oužitá literatura</a:t>
            </a: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rmAutofit fontScale="86000"/>
          </a:bodyPr>
          <a:p>
            <a:pPr marL="318600" indent="-31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Rektorys, K.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Přehled užité matematiky I.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3. vyd. Praha: Prometheus, 2009. ISBN 9788071961802.    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marL="318600" indent="-31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olák, J.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Přehled středoškolské matematiky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. 6. vyd. Praha: Prometheus, 1995. ISBN 808584978X. 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marL="318600" indent="-31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RNDr. Hrubý, D., RNDr. Kubát J.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Matematika pro gymnázia – Diferenciální a integrální počet.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1. vyd. Praha: Prometheus, 1997. ISBN 8071960632.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marL="318600" indent="-31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RNDr. Petáková J.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Matematika – příprava k maturitě a k přijímacím zkouškám na vysoké školy.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1. vyd. Praha: Prometheus, 2002. ISBN 8071960993.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Nevlastní limita ve vlastním bodě</a:t>
            </a:r>
            <a:endParaRPr b="0" lang="cs-CZ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816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 předchozích kapitolách jsme se zabývali limitami funkcí, kde funkční hodnotou v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daném vlastním bodě (reálné číslo) bylo vždy číslo náležející ose reálných čísel (vlastní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limita).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ak ale například určit funkční hodnotu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blížící se k nule funkce ?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Říkáme, že funkce  má v bodě nula limitu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ovéPole 8"/>
          <p:cNvSpPr/>
          <p:nvPr/>
        </p:nvSpPr>
        <p:spPr>
          <a:xfrm>
            <a:off x="2546640" y="5821200"/>
            <a:ext cx="1439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pisuje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TextovéPole 47"/>
              <p:cNvSpPr txBox="1"/>
              <p:nvPr/>
            </p:nvSpPr>
            <p:spPr>
              <a:xfrm>
                <a:off x="3926160" y="5638680"/>
                <a:ext cx="1439640" cy="67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t xml:space="preserve">𝐥𝐢𝐦</m:t>
                        </m:r>
                      </m:e>
                      <m:lim>
                        <m:r>
                          <m:t xml:space="preserve">𝒙</m:t>
                        </m:r>
                        <m:r>
                          <m:t xml:space="preserve">→</m:t>
                        </m:r>
                        <m:r>
                          <m:t xml:space="preserve">𝟎</m:t>
                        </m:r>
                      </m:lim>
                    </m:limLow>
                    <m:f>
                      <m:num>
                        <m:r>
                          <m:t xml:space="preserve">𝟏</m:t>
                        </m:r>
                      </m:num>
                      <m:den>
                        <m:sSup>
                          <m:e>
                            <m:r>
                              <m:t xml:space="preserve">𝒙</m:t>
                            </m:r>
                          </m:e>
                          <m:sup>
                            <m:r>
                              <m:t xml:space="preserve">𝟒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+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" name="TextovéPole 53"/>
          <p:cNvSpPr/>
          <p:nvPr/>
        </p:nvSpPr>
        <p:spPr>
          <a:xfrm>
            <a:off x="3222000" y="3038040"/>
            <a:ext cx="5535360" cy="17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Na obrázku je graf funkce ,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R - {0}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stliže zvolíme libovolné reálné čísl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ždy js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chopni najít takové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že pro všechna 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- {0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b.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volíme-li například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pak pro všech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- {0}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Čím menší polomě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okolí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volíme, tím větší bude funkční hodnot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Graf 15"/>
          <p:cNvGraphicFramePr/>
          <p:nvPr/>
        </p:nvGraphicFramePr>
        <p:xfrm>
          <a:off x="435600" y="3096000"/>
          <a:ext cx="2849760" cy="23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2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2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2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20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4000"/>
                            </p:stCondLst>
                            <p:childTnLst>
                              <p:par>
                                <p:cTn id="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2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2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6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20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8000"/>
                            </p:stCondLst>
                            <p:childTnLst>
                              <p:par>
                                <p:cTn id="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20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0000"/>
                            </p:stCondLst>
                            <p:childTnLst>
                              <p:par>
                                <p:cTn id="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20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2000"/>
                                        <p:tgtEl>
                                          <p:spTgt spid="4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2000"/>
                            </p:stCondLst>
                            <p:childTnLst>
                              <p:par>
                                <p:cTn id="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4000"/>
                            </p:stCondLst>
                            <p:childTnLst>
                              <p:par>
                                <p:cTn id="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2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Nevlastní limita ve vlastním bodě</a:t>
            </a:r>
            <a:endParaRPr b="0" lang="cs-CZ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951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eď vezměme funkci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ak říkáme: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ovéPole 53"/>
          <p:cNvSpPr/>
          <p:nvPr/>
        </p:nvSpPr>
        <p:spPr>
          <a:xfrm>
            <a:off x="3537000" y="2133000"/>
            <a:ext cx="5175360" cy="188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volíme-li opět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pak pro všech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- {0}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Čím menš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oloměr okolí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volíme, tím menší bude funkč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hodnot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 Říkáme, že funkc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má v bodě nula limit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pisuje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Graf 15"/>
          <p:cNvGraphicFramePr/>
          <p:nvPr/>
        </p:nvGraphicFramePr>
        <p:xfrm>
          <a:off x="566640" y="1989000"/>
          <a:ext cx="2849760" cy="23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sp>
        <p:nvSpPr>
          <p:cNvPr id="58" name="TextovéPole 7"/>
          <p:cNvSpPr/>
          <p:nvPr/>
        </p:nvSpPr>
        <p:spPr>
          <a:xfrm>
            <a:off x="623880" y="4542120"/>
            <a:ext cx="7911360" cy="1765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akové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 že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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 okolí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a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od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akové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 že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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 okolí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a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od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l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pisujeme: a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2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2000"/>
                            </p:stCondLst>
                            <p:childTnLst>
                              <p:par>
                                <p:cTn id="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4000"/>
                            </p:stCondLst>
                            <p:childTnLst>
                              <p:par>
                                <p:cTn id="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600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2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8000"/>
                            </p:stCondLst>
                            <p:childTnLst>
                              <p:par>
                                <p:cTn id="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2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0000"/>
                            </p:stCondLst>
                            <p:childTnLst>
                              <p:par>
                                <p:cTn id="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2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2000"/>
                            </p:stCondLst>
                            <p:childTnLst>
                              <p:par>
                                <p:cTn id="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20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20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2000"/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2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20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20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20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2000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Jednostranné nevlastní limity funkce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v bodě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906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tejně jako pro funkce existují vlastní limity zleva a zprava, tak existuje i nevlastní limita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prava a zleva.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latí: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ovéPole 63"/>
          <p:cNvSpPr/>
          <p:nvPr/>
        </p:nvSpPr>
        <p:spPr>
          <a:xfrm>
            <a:off x="3042000" y="2124000"/>
            <a:ext cx="5643000" cy="247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ato funkce  ,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R – {-1} 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jíž graf je 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obrázku není definována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1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 ale víme, že p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lt; -1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spojitá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zleva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gt; -1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spojitá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zprava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ezmem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 levého okolí bod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1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-1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-1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kd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 K bod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1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se přiblížíme zleva, funkční hodno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bude blížit k 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 stejně tak vezmem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 pravého okolí bod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1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-1;-1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ak  se funkční hodnota bude blíži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graf 1"/>
          <p:cNvGraphicFramePr/>
          <p:nvPr/>
        </p:nvGraphicFramePr>
        <p:xfrm>
          <a:off x="476640" y="2196000"/>
          <a:ext cx="2448000" cy="233316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cxnSp>
        <p:nvCxnSpPr>
          <p:cNvPr id="63" name="Přímá spojnice 16"/>
          <p:cNvCxnSpPr/>
          <p:nvPr/>
        </p:nvCxnSpPr>
        <p:spPr>
          <a:xfrm>
            <a:off x="1540800" y="2160000"/>
            <a:ext cx="360" cy="2304360"/>
          </a:xfrm>
          <a:prstGeom prst="straightConnector1">
            <a:avLst/>
          </a:prstGeom>
          <a:ln w="12700">
            <a:solidFill>
              <a:srgbClr val="c00000"/>
            </a:solidFill>
            <a:prstDash val="dash"/>
            <a:round/>
          </a:ln>
        </p:spPr>
      </p:cxnSp>
      <p:sp>
        <p:nvSpPr>
          <p:cNvPr id="64" name="TextovéPole 19"/>
          <p:cNvSpPr/>
          <p:nvPr/>
        </p:nvSpPr>
        <p:spPr>
          <a:xfrm>
            <a:off x="623880" y="4981320"/>
            <a:ext cx="7911360" cy="1339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()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zprav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 takové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 že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; a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(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l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()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zleva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 takové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 že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a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(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l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Přímá spojnice se šipkou 20"/>
          <p:cNvCxnSpPr/>
          <p:nvPr/>
        </p:nvCxnSpPr>
        <p:spPr>
          <a:xfrm flipV="1">
            <a:off x="1961640" y="224064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  <p:cxnSp>
        <p:nvCxnSpPr>
          <p:cNvPr id="66" name="Přímá spojnice se šipkou 21"/>
          <p:cNvCxnSpPr/>
          <p:nvPr/>
        </p:nvCxnSpPr>
        <p:spPr>
          <a:xfrm>
            <a:off x="1286280" y="377100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2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20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60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8000"/>
                            </p:stCondLst>
                            <p:childTnLst>
                              <p:par>
                                <p:cTn id="1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0000"/>
                            </p:stCondLst>
                            <p:childTnLst>
                              <p:par>
                                <p:cTn id="1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2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20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4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20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20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2000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4000"/>
                            </p:stCondLst>
                            <p:childTnLst>
                              <p:par>
                                <p:cTn id="1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2000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2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2000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2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2000"/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2" dur="2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2000"/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2000"/>
                            </p:stCondLst>
                            <p:childTnLst>
                              <p:par>
                                <p:cTn id="2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2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4000"/>
                            </p:stCondLst>
                            <p:childTnLst>
                              <p:par>
                                <p:cTn id="2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20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20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20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Nevlastní limity funkce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v bodě – příklady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861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funkci   se  a  , pak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neexistuje.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ypočtěte jednostranné limity v bodech, ve kterých nejsou dané funkce definovány: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zobraz postup řešení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zobraz postup řešení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ovéPole 4"/>
          <p:cNvSpPr/>
          <p:nvPr/>
        </p:nvSpPr>
        <p:spPr>
          <a:xfrm>
            <a:off x="623880" y="2439000"/>
            <a:ext cx="7911360" cy="912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Limita 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existuje, právě když existují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limity zprava a zle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 jsou si rovn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otom se limita 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rovná hodnotě limit zprava a zlev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Zástupný symbol pro obsah 3"/>
          <p:cNvGraphicFramePr/>
          <p:nvPr/>
        </p:nvGraphicFramePr>
        <p:xfrm>
          <a:off x="4032000" y="3744000"/>
          <a:ext cx="3889440" cy="2745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3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2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2000"/>
                            </p:stCondLst>
                            <p:childTnLst>
                              <p:par>
                                <p:cTn id="2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20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2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2000"/>
                            </p:stCondLst>
                            <p:childTnLst>
                              <p:par>
                                <p:cTn id="2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20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4000"/>
                            </p:stCondLst>
                            <p:childTnLst>
                              <p:par>
                                <p:cTn id="2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20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2000"/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2000"/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4000"/>
                            </p:stCondLst>
                            <p:childTnLst>
                              <p:par>
                                <p:cTn id="2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2000"/>
                                        <p:tgtEl>
                                          <p:spTgt spid="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2000"/>
                                        <p:tgtEl>
                                          <p:spTgt spid="6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2000"/>
                            </p:stCondLst>
                            <p:childTnLst>
                              <p:par>
                                <p:cTn id="2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8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2000"/>
                                        <p:tgtEl>
                                          <p:spTgt spid="6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Nevlastní limity funkce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v bodě – řešení 1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951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funkce není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= 0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definována,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je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lt; 0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pojitá zleva.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-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0) ,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&gt; 0 - levé okolí bodu 0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funkční hodnota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1 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je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gt; 0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pojitá zprava.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0;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,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&gt; 0 - pravé okolí bodu 0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funkční hodnota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1 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Zaoblený obdélník 4">
            <a:hlinkClick r:id="rId1" action="ppaction://hlinksldjump"/>
          </p:cNvPr>
          <p:cNvSpPr/>
          <p:nvPr/>
        </p:nvSpPr>
        <p:spPr>
          <a:xfrm>
            <a:off x="7632360" y="6229440"/>
            <a:ext cx="1151640" cy="349560"/>
          </a:xfrm>
          <a:prstGeom prst="roundRect">
            <a:avLst>
              <a:gd name="adj" fmla="val 16667"/>
            </a:avLst>
          </a:prstGeom>
          <a:solidFill>
            <a:srgbClr val="663300"/>
          </a:solidFill>
          <a:ln>
            <a:noFill/>
          </a:ln>
          <a:scene3d>
            <a:camera prst="orthographicFront"/>
            <a:lightRig dir="t" rig="soft"/>
          </a:scene3d>
          <a:sp3d contourW="12700" prstMaterial="matte">
            <a:bevelT prst="artDeco" w="114300"/>
            <a:bevelB prst="artDeco" w="114300"/>
            <a:contourClr>
              <a:schemeClr val="bg1"/>
            </a:contourClr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cs-CZ" sz="1800" spc="-1" strike="noStrike">
                <a:solidFill>
                  <a:srgbClr val="fce78e"/>
                </a:solidFill>
                <a:latin typeface="Calibri"/>
              </a:rPr>
              <a:t>Zpě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4" name="Zástupný symbol pro obsah 3"/>
          <p:cNvGraphicFramePr/>
          <p:nvPr/>
        </p:nvGraphicFramePr>
        <p:xfrm>
          <a:off x="4797000" y="1628640"/>
          <a:ext cx="388944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2"/>
          </a:graphicData>
        </a:graphic>
      </p:graphicFrame>
      <p:cxnSp>
        <p:nvCxnSpPr>
          <p:cNvPr id="75" name="Přímá spojnice se šipkou 6"/>
          <p:cNvCxnSpPr/>
          <p:nvPr/>
        </p:nvCxnSpPr>
        <p:spPr>
          <a:xfrm>
            <a:off x="6372000" y="422100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  <p:cxnSp>
        <p:nvCxnSpPr>
          <p:cNvPr id="76" name="Přímá spojnice se šipkou 8"/>
          <p:cNvCxnSpPr/>
          <p:nvPr/>
        </p:nvCxnSpPr>
        <p:spPr>
          <a:xfrm flipV="1">
            <a:off x="7092000" y="180864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0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2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2000"/>
                            </p:stCondLst>
                            <p:childTnLst>
                              <p:par>
                                <p:cTn id="3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4000"/>
                            </p:stCondLst>
                            <p:childTnLst>
                              <p:par>
                                <p:cTn id="3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600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20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8000"/>
                            </p:stCondLst>
                            <p:childTnLst>
                              <p:par>
                                <p:cTn id="3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20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0000"/>
                            </p:stCondLst>
                            <p:childTnLst>
                              <p:par>
                                <p:cTn id="3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0" dur="2000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12000"/>
                            </p:stCondLst>
                            <p:childTnLst>
                              <p:par>
                                <p:cTn id="3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2000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4000"/>
                            </p:stCondLst>
                            <p:childTnLst>
                              <p:par>
                                <p:cTn id="3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8" dur="2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6500"/>
                            </p:stCondLst>
                            <p:childTnLst>
                              <p:par>
                                <p:cTn id="3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2000"/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8500"/>
                            </p:stCondLst>
                            <p:childTnLst>
                              <p:par>
                                <p:cTn id="3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" dur="2000"/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20500"/>
                            </p:stCondLst>
                            <p:childTnLst>
                              <p:par>
                                <p:cTn id="3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2000"/>
                                        <p:tgtEl>
                                          <p:spTgt spid="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22500"/>
                            </p:stCondLst>
                            <p:childTnLst>
                              <p:par>
                                <p:cTn id="3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4" dur="2000"/>
                                        <p:tgtEl>
                                          <p:spTgt spid="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24500"/>
                            </p:stCondLst>
                            <p:childTnLst>
                              <p:par>
                                <p:cTn id="34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8" dur="2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27000"/>
                            </p:stCondLst>
                            <p:childTnLst>
                              <p:par>
                                <p:cTn id="3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2000"/>
                                        <p:tgtEl>
                                          <p:spTgt spid="7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Nevlastní limity funkce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v bodě – řešení 2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94964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funkce není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= (-2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definována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je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lt; (-2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pojitá zleva. Tedy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-2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-2),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 - levé okolí bodu (-2),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funkční hodnota 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2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je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gt; (-2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pojitá zprava.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-2;-2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,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&gt; 0 - pravé okolí bodu (-2)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funkční hodnota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2 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Zaoblený obdélník 4">
            <a:hlinkClick r:id="rId1" action="ppaction://hlinksldjump"/>
          </p:cNvPr>
          <p:cNvSpPr/>
          <p:nvPr/>
        </p:nvSpPr>
        <p:spPr>
          <a:xfrm>
            <a:off x="7632360" y="6229440"/>
            <a:ext cx="1151640" cy="349560"/>
          </a:xfrm>
          <a:prstGeom prst="roundRect">
            <a:avLst>
              <a:gd name="adj" fmla="val 16667"/>
            </a:avLst>
          </a:prstGeom>
          <a:solidFill>
            <a:srgbClr val="663300"/>
          </a:solidFill>
          <a:ln>
            <a:noFill/>
          </a:ln>
          <a:scene3d>
            <a:camera prst="orthographicFront"/>
            <a:lightRig dir="t" rig="soft"/>
          </a:scene3d>
          <a:sp3d contourW="12700" prstMaterial="matte">
            <a:bevelT prst="artDeco" w="114300"/>
            <a:bevelB prst="artDeco" w="114300"/>
            <a:contourClr>
              <a:schemeClr val="bg1"/>
            </a:contourClr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cs-CZ" sz="1800" spc="-1" strike="noStrike">
                <a:solidFill>
                  <a:srgbClr val="fce78e"/>
                </a:solidFill>
                <a:latin typeface="Calibri"/>
              </a:rPr>
              <a:t>Zpě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Zaoblený obdélník 5">
            <a:hlinkClick r:id="rId2" action="ppaction://hlinksldjump"/>
          </p:cNvPr>
          <p:cNvSpPr/>
          <p:nvPr/>
        </p:nvSpPr>
        <p:spPr>
          <a:xfrm>
            <a:off x="359640" y="6274440"/>
            <a:ext cx="1151640" cy="349560"/>
          </a:xfrm>
          <a:prstGeom prst="roundRect">
            <a:avLst>
              <a:gd name="adj" fmla="val 16667"/>
            </a:avLst>
          </a:prstGeom>
          <a:solidFill>
            <a:srgbClr val="663300"/>
          </a:solidFill>
          <a:ln>
            <a:noFill/>
          </a:ln>
          <a:scene3d>
            <a:camera prst="orthographicFront"/>
            <a:lightRig dir="t" rig="soft"/>
          </a:scene3d>
          <a:sp3d contourW="12700" prstMaterial="matte">
            <a:bevelT prst="artDeco" w="114300"/>
            <a:bevelB prst="artDeco" w="114300"/>
            <a:contourClr>
              <a:schemeClr val="bg1"/>
            </a:contourClr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cs-CZ" sz="1800" spc="-1" strike="noStrike">
                <a:solidFill>
                  <a:srgbClr val="fce78e"/>
                </a:solidFill>
                <a:latin typeface="Calibri"/>
              </a:rPr>
              <a:t>Dalš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1" name="Zástupný symbol pro obsah 3"/>
          <p:cNvGraphicFramePr/>
          <p:nvPr/>
        </p:nvGraphicFramePr>
        <p:xfrm>
          <a:off x="5517000" y="1583640"/>
          <a:ext cx="326700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3"/>
          </a:graphicData>
        </a:graphic>
      </p:graphicFrame>
      <p:cxnSp>
        <p:nvCxnSpPr>
          <p:cNvPr id="82" name="Přímá spojnice se šipkou 7"/>
          <p:cNvCxnSpPr/>
          <p:nvPr/>
        </p:nvCxnSpPr>
        <p:spPr>
          <a:xfrm>
            <a:off x="6822000" y="422100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  <p:cxnSp>
        <p:nvCxnSpPr>
          <p:cNvPr id="83" name="Přímá spojnice se šipkou 8"/>
          <p:cNvCxnSpPr/>
          <p:nvPr/>
        </p:nvCxnSpPr>
        <p:spPr>
          <a:xfrm flipV="1">
            <a:off x="6507000" y="180864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0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9" dur="2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4000"/>
                            </p:stCondLst>
                            <p:childTnLst>
                              <p:par>
                                <p:cTn id="3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7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6000"/>
                            </p:stCondLst>
                            <p:childTnLst>
                              <p:par>
                                <p:cTn id="3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1" dur="20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8000"/>
                            </p:stCondLst>
                            <p:childTnLst>
                              <p:par>
                                <p:cTn id="3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5" dur="200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10000"/>
                            </p:stCondLst>
                            <p:childTnLst>
                              <p:par>
                                <p:cTn id="3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2000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12000"/>
                            </p:stCondLst>
                            <p:childTnLst>
                              <p:par>
                                <p:cTn id="3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3" dur="2000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4000"/>
                            </p:stCondLst>
                            <p:childTnLst>
                              <p:par>
                                <p:cTn id="38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7" dur="2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16500"/>
                            </p:stCondLst>
                            <p:childTnLst>
                              <p:par>
                                <p:cTn id="3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1" dur="2000"/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18500"/>
                            </p:stCondLst>
                            <p:childTnLst>
                              <p:par>
                                <p:cTn id="3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5" dur="2000"/>
                                        <p:tgtEl>
                                          <p:spTgt spid="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20500"/>
                            </p:stCondLst>
                            <p:childTnLst>
                              <p:par>
                                <p:cTn id="3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9" dur="2000"/>
                                        <p:tgtEl>
                                          <p:spTgt spid="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22500"/>
                            </p:stCondLst>
                            <p:childTnLst>
                              <p:par>
                                <p:cTn id="4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3" dur="2000"/>
                                        <p:tgtEl>
                                          <p:spTgt spid="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24500"/>
                            </p:stCondLst>
                            <p:childTnLst>
                              <p:par>
                                <p:cTn id="4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7" dur="2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2700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2000"/>
                                        <p:tgtEl>
                                          <p:spTgt spid="7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7640" y="26064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Jednostranné limity v bodě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cvičení 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7640" y="1598040"/>
            <a:ext cx="8229240" cy="471096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380"/>
              </a:spcBef>
              <a:buNone/>
              <a:tabLst>
                <a:tab algn="l" pos="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Vypočtěte limity zprava v bodech nespojitosti: </a:t>
            </a:r>
            <a:r>
              <a:rPr b="0" i="1" lang="cs-CZ" sz="1900" spc="-1" strike="noStrike">
                <a:solidFill>
                  <a:srgbClr val="000000"/>
                </a:solidFill>
                <a:latin typeface="Calibri"/>
              </a:rPr>
              <a:t>vzor –  </a:t>
            </a:r>
            <a:r>
              <a:rPr b="1" lang="cs-CZ" sz="1900" spc="-1" strike="noStrike">
                <a:solidFill>
                  <a:srgbClr val="000000"/>
                </a:solidFill>
                <a:latin typeface="Symbol"/>
              </a:rPr>
              <a:t></a:t>
            </a:r>
            <a:r>
              <a:rPr b="1" lang="cs-CZ" sz="1900" spc="-1" strike="noStrike">
                <a:solidFill>
                  <a:srgbClr val="000000"/>
                </a:solidFill>
                <a:latin typeface="Calibri"/>
              </a:rPr>
              <a:t>nekonečno</a:t>
            </a:r>
            <a:r>
              <a:rPr b="0" i="1" lang="cs-CZ" sz="1900" spc="-1" strike="noStrike">
                <a:solidFill>
                  <a:srgbClr val="000000"/>
                </a:solidFill>
                <a:latin typeface="Calibri"/>
              </a:rPr>
              <a:t> bez mezer</a:t>
            </a:r>
            <a:endParaRPr b="0" lang="cs-CZ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80"/>
              </a:spcBef>
              <a:buNone/>
              <a:tabLst>
                <a:tab algn="l" pos="0"/>
              </a:tabLst>
            </a:pPr>
            <a:endParaRPr b="0" lang="cs-CZ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marL="342000"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0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2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1" dur="20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" dur="2000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7" dur="2000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0" dur="2000"/>
                                        <p:tgtEl>
                                          <p:spTgt spid="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Limita funkce v nevlastním bodě</a:t>
            </a:r>
            <a:endParaRPr b="0" lang="cs-CZ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861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ři řešení průběhu funkce a sestrojení grafu funkce potřebujeme vědět, jak se funkce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chová v krajních bodech definičního oboru. Zajímá nás, jak se funkce chová, blíží-li se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měnná k plus nebo mínus nekonečnu.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Říkáme, že funkce   má v nevlastním bodě  limitu nula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ovéPole 8"/>
          <p:cNvSpPr/>
          <p:nvPr/>
        </p:nvSpPr>
        <p:spPr>
          <a:xfrm>
            <a:off x="2546640" y="5821200"/>
            <a:ext cx="1439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pisuje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TextovéPole 47"/>
              <p:cNvSpPr txBox="1"/>
              <p:nvPr/>
            </p:nvSpPr>
            <p:spPr>
              <a:xfrm>
                <a:off x="3926160" y="5638680"/>
                <a:ext cx="1439640" cy="67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t xml:space="preserve">𝐥𝐢𝐦</m:t>
                        </m:r>
                      </m:e>
                      <m:lim>
                        <m:r>
                          <m:t xml:space="preserve">𝒙</m:t>
                        </m:r>
                        <m:r>
                          <m:t xml:space="preserve">→</m:t>
                        </m:r>
                        <m:r>
                          <m:t xml:space="preserve">+</m:t>
                        </m:r>
                        <m:r>
                          <m:t xml:space="preserve">∞</m:t>
                        </m:r>
                      </m:lim>
                    </m:limLow>
                    <m:f>
                      <m:num>
                        <m:r>
                          <m:t xml:space="preserve">𝟏</m:t>
                        </m:r>
                      </m:num>
                      <m:den>
                        <m:sSup>
                          <m:e>
                            <m:r>
                              <m:t xml:space="preserve">𝒙</m:t>
                            </m:r>
                          </m:e>
                          <m:sup>
                            <m:r>
                              <m:t xml:space="preserve">𝟒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𝟎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0" name="TextovéPole 53"/>
          <p:cNvSpPr/>
          <p:nvPr/>
        </p:nvSpPr>
        <p:spPr>
          <a:xfrm>
            <a:off x="3537000" y="2646000"/>
            <a:ext cx="4860360" cy="180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Na obrázku je opět graf funkce 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R - {0}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 V intervalu je funkce klesajíc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vzrůstajícím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se funkční hodnota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menšuj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Roste-li x nade všechny meze, funkční hodnota 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k nu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Graf 15"/>
          <p:cNvGraphicFramePr/>
          <p:nvPr/>
        </p:nvGraphicFramePr>
        <p:xfrm>
          <a:off x="365400" y="2664000"/>
          <a:ext cx="2647440" cy="23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0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2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2000"/>
                            </p:stCondLst>
                            <p:childTnLst>
                              <p:par>
                                <p:cTn id="4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1" dur="20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4000"/>
                            </p:stCondLst>
                            <p:childTnLst>
                              <p:par>
                                <p:cTn id="4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5" dur="20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6000"/>
                            </p:stCondLst>
                            <p:childTnLst>
                              <p:par>
                                <p:cTn id="4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9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8000"/>
                            </p:stCondLst>
                            <p:childTnLst>
                              <p:par>
                                <p:cTn id="4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3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2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2000"/>
                            </p:stCondLst>
                            <p:childTnLst>
                              <p:par>
                                <p:cTn id="4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2" dur="20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7" dur="20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2" dur="20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2000"/>
                            </p:stCondLst>
                            <p:childTnLst>
                              <p:par>
                                <p:cTn id="4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6" dur="20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1" dur="2000"/>
                                        <p:tgtEl>
                                          <p:spTgt spid="8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2000"/>
                            </p:stCondLst>
                            <p:childTnLst>
                              <p:par>
                                <p:cTn id="4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5" dur="2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4000"/>
                            </p:stCondLst>
                            <p:childTnLst>
                              <p:par>
                                <p:cTn id="4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2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Motiv systému Office">
  <a:themeElements>
    <a:clrScheme name="Kancelář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1</TotalTime>
  <Application>LibreOffice/7.4.7.2$Linux_X86_64 LibreOffice_project/40$Build-2</Application>
  <AppVersion>15.0000</AppVersion>
  <Words>2105</Words>
  <Paragraphs>318</Paragraphs>
  <Company>Gymnázium Česká Kamenice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31T21:56:25Z</dcterms:created>
  <dc:creator>Administrator</dc:creator>
  <dc:description>Autorem materiálu a všech jeho částí, není-li uvedeno jinak, je Mgr. Ivana Mastíková.
 Dostupné z Metodického portálu www.rvp.cz; ISSN 1802-4785. 
Provozuje Národní ústav pro vzdělávání, školské poradenské zařízení a zařízení pro další vzdělávání pedagogických pracovníků (NÚV).</dc:description>
  <dc:language>en-US</dc:language>
  <cp:lastModifiedBy>Krobot Ivo</cp:lastModifiedBy>
  <dcterms:modified xsi:type="dcterms:W3CDTF">2013-12-09T12:27:09Z</dcterms:modified>
  <cp:revision>1296</cp:revision>
  <dc:subject/>
  <dc:title>Funk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HiddenSlides">
    <vt:r8>2</vt:r8>
  </property>
  <property fmtid="{D5CDD505-2E9C-101B-9397-08002B2CF9AE}" pid="3" name="Notes">
    <vt:r8>3</vt:r8>
  </property>
  <property fmtid="{D5CDD505-2E9C-101B-9397-08002B2CF9AE}" pid="4" name="PresentationFormat">
    <vt:lpwstr>Předvádění na obrazovce (4:3)</vt:lpwstr>
  </property>
  <property fmtid="{D5CDD505-2E9C-101B-9397-08002B2CF9AE}" pid="5" name="Slides">
    <vt:r8>14</vt:r8>
  </property>
</Properties>
</file>