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586767"/>
        <c:axId val="43197133"/>
      </c:scatterChart>
      <c:valAx>
        <c:axId val="9358676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197133"/>
        <c:crosses val="autoZero"/>
        <c:crossBetween val="midCat"/>
        <c:majorUnit val="1"/>
      </c:valAx>
      <c:valAx>
        <c:axId val="4319713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58676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5081444"/>
        <c:axId val="5486892"/>
      </c:scatterChart>
      <c:valAx>
        <c:axId val="7508144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86892"/>
        <c:crosses val="autoZero"/>
        <c:crossBetween val="midCat"/>
        <c:majorUnit val="1"/>
      </c:valAx>
      <c:valAx>
        <c:axId val="548689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08144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7915026"/>
        <c:axId val="92682722"/>
      </c:scatterChart>
      <c:valAx>
        <c:axId val="3791502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2682722"/>
        <c:crosses val="autoZero"/>
        <c:crossBetween val="midCat"/>
        <c:majorUnit val="2"/>
        <c:minorUnit val="1"/>
      </c:valAx>
      <c:valAx>
        <c:axId val="9268272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791502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498814"/>
        <c:axId val="70373108"/>
      </c:scatterChart>
      <c:valAx>
        <c:axId val="54988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373108"/>
        <c:crosses val="autoZero"/>
        <c:crossBetween val="midCat"/>
        <c:majorUnit val="2"/>
        <c:minorUnit val="0.05"/>
      </c:valAx>
      <c:valAx>
        <c:axId val="7037310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988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7896689"/>
        <c:axId val="23809666"/>
      </c:scatterChart>
      <c:valAx>
        <c:axId val="678966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809666"/>
        <c:crosses val="autoZero"/>
        <c:crossBetween val="midCat"/>
        <c:majorUnit val="2"/>
        <c:minorUnit val="0.05"/>
      </c:valAx>
      <c:valAx>
        <c:axId val="2380966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8966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1290342"/>
        <c:axId val="57482838"/>
      </c:scatterChart>
      <c:valAx>
        <c:axId val="2129034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82838"/>
        <c:crosses val="autoZero"/>
        <c:crossBetween val="midCat"/>
        <c:majorUnit val="2"/>
        <c:minorUnit val="0.05"/>
      </c:valAx>
      <c:valAx>
        <c:axId val="574828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29034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170247"/>
        <c:axId val="56631021"/>
      </c:scatterChart>
      <c:valAx>
        <c:axId val="561702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631021"/>
        <c:crosses val="autoZero"/>
        <c:crossBetween val="midCat"/>
        <c:majorUnit val="2"/>
      </c:valAx>
      <c:valAx>
        <c:axId val="5663102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17024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4569663"/>
        <c:axId val="69416294"/>
      </c:scatterChart>
      <c:valAx>
        <c:axId val="645696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416294"/>
        <c:crosses val="autoZero"/>
        <c:crossBetween val="midCat"/>
        <c:majorUnit val="2"/>
      </c:valAx>
      <c:valAx>
        <c:axId val="694162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56966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2364717"/>
        <c:axId val="82646994"/>
      </c:scatterChart>
      <c:valAx>
        <c:axId val="423647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646994"/>
        <c:crosses val="autoZero"/>
        <c:crossBetween val="midCat"/>
        <c:majorUnit val="2"/>
        <c:minorUnit val="0.05"/>
      </c:valAx>
      <c:valAx>
        <c:axId val="8264699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36471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6C369-DEAE-4A64-8761-80B49A0F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0081C-D771-4ADF-9B1F-9DC047BEEF5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36D5E-C2B0-4ECF-989F-BCD769E6E45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BF0C2B-3FAF-4111-9E72-D16F6EC72E3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