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0.jpeg" ContentType="image/jpeg"/>
  <Override PartName="/ppt/media/image27.png" ContentType="image/png"/>
  <Override PartName="/ppt/media/image33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5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34.jpeg"/><Relationship Id="rId4" Type="http://schemas.openxmlformats.org/officeDocument/2006/relationships/image" Target="../media/image41.jpeg"/><Relationship Id="rId5" Type="http://schemas.openxmlformats.org/officeDocument/2006/relationships/image" Target="../media/image36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0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2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7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380880" y="380880"/>
            <a:ext cx="8458200" cy="60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4. L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ranní orgán prý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ravidelné zakládání po stranách vzrostného vrchol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ogenní základ (výběžky z povrchového pletiva stonku, do kterých vstupují cévní svazky – listové sto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mezený 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ýjimky: např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Welwitsch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 neomezeným růstem listů, které na báz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růstají a na konci odumíraj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unkce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is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t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ý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 ply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, transpir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kundární funkce (zejména u přeměněných listů) – zásobní (listy sukulentů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chranná (trn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fylogenetická souvislost mezi listem a fyloidy na stélkách bezcévných rostlin – tyto části stélek řas nebo mechorostů jsou součástí gametofytu – haploidní fáze (fyloidy na diploidní stélce se tvoří jen u některých ř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roti tomu list cévnatých rostlin je součástí diploidní fáze – sporofy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Picture 13" descr="C:\user\Houba\Škola-obrázky\morfologie\4_list\welwitschia_mirabilis_silva+basa.jpg"/>
          <p:cNvPicPr/>
          <p:nvPr/>
        </p:nvPicPr>
        <p:blipFill>
          <a:blip r:embed="rId1"/>
          <a:stretch/>
        </p:blipFill>
        <p:spPr>
          <a:xfrm>
            <a:off x="5181480" y="1828800"/>
            <a:ext cx="3162600" cy="2371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4"/>
          <p:cNvSpPr/>
          <p:nvPr/>
        </p:nvSpPr>
        <p:spPr>
          <a:xfrm>
            <a:off x="6705720" y="4038480"/>
            <a:ext cx="1752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biolib.cz/cz/image/id18227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5181480" y="3962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Welwitschia mirabil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20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9"/>
          <p:cNvSpPr/>
          <p:nvPr/>
        </p:nvSpPr>
        <p:spPr>
          <a:xfrm>
            <a:off x="380880" y="380880"/>
            <a:ext cx="8534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kraj čep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6" descr="C:\user\Houba\Škola-obrázky\morfologie\4_list\cernohorsky_094_okraj_cepele.jpg"/>
          <p:cNvPicPr/>
          <p:nvPr/>
        </p:nvPicPr>
        <p:blipFill>
          <a:blip r:embed="rId1"/>
          <a:stretch/>
        </p:blipFill>
        <p:spPr>
          <a:xfrm>
            <a:off x="457200" y="762120"/>
            <a:ext cx="4038480" cy="170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7" descr="C:\user\Houba\Škola-obrázky\morfologie\4_list\cernohorsky_094_text-1.jpg"/>
          <p:cNvPicPr/>
          <p:nvPr/>
        </p:nvPicPr>
        <p:blipFill>
          <a:blip r:embed="rId2"/>
          <a:srcRect l="0" t="27248" r="0" b="0"/>
          <a:stretch/>
        </p:blipFill>
        <p:spPr>
          <a:xfrm>
            <a:off x="4648320" y="762120"/>
            <a:ext cx="4038480" cy="739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8" descr="C:\user\Houba\Škola-obrázky\morfologie\4_list\cernohorsky_094_text-2.jpg"/>
          <p:cNvPicPr/>
          <p:nvPr/>
        </p:nvPicPr>
        <p:blipFill>
          <a:blip r:embed="rId3"/>
          <a:srcRect l="0" t="0" r="0" b="70840"/>
          <a:stretch/>
        </p:blipFill>
        <p:spPr>
          <a:xfrm>
            <a:off x="4648320" y="1447920"/>
            <a:ext cx="4038480" cy="83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9"/>
          <p:cNvSpPr/>
          <p:nvPr/>
        </p:nvSpPr>
        <p:spPr>
          <a:xfrm>
            <a:off x="380880" y="2590920"/>
            <a:ext cx="8534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rchol čep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0" descr="C:\user\Houba\Škola-obrázky\morfologie\4_list\cernohorsky_096_vrchol_cepele.JPG"/>
          <p:cNvPicPr/>
          <p:nvPr/>
        </p:nvPicPr>
        <p:blipFill>
          <a:blip r:embed="rId4"/>
          <a:stretch/>
        </p:blipFill>
        <p:spPr>
          <a:xfrm>
            <a:off x="457200" y="2990880"/>
            <a:ext cx="4038480" cy="129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1" descr="C:\user\Houba\Škola-obrázky\morfologie\4_list\cernohorsky_095_text-2.jpg"/>
          <p:cNvPicPr/>
          <p:nvPr/>
        </p:nvPicPr>
        <p:blipFill>
          <a:blip r:embed="rId5"/>
          <a:srcRect l="0" t="76726" r="0" b="0"/>
          <a:stretch/>
        </p:blipFill>
        <p:spPr>
          <a:xfrm>
            <a:off x="4648320" y="2330280"/>
            <a:ext cx="4038480" cy="489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2" descr="C:\user\Houba\Škola-obrázky\morfologie\4_list\cernohorsky_096_text-1.jpg"/>
          <p:cNvPicPr/>
          <p:nvPr/>
        </p:nvPicPr>
        <p:blipFill>
          <a:blip r:embed="rId6"/>
          <a:stretch/>
        </p:blipFill>
        <p:spPr>
          <a:xfrm>
            <a:off x="4648320" y="2787480"/>
            <a:ext cx="4038480" cy="1322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3"/>
          <p:cNvSpPr/>
          <p:nvPr/>
        </p:nvSpPr>
        <p:spPr>
          <a:xfrm>
            <a:off x="380880" y="4419720"/>
            <a:ext cx="449604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zistence čep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dle povahy pletiv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upenitá (běžné byliny), blanitá (vodní mor), suchomázdřitá (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„mrtvá blána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listeny kosatců), průsvitná (rdest žlutavý), přehrádkovaná (některé sítiny), kožovitá (břečťan), dužnatá (= masitá; rozchodník), dřevnatá (šupiny v šiškác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54" descr="C:\user\Houba\Škola-obrázky\morfologie\4_list\Potamogeton_lucens_2.jpg"/>
          <p:cNvPicPr/>
          <p:nvPr/>
        </p:nvPicPr>
        <p:blipFill>
          <a:blip r:embed="rId7"/>
          <a:srcRect l="0" t="0" r="8099" b="0"/>
          <a:stretch/>
        </p:blipFill>
        <p:spPr>
          <a:xfrm>
            <a:off x="6283440" y="4264200"/>
            <a:ext cx="2417760" cy="2117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5"/>
          <p:cNvSpPr/>
          <p:nvPr/>
        </p:nvSpPr>
        <p:spPr>
          <a:xfrm>
            <a:off x="6224760" y="42670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Rdest žlutav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otamogeton luc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6224760" y="60958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flora.nhm-wien.ac.at/Seiten-Arten/Potamogeton-lucens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7" descr="C:\user\Houba\Škola-obrázky\morfologie\4_list\juncus_torreyi_leaf.jpg"/>
          <p:cNvPicPr/>
          <p:nvPr/>
        </p:nvPicPr>
        <p:blipFill>
          <a:blip r:embed="rId8"/>
          <a:srcRect l="18209" t="0" r="0" b="0"/>
          <a:stretch/>
        </p:blipFill>
        <p:spPr>
          <a:xfrm>
            <a:off x="4876920" y="4267080"/>
            <a:ext cx="133020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8"/>
          <p:cNvSpPr/>
          <p:nvPr/>
        </p:nvSpPr>
        <p:spPr>
          <a:xfrm>
            <a:off x="5486400" y="54864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Juncus torrey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59"/>
          <p:cNvSpPr/>
          <p:nvPr/>
        </p:nvSpPr>
        <p:spPr>
          <a:xfrm>
            <a:off x="4818240" y="4227480"/>
            <a:ext cx="27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missouriplants.co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GSR/Juncus_torreyi_page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493236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14849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3" descr="C:\user\Houba\Škola-obrázky\morfologie\4_list\cernohorsky_092_jednoduche_listy.JPG"/>
          <p:cNvPicPr/>
          <p:nvPr/>
        </p:nvPicPr>
        <p:blipFill>
          <a:blip r:embed="rId1"/>
          <a:stretch/>
        </p:blipFill>
        <p:spPr>
          <a:xfrm>
            <a:off x="457200" y="685800"/>
            <a:ext cx="4038480" cy="3400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2"/>
          <p:cNvSpPr/>
          <p:nvPr/>
        </p:nvSpPr>
        <p:spPr>
          <a:xfrm>
            <a:off x="380880" y="304920"/>
            <a:ext cx="8534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lenění li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list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dnoduch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celistvé nebo členěné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ožen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24" descr="C:\user\Houba\Škola-obrázky\morfologie\4_list\cernohorsky_093_slozene_listy.jpg"/>
          <p:cNvPicPr/>
          <p:nvPr/>
        </p:nvPicPr>
        <p:blipFill>
          <a:blip r:embed="rId2"/>
          <a:stretch/>
        </p:blipFill>
        <p:spPr>
          <a:xfrm>
            <a:off x="457200" y="4114800"/>
            <a:ext cx="40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C:\user\Houba\Škola-obrázky\morfologie\4_list\cernohorsky_092_text-1.jpg"/>
          <p:cNvPicPr/>
          <p:nvPr/>
        </p:nvPicPr>
        <p:blipFill>
          <a:blip r:embed="rId3"/>
          <a:stretch/>
        </p:blipFill>
        <p:spPr>
          <a:xfrm>
            <a:off x="4648320" y="685800"/>
            <a:ext cx="4038480" cy="996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C:\user\Houba\Škola-obrázky\morfologie\4_list\cernohorsky_092_text-2.jpg"/>
          <p:cNvPicPr/>
          <p:nvPr/>
        </p:nvPicPr>
        <p:blipFill>
          <a:blip r:embed="rId4"/>
          <a:stretch/>
        </p:blipFill>
        <p:spPr>
          <a:xfrm>
            <a:off x="4648320" y="1639800"/>
            <a:ext cx="4038480" cy="1814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C:\user\Houba\Škola-obrázky\morfologie\4_list\cernohorsky_093_text-1.jpg"/>
          <p:cNvPicPr/>
          <p:nvPr/>
        </p:nvPicPr>
        <p:blipFill>
          <a:blip r:embed="rId5"/>
          <a:stretch/>
        </p:blipFill>
        <p:spPr>
          <a:xfrm>
            <a:off x="4648320" y="4114800"/>
            <a:ext cx="4038480" cy="1220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8" descr="C:\user\Houba\Škola-obrázky\morfologie\4_list\cernohorsky_094_text-1.jpg"/>
          <p:cNvPicPr/>
          <p:nvPr/>
        </p:nvPicPr>
        <p:blipFill>
          <a:blip r:embed="rId6"/>
          <a:srcRect l="0" t="0" r="0" b="72752"/>
          <a:stretch/>
        </p:blipFill>
        <p:spPr>
          <a:xfrm>
            <a:off x="4648320" y="5297400"/>
            <a:ext cx="4038480" cy="27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6432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42356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9" descr="C:\user\Houba\Škola-obrázky\morfologie\4_list\slavikova_055_opad_listu.jpg"/>
          <p:cNvPicPr/>
          <p:nvPr/>
        </p:nvPicPr>
        <p:blipFill>
          <a:blip r:embed="rId1"/>
          <a:stretch/>
        </p:blipFill>
        <p:spPr>
          <a:xfrm>
            <a:off x="457200" y="1219320"/>
            <a:ext cx="3809880" cy="1630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0"/>
          <p:cNvSpPr/>
          <p:nvPr/>
        </p:nvSpPr>
        <p:spPr>
          <a:xfrm>
            <a:off x="380880" y="2971800"/>
            <a:ext cx="54864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polohy na stonku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zem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dyž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tisklé (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k lody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vzpřímené (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malý úhel odklon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odstálé (úhel kolem 45°), rozestálé (zhruba 90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ymorf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řítomnost různých listů na jedné rostlin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eterofyl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listy různých tvarů (břečťan, křen, lakušní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izofyl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listy stejného tvaru, ale lišící se velikostí (mateřídouš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2057400" y="1219320"/>
            <a:ext cx="220968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   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   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80880" y="380880"/>
            <a:ext cx="853452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ypy list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doby trvání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ad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padají každý rok po vytvoření odlučovací vrstv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opad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ytrvalé) opadávají až po několika lete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stliny vždyzelené – vždy mají alespoň nějaké lis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o přisedání listu ke stonku se nazývá listo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zer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4437000" y="205740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opadu zde zůstává listo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iz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3352680" y="2590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24" descr="C:\user\Houba\Škola-obrázky\morfologie\4_list\thymus_pulegioides_anizofylie.jpg"/>
          <p:cNvPicPr/>
          <p:nvPr/>
        </p:nvPicPr>
        <p:blipFill>
          <a:blip r:embed="rId2"/>
          <a:srcRect l="19686" t="26249" r="27562" b="21002"/>
          <a:stretch/>
        </p:blipFill>
        <p:spPr>
          <a:xfrm>
            <a:off x="5867280" y="4343400"/>
            <a:ext cx="2847960" cy="2135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5"/>
          <p:cNvSpPr/>
          <p:nvPr/>
        </p:nvSpPr>
        <p:spPr>
          <a:xfrm>
            <a:off x="6705720" y="6283440"/>
            <a:ext cx="220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kytky/foto.php?129: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858000" y="43434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ateřídouška vejčitá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Thymus pulegio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7" descr="C:\user\Houba\Škola-obrázky\morfologie\4_list\batrachium_aquatile_heterofylie.jpg"/>
          <p:cNvPicPr/>
          <p:nvPr/>
        </p:nvPicPr>
        <p:blipFill>
          <a:blip r:embed="rId3"/>
          <a:stretch/>
        </p:blipFill>
        <p:spPr>
          <a:xfrm>
            <a:off x="5867280" y="2552760"/>
            <a:ext cx="2819520" cy="1698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8"/>
          <p:cNvSpPr/>
          <p:nvPr/>
        </p:nvSpPr>
        <p:spPr>
          <a:xfrm>
            <a:off x="6477120" y="2514600"/>
            <a:ext cx="220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liberherbarum.com/Pn1399Th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5486400" y="39625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akušník vodní 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Batrachium aquat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536400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42764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83998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6375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1" descr="C:\user\Houba\Škola-obrázky\morfologie\4_list\tussilago_farfara_supinaty_stonek.jpg"/>
          <p:cNvPicPr/>
          <p:nvPr/>
        </p:nvPicPr>
        <p:blipFill>
          <a:blip r:embed="rId1"/>
          <a:srcRect l="0" t="15751" r="0" b="27562"/>
          <a:stretch/>
        </p:blipFill>
        <p:spPr>
          <a:xfrm>
            <a:off x="457200" y="4495680"/>
            <a:ext cx="2590920" cy="19576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3"/>
          <p:cNvSpPr/>
          <p:nvPr/>
        </p:nvSpPr>
        <p:spPr>
          <a:xfrm>
            <a:off x="3124080" y="762120"/>
            <a:ext cx="5715000" cy="57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ělo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rvní listy, které se často tvoří již v seme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ení hypogeické (dělohy zůstávají pod zemí) nebo epigeické (dělohy vyneseny nad povrch země, kde následně zezelenaj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vykle krátká životnost, u některých rostlin tvar zcela odlišný od pravých listů (lípa, bu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adní funkce je zásobní, jsou zdrojem živin pro klíčící rostlinu; dužnaté podzemní dělohy mohou i nahrazovat funkci endospermu (dub, hrác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hosemenné mají větší počet děloh, krytosemenné jednu nebo dvě (viz dřívější členění na jednoděložné a dvouděložné rostlin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up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ejčastěji nezelené (jednoduchá vnitřní stavba, celou šupinu obvykle tvoří stejné buňky bez chlorofylu), výskyt na oddencí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rýtu šupiny na bočních větvích (podobné listům) nebo v pupenech (zejména ochranná fun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upinovité listy na stonku (např. podběl má šupinatý oddenek i stone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80880" y="380880"/>
            <a:ext cx="8534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tvary listového původu se specifickou funkcí nebo polohou na rostlin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9"/>
          <p:cNvSpPr/>
          <p:nvPr/>
        </p:nvSpPr>
        <p:spPr>
          <a:xfrm>
            <a:off x="398520" y="4457880"/>
            <a:ext cx="147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rostliny.prirodou.cz/?nazvy=cs&amp;rostlina=tussilago_farfar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34" descr="C:\user\Houba\Škola-obrázky\morfologie\4_list\delohy_fagus_sylvatica.jpg"/>
          <p:cNvPicPr/>
          <p:nvPr/>
        </p:nvPicPr>
        <p:blipFill>
          <a:blip r:embed="rId2"/>
          <a:srcRect l="0" t="0" r="0" b="9828"/>
          <a:stretch/>
        </p:blipFill>
        <p:spPr>
          <a:xfrm>
            <a:off x="457200" y="2666880"/>
            <a:ext cx="2579760" cy="1746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5"/>
          <p:cNvSpPr/>
          <p:nvPr/>
        </p:nvSpPr>
        <p:spPr>
          <a:xfrm>
            <a:off x="457200" y="26305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uk lesní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Fagus sylva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6"/>
          <p:cNvSpPr/>
          <p:nvPr/>
        </p:nvSpPr>
        <p:spPr>
          <a:xfrm rot="16200000">
            <a:off x="-384480" y="335304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pharm1.pharmazie.uni-greifswald.d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systematik/7_bilder/liebermn/lb-00140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38" descr="C:\user\Houba\Škola-obrázky\morfologie\4_list\delohy.jpg"/>
          <p:cNvPicPr/>
          <p:nvPr/>
        </p:nvPicPr>
        <p:blipFill>
          <a:blip r:embed="rId3"/>
          <a:stretch/>
        </p:blipFill>
        <p:spPr>
          <a:xfrm>
            <a:off x="457200" y="838080"/>
            <a:ext cx="2590920" cy="17226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9"/>
          <p:cNvSpPr/>
          <p:nvPr/>
        </p:nvSpPr>
        <p:spPr>
          <a:xfrm>
            <a:off x="401760" y="8017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parkleberrysprings.com/v-web/b2/images/b/bagmethod2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457200" y="61722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odběl lékařsk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Tussilago farf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84596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20439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0259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9" descr="C:\user\Houba\Škola-obrázky\morfologie\4_list\slavikova_052_listeny.JPG"/>
          <p:cNvPicPr/>
          <p:nvPr/>
        </p:nvPicPr>
        <p:blipFill>
          <a:blip r:embed="rId1"/>
          <a:stretch/>
        </p:blipFill>
        <p:spPr>
          <a:xfrm>
            <a:off x="4952880" y="2133720"/>
            <a:ext cx="3657600" cy="22809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"/>
          <p:cNvSpPr/>
          <p:nvPr/>
        </p:nvSpPr>
        <p:spPr>
          <a:xfrm>
            <a:off x="2133720" y="380880"/>
            <a:ext cx="670536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st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 jejich úžlabí vyrůstají květy nebo květenstv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stře zbarvené listeny, lákající opylovače (černýš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ule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elký listen pod květenstvím áronovitý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r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oubor listenů pod květenstvím hvězdnicovitý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al, oba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oubory listenů v květenstvích miříkovitý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uc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květenstvích lipnicovitý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16" descr="C:\user\Houba\Škola-obrázky\morfologie\4_list\Melampyrum_avense_klas.jpg"/>
          <p:cNvPicPr/>
          <p:nvPr/>
        </p:nvPicPr>
        <p:blipFill>
          <a:blip r:embed="rId2"/>
          <a:stretch/>
        </p:blipFill>
        <p:spPr>
          <a:xfrm>
            <a:off x="457200" y="457200"/>
            <a:ext cx="1598760" cy="2057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7"/>
          <p:cNvSpPr/>
          <p:nvPr/>
        </p:nvSpPr>
        <p:spPr>
          <a:xfrm>
            <a:off x="457200" y="2247840"/>
            <a:ext cx="1600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MelampyrumArvenseKlas2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457200" y="4572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Černýš roln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Melampyrum arve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0" descr="C:\user\Houba\Škola-obrázky\morfologie\4_list\spathiphyllum_wallisii.jpg"/>
          <p:cNvPicPr/>
          <p:nvPr/>
        </p:nvPicPr>
        <p:blipFill>
          <a:blip r:embed="rId3"/>
          <a:stretch/>
        </p:blipFill>
        <p:spPr>
          <a:xfrm>
            <a:off x="457200" y="2590920"/>
            <a:ext cx="2438280" cy="1819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21"/>
          <p:cNvSpPr/>
          <p:nvPr/>
        </p:nvSpPr>
        <p:spPr>
          <a:xfrm>
            <a:off x="457200" y="38862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pathiphyllum wallis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457200" y="4114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yoohoo.euweb.cz/cantor200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aktual/aktual6-06/6pictimg/spathiphyllum_wallisii01a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23" descr="C:\user\Houba\Škola-obrázky\morfologie\4_list\scorzonera_austriaca.jpg"/>
          <p:cNvPicPr/>
          <p:nvPr/>
        </p:nvPicPr>
        <p:blipFill>
          <a:blip r:embed="rId4"/>
          <a:stretch/>
        </p:blipFill>
        <p:spPr>
          <a:xfrm>
            <a:off x="3048120" y="2590920"/>
            <a:ext cx="1736640" cy="1828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4"/>
          <p:cNvSpPr/>
          <p:nvPr/>
        </p:nvSpPr>
        <p:spPr>
          <a:xfrm>
            <a:off x="3048120" y="396252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adí mord rakousk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corzonera austria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 rot="16200000">
            <a:off x="1928880" y="3328560"/>
            <a:ext cx="2133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botany.cz/cs/scorzonera-austriaca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380880" y="4495680"/>
            <a:ext cx="41148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ste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árové útvary (u jednoděl. pouze 1) na květní stopce nebo boční větvi, jejichž postavení se vymyká genetické spirále pravých list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měnou listenců vznikají u ostřic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šnič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zdánlivé „plody“ kryjící naž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27" descr="C:\user\Houba\Škola-obrázky\morfologie\4_list\carex_grayi_mosnicky.jpg"/>
          <p:cNvPicPr/>
          <p:nvPr/>
        </p:nvPicPr>
        <p:blipFill>
          <a:blip r:embed="rId5"/>
          <a:stretch/>
        </p:blipFill>
        <p:spPr>
          <a:xfrm>
            <a:off x="7162920" y="4495680"/>
            <a:ext cx="1446120" cy="1886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" descr="C:\user\Houba\Škola-obrázky\morfologie\4_list\viola_riviniana_listence.jpg"/>
          <p:cNvPicPr/>
          <p:nvPr/>
        </p:nvPicPr>
        <p:blipFill>
          <a:blip r:embed="rId6"/>
          <a:stretch/>
        </p:blipFill>
        <p:spPr>
          <a:xfrm>
            <a:off x="4495680" y="44956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0"/>
          <p:cNvSpPr/>
          <p:nvPr/>
        </p:nvSpPr>
        <p:spPr>
          <a:xfrm>
            <a:off x="7696080" y="3657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1"/>
          <p:cNvSpPr/>
          <p:nvPr/>
        </p:nvSpPr>
        <p:spPr>
          <a:xfrm rot="16200000">
            <a:off x="7425000" y="521892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botanika.bf.jcu.cz/morfologie/CarexGrayi1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716292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arex gray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4495680" y="621036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slovnik/heslo.php?366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4495680" y="6002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iolka Rivinova –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Viola rivini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507672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53964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29686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16129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8" descr="C:\user\Houba\Škola-obrázky\morfologie\4_list\vernace_svinuta+slozena.jpg"/>
          <p:cNvPicPr/>
          <p:nvPr/>
        </p:nvPicPr>
        <p:blipFill>
          <a:blip r:embed="rId1"/>
          <a:srcRect l="0" t="9163" r="50403" b="0"/>
          <a:stretch/>
        </p:blipFill>
        <p:spPr>
          <a:xfrm>
            <a:off x="7315200" y="1905120"/>
            <a:ext cx="1398600" cy="1468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"/>
          <p:cNvSpPr/>
          <p:nvPr/>
        </p:nvSpPr>
        <p:spPr>
          <a:xfrm>
            <a:off x="380880" y="380880"/>
            <a:ext cx="845820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spořádání listů v pupe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stová vern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ložení listu v pupenu před rozvinutí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ochá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scum, Coff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á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rasus,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ifoliu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praten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vinutá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um, Ficus elastic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natá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pinus, Alchemil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vinutá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pulus, Viola odor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vinutá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lygonum, Primula ver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rcinátní (kapradiny, cykasy, z krytosemenn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ros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umlaná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pav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/korunní lístky/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Rhae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12" descr="C:\user\Houba\Škola-obrázky\morfologie\4_list\alchemilla_vulgaris.jpg"/>
          <p:cNvPicPr/>
          <p:nvPr/>
        </p:nvPicPr>
        <p:blipFill>
          <a:blip r:embed="rId2"/>
          <a:stretch/>
        </p:blipFill>
        <p:spPr>
          <a:xfrm>
            <a:off x="457200" y="4264200"/>
            <a:ext cx="2971800" cy="21398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3"/>
          <p:cNvSpPr/>
          <p:nvPr/>
        </p:nvSpPr>
        <p:spPr>
          <a:xfrm>
            <a:off x="457200" y="42670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ontryhel obecn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lchemilla vulgar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0880" y="609588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de.wikipedia.org/w/index.ph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?title=Bild:AlchemillaVulgaris(Blatt).jpg&amp;filetimestamp=20050909123958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15" descr="C:\user\Houba\Škola-obrázky\morfologie\4_list\vernace_svinuta+slozena.jpg"/>
          <p:cNvPicPr/>
          <p:nvPr/>
        </p:nvPicPr>
        <p:blipFill>
          <a:blip r:embed="rId3"/>
          <a:srcRect l="50403" t="14656" r="0" b="0"/>
          <a:stretch/>
        </p:blipFill>
        <p:spPr>
          <a:xfrm>
            <a:off x="7315200" y="474840"/>
            <a:ext cx="1398600" cy="13795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7315200" y="3087720"/>
            <a:ext cx="140328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turfgrassmanagement.psu.edu/weedmgmt.cf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17" descr="C:\user\Houba\Škola-obrázky\morfologie\4_list\cernohorsky_082_listova_vernace.JPG"/>
          <p:cNvPicPr/>
          <p:nvPr/>
        </p:nvPicPr>
        <p:blipFill>
          <a:blip r:embed="rId4"/>
          <a:stretch/>
        </p:blipFill>
        <p:spPr>
          <a:xfrm>
            <a:off x="457200" y="1211400"/>
            <a:ext cx="2590920" cy="21286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9"/>
          <p:cNvSpPr/>
          <p:nvPr/>
        </p:nvSpPr>
        <p:spPr>
          <a:xfrm>
            <a:off x="304920" y="3200400"/>
            <a:ext cx="2743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7391520" y="1863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vinutá vern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7373880" y="1565280"/>
            <a:ext cx="1295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ložená vern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7315200" y="2971800"/>
            <a:ext cx="457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3" descr="C:\user\Houba\Škola-obrázky\morfologie\4_list\papaver_dubium.jpg"/>
          <p:cNvPicPr/>
          <p:nvPr/>
        </p:nvPicPr>
        <p:blipFill>
          <a:blip r:embed="rId5"/>
          <a:srcRect l="13654" t="0" r="0" b="0"/>
          <a:stretch/>
        </p:blipFill>
        <p:spPr>
          <a:xfrm>
            <a:off x="6558120" y="3505320"/>
            <a:ext cx="2162160" cy="28954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4"/>
          <p:cNvSpPr/>
          <p:nvPr/>
        </p:nvSpPr>
        <p:spPr>
          <a:xfrm>
            <a:off x="7201080" y="5181480"/>
            <a:ext cx="1523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ák pochybn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apaver dub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chumlaná vernace korunních lístk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6477120" y="6095880"/>
            <a:ext cx="2303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de.wikipedia.org/w/index.php?title=Bild:Papaver_dubium4.jpg&amp;filetimestamp=2007062420400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6" descr="C:\user\Houba\Škola-obrázky\morfologie\4_list\cycad_circinate_vernation.jpg"/>
          <p:cNvPicPr/>
          <p:nvPr/>
        </p:nvPicPr>
        <p:blipFill>
          <a:blip r:embed="rId6"/>
          <a:stretch/>
        </p:blipFill>
        <p:spPr>
          <a:xfrm>
            <a:off x="3581280" y="4267080"/>
            <a:ext cx="2843280" cy="2132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7"/>
          <p:cNvSpPr/>
          <p:nvPr/>
        </p:nvSpPr>
        <p:spPr>
          <a:xfrm>
            <a:off x="3581280" y="426708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ycas revoluta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  circinátní vern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505320" y="6095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www.flickr.com/photos/vitrain/202281650/in/set-72157601174673057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2133720" y="5979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řasnatá vern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2" descr="C:\user\Houba\Škola-obrázky\morfologie\4_list\slavikova_047_listova_vernace.JPG"/>
          <p:cNvPicPr/>
          <p:nvPr/>
        </p:nvPicPr>
        <p:blipFill>
          <a:blip r:embed="rId7"/>
          <a:srcRect l="61008" t="0" r="0" b="47262"/>
          <a:stretch/>
        </p:blipFill>
        <p:spPr>
          <a:xfrm>
            <a:off x="6595920" y="5257800"/>
            <a:ext cx="630360" cy="806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3" descr="C:\user\Houba\Škola-obrázky\morfologie\4_list\slavikova_047_listova_vernace.JPG"/>
          <p:cNvPicPr/>
          <p:nvPr/>
        </p:nvPicPr>
        <p:blipFill>
          <a:blip r:embed="rId8"/>
          <a:srcRect l="6099" t="49409" r="77069" b="15031"/>
          <a:stretch/>
        </p:blipFill>
        <p:spPr>
          <a:xfrm>
            <a:off x="6060960" y="4303800"/>
            <a:ext cx="327240" cy="649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68770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91936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34"/>
          <p:cNvSpPr/>
          <p:nvPr/>
        </p:nvSpPr>
        <p:spPr>
          <a:xfrm>
            <a:off x="380880" y="380880"/>
            <a:ext cx="40388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stová estiv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ájemné postavení listů v pupe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lopňovitá – listy stojí vedle s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ývá rozlišována i estivace otevřená, kdy se listy navzájem nedotýkají, zatímco u chlopňovité v užším pojetí se listy dotýkají, ale nepřekrývaj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inutá – každý list kryje sousední list a je kryt listem z druhé stra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řidlicovitá – v užším pojetí střechovitý překryv protistojných list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širším pojetí je pojem skřídlicovitá estivace používán pro překryv listů bez symetrie či určitého pořád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35" descr="C:\user\Houba\Škola-obrázky\morfologie\4_list\slavikova_049_listova_estivace.JPG"/>
          <p:cNvPicPr/>
          <p:nvPr/>
        </p:nvPicPr>
        <p:blipFill>
          <a:blip r:embed="rId1"/>
          <a:stretch/>
        </p:blipFill>
        <p:spPr>
          <a:xfrm>
            <a:off x="4343400" y="47484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6"/>
          <p:cNvSpPr/>
          <p:nvPr/>
        </p:nvSpPr>
        <p:spPr>
          <a:xfrm>
            <a:off x="6553080" y="441972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0996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380880" y="380880"/>
            <a:ext cx="52578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řeměny listů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metamorfóz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přeměnou celého li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ber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listo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úkroj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rs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bi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ní úlohou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chrana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 bý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v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3" descr="C:\user\Houba\Škola-obrázky\morfologie\4_list\berberis_trny.jpg"/>
          <p:cNvPicPr/>
          <p:nvPr/>
        </p:nvPicPr>
        <p:blipFill>
          <a:blip r:embed="rId1"/>
          <a:stretch/>
        </p:blipFill>
        <p:spPr>
          <a:xfrm>
            <a:off x="5791320" y="457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5791320" y="22860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řišťál obecn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Berberis vulgar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 rot="16200000">
            <a:off x="7381080" y="1303920"/>
            <a:ext cx="2303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slovnik/heslo.php?337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C:\user\Houba\Škola-obrázky\morfologie\4_list\cirsium_palustre_leaf.jpg"/>
          <p:cNvPicPr/>
          <p:nvPr/>
        </p:nvPicPr>
        <p:blipFill>
          <a:blip r:embed="rId2"/>
          <a:stretch/>
        </p:blipFill>
        <p:spPr>
          <a:xfrm>
            <a:off x="5791320" y="2666880"/>
            <a:ext cx="2819160" cy="37339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5791320" y="26668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cháč bahenní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irsium palust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 rot="16200000">
            <a:off x="6970680" y="3997080"/>
            <a:ext cx="3048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johnsonscreek.co.uk/Cirsium%20palustre-leaf-07-10-04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Picture 9" descr="C:\user\Houba\Škola-obrázky\morfologie\4_list\netresk.jpg"/>
          <p:cNvPicPr/>
          <p:nvPr/>
        </p:nvPicPr>
        <p:blipFill>
          <a:blip r:embed="rId3"/>
          <a:stretch/>
        </p:blipFill>
        <p:spPr>
          <a:xfrm>
            <a:off x="457200" y="17524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415800" y="33526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sk2.goo.c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fotogalerie/fotografie/rostliny/trvalky/netresk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457200" y="17524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Netřesk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emperviv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048120" y="1639800"/>
            <a:ext cx="281916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kule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zásoba v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 dužnatých listech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edum, Sempervivum, Saxifraga panicul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xtraflorální nekt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ohou vznikat na listech či palistech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assifl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13" descr="C:\user\Houba\Škola-obrázky\morfologie\4_list\passiflora_nectaria_listy.jpg"/>
          <p:cNvPicPr/>
          <p:nvPr/>
        </p:nvPicPr>
        <p:blipFill>
          <a:blip r:embed="rId4"/>
          <a:srcRect l="0" t="15462" r="0" b="17180"/>
          <a:stretch/>
        </p:blipFill>
        <p:spPr>
          <a:xfrm>
            <a:off x="457200" y="3743280"/>
            <a:ext cx="5181480" cy="2657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4"/>
          <p:cNvSpPr/>
          <p:nvPr/>
        </p:nvSpPr>
        <p:spPr>
          <a:xfrm>
            <a:off x="457200" y="60958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učenka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assiflora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124080" y="6172200"/>
            <a:ext cx="259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PassifloraNectariaListy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543564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543564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9227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7114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80880" y="380880"/>
            <a:ext cx="601992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úpon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měně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ena s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ých 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isum, Vi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íjivé 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ík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ematis vital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ové struktury masožravých rostl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aku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emergence na povrchu listů, vylučující lepivý sekret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os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pací past“, na podráždění rychlé sevření čepele („kloubový mechanismus“ na hlavním žebru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iona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pel přeměněna v úponku, zakončenou konvicovit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áč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penth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listech bublinatk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tricu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jsou bublinky uzavřené klapkou, ve kterých vzniká podtlak =&gt; na podráždění otevření klapky a nasátí oběti dovnit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553080" y="43812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zum.de/stueber/lindman/320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6" descr="C:\user\Houba\Škola-obrázky\morfologie\4_list\drosera_anglica.jpg"/>
          <p:cNvPicPr/>
          <p:nvPr/>
        </p:nvPicPr>
        <p:blipFill>
          <a:blip r:embed="rId1"/>
          <a:stretch/>
        </p:blipFill>
        <p:spPr>
          <a:xfrm>
            <a:off x="457200" y="3994200"/>
            <a:ext cx="1989000" cy="2519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457200" y="39942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Drosera angl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57200" y="6324480"/>
            <a:ext cx="259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botany.cz/cs/drosera-anglica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9" descr="C:\user\Houba\Škola-obrázky\morfologie\4_list\dionaea_muscipula.jpg"/>
          <p:cNvPicPr/>
          <p:nvPr/>
        </p:nvPicPr>
        <p:blipFill>
          <a:blip r:embed="rId2"/>
          <a:stretch/>
        </p:blipFill>
        <p:spPr>
          <a:xfrm>
            <a:off x="2514600" y="39942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0"/>
          <p:cNvSpPr/>
          <p:nvPr/>
        </p:nvSpPr>
        <p:spPr>
          <a:xfrm>
            <a:off x="2514600" y="39942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Dionaea muscip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1" descr="C:\user\Houba\Škola-obrázky\morfologie\4_list\nepenthes_bicalcarata_horni_past.jpg"/>
          <p:cNvPicPr/>
          <p:nvPr/>
        </p:nvPicPr>
        <p:blipFill>
          <a:blip r:embed="rId3"/>
          <a:stretch/>
        </p:blipFill>
        <p:spPr>
          <a:xfrm>
            <a:off x="6667560" y="40006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2"/>
          <p:cNvSpPr/>
          <p:nvPr/>
        </p:nvSpPr>
        <p:spPr>
          <a:xfrm>
            <a:off x="7691400" y="399744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Nepenthes bicalcar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2514600" y="5334120"/>
            <a:ext cx="2057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jflisek.carniplanta.com/seznamMR1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14" descr="C:\user\Houba\Škola-obrázky\morfologie\4_list\utricularia_cf_minor.jpg"/>
          <p:cNvPicPr/>
          <p:nvPr/>
        </p:nvPicPr>
        <p:blipFill>
          <a:blip r:embed="rId4"/>
          <a:stretch/>
        </p:blipFill>
        <p:spPr>
          <a:xfrm>
            <a:off x="4648320" y="4000680"/>
            <a:ext cx="1936800" cy="25146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5"/>
          <p:cNvSpPr/>
          <p:nvPr/>
        </p:nvSpPr>
        <p:spPr>
          <a:xfrm>
            <a:off x="6629400" y="6324480"/>
            <a:ext cx="2057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jflisek.carniplanta.com/seznamMR1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4648320" y="39974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Utricularia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cf.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min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4572000" y="632448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sokolovak.com/foto_rostliny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18" descr="C:\user\Houba\Škola-obrázky\morfologie\4_list\cernohorsky_113_hrach_uponky.JPG"/>
          <p:cNvPicPr/>
          <p:nvPr/>
        </p:nvPicPr>
        <p:blipFill>
          <a:blip r:embed="rId5"/>
          <a:stretch/>
        </p:blipFill>
        <p:spPr>
          <a:xfrm>
            <a:off x="6357960" y="420840"/>
            <a:ext cx="2270160" cy="3419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9"/>
          <p:cNvSpPr/>
          <p:nvPr/>
        </p:nvSpPr>
        <p:spPr>
          <a:xfrm>
            <a:off x="6324480" y="42084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icture 20" descr="C:\user\Houba\Škola-obrázky\morfologie\4_list\bublinatka_past.gif"/>
          <p:cNvPicPr/>
          <p:nvPr/>
        </p:nvPicPr>
        <p:blipFill>
          <a:blip r:embed="rId6"/>
          <a:srcRect l="0" t="28224" r="0" b="45157"/>
          <a:stretch/>
        </p:blipFill>
        <p:spPr>
          <a:xfrm>
            <a:off x="2514600" y="5695920"/>
            <a:ext cx="2057400" cy="8128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1"/>
          <p:cNvSpPr/>
          <p:nvPr/>
        </p:nvSpPr>
        <p:spPr>
          <a:xfrm>
            <a:off x="2438280" y="55198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masozravky.com/ostatni/STUDNICKA/studnicka04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4251240" y="5943600"/>
            <a:ext cx="18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23"/>
          <p:cNvSpPr/>
          <p:nvPr/>
        </p:nvSpPr>
        <p:spPr>
          <a:xfrm rot="16200000">
            <a:off x="3930840" y="5870160"/>
            <a:ext cx="98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Utricularia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chéma past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6443640" y="76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594036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8336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24586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380880" y="380880"/>
            <a:ext cx="487692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bu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útvar listovo-stonkového původu (listové obaly kolem podpučí – báze stonk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3" descr="C:\user\Houba\Škola-obrázky\morfologie\4_list\cernohorsky_100_cibule.JPG"/>
          <p:cNvPicPr/>
          <p:nvPr/>
        </p:nvPicPr>
        <p:blipFill>
          <a:blip r:embed="rId1"/>
          <a:stretch/>
        </p:blipFill>
        <p:spPr>
          <a:xfrm>
            <a:off x="5638680" y="457200"/>
            <a:ext cx="3075120" cy="4572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C:\user\Houba\Škola-obrázky\morfologie\4_list\galanthus_nivalis_cibulky.jpg"/>
          <p:cNvPicPr/>
          <p:nvPr/>
        </p:nvPicPr>
        <p:blipFill>
          <a:blip r:embed="rId2"/>
          <a:srcRect l="0" t="16580" r="0" b="8285"/>
          <a:stretch/>
        </p:blipFill>
        <p:spPr>
          <a:xfrm>
            <a:off x="457200" y="1143000"/>
            <a:ext cx="1901880" cy="19051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25909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něženka podsněžník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Galanthus nival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57200" y="1100160"/>
            <a:ext cx="259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botany.cz/cs/galanthus-nivali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7" descr="C:\user\Houba\Škola-obrázky\morfologie\4_list\lilium_martagon.jpg"/>
          <p:cNvPicPr/>
          <p:nvPr/>
        </p:nvPicPr>
        <p:blipFill>
          <a:blip r:embed="rId3"/>
          <a:stretch/>
        </p:blipFill>
        <p:spPr>
          <a:xfrm>
            <a:off x="457200" y="3276720"/>
            <a:ext cx="1900080" cy="2936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\Houba\Škola-obrázky\morfologie\4_list\cernohorsky_101_cesnek.JPG"/>
          <p:cNvPicPr/>
          <p:nvPr/>
        </p:nvPicPr>
        <p:blipFill>
          <a:blip r:embed="rId4"/>
          <a:stretch/>
        </p:blipFill>
        <p:spPr>
          <a:xfrm>
            <a:off x="2514600" y="3276720"/>
            <a:ext cx="3124080" cy="2927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"/>
          <p:cNvSpPr/>
          <p:nvPr/>
        </p:nvSpPr>
        <p:spPr>
          <a:xfrm>
            <a:off x="5715000" y="5181480"/>
            <a:ext cx="3124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ože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více cibulek ve společném listovém obal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llium sativ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2438280" y="990720"/>
            <a:ext cx="320040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zniklá z jednoho list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lanthus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, Gag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knič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voře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ším počtem zdužnatěl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ium cep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upinov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a podpučí zdužnatělé šupin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i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6629400" y="420840"/>
            <a:ext cx="2209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 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6400800" y="5335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ibule kuchyňská 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llium ce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380880" y="618984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ilie zlatohlavá 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Lilium martagon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Česnek kuchyňský 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llium sativ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380880" y="5943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oubor:Illustration_Lilium_martagon0_clean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5219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41807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6"/>
          <p:cNvSpPr/>
          <p:nvPr/>
        </p:nvSpPr>
        <p:spPr>
          <a:xfrm>
            <a:off x="380880" y="380880"/>
            <a:ext cx="84582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Fylogenetický vývoj lis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j z telomů, probíhal souběžně s vývojem stonku (jako jeho boční výrůstk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nační teorie: enace = vychlípeniny pokožky původně nediferencovaných telomů devonských rostl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osterophyllophy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=&gt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afy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ž psilofyl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lný drobný li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íklad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ilot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z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šlo k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stu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évního svaz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postupná vaskularizace =&gt; mikrofy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gofy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žilné listy dnešní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v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vra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, někdy též označované jako psilofy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si zm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krácením 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ch sterilních tel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380880" y="3048120"/>
            <a:ext cx="4800600" cy="34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krofy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y, nahos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n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duchá stavba, 1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ětvená střední žilk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krofyly těchto skupin jsou možná odvozený typ vznikl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eduk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huště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akrofy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j listů proces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ace, kladodifikace, syntelomizace, dorziventraliz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eridofy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kap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základem již by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ustava tel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mez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krofy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megafyly; většina semenných rost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ložitější stavba, větvení žilnatiny, různé formy a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19" descr="C:\user\Houba\Škola-obrázky\morfologie\4_list\slavikova_035_premeny_telomu.JPG"/>
          <p:cNvPicPr/>
          <p:nvPr/>
        </p:nvPicPr>
        <p:blipFill>
          <a:blip r:embed="rId1"/>
          <a:stretch/>
        </p:blipFill>
        <p:spPr>
          <a:xfrm>
            <a:off x="5218200" y="3124080"/>
            <a:ext cx="3394080" cy="3329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7086600" y="62485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17080" y="321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375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4419720" y="380880"/>
            <a:ext cx="213336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hizofy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list přeměněný v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ová vlákna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lvi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ového původu jsou i části květu – květní obaly, tyčinky a plodolis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úplné redukci listů může dojít u parazitických rostl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uscu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Picture 3" descr="C:\user\Houba\Škola-obrázky\morfologie\4_list\slavikova_057_salvinia.JPG"/>
          <p:cNvPicPr/>
          <p:nvPr/>
        </p:nvPicPr>
        <p:blipFill>
          <a:blip r:embed="rId1"/>
          <a:stretch/>
        </p:blipFill>
        <p:spPr>
          <a:xfrm>
            <a:off x="533520" y="457200"/>
            <a:ext cx="3733560" cy="3284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user\Houba\Škola-obrázky\morfologie\4_list\kokotice_evropska.jpg"/>
          <p:cNvPicPr/>
          <p:nvPr/>
        </p:nvPicPr>
        <p:blipFill>
          <a:blip r:embed="rId2"/>
          <a:srcRect l="12608" t="0" r="12608" b="0"/>
          <a:stretch/>
        </p:blipFill>
        <p:spPr>
          <a:xfrm>
            <a:off x="6705720" y="457200"/>
            <a:ext cx="1839960" cy="3276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2133720" y="3124080"/>
            <a:ext cx="2133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705720" y="34290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www.kvetenacr.cz/detail.asp?IDdetail=37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6705720" y="457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okotice evropská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uscuta europ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415800" y="4038480"/>
            <a:ext cx="8534520" cy="16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ktický význa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rava pro člověka – listová zelenina (košťáloviny, cibuloviny, vysoký obsah vitamínů), koření (vavřín), čaj (sušené a oxidované listy), krmivo pro zvíř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mysl textilní (sklerenchym, cévní svazky jednoděložných – sisalová vlákna, výroba provazů), farmaceutický (léčivé rostliny – náprstník, rulík, durman, mát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3924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63832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3"/>
          <p:cNvSpPr/>
          <p:nvPr/>
        </p:nvSpPr>
        <p:spPr>
          <a:xfrm>
            <a:off x="7315200" y="3886200"/>
            <a:ext cx="13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380880" y="304920"/>
            <a:ext cx="8458200" cy="27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stavení listů na ston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pravidel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husté (stegofyly plavun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d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řevážně u původnějších skupin rostlin – pryskyřníkovité, růžovité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isperz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pořádání listů: inzerce (místa, kde listy vyrůstají na stonku) jsou uspořádány ve vzestup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šroubov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ká spirá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kru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točka genet. spirály kolem osy stonku o 360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tosti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svisl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pojující inzerce 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d se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á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vina pro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á podélnou osou lodyhy a ortostich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28" descr="C:\user\Houba\Škola-obrázky\morfologie\4_list\fagus_sylvatica_atropunicea_1-2.jpg"/>
          <p:cNvPicPr/>
          <p:nvPr/>
        </p:nvPicPr>
        <p:blipFill>
          <a:blip r:embed="rId1"/>
          <a:stretch/>
        </p:blipFill>
        <p:spPr>
          <a:xfrm>
            <a:off x="6172200" y="4267080"/>
            <a:ext cx="2514600" cy="2268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9"/>
          <p:cNvSpPr/>
          <p:nvPr/>
        </p:nvSpPr>
        <p:spPr>
          <a:xfrm>
            <a:off x="6172200" y="6172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sharkan.net/index.php?text=10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-buk-lesni-buk-lesny-fagus-sylvatica-quot-atropunicea-quo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80880" y="3048120"/>
            <a:ext cx="6858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erge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úhel sevřený mediánami po sobě jdoucích listů uváděný ve stupních nebo zlomkem (vždy stálý pro daný druh)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častější úhly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/2 (= 180°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k, líp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1/3 (= 120°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lše, lís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/5 (= 144°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ba, dub, jabloň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8/21 (šupiny šištic jehličnanů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6248520" y="43434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uk lesní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Fagus sylvatica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(1/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36" descr="C:\user\Houba\Škola-obrázky\morfologie\4_list\cernohorsky_083_listy_2-5.JPG"/>
          <p:cNvPicPr/>
          <p:nvPr/>
        </p:nvPicPr>
        <p:blipFill>
          <a:blip r:embed="rId2"/>
          <a:srcRect l="0" t="0" r="0" b="8496"/>
          <a:stretch/>
        </p:blipFill>
        <p:spPr>
          <a:xfrm>
            <a:off x="7315200" y="1905120"/>
            <a:ext cx="1357200" cy="20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C:\user\Houba\Škola-obrázky\morfologie\4_list\Clivia_dvourade_listy.jpg"/>
          <p:cNvPicPr/>
          <p:nvPr/>
        </p:nvPicPr>
        <p:blipFill>
          <a:blip r:embed="rId3"/>
          <a:srcRect l="0" t="7408" r="0" b="0"/>
          <a:stretch/>
        </p:blipFill>
        <p:spPr>
          <a:xfrm>
            <a:off x="457200" y="4303800"/>
            <a:ext cx="1817640" cy="2187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9"/>
          <p:cNvSpPr/>
          <p:nvPr/>
        </p:nvSpPr>
        <p:spPr>
          <a:xfrm>
            <a:off x="380880" y="6324480"/>
            <a:ext cx="1981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Clivia1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0"/>
          <p:cNvSpPr/>
          <p:nvPr/>
        </p:nvSpPr>
        <p:spPr>
          <a:xfrm>
            <a:off x="457200" y="6095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livia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1"/>
          <p:cNvSpPr/>
          <p:nvPr/>
        </p:nvSpPr>
        <p:spPr>
          <a:xfrm>
            <a:off x="2362320" y="419112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vouřad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spořádání listů (častější u jednoděložných, ale i jilmovitých nebo bobovitých): následující list stojí na opačné straně stonku než předchozí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38836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933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9" descr="C:\user\Houba\Škola-obrázky\morfologie\4_list\parastich_lobivia_famatimensis_bonnieae.jpg"/>
          <p:cNvPicPr/>
          <p:nvPr/>
        </p:nvPicPr>
        <p:blipFill>
          <a:blip r:embed="rId1"/>
          <a:srcRect l="21872" t="0" r="21872" b="0"/>
          <a:stretch/>
        </p:blipFill>
        <p:spPr>
          <a:xfrm>
            <a:off x="457200" y="380880"/>
            <a:ext cx="1500120" cy="2667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0"/>
          <p:cNvSpPr/>
          <p:nvPr/>
        </p:nvSpPr>
        <p:spPr>
          <a:xfrm>
            <a:off x="2057400" y="457200"/>
            <a:ext cx="6781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rácením internodií dojde ke stlačení spirály =&gt; přestává být zřetelná a zdánlivě vzniká vyšší počet ortostich =&gt; druhotné šroubovice – označ.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stic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úbory hvězdnicovitých, kaktusy, šišky jehličnanů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420840" y="3459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obivia famativen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2"/>
          <p:cNvSpPr/>
          <p:nvPr/>
        </p:nvSpPr>
        <p:spPr>
          <a:xfrm rot="16200000">
            <a:off x="532080" y="167400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cactus-art.bi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note-book/Dictionary/Dictionary_P/dictionary_parastich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3" descr="C:\user\Houba\Škola-obrázky\morfologie\4_list\mentha_arvensis_vstricne_krizmostojne.jpg"/>
          <p:cNvPicPr/>
          <p:nvPr/>
        </p:nvPicPr>
        <p:blipFill>
          <a:blip r:embed="rId2"/>
          <a:stretch/>
        </p:blipFill>
        <p:spPr>
          <a:xfrm>
            <a:off x="6622920" y="1447920"/>
            <a:ext cx="2013120" cy="2209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4"/>
          <p:cNvSpPr/>
          <p:nvPr/>
        </p:nvSpPr>
        <p:spPr>
          <a:xfrm>
            <a:off x="2057400" y="1600200"/>
            <a:ext cx="457200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stříc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sty vznikají v případě pravidel-ného zkrácení každého druhého internodia =&gt; zdánlivě vyrůstají po 2 z každého no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pár vstřícných listů je postaven vždy kolmo na předchozí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řižmostojn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len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y mají přesličky – růst více listů vedle sebe z jednoho no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ánlivě přeslenité uspořádání listů vzniká pravidelným zkrácením 2 nebo více internodií, po němž následuje vždy 1 delší (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rbina obecná, kokořík přeslenitý, vraní o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ypy postavení listů mají shodný cíl – aby dospělé listy co nejlépe „vykryly prostor“ a co nejméně stínily ty pod se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6629400" y="32004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áta roln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Mentha arven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6553080" y="1406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jvsystem.net/app19/Species.aspx?pk=10051&amp;lng_user=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37" descr="C:\user\Houba\Škola-obrázky\morfologie\4_list\equisetum_palustre_preslenite_stenofyly.jpg"/>
          <p:cNvPicPr/>
          <p:nvPr/>
        </p:nvPicPr>
        <p:blipFill>
          <a:blip r:embed="rId3"/>
          <a:srcRect l="23622" t="0" r="31497" b="0"/>
          <a:stretch/>
        </p:blipFill>
        <p:spPr>
          <a:xfrm>
            <a:off x="457200" y="3200400"/>
            <a:ext cx="150480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8"/>
          <p:cNvSpPr/>
          <p:nvPr/>
        </p:nvSpPr>
        <p:spPr>
          <a:xfrm>
            <a:off x="457200" y="32004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řeslička bahenn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quisetum palust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431640" y="5391000"/>
            <a:ext cx="15480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ffffff"/>
                </a:solidFill>
                <a:latin typeface="Arial"/>
              </a:rPr>
              <a:t>http://botanika.bf.jcu.cz/systematikaweb/files_equisetophyta/equisetumpalustrepochvadethajanskyrybnik14102002.jpg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0" descr="C:\user\Houba\Škola-obrázky\morfologie\4_list\paris_quadrifolia_preslen_listu.jpg"/>
          <p:cNvPicPr/>
          <p:nvPr/>
        </p:nvPicPr>
        <p:blipFill>
          <a:blip r:embed="rId4"/>
          <a:stretch/>
        </p:blipFill>
        <p:spPr>
          <a:xfrm>
            <a:off x="6608880" y="3733920"/>
            <a:ext cx="200160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1"/>
          <p:cNvSpPr/>
          <p:nvPr/>
        </p:nvSpPr>
        <p:spPr>
          <a:xfrm>
            <a:off x="6629400" y="37339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raní oko čtyřlist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aris quadrifo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6553080" y="622476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kvetenacr.cz/detail.asp?IDdetail=26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22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0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7" descr="C:\user\Houba\Škola-obrázky\morfologie\4_list\cernohorsky_098_prisedani_listu.JPG"/>
          <p:cNvPicPr/>
          <p:nvPr/>
        </p:nvPicPr>
        <p:blipFill>
          <a:blip r:embed="rId1"/>
          <a:stretch/>
        </p:blipFill>
        <p:spPr>
          <a:xfrm>
            <a:off x="457200" y="685800"/>
            <a:ext cx="3822840" cy="3886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80880" y="304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pojení listů na ston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24" descr="C:\user\Houba\Škola-obrázky\morfologie\4_list\slavikova_036_stavba_listu.JPG"/>
          <p:cNvPicPr/>
          <p:nvPr/>
        </p:nvPicPr>
        <p:blipFill>
          <a:blip r:embed="rId2"/>
          <a:stretch/>
        </p:blipFill>
        <p:spPr>
          <a:xfrm>
            <a:off x="4511520" y="380880"/>
            <a:ext cx="1752840" cy="1749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5"/>
          <p:cNvSpPr/>
          <p:nvPr/>
        </p:nvSpPr>
        <p:spPr>
          <a:xfrm>
            <a:off x="4495680" y="380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6400800" y="304920"/>
            <a:ext cx="25146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ásti lis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áze listu (může přecházet v pochvu nebo být opatřena palist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pí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čep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 rot="16200000">
            <a:off x="3398040" y="3535920"/>
            <a:ext cx="13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4419720" y="2190600"/>
            <a:ext cx="44193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ch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z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lní 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, objímající ston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zejm. jednoděložnýc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hrana ú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bních pup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interkalárních meri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 (dělivých pletiv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tom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uš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čm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zý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pnice) 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tilig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tř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9" descr="C:\user\Houba\Škola-obrázky\morfologie\4_list\slavikova_038_listova_pochva.JPG"/>
          <p:cNvPicPr/>
          <p:nvPr/>
        </p:nvPicPr>
        <p:blipFill>
          <a:blip r:embed="rId3"/>
          <a:stretch/>
        </p:blipFill>
        <p:spPr>
          <a:xfrm>
            <a:off x="5105520" y="4179960"/>
            <a:ext cx="3581280" cy="2333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0"/>
          <p:cNvSpPr/>
          <p:nvPr/>
        </p:nvSpPr>
        <p:spPr>
          <a:xfrm rot="16200000">
            <a:off x="7755840" y="4867560"/>
            <a:ext cx="1677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31" descr="C:\user\Houba\Škola-obrázky\morfologie\4_list\apera_spica-venti_pochva+jazycek.jpg"/>
          <p:cNvPicPr/>
          <p:nvPr/>
        </p:nvPicPr>
        <p:blipFill>
          <a:blip r:embed="rId4"/>
          <a:stretch/>
        </p:blipFill>
        <p:spPr>
          <a:xfrm>
            <a:off x="1219320" y="4724280"/>
            <a:ext cx="2133360" cy="1801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2"/>
          <p:cNvSpPr/>
          <p:nvPr/>
        </p:nvSpPr>
        <p:spPr>
          <a:xfrm>
            <a:off x="1219320" y="472428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Chundelka metl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pera spica-ven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114300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jvsystem.n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app19/Species.aspx?pk=1006&amp;lng_user=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34" descr="C:\user\Houba\Škola-obrázky\morfologie\4_list\carex_frankii_sheath+antiligula.jpg"/>
          <p:cNvPicPr/>
          <p:nvPr/>
        </p:nvPicPr>
        <p:blipFill>
          <a:blip r:embed="rId5"/>
          <a:srcRect l="9173" t="18898" r="13760" b="9449"/>
          <a:stretch/>
        </p:blipFill>
        <p:spPr>
          <a:xfrm>
            <a:off x="3452760" y="4724280"/>
            <a:ext cx="146232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5"/>
          <p:cNvSpPr/>
          <p:nvPr/>
        </p:nvSpPr>
        <p:spPr>
          <a:xfrm rot="16200000">
            <a:off x="3849480" y="5675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utc.usu.edu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factsheets/CarexFSF/Carex_frankii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3429000" y="4724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arex franki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3429000" y="6400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antiligula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2286000" y="5486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–—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azýče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57200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457200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907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5633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380880" y="2743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šupin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lan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zelené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imil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zelen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5" descr="C:\user\Houba\Škola-obrázky\morfologie\4_list\salix_aurita.jpg"/>
          <p:cNvPicPr/>
          <p:nvPr/>
        </p:nvPicPr>
        <p:blipFill>
          <a:blip r:embed="rId1"/>
          <a:stretch/>
        </p:blipFill>
        <p:spPr>
          <a:xfrm>
            <a:off x="457200" y="1066680"/>
            <a:ext cx="2560680" cy="1600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6"/>
          <p:cNvSpPr/>
          <p:nvPr/>
        </p:nvSpPr>
        <p:spPr>
          <a:xfrm>
            <a:off x="398520" y="23781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popgen.unimaas.n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~jlindsey/commanster/Plants/Trees/Trees/Salix.aurita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380880" y="3049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li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árovité výrůstky v místě přisedání listu na stonek, v ontogenezi se vyvíjejí z listové bá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457200" y="10666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rba ušatá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alix auri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9" descr="C:\user\Houba\Škola-obrázky\morfologie\4_list\lathyrus_aphaca_palisty.jpg"/>
          <p:cNvPicPr/>
          <p:nvPr/>
        </p:nvPicPr>
        <p:blipFill>
          <a:blip r:embed="rId2"/>
          <a:srcRect l="0" t="11249" r="4756" b="0"/>
          <a:stretch/>
        </p:blipFill>
        <p:spPr>
          <a:xfrm>
            <a:off x="6786720" y="438120"/>
            <a:ext cx="1976400" cy="259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0"/>
          <p:cNvSpPr/>
          <p:nvPr/>
        </p:nvSpPr>
        <p:spPr>
          <a:xfrm>
            <a:off x="3124080" y="99072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hou bý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ch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opadají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 vývoj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např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 bukovitých jako šupiny pupen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d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ešeň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trva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ba ušatá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b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i převzít funkci listů (hrachor bezlistý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 rot="16200000">
            <a:off x="7299360" y="1443960"/>
            <a:ext cx="25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 /material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fotogalerie-nahledy.php?family=Fabaceae&amp;name=Rosida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2"/>
          <p:cNvSpPr/>
          <p:nvPr/>
        </p:nvSpPr>
        <p:spPr>
          <a:xfrm rot="16200000">
            <a:off x="5603400" y="1406880"/>
            <a:ext cx="281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rachor pačočkový (= h. bezlistý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athyrus apha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3" descr="C:\user\Houba\Škola-obrázky\morfologie\4_list\galium_album_preslen.jpg"/>
          <p:cNvPicPr/>
          <p:nvPr/>
        </p:nvPicPr>
        <p:blipFill>
          <a:blip r:embed="rId3"/>
          <a:stretch/>
        </p:blipFill>
        <p:spPr>
          <a:xfrm>
            <a:off x="457200" y="320040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4"/>
          <p:cNvSpPr/>
          <p:nvPr/>
        </p:nvSpPr>
        <p:spPr>
          <a:xfrm>
            <a:off x="2590920" y="3124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list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mez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é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 spolu s li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zdánl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len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řenovité; pravé listy jsou jen ty, v jejichž paždí je věte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6"/>
          <p:cNvSpPr/>
          <p:nvPr/>
        </p:nvSpPr>
        <p:spPr>
          <a:xfrm>
            <a:off x="457200" y="3200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vízel bíl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Galium alb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37" descr="C:\user\Houba\Škola-obrázky\morfologie\4_list\botka_persicaria_lapathifolia.jpg"/>
          <p:cNvPicPr/>
          <p:nvPr/>
        </p:nvPicPr>
        <p:blipFill>
          <a:blip r:embed="rId4"/>
          <a:stretch/>
        </p:blipFill>
        <p:spPr>
          <a:xfrm>
            <a:off x="6172200" y="388620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8"/>
          <p:cNvSpPr/>
          <p:nvPr/>
        </p:nvSpPr>
        <p:spPr>
          <a:xfrm>
            <a:off x="2590920" y="3809880"/>
            <a:ext cx="3581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t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blanit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álcovitý útvar nad nod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zniklý srůstem palist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ý pro rdesn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měnou palistů vznikl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listové tr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ká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9"/>
          <p:cNvSpPr/>
          <p:nvPr/>
        </p:nvSpPr>
        <p:spPr>
          <a:xfrm>
            <a:off x="6705720" y="3886200"/>
            <a:ext cx="2133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slovnik/heslo.php?339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0"/>
          <p:cNvSpPr/>
          <p:nvPr/>
        </p:nvSpPr>
        <p:spPr>
          <a:xfrm>
            <a:off x="6210360" y="533412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Rdesn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lešník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ersicaria lapathifo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3" descr="C:\user\Houba\Škola-obrázky\morfologie\4_list\robinia_pseudacacia_trny.jpg"/>
          <p:cNvPicPr/>
          <p:nvPr/>
        </p:nvPicPr>
        <p:blipFill>
          <a:blip r:embed="rId5"/>
          <a:stretch/>
        </p:blipFill>
        <p:spPr>
          <a:xfrm>
            <a:off x="457200" y="4884840"/>
            <a:ext cx="2057400" cy="1544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4"/>
          <p:cNvSpPr/>
          <p:nvPr/>
        </p:nvSpPr>
        <p:spPr>
          <a:xfrm>
            <a:off x="533520" y="59436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Trnovník aká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Robinia pseudaca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398520" y="445464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botanika.bf.jcu.cz/morfologie/GaliumAlbPreslen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361800" y="48402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RobiniaTrnyD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37236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251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8"/>
          <p:cNvSpPr/>
          <p:nvPr/>
        </p:nvSpPr>
        <p:spPr>
          <a:xfrm>
            <a:off x="380880" y="361800"/>
            <a:ext cx="6019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ík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topkov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stu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u bezřapíkatých list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590920" y="685800"/>
            <a:ext cx="38862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ůzné typy podle průřezu – oblý, hranatý, žlábkovitý, křídlovit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fouklý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erenchym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tv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vodní hyaci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šířená báze řapíku může chránit úžlabní pupen (plat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ylod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ovit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z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ík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e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to chyb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aci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imos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chor trávolistý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12760" y="-34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4" descr="C:\user\Houba\Škola-obrázky\morfologie\4_list\trapa_natans_rapik.jpg"/>
          <p:cNvPicPr/>
          <p:nvPr/>
        </p:nvPicPr>
        <p:blipFill>
          <a:blip r:embed="rId1"/>
          <a:srcRect l="0" t="4733" r="0" b="4733"/>
          <a:stretch/>
        </p:blipFill>
        <p:spPr>
          <a:xfrm>
            <a:off x="457200" y="762120"/>
            <a:ext cx="2058840" cy="2409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5"/>
          <p:cNvSpPr/>
          <p:nvPr/>
        </p:nvSpPr>
        <p:spPr>
          <a:xfrm>
            <a:off x="45720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otvice plovoucí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Trapa nat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6"/>
          <p:cNvSpPr/>
          <p:nvPr/>
        </p:nvSpPr>
        <p:spPr>
          <a:xfrm>
            <a:off x="457200" y="762120"/>
            <a:ext cx="266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kvetenacr.cz/detail.asp?IDdetail=15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7" descr="C:\user\Houba\Škola-obrázky\morfologie\4_list\lathyrus_nissolia_fylodia.jpg"/>
          <p:cNvPicPr/>
          <p:nvPr/>
        </p:nvPicPr>
        <p:blipFill>
          <a:blip r:embed="rId2"/>
          <a:stretch/>
        </p:blipFill>
        <p:spPr>
          <a:xfrm>
            <a:off x="6364440" y="457200"/>
            <a:ext cx="2368440" cy="274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4" name="Text Box 49"/>
          <p:cNvSpPr/>
          <p:nvPr/>
        </p:nvSpPr>
        <p:spPr>
          <a:xfrm rot="16200000">
            <a:off x="5083200" y="1621800"/>
            <a:ext cx="2895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kimages.com/discover/DKIMAGES/Discover/Hom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Plants/Ornamental-Groups/Annuals-and-Biennials/Leguminosae-Papilionaceae/Lathyrus/Lathyrus-nissolia/Lathyrus-nissolia-1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50"/>
          <p:cNvSpPr/>
          <p:nvPr/>
        </p:nvSpPr>
        <p:spPr>
          <a:xfrm>
            <a:off x="7391520" y="27432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rachor trávolistý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Lathyrus nisso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1"/>
          <p:cNvSpPr/>
          <p:nvPr/>
        </p:nvSpPr>
        <p:spPr>
          <a:xfrm>
            <a:off x="380880" y="3309840"/>
            <a:ext cx="83822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e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dorziventrálně uspořádaná vrcholová část listu, obvykle hypostomatická (průduchy ponejvíce na spodní straně; opačně je tomu u vodních rostl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faciál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2 různé strany, svrchní a spodní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kvifaciál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 monofaciální – obě strany stejné, např. případ jehlic, ztlustlý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3" descr="C:\user\Houba\Škola-obrázky\morfologie\4_list\empetrum_list.jpg"/>
          <p:cNvPicPr/>
          <p:nvPr/>
        </p:nvPicPr>
        <p:blipFill>
          <a:blip r:embed="rId3"/>
          <a:stretch/>
        </p:blipFill>
        <p:spPr>
          <a:xfrm>
            <a:off x="5194440" y="4648320"/>
            <a:ext cx="174780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5"/>
          <p:cNvSpPr/>
          <p:nvPr/>
        </p:nvSpPr>
        <p:spPr>
          <a:xfrm>
            <a:off x="5138640" y="6172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morfologie/EmpetrumList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56"/>
          <p:cNvSpPr/>
          <p:nvPr/>
        </p:nvSpPr>
        <p:spPr>
          <a:xfrm>
            <a:off x="380880" y="4454640"/>
            <a:ext cx="205740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rozchodník) nebo ponořených listů (vodní mor, rdest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n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ciál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dominantně vyvi-nutá jedna strana (kostřava, šich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7" descr="C:\user\Houba\Škola-obrázky\morfologie\4_list\elodea_canadensis.jpg"/>
          <p:cNvPicPr/>
          <p:nvPr/>
        </p:nvPicPr>
        <p:blipFill>
          <a:blip r:embed="rId4"/>
          <a:stretch/>
        </p:blipFill>
        <p:spPr>
          <a:xfrm>
            <a:off x="2590920" y="46483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8"/>
          <p:cNvSpPr/>
          <p:nvPr/>
        </p:nvSpPr>
        <p:spPr>
          <a:xfrm>
            <a:off x="2550960" y="6283440"/>
            <a:ext cx="259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cs.wikipedia.org/wiki/Soubor:Elodea_canadensis.jpe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5181480" y="4648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icha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mpetrum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p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1"/>
          <p:cNvSpPr/>
          <p:nvPr/>
        </p:nvSpPr>
        <p:spPr>
          <a:xfrm>
            <a:off x="2590920" y="46483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odní mor kanadský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lodea canaden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62" descr="C:\user\Houba\Škola-obrázky\morfologie\4_list\cernohorsky_112_list_kostravy.JPG"/>
          <p:cNvPicPr/>
          <p:nvPr/>
        </p:nvPicPr>
        <p:blipFill>
          <a:blip r:embed="rId5"/>
          <a:stretch/>
        </p:blipFill>
        <p:spPr>
          <a:xfrm>
            <a:off x="7120080" y="4038480"/>
            <a:ext cx="1630080" cy="2438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3"/>
          <p:cNvSpPr/>
          <p:nvPr/>
        </p:nvSpPr>
        <p:spPr>
          <a:xfrm rot="16200000">
            <a:off x="5981760" y="537192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’64: 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838836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8388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571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1178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0880" y="304920"/>
            <a:ext cx="27432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ymetr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ymetr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go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s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ymetrick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á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čep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l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ilnatina lis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tevře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vidličnatá (bez anastomóz, jin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0" descr="C:\user\Houba\Škola-obrázky\morfologie\4_list\begonia_listy.jpg"/>
          <p:cNvPicPr/>
          <p:nvPr/>
        </p:nvPicPr>
        <p:blipFill>
          <a:blip r:embed="rId1"/>
          <a:stretch/>
        </p:blipFill>
        <p:spPr>
          <a:xfrm>
            <a:off x="5943600" y="304920"/>
            <a:ext cx="2705040" cy="2452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1"/>
          <p:cNvSpPr/>
          <p:nvPr/>
        </p:nvSpPr>
        <p:spPr>
          <a:xfrm>
            <a:off x="6934320" y="304920"/>
            <a:ext cx="177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robsviolet.com/begonias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7162920" y="2438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Begonia 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p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3" descr="C:\user\Houba\Škola-obrázky\morfologie\4_list\jilm_vaz.bmp"/>
          <p:cNvPicPr/>
          <p:nvPr/>
        </p:nvPicPr>
        <p:blipFill>
          <a:blip r:embed="rId2"/>
          <a:srcRect l="0" t="8395" r="0" b="4203"/>
          <a:stretch/>
        </p:blipFill>
        <p:spPr>
          <a:xfrm>
            <a:off x="3124080" y="304920"/>
            <a:ext cx="2705400" cy="1773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4"/>
          <p:cNvSpPr/>
          <p:nvPr/>
        </p:nvSpPr>
        <p:spPr>
          <a:xfrm>
            <a:off x="3124080" y="304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ilm vaz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Ulmus laev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3886200" y="1905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pdf.uhk.cz/kbi/HERBAR/jilm%20vaz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36" descr="C:\user\Houba\Škola-obrázky\morfologie\4_list\slavikova_045_zilnatina_listu.jpg"/>
          <p:cNvPicPr/>
          <p:nvPr/>
        </p:nvPicPr>
        <p:blipFill>
          <a:blip r:embed="rId3"/>
          <a:stretch/>
        </p:blipFill>
        <p:spPr>
          <a:xfrm>
            <a:off x="2209680" y="2362320"/>
            <a:ext cx="2786040" cy="3470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7"/>
          <p:cNvSpPr/>
          <p:nvPr/>
        </p:nvSpPr>
        <p:spPr>
          <a:xfrm>
            <a:off x="3492360" y="22096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9" descr="C:\user\Houba\Škola-obrázky\morfologie\4_list\ginkgo_leaf.gif"/>
          <p:cNvPicPr/>
          <p:nvPr/>
        </p:nvPicPr>
        <p:blipFill>
          <a:blip r:embed="rId4"/>
          <a:stretch/>
        </p:blipFill>
        <p:spPr>
          <a:xfrm>
            <a:off x="457200" y="2362320"/>
            <a:ext cx="1676520" cy="1593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0"/>
          <p:cNvSpPr/>
          <p:nvPr/>
        </p:nvSpPr>
        <p:spPr>
          <a:xfrm>
            <a:off x="1035000" y="3505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Ginkgo bilob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380880" y="3581280"/>
            <a:ext cx="1828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www.saltspring.com/oldisland/catalogue/Stamp%20pages/476%20Gingko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380880" y="4038480"/>
            <a:ext cx="1905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zavře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(žilky propojeny anastomózami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5029200" y="27972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om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ícežil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stů (u většiny rostlin) jsou list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dnožil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ehlič-nany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krytožil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tučnolisté)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ezžil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odní rostl.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emn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5" descr="C:\user\Houba\Škola-obrázky\morfologie\4_list\wolffia_arrhiza_tafel_043.jpg"/>
          <p:cNvPicPr/>
          <p:nvPr/>
        </p:nvPicPr>
        <p:blipFill>
          <a:blip r:embed="rId5"/>
          <a:stretch/>
        </p:blipFill>
        <p:spPr>
          <a:xfrm>
            <a:off x="7218360" y="4038480"/>
            <a:ext cx="1447920" cy="2362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6"/>
          <p:cNvSpPr/>
          <p:nvPr/>
        </p:nvSpPr>
        <p:spPr>
          <a:xfrm>
            <a:off x="5099040" y="3975120"/>
            <a:ext cx="3638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caliban.mpiz-koeln.mpg.de/~stueber/thome/band1/tafel_043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7" descr="C:\user\Houba\Škola-obrázky\morfologie\4_list\Crassula_Portulacea_rubra.jpg"/>
          <p:cNvPicPr/>
          <p:nvPr/>
        </p:nvPicPr>
        <p:blipFill>
          <a:blip r:embed="rId6"/>
          <a:srcRect l="0" t="0" r="22232" b="0"/>
          <a:stretch/>
        </p:blipFill>
        <p:spPr>
          <a:xfrm>
            <a:off x="5467320" y="4199040"/>
            <a:ext cx="1676520" cy="1633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9"/>
          <p:cNvSpPr/>
          <p:nvPr/>
        </p:nvSpPr>
        <p:spPr>
          <a:xfrm>
            <a:off x="5415120" y="553716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www.glasshouseworks.com/succ-bc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50"/>
          <p:cNvSpPr/>
          <p:nvPr/>
        </p:nvSpPr>
        <p:spPr>
          <a:xfrm>
            <a:off x="5442120" y="418464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rassula portulac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1"/>
          <p:cNvSpPr/>
          <p:nvPr/>
        </p:nvSpPr>
        <p:spPr>
          <a:xfrm>
            <a:off x="2176560" y="5867280"/>
            <a:ext cx="5029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avidla lze rozlišit hlavní a postranní žilky; typy 3–5 se sítí anastomóz ozn. jako ž. síťnatá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2" descr="C:\user\Houba\Škola-obrázky\morfologie\4_list\cernohorsky_pril19_listove_zilky.JPG"/>
          <p:cNvPicPr/>
          <p:nvPr/>
        </p:nvPicPr>
        <p:blipFill>
          <a:blip r:embed="rId7"/>
          <a:srcRect l="0" t="27465" r="0" b="0"/>
          <a:stretch/>
        </p:blipFill>
        <p:spPr>
          <a:xfrm>
            <a:off x="457200" y="4952880"/>
            <a:ext cx="1676520" cy="1452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3"/>
          <p:cNvSpPr/>
          <p:nvPr/>
        </p:nvSpPr>
        <p:spPr>
          <a:xfrm rot="16200000">
            <a:off x="-253440" y="5574960"/>
            <a:ext cx="158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Základy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255600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30836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" descr="C:\user\Houba\Škola-obrázky\morfologie\4_list\cernohorsky_095_obrys_cepele.JPG"/>
          <p:cNvPicPr/>
          <p:nvPr/>
        </p:nvPicPr>
        <p:blipFill>
          <a:blip r:embed="rId1"/>
          <a:stretch/>
        </p:blipFill>
        <p:spPr>
          <a:xfrm>
            <a:off x="457200" y="762120"/>
            <a:ext cx="4051440" cy="4495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380880" y="380880"/>
            <a:ext cx="8534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ar čep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bry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1" descr="C:\user\Houba\Škola-obrázky\morfologie\4_list\cernohorsky_094_text-2.jpg"/>
          <p:cNvPicPr/>
          <p:nvPr/>
        </p:nvPicPr>
        <p:blipFill>
          <a:blip r:embed="rId2"/>
          <a:srcRect l="0" t="28967" r="0" b="0"/>
          <a:stretch/>
        </p:blipFill>
        <p:spPr>
          <a:xfrm>
            <a:off x="4648320" y="299880"/>
            <a:ext cx="4038480" cy="2022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C:\user\Houba\Škola-obrázky\morfologie\4_list\cernohorsky_095_text-1.jpg"/>
          <p:cNvPicPr/>
          <p:nvPr/>
        </p:nvPicPr>
        <p:blipFill>
          <a:blip r:embed="rId3"/>
          <a:stretch/>
        </p:blipFill>
        <p:spPr>
          <a:xfrm>
            <a:off x="4648320" y="2281320"/>
            <a:ext cx="4038480" cy="1111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C:\user\Houba\Škola-obrázky\morfologie\4_list\cernohorsky_095_text-2.jpg"/>
          <p:cNvPicPr/>
          <p:nvPr/>
        </p:nvPicPr>
        <p:blipFill>
          <a:blip r:embed="rId4"/>
          <a:srcRect l="0" t="0" r="0" b="21711"/>
          <a:stretch/>
        </p:blipFill>
        <p:spPr>
          <a:xfrm>
            <a:off x="4648320" y="3352680"/>
            <a:ext cx="4038480" cy="164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"/>
          <p:cNvSpPr/>
          <p:nvPr/>
        </p:nvSpPr>
        <p:spPr>
          <a:xfrm>
            <a:off x="380880" y="762120"/>
            <a:ext cx="2743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Základy rostlinné morfologie (na 3 snímcích)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380880" y="5410080"/>
            <a:ext cx="441972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storový vzhled čepe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ochá, vlnitá, řasnatá (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ab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kadeřavá (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Rumex cris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svraskalá (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Rosa rugos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6" descr="C:\user\Houba\Škola-obrázky\morfologie\4_list\rosa_rugosa.jpg"/>
          <p:cNvPicPr/>
          <p:nvPr/>
        </p:nvPicPr>
        <p:blipFill>
          <a:blip r:embed="rId5"/>
          <a:srcRect l="20868" t="27793" r="0" b="0"/>
          <a:stretch/>
        </p:blipFill>
        <p:spPr>
          <a:xfrm>
            <a:off x="6686640" y="5145120"/>
            <a:ext cx="2006640" cy="1374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C:\user\Houba\Škola-obrázky\morfologie\4_list\habr_obecny_list.jpg"/>
          <p:cNvPicPr/>
          <p:nvPr/>
        </p:nvPicPr>
        <p:blipFill>
          <a:blip r:embed="rId6"/>
          <a:stretch/>
        </p:blipFill>
        <p:spPr>
          <a:xfrm>
            <a:off x="4800600" y="51436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8"/>
          <p:cNvSpPr/>
          <p:nvPr/>
        </p:nvSpPr>
        <p:spPr>
          <a:xfrm>
            <a:off x="4724280" y="510552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</a:t>
            </a: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kytky/foto.php?129: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800600" y="60199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abr obecn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arpinus betu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705720" y="601992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Růže svraskalá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Rosa rugo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6629400" y="5105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morfologie/RosaRugListRostl.jpg: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4211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95753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uba</cp:lastModifiedBy>
  <dcterms:modified xsi:type="dcterms:W3CDTF">2020-10-06T19:15:28Z</dcterms:modified>
  <cp:revision>274</cp:revision>
  <dc:subject/>
  <dc:title>Prezentace aplikace PowerPoint</dc:title>
</cp:coreProperties>
</file>