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png"/><Relationship Id="rId7" Type="http://schemas.openxmlformats.org/officeDocument/2006/relationships/image" Target="../media/image81.jpe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2"/>
          <p:cNvSpPr/>
          <p:nvPr/>
        </p:nvSpPr>
        <p:spPr>
          <a:xfrm>
            <a:off x="361800" y="380880"/>
            <a:ext cx="845820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9. PL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noho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ozm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ací útvar krytosemenn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inice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d je k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 ve stadiu zralosti s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zavírá jedno nebo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ší m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ví s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ání semena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m zr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odílí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i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pr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ají pouze z gynece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nepr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 z jiných částí kvě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plodu pokr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lod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i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vznikající ze stěn plodo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išení na vrstvy: vnějš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tře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z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nitř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ka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tvírání pl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zřejmě původní pukání v místě břišního švu či srůstu plodolistů, odvozené typy pukají v místě hřbetního švu, tvorbou pórů nebo lomem plodolistů (lámavé plody jsou vývojově odvozené, podobně jako nepukav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karp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tvorba tvar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dlišných pl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jedné rost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 (měsíček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sp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vorba tvarově odlišných semen v jednom plodu (kuřinka solná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ritéria klasifikace pl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tavba gynecea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a s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 plodo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použito 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semen, z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 otvírání, typ oplodí, stavba oplodí ve zralosti (vrstevnato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" name="Object 13"/>
          <p:cNvGraphicFramePr/>
          <p:nvPr/>
        </p:nvGraphicFramePr>
        <p:xfrm>
          <a:off x="5791320" y="457200"/>
          <a:ext cx="286704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57200"/>
                    <a:ext cx="286704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14"/>
          <p:cNvSpPr/>
          <p:nvPr/>
        </p:nvSpPr>
        <p:spPr>
          <a:xfrm>
            <a:off x="3886200" y="2438280"/>
            <a:ext cx="19051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33"/>
                </a:solidFill>
                <a:latin typeface="Arial"/>
              </a:rPr>
              <a:t>stavba oplodí anýzu (</a:t>
            </a:r>
            <a:r>
              <a:rPr b="0" i="1" lang="cs-CZ" sz="1200" spc="-1" strike="noStrike">
                <a:solidFill>
                  <a:srgbClr val="333333"/>
                </a:solidFill>
                <a:latin typeface="Arial"/>
              </a:rPr>
              <a:t>Pimpinella anisum</a:t>
            </a:r>
            <a:r>
              <a:rPr b="0" lang="cs-CZ" sz="1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333333"/>
                </a:solidFill>
                <a:latin typeface="Arial"/>
              </a:rPr>
              <a:t>http://www.faf.cuni.cz/apps/DrugMoun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333333"/>
                </a:solidFill>
                <a:latin typeface="Arial"/>
              </a:rPr>
              <a:t>/DrugMountGallery.asp?DrugType=Fructu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63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361800" y="380880"/>
            <a:ext cx="314352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rozpadav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ché, vícesemenné, za zralosti se rozpadají na jednosemenné části – dle způsobu rozpadu se dělí na poltivé a láma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d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t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znikají ze synkarpního gynecea) se za zralosti rozpadají na díly odpovídající jednotlivým plodolistům – plůdky neb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rikarp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vojnaž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iacea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c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še druhy r.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G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„zobanitý plod“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„knoflíčkovitý plod“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al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rozpadavé plod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uphorb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C:\user\Houba\Škola-výuka\morfologie\19a_kryt_soubory\slide0116_image479.jpg"/>
          <p:cNvPicPr/>
          <p:nvPr/>
        </p:nvPicPr>
        <p:blipFill>
          <a:blip r:embed="rId1"/>
          <a:stretch/>
        </p:blipFill>
        <p:spPr>
          <a:xfrm>
            <a:off x="3581280" y="4419720"/>
            <a:ext cx="2514600" cy="187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\Houba\Škola-výuka\morfologie\19a_kryt_soubory\slide0116_image478.jpg"/>
          <p:cNvPicPr/>
          <p:nvPr/>
        </p:nvPicPr>
        <p:blipFill>
          <a:blip r:embed="rId2"/>
          <a:stretch/>
        </p:blipFill>
        <p:spPr>
          <a:xfrm>
            <a:off x="1022400" y="4898880"/>
            <a:ext cx="2514600" cy="139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C:\user\Houba\Škola-obrázky\morfologie\9_plod\euphorbia_lat.jpg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8"/>
          <p:cNvSpPr/>
          <p:nvPr/>
        </p:nvSpPr>
        <p:spPr>
          <a:xfrm>
            <a:off x="6292800" y="614052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EuphorbiaLat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19" descr="C:\user\Houba\Škola-obrázky\morfologie\9_plod\galium_aparine_plod.jpg"/>
          <p:cNvPicPr/>
          <p:nvPr/>
        </p:nvPicPr>
        <p:blipFill>
          <a:blip r:embed="rId4"/>
          <a:stretch/>
        </p:blipFill>
        <p:spPr>
          <a:xfrm>
            <a:off x="3581280" y="243828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0"/>
          <p:cNvSpPr/>
          <p:nvPr/>
        </p:nvSpPr>
        <p:spPr>
          <a:xfrm>
            <a:off x="3701880" y="4159080"/>
            <a:ext cx="24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GaliumAparPlod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21" descr="C:\user\Houba\Škola-obrázky\morfologie\9_plod\selinum_plody.jpg"/>
          <p:cNvPicPr/>
          <p:nvPr/>
        </p:nvPicPr>
        <p:blipFill>
          <a:blip r:embed="rId5"/>
          <a:stretch/>
        </p:blipFill>
        <p:spPr>
          <a:xfrm>
            <a:off x="6172200" y="45720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292800" y="217800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SelinumPlody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23" descr="C:\user\Houba\Škola-obrázky\morfologie\9_plod\acer_ginnala.jpg"/>
          <p:cNvPicPr/>
          <p:nvPr/>
        </p:nvPicPr>
        <p:blipFill>
          <a:blip r:embed="rId6"/>
          <a:stretch/>
        </p:blipFill>
        <p:spPr>
          <a:xfrm>
            <a:off x="3581280" y="45720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4"/>
          <p:cNvSpPr/>
          <p:nvPr/>
        </p:nvSpPr>
        <p:spPr>
          <a:xfrm>
            <a:off x="3701880" y="2178000"/>
            <a:ext cx="24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AcerGin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5" descr="C:\user\Houba\Škola-obrázky\morfologie\9_plod\geranium_rob.jpg"/>
          <p:cNvPicPr/>
          <p:nvPr/>
        </p:nvPicPr>
        <p:blipFill>
          <a:blip r:embed="rId7"/>
          <a:stretch/>
        </p:blipFill>
        <p:spPr>
          <a:xfrm>
            <a:off x="6172200" y="243828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6"/>
          <p:cNvSpPr/>
          <p:nvPr/>
        </p:nvSpPr>
        <p:spPr>
          <a:xfrm>
            <a:off x="6292800" y="415908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EuphorbiaLat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3581280" y="457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cer ginna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6172200" y="457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elin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3581280" y="2438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alium apar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6172200" y="2438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eranium robertian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6172200" y="44197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uphorbi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1011240" y="4930920"/>
            <a:ext cx="144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Mal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38672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C:\user\Houba\Škola-výuka\morfologie\19a_kryt_soubory\slide0129_image481.jpg"/>
          <p:cNvPicPr/>
          <p:nvPr/>
        </p:nvPicPr>
        <p:blipFill>
          <a:blip r:embed="rId1"/>
          <a:srcRect l="0" t="3549" r="0" b="7097"/>
          <a:stretch/>
        </p:blipFill>
        <p:spPr>
          <a:xfrm>
            <a:off x="2133720" y="457200"/>
            <a:ext cx="2442960" cy="1708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user\Houba\Škola-výuka\morfologie\19a_kryt_soubory\slide0128_image471.jpg"/>
          <p:cNvPicPr/>
          <p:nvPr/>
        </p:nvPicPr>
        <p:blipFill>
          <a:blip r:embed="rId2"/>
          <a:srcRect l="0" t="2147" r="0" b="10733"/>
          <a:stretch/>
        </p:blipFill>
        <p:spPr>
          <a:xfrm>
            <a:off x="4686480" y="457200"/>
            <a:ext cx="2108160" cy="170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user\Houba\Škola-výuka\morfologie\19a_kryt_soubory\slide0126_image465.jpg"/>
          <p:cNvPicPr/>
          <p:nvPr/>
        </p:nvPicPr>
        <p:blipFill>
          <a:blip r:embed="rId3"/>
          <a:srcRect l="0" t="12880" r="22198" b="0"/>
          <a:stretch/>
        </p:blipFill>
        <p:spPr>
          <a:xfrm>
            <a:off x="6900840" y="457200"/>
            <a:ext cx="178452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1"/>
          <p:cNvSpPr/>
          <p:nvPr/>
        </p:nvSpPr>
        <p:spPr>
          <a:xfrm>
            <a:off x="2133720" y="2220840"/>
            <a:ext cx="668628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d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lámav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a zralosti dělí na jednosemenné část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ozlamují se i části z jednotlivých plodolist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se dělí napříč plodolis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dvozen z jednoplodolistového plodu (obvykle lusku, případně tobolky), který se za zralosti zaškrcuje a rozpadá na jednosemenné dí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891480" y="457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ithospermum arvense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vrd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111400" y="457200"/>
            <a:ext cx="25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aphanus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               (dvoj)str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14" descr="C:\user\Houba\Škola-obrázky\morfologie\9_plod\securigera_varia_plod.jpg"/>
          <p:cNvPicPr/>
          <p:nvPr/>
        </p:nvPicPr>
        <p:blipFill>
          <a:blip r:embed="rId4"/>
          <a:srcRect l="28123" t="3748" r="36559" b="41246"/>
          <a:stretch/>
        </p:blipFill>
        <p:spPr>
          <a:xfrm>
            <a:off x="446040" y="457200"/>
            <a:ext cx="1587600" cy="3710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457200" y="4572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ecurigera      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ruk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v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670280" y="457200"/>
            <a:ext cx="218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amiaceae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vrd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69800" y="3797280"/>
            <a:ext cx="1600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aterials/fotogalerie-nahledy.ph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?family=Fabaceae&amp;name=Rosida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61800" y="425592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rd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oraginaceae, Lam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vzniká rozpadem plodolistů na poloviny, z dvouplodolist. gynecea vznikají 4 pl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9" descr="C:\user\Houba\Škola-obrázky\morfologie\9_plod\castanea_sativa_sdruzene_plodenstvi.jpg"/>
          <p:cNvPicPr/>
          <p:nvPr/>
        </p:nvPicPr>
        <p:blipFill>
          <a:blip r:embed="rId5"/>
          <a:srcRect l="1969" t="0" r="1969" b="0"/>
          <a:stretch/>
        </p:blipFill>
        <p:spPr>
          <a:xfrm>
            <a:off x="6477120" y="4721400"/>
            <a:ext cx="2197080" cy="17143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0"/>
          <p:cNvSpPr/>
          <p:nvPr/>
        </p:nvSpPr>
        <p:spPr>
          <a:xfrm>
            <a:off x="6591240" y="62611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foto.php?923_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1" descr="Ficus diversifolia_01_KRR"/>
          <p:cNvPicPr/>
          <p:nvPr/>
        </p:nvPicPr>
        <p:blipFill>
          <a:blip r:embed="rId6"/>
          <a:srcRect l="0" t="11782" r="0" b="0"/>
          <a:stretch/>
        </p:blipFill>
        <p:spPr>
          <a:xfrm>
            <a:off x="5072040" y="4719600"/>
            <a:ext cx="1295280" cy="1717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2"/>
          <p:cNvSpPr/>
          <p:nvPr/>
        </p:nvSpPr>
        <p:spPr>
          <a:xfrm>
            <a:off x="361800" y="5029200"/>
            <a:ext cx="4743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loden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je soubor plodů z 1 květenstv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družená ploden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ají uzavřením plodů v pevné číšce (nažky buku, kaštanu) nebo srůstem se zdužnatělým květ. lůžkem č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kov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ást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ykoniu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ík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5079960" y="4724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icus car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6477120" y="4724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stanea sati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95960" y="6172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řez sykoni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2108160" y="3657600"/>
            <a:ext cx="6705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dy je odlišován dvojstruk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 z dvouplodolistového plodu (šešu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rassic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334800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478800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7072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9056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61800" y="380880"/>
            <a:ext cx="84582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í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í plod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ů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a sem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semena se mohou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v plodu i samostat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vrtávání semen do země pomocí hygroskopických pohybů (pumpava, kavy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odou, typické pro vodní rostliny, jeji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mena vyd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3" descr="C:\user\Houba\Škola-obrázky\morfologie\9_plod\impatiens_gland_tobolka_pukla.jpg"/>
          <p:cNvPicPr/>
          <p:nvPr/>
        </p:nvPicPr>
        <p:blipFill>
          <a:blip r:embed="rId1"/>
          <a:srcRect l="8595" t="5724" r="0" b="5724"/>
          <a:stretch/>
        </p:blipFill>
        <p:spPr>
          <a:xfrm>
            <a:off x="5410080" y="870120"/>
            <a:ext cx="3284640" cy="2387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61800" y="79380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asp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ecný termín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t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(spora, semeno, plod, fragment rost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, atd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astními sil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y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 příklad – netýkavk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y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m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íky nestejné hygroskop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sti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 v 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n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l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b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y více propustné pro vodu 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nají =&gt; rozpor v na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í z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í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jde k protržení obalu pl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náhlém pro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je semeno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y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l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465880" y="3075120"/>
            <a:ext cx="32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ImpatiensGlTobolkaPukl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227640" y="87012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Impatiens glandulif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7" descr="C:\user\Houba\Škola-výuka\morfologie\19a_kryt_soubory\slide0143_image517.jpg"/>
          <p:cNvPicPr/>
          <p:nvPr/>
        </p:nvPicPr>
        <p:blipFill>
          <a:blip r:embed="rId2"/>
          <a:stretch/>
        </p:blipFill>
        <p:spPr>
          <a:xfrm>
            <a:off x="3276720" y="4168800"/>
            <a:ext cx="2412720" cy="1873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C:\user\Houba\Škola-výuka\morfologie\19a_kryt_soubory\slide0143_image519.jpg"/>
          <p:cNvPicPr/>
          <p:nvPr/>
        </p:nvPicPr>
        <p:blipFill>
          <a:blip r:embed="rId3"/>
          <a:srcRect l="0" t="6567" r="0" b="6567"/>
          <a:stretch/>
        </p:blipFill>
        <p:spPr>
          <a:xfrm>
            <a:off x="5791320" y="4168800"/>
            <a:ext cx="2895480" cy="1873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61800" y="3949560"/>
            <a:ext cx="28958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életrvající pobyt ve v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způsobení: mošničky (ostřice), vzdušné vaky na semenech (leknín), „plovací“ pletiva, množství mezibuněčných prostor (kosatec, kokos, viz obr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603680" y="55738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Iris pseudacor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226200" y="41911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ocos nucif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61800" y="6127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ou hydrochorie je i „vyklepání“ semen kapkami deště (např. peníze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508720" y="98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34800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916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916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364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5293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810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3"/>
          <p:cNvSpPr/>
          <p:nvPr/>
        </p:nvSpPr>
        <p:spPr>
          <a:xfrm>
            <a:off x="361800" y="762120"/>
            <a:ext cx="5334120" cy="16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étací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z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mý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ter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érovité přívěsky (plamének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hlupy na semenech apo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ídlaté plody (nažky bříz, javorů, jilm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usiči“ – kývání rostliny větrem, vypadávání semen (má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361800" y="380880"/>
            <a:ext cx="8458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em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pomo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vykle mno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h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ma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3" descr="C:\user\Houba\Škola-obrázky\morfologie\9_plod\tragopogon_plod_blesk.jpg"/>
          <p:cNvPicPr/>
          <p:nvPr/>
        </p:nvPicPr>
        <p:blipFill>
          <a:blip r:embed="rId1"/>
          <a:stretch/>
        </p:blipFill>
        <p:spPr>
          <a:xfrm>
            <a:off x="3276720" y="220968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3225960" y="3645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bf.jcu.cz/morfologie/TragopogonPlodBlesk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C:\user\Houba\Škola-výuka\morfologie\19a_kryt_soubory\slide0142_image507.jpg"/>
          <p:cNvPicPr/>
          <p:nvPr/>
        </p:nvPicPr>
        <p:blipFill>
          <a:blip r:embed="rId2"/>
          <a:stretch/>
        </p:blipFill>
        <p:spPr>
          <a:xfrm>
            <a:off x="457200" y="4367160"/>
            <a:ext cx="2133720" cy="1990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\Houba\Škola-výuka\morfologie\19a_kryt_soubory\slide0142_image511.jpg"/>
          <p:cNvPicPr/>
          <p:nvPr/>
        </p:nvPicPr>
        <p:blipFill>
          <a:blip r:embed="rId3"/>
          <a:srcRect l="14764" t="13126" r="24609" b="32811"/>
          <a:stretch/>
        </p:blipFill>
        <p:spPr>
          <a:xfrm>
            <a:off x="457200" y="250524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C:\user\Houba\Škola-výuka\morfologie\19a_kryt_soubory\slide0142_image513.jpg"/>
          <p:cNvPicPr/>
          <p:nvPr/>
        </p:nvPicPr>
        <p:blipFill>
          <a:blip r:embed="rId4"/>
          <a:stretch/>
        </p:blipFill>
        <p:spPr>
          <a:xfrm>
            <a:off x="5715000" y="8380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C:\user\Houba\Škola-obrázky\morfologie\9_plod\eryngium_campestre.jpg"/>
          <p:cNvPicPr/>
          <p:nvPr/>
        </p:nvPicPr>
        <p:blipFill>
          <a:blip r:embed="rId5"/>
          <a:stretch/>
        </p:blipFill>
        <p:spPr>
          <a:xfrm>
            <a:off x="5715000" y="3352680"/>
            <a:ext cx="2971800" cy="197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5524560" y="5140440"/>
            <a:ext cx="320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sci.muni.cz/botany/rotreklova/bot_exkurze/Stranska/eryng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11" descr="C:\user\Houba\Škola-obrázky\morfologie\9_plod\betula_nazky_svetlo.jpg"/>
          <p:cNvPicPr/>
          <p:nvPr/>
        </p:nvPicPr>
        <p:blipFill>
          <a:blip r:embed="rId6"/>
          <a:srcRect l="12891" t="17180" r="12891" b="0"/>
          <a:stretch/>
        </p:blipFill>
        <p:spPr>
          <a:xfrm>
            <a:off x="2755800" y="4002120"/>
            <a:ext cx="2805120" cy="2349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2698920" y="6172200"/>
            <a:ext cx="289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BetulaNazkySvetlo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5638680" y="5334120"/>
            <a:ext cx="3200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pní běžci“ – po dozrání jsou suché rostliny odlomeny a neseny větrem =&gt; cestou trousí sem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248520" y="2984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rambe tat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7620120" y="47242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ryngium campes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457200" y="4013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lematis vitalb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082960" y="2133720"/>
            <a:ext cx="1447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ragopogo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124080" y="40132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Betul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85928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7308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1908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7556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61800" y="380880"/>
            <a:ext cx="8458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vrchu těl 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3" descr="galiapa5"/>
          <p:cNvPicPr/>
          <p:nvPr/>
        </p:nvPicPr>
        <p:blipFill>
          <a:blip r:embed="rId1"/>
          <a:srcRect l="36122" t="15639" r="36702" b="32582"/>
          <a:stretch/>
        </p:blipFill>
        <p:spPr>
          <a:xfrm>
            <a:off x="3200400" y="838080"/>
            <a:ext cx="15033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67b"/>
          <p:cNvPicPr/>
          <p:nvPr/>
        </p:nvPicPr>
        <p:blipFill>
          <a:blip r:embed="rId2"/>
          <a:stretch/>
        </p:blipFill>
        <p:spPr>
          <a:xfrm>
            <a:off x="4795920" y="838080"/>
            <a:ext cx="13572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:\Documents and Settings\Hrouda\Dokumenty\S_Obrazky\Morfologie\9_plod\kotvicnik_ostnity_plod.jpg"/>
          <p:cNvPicPr/>
          <p:nvPr/>
        </p:nvPicPr>
        <p:blipFill>
          <a:blip r:embed="rId3"/>
          <a:srcRect l="3935" t="0" r="3935" b="0"/>
          <a:stretch/>
        </p:blipFill>
        <p:spPr>
          <a:xfrm>
            <a:off x="6248520" y="838080"/>
            <a:ext cx="2361960" cy="1900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80880" y="762120"/>
            <a:ext cx="274320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zo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y, ostén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semenech, plodech či zákrovních listenech (lopuch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 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ycení na povrchu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nit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ena vodní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noh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 pe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ních ptá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553080" y="444600"/>
            <a:ext cx="21337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tvičník pozemní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ribulus terrestri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 – celý plod se zabodává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 kopy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3187800" y="838080"/>
            <a:ext cx="15238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vízel přít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alium apar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6477120" y="2571840"/>
            <a:ext cx="220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botanika.wendys.cz/slovnik/heslo.php?95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11" descr="C:\Documents and Settings\Hrouda\Dokumenty\S_Obrazky\Morfologie\9_plod\myrmekochorie_ant_seed.jpg"/>
          <p:cNvPicPr/>
          <p:nvPr/>
        </p:nvPicPr>
        <p:blipFill>
          <a:blip r:embed="rId4"/>
          <a:stretch/>
        </p:blipFill>
        <p:spPr>
          <a:xfrm>
            <a:off x="6603840" y="4267080"/>
            <a:ext cx="2008440" cy="2227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2"/>
          <p:cNvSpPr/>
          <p:nvPr/>
        </p:nvSpPr>
        <p:spPr>
          <a:xfrm>
            <a:off x="6445080" y="4229280"/>
            <a:ext cx="2248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denotaportfolio.blackhydra.com/antSeed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15" descr="C:\Documents and Settings\Hrouda\Dokumenty\S_Obrazky\Morfologie\9_plod\corydalis_cava_elaiosom.jpg"/>
          <p:cNvPicPr/>
          <p:nvPr/>
        </p:nvPicPr>
        <p:blipFill>
          <a:blip r:embed="rId5"/>
          <a:srcRect l="0" t="16271" r="0" b="0"/>
          <a:stretch/>
        </p:blipFill>
        <p:spPr>
          <a:xfrm>
            <a:off x="4299120" y="5378400"/>
            <a:ext cx="2209680" cy="11192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4"/>
          <p:cNvSpPr/>
          <p:nvPr/>
        </p:nvSpPr>
        <p:spPr>
          <a:xfrm>
            <a:off x="3981600" y="53402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ruhr-uni-bochum.de/boga/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Corydalis_cava_Foto3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17" descr="C:\Documents and Settings\Hrouda\Dokumenty\S_Obrazky\Morfologie\9_plod\endozoochorie_beerenleiste.gif"/>
          <p:cNvPicPr/>
          <p:nvPr/>
        </p:nvPicPr>
        <p:blipFill>
          <a:blip r:embed="rId6"/>
          <a:stretch/>
        </p:blipFill>
        <p:spPr>
          <a:xfrm>
            <a:off x="380880" y="3048120"/>
            <a:ext cx="1157400" cy="3504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C:\Documents and Settings\Hrouda\Dokumenty\S_Obrazky\Morfologie\9_plod\endozoochorie_fruechte.jpg"/>
          <p:cNvPicPr/>
          <p:nvPr/>
        </p:nvPicPr>
        <p:blipFill>
          <a:blip r:embed="rId7"/>
          <a:srcRect l="0" t="3156" r="0" b="6293"/>
          <a:stretch/>
        </p:blipFill>
        <p:spPr>
          <a:xfrm>
            <a:off x="3200400" y="2819520"/>
            <a:ext cx="5410080" cy="1384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9"/>
          <p:cNvSpPr/>
          <p:nvPr/>
        </p:nvSpPr>
        <p:spPr>
          <a:xfrm>
            <a:off x="1828800" y="444492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yrmek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ší vý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ky na seme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adně pl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ba karunku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elaiosomy (tuková tělís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828800" y="5334120"/>
            <a:ext cx="2514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trop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zásluh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888840" y="3048120"/>
            <a:ext cx="2210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zooch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nzum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obul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ckovi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říšky, 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4235400" y="606420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elaios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ymnivky duté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orydalis c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6248520" y="277488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www.suz-mitte.de/angebote/thema-beeren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586728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622764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01552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55887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61800" y="380880"/>
            <a:ext cx="8458200" cy="60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ktický význam květů, plodů a s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rava pro člověk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 složkou lidské potravy a zdrojem výživy jsou semena obilnin (resp. plody, vzhledem ke srůstu oplodí a osemení v obilkách, ale hlavní zásoby jsou v endosperm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ena bobovitých rostlin (luštěniny, též krmivo pro zvíř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oce – plody dužnaté, ale i „suché“ (různé typy ořechů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lenina – taktéž plody nebo dužnatá květenství (květák či brokol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í – sušená poupata (hřebíček), plody (paprika, pepř, kmín, anýz, vanilk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roviny pro výrobu nápojů či pochutin – plody (chmel, vinná réva), semena (kávovník, kakaovní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rava pro včely, zdroj cukerných látek v nektari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 olejů – semena (řepka, hořčice, slunečnice), plody (oliv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 léčiv – květy (heřmánek, lípa, divizna), plody (má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 textilních vláken (osemení bavlníku, oplodí kokos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 vonných silic pro parfumerii (poupata, květ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korativní využití – okrasné rost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ahradní, pokojové, skleníkov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61800" y="380880"/>
            <a:ext cx="84582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pokarpní pl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z nesrostlých plodolistů; tvoří se jednotlivě nebo v souplod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puk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tvírají se v době zralosti, bývají suché a obvykle vícesemenn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chýř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považován za vývojově původní typ, otvírá se na břišním šv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0" descr="C:\user\Houba\Škola-výuka\morfologie\19a_kryt_soubory\slide0102_image395.jpg"/>
          <p:cNvPicPr/>
          <p:nvPr/>
        </p:nvPicPr>
        <p:blipFill>
          <a:blip r:embed="rId1"/>
          <a:stretch/>
        </p:blipFill>
        <p:spPr>
          <a:xfrm>
            <a:off x="457200" y="1905120"/>
            <a:ext cx="3327480" cy="218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C:\user\Houba\Škola-výuka\morfologie\19a_kryt_soubory\slide0131_image396.jpg"/>
          <p:cNvPicPr/>
          <p:nvPr/>
        </p:nvPicPr>
        <p:blipFill>
          <a:blip r:embed="rId2"/>
          <a:stretch/>
        </p:blipFill>
        <p:spPr>
          <a:xfrm>
            <a:off x="3875040" y="1905120"/>
            <a:ext cx="1828800" cy="2176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2"/>
          <p:cNvSpPr/>
          <p:nvPr/>
        </p:nvSpPr>
        <p:spPr>
          <a:xfrm>
            <a:off x="380880" y="5138640"/>
            <a:ext cx="29718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us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otvírá na břišním a hřbetním švu ve dvě chlopně (každá odpovídá polovině pův. plodolist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23" descr="C:\user\Houba\Škola-výuka\morfologie\19a_kryt_soubory\slide0104_image400.jpg"/>
          <p:cNvPicPr/>
          <p:nvPr/>
        </p:nvPicPr>
        <p:blipFill>
          <a:blip r:embed="rId3"/>
          <a:stretch/>
        </p:blipFill>
        <p:spPr>
          <a:xfrm>
            <a:off x="3505320" y="4191120"/>
            <a:ext cx="174600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C:\user\Houba\Škola-obrázky\morfologie\9_plod\trollius_souplodi_mechyrku.jpg"/>
          <p:cNvPicPr/>
          <p:nvPr/>
        </p:nvPicPr>
        <p:blipFill>
          <a:blip r:embed="rId4"/>
          <a:stretch/>
        </p:blipFill>
        <p:spPr>
          <a:xfrm>
            <a:off x="5791320" y="1905120"/>
            <a:ext cx="2895480" cy="217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C:\user\Houba\Škola-výuka\morfologie\19a_kryt_soubory\slide0122_image402.jpg"/>
          <p:cNvPicPr/>
          <p:nvPr/>
        </p:nvPicPr>
        <p:blipFill>
          <a:blip r:embed="rId5"/>
          <a:srcRect l="0" t="0" r="2426" b="0"/>
          <a:stretch/>
        </p:blipFill>
        <p:spPr>
          <a:xfrm>
            <a:off x="5334120" y="4191120"/>
            <a:ext cx="3346200" cy="197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C:\user\Houba\Škola-obrázky\morfologie\9_plod\cernohorsky_143_pukave_plody.JPG"/>
          <p:cNvPicPr/>
          <p:nvPr/>
        </p:nvPicPr>
        <p:blipFill>
          <a:blip r:embed="rId6"/>
          <a:srcRect l="0" t="47301" r="0" b="0"/>
          <a:stretch/>
        </p:blipFill>
        <p:spPr>
          <a:xfrm>
            <a:off x="1905120" y="4191120"/>
            <a:ext cx="1523880" cy="75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C:\user\Houba\Škola-obrázky\morfologie\9_plod\cernohorsky_143_pukave_plody.JPG"/>
          <p:cNvPicPr/>
          <p:nvPr/>
        </p:nvPicPr>
        <p:blipFill>
          <a:blip r:embed="rId7"/>
          <a:srcRect l="0" t="0" r="0" b="47301"/>
          <a:stretch/>
        </p:blipFill>
        <p:spPr>
          <a:xfrm>
            <a:off x="457200" y="4191120"/>
            <a:ext cx="152388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4876920"/>
            <a:ext cx="297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5867280" y="3886200"/>
            <a:ext cx="2895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Troliu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5715000" y="19051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ouplodí měchýřků upolínu nejvyššího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rollius altissim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4572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strožka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elphini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886200" y="1905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meřice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ellebor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3505320" y="57150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rách set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isum sativ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5334120" y="57578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dzemnice olejn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484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538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361800" y="380880"/>
            <a:ext cx="845820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nepuk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ůzné typy suché i dužnaté, jednosemenné i vícesemenn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plodolisto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ž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la zřejmě z měchýřku redukcí vajíček a otvírá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19" descr="C:\user\Houba\Škola-výuka\morfologie\19a_kryt_soubory\slide0022_image375.jpg"/>
          <p:cNvPicPr/>
          <p:nvPr/>
        </p:nvPicPr>
        <p:blipFill>
          <a:blip r:embed="rId1"/>
          <a:srcRect l="0" t="14958" r="0" b="14958"/>
          <a:stretch/>
        </p:blipFill>
        <p:spPr>
          <a:xfrm>
            <a:off x="457200" y="1165320"/>
            <a:ext cx="2819520" cy="1976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0"/>
          <p:cNvSpPr/>
          <p:nvPr/>
        </p:nvSpPr>
        <p:spPr>
          <a:xfrm>
            <a:off x="336600" y="1143000"/>
            <a:ext cx="29718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yskyřník plaziv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anunculus re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ouplodí jednosemenných nažek z apokarpních plodolist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21" descr="C:\user\Houba\Škola-obrázky\morfologie\9_plod\clematis_plody.jpg"/>
          <p:cNvPicPr/>
          <p:nvPr/>
        </p:nvPicPr>
        <p:blipFill>
          <a:blip r:embed="rId2"/>
          <a:stretch/>
        </p:blipFill>
        <p:spPr>
          <a:xfrm>
            <a:off x="3352680" y="1165320"/>
            <a:ext cx="2633760" cy="197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3657600" y="297180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ClematisPlody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3" descr="C:\user\Houba\Škola-obrázky\morfologie\9_plod\geum_plody.jpg"/>
          <p:cNvPicPr/>
          <p:nvPr/>
        </p:nvPicPr>
        <p:blipFill>
          <a:blip r:embed="rId3"/>
          <a:stretch/>
        </p:blipFill>
        <p:spPr>
          <a:xfrm>
            <a:off x="6064200" y="1165320"/>
            <a:ext cx="2633760" cy="1976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4"/>
          <p:cNvSpPr/>
          <p:nvPr/>
        </p:nvSpPr>
        <p:spPr>
          <a:xfrm>
            <a:off x="6367320" y="297180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Geum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198960" y="1143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ažky s chlupy plaménku -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lemat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954760" y="11430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ažky s háčky kuklíku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e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7826400" y="1393920"/>
            <a:ext cx="88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hlupy, háčky – doplňkové útvary napomá-hající anemo- či zoochor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358920" y="3211560"/>
            <a:ext cx="8458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- nebo vícesemen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z apokarpního gynecea dosti vzácn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9" descr="C:\user\Houba\Škola-výuka\morfologie\19a_kryt_soubory\slide0133_image434.jpg"/>
          <p:cNvPicPr/>
          <p:nvPr/>
        </p:nvPicPr>
        <p:blipFill>
          <a:blip r:embed="rId4"/>
          <a:stretch/>
        </p:blipFill>
        <p:spPr>
          <a:xfrm>
            <a:off x="457200" y="3657600"/>
            <a:ext cx="2814480" cy="2112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user\Houba\Škola-výuka\morfologie\19a_kryt_soubory\slide0113_image455.jpg"/>
          <p:cNvPicPr/>
          <p:nvPr/>
        </p:nvPicPr>
        <p:blipFill>
          <a:blip r:embed="rId5"/>
          <a:stretch/>
        </p:blipFill>
        <p:spPr>
          <a:xfrm>
            <a:off x="5867280" y="3657600"/>
            <a:ext cx="2819520" cy="211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user\Houba\Škola-výuka\morfologie\19a_kryt_soubory\slide0113_image457.jpg"/>
          <p:cNvPicPr/>
          <p:nvPr/>
        </p:nvPicPr>
        <p:blipFill>
          <a:blip r:embed="rId6"/>
          <a:stretch/>
        </p:blipFill>
        <p:spPr>
          <a:xfrm>
            <a:off x="3352680" y="3657600"/>
            <a:ext cx="2494080" cy="2112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2"/>
          <p:cNvSpPr/>
          <p:nvPr/>
        </p:nvSpPr>
        <p:spPr>
          <a:xfrm>
            <a:off x="358920" y="584028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ckov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jednosemenný plod s vícevrstevným oplodím: blanitý exokarp, dužnatý mezokarp a sklerenchymatický endokarp („pecka“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57200" y="36576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obule samorostlíku klasnatého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ctaea spic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3352680" y="36576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eckovice meruň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483000" y="54864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rmeniaca vulga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53964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31708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45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148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\Houba\Škola-obrázky\morfologie\9_plod\cernohorsky_148_ruze_svraskala.JPG"/>
          <p:cNvPicPr/>
          <p:nvPr/>
        </p:nvPicPr>
        <p:blipFill>
          <a:blip r:embed="rId1"/>
          <a:stretch/>
        </p:blipFill>
        <p:spPr>
          <a:xfrm>
            <a:off x="2862360" y="2949480"/>
            <a:ext cx="2271600" cy="2438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6999120" y="4549680"/>
            <a:ext cx="1828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lv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pravý plod, srůst semeníků se zdužnatělou češul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8" descr="C:\user\Houba\Škola-výuka\morfologie\19a_kryt_soubory\slide0107_image484.jpg"/>
          <p:cNvPicPr/>
          <p:nvPr/>
        </p:nvPicPr>
        <p:blipFill>
          <a:blip r:embed="rId2"/>
          <a:stretch/>
        </p:blipFill>
        <p:spPr>
          <a:xfrm>
            <a:off x="477720" y="43488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:\user\Houba\Škola-výuka\morfologie\19a_kryt_soubory\slide0124_image493.jpg"/>
          <p:cNvPicPr/>
          <p:nvPr/>
        </p:nvPicPr>
        <p:blipFill>
          <a:blip r:embed="rId3"/>
          <a:stretch/>
        </p:blipFill>
        <p:spPr>
          <a:xfrm>
            <a:off x="477720" y="294948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C:\user\Houba\Bordel\jahody_z_lasky.jpg"/>
          <p:cNvPicPr/>
          <p:nvPr/>
        </p:nvPicPr>
        <p:blipFill>
          <a:blip r:embed="rId4"/>
          <a:stretch/>
        </p:blipFill>
        <p:spPr>
          <a:xfrm>
            <a:off x="2862360" y="434880"/>
            <a:ext cx="2286000" cy="156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:\user\Houba\Škola-obrázky\morfologie\9_plod\cernohorsky_146_malvice.JPG"/>
          <p:cNvPicPr/>
          <p:nvPr/>
        </p:nvPicPr>
        <p:blipFill>
          <a:blip r:embed="rId5"/>
          <a:stretch/>
        </p:blipFill>
        <p:spPr>
          <a:xfrm>
            <a:off x="5246640" y="434880"/>
            <a:ext cx="3452760" cy="3909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\Houba\Škola-výuka\morfologie\19a_kryt_soubory\slide0117_image487.jpg"/>
          <p:cNvPicPr/>
          <p:nvPr/>
        </p:nvPicPr>
        <p:blipFill>
          <a:blip r:embed="rId6"/>
          <a:stretch/>
        </p:blipFill>
        <p:spPr>
          <a:xfrm>
            <a:off x="5246640" y="4419720"/>
            <a:ext cx="16988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69720" y="2035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plodí peckoviček (maliní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69720" y="4473720"/>
            <a:ext cx="244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šípe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nepravý plod, souplodí nažek uzavřené ve zdužnatělé češu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786040" y="2035080"/>
            <a:ext cx="246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plodí nažek na zdužnatělém květním lůžku (jahodní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216920" y="4191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 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8436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859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881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117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361800" y="380880"/>
            <a:ext cx="8458200" cy="17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nokarpní pl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ze srostlých plodolistů, mohou být i obdobných typů jako plody apokarp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puk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ze shrnout (v širším pojetí) pod označe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bo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ěkolik typ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ychav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uché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obo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ohou být synkarpní, parakarpní nebo lyzikarpní (podle gynece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1" descr="C:\user\Houba\Škola-výuka\morfologie\19a_kryt_soubory\slide0100_image411.jpg"/>
          <p:cNvPicPr/>
          <p:nvPr/>
        </p:nvPicPr>
        <p:blipFill>
          <a:blip r:embed="rId1"/>
          <a:stretch/>
        </p:blipFill>
        <p:spPr>
          <a:xfrm>
            <a:off x="2438280" y="4191120"/>
            <a:ext cx="249732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C:\user\Houba\Škola-obrázky\morfologie\9_plod\hypericum_plod.jpg"/>
          <p:cNvPicPr/>
          <p:nvPr/>
        </p:nvPicPr>
        <p:blipFill>
          <a:blip r:embed="rId2"/>
          <a:srcRect l="21486" t="22911" r="21486" b="22911"/>
          <a:stretch/>
        </p:blipFill>
        <p:spPr>
          <a:xfrm>
            <a:off x="5845320" y="2057400"/>
            <a:ext cx="284616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3"/>
          <p:cNvSpPr/>
          <p:nvPr/>
        </p:nvSpPr>
        <p:spPr>
          <a:xfrm>
            <a:off x="5735520" y="202392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HypericumPlod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4" descr="C:\user\Houba\Škola-výuka\morfologie\19a_kryt_soubory\slide0130_image413.jpg"/>
          <p:cNvPicPr/>
          <p:nvPr/>
        </p:nvPicPr>
        <p:blipFill>
          <a:blip r:embed="rId3"/>
          <a:srcRect l="0" t="38523" r="47118" b="15409"/>
          <a:stretch/>
        </p:blipFill>
        <p:spPr>
          <a:xfrm>
            <a:off x="457200" y="4191120"/>
            <a:ext cx="193500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C:\user\Houba\Škola-výuka\morfologie\19a_kryt_soubory\slide0183_image418.jpg"/>
          <p:cNvPicPr/>
          <p:nvPr/>
        </p:nvPicPr>
        <p:blipFill>
          <a:blip r:embed="rId4"/>
          <a:stretch/>
        </p:blipFill>
        <p:spPr>
          <a:xfrm>
            <a:off x="4984920" y="4191120"/>
            <a:ext cx="206532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C:\user\Houba\Škola-obrázky\morfologie\9_plod\hyoscyamus_tobolka_s_vickem.jpg"/>
          <p:cNvPicPr/>
          <p:nvPr/>
        </p:nvPicPr>
        <p:blipFill>
          <a:blip r:embed="rId5"/>
          <a:stretch/>
        </p:blipFill>
        <p:spPr>
          <a:xfrm>
            <a:off x="2438280" y="2057400"/>
            <a:ext cx="3355920" cy="204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7"/>
          <p:cNvSpPr/>
          <p:nvPr/>
        </p:nvSpPr>
        <p:spPr>
          <a:xfrm>
            <a:off x="361800" y="207972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vírají se v místě srůstu plodolistů (přehrádkosečné), ve středu plodol. (pouzdrosečné) nebo jinak – zuby, otvory, víčk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2590920" y="2023920"/>
            <a:ext cx="32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almediam.org/Equipo_Filabres/Frutos/pagina_003_4_frutos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7086600" y="4114800"/>
            <a:ext cx="175248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hoře zleva: tobolky s víčkem blínu, přehrádko-sečné t. třezalk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le zleva: pouzdrosečná t. kosatce, otvírání otvory u máku a zuby u knotovk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627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0630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2"/>
          <p:cNvSpPr/>
          <p:nvPr/>
        </p:nvSpPr>
        <p:spPr>
          <a:xfrm>
            <a:off x="361800" y="38088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užnaté tobo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ají oplodí dužnaté i za zralosti semen (více v tropech – např. karambola – ale i u nás: brslen, netýkav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7" descr="C:\user\Houba\Škola-obrázky\morfologie\9_plod\impatiens_glandulifera_pukajici_tobolka.jpg"/>
          <p:cNvPicPr/>
          <p:nvPr/>
        </p:nvPicPr>
        <p:blipFill>
          <a:blip r:embed="rId1"/>
          <a:srcRect l="4295" t="24340" r="4295" b="18609"/>
          <a:stretch/>
        </p:blipFill>
        <p:spPr>
          <a:xfrm>
            <a:off x="1947960" y="1066680"/>
            <a:ext cx="3524040" cy="165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C:\user\Houba\Škola-obrázky\morfologie\9_plod\brslen_evropsky_duznate_tobolky.jpg"/>
          <p:cNvPicPr/>
          <p:nvPr/>
        </p:nvPicPr>
        <p:blipFill>
          <a:blip r:embed="rId2"/>
          <a:srcRect l="12402" t="27165" r="19488" b="17716"/>
          <a:stretch/>
        </p:blipFill>
        <p:spPr>
          <a:xfrm>
            <a:off x="5562720" y="838080"/>
            <a:ext cx="3093840" cy="1881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0"/>
          <p:cNvSpPr/>
          <p:nvPr/>
        </p:nvSpPr>
        <p:spPr>
          <a:xfrm>
            <a:off x="2633760" y="2548080"/>
            <a:ext cx="289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ImpatiensGPukajiciTobolk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5519880" y="2548080"/>
            <a:ext cx="289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kytky/foto.php?638: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361800" y="2776680"/>
            <a:ext cx="8458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formou tobolky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eš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znikající z parakarpního dvouplodolisto-vého gynecea brukvovitých – charakterizuje ji přítomno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afrag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třední přehrádka placentálního původu), při jejímž okraji jsou uchycena semen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vírá se odtržením stěn zdola naho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33" descr="C:\user\Houba\Škola-výuka\morfologie\19a_kryt_soubory\slide0118_image420.jpg"/>
          <p:cNvPicPr/>
          <p:nvPr/>
        </p:nvPicPr>
        <p:blipFill>
          <a:blip r:embed="rId3"/>
          <a:stretch/>
        </p:blipFill>
        <p:spPr>
          <a:xfrm>
            <a:off x="4506840" y="3819600"/>
            <a:ext cx="4149720" cy="263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C:\user\Houba\Škola-výuka\morfologie\19a_kryt_soubory\slide0120_image422.jpg"/>
          <p:cNvPicPr/>
          <p:nvPr/>
        </p:nvPicPr>
        <p:blipFill>
          <a:blip r:embed="rId4"/>
          <a:stretch/>
        </p:blipFill>
        <p:spPr>
          <a:xfrm>
            <a:off x="1306440" y="4330800"/>
            <a:ext cx="3100320" cy="211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5"/>
          <p:cNvSpPr/>
          <p:nvPr/>
        </p:nvSpPr>
        <p:spPr>
          <a:xfrm>
            <a:off x="361800" y="3886200"/>
            <a:ext cx="4057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ešu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krátká šešule, zploštěl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mo na diafrag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361800" y="990720"/>
            <a:ext cx="154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užnaté tobolky: netýkavka žláznatá, brslen evropsk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361800" y="4255920"/>
            <a:ext cx="933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ešulky kokošky pastuší tobolky s diafrag-mou vytr-vávající po opadu stěn plo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61928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8388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682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94052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C:\user\Houba\Škola-výuka\morfologie\19a_kryt_soubory\slide0123_image382.jpg"/>
          <p:cNvPicPr/>
          <p:nvPr/>
        </p:nvPicPr>
        <p:blipFill>
          <a:blip r:embed="rId1"/>
          <a:srcRect l="0" t="2992" r="0" b="2992"/>
          <a:stretch/>
        </p:blipFill>
        <p:spPr>
          <a:xfrm>
            <a:off x="457200" y="1501920"/>
            <a:ext cx="2550960" cy="174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C:\user\Houba\Škola-výuka\morfologie\19a_kryt_soubory\slide0137_image383.jpg"/>
          <p:cNvPicPr/>
          <p:nvPr/>
        </p:nvPicPr>
        <p:blipFill>
          <a:blip r:embed="rId2"/>
          <a:srcRect l="0" t="10643" r="0" b="7981"/>
          <a:stretch/>
        </p:blipFill>
        <p:spPr>
          <a:xfrm>
            <a:off x="3151080" y="1501920"/>
            <a:ext cx="145584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C:\user\Houba\Škola-výuka\morfologie\19a_kryt_soubory\slide0137_image387.jpg"/>
          <p:cNvPicPr/>
          <p:nvPr/>
        </p:nvPicPr>
        <p:blipFill>
          <a:blip r:embed="rId3"/>
          <a:srcRect l="0" t="0" r="0" b="7560"/>
          <a:stretch/>
        </p:blipFill>
        <p:spPr>
          <a:xfrm>
            <a:off x="4735440" y="2187720"/>
            <a:ext cx="175284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C:\user\Houba\Škola-výuka\morfologie\19a_kryt_soubory\slide0137_image385.jpg"/>
          <p:cNvPicPr/>
          <p:nvPr/>
        </p:nvPicPr>
        <p:blipFill>
          <a:blip r:embed="rId4"/>
          <a:stretch/>
        </p:blipFill>
        <p:spPr>
          <a:xfrm>
            <a:off x="4735440" y="1197000"/>
            <a:ext cx="1752840" cy="1168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C:\user\Houba\Škola-výuka\morfologie\19a_kryt_soubory\slide0178_image391.jpg"/>
          <p:cNvPicPr/>
          <p:nvPr/>
        </p:nvPicPr>
        <p:blipFill>
          <a:blip r:embed="rId5"/>
          <a:stretch/>
        </p:blipFill>
        <p:spPr>
          <a:xfrm>
            <a:off x="6629400" y="2644920"/>
            <a:ext cx="1981080" cy="61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C:\user\Houba\Škola-výuka\morfologie\19a_kryt_soubory\slide0178_image392.jpg"/>
          <p:cNvPicPr/>
          <p:nvPr/>
        </p:nvPicPr>
        <p:blipFill>
          <a:blip r:embed="rId6"/>
          <a:stretch/>
        </p:blipFill>
        <p:spPr>
          <a:xfrm>
            <a:off x="6629400" y="1197000"/>
            <a:ext cx="1981080" cy="141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361800" y="380880"/>
            <a:ext cx="84582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y nepukav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ché plody jsou nažky a typy z nich odvozen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plodolisto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ž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tvoří u řady bylin (např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teraceae, Polygo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i dřev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etulaceae, Fag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6" descr="C:\user\Houba\Škola-výuka\morfologie\19a_kryt_soubory\slide0099_image403.jpg"/>
          <p:cNvPicPr/>
          <p:nvPr/>
        </p:nvPicPr>
        <p:blipFill>
          <a:blip r:embed="rId7"/>
          <a:srcRect l="4919" t="13126" r="14764" b="13126"/>
          <a:stretch/>
        </p:blipFill>
        <p:spPr>
          <a:xfrm>
            <a:off x="457200" y="3733920"/>
            <a:ext cx="3048120" cy="2098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C:\user\Houba\Škola-výuka\morfologie\19a_kryt_soubory\slide0139_image405.jpg"/>
          <p:cNvPicPr/>
          <p:nvPr/>
        </p:nvPicPr>
        <p:blipFill>
          <a:blip r:embed="rId8"/>
          <a:srcRect l="8448" t="59112" r="25344" b="5911"/>
          <a:stretch/>
        </p:blipFill>
        <p:spPr>
          <a:xfrm>
            <a:off x="5562720" y="3733920"/>
            <a:ext cx="2744640" cy="207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C:\user\Houba\Škola-výuka\morfologie\19a_kryt_soubory\slide0139_image407.jpg"/>
          <p:cNvPicPr/>
          <p:nvPr/>
        </p:nvPicPr>
        <p:blipFill>
          <a:blip r:embed="rId9"/>
          <a:srcRect l="8694" t="0" r="0" b="0"/>
          <a:stretch/>
        </p:blipFill>
        <p:spPr>
          <a:xfrm>
            <a:off x="7010280" y="5181480"/>
            <a:ext cx="1681200" cy="1266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C:\user\Houba\Škola-obrázky\morfologie\9_plod\corylus_orisek.jpg"/>
          <p:cNvPicPr/>
          <p:nvPr/>
        </p:nvPicPr>
        <p:blipFill>
          <a:blip r:embed="rId10"/>
          <a:stretch/>
        </p:blipFill>
        <p:spPr>
          <a:xfrm>
            <a:off x="2971800" y="5181480"/>
            <a:ext cx="1676520" cy="125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1"/>
          <p:cNvSpPr/>
          <p:nvPr/>
        </p:nvSpPr>
        <p:spPr>
          <a:xfrm>
            <a:off x="361800" y="3330720"/>
            <a:ext cx="840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žky slunečnice, dubu (s číškou, viz přeměny květního lůžka), křídlaté nažky habru a jasanu (přizpůsobení anemochori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4343400" y="629280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botanika.bf.jcu.cz/morfologie/CorylusOrisek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3603600" y="36352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říš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forma nažky s tvrdým oplodím, v němž je volně uloženo sem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4648320" y="586728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říšky lísky (s viditelným sklerifikovaným pletivem) a líp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752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9826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4"/>
          <p:cNvSpPr/>
          <p:nvPr/>
        </p:nvSpPr>
        <p:spPr>
          <a:xfrm>
            <a:off x="5605560" y="338040"/>
            <a:ext cx="32004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žky některých rostlin uzavír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o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zniklé přeměnou listenců (lebeda) nebo okvětních lístků (šťoví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ůstem oplodí s osemení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5" descr="C:\user\Houba\Škola-obrázky\morfologie\9_plod\atriplex_sagittata_krovky.jpg"/>
          <p:cNvPicPr/>
          <p:nvPr/>
        </p:nvPicPr>
        <p:blipFill>
          <a:blip r:embed="rId1"/>
          <a:srcRect l="0" t="17178" r="0" b="17178"/>
          <a:stretch/>
        </p:blipFill>
        <p:spPr>
          <a:xfrm>
            <a:off x="457200" y="457200"/>
            <a:ext cx="2514600" cy="1236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6"/>
          <p:cNvSpPr/>
          <p:nvPr/>
        </p:nvSpPr>
        <p:spPr>
          <a:xfrm>
            <a:off x="577800" y="152100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AtriplexSagitDet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7" descr="C:\user\Houba\Škola-obrázky\morfologie\9_plod\rumex_crispus_plod_krovky.jpg"/>
          <p:cNvPicPr/>
          <p:nvPr/>
        </p:nvPicPr>
        <p:blipFill>
          <a:blip r:embed="rId2"/>
          <a:srcRect l="15292" t="48103" r="15292" b="24052"/>
          <a:stretch/>
        </p:blipFill>
        <p:spPr>
          <a:xfrm>
            <a:off x="3048120" y="345960"/>
            <a:ext cx="2514600" cy="1344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8"/>
          <p:cNvSpPr/>
          <p:nvPr/>
        </p:nvSpPr>
        <p:spPr>
          <a:xfrm>
            <a:off x="2949480" y="1523880"/>
            <a:ext cx="24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RumexCrispPlod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9" descr="C:\user\Houba\Škola-výuka\morfologie\19a_kryt_soubory\slide0106_image409.jpg"/>
          <p:cNvPicPr/>
          <p:nvPr/>
        </p:nvPicPr>
        <p:blipFill>
          <a:blip r:embed="rId3"/>
          <a:stretch/>
        </p:blipFill>
        <p:spPr>
          <a:xfrm>
            <a:off x="2666880" y="175248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C:\user\Houba\Škola-obrázky\morfologie\9_plod\oves_hluchy.jpg"/>
          <p:cNvPicPr/>
          <p:nvPr/>
        </p:nvPicPr>
        <p:blipFill>
          <a:blip r:embed="rId4"/>
          <a:stretch/>
        </p:blipFill>
        <p:spPr>
          <a:xfrm>
            <a:off x="457200" y="1752480"/>
            <a:ext cx="212724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1" descr="C:\user\Houba\Škola-obrázky\morfologie\9_plod\cernohorsky_145_oresak_kralovsky.JPG"/>
          <p:cNvPicPr/>
          <p:nvPr/>
        </p:nvPicPr>
        <p:blipFill>
          <a:blip r:embed="rId5"/>
          <a:stretch/>
        </p:blipFill>
        <p:spPr>
          <a:xfrm>
            <a:off x="5105520" y="2438280"/>
            <a:ext cx="3590640" cy="408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2"/>
          <p:cNvSpPr/>
          <p:nvPr/>
        </p:nvSpPr>
        <p:spPr>
          <a:xfrm>
            <a:off x="5006880" y="1731960"/>
            <a:ext cx="38102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i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há nebo okoralá (obalená pluchami – ječmen, ove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3" descr="C:\user\Houba\Škola-výuka\morfologie\19a_kryt_soubory\slide0136_image463.jpg"/>
          <p:cNvPicPr/>
          <p:nvPr/>
        </p:nvPicPr>
        <p:blipFill>
          <a:blip r:embed="rId6"/>
          <a:stretch/>
        </p:blipFill>
        <p:spPr>
          <a:xfrm>
            <a:off x="2666880" y="3276720"/>
            <a:ext cx="2286000" cy="1690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4"/>
          <p:cNvSpPr/>
          <p:nvPr/>
        </p:nvSpPr>
        <p:spPr>
          <a:xfrm>
            <a:off x="361800" y="5029200"/>
            <a:ext cx="47246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užnaté plody jsou bobule a pecko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okarp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ckov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1 semenem (ořech, oliva) nebo více semeny (bezinky) mají shodné vrstvy s apokarpními – blanitý exokarp, dužnatý mezokarp, tvrdý endoka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5"/>
          <p:cNvSpPr/>
          <p:nvPr/>
        </p:nvSpPr>
        <p:spPr>
          <a:xfrm>
            <a:off x="457200" y="457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triplex sagitt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6"/>
          <p:cNvSpPr/>
          <p:nvPr/>
        </p:nvSpPr>
        <p:spPr>
          <a:xfrm>
            <a:off x="3048120" y="33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umex crisp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457200" y="17524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vena fat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4081320" y="2927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Zea m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4017960" y="33321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lea europ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387360" y="4673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naturfoto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oves-hluchy-fotografie-9128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5073480" y="2416320"/>
            <a:ext cx="73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39640" y="2060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478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862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9779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C:\user\Houba\Škola-obrázky\morfologie\9_plod\punica_granatum_plod.jpg"/>
          <p:cNvPicPr/>
          <p:nvPr/>
        </p:nvPicPr>
        <p:blipFill>
          <a:blip r:embed="rId1"/>
          <a:srcRect l="8595" t="0" r="4295" b="0"/>
          <a:stretch/>
        </p:blipFill>
        <p:spPr>
          <a:xfrm>
            <a:off x="457200" y="2711520"/>
            <a:ext cx="2408400" cy="2074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3124080" y="1371600"/>
            <a:ext cx="1143000" cy="1448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80880" y="380880"/>
            <a:ext cx="289584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vícesemenný plod s dužnatým oplodím s vnější blanito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slupkou“ (na rozdíl od peckovice nemá žádnou tvrdou vrstvu vně seme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C:\user\Houba\Škola-výuka\morfologie\19a_kryt_soubory\slide0112_image442.jpg"/>
          <p:cNvPicPr/>
          <p:nvPr/>
        </p:nvPicPr>
        <p:blipFill>
          <a:blip r:embed="rId2"/>
          <a:srcRect l="2805" t="0" r="2805" b="0"/>
          <a:stretch/>
        </p:blipFill>
        <p:spPr>
          <a:xfrm>
            <a:off x="7162920" y="338040"/>
            <a:ext cx="1601640" cy="1479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\Houba\Škola-výuka\morfologie\19a_kryt_soubory\slide0172_image448.jpg"/>
          <p:cNvPicPr/>
          <p:nvPr/>
        </p:nvPicPr>
        <p:blipFill>
          <a:blip r:embed="rId3"/>
          <a:stretch/>
        </p:blipFill>
        <p:spPr>
          <a:xfrm>
            <a:off x="3200400" y="457200"/>
            <a:ext cx="1992240" cy="227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user\Houba\Škola-obrázky\morfologie\9_plod\cernohorsky_147_grossularia_uva-.JPG"/>
          <p:cNvPicPr/>
          <p:nvPr/>
        </p:nvPicPr>
        <p:blipFill>
          <a:blip r:embed="rId4"/>
          <a:stretch/>
        </p:blipFill>
        <p:spPr>
          <a:xfrm>
            <a:off x="5334120" y="1905120"/>
            <a:ext cx="3429000" cy="2046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\Houba\Škola-obrázky\morfologie\9_plod\cernohorsky_144_paprika_rocni.JPG"/>
          <p:cNvPicPr/>
          <p:nvPr/>
        </p:nvPicPr>
        <p:blipFill>
          <a:blip r:embed="rId5"/>
          <a:stretch/>
        </p:blipFill>
        <p:spPr>
          <a:xfrm>
            <a:off x="5334120" y="40384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4822920" y="457200"/>
            <a:ext cx="1143000" cy="1448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3" descr="C:\user\Houba\Škola-výuka\morfologie\19a_kryt_soubory\slide0101_image436.jpg"/>
          <p:cNvPicPr/>
          <p:nvPr/>
        </p:nvPicPr>
        <p:blipFill>
          <a:blip r:embed="rId6"/>
          <a:srcRect l="1469" t="0" r="0" b="0"/>
          <a:stretch/>
        </p:blipFill>
        <p:spPr>
          <a:xfrm>
            <a:off x="4898880" y="338040"/>
            <a:ext cx="2178360" cy="148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user\Houba\Škola-výuka\morfologie\19a_kryt_soubory\slide0097_image449.jpg"/>
          <p:cNvPicPr/>
          <p:nvPr/>
        </p:nvPicPr>
        <p:blipFill>
          <a:blip r:embed="rId7"/>
          <a:srcRect l="0" t="0" r="7087" b="0"/>
          <a:stretch/>
        </p:blipFill>
        <p:spPr>
          <a:xfrm>
            <a:off x="457200" y="4883040"/>
            <a:ext cx="2406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2906640" y="2819520"/>
            <a:ext cx="272088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bul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anat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granát. jablko, semena s dužnatým osemení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ychavá bo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aprika, někde též jako dužnatá tobol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80880" y="4629240"/>
            <a:ext cx="263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botanika.bf.jcu.cz/morfologie/PunicaGranatumPlod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304920" y="2025720"/>
            <a:ext cx="2895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y bobulí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acciniaceae, Cucur-bitaceae, Solanaceae, Grossulariace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1438200" y="2492280"/>
            <a:ext cx="1524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unica grana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906640" y="4876920"/>
            <a:ext cx="243864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spe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itrusy) má oplodí rozlišené na barevné flavedo a bílé albedo; dužina je zbujelé ple-tivo vnitř. části oplod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826400" y="4038480"/>
            <a:ext cx="96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 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2843280" y="162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1740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uba</cp:lastModifiedBy>
  <dcterms:modified xsi:type="dcterms:W3CDTF">2020-10-10T17:44:19Z</dcterms:modified>
  <cp:revision>213</cp:revision>
  <dc:subject/>
  <dc:title>Prezentace aplikace PowerPoint</dc:title>
</cp:coreProperties>
</file>