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62AD-D33C-49E7-99BD-667F56E5152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56C7B-23D7-458C-A189-CEEB54B92AD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ED182-0BD7-4245-8E70-B96F018BB17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60B5-F845-4299-9F2F-7C9D7070422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4CEE-2860-456D-8D83-7B0C2960CAD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E774A-51DF-4848-8998-CE3A9461DDE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76A13-8F23-450A-AA60-8BB852B44E0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AB0D4-B66A-4DD6-A32B-41E6A206B83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D125D-5BDB-4E97-9006-9CEAA7C4A98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56F62-5B18-4313-BF75-B2490F03377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D0FD5-BF1B-4B79-B334-D74955FCF70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E798B-E9B9-4BB5-8D4B-9BAADCC5120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0B4C-338F-4284-A03F-3AB2A8C2963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CBBED-0C29-4E2C-ACAF-14A7B7BBED6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0A41-1D8D-4ACC-927B-9EB64B9B162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A61C0-1A31-4CB2-9269-81A702C11D1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73B7-6681-41F5-AC1B-41745CCAAF6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F013E-84E4-488D-9B04-E66366E262F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2A521-D9A8-4795-8F30-EAA58010D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01878-0734-4BE0-9A72-FFF0F6685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4767E-7C59-41DE-AFFD-AD79207B1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BB543-BDAF-4A15-94EF-7ECCFFFA8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B0014-6A5E-4091-9AE3-494C9B654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8577C-C104-438D-B382-60052CB47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4C17A-5739-43CF-A0D9-FBB8250C7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31635-3B29-444F-8F05-7B80D5158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B6E25-B99E-43A8-B09F-25EA974E5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7C06B-602D-48AC-8940-67E10A4CB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C839A-5F85-4100-89D1-287D802E9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AB941-E6B1-4BB3-A0B3-7F80985DB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25D67-17D6-494A-A67A-3B4B1E8F60CD}"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2-10-18T09:49:03Z</dcterms:modified>
  <cp:revision>175</cp:revision>
  <dc:subject/>
  <dc:title>Slide 1</dc:title>
</cp:coreProperties>
</file>