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91C96-2DBF-4E33-B5DC-4F527B813BC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36C48-F189-4D28-BEC9-CFE9125ACFA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C59B-5392-4EBC-A1E5-1FE3C5E0625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3152E-DBD5-4345-B41C-B7F83026ACD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8E26D-48B4-4019-A0EF-3CEB041FDF2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6E97B-A676-4698-B2D6-060951BAB75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6E706-D639-40F7-8840-4C522A1D194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0F516-E120-4D2E-8B94-B1F49FC8901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9303-BBFF-46B4-8ED2-0287B0A559A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8C3FB-A484-4682-A27A-ABA3C304055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6A9BD-4958-4DF6-93BC-1B8D0FF4980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EA750-F39C-4D24-9D07-7A95070F8D3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A21E-F89D-4D33-901F-BAE74C89ED0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DA73-8EA0-4B61-83A9-211566F35CE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95523-E1AC-4458-8D2C-576286EC14E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3C736-6257-4C8E-AB45-0D9B14CD05EE}"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CFC4C-8673-4982-A115-EE4A34490FE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7FA13-F3E5-478C-877F-DE8584EEEC4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3EBEB-A452-4A05-85CA-C3E857646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0DE85-138D-4DD3-8EBB-8D1C13A17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F92B9-2B48-48A1-BC56-665CAA4C9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3AAA4-D130-4D30-A3C7-6B5B5F651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8EE46-46E8-4045-8DD3-A22D6849FB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92EA1-74D5-4AA3-A7EF-44EF13687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69361-130C-450B-824B-96F0C2830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3BB88-2FFA-4DC7-BEAE-5ECA6019F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3AA50-497C-420E-9134-1705D9472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C3A1B-518B-46C1-BC5E-2C3345C12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DD096-8473-42E6-B730-8C465EA83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1E4D8-54DA-41FA-864A-2F93B06285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96DDE-6F51-4DD8-9559-680F2551FC37}"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2-10-18T09:49:03Z</dcterms:modified>
  <cp:revision>175</cp:revision>
  <dc:subject/>
  <dc:title>Slide 1</dc:title>
</cp:coreProperties>
</file>