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5371429"/>
        <c:axId val="37348966"/>
      </c:scatterChart>
      <c:valAx>
        <c:axId val="8537142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348966"/>
        <c:crosses val="autoZero"/>
        <c:crossBetween val="midCat"/>
        <c:majorUnit val="1"/>
      </c:valAx>
      <c:valAx>
        <c:axId val="37348966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37142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89797280"/>
        <c:axId val="20612714"/>
      </c:scatterChart>
      <c:valAx>
        <c:axId val="8979728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612714"/>
        <c:crosses val="autoZero"/>
        <c:crossBetween val="midCat"/>
        <c:majorUnit val="1"/>
      </c:valAx>
      <c:valAx>
        <c:axId val="2061271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79728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8488800"/>
        <c:axId val="29444796"/>
      </c:scatterChart>
      <c:valAx>
        <c:axId val="8488800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9444796"/>
        <c:crosses val="autoZero"/>
        <c:crossBetween val="midCat"/>
        <c:majorUnit val="2"/>
        <c:minorUnit val="1"/>
      </c:valAx>
      <c:valAx>
        <c:axId val="2944479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488800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3025151"/>
        <c:axId val="48962707"/>
      </c:scatterChart>
      <c:valAx>
        <c:axId val="7302515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962707"/>
        <c:crosses val="autoZero"/>
        <c:crossBetween val="midCat"/>
        <c:majorUnit val="2"/>
        <c:minorUnit val="0.05"/>
      </c:valAx>
      <c:valAx>
        <c:axId val="4896270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02515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6228502"/>
        <c:axId val="88717126"/>
      </c:scatterChart>
      <c:valAx>
        <c:axId val="3622850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717126"/>
        <c:crosses val="autoZero"/>
        <c:crossBetween val="midCat"/>
        <c:majorUnit val="2"/>
        <c:minorUnit val="0.05"/>
      </c:valAx>
      <c:valAx>
        <c:axId val="8871712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622850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6308477"/>
        <c:axId val="47033267"/>
      </c:scatterChart>
      <c:valAx>
        <c:axId val="9630847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033267"/>
        <c:crosses val="autoZero"/>
        <c:crossBetween val="midCat"/>
        <c:majorUnit val="2"/>
        <c:minorUnit val="0.05"/>
      </c:valAx>
      <c:valAx>
        <c:axId val="4703326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630847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3547050"/>
        <c:axId val="38681568"/>
      </c:scatterChart>
      <c:valAx>
        <c:axId val="9354705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681568"/>
        <c:crosses val="autoZero"/>
        <c:crossBetween val="midCat"/>
        <c:majorUnit val="2"/>
      </c:valAx>
      <c:valAx>
        <c:axId val="3868156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54705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2389757"/>
        <c:axId val="64142095"/>
      </c:scatterChart>
      <c:valAx>
        <c:axId val="8238975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142095"/>
        <c:crosses val="autoZero"/>
        <c:crossBetween val="midCat"/>
        <c:majorUnit val="2"/>
      </c:valAx>
      <c:valAx>
        <c:axId val="6414209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38975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29506451"/>
        <c:axId val="81520065"/>
      </c:scatterChart>
      <c:valAx>
        <c:axId val="2950645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520065"/>
        <c:crosses val="autoZero"/>
        <c:crossBetween val="midCat"/>
        <c:majorUnit val="2"/>
        <c:minorUnit val="0.05"/>
      </c:valAx>
      <c:valAx>
        <c:axId val="8152006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50645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C2A96F-0B91-4DC9-8E85-4928E80AD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A654C2-9229-4EB7-9670-6100C3D309D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1ADA04-943B-4ED9-8E1A-6B3D66CAC0B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111C6A-875D-417D-8E3F-2777CC55E15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