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3938642"/>
        <c:axId val="91611430"/>
      </c:scatterChart>
      <c:valAx>
        <c:axId val="9393864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1611430"/>
        <c:crosses val="autoZero"/>
        <c:crossBetween val="midCat"/>
        <c:majorUnit val="1"/>
      </c:valAx>
      <c:valAx>
        <c:axId val="91611430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93864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13479938"/>
        <c:axId val="47961147"/>
      </c:scatterChart>
      <c:valAx>
        <c:axId val="13479938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961147"/>
        <c:crosses val="autoZero"/>
        <c:crossBetween val="midCat"/>
        <c:majorUnit val="1"/>
      </c:valAx>
      <c:valAx>
        <c:axId val="47961147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3479938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55332030"/>
        <c:axId val="91032347"/>
      </c:scatterChart>
      <c:valAx>
        <c:axId val="55332030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1032347"/>
        <c:crosses val="autoZero"/>
        <c:crossBetween val="midCat"/>
        <c:majorUnit val="2"/>
        <c:minorUnit val="1"/>
      </c:valAx>
      <c:valAx>
        <c:axId val="91032347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5332030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11066102"/>
        <c:axId val="94416542"/>
      </c:scatterChart>
      <c:valAx>
        <c:axId val="1106610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4416542"/>
        <c:crosses val="autoZero"/>
        <c:crossBetween val="midCat"/>
        <c:majorUnit val="2"/>
        <c:minorUnit val="0.05"/>
      </c:valAx>
      <c:valAx>
        <c:axId val="9441654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106610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77842812"/>
        <c:axId val="66928401"/>
      </c:scatterChart>
      <c:valAx>
        <c:axId val="7784281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6928401"/>
        <c:crosses val="autoZero"/>
        <c:crossBetween val="midCat"/>
        <c:majorUnit val="2"/>
        <c:minorUnit val="0.05"/>
      </c:valAx>
      <c:valAx>
        <c:axId val="6692840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784281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63939599"/>
        <c:axId val="76464346"/>
      </c:scatterChart>
      <c:valAx>
        <c:axId val="6393959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464346"/>
        <c:crosses val="autoZero"/>
        <c:crossBetween val="midCat"/>
        <c:majorUnit val="2"/>
        <c:minorUnit val="0.05"/>
      </c:valAx>
      <c:valAx>
        <c:axId val="7646434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93959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9589828"/>
        <c:axId val="44729044"/>
      </c:scatterChart>
      <c:valAx>
        <c:axId val="5958982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4729044"/>
        <c:crosses val="autoZero"/>
        <c:crossBetween val="midCat"/>
        <c:majorUnit val="2"/>
      </c:valAx>
      <c:valAx>
        <c:axId val="4472904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9589828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5713976"/>
        <c:axId val="54539935"/>
      </c:scatterChart>
      <c:valAx>
        <c:axId val="8571397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539935"/>
        <c:crosses val="autoZero"/>
        <c:crossBetween val="midCat"/>
        <c:majorUnit val="2"/>
      </c:valAx>
      <c:valAx>
        <c:axId val="5453993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5713976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79466891"/>
        <c:axId val="85832679"/>
      </c:scatterChart>
      <c:valAx>
        <c:axId val="7946689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5832679"/>
        <c:crosses val="autoZero"/>
        <c:crossBetween val="midCat"/>
        <c:majorUnit val="2"/>
        <c:minorUnit val="0.05"/>
      </c:valAx>
      <c:valAx>
        <c:axId val="8583267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946689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12AF3E-6F85-42BE-A55C-8A4797BC7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7E0D57-8E5F-4EDD-9023-562F114F4CC6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4C5DD8-85D7-41AB-866E-175C895B0AEB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6A6273-8535-46DA-A5A8-BFA663486715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