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1365987"/>
        <c:axId val="64687122"/>
      </c:scatterChart>
      <c:valAx>
        <c:axId val="8136598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687122"/>
        <c:crosses val="autoZero"/>
        <c:crossBetween val="midCat"/>
        <c:majorUnit val="1"/>
      </c:valAx>
      <c:valAx>
        <c:axId val="64687122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36598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95729779"/>
        <c:axId val="56870398"/>
      </c:scatterChart>
      <c:valAx>
        <c:axId val="9572977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870398"/>
        <c:crosses val="autoZero"/>
        <c:crossBetween val="midCat"/>
        <c:majorUnit val="1"/>
      </c:valAx>
      <c:valAx>
        <c:axId val="56870398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72977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84693063"/>
        <c:axId val="89890563"/>
      </c:scatterChart>
      <c:valAx>
        <c:axId val="84693063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9890563"/>
        <c:crosses val="autoZero"/>
        <c:crossBetween val="midCat"/>
        <c:majorUnit val="2"/>
        <c:minorUnit val="1"/>
      </c:valAx>
      <c:valAx>
        <c:axId val="8989056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4693063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0400418"/>
        <c:axId val="282328"/>
      </c:scatterChart>
      <c:valAx>
        <c:axId val="1040041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2328"/>
        <c:crosses val="autoZero"/>
        <c:crossBetween val="midCat"/>
        <c:majorUnit val="2"/>
        <c:minorUnit val="0.05"/>
      </c:valAx>
      <c:valAx>
        <c:axId val="28232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40041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41474836"/>
        <c:axId val="3353795"/>
      </c:scatterChart>
      <c:valAx>
        <c:axId val="4147483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53795"/>
        <c:crosses val="autoZero"/>
        <c:crossBetween val="midCat"/>
        <c:majorUnit val="2"/>
        <c:minorUnit val="0.05"/>
      </c:valAx>
      <c:valAx>
        <c:axId val="335379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47483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8816397"/>
        <c:axId val="84980414"/>
      </c:scatterChart>
      <c:valAx>
        <c:axId val="2881639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980414"/>
        <c:crosses val="autoZero"/>
        <c:crossBetween val="midCat"/>
        <c:majorUnit val="2"/>
        <c:minorUnit val="0.05"/>
      </c:valAx>
      <c:valAx>
        <c:axId val="8498041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81639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8978588"/>
        <c:axId val="89220746"/>
      </c:scatterChart>
      <c:valAx>
        <c:axId val="889785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220746"/>
        <c:crosses val="autoZero"/>
        <c:crossBetween val="midCat"/>
        <c:majorUnit val="2"/>
      </c:valAx>
      <c:valAx>
        <c:axId val="8922074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97858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3892003"/>
        <c:axId val="57112141"/>
      </c:scatterChart>
      <c:valAx>
        <c:axId val="9389200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112141"/>
        <c:crosses val="autoZero"/>
        <c:crossBetween val="midCat"/>
        <c:majorUnit val="2"/>
      </c:valAx>
      <c:valAx>
        <c:axId val="5711214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89200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1706327"/>
        <c:axId val="90587987"/>
      </c:scatterChart>
      <c:valAx>
        <c:axId val="8170632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587987"/>
        <c:crosses val="autoZero"/>
        <c:crossBetween val="midCat"/>
        <c:majorUnit val="2"/>
        <c:minorUnit val="0.05"/>
      </c:valAx>
      <c:valAx>
        <c:axId val="9058798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70632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EAF69D-9835-4F03-AD31-30A853A85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C3C98A-4AF5-457F-B6D7-A4403426295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DEF7D6-D29F-49AC-9C8E-5DB072CB83D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42244B-D4D6-41F2-92E2-0F1D3C9FD70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