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99A8-7A80-451D-B674-683B82D47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3ED1-699A-433F-BFD0-01DF16D28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A2EF-3DC6-478F-8DB3-C44D39BE1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8C41-B18D-4E93-9972-32FDA7234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5D9AD-F588-4BDB-ACDB-761AD0A4E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906EA-DB67-4799-946F-F22D7C9DC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9A81D-00B2-42D5-A920-7B9955E32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00C95-96D5-4968-92D9-77C8FAAA8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1D04A-502E-4FFE-8EE7-23840B5B5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A9875-0FB1-4D4A-8E61-9300D8B3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DF2E7-E5DE-4E2C-8301-16FD2527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9C70-C009-4A50-A349-6C6E39DAC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D1539-EAD6-4F76-A7C1-3D0AE7AA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10904-E013-427B-8931-DD2C6880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62EEF-F85C-476E-8B7B-6EBA263EB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D2AA0-12FE-46B2-96B2-035D7EF8E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A5D60-9116-48BD-A79C-3921100DD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AD68-A804-4D58-BE70-98679458B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0C75-FFA3-4B87-8A99-CB5EA5D8C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05AE-19A7-4273-A63B-4D935DE2C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0EDD-FAB1-4060-9E47-025E8084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7825-C8EA-4F81-8202-7B78A270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A51D-512A-446A-B8A4-91C54219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AF49-9F9F-4908-B3E5-D5B9EB1C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1027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1028"/>
              <p:cNvSpPr/>
              <p:nvPr/>
            </p:nvSpPr>
            <p:spPr>
              <a:xfrm flipH="1">
                <a:off x="66600" y="-4680"/>
                <a:ext cx="976320" cy="683280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1029"/>
              <p:cNvSpPr/>
              <p:nvPr/>
            </p:nvSpPr>
            <p:spPr>
              <a:xfrm flipH="1">
                <a:off x="61200" y="169740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1030"/>
              <p:cNvSpPr/>
              <p:nvPr/>
            </p:nvSpPr>
            <p:spPr>
              <a:xfrm flipH="1">
                <a:off x="67320" y="1281240"/>
                <a:ext cx="976680" cy="5029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 flipH="1">
                <a:off x="67320" y="145800"/>
                <a:ext cx="976680" cy="302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1032"/>
              <p:cNvSpPr/>
              <p:nvPr/>
            </p:nvSpPr>
            <p:spPr>
              <a:xfrm flipH="1">
                <a:off x="61200" y="990000"/>
                <a:ext cx="976680" cy="3481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1033"/>
              <p:cNvSpPr/>
              <p:nvPr/>
            </p:nvSpPr>
            <p:spPr>
              <a:xfrm flipH="1">
                <a:off x="63000" y="679680"/>
                <a:ext cx="976680" cy="4327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34"/>
              <p:cNvSpPr/>
              <p:nvPr/>
            </p:nvSpPr>
            <p:spPr>
              <a:xfrm flipH="1">
                <a:off x="64440" y="37188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 flipH="1">
                <a:off x="47520" y="3930120"/>
                <a:ext cx="976320" cy="4993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 flipH="1">
                <a:off x="52920" y="353664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 flipH="1">
                <a:off x="53280" y="2397960"/>
                <a:ext cx="976680" cy="3042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 flipH="1">
                <a:off x="52920" y="3228480"/>
                <a:ext cx="976680" cy="34704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 flipH="1">
                <a:off x="52920" y="293148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040"/>
              <p:cNvSpPr/>
              <p:nvPr/>
            </p:nvSpPr>
            <p:spPr>
              <a:xfrm flipH="1">
                <a:off x="53280" y="261576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041"/>
              <p:cNvSpPr/>
              <p:nvPr/>
            </p:nvSpPr>
            <p:spPr>
              <a:xfrm flipH="1">
                <a:off x="48240" y="4962600"/>
                <a:ext cx="976680" cy="4993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042"/>
              <p:cNvSpPr/>
              <p:nvPr/>
            </p:nvSpPr>
            <p:spPr>
              <a:xfrm flipH="1">
                <a:off x="55440" y="4547520"/>
                <a:ext cx="976320" cy="5029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043"/>
              <p:cNvSpPr/>
              <p:nvPr/>
            </p:nvSpPr>
            <p:spPr>
              <a:xfrm flipH="1">
                <a:off x="47520" y="5654520"/>
                <a:ext cx="976320" cy="30276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1044"/>
              <p:cNvSpPr/>
              <p:nvPr/>
            </p:nvSpPr>
            <p:spPr>
              <a:xfrm flipH="1" rot="16200000">
                <a:off x="361440" y="6191280"/>
                <a:ext cx="345960" cy="9781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78120"/>
                  <a:gd name="textAreaBottom" fmla="*/ 978480 h 9781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1045"/>
              <p:cNvSpPr/>
              <p:nvPr/>
            </p:nvSpPr>
            <p:spPr>
              <a:xfrm flipH="1">
                <a:off x="40680" y="619344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1046"/>
              <p:cNvSpPr/>
              <p:nvPr/>
            </p:nvSpPr>
            <p:spPr>
              <a:xfrm flipH="1">
                <a:off x="40680" y="588312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1047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487BD-A0DA-4D18-AC43-0A906590802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360"/>
              <a:chOff x="-3240" y="2479680"/>
              <a:chExt cx="9146880" cy="10173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480" y="2786760"/>
                <a:ext cx="990360" cy="40428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53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6040" y="2643480"/>
                <a:ext cx="990360" cy="6681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0840" y="2650320"/>
                <a:ext cx="990720" cy="667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840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42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60E7C-63F7-41B4-8DB1-89E8890E45C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ndat.org/photo-6593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0628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4e3b30"/>
                </a:solidFill>
                <a:latin typeface="Times New Roman"/>
              </a:rPr>
              <a:t>Matematický milionář </a:t>
            </a:r>
            <a:endParaRPr b="0" lang="en-US" sz="7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57360" y="5857920"/>
            <a:ext cx="21430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oto: a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12384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4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3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1">
            <a:hlinkClick r:id="rId1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12"/>
          <p:cNvSpPr/>
          <p:nvPr/>
        </p:nvSpPr>
        <p:spPr>
          <a:xfrm>
            <a:off x="0" y="63961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Dostupné z Metodického portálu www.rvp.cz, ISSN: 1802-4785, financovaného z ESF a státního rozpočtu ČR.</a:t>
            </a:r>
            <a:br>
              <a:rPr sz="1200"/>
            </a:b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Provozováno Výzkumným ústavem pedagogickým v Pra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7" descr="C:\Katka\Studium Vysoká škola\Foto disertačka\100OLYMP\Pocity z matematiky-fotky\11a - Kopie.JPG"/>
          <p:cNvPicPr/>
          <p:nvPr/>
        </p:nvPicPr>
        <p:blipFill>
          <a:blip r:embed="rId2"/>
          <a:stretch/>
        </p:blipFill>
        <p:spPr>
          <a:xfrm>
            <a:off x="2786040" y="3571920"/>
            <a:ext cx="328608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89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1857240" y="257184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9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3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4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4"/>
          <a:stretch/>
        </p:blipFill>
        <p:spPr>
          <a:xfrm>
            <a:off x="1857240" y="2571840"/>
            <a:ext cx="525600" cy="571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6786720" y="328284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6786720" y="328608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8:41:51Z</dcterms:created>
  <dc:creator>Kateřina Crháková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1-31T19:46:09Z</dcterms:modified>
  <cp:revision>44</cp:revision>
  <dc:subject/>
  <dc:title>Matematický milionář</dc:title>
</cp:coreProperties>
</file>