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8176073"/>
        <c:axId val="59025921"/>
      </c:scatterChart>
      <c:valAx>
        <c:axId val="8817607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025921"/>
        <c:crosses val="autoZero"/>
        <c:crossBetween val="midCat"/>
        <c:majorUnit val="1"/>
      </c:valAx>
      <c:valAx>
        <c:axId val="5902592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17607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5405688"/>
        <c:axId val="20257439"/>
      </c:scatterChart>
      <c:valAx>
        <c:axId val="6540568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257439"/>
        <c:crosses val="autoZero"/>
        <c:crossBetween val="midCat"/>
        <c:majorUnit val="1"/>
      </c:valAx>
      <c:valAx>
        <c:axId val="2025743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40568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3286003"/>
        <c:axId val="14478923"/>
      </c:scatterChart>
      <c:valAx>
        <c:axId val="93286003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4478923"/>
        <c:crosses val="autoZero"/>
        <c:crossBetween val="midCat"/>
        <c:majorUnit val="2"/>
        <c:minorUnit val="1"/>
      </c:valAx>
      <c:valAx>
        <c:axId val="1447892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3286003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6846115"/>
        <c:axId val="57898162"/>
      </c:scatterChart>
      <c:valAx>
        <c:axId val="1684611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898162"/>
        <c:crosses val="autoZero"/>
        <c:crossBetween val="midCat"/>
        <c:majorUnit val="2"/>
        <c:minorUnit val="0.05"/>
      </c:valAx>
      <c:valAx>
        <c:axId val="5789816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84611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9242740"/>
        <c:axId val="8861649"/>
      </c:scatterChart>
      <c:valAx>
        <c:axId val="7924274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61649"/>
        <c:crosses val="autoZero"/>
        <c:crossBetween val="midCat"/>
        <c:majorUnit val="2"/>
        <c:minorUnit val="0.05"/>
      </c:valAx>
      <c:valAx>
        <c:axId val="886164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24274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394653"/>
        <c:axId val="92220937"/>
      </c:scatterChart>
      <c:valAx>
        <c:axId val="43946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220937"/>
        <c:crosses val="autoZero"/>
        <c:crossBetween val="midCat"/>
        <c:majorUnit val="2"/>
        <c:minorUnit val="0.05"/>
      </c:valAx>
      <c:valAx>
        <c:axId val="9222093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9465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7220305"/>
        <c:axId val="34347052"/>
      </c:scatterChart>
      <c:valAx>
        <c:axId val="472203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347052"/>
        <c:crosses val="autoZero"/>
        <c:crossBetween val="midCat"/>
        <c:majorUnit val="2"/>
      </c:valAx>
      <c:valAx>
        <c:axId val="3434705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22030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8846549"/>
        <c:axId val="81110405"/>
      </c:scatterChart>
      <c:valAx>
        <c:axId val="7884654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110405"/>
        <c:crosses val="autoZero"/>
        <c:crossBetween val="midCat"/>
        <c:majorUnit val="2"/>
      </c:valAx>
      <c:valAx>
        <c:axId val="8111040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84654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2831953"/>
        <c:axId val="11378267"/>
      </c:scatterChart>
      <c:valAx>
        <c:axId val="228319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378267"/>
        <c:crosses val="autoZero"/>
        <c:crossBetween val="midCat"/>
        <c:majorUnit val="2"/>
        <c:minorUnit val="0.05"/>
      </c:valAx>
      <c:valAx>
        <c:axId val="1137826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83195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E2739-3A58-428B-B36B-BCE293407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C1DE8C-CCD4-4BE6-B716-B5259AF05DC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64C358-A473-4391-BA00-C066803D562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BB7B77-3E70-4BFF-A00E-E34C8E1E1E6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