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0527710"/>
        <c:axId val="45143975"/>
      </c:scatterChart>
      <c:valAx>
        <c:axId val="6052771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143975"/>
        <c:crosses val="autoZero"/>
        <c:crossBetween val="midCat"/>
        <c:majorUnit val="1"/>
      </c:valAx>
      <c:valAx>
        <c:axId val="4514397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52771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3843927"/>
        <c:axId val="44326900"/>
      </c:scatterChart>
      <c:valAx>
        <c:axId val="83843927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326900"/>
        <c:crosses val="autoZero"/>
        <c:crossBetween val="midCat"/>
        <c:majorUnit val="1"/>
      </c:valAx>
      <c:valAx>
        <c:axId val="4432690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843927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9831429"/>
        <c:axId val="68372750"/>
      </c:scatterChart>
      <c:valAx>
        <c:axId val="8983142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8372750"/>
        <c:crosses val="autoZero"/>
        <c:crossBetween val="midCat"/>
        <c:majorUnit val="2"/>
        <c:minorUnit val="1"/>
      </c:valAx>
      <c:valAx>
        <c:axId val="6837275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83142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4390596"/>
        <c:axId val="7125067"/>
      </c:scatterChart>
      <c:valAx>
        <c:axId val="643905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25067"/>
        <c:crosses val="autoZero"/>
        <c:crossBetween val="midCat"/>
        <c:majorUnit val="2"/>
        <c:minorUnit val="0.05"/>
      </c:valAx>
      <c:valAx>
        <c:axId val="71250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39059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81573740"/>
        <c:axId val="87966029"/>
      </c:scatterChart>
      <c:valAx>
        <c:axId val="815737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966029"/>
        <c:crosses val="autoZero"/>
        <c:crossBetween val="midCat"/>
        <c:majorUnit val="2"/>
        <c:minorUnit val="0.05"/>
      </c:valAx>
      <c:valAx>
        <c:axId val="8796602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5737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9520430"/>
        <c:axId val="82060912"/>
      </c:scatterChart>
      <c:valAx>
        <c:axId val="895204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060912"/>
        <c:crosses val="autoZero"/>
        <c:crossBetween val="midCat"/>
        <c:majorUnit val="2"/>
        <c:minorUnit val="0.05"/>
      </c:valAx>
      <c:valAx>
        <c:axId val="8206091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52043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9908068"/>
        <c:axId val="83239341"/>
      </c:scatterChart>
      <c:valAx>
        <c:axId val="599080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239341"/>
        <c:crosses val="autoZero"/>
        <c:crossBetween val="midCat"/>
        <c:majorUnit val="2"/>
      </c:valAx>
      <c:valAx>
        <c:axId val="8323934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90806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6149095"/>
        <c:axId val="54671313"/>
      </c:scatterChart>
      <c:valAx>
        <c:axId val="4614909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671313"/>
        <c:crosses val="autoZero"/>
        <c:crossBetween val="midCat"/>
        <c:majorUnit val="2"/>
      </c:valAx>
      <c:valAx>
        <c:axId val="5467131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14909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1960423"/>
        <c:axId val="28898169"/>
      </c:scatterChart>
      <c:valAx>
        <c:axId val="1196042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898169"/>
        <c:crosses val="autoZero"/>
        <c:crossBetween val="midCat"/>
        <c:majorUnit val="2"/>
        <c:minorUnit val="0.05"/>
      </c:valAx>
      <c:valAx>
        <c:axId val="2889816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96042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0EDF9B-B972-4C4B-8FA3-8A0053829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C2354-085D-45D5-9F03-A1B2FF34875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C67B2D-27EE-4B52-9C89-B8E44BE9076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6FA19C-4257-46E3-ABF3-FE8377ABCB7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