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7295709"/>
        <c:axId val="99540686"/>
      </c:scatterChart>
      <c:valAx>
        <c:axId val="8729570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540686"/>
        <c:crosses val="autoZero"/>
        <c:crossBetween val="midCat"/>
        <c:majorUnit val="1"/>
      </c:valAx>
      <c:valAx>
        <c:axId val="9954068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29570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1710479"/>
        <c:axId val="55339761"/>
      </c:scatterChart>
      <c:valAx>
        <c:axId val="5171047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339761"/>
        <c:crosses val="autoZero"/>
        <c:crossBetween val="midCat"/>
        <c:majorUnit val="1"/>
      </c:valAx>
      <c:valAx>
        <c:axId val="5533976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71047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0388630"/>
        <c:axId val="94891001"/>
      </c:scatterChart>
      <c:valAx>
        <c:axId val="3038863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4891001"/>
        <c:crosses val="autoZero"/>
        <c:crossBetween val="midCat"/>
        <c:majorUnit val="2"/>
        <c:minorUnit val="1"/>
      </c:valAx>
      <c:valAx>
        <c:axId val="9489100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038863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4251437"/>
        <c:axId val="94152885"/>
      </c:scatterChart>
      <c:valAx>
        <c:axId val="342514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152885"/>
        <c:crosses val="autoZero"/>
        <c:crossBetween val="midCat"/>
        <c:majorUnit val="2"/>
        <c:minorUnit val="0.05"/>
      </c:valAx>
      <c:valAx>
        <c:axId val="9415288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2514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4226976"/>
        <c:axId val="41258609"/>
      </c:scatterChart>
      <c:valAx>
        <c:axId val="942269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258609"/>
        <c:crosses val="autoZero"/>
        <c:crossBetween val="midCat"/>
        <c:majorUnit val="2"/>
        <c:minorUnit val="0.05"/>
      </c:valAx>
      <c:valAx>
        <c:axId val="4125860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22697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3988720"/>
        <c:axId val="21971050"/>
      </c:scatterChart>
      <c:valAx>
        <c:axId val="339887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971050"/>
        <c:crosses val="autoZero"/>
        <c:crossBetween val="midCat"/>
        <c:majorUnit val="2"/>
        <c:minorUnit val="0.05"/>
      </c:valAx>
      <c:valAx>
        <c:axId val="2197105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9887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5864097"/>
        <c:axId val="47650039"/>
      </c:scatterChart>
      <c:valAx>
        <c:axId val="958640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650039"/>
        <c:crosses val="autoZero"/>
        <c:crossBetween val="midCat"/>
        <c:majorUnit val="2"/>
      </c:valAx>
      <c:valAx>
        <c:axId val="4765003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86409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0749004"/>
        <c:axId val="79124320"/>
      </c:scatterChart>
      <c:valAx>
        <c:axId val="5074900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124320"/>
        <c:crosses val="autoZero"/>
        <c:crossBetween val="midCat"/>
        <c:majorUnit val="2"/>
      </c:valAx>
      <c:valAx>
        <c:axId val="7912432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74900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62675608"/>
        <c:axId val="63177015"/>
      </c:scatterChart>
      <c:valAx>
        <c:axId val="626756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177015"/>
        <c:crosses val="autoZero"/>
        <c:crossBetween val="midCat"/>
        <c:majorUnit val="2"/>
        <c:minorUnit val="0.05"/>
      </c:valAx>
      <c:valAx>
        <c:axId val="6317701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67560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18EBA-9B83-4A4A-83B6-EF2B6D87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780D95-3745-4202-BAFA-8F6404EB728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37BC83-B0AF-4712-B9F7-CEE5D6879CD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4D3CD1-B52E-4DE9-8DA9-8295FEEBD43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