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2674036"/>
        <c:axId val="16967322"/>
      </c:scatterChart>
      <c:valAx>
        <c:axId val="9267403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967322"/>
        <c:crosses val="autoZero"/>
        <c:crossBetween val="midCat"/>
        <c:majorUnit val="1"/>
      </c:valAx>
      <c:valAx>
        <c:axId val="16967322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67403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14830735"/>
        <c:axId val="91440316"/>
      </c:scatterChart>
      <c:valAx>
        <c:axId val="1483073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440316"/>
        <c:crosses val="autoZero"/>
        <c:crossBetween val="midCat"/>
        <c:majorUnit val="1"/>
      </c:valAx>
      <c:valAx>
        <c:axId val="91440316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83073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6819977"/>
        <c:axId val="72121288"/>
      </c:scatterChart>
      <c:valAx>
        <c:axId val="1681997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2121288"/>
        <c:crosses val="autoZero"/>
        <c:crossBetween val="midCat"/>
        <c:majorUnit val="2"/>
        <c:minorUnit val="1"/>
      </c:valAx>
      <c:valAx>
        <c:axId val="72121288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681997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5389130"/>
        <c:axId val="77756907"/>
      </c:scatterChart>
      <c:valAx>
        <c:axId val="9538913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756907"/>
        <c:crosses val="autoZero"/>
        <c:crossBetween val="midCat"/>
        <c:majorUnit val="2"/>
        <c:minorUnit val="0.05"/>
      </c:valAx>
      <c:valAx>
        <c:axId val="7775690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38913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9945162"/>
        <c:axId val="65419166"/>
      </c:scatterChart>
      <c:valAx>
        <c:axId val="3994516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419166"/>
        <c:crosses val="autoZero"/>
        <c:crossBetween val="midCat"/>
        <c:majorUnit val="2"/>
        <c:minorUnit val="0.05"/>
      </c:valAx>
      <c:valAx>
        <c:axId val="6541916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94516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7569405"/>
        <c:axId val="56240708"/>
      </c:scatterChart>
      <c:valAx>
        <c:axId val="4756940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240708"/>
        <c:crosses val="autoZero"/>
        <c:crossBetween val="midCat"/>
        <c:majorUnit val="2"/>
        <c:minorUnit val="0.05"/>
      </c:valAx>
      <c:valAx>
        <c:axId val="5624070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56940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1799620"/>
        <c:axId val="14212293"/>
      </c:scatterChart>
      <c:valAx>
        <c:axId val="317996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212293"/>
        <c:crosses val="autoZero"/>
        <c:crossBetween val="midCat"/>
        <c:majorUnit val="2"/>
      </c:valAx>
      <c:valAx>
        <c:axId val="1421229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79962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083078"/>
        <c:axId val="17380874"/>
      </c:scatterChart>
      <c:valAx>
        <c:axId val="808307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380874"/>
        <c:crosses val="autoZero"/>
        <c:crossBetween val="midCat"/>
        <c:majorUnit val="2"/>
      </c:valAx>
      <c:valAx>
        <c:axId val="1738087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8307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9052557"/>
        <c:axId val="75299550"/>
      </c:scatterChart>
      <c:valAx>
        <c:axId val="390525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299550"/>
        <c:crosses val="autoZero"/>
        <c:crossBetween val="midCat"/>
        <c:majorUnit val="2"/>
        <c:minorUnit val="0.05"/>
      </c:valAx>
      <c:valAx>
        <c:axId val="7529955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05255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1D67BB-0FE5-43DA-9D82-B4C4EAB67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49F75A-7990-4089-B606-19EF97EF2F2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AFBF56-6258-4823-AB4C-805135BA57D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CBD299-A4B6-432F-9FD7-A0C3734ADC0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