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jpeg" ContentType="image/jpeg"/>
  <Override PartName="/ppt/media/image14.jpeg" ContentType="image/jpe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519-84DF-4F1D-B3DC-8C2CA5C7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F7F-52FE-4302-8B24-A2EEF4D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086-A5EA-448D-9333-EEBC1A01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1BD-BDB8-4898-8E72-82CF7EEE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19F-1E40-42F2-8CFE-28E581CA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3B2-AEF4-4CBA-9778-6AF2911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B69-6FF3-495F-9D8F-10076B46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A65-8C59-4F38-837E-9961BB2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326-122F-441B-97B3-CA412418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A57-CBD6-40B9-B246-2991701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D22-C2A3-4BAB-8A99-B436601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5DF-0B50-4037-BBAC-6B42F142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EC62-D2EC-46E0-908F-5CD1D23FF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ermodynamická soust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C:\Documents and Settings\Sopoušek\Dokumenty\Obrázky\system - planeta země.jpg"/>
          <p:cNvPicPr/>
          <p:nvPr/>
        </p:nvPicPr>
        <p:blipFill>
          <a:blip r:embed="rId1"/>
          <a:stretch/>
        </p:blipFill>
        <p:spPr>
          <a:xfrm>
            <a:off x="838080" y="2362320"/>
            <a:ext cx="3581640" cy="32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Sopoušek\Dokumenty\Obrázky\Thermodynamic_System.png"/>
          <p:cNvPicPr/>
          <p:nvPr/>
        </p:nvPicPr>
        <p:blipFill>
          <a:blip r:embed="rId2"/>
          <a:stretch/>
        </p:blipFill>
        <p:spPr>
          <a:xfrm>
            <a:off x="5334120" y="2666880"/>
            <a:ext cx="3352680" cy="277812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1547640" y="1773360"/>
            <a:ext cx="266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tečný syst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5508720" y="1800360"/>
            <a:ext cx="26636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roxim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1"/>
          <p:cNvSpPr/>
          <p:nvPr/>
        </p:nvSpPr>
        <p:spPr>
          <a:xfrm>
            <a:off x="539640" y="6308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ideo Lávová lampa: https://www.youtube.com/watch?v=XwUEo67Gn0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bilita sousta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C:\Documents and Settings\Sopoušek\Dokumenty\Obrázky\metastable GE.jpg"/>
          <p:cNvPicPr/>
          <p:nvPr/>
        </p:nvPicPr>
        <p:blipFill>
          <a:blip r:embed="rId1"/>
          <a:stretch/>
        </p:blipFill>
        <p:spPr>
          <a:xfrm>
            <a:off x="533520" y="4192560"/>
            <a:ext cx="3886200" cy="2170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57200" y="1905120"/>
            <a:ext cx="2819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bilní (globální minim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tastabilní (lokální minim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rovnovážný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C:\Documents and Settings\Sopoušek\Dokumenty\Obrázky\equilibrium mechanické.jpg"/>
          <p:cNvPicPr/>
          <p:nvPr/>
        </p:nvPicPr>
        <p:blipFill>
          <a:blip r:embed="rId2"/>
          <a:stretch/>
        </p:blipFill>
        <p:spPr>
          <a:xfrm>
            <a:off x="4952880" y="1752480"/>
            <a:ext cx="3365640" cy="4038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5029200" y="60199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tevřená soustava – potenciální 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ovnová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24160" cy="376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140360" y="900000"/>
            <a:ext cx="4362120" cy="16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4540320" y="2708280"/>
            <a:ext cx="152388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4238640" y="3211560"/>
            <a:ext cx="429588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1"/>
          <p:cNvSpPr/>
          <p:nvPr/>
        </p:nvSpPr>
        <p:spPr>
          <a:xfrm>
            <a:off x="539640" y="6021360"/>
            <a:ext cx="424836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movolný děj – platí nerovnost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teré v rovnováze přejdou k rovno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ovéPole 1"/>
          <p:cNvSpPr/>
          <p:nvPr/>
        </p:nvSpPr>
        <p:spPr>
          <a:xfrm>
            <a:off x="324000" y="4059360"/>
            <a:ext cx="12236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tro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ovéPole 8"/>
          <p:cNvSpPr/>
          <p:nvPr/>
        </p:nvSpPr>
        <p:spPr>
          <a:xfrm>
            <a:off x="6107040" y="1353960"/>
            <a:ext cx="1224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elm. 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Přímá spojnice se šipkou 3"/>
          <p:cNvCxnSpPr/>
          <p:nvPr/>
        </p:nvCxnSpPr>
        <p:spPr>
          <a:xfrm>
            <a:off x="7812000" y="1197000"/>
            <a:ext cx="216720" cy="7927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27" name="TextovéPole 11"/>
          <p:cNvSpPr/>
          <p:nvPr/>
        </p:nvSpPr>
        <p:spPr>
          <a:xfrm>
            <a:off x="7281720" y="4649760"/>
            <a:ext cx="1224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ibbs. 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371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zujte vybrané praktické příkl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C:\Documents and Settings\Sopoušek\Dokumenty\Obrázky\Oscilace kineticko potenc.jpg"/>
          <p:cNvPicPr/>
          <p:nvPr/>
        </p:nvPicPr>
        <p:blipFill>
          <a:blip r:embed="rId1"/>
          <a:stretch/>
        </p:blipFill>
        <p:spPr>
          <a:xfrm>
            <a:off x="533520" y="2133720"/>
            <a:ext cx="3886200" cy="3224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685800" y="5486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on zachování součtu potenciální a kinetické energie – ztráty třen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C:\Documents and Settings\Sopoušek\Dokumenty\Obrázky\pružina.jpg"/>
          <p:cNvPicPr/>
          <p:nvPr/>
        </p:nvPicPr>
        <p:blipFill>
          <a:blip r:embed="rId2"/>
          <a:stretch/>
        </p:blipFill>
        <p:spPr>
          <a:xfrm>
            <a:off x="4648320" y="2057400"/>
            <a:ext cx="4495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mické osci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file:///C:\DOCUME~1\SOPOUE~1\LOCALS~1\Temp\79c6669.tmp\img28637.PNG"/>
          <p:cNvPicPr/>
          <p:nvPr/>
        </p:nvPicPr>
        <p:blipFill>
          <a:blip r:embed="rId1"/>
          <a:stretch/>
        </p:blipFill>
        <p:spPr>
          <a:xfrm>
            <a:off x="457200" y="3962520"/>
            <a:ext cx="4038480" cy="2449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file:///C:\DOCUME~1\SOPOUE~1\LOCALS~1\Temp\79c677f.tmp\img24747.PNG"/>
          <p:cNvPicPr/>
          <p:nvPr/>
        </p:nvPicPr>
        <p:blipFill>
          <a:blip r:embed="rId2"/>
          <a:stretch/>
        </p:blipFill>
        <p:spPr>
          <a:xfrm>
            <a:off x="4876920" y="1371600"/>
            <a:ext cx="3733560" cy="252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file:///C:\DOCUME~1\SOPOUE~1\LOCALS~1\Temp\79c66ec.tmp\img32589.PNG"/>
          <p:cNvPicPr/>
          <p:nvPr/>
        </p:nvPicPr>
        <p:blipFill>
          <a:blip r:embed="rId3"/>
          <a:stretch/>
        </p:blipFill>
        <p:spPr>
          <a:xfrm>
            <a:off x="4876920" y="2971800"/>
            <a:ext cx="3733560" cy="2246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Sopoušek\Dokumenty\Obrázky\BZ-oscilace1.jpg"/>
          <p:cNvPicPr/>
          <p:nvPr/>
        </p:nvPicPr>
        <p:blipFill>
          <a:blip r:embed="rId4"/>
          <a:stretch/>
        </p:blipFill>
        <p:spPr>
          <a:xfrm>
            <a:off x="228600" y="1371600"/>
            <a:ext cx="1305000" cy="174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Documents and Settings\Sopoušek\Dokumenty\Obrázky\BZ-oscilace2.jpg"/>
          <p:cNvPicPr/>
          <p:nvPr/>
        </p:nvPicPr>
        <p:blipFill>
          <a:blip r:embed="rId5"/>
          <a:stretch/>
        </p:blipFill>
        <p:spPr>
          <a:xfrm>
            <a:off x="1828800" y="137160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C:\Documents and Settings\Sopoušek\Dokumenty\Obrázky\BZ-oscilace3.jpg"/>
          <p:cNvPicPr/>
          <p:nvPr/>
        </p:nvPicPr>
        <p:blipFill>
          <a:blip r:embed="rId6"/>
          <a:stretch/>
        </p:blipFill>
        <p:spPr>
          <a:xfrm>
            <a:off x="3352680" y="137160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D:\Sopousek\FRVŠ_projekt_2011\Fotky přístrojů\SevenMulti_Dscn0788.jpg"/>
          <p:cNvPicPr/>
          <p:nvPr/>
        </p:nvPicPr>
        <p:blipFill>
          <a:blip r:embed="rId7"/>
          <a:stretch/>
        </p:blipFill>
        <p:spPr>
          <a:xfrm>
            <a:off x="5791320" y="487692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38088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stava, složky, G,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ovéPole 1"/>
          <p:cNvSpPr/>
          <p:nvPr/>
        </p:nvSpPr>
        <p:spPr>
          <a:xfrm>
            <a:off x="3335400" y="5445000"/>
            <a:ext cx="100800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ra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:\Documents and Settings\Sopoušek\Dokumenty\Obrázky\system open-close.jpg"/>
          <p:cNvPicPr/>
          <p:nvPr/>
        </p:nvPicPr>
        <p:blipFill>
          <a:blip r:embed="rId1"/>
          <a:stretch/>
        </p:blipFill>
        <p:spPr>
          <a:xfrm>
            <a:off x="1981080" y="990720"/>
            <a:ext cx="5586480" cy="2292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Sopoušek\Dokumenty\Obrázky\parní turbíns.gif"/>
          <p:cNvPicPr/>
          <p:nvPr/>
        </p:nvPicPr>
        <p:blipFill>
          <a:blip r:embed="rId2"/>
          <a:stretch/>
        </p:blipFill>
        <p:spPr>
          <a:xfrm>
            <a:off x="7705800" y="907920"/>
            <a:ext cx="1398600" cy="159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C:\Documents and Settings\Sopoušek\Dokumenty\Obrázky\Parní cerpadlo newcomer.gif"/>
          <p:cNvPicPr/>
          <p:nvPr/>
        </p:nvPicPr>
        <p:blipFill>
          <a:blip r:embed="rId3"/>
          <a:stretch/>
        </p:blipFill>
        <p:spPr>
          <a:xfrm>
            <a:off x="990720" y="3048120"/>
            <a:ext cx="4398840" cy="330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can1-2"/>
          <p:cNvPicPr/>
          <p:nvPr/>
        </p:nvPicPr>
        <p:blipFill>
          <a:blip r:embed="rId4"/>
          <a:stretch/>
        </p:blipFill>
        <p:spPr>
          <a:xfrm>
            <a:off x="5413320" y="3276720"/>
            <a:ext cx="1830600" cy="2004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scan2"/>
          <p:cNvPicPr/>
          <p:nvPr/>
        </p:nvPicPr>
        <p:blipFill>
          <a:blip r:embed="rId5"/>
          <a:stretch/>
        </p:blipFill>
        <p:spPr>
          <a:xfrm>
            <a:off x="7213680" y="3335400"/>
            <a:ext cx="1904760" cy="1681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5724360" y="566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CC a FCC stru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C:\Documents and Settings\Sopoušek\Dokumenty\Obrázky\more -system.jpg"/>
          <p:cNvPicPr/>
          <p:nvPr/>
        </p:nvPicPr>
        <p:blipFill>
          <a:blip r:embed="rId1"/>
          <a:stretch/>
        </p:blipFill>
        <p:spPr>
          <a:xfrm>
            <a:off x="1897200" y="1981080"/>
            <a:ext cx="53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tavu  okrajové podmín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838080" y="1523880"/>
            <a:ext cx="441972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vřená soustava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bíhá výměna hmoty a energie s okolí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zavřená soustava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bíhá výměna energie s okolím (nikoliv hmot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vaná soustava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probíhá výměna hmoty ani energie s okolí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02_02"/>
          <p:cNvPicPr/>
          <p:nvPr/>
        </p:nvPicPr>
        <p:blipFill>
          <a:blip r:embed="rId1"/>
          <a:stretch/>
        </p:blipFill>
        <p:spPr>
          <a:xfrm>
            <a:off x="5334120" y="1724040"/>
            <a:ext cx="2971800" cy="2162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762120" y="426708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nitřní a vnější makroskopiscké proměnné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m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l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ner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nzi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romagnetickho pole (gravitačního, aj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átkové množství (vyjádření složením), a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okální fluktua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iz statistika, obvykle zanedbává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odmínky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ajové proměnné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00" y="114300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antní: teplota, tlak, objem, …(najděte vhodné konkrétní přípa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pište stav a okrajové podmínky: vzorek pro metalografii, vzorek slitiny v ampuli, voda v kádince, voda v PET, mrak, pěna, živý organismus, difúzní pár, elektrochemický článe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ěr: pro popis objektů a simulace jejich chování nutno používat aproxim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4382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C:\Documents and Settings\Sopoušek\Dokumenty\Obrázky\000156.jpg"/>
          <p:cNvPicPr/>
          <p:nvPr/>
        </p:nvPicPr>
        <p:blipFill>
          <a:blip r:embed="rId1"/>
          <a:stretch/>
        </p:blipFill>
        <p:spPr>
          <a:xfrm>
            <a:off x="762120" y="4343400"/>
            <a:ext cx="2666880" cy="19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Documents and Settings\Sopoušek\Dokumenty\Obrázky\diffusion couple.png"/>
          <p:cNvPicPr/>
          <p:nvPr/>
        </p:nvPicPr>
        <p:blipFill>
          <a:blip r:embed="rId2"/>
          <a:stretch/>
        </p:blipFill>
        <p:spPr>
          <a:xfrm>
            <a:off x="3809880" y="4343400"/>
            <a:ext cx="5029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bsolute (Kelvin) Temperature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90720" y="1447920"/>
            <a:ext cx="3200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bsolute (Kelvin) temperature sca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based on fixing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triple point for water (a specific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3.16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11.73 P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water can coexist in the solid, liquid, and gas phases in equilibrium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4495680" y="4495680"/>
                <a:ext cx="19353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Rectangle 5"/>
          <p:cNvSpPr/>
          <p:nvPr/>
        </p:nvSpPr>
        <p:spPr>
          <a:xfrm>
            <a:off x="6553080" y="44434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or an ideal gas constant-volume therm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phase diagram of water"/>
          <p:cNvPicPr/>
          <p:nvPr/>
        </p:nvPicPr>
        <p:blipFill>
          <a:blip r:embed="rId1"/>
          <a:srcRect l="5649" t="0" r="6818" b="7329"/>
          <a:stretch/>
        </p:blipFill>
        <p:spPr>
          <a:xfrm>
            <a:off x="4495680" y="1371600"/>
            <a:ext cx="4038840" cy="2522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449360" y="5791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lut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175248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752480" y="5410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126440" y="4038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,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831120" y="5424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1752480" y="4419360"/>
            <a:ext cx="1828800" cy="99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3"/>
          <p:cNvSpPr/>
          <p:nvPr/>
        </p:nvSpPr>
        <p:spPr>
          <a:xfrm flipH="1" flipV="1">
            <a:off x="1828440" y="5486040"/>
            <a:ext cx="30492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933280" y="548640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32767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6"/>
          <p:cNvSpPr/>
          <p:nvPr/>
        </p:nvSpPr>
        <p:spPr>
          <a:xfrm flipH="1"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968760" y="44020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3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4572000" y="5486400"/>
            <a:ext cx="3809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he pressure of the gas in a constant-volume gas thermoscope at T = 273.16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1352160" y="541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7240" y="259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imes New Roman"/>
              </a:rPr>
              <a:t>Vícesložková soustav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ovéPole 2"/>
          <p:cNvSpPr/>
          <p:nvPr/>
        </p:nvSpPr>
        <p:spPr>
          <a:xfrm>
            <a:off x="3708360" y="1052640"/>
            <a:ext cx="532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va lamp is made by mixing alcohol and water and mineral oil and dy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barviv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bining each separately. By mixing water and alcohol in the correct proportions, the mineral oil can be made to float. The correct ratio is about six parts 90% isopropyl alcohol to 13 parts of 70% isopropyl alcohol. Dyes, salt, etc. are then mixed into the water phase, and the oils and waxes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vosky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added to the second liq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ovéPole 3"/>
          <p:cNvSpPr/>
          <p:nvPr/>
        </p:nvSpPr>
        <p:spPr>
          <a:xfrm>
            <a:off x="324000" y="1173240"/>
            <a:ext cx="28796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ávová la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s://upload.wikimedia.org/wikipedia/commons/thumb/0/0e/Blue_Lava_lamp.JPG/800px-Blue_Lava_lamp.JPG"/>
          <p:cNvPicPr/>
          <p:nvPr/>
        </p:nvPicPr>
        <p:blipFill>
          <a:blip r:embed="rId1"/>
          <a:stretch/>
        </p:blipFill>
        <p:spPr>
          <a:xfrm>
            <a:off x="303120" y="1916280"/>
            <a:ext cx="3189240" cy="4325760"/>
          </a:xfrm>
          <a:prstGeom prst="rect">
            <a:avLst/>
          </a:prstGeom>
          <a:ln w="0">
            <a:noFill/>
          </a:ln>
        </p:spPr>
      </p:pic>
      <p:sp>
        <p:nvSpPr>
          <p:cNvPr id="78" name="Obdélník 4"/>
          <p:cNvSpPr/>
          <p:nvPr/>
        </p:nvSpPr>
        <p:spPr>
          <a:xfrm>
            <a:off x="3772080" y="4303800"/>
            <a:ext cx="520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pište složení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é složení, fázové složení, složení koexistujících fází, mřížkové slož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ůzné způsoby vyjádření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lární zlomky (temodynamika), wt % (inženýrství), at. % (fyzikové), obj. % (     ), hm. % ( 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bdélník 5"/>
          <p:cNvSpPr/>
          <p:nvPr/>
        </p:nvSpPr>
        <p:spPr>
          <a:xfrm>
            <a:off x="179280" y="6419880"/>
            <a:ext cx="84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more: http://www.madehow.com/Volume-4/Lava-Lamp.html#ixzz4LS5q6d9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ovéPole 6"/>
          <p:cNvSpPr/>
          <p:nvPr/>
        </p:nvSpPr>
        <p:spPr>
          <a:xfrm>
            <a:off x="1407960" y="6049800"/>
            <a:ext cx="12351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hřívá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ovéPole 9"/>
          <p:cNvSpPr/>
          <p:nvPr/>
        </p:nvSpPr>
        <p:spPr>
          <a:xfrm>
            <a:off x="1146240" y="2092320"/>
            <a:ext cx="1249200" cy="39888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ladnut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ovéPole 10"/>
          <p:cNvSpPr/>
          <p:nvPr/>
        </p:nvSpPr>
        <p:spPr>
          <a:xfrm>
            <a:off x="2701800" y="3924360"/>
            <a:ext cx="3907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ky tepla, změna hustoty ohřev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intechopen.com/source/html/21851/media/image106.jpg"/>
          <p:cNvPicPr/>
          <p:nvPr/>
        </p:nvPicPr>
        <p:blipFill>
          <a:blip r:embed="rId1"/>
          <a:stretch/>
        </p:blipFill>
        <p:spPr>
          <a:xfrm>
            <a:off x="3059280" y="1019160"/>
            <a:ext cx="547668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TextovéPole 1"/>
          <p:cNvSpPr/>
          <p:nvPr/>
        </p:nvSpPr>
        <p:spPr>
          <a:xfrm>
            <a:off x="826920" y="2421000"/>
            <a:ext cx="20894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laková (mechanická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2"/>
          <p:cNvSpPr/>
          <p:nvPr/>
        </p:nvSpPr>
        <p:spPr>
          <a:xfrm>
            <a:off x="1042920" y="1844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ová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ovéPole 4"/>
          <p:cNvSpPr/>
          <p:nvPr/>
        </p:nvSpPr>
        <p:spPr>
          <a:xfrm>
            <a:off x="934920" y="2911320"/>
            <a:ext cx="20894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plotní (tepelná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5"/>
          <p:cNvSpPr/>
          <p:nvPr/>
        </p:nvSpPr>
        <p:spPr>
          <a:xfrm>
            <a:off x="992160" y="3429000"/>
            <a:ext cx="20876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emick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ovéPole 1"/>
          <p:cNvSpPr/>
          <p:nvPr/>
        </p:nvSpPr>
        <p:spPr>
          <a:xfrm>
            <a:off x="6516720" y="2297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ovéPole 7"/>
          <p:cNvSpPr/>
          <p:nvPr/>
        </p:nvSpPr>
        <p:spPr>
          <a:xfrm>
            <a:off x="7504200" y="3767040"/>
            <a:ext cx="56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ovéPole 2"/>
          <p:cNvSpPr/>
          <p:nvPr/>
        </p:nvSpPr>
        <p:spPr>
          <a:xfrm>
            <a:off x="2268360" y="40464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Rovnovážný 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826920" y="1235160"/>
            <a:ext cx="4923000" cy="3262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76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menklatura koexistence fáz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39720" y="5013360"/>
            <a:ext cx="80010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y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Speci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: jsou definovány hloubkou pohledu na soustavu. Nejlépe je zvolit co největší objekty, které se za daných podmínek dále neděl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ovéPole 1"/>
          <p:cNvSpPr/>
          <p:nvPr/>
        </p:nvSpPr>
        <p:spPr>
          <a:xfrm>
            <a:off x="5268960" y="1052640"/>
            <a:ext cx="3732120" cy="131364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ktura (mikrostruktura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separované fáze (l+l, l+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rozptýlené fáze (s1+s2, v slitinách, ale i s+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ovéPole 2"/>
          <p:cNvSpPr/>
          <p:nvPr/>
        </p:nvSpPr>
        <p:spPr>
          <a:xfrm>
            <a:off x="5472000" y="2637000"/>
            <a:ext cx="3529080" cy="10087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ličiny určující konečný (rovnovážnyý) sta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T, p, celkové složen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5268960" y="3789360"/>
            <a:ext cx="3529080" cy="10087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ličiny určující cestu k konečnému stav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, Di, Af, původní struktura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ožka (speci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27" descr="C:\Documents and Settings\Sopoušek\Dokumenty\Obrázky\gibbs triangle.jpg"/>
          <p:cNvPicPr/>
          <p:nvPr/>
        </p:nvPicPr>
        <p:blipFill>
          <a:blip r:embed="rId1"/>
          <a:stretch/>
        </p:blipFill>
        <p:spPr>
          <a:xfrm>
            <a:off x="762120" y="2286000"/>
            <a:ext cx="3800520" cy="3191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28"/>
          <p:cNvSpPr/>
          <p:nvPr/>
        </p:nvSpPr>
        <p:spPr>
          <a:xfrm>
            <a:off x="1981080" y="13716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rnární soustava Ca-C-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29"/>
          <p:cNvSpPr/>
          <p:nvPr/>
        </p:nvSpPr>
        <p:spPr>
          <a:xfrm>
            <a:off x="457200" y="5334120"/>
            <a:ext cx="5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4419720" y="541008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438280" y="2133720"/>
            <a:ext cx="5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2"/>
          <p:cNvSpPr/>
          <p:nvPr/>
        </p:nvSpPr>
        <p:spPr>
          <a:xfrm>
            <a:off x="1066680" y="3581280"/>
            <a:ext cx="8384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33"/>
          <p:cNvSpPr/>
          <p:nvPr/>
        </p:nvSpPr>
        <p:spPr>
          <a:xfrm>
            <a:off x="2971800" y="3048120"/>
            <a:ext cx="838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34"/>
          <p:cNvSpPr/>
          <p:nvPr/>
        </p:nvSpPr>
        <p:spPr>
          <a:xfrm>
            <a:off x="4800600" y="2514600"/>
            <a:ext cx="37339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ární soustava CaO-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6"/>
          <p:cNvSpPr/>
          <p:nvPr/>
        </p:nvSpPr>
        <p:spPr>
          <a:xfrm>
            <a:off x="2286000" y="335268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8"/>
          <p:cNvSpPr/>
          <p:nvPr/>
        </p:nvSpPr>
        <p:spPr>
          <a:xfrm>
            <a:off x="5486400" y="3429000"/>
            <a:ext cx="182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…CaC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9"/>
          <p:cNvSpPr/>
          <p:nvPr/>
        </p:nvSpPr>
        <p:spPr>
          <a:xfrm>
            <a:off x="6248520" y="4648320"/>
            <a:ext cx="2361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co přírodní vápenec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co elementární části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enomenologické popi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143000"/>
            <a:ext cx="60199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ustava (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syste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dnosložková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una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dvousložková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bina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třísložková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terna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4složky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quina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áze (phase)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fyzikálně homogenní části soustavy oddělené fázovým rozhraním. Liší se strukturou uspořádání složek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speci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ynná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g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 „plazma“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plasm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palné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liqu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: asociované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associate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iontové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ioni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uhá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sol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: tuhé roztoky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solid solution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ne-stechiometrické sloučeniny  (</a:t>
            </a:r>
            <a:r>
              <a:rPr b="0" lang="cs-CZ" sz="2400" spc="-1" strike="noStrike">
                <a:solidFill>
                  <a:srgbClr val="cc0000"/>
                </a:solidFill>
                <a:latin typeface="Times New Roman"/>
              </a:rPr>
              <a:t>none stoichiometry compound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C:\Documents and Settings\Sopoušek\Dokumenty\Obrázky\lattice LiNbO3.jpg"/>
          <p:cNvPicPr/>
          <p:nvPr/>
        </p:nvPicPr>
        <p:blipFill>
          <a:blip r:embed="rId1"/>
          <a:stretch/>
        </p:blipFill>
        <p:spPr>
          <a:xfrm>
            <a:off x="6400800" y="1219320"/>
            <a:ext cx="2217600" cy="2960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Documents and Settings\Sopoušek\Dokumenty\Obrázky\solid antracen.jpg"/>
          <p:cNvPicPr/>
          <p:nvPr/>
        </p:nvPicPr>
        <p:blipFill>
          <a:blip r:embed="rId2"/>
          <a:stretch/>
        </p:blipFill>
        <p:spPr>
          <a:xfrm>
            <a:off x="5867280" y="4419720"/>
            <a:ext cx="30067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7-10-04T07:15:43Z</dcterms:modified>
  <cp:revision>41</cp:revision>
  <dc:subject/>
  <dc:title>Soustava</dc:title>
</cp:coreProperties>
</file>