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wmf" ContentType="image/x-wmf"/>
  <Override PartName="/ppt/media/image22.wmf" ContentType="image/x-wmf"/>
  <Override PartName="/ppt/media/image19.png" ContentType="image/png"/>
  <Override PartName="/ppt/media/image29.wmf" ContentType="image/x-wmf"/>
  <Override PartName="/ppt/media/image11.png" ContentType="image/png"/>
  <Override PartName="/ppt/media/image9.jpeg" ContentType="image/jpeg"/>
  <Override PartName="/ppt/media/image23.wmf" ContentType="image/x-wmf"/>
  <Override PartName="/ppt/media/image15.wmf" ContentType="image/x-wmf"/>
  <Override PartName="/ppt/media/image1.jpeg" ContentType="image/jpeg"/>
  <Override PartName="/ppt/media/image7.png" ContentType="image/png"/>
  <Override PartName="/ppt/media/image32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27.png" ContentType="image/png"/>
  <Override PartName="/ppt/media/image33.jpeg" ContentType="image/jpeg"/>
  <Override PartName="/ppt/media/image5.wmf" ContentType="image/x-wmf"/>
  <Override PartName="/ppt/media/image13.wmf" ContentType="image/x-wmf"/>
  <Override PartName="/ppt/media/image31.jpeg" ContentType="image/jpeg"/>
  <Override PartName="/ppt/media/image10.wmf" ContentType="image/x-wmf"/>
  <Override PartName="/ppt/media/image25.png" ContentType="image/png"/>
  <Override PartName="/ppt/media/image6.png" ContentType="image/png"/>
  <Override PartName="/ppt/media/image14.wmf" ContentType="image/x-wmf"/>
  <Override PartName="/ppt/media/image28.wmf" ContentType="image/x-wmf"/>
  <Override PartName="/ppt/media/image30.png" ContentType="image/png"/>
  <Override PartName="/ppt/media/image3.jpeg" ContentType="image/jpeg"/>
  <Override PartName="/ppt/media/image4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png" ContentType="image/png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2AC8-326D-445F-8C54-62A3C965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DF06-AB5A-4DCD-B744-E205A241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10CB-7891-4FA4-A737-B16C2D00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BEE0-1F70-45C6-AD46-F4760933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B0E8-13B0-4F12-B6C2-2BA507AD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2FF-FEFF-4B34-B92F-16A2856F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C7B5-A83A-4CE7-A7F8-624C9C30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D1B0-3DE0-442E-A6C4-00F3BF5B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9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0D23-1B59-4A91-80AA-CF0AFFC5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5E67-4359-4C6B-B306-AEC5120C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FF7D-5DDA-4A74-8B47-69173D0B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C8F1-E5AF-4705-8614-1B97F4BF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31D6F-DF96-4493-9E76-910A524D0B64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725400" y="568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2. Věta termodynamick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01720" y="1712880"/>
            <a:ext cx="3124080" cy="2355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5364000" y="1708200"/>
            <a:ext cx="1828800" cy="2212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1411200" y="4684680"/>
            <a:ext cx="2054160" cy="1616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4"/>
          <a:stretch/>
        </p:blipFill>
        <p:spPr>
          <a:xfrm>
            <a:off x="5029200" y="4191120"/>
            <a:ext cx="3033720" cy="22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Výpočet nevratného tuhnutí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6075360" cy="792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1560600" y="3087720"/>
            <a:ext cx="6021360" cy="674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4410360" cy="1363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4"/>
          <a:stretch/>
        </p:blipFill>
        <p:spPr>
          <a:xfrm>
            <a:off x="6172200" y="4495680"/>
            <a:ext cx="2120760" cy="389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5"/>
          <a:stretch/>
        </p:blipFill>
        <p:spPr>
          <a:xfrm>
            <a:off x="1981080" y="5943600"/>
            <a:ext cx="45658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Times New Roman"/>
              </a:rPr>
              <a:t>Entropie při 0K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533520" y="25146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tistická TD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ři 0K ustává v ideálním krystalu tepelný pohyb. Existuje pouze jeden stav: W=1 a tedy S=k ln W=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xperiment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p, Cv pro teploty blízké 0K klesají k nule. Tedy dS jde k 0. Změny entropie fázových transformací a chemických reakcí klesají k nule tak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438280" y="3429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 Věta termodynamick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981080" y="3886200"/>
            <a:ext cx="441972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ntropie ideálního krystalu prvku za 0K je rovna nu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33520" y="4724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zor.: směsi  mají zbytkovou entropii míšení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6934320" y="3962520"/>
            <a:ext cx="1339560" cy="53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607680"/>
            <a:ext cx="86104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Times New Roman"/>
              </a:rPr>
              <a:t>Ohřev části izolované soustavy za kon. P</a:t>
            </a: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3300"/>
                </a:solidFill>
                <a:latin typeface="Times New Roman"/>
              </a:rPr>
              <a:t>(nebo V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951360" y="32194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3"/>
              <p:cNvSpPr txBox="1"/>
              <p:nvPr/>
            </p:nvSpPr>
            <p:spPr>
              <a:xfrm>
                <a:off x="762120" y="1808280"/>
                <a:ext cx="23619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3581280" y="1523880"/>
            <a:ext cx="4800600" cy="1035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304920" y="2895480"/>
            <a:ext cx="4876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Times New Roman"/>
              </a:rPr>
              <a:t>Ohřev z 0K s fázovými transformaci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0" y="3962520"/>
            <a:ext cx="4952880" cy="1387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3"/>
          <a:stretch/>
        </p:blipFill>
        <p:spPr>
          <a:xfrm>
            <a:off x="5257800" y="2590920"/>
            <a:ext cx="3395520" cy="40240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304920" y="5638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emu je rovna entropie při 0K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Times New Roman"/>
              </a:rPr>
              <a:t>Důsledky 3. VT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311040" y="1339920"/>
            <a:ext cx="3252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bsolutní hodnotu entropie prvku (asi 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lze vypočít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3733920" y="1447920"/>
            <a:ext cx="5214960" cy="334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2"/>
          <a:stretch/>
        </p:blipFill>
        <p:spPr>
          <a:xfrm>
            <a:off x="700200" y="5877000"/>
            <a:ext cx="2666880" cy="6462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533520" y="51055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bsolutní hodnotu změny entropie při přeměně lze vypočítat také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3"/>
          <a:stretch/>
        </p:blipFill>
        <p:spPr>
          <a:xfrm>
            <a:off x="4700520" y="5776920"/>
            <a:ext cx="215280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Diskuze: růst entropi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790960" cy="33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Diskuze: Podezřelá perpet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3581280" y="5867280"/>
            <a:ext cx="401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hawelson.blog.cz/1011/perpetis-stroj-vyuzivajici-tepelnou-energii-z-prostor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1"/>
          <p:cNvSpPr/>
          <p:nvPr/>
        </p:nvSpPr>
        <p:spPr>
          <a:xfrm>
            <a:off x="127080" y="4437000"/>
            <a:ext cx="336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://old.iupac.org/didac/Didac%20Eng/Didac01/Content/T12%20-%20T13%20-%20T14.ht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Obdélník 2"/>
          <p:cNvSpPr/>
          <p:nvPr/>
        </p:nvSpPr>
        <p:spPr>
          <a:xfrm>
            <a:off x="3492360" y="1644480"/>
            <a:ext cx="56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ttps://www.youtube.com/watch?v=o9v9Dn4i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2"/>
          <a:stretch/>
        </p:blipFill>
        <p:spPr>
          <a:xfrm>
            <a:off x="4067280" y="2421000"/>
            <a:ext cx="4686120" cy="30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erpetum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715000" cy="42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Přirozená disipace (rozptylování) energie</a:t>
            </a: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2799000" cy="28195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533520" y="914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měrněný pohyb – neusměrněný pohyb (složek soustav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3492360" cy="2827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28600" y="44956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pontánní měny izolované soustavy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elková energie se zachovává (1.z TD: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=konst) ale je to spojeno s rozptýlením energie (do neuspořádaných termálních pohybů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181480" y="5334120"/>
            <a:ext cx="318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zor na mikroměřítko! Brownuv pohy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80880" y="5791320"/>
            <a:ext cx="853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NewRomanPS-ItalicMT"/>
              </a:rPr>
              <a:t>Samovolný děj:</a:t>
            </a:r>
            <a:r>
              <a:rPr b="0" i="1" lang="cs-CZ" sz="1600" spc="-1" strike="noStrike">
                <a:solidFill>
                  <a:srgbClr val="000000"/>
                </a:solidFill>
                <a:latin typeface="TimesNewRomanPS-ItalicMT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NewRomanPSMT"/>
              </a:rPr>
              <a:t>probíhá bez vynaložení práce. Energie se při něm zachovává, ale dochází k její degradaci, či k jejímu rozptýlení (při samovolných dějích dochází ke zvyšování chaosu, neuspořádanosti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879640" y="3863880"/>
            <a:ext cx="3419640" cy="455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!různá pravděpodobnos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ovéPole 1"/>
          <p:cNvSpPr/>
          <p:nvPr/>
        </p:nvSpPr>
        <p:spPr>
          <a:xfrm>
            <a:off x="2771640" y="14479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echod do atomárního svě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9" name="Přímá spojnice se šipkou 3"/>
          <p:cNvCxnSpPr/>
          <p:nvPr/>
        </p:nvCxnSpPr>
        <p:spPr>
          <a:xfrm>
            <a:off x="3564000" y="1915920"/>
            <a:ext cx="20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3960" y="20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Entropi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5292720" y="1347840"/>
            <a:ext cx="3657600" cy="510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amovolné děj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t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292720" y="188136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vno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žné děj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to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275000" y="32306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5"/>
              <p:cNvSpPr txBox="1"/>
              <p:nvPr/>
            </p:nvSpPr>
            <p:spPr>
              <a:xfrm>
                <a:off x="777960" y="3962520"/>
                <a:ext cx="14824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Text Box 6"/>
          <p:cNvSpPr/>
          <p:nvPr/>
        </p:nvSpPr>
        <p:spPr>
          <a:xfrm>
            <a:off x="455760" y="3232080"/>
            <a:ext cx="37051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Times New Roman"/>
              </a:rPr>
              <a:t>Termodynamická defin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4160880" y="32306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8"/>
              <p:cNvSpPr txBox="1"/>
              <p:nvPr/>
            </p:nvSpPr>
            <p:spPr>
              <a:xfrm>
                <a:off x="861840" y="5181480"/>
                <a:ext cx="15066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S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v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8" name="Text Box 9"/>
          <p:cNvSpPr/>
          <p:nvPr/>
        </p:nvSpPr>
        <p:spPr>
          <a:xfrm>
            <a:off x="457200" y="1227240"/>
            <a:ext cx="4191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reverzibilní děje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expanze do vacua, tepelný kontakt těles,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verzibilní děje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sotermní a adiabatická expanze/komprese,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987800" y="3230640"/>
            <a:ext cx="30481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Times New Roman"/>
              </a:rPr>
              <a:t>Statistická defin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4237200" y="33415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2"/>
              <p:cNvSpPr txBox="1"/>
              <p:nvPr/>
            </p:nvSpPr>
            <p:spPr>
              <a:xfrm>
                <a:off x="5532480" y="4137120"/>
                <a:ext cx="160020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Text Box 13"/>
          <p:cNvSpPr/>
          <p:nvPr/>
        </p:nvSpPr>
        <p:spPr>
          <a:xfrm>
            <a:off x="4987800" y="5003640"/>
            <a:ext cx="362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..Bolzmanova konsta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…počet mikrostav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609480" y="60199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 výpočet         nutno najít vratnou cestu. 1/T je tzv normalizační faktor (konverze do exaktního di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5"/>
              <p:cNvSpPr txBox="1"/>
              <p:nvPr/>
            </p:nvSpPr>
            <p:spPr>
              <a:xfrm>
                <a:off x="1981080" y="5943600"/>
                <a:ext cx="5716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kt 1"/>
              <p:cNvSpPr txBox="1"/>
              <p:nvPr/>
            </p:nvSpPr>
            <p:spPr>
              <a:xfrm>
                <a:off x="2639880" y="4532400"/>
                <a:ext cx="18716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TextovéPole 2"/>
          <p:cNvSpPr/>
          <p:nvPr/>
        </p:nvSpPr>
        <p:spPr>
          <a:xfrm>
            <a:off x="2919960" y="410364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kl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Vybrané vztah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24400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2344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3300"/>
                </a:solidFill>
                <a:latin typeface="Times New Roman"/>
              </a:rPr>
              <a:t>Změny entropie izolované soustavy</a:t>
            </a:r>
            <a:br>
              <a:rPr sz="4000"/>
            </a:b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Přenos tepla (nevratné)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09760" y="2543040"/>
            <a:ext cx="3711240" cy="39927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5181480" y="46483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stože se přenáší stejné množství tepla dq totální entropie ros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817800" y="3314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5"/>
              <p:cNvSpPr txBox="1"/>
              <p:nvPr/>
            </p:nvSpPr>
            <p:spPr>
              <a:xfrm>
                <a:off x="4827600" y="3822840"/>
                <a:ext cx="32097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o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l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Rectangle 6"/>
          <p:cNvSpPr/>
          <p:nvPr/>
        </p:nvSpPr>
        <p:spPr>
          <a:xfrm>
            <a:off x="4114800" y="38862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4221000" y="3314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8"/>
              <p:cNvSpPr txBox="1"/>
              <p:nvPr/>
            </p:nvSpPr>
            <p:spPr>
              <a:xfrm>
                <a:off x="4983120" y="3311640"/>
                <a:ext cx="15699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ot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l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7" name="Text Box 9"/>
          <p:cNvSpPr/>
          <p:nvPr/>
        </p:nvSpPr>
        <p:spPr>
          <a:xfrm>
            <a:off x="4527720" y="279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tož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ovéPole 2"/>
          <p:cNvSpPr/>
          <p:nvPr/>
        </p:nvSpPr>
        <p:spPr>
          <a:xfrm>
            <a:off x="840600" y="1886040"/>
            <a:ext cx="654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alizace: teplý a studený předmět v termosce spojený drá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2344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Adiabatická expanze plynu do vacua</a:t>
            </a:r>
            <a:br>
              <a:rPr sz="4000"/>
            </a:b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(nevratné)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4397400" y="2057400"/>
            <a:ext cx="4199040" cy="210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1116000" y="4508640"/>
            <a:ext cx="2484360" cy="9871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3817800" y="3314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5011560" y="4797360"/>
                <a:ext cx="29718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i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kt 1"/>
              <p:cNvSpPr txBox="1"/>
              <p:nvPr/>
            </p:nvSpPr>
            <p:spPr>
              <a:xfrm>
                <a:off x="539640" y="1844640"/>
                <a:ext cx="373860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d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vdT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Obdélník 3"/>
          <p:cNvSpPr/>
          <p:nvPr/>
        </p:nvSpPr>
        <p:spPr>
          <a:xfrm>
            <a:off x="522720" y="5991120"/>
            <a:ext cx="775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termodynamika viz: http://slideplayer.cz/slide/3035172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TextovéPole 2" descr=""/>
          <p:cNvPicPr/>
          <p:nvPr/>
        </p:nvPicPr>
        <p:blipFill>
          <a:blip r:embed="rId3"/>
          <a:stretch/>
        </p:blipFill>
        <p:spPr>
          <a:xfrm>
            <a:off x="682560" y="2736720"/>
            <a:ext cx="335304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Fázová transformace (vratné)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2016000" cy="11685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3817800" y="3314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3962520" y="1981080"/>
                <a:ext cx="41148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Text Box 5"/>
          <p:cNvSpPr/>
          <p:nvPr/>
        </p:nvSpPr>
        <p:spPr>
          <a:xfrm>
            <a:off x="609480" y="3352680"/>
            <a:ext cx="769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routnovo pravidlo (výjimky: H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,CH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1219320" y="3809880"/>
            <a:ext cx="723888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2344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Isotermní expanze id. plynu v tepelném zásobníku (vratné)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2989080" cy="3429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1066680" y="2286000"/>
            <a:ext cx="2692440" cy="1077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609480" y="1905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ly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858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kolí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1295280" y="4038480"/>
            <a:ext cx="3299040" cy="816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838080" y="510552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elkem: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to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vratný děj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3817800" y="3314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9"/>
              <p:cNvSpPr txBox="1"/>
              <p:nvPr/>
            </p:nvSpPr>
            <p:spPr>
              <a:xfrm>
                <a:off x="2666880" y="5900760"/>
                <a:ext cx="38228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Tuhnutí přechlazené vody (nevratné)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5033880" cy="3700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1295280" y="5334120"/>
            <a:ext cx="6075360" cy="792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6294600" y="1484280"/>
            <a:ext cx="2152440" cy="84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7-10-04T08:15:34Z</dcterms:modified>
  <cp:revision>102</cp:revision>
  <dc:subject/>
  <dc:title>Soustava</dc:title>
</cp:coreProperties>
</file>