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12.jpeg" ContentType="image/jpeg"/>
  <Override PartName="/ppt/media/image34.png" ContentType="image/png"/>
  <Override PartName="/ppt/media/image31.wmf" ContentType="image/x-wmf"/>
  <Override PartName="/ppt/media/image32.png" ContentType="image/png"/>
  <Override PartName="/ppt/media/image7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28.wmf" ContentType="image/x-wmf"/>
  <Override PartName="/ppt/media/image36.wmf" ContentType="image/x-wmf"/>
  <Override PartName="/ppt/media/image49.png" ContentType="image/png"/>
  <Override PartName="/ppt/media/image39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11.png" ContentType="image/png"/>
  <Override PartName="/ppt/media/image48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0AF-703A-411C-A77F-6DA7A828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C76-8908-4F87-825E-34A399F2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F03-553B-4497-BD86-F51D8B28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232-8D52-47CD-9D6C-241B1A6B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75E-835D-48AD-9E0D-6ABCB980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76D-2757-4C32-A7DE-7E72DBC2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C34-2500-4B3C-AFE7-5CA4BD1C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945-E80A-4176-A047-475E6EBB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855-14A0-4D38-A92E-794D660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B8E-EF39-447F-8D6A-756591E2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D9E-6169-4F53-83E3-2CD18C2A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87B-30CE-400B-BC7B-E3FF4F8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D8085B-7E1E-46EF-8E29-7A58F8CAB1C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25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25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179280" y="360360"/>
            <a:ext cx="8640720" cy="61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9680" y="1387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5400" spc="-1" strike="noStrike">
                <a:solidFill>
                  <a:srgbClr val="ff0000"/>
                </a:solidFill>
                <a:latin typeface="Times New Roman"/>
              </a:rPr>
              <a:t>Spojení 1. A 2. věty termodynamické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25240"/>
            <a:ext cx="8153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Závislost Gibbsovy energie na teplotě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432160" cy="583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2276280" cy="125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4647960" cy="479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533520" y="5029200"/>
            <a:ext cx="2587680" cy="1220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80880" y="4114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Gibbsova – Helmholzova rovn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00600" y="64771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iz příklad s H2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553080" y="1905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=H-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5"/>
          <a:stretch/>
        </p:blipFill>
        <p:spPr>
          <a:xfrm>
            <a:off x="304920" y="1322280"/>
            <a:ext cx="247968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TextovéPole 10" descr=""/>
          <p:cNvPicPr/>
          <p:nvPr/>
        </p:nvPicPr>
        <p:blipFill>
          <a:blip r:embed="rId6"/>
          <a:stretch/>
        </p:blipFill>
        <p:spPr>
          <a:xfrm>
            <a:off x="2944800" y="1341360"/>
            <a:ext cx="1182600" cy="4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50403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82760"/>
            <a:ext cx="77709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tandardní stavy TD funkc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andardní stavy sloučeni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5381640" cy="273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776160" y="4149720"/>
            <a:ext cx="5594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63320"/>
            <a:ext cx="4248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Magnetický příspěvek k G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3127320"/>
            <a:ext cx="7466040" cy="338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origin-ars.els-cdn.com/content/image/1-s2.0-S0921510708006302-gr3.jpg"/>
          <p:cNvPicPr/>
          <p:nvPr/>
        </p:nvPicPr>
        <p:blipFill>
          <a:blip r:embed="rId2"/>
          <a:stretch/>
        </p:blipFill>
        <p:spPr>
          <a:xfrm>
            <a:off x="5219640" y="260280"/>
            <a:ext cx="3562560" cy="263844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1"/>
          <p:cNvSpPr/>
          <p:nvPr/>
        </p:nvSpPr>
        <p:spPr>
          <a:xfrm>
            <a:off x="6804000" y="1484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YFeO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0240" y="907920"/>
            <a:ext cx="90835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9036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889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 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Obdélník 1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eoht.info/page/Thermodynamics+pion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ovéPole 2"/>
          <p:cNvSpPr/>
          <p:nvPr/>
        </p:nvSpPr>
        <p:spPr>
          <a:xfrm>
            <a:off x="971640" y="1916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ionýři termodynamik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Samovolný a rovnovážný děj v soustavě</a:t>
            </a:r>
            <a:br>
              <a:rPr sz="3200"/>
            </a:b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(sledujeme pouze přenos tepla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1808280" cy="934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38480" y="16002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volný děj v soustav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ovn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žný dě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04920" y="2819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konstantního objemu plat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1807920" cy="1077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80880" y="4419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konstantního tlaku plat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6713640" y="2897280"/>
            <a:ext cx="1839960" cy="49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4"/>
          <a:stretch/>
        </p:blipFill>
        <p:spPr>
          <a:xfrm>
            <a:off x="685800" y="5181480"/>
            <a:ext cx="1444680" cy="6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5"/>
          <a:stretch/>
        </p:blipFill>
        <p:spPr>
          <a:xfrm>
            <a:off x="6813720" y="5052960"/>
            <a:ext cx="1565280" cy="4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6"/>
          <a:stretch/>
        </p:blipFill>
        <p:spPr>
          <a:xfrm>
            <a:off x="6210360" y="3517920"/>
            <a:ext cx="2787480" cy="75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7"/>
          <a:stretch/>
        </p:blipFill>
        <p:spPr>
          <a:xfrm>
            <a:off x="6283440" y="5532480"/>
            <a:ext cx="2639880" cy="716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2"/>
          <p:cNvSpPr/>
          <p:nvPr/>
        </p:nvSpPr>
        <p:spPr>
          <a:xfrm>
            <a:off x="425592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3"/>
              <p:cNvSpPr txBox="1"/>
              <p:nvPr/>
            </p:nvSpPr>
            <p:spPr>
              <a:xfrm>
                <a:off x="609480" y="3581280"/>
                <a:ext cx="1828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4"/>
              <p:cNvSpPr txBox="1"/>
              <p:nvPr/>
            </p:nvSpPr>
            <p:spPr>
              <a:xfrm>
                <a:off x="3886200" y="4956120"/>
                <a:ext cx="1828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Text Box 15"/>
          <p:cNvSpPr/>
          <p:nvPr/>
        </p:nvSpPr>
        <p:spPr>
          <a:xfrm>
            <a:off x="179280" y="5940360"/>
            <a:ext cx="48243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vedení nových termodynamických funkcí A a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ovéPole 1"/>
          <p:cNvSpPr/>
          <p:nvPr/>
        </p:nvSpPr>
        <p:spPr>
          <a:xfrm>
            <a:off x="3149640" y="350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ovéPole 17"/>
          <p:cNvSpPr/>
          <p:nvPr/>
        </p:nvSpPr>
        <p:spPr>
          <a:xfrm>
            <a:off x="2944800" y="53276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TextovéPole 3" descr=""/>
          <p:cNvPicPr/>
          <p:nvPr/>
        </p:nvPicPr>
        <p:blipFill>
          <a:blip r:embed="rId8"/>
          <a:stretch/>
        </p:blipFill>
        <p:spPr>
          <a:xfrm>
            <a:off x="5900760" y="4273560"/>
            <a:ext cx="309708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TextovéPole 21" descr=""/>
          <p:cNvPicPr/>
          <p:nvPr/>
        </p:nvPicPr>
        <p:blipFill>
          <a:blip r:embed="rId9"/>
          <a:stretch/>
        </p:blipFill>
        <p:spPr>
          <a:xfrm>
            <a:off x="6046920" y="6138720"/>
            <a:ext cx="3097080" cy="5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Použití Helmholzovy a Gibbsovy energie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963800" cy="53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1963800" cy="531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295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=k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049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=k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08780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533520" y="2286000"/>
                <a:ext cx="2361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d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8"/>
          <p:cNvSpPr/>
          <p:nvPr/>
        </p:nvSpPr>
        <p:spPr>
          <a:xfrm>
            <a:off x="406872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609480" y="4800600"/>
                <a:ext cx="2133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d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10"/>
          <p:cNvSpPr/>
          <p:nvPr/>
        </p:nvSpPr>
        <p:spPr>
          <a:xfrm>
            <a:off x="420228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00000" y="3149640"/>
                <a:ext cx="20462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12"/>
          <p:cNvSpPr/>
          <p:nvPr/>
        </p:nvSpPr>
        <p:spPr>
          <a:xfrm>
            <a:off x="418320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93640" y="5805360"/>
                <a:ext cx="25225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4"/>
          <p:cNvSpPr/>
          <p:nvPr/>
        </p:nvSpPr>
        <p:spPr>
          <a:xfrm>
            <a:off x="418320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276720" y="1295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 T=kon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16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3295800" cy="162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2810160" cy="2571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8"/>
          <p:cNvSpPr/>
          <p:nvPr/>
        </p:nvSpPr>
        <p:spPr>
          <a:xfrm>
            <a:off x="433548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432432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693432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vo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69343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vo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85800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nielův člán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030560" y="3322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5"/>
              <p:cNvSpPr txBox="1"/>
              <p:nvPr/>
            </p:nvSpPr>
            <p:spPr>
              <a:xfrm>
                <a:off x="7162920" y="2590920"/>
                <a:ext cx="1733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26"/>
          <p:cNvSpPr/>
          <p:nvPr/>
        </p:nvSpPr>
        <p:spPr>
          <a:xfrm>
            <a:off x="4008600" y="3322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7"/>
              <p:cNvSpPr txBox="1"/>
              <p:nvPr/>
            </p:nvSpPr>
            <p:spPr>
              <a:xfrm>
                <a:off x="6858000" y="5029200"/>
                <a:ext cx="2057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G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 Box 28"/>
          <p:cNvSpPr/>
          <p:nvPr/>
        </p:nvSpPr>
        <p:spPr>
          <a:xfrm>
            <a:off x="4500720" y="1703520"/>
            <a:ext cx="431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íšení plyn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9"/>
              <p:cNvSpPr txBox="1"/>
              <p:nvPr/>
            </p:nvSpPr>
            <p:spPr>
              <a:xfrm>
                <a:off x="485640" y="2730600"/>
                <a:ext cx="2787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−</m:t>
                    </m:r>
                    <m:r>
                      <m:t xml:space="preserve">TΔS</m:t>
                    </m:r>
                    <m:r>
                      <m:t xml:space="preserve">=</m:t>
                    </m:r>
                    <m:r>
                      <m:t xml:space="preserve">Δ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0"/>
              <p:cNvSpPr txBox="1"/>
              <p:nvPr/>
            </p:nvSpPr>
            <p:spPr>
              <a:xfrm>
                <a:off x="74520" y="5218200"/>
                <a:ext cx="33559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−</m:t>
                    </m:r>
                    <m:r>
                      <m:t xml:space="preserve">TΔS</m:t>
                    </m:r>
                    <m:r>
                      <m:t xml:space="preserve">=</m:t>
                    </m:r>
                    <m:r>
                      <m:t xml:space="preserve">Δ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1" name="TextovéPole 1" descr=""/>
          <p:cNvPicPr/>
          <p:nvPr/>
        </p:nvPicPr>
        <p:blipFill>
          <a:blip r:embed="rId5"/>
          <a:stretch/>
        </p:blipFill>
        <p:spPr>
          <a:xfrm>
            <a:off x="4730760" y="3486240"/>
            <a:ext cx="3425760" cy="403200"/>
          </a:xfrm>
          <a:prstGeom prst="rect">
            <a:avLst/>
          </a:prstGeom>
          <a:ln w="0">
            <a:noFill/>
          </a:ln>
        </p:spPr>
      </p:pic>
      <p:pic>
        <p:nvPicPr>
          <p:cNvPr id="92" name="TextovéPole 2" descr=""/>
          <p:cNvPicPr/>
          <p:nvPr/>
        </p:nvPicPr>
        <p:blipFill>
          <a:blip r:embed="rId6"/>
          <a:stretch/>
        </p:blipFill>
        <p:spPr>
          <a:xfrm>
            <a:off x="3809880" y="3486240"/>
            <a:ext cx="841320" cy="40320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3"/>
          <p:cNvSpPr/>
          <p:nvPr/>
        </p:nvSpPr>
        <p:spPr>
          <a:xfrm>
            <a:off x="4626720" y="3487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Standardní molární reakční Gibbsova energie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3786120" cy="86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743200" y="4952880"/>
            <a:ext cx="3657600" cy="86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4952880" y="1219320"/>
            <a:ext cx="3630600" cy="77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1219320" y="1219320"/>
            <a:ext cx="3581280" cy="755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08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80880" y="23623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prvky v standardním stavu (SER) při 1bar za jakékoliv teplo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5486400" y="2286000"/>
                <a:ext cx="1295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10"/>
          <p:cNvSpPr/>
          <p:nvPr/>
        </p:nvSpPr>
        <p:spPr>
          <a:xfrm>
            <a:off x="3859200" y="3303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1"/>
              <p:cNvSpPr txBox="1"/>
              <p:nvPr/>
            </p:nvSpPr>
            <p:spPr>
              <a:xfrm>
                <a:off x="5410080" y="2797200"/>
                <a:ext cx="30481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bulk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12"/>
          <p:cNvSpPr/>
          <p:nvPr/>
        </p:nvSpPr>
        <p:spPr>
          <a:xfrm>
            <a:off x="533520" y="4572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bol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G a A energi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76280" y="1989000"/>
            <a:ext cx="8099280" cy="134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686560" y="115920"/>
            <a:ext cx="3011400" cy="179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453960" y="3429000"/>
            <a:ext cx="8169480" cy="21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1116000" y="5921280"/>
            <a:ext cx="697248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lastnosti Gibbsovy energi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4545000" cy="420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380880" y="5013360"/>
            <a:ext cx="3057480" cy="792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304920" y="1676520"/>
            <a:ext cx="36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ze odvodit tot. Diferenciál G (za konst p a T) pro soustavu s obj. prac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3125880" cy="91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3276720"/>
            <a:ext cx="23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plat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80880" y="4591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304920" y="2400480"/>
            <a:ext cx="418140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44360"/>
            <a:ext cx="8076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Závislost Gibbsovy energie na tlaku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191120" y="838080"/>
            <a:ext cx="280980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80880" y="2019240"/>
            <a:ext cx="3124440" cy="1052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04920" y="3108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s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533520" y="3565440"/>
            <a:ext cx="312408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80880" y="455616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male tlaky a malou stlačitelnos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304920" y="5415120"/>
            <a:ext cx="5410080" cy="100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5"/>
          <a:stretch/>
        </p:blipFill>
        <p:spPr>
          <a:xfrm>
            <a:off x="304920" y="1322280"/>
            <a:ext cx="2479680" cy="642960"/>
          </a:xfrm>
          <a:prstGeom prst="rect">
            <a:avLst/>
          </a:prstGeom>
          <a:ln w="0">
            <a:noFill/>
          </a:ln>
        </p:spPr>
      </p:pic>
      <p:sp>
        <p:nvSpPr>
          <p:cNvPr id="127" name="TextovéPole 1"/>
          <p:cNvSpPr/>
          <p:nvPr/>
        </p:nvSpPr>
        <p:spPr>
          <a:xfrm>
            <a:off x="386640" y="8604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ije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TextovéPole 1" descr=""/>
          <p:cNvPicPr/>
          <p:nvPr/>
        </p:nvPicPr>
        <p:blipFill>
          <a:blip r:embed="rId6"/>
          <a:stretch/>
        </p:blipFill>
        <p:spPr>
          <a:xfrm>
            <a:off x="2944800" y="1341360"/>
            <a:ext cx="1200240" cy="4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62000" y="260280"/>
            <a:ext cx="6054480" cy="515304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1"/>
          <p:cNvSpPr/>
          <p:nvPr/>
        </p:nvSpPr>
        <p:spPr>
          <a:xfrm>
            <a:off x="6227640" y="1413000"/>
            <a:ext cx="259236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uhé látky a kapaliny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y tlaku za konst. P nevyvolávají (za běznách podmínek) velké změny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6227640" y="458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Times New Roman"/>
              </a:rPr>
              <a:t>Praktický výpoč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50920" y="5603760"/>
            <a:ext cx="6254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77720" y="676440"/>
            <a:ext cx="7479000" cy="5819760"/>
          </a:xfrm>
          <a:prstGeom prst="rect">
            <a:avLst/>
          </a:prstGeom>
          <a:ln w="0">
            <a:noFill/>
          </a:ln>
        </p:spPr>
      </p:pic>
      <p:sp>
        <p:nvSpPr>
          <p:cNvPr id="135" name="TextovéPole 4"/>
          <p:cNvSpPr/>
          <p:nvPr/>
        </p:nvSpPr>
        <p:spPr>
          <a:xfrm>
            <a:off x="6012000" y="2593800"/>
            <a:ext cx="259236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lyny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y tlaku za konst. P vyvolávají velké změny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7-10-11T08:23:32Z</dcterms:modified>
  <cp:revision>119</cp:revision>
  <dc:subject/>
  <dc:title>Soustava</dc:title>
</cp:coreProperties>
</file>