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wmf" ContentType="image/x-wmf"/>
  <Override PartName="/ppt/media/image22.jpeg" ContentType="image/jpeg"/>
  <Override PartName="/ppt/media/image39.png" ContentType="image/png"/>
  <Override PartName="/ppt/media/image42.wmf" ContentType="image/x-wmf"/>
  <Override PartName="/ppt/media/image20.wmf" ContentType="image/x-wmf"/>
  <Override PartName="/ppt/media/image17.png" ContentType="image/png"/>
  <Override PartName="/ppt/media/image21.wmf" ContentType="image/x-wmf"/>
  <Override PartName="/ppt/media/image6.jpeg" ContentType="image/jpeg"/>
  <Override PartName="/ppt/media/image18.png" ContentType="image/png"/>
  <Override PartName="/ppt/media/image19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53.png" ContentType="image/png"/>
  <Override PartName="/ppt/media/image24.png" ContentType="image/png"/>
  <Override PartName="/ppt/media/image25.wmf" ContentType="image/x-wmf"/>
  <Override PartName="/ppt/media/image23.jpeg" ContentType="image/jpeg"/>
  <Override PartName="/ppt/media/image52.wmf" ContentType="image/x-wmf"/>
  <Override PartName="/ppt/media/image2.jpeg" ContentType="image/jpeg"/>
  <Override PartName="/ppt/media/image36.jpeg" ContentType="image/jpeg"/>
  <Override PartName="/ppt/media/image28.wmf" ContentType="image/x-wmf"/>
  <Override PartName="/ppt/media/image30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50.wmf" ContentType="image/x-wmf"/>
  <Override PartName="/ppt/media/image37.wmf" ContentType="image/x-wmf"/>
  <Override PartName="/ppt/media/image54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26.png" ContentType="image/png"/>
  <Override PartName="/ppt/media/image34.jpeg" ContentType="image/jpeg"/>
  <Override PartName="/ppt/media/image35.wmf" ContentType="image/x-wmf"/>
  <Override PartName="/ppt/media/image47.wmf" ContentType="image/x-wmf"/>
  <Override PartName="/ppt/media/image4.png" ContentType="image/png"/>
  <Override PartName="/ppt/media/image41.wmf" ContentType="image/x-wmf"/>
  <Override PartName="/ppt/media/image3.png" ContentType="image/png"/>
  <Override PartName="/ppt/media/image33.png" ContentType="image/png"/>
  <Override PartName="/ppt/media/image12.wmf" ContentType="image/x-wmf"/>
  <Override PartName="/ppt/media/image49.wmf" ContentType="image/x-wmf"/>
  <Override PartName="/ppt/media/image51.wmf" ContentType="image/x-wmf"/>
  <Override PartName="/ppt/media/image9.jpeg" ContentType="image/jpeg"/>
  <Override PartName="/ppt/media/image38.wmf" ContentType="image/x-wmf"/>
  <Override PartName="/ppt/media/image40.png" ContentType="image/png"/>
  <Override PartName="/ppt/media/image8.wmf" ContentType="image/x-wmf"/>
  <Override PartName="/ppt/media/image7.jpeg" ContentType="image/jpeg"/>
  <Override PartName="/ppt/media/image3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858340-8870-4FA9-A734-386F81397716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96E6-7F44-452F-8C8C-6D64FDB3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09A0-58FB-4E33-97D9-70CA3A62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C12C-7A16-49EF-8338-757FE0CC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DFC9-7DB2-41CE-927D-F1990D67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2423-587D-4709-92C6-A6A7EFB1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1887-0DB2-40ED-B245-5C1ADB75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FA4E-72C5-4809-9DB1-77333551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54E-9189-4EF7-BCA0-D81F9EFB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30FC-836F-4B10-A90F-98B131E0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36A2-0B33-44E7-943C-745AFDCE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7ED9-C5F8-494E-A607-FBCE402F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0D34-F377-4EF8-AC45-4B3A0F24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B6AAB3-9616-4F6D-A146-26AF3233F55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png"/><Relationship Id="rId6" Type="http://schemas.openxmlformats.org/officeDocument/2006/relationships/image" Target="../media/image31.wmf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1. Věta termodynamick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838080" y="5791320"/>
            <a:ext cx="7696440" cy="9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www.energyweb.cz/web/index.php?display_page=2&amp;subitem=1&amp;ee_chapter=2.2.1 http://www.novakoviny.eu/archiv/historie/380-heron-aeolipile-parni-stro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www.egr.msu.edu/~lira/supp/steam/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6324480" y="2286000"/>
            <a:ext cx="2136960" cy="307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838080" y="1981080"/>
            <a:ext cx="1514520" cy="359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tretch/>
        </p:blipFill>
        <p:spPr>
          <a:xfrm>
            <a:off x="3200400" y="2666880"/>
            <a:ext cx="2392200" cy="20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341280" y="1125360"/>
            <a:ext cx="2638440" cy="44197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5280" y="285480"/>
            <a:ext cx="7772400" cy="957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čátky kvantitativního měření Stanovení tepelného obsahu (Úvod pro definici entalpi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132000" y="1268280"/>
            <a:ext cx="547236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edový kalorimetr – měření tepelného obsahu 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avoisier-Lapla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Q… množství obsaženého tepla v předmětu je přímo úměrné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hmotnosti rozpuštěného led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47600" y="5545080"/>
            <a:ext cx="3025800" cy="1191240"/>
          </a:xfrm>
          <a:prstGeom prst="rect">
            <a:avLst/>
          </a:prstGeom>
          <a:solidFill>
            <a:srgbClr val="ffc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množství tepla potřebné o snížení teploty předmětů o jednu jednotku teploty konstantní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19" descr="C:\Documents and Settings\Sopoušek\Dokumenty\Obrázky\kalorimetrie\heat added.jpg"/>
          <p:cNvPicPr/>
          <p:nvPr/>
        </p:nvPicPr>
        <p:blipFill>
          <a:blip r:embed="rId2"/>
          <a:stretch/>
        </p:blipFill>
        <p:spPr>
          <a:xfrm>
            <a:off x="3559320" y="3176640"/>
            <a:ext cx="4878360" cy="324648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1"/>
          <p:cNvSpPr/>
          <p:nvPr/>
        </p:nvSpPr>
        <p:spPr>
          <a:xfrm>
            <a:off x="4788000" y="6440400"/>
            <a:ext cx="3028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tepelný obsah,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Přímá spojnice se šipkou 2"/>
          <p:cNvCxnSpPr/>
          <p:nvPr/>
        </p:nvCxnSpPr>
        <p:spPr>
          <a:xfrm>
            <a:off x="4284360" y="3068280"/>
            <a:ext cx="403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4191120" cy="763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ntal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508720" y="304920"/>
            <a:ext cx="3338280" cy="55450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5724360" y="6019920"/>
            <a:ext cx="326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Obvyklé chování soustav (látek)  při zahřívání za labor. podmínek konst. p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12720" y="1565280"/>
            <a:ext cx="3044520" cy="510120"/>
          </a:xfrm>
          <a:prstGeom prst="rect">
            <a:avLst/>
          </a:prstGeom>
          <a:solidFill>
            <a:srgbClr val="f8f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U=dq+pdV=dq-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ex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729480" y="1890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=-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ex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04920" y="2514600"/>
            <a:ext cx="5105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á-li se pouze objemová práce, kolik je tepla třeba na ohřátí soustavy za konst. p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q=dU+p dV …tepelný obsah soustav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487880" y="4427640"/>
            <a:ext cx="2361240" cy="4597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Q=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+p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2"/>
          <a:stretch/>
        </p:blipFill>
        <p:spPr>
          <a:xfrm>
            <a:off x="2133720" y="5181480"/>
            <a:ext cx="2120760" cy="596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8" name="Text Box 9"/>
          <p:cNvSpPr/>
          <p:nvPr/>
        </p:nvSpPr>
        <p:spPr>
          <a:xfrm>
            <a:off x="304920" y="5181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fin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304920" y="58672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 je U zvětšená o práci soustavy potřebné k zaujetí prostoru.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531360"/>
            <a:ext cx="52578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lastnosti ental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181480" y="380880"/>
            <a:ext cx="3656160" cy="3781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1295280" cy="711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457200" y="1371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pelná kapacita za konst. 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3"/>
          <a:stretch/>
        </p:blipFill>
        <p:spPr>
          <a:xfrm>
            <a:off x="1752480" y="2133720"/>
            <a:ext cx="1600200" cy="390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4"/>
          <a:stretch/>
        </p:blipFill>
        <p:spPr>
          <a:xfrm>
            <a:off x="3505320" y="2057400"/>
            <a:ext cx="1603080" cy="52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5"/>
          <a:stretch/>
        </p:blipFill>
        <p:spPr>
          <a:xfrm>
            <a:off x="457200" y="4419720"/>
            <a:ext cx="8218440" cy="2081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6"/>
          <a:stretch/>
        </p:blipFill>
        <p:spPr>
          <a:xfrm>
            <a:off x="685800" y="2819520"/>
            <a:ext cx="4410000" cy="623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7"/>
          <a:stretch/>
        </p:blipFill>
        <p:spPr>
          <a:xfrm>
            <a:off x="1143000" y="3429000"/>
            <a:ext cx="3328920" cy="1049400"/>
          </a:xfrm>
          <a:prstGeom prst="rect">
            <a:avLst/>
          </a:prstGeom>
          <a:ln w="0">
            <a:noFill/>
          </a:ln>
        </p:spPr>
      </p:pic>
      <p:sp>
        <p:nvSpPr>
          <p:cNvPr id="119" name="Přímá spojnice 2"/>
          <p:cNvSpPr/>
          <p:nvPr/>
        </p:nvSpPr>
        <p:spPr>
          <a:xfrm flipV="1">
            <a:off x="7008840" y="105264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ovéPole 3"/>
          <p:cNvSpPr/>
          <p:nvPr/>
        </p:nvSpPr>
        <p:spPr>
          <a:xfrm>
            <a:off x="6519600" y="313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ovéPole 13"/>
          <p:cNvSpPr/>
          <p:nvPr/>
        </p:nvSpPr>
        <p:spPr>
          <a:xfrm>
            <a:off x="6111000" y="15336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Přímá spojnice se šipkou 5"/>
          <p:cNvCxnSpPr>
            <a:stCxn id="121" idx="2"/>
          </p:cNvCxnSpPr>
          <p:nvPr/>
        </p:nvCxnSpPr>
        <p:spPr>
          <a:xfrm>
            <a:off x="6424200" y="1995480"/>
            <a:ext cx="58500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Přímá spojnice se šipkou 7"/>
          <p:cNvCxnSpPr>
            <a:stCxn id="120" idx="0"/>
          </p:cNvCxnSpPr>
          <p:nvPr/>
        </p:nvCxnSpPr>
        <p:spPr>
          <a:xfrm>
            <a:off x="6719400" y="3131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661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vlastnosti ental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539640" y="1339920"/>
            <a:ext cx="82440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555480"/>
            <a:ext cx="57150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ěření změn tepelného obsahu (entalpie) </a:t>
            </a:r>
            <a:r>
              <a:rPr b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soustav za konst. Tlaku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kalorimetr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6019920" y="152280"/>
            <a:ext cx="2628720" cy="2629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5715000" y="2666880"/>
            <a:ext cx="3124080" cy="28879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685800" y="57150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Times New Roman"/>
              </a:rPr>
              <a:t>http://www.phywe.com/461/pid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380880" y="2530440"/>
            <a:ext cx="4419720" cy="3187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5867280" y="5791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A: cDSC, fDSC,DTA,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3657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ermochem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1219320"/>
            <a:ext cx="8832960" cy="571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22860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tandardní stav látky za dané teploty je její čistá forma za 101325P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5715000" cy="512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304920" y="2514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ndardní entalpie odpaření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80880" y="350532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ndardní entalpie tání (fusio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5715000" cy="442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4"/>
          <a:stretch/>
        </p:blipFill>
        <p:spPr>
          <a:xfrm>
            <a:off x="457200" y="5029200"/>
            <a:ext cx="3124080" cy="5716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380880" y="45720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ndardní entalpie sublim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5"/>
          <a:stretch/>
        </p:blipFill>
        <p:spPr>
          <a:xfrm>
            <a:off x="3352680" y="5867280"/>
            <a:ext cx="4305600" cy="4809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1"/>
          <p:cNvSpPr/>
          <p:nvPr/>
        </p:nvSpPr>
        <p:spPr>
          <a:xfrm>
            <a:off x="533520" y="5867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platí té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6"/>
          <a:stretch/>
        </p:blipFill>
        <p:spPr>
          <a:xfrm>
            <a:off x="6248520" y="2666880"/>
            <a:ext cx="239544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777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Born- Habernův cykl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228600" y="2666880"/>
            <a:ext cx="5867280" cy="302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5867280" y="457200"/>
            <a:ext cx="2989440" cy="42670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609480" y="1523880"/>
            <a:ext cx="51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L…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ání KCl spojené s disociac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45720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alší vlast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52520" y="1523880"/>
            <a:ext cx="36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ndardní reakční entalpi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4419720" y="1371600"/>
            <a:ext cx="3587760" cy="784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7086600" cy="4892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534960" y="281952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ssův zák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2590920" y="2895480"/>
            <a:ext cx="5257800" cy="16527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"/>
          <p:cNvSpPr/>
          <p:nvPr/>
        </p:nvSpPr>
        <p:spPr>
          <a:xfrm>
            <a:off x="603000" y="4724280"/>
            <a:ext cx="46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ndardní tvorná entalpie (z prvků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8" descr=""/>
          <p:cNvPicPr/>
          <p:nvPr/>
        </p:nvPicPr>
        <p:blipFill>
          <a:blip r:embed="rId4"/>
          <a:stretch/>
        </p:blipFill>
        <p:spPr>
          <a:xfrm>
            <a:off x="914400" y="5410080"/>
            <a:ext cx="3591000" cy="609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5181480" y="5334120"/>
            <a:ext cx="35816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0  pro prvk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: 25stC, 101325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563400"/>
            <a:ext cx="4724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Kirchhofův zák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5257800" y="762120"/>
            <a:ext cx="3476520" cy="4724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2895840" cy="98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3"/>
          <a:stretch/>
        </p:blipFill>
        <p:spPr>
          <a:xfrm>
            <a:off x="762120" y="3124080"/>
            <a:ext cx="3639960" cy="806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4"/>
          <a:stretch/>
        </p:blipFill>
        <p:spPr>
          <a:xfrm>
            <a:off x="1371600" y="4546440"/>
            <a:ext cx="4038480" cy="7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33000"/>
            <a:ext cx="77724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Disku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304920" y="2235240"/>
            <a:ext cx="4010040" cy="2795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4399200" cy="33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ermodynamické postulá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838080" y="1523880"/>
            <a:ext cx="73152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vní postulá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equilibrium theorem)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zolovaná soustava vždy dosáhne rovnovážného stavu a nikdy jej spontánně neopust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ruhý 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stulate (temperature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ždý rovnovážný stav soustavy je zcela určen souborem vnějších proměnných (objem, tlak, magnetické pole, atd.) a jednou vnitřní proměnnou - teploto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Je-li soustava mimo rovnováh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je třeba k jejímu popisu nejméně jeden další vnitřní paramet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ovnovážný dě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takový, že probíhá tak, že je soustava stále v rovnováz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nitřní ener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1713600" y="1844640"/>
            <a:ext cx="55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U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Q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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W  (1. Věta termodynamická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471600" y="134136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rvní zákon termodynamiky je zákonem o zachování energie, ve kterém platí ekvivalence práce a tepla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85800" y="230508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odané teplo a práce mění vnitřní energie soustavy U, která je funkcí pouze aktuálního stavu soustavy a nikoliv způsobu jakým k novému stavu dojde. U je stavová funkce. Její absolutní hodnota je však nezjistitelná, protože zahrnuje mnoho příspěvků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453960" y="3500280"/>
            <a:ext cx="8080560" cy="21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se – kopací mí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673200" y="5791320"/>
            <a:ext cx="767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Čtivá termodynamika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ttp://fikus.omska.cz/~bojkovsm/termodynamika/index.htm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4" descr="C:\Documents and Settings\Sopoušek\Dokumenty\Obrázky\Vnitřní energie.jpg"/>
          <p:cNvPicPr/>
          <p:nvPr/>
        </p:nvPicPr>
        <p:blipFill>
          <a:blip r:embed="rId1"/>
          <a:stretch/>
        </p:blipFill>
        <p:spPr>
          <a:xfrm>
            <a:off x="304920" y="1139760"/>
            <a:ext cx="822960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ýměna energie (tepla a prá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4537080" cy="4011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5724360" y="3141720"/>
            <a:ext cx="2438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častěji: Objemová prá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w=-pd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55400"/>
            <a:ext cx="42670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ruhy prá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52680" y="1371600"/>
            <a:ext cx="301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U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Q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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W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+dW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8077320" cy="407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724280" y="533520"/>
            <a:ext cx="1544760" cy="1752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6516720" y="582480"/>
            <a:ext cx="23320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w=-Fd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…zobecněná sí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z..zobecněné přemístě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7" name="Přímá spojnice se šipkou 2"/>
          <p:cNvCxnSpPr/>
          <p:nvPr/>
        </p:nvCxnSpPr>
        <p:spPr>
          <a:xfrm>
            <a:off x="2555640" y="1881000"/>
            <a:ext cx="1152720" cy="15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Přímá spojnice se šipkou 4"/>
          <p:cNvCxnSpPr/>
          <p:nvPr/>
        </p:nvCxnSpPr>
        <p:spPr>
          <a:xfrm flipH="1">
            <a:off x="4500360" y="981000"/>
            <a:ext cx="2016720" cy="326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Přímá spojnice se šipkou 6"/>
          <p:cNvCxnSpPr/>
          <p:nvPr/>
        </p:nvCxnSpPr>
        <p:spPr>
          <a:xfrm flipH="1">
            <a:off x="4500360" y="1196640"/>
            <a:ext cx="2016720" cy="360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Přímá spojnice se šipkou 8"/>
          <p:cNvCxnSpPr/>
          <p:nvPr/>
        </p:nvCxnSpPr>
        <p:spPr>
          <a:xfrm flipH="1">
            <a:off x="4500360" y="1627200"/>
            <a:ext cx="2016720" cy="389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0276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bjemová práce ideálního ply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334120" y="1295280"/>
            <a:ext cx="3547800" cy="5362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2286000" y="2514600"/>
            <a:ext cx="2224080" cy="649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1066680" y="4038480"/>
            <a:ext cx="2587680" cy="13892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457200" y="17524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i expanzi do vacua: dw=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57200" y="2362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laboratoř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09480" y="34290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máhání vnějšího tlak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lastnosti vnitřní ener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727440" cy="4206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1066680" cy="6872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4267080" y="1600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pelná kapacita za konst. V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4572000" y="3505320"/>
            <a:ext cx="2692440" cy="6238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4952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id. ply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4"/>
          <a:stretch/>
        </p:blipFill>
        <p:spPr>
          <a:xfrm>
            <a:off x="4343400" y="4191120"/>
            <a:ext cx="4253040" cy="1012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4572000" y="5334120"/>
            <a:ext cx="41911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ecně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V,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a+b*t+c*T ln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8400" y="333360"/>
            <a:ext cx="487692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Měření spalných tepel za konst. V 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kalorimetrická bomb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029200" y="533520"/>
            <a:ext cx="3726000" cy="3840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5790960" cy="3861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3"/>
          <a:stretch/>
        </p:blipFill>
        <p:spPr>
          <a:xfrm>
            <a:off x="609480" y="2057400"/>
            <a:ext cx="1548000" cy="506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4"/>
          <a:stretch/>
        </p:blipFill>
        <p:spPr>
          <a:xfrm>
            <a:off x="2819520" y="1981080"/>
            <a:ext cx="1600200" cy="662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5"/>
          <a:stretch/>
        </p:blipFill>
        <p:spPr>
          <a:xfrm>
            <a:off x="6324480" y="5486400"/>
            <a:ext cx="1495440" cy="571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5410080" y="464832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librace (el. práce nebo spálení standard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7-10-04T07:29:41Z</dcterms:modified>
  <cp:revision>72</cp:revision>
  <dc:subject/>
  <dc:title>Soustava</dc:title>
</cp:coreProperties>
</file>