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04164-6795-4471-B727-D33049C49AFA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D2D7E-1B51-4E44-9FC2-5B3A47C31FD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FE0C-F210-4B95-84CA-D1C911DE9CB1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B80-9417-4053-8CA6-D9CB0E38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7E2-5AC8-41AA-B732-E0BE90F1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28B-4439-48C9-8B0E-B4F41666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C9C-44DD-445E-AEC3-F543A7BAC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8208-CB6B-433E-8345-A5921156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F49D-350B-4D7F-89F6-9B334D8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EE8-1D37-4F87-90DB-DFFB7040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C9D-D32C-4A9C-82E4-7D94E74D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E358-CD66-41BD-948F-96D1E959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23FC-D92F-4C27-BF53-5B2E010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256E-AD4E-4323-8E56-5956BA0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D70-302C-4CE3-80D3-BC2F13FB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9AF927E-987A-430D-A0F8-267132E5C038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Výpočty termodynamických funkcí z prvních principů     (ab-initi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23"/>
          <p:cNvSpPr/>
          <p:nvPr/>
        </p:nvSpPr>
        <p:spPr>
          <a:xfrm>
            <a:off x="395280" y="1989000"/>
            <a:ext cx="842472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 libovolnou kryst. Mřížku čistého prvku se strukturou fáze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 mřížkovými parametry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cs-CZ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ze pro molární vnitřní energii při 0K! psá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e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 pro chemické a fázové změny nemění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,         je energie elektronové struktury získatelná z ab-initio výpočtů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často označovaná jako E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 výpočtu neuvažujene kinetickou energii jader (termální pohyb), proto vypočtené hodnoty platí pro 0K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kt 25"/>
              <p:cNvSpPr txBox="1"/>
              <p:nvPr/>
            </p:nvSpPr>
            <p:spPr>
              <a:xfrm>
                <a:off x="900000" y="3141720"/>
                <a:ext cx="7007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jádra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3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kt 27"/>
              <p:cNvSpPr txBox="1"/>
              <p:nvPr/>
            </p:nvSpPr>
            <p:spPr>
              <a:xfrm>
                <a:off x="1042920" y="3863880"/>
                <a:ext cx="1174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ons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kt 1"/>
              <p:cNvSpPr txBox="1"/>
              <p:nvPr/>
            </p:nvSpPr>
            <p:spPr>
              <a:xfrm>
                <a:off x="7380360" y="380052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ariace vzdáleností a Objemová relaxa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5256360" cy="2506320"/>
          </a:xfrm>
          <a:prstGeom prst="rect">
            <a:avLst/>
          </a:prstGeom>
          <a:ln w="0">
            <a:noFill/>
          </a:ln>
        </p:spPr>
      </p:pic>
      <p:cxnSp>
        <p:nvCxnSpPr>
          <p:cNvPr id="58" name="Přímá spojnice se šipkou 3"/>
          <p:cNvCxnSpPr/>
          <p:nvPr/>
        </p:nvCxnSpPr>
        <p:spPr>
          <a:xfrm>
            <a:off x="1476360" y="3716280"/>
            <a:ext cx="72000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TextovéPole 5"/>
          <p:cNvSpPr/>
          <p:nvPr/>
        </p:nvSpPr>
        <p:spPr>
          <a:xfrm>
            <a:off x="1216080" y="3846600"/>
            <a:ext cx="5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ovéPole 8"/>
          <p:cNvSpPr/>
          <p:nvPr/>
        </p:nvSpPr>
        <p:spPr>
          <a:xfrm>
            <a:off x="6595560" y="2276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= funkce(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kt 6"/>
              <p:cNvSpPr txBox="1"/>
              <p:nvPr/>
            </p:nvSpPr>
            <p:spPr>
              <a:xfrm>
                <a:off x="6012000" y="227664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2" name="TextovéPole 10" descr=""/>
          <p:cNvPicPr/>
          <p:nvPr/>
        </p:nvPicPr>
        <p:blipFill>
          <a:blip r:embed="rId2"/>
          <a:stretch/>
        </p:blipFill>
        <p:spPr>
          <a:xfrm>
            <a:off x="6613560" y="2992320"/>
            <a:ext cx="2146320" cy="536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Objekt 11"/>
              <p:cNvSpPr txBox="1"/>
              <p:nvPr/>
            </p:nvSpPr>
            <p:spPr>
              <a:xfrm>
                <a:off x="6039000" y="2990880"/>
                <a:ext cx="504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64" name="TextovéPole 7" descr=""/>
          <p:cNvPicPr/>
          <p:nvPr/>
        </p:nvPicPr>
        <p:blipFill>
          <a:blip r:embed="rId3"/>
          <a:stretch/>
        </p:blipFill>
        <p:spPr>
          <a:xfrm>
            <a:off x="969840" y="5230800"/>
            <a:ext cx="292572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jemová relax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Objekt 2"/>
          <p:cNvGraphicFramePr/>
          <p:nvPr/>
        </p:nvGraphicFramePr>
        <p:xfrm>
          <a:off x="468360" y="2133720"/>
          <a:ext cx="496728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Objek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4967280" cy="4319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Picture 3" descr="Jenstr2"/>
          <p:cNvPicPr/>
          <p:nvPr/>
        </p:nvPicPr>
        <p:blipFill>
          <a:blip r:embed="rId3"/>
          <a:stretch/>
        </p:blipFill>
        <p:spPr>
          <a:xfrm>
            <a:off x="5796000" y="2060640"/>
            <a:ext cx="273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00"/>
                </a:solidFill>
                <a:latin typeface="Calibri"/>
              </a:rPr>
              <a:t>Energie mřížkových struktur po objemové relaxac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Lattice stability"/>
          <p:cNvPicPr/>
          <p:nvPr/>
        </p:nvPicPr>
        <p:blipFill>
          <a:blip r:embed="rId1"/>
          <a:stretch/>
        </p:blipFill>
        <p:spPr>
          <a:xfrm>
            <a:off x="611280" y="206064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71" name="TextovéPole 2"/>
          <p:cNvSpPr/>
          <p:nvPr/>
        </p:nvSpPr>
        <p:spPr>
          <a:xfrm>
            <a:off x="4932360" y="2421000"/>
            <a:ext cx="3600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jstabilněnší (při 0K) je pro Fe struktura bc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28800" y="189000"/>
            <a:ext cx="70070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Posouzení fázové stability dvousložkové směs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kt 2"/>
              <p:cNvSpPr txBox="1"/>
              <p:nvPr/>
            </p:nvSpPr>
            <p:spPr>
              <a:xfrm>
                <a:off x="351000" y="1768320"/>
                <a:ext cx="6740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G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ER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S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E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S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kt 4"/>
              <p:cNvSpPr txBox="1"/>
              <p:nvPr/>
            </p:nvSpPr>
            <p:spPr>
              <a:xfrm>
                <a:off x="1828800" y="2382840"/>
                <a:ext cx="2954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Δ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kt 5"/>
              <p:cNvSpPr txBox="1"/>
              <p:nvPr/>
            </p:nvSpPr>
            <p:spPr>
              <a:xfrm>
                <a:off x="366840" y="3213000"/>
                <a:ext cx="61848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H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U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f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kt 6"/>
              <p:cNvSpPr txBox="1"/>
              <p:nvPr/>
            </p:nvSpPr>
            <p:spPr>
              <a:xfrm>
                <a:off x="669960" y="4065480"/>
                <a:ext cx="12589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kt 7"/>
              <p:cNvSpPr txBox="1"/>
              <p:nvPr/>
            </p:nvSpPr>
            <p:spPr>
              <a:xfrm>
                <a:off x="692280" y="4471920"/>
                <a:ext cx="8665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Δ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kt 8"/>
              <p:cNvSpPr txBox="1"/>
              <p:nvPr/>
            </p:nvSpPr>
            <p:spPr>
              <a:xfrm>
                <a:off x="166680" y="5530680"/>
                <a:ext cx="61740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kt 9"/>
              <p:cNvSpPr txBox="1"/>
              <p:nvPr/>
            </p:nvSpPr>
            <p:spPr>
              <a:xfrm>
                <a:off x="5076720" y="5573880"/>
                <a:ext cx="3682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L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0" name="Rectangle 9"/>
          <p:cNvSpPr/>
          <p:nvPr/>
        </p:nvSpPr>
        <p:spPr>
          <a:xfrm>
            <a:off x="324000" y="1277640"/>
            <a:ext cx="3935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ůči standardní fázové struktuř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1"/>
          <p:cNvSpPr/>
          <p:nvPr/>
        </p:nvSpPr>
        <p:spPr>
          <a:xfrm flipV="1">
            <a:off x="2050920" y="4151880"/>
            <a:ext cx="500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299880" y="3639960"/>
            <a:ext cx="2497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je třeba zjistit: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2050920" y="4081680"/>
            <a:ext cx="5004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.. je absolutně nejvyšším členem a lze spočítat ab-inic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849320" y="4469760"/>
            <a:ext cx="7177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anedbá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915840" y="5539320"/>
            <a:ext cx="4160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tno nastavit na experiment pomocí parametrů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5580000" y="5531760"/>
            <a:ext cx="3446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oužitého termodynamického modelu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324000" y="2234160"/>
            <a:ext cx="15253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Metody pro výpoče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kt 9"/>
              <p:cNvSpPr txBox="1"/>
              <p:nvPr/>
            </p:nvSpPr>
            <p:spPr>
              <a:xfrm>
                <a:off x="6012000" y="333360"/>
                <a:ext cx="1716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E</m:t>
                        </m:r>
                      </m:e>
                      <m:sup>
                        <m:r>
                          <m:t xml:space="preserve">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ER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ovéPole 10"/>
          <p:cNvSpPr/>
          <p:nvPr/>
        </p:nvSpPr>
        <p:spPr>
          <a:xfrm>
            <a:off x="539640" y="1125360"/>
            <a:ext cx="561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Full potential linearized augmented plane waves (FLAPW)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nonspherical potential obsahuje E of different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Linear muffin-tin orbitals method (LMT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in atomic sphere  approximation (ASA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- spherical potential -  E of one struc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(Prof. Vřešťál, J. Houserová, …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Objekt 11"/>
          <p:cNvGraphicFramePr/>
          <p:nvPr/>
        </p:nvGraphicFramePr>
        <p:xfrm>
          <a:off x="5651640" y="3068640"/>
          <a:ext cx="3369960" cy="36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k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3068640"/>
                    <a:ext cx="336996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2480" y="91260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sku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ovéPole 1"/>
          <p:cNvSpPr/>
          <p:nvPr/>
        </p:nvSpPr>
        <p:spPr>
          <a:xfrm>
            <a:off x="971640" y="2133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ak dopočítat teplotní závislost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9-10-14T12:36:42Z</dcterms:modified>
  <cp:revision>120</cp:revision>
  <dc:subject/>
  <dc:title>C6730 Fázové rovnováhy</dc:title>
</cp:coreProperties>
</file>