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1F3F6-7A9D-4BB2-9B29-4D049E5E715B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89405-8C99-45EF-9509-6C3EB63774B4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27256-00BF-4191-B306-E2CD73ECBD69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19A-8832-4814-9B84-3EDF91EF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5DD-9A77-4C88-B80B-0864D351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0AE-6CDD-499A-8428-63D9D35B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D0E-9C9B-4F33-98A5-E9D778F9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5F2-845D-4358-8B25-7DFADE6B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74D-49D1-4472-905D-DC6E1863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BC3-806E-480D-900E-45098990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A61-FE7A-45F3-AB88-E8EDDAAC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05A-BD96-4FA9-BFC5-B8DDA976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51A-722A-47D9-816C-6D4F56D1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D85-42E6-445A-A9A3-17462227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3B7-C1F0-4DFB-9577-8D0ACB13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1D722B-1A7B-4E0F-9497-EE6C5CF2AB74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ýpočty termodynamických funkcí z prvních principů     (ab-initi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23"/>
          <p:cNvSpPr/>
          <p:nvPr/>
        </p:nvSpPr>
        <p:spPr>
          <a:xfrm>
            <a:off x="395280" y="1989000"/>
            <a:ext cx="842472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libovolnou kryst. Mřížku čistého prvku se strukturou fáze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mřížkovými parametry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ze pro molární vnitřní energii při 0K! psá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e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 pro chemické a fázové změny nemění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        je energie elektronové struktury získatelná z ab-initio výpočtů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často označovaná jako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 výpočtu neuvažujene kinetickou energii jader (termální pohyb), proto vypočtené hodnoty platí pro 0K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kt 25"/>
              <p:cNvSpPr txBox="1"/>
              <p:nvPr/>
            </p:nvSpPr>
            <p:spPr>
              <a:xfrm>
                <a:off x="900000" y="3141720"/>
                <a:ext cx="70074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jádra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on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kt 27"/>
              <p:cNvSpPr txBox="1"/>
              <p:nvPr/>
            </p:nvSpPr>
            <p:spPr>
              <a:xfrm>
                <a:off x="1042920" y="3863880"/>
                <a:ext cx="11746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on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kt 1"/>
              <p:cNvSpPr txBox="1"/>
              <p:nvPr/>
            </p:nvSpPr>
            <p:spPr>
              <a:xfrm>
                <a:off x="7380360" y="3800520"/>
                <a:ext cx="504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ariace vzdáleností a Objemová relax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5256360" cy="2506320"/>
          </a:xfrm>
          <a:prstGeom prst="rect">
            <a:avLst/>
          </a:prstGeom>
          <a:ln w="0">
            <a:noFill/>
          </a:ln>
        </p:spPr>
      </p:pic>
      <p:cxnSp>
        <p:nvCxnSpPr>
          <p:cNvPr id="58" name="Přímá spojnice se šipkou 3"/>
          <p:cNvCxnSpPr/>
          <p:nvPr/>
        </p:nvCxnSpPr>
        <p:spPr>
          <a:xfrm>
            <a:off x="1476360" y="3716280"/>
            <a:ext cx="7200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TextovéPole 5"/>
          <p:cNvSpPr/>
          <p:nvPr/>
        </p:nvSpPr>
        <p:spPr>
          <a:xfrm>
            <a:off x="1216080" y="384660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ovéPole 8"/>
          <p:cNvSpPr/>
          <p:nvPr/>
        </p:nvSpPr>
        <p:spPr>
          <a:xfrm>
            <a:off x="6595560" y="227664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funkce(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kt 6"/>
              <p:cNvSpPr txBox="1"/>
              <p:nvPr/>
            </p:nvSpPr>
            <p:spPr>
              <a:xfrm>
                <a:off x="6012000" y="2276640"/>
                <a:ext cx="504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62" name="TextovéPole 10" descr=""/>
          <p:cNvPicPr/>
          <p:nvPr/>
        </p:nvPicPr>
        <p:blipFill>
          <a:blip r:embed="rId2"/>
          <a:stretch/>
        </p:blipFill>
        <p:spPr>
          <a:xfrm>
            <a:off x="6613560" y="2992320"/>
            <a:ext cx="2146320" cy="53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kt 11"/>
              <p:cNvSpPr txBox="1"/>
              <p:nvPr/>
            </p:nvSpPr>
            <p:spPr>
              <a:xfrm>
                <a:off x="6039000" y="2990880"/>
                <a:ext cx="504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64" name="TextovéPole 7" descr=""/>
          <p:cNvPicPr/>
          <p:nvPr/>
        </p:nvPicPr>
        <p:blipFill>
          <a:blip r:embed="rId3"/>
          <a:stretch/>
        </p:blipFill>
        <p:spPr>
          <a:xfrm>
            <a:off x="969840" y="5230800"/>
            <a:ext cx="292572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jemová relax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Objekt 2"/>
          <p:cNvGraphicFramePr/>
          <p:nvPr/>
        </p:nvGraphicFramePr>
        <p:xfrm>
          <a:off x="468360" y="2133720"/>
          <a:ext cx="496728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4967280" cy="431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Picture 3" descr="Jenstr2"/>
          <p:cNvPicPr/>
          <p:nvPr/>
        </p:nvPicPr>
        <p:blipFill>
          <a:blip r:embed="rId3"/>
          <a:stretch/>
        </p:blipFill>
        <p:spPr>
          <a:xfrm>
            <a:off x="5796000" y="2060640"/>
            <a:ext cx="273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Calibri"/>
              </a:rPr>
              <a:t>Energie mřížkových struktur po objemové relaxac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Lattice stability"/>
          <p:cNvPicPr/>
          <p:nvPr/>
        </p:nvPicPr>
        <p:blipFill>
          <a:blip r:embed="rId1"/>
          <a:stretch/>
        </p:blipFill>
        <p:spPr>
          <a:xfrm>
            <a:off x="611280" y="206064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71" name="TextovéPole 2"/>
          <p:cNvSpPr/>
          <p:nvPr/>
        </p:nvSpPr>
        <p:spPr>
          <a:xfrm>
            <a:off x="4932360" y="2421000"/>
            <a:ext cx="36003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stabilněnší (při 0K) je pro Fe struktura bc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28800" y="189000"/>
            <a:ext cx="70070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Posouzení fázové stability dvousložkové směsi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kt 2"/>
              <p:cNvSpPr txBox="1"/>
              <p:nvPr/>
            </p:nvSpPr>
            <p:spPr>
              <a:xfrm>
                <a:off x="351000" y="1768320"/>
                <a:ext cx="674028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f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ER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E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kt 4"/>
              <p:cNvSpPr txBox="1"/>
              <p:nvPr/>
            </p:nvSpPr>
            <p:spPr>
              <a:xfrm>
                <a:off x="1828800" y="2382840"/>
                <a:ext cx="2954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H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Δ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kt 5"/>
              <p:cNvSpPr txBox="1"/>
              <p:nvPr/>
            </p:nvSpPr>
            <p:spPr>
              <a:xfrm>
                <a:off x="366840" y="3213000"/>
                <a:ext cx="61848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H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U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f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E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kt 6"/>
              <p:cNvSpPr txBox="1"/>
              <p:nvPr/>
            </p:nvSpPr>
            <p:spPr>
              <a:xfrm>
                <a:off x="669960" y="4065480"/>
                <a:ext cx="12589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E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kt 7"/>
              <p:cNvSpPr txBox="1"/>
              <p:nvPr/>
            </p:nvSpPr>
            <p:spPr>
              <a:xfrm>
                <a:off x="692280" y="4471920"/>
                <a:ext cx="8665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Δ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kt 8"/>
              <p:cNvSpPr txBox="1"/>
              <p:nvPr/>
            </p:nvSpPr>
            <p:spPr>
              <a:xfrm>
                <a:off x="166680" y="5530680"/>
                <a:ext cx="617400" cy="3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kt 9"/>
              <p:cNvSpPr txBox="1"/>
              <p:nvPr/>
            </p:nvSpPr>
            <p:spPr>
              <a:xfrm>
                <a:off x="5076720" y="5573880"/>
                <a:ext cx="3682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Rectangle 9"/>
          <p:cNvSpPr/>
          <p:nvPr/>
        </p:nvSpPr>
        <p:spPr>
          <a:xfrm>
            <a:off x="324000" y="1277640"/>
            <a:ext cx="3935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ůči standardní fázové struktuř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11"/>
          <p:cNvSpPr/>
          <p:nvPr/>
        </p:nvSpPr>
        <p:spPr>
          <a:xfrm flipV="1">
            <a:off x="2050920" y="4151880"/>
            <a:ext cx="500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299880" y="3639960"/>
            <a:ext cx="2497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je třeba zjistit: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2050920" y="4081680"/>
            <a:ext cx="500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.. je absolutně nejvyšším členem a lze spočítat ab-inic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1849320" y="4469760"/>
            <a:ext cx="7177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nedbám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915840" y="5539320"/>
            <a:ext cx="4160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tno nastavit na experiment pomocí parametrů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5580000" y="5531760"/>
            <a:ext cx="3446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užitého termodynamického modelu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24000" y="2234160"/>
            <a:ext cx="15253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Metody pro výpočet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kt 9"/>
              <p:cNvSpPr txBox="1"/>
              <p:nvPr/>
            </p:nvSpPr>
            <p:spPr>
              <a:xfrm>
                <a:off x="6012000" y="333360"/>
                <a:ext cx="1716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E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ovéPole 10"/>
          <p:cNvSpPr/>
          <p:nvPr/>
        </p:nvSpPr>
        <p:spPr>
          <a:xfrm>
            <a:off x="539640" y="1125360"/>
            <a:ext cx="561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ull potential linearized augmented plane waves (FLAPW)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nonspherical potential obsahuje E of different stru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Linear muffin-tin orbitals method (LMT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in atomic sphere  approximation (ASA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spherical potential -  E of on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(Prof. Vřešťál, J. Houserová, 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Objekt 11"/>
          <p:cNvGraphicFramePr/>
          <p:nvPr/>
        </p:nvGraphicFramePr>
        <p:xfrm>
          <a:off x="5651640" y="3068640"/>
          <a:ext cx="3369960" cy="36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k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3068640"/>
                    <a:ext cx="33699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2480" y="91260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sk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ovéPole 1"/>
          <p:cNvSpPr/>
          <p:nvPr/>
        </p:nvSpPr>
        <p:spPr>
          <a:xfrm>
            <a:off x="971640" y="213372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k dopočítat teplotní závislost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9-10-14T12:36:42Z</dcterms:modified>
  <cp:revision>120</cp:revision>
  <dc:subject/>
  <dc:title>C6730 Fázové rovnováhy</dc:title>
</cp:coreProperties>
</file>