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40.jpeg" ContentType="image/jpeg"/>
  <Override PartName="/ppt/media/image55.png" ContentType="image/png"/>
  <Override PartName="/ppt/media/image53.jpeg" ContentType="image/jpeg"/>
  <Override PartName="/ppt/media/image23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6.png" ContentType="image/png"/>
  <Override PartName="/ppt/media/image45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4.png" ContentType="image/png"/>
  <Override PartName="/ppt/media/image33.png" ContentType="image/png"/>
  <Override PartName="/ppt/media/image31.jpeg" ContentType="image/jpeg"/>
  <Override PartName="/ppt/media/image30.jpeg" ContentType="image/jpeg"/>
  <Override PartName="/ppt/media/image13.png" ContentType="image/png"/>
  <Override PartName="/ppt/media/image1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18.jpeg" ContentType="image/jpeg"/>
  <Override PartName="/ppt/media/image58.png" ContentType="image/png"/>
  <Override PartName="/ppt/media/image21.png" ContentType="image/png"/>
  <Override PartName="/ppt/media/image67.jpeg" ContentType="image/jpeg"/>
  <Override PartName="/ppt/media/image22.png" ContentType="image/png"/>
  <Override PartName="/ppt/media/image20.png" ContentType="image/png"/>
  <Override PartName="/ppt/media/image37.jpeg" ContentType="image/jpeg"/>
  <Override PartName="/ppt/media/image60.jpeg" ContentType="image/jpeg"/>
  <Override PartName="/ppt/media/image64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5.png" ContentType="image/png"/>
  <Override PartName="/ppt/media/image85.png" ContentType="image/png"/>
  <Override PartName="/ppt/media/image73.png" ContentType="image/png"/>
  <Override PartName="/ppt/media/image79.png" ContentType="image/png"/>
  <Override PartName="/ppt/media/image15.png" ContentType="image/png"/>
  <Override PartName="/ppt/media/image80.png" ContentType="image/png"/>
  <Override PartName="/ppt/media/image78.png" ContentType="image/png"/>
  <Override PartName="/ppt/media/image69.jpeg" ContentType="image/jpeg"/>
  <Override PartName="/ppt/media/image77.png" ContentType="image/png"/>
  <Override PartName="/ppt/media/image59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76.png" ContentType="image/png"/>
  <Override PartName="/ppt/media/image75.png" ContentType="image/png"/>
  <Override PartName="/ppt/media/image70.jpeg" ContentType="image/jpeg"/>
  <Override PartName="/ppt/media/image35.png" ContentType="image/png"/>
  <Override PartName="/ppt/media/image74.png" ContentType="image/png"/>
  <Override PartName="/ppt/media/image71.png" ContentType="image/png"/>
  <Override PartName="/ppt/media/image68.png" ContentType="image/png"/>
  <Override PartName="/ppt/media/image25.jpeg" ContentType="image/jpeg"/>
  <Override PartName="/ppt/media/image32.png" ContentType="image/png"/>
  <Override PartName="/ppt/media/image2.png" ContentType="image/png"/>
  <Override PartName="/ppt/media/image14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72.png" ContentType="image/png"/>
  <Override PartName="/ppt/media/image38.jpeg" ContentType="image/jpeg"/>
  <Override PartName="/ppt/media/image43.jpeg" ContentType="image/jpeg"/>
  <Override PartName="/ppt/media/image28.png" ContentType="image/png"/>
  <Override PartName="/ppt/media/image8.jpeg" ContentType="image/jpeg"/>
  <Override PartName="/ppt/media/image26.png" ContentType="image/png"/>
  <Override PartName="/ppt/media/image5.png" ContentType="image/png"/>
  <Override PartName="/ppt/media/image82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57.png" ContentType="image/png"/>
  <Override PartName="/ppt/media/image54.gif" ContentType="image/gif"/>
  <Override PartName="/ppt/media/image83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47CA8-8B60-4ECB-818C-BA9AFB930CCA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D87BD-0BFC-4BAD-9319-382A703F090A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0F9A9-C2D9-45F0-A9D0-BDB8B7955705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6C8-0F60-4BCA-B612-AA25E4FB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35A-657C-4418-8E26-047E1DA8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901C-AEFD-4EBA-AD0D-CDFD9FBC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F412-09D3-4EF6-B34F-1DED81FB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E0EB-4C27-47F5-89AA-9563DA62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BB8-D863-400E-9AD3-AAAAD3F3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D8C-87B1-4A80-9D50-E9BA4676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ED5-2B91-4B65-99CC-AED4496B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20E-3DDB-4F32-B747-5F7EDF9C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60D2-1FFD-4BA4-8A83-BECDD9E2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F6B-DBEF-441F-913E-F5C3C708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8C2-1D73-4377-A112-3CF5878C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409749-5139-4D89-AA7C-76FCF575E440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i6ns205cPPAhVL7RQKHWy3Aw0QjRwIBw&amp;url=http%3A%2F%2Fwww.briangwilliams.us%2Fatmospheric-chemistry%2Fpt-dp-j-t-dp.html&amp;bvm=bv.134495766,d.d24&amp;psig=AFQjCNEYZlzCWP3QKemJi_kKyMbRNxoN_Q&amp;ust=1475761212889942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s://www.google.cz/url?sa=i&amp;rct=j&amp;q=&amp;esrc=s&amp;source=images&amp;cd=&amp;ved=2ahUKEwj83ZKD-vrkAhVU5eAKHZ2gABMQjRx6BAgBEAQ&amp;url=https%3A%2F%2Flink.springer.com%2Farticle%2F10.1007%2Fs11669-018-0656-x&amp;psig=AOvVaw2MwId1bwGdZuQGTRX2M4g6&amp;ust=1570015377384283" TargetMode="External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ved=2ahUKEwjNz9CpoYzlAhVBL1AKHRGsACUQjRx6BAgBEAQ&amp;url=https%3A%2F%2Flat.zshk.cz%2Fmedia.aspx%3Fid%3DSlt014%26TB_iframe%3Dtrue%26height%3D750%26width%3D820&amp;psig=AOvVaw1UFOua5rVYLsffIy9zdUA9&amp;ust=1570610264213071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cielo.br/img/revistas/mr/v22n1//1516-1439-mr-22-01-e20180327-gf01.jpg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hyperlink" Target="http://www.google.cz/url?sa=i&amp;rct=j&amp;q=&amp;esrc=s&amp;source=images&amp;cd=&amp;ved=2ahUKEwio0q_wpYzlAhUIKFAKHcbJBOEQjRx6BAgBEAQ&amp;url=http%3A%2F%2Fftp.aip.org%2Fepaps%2Fj_chem_phys%2FE-JCPSA6-133-020029%2FLLS%2520JCP%2520EPAPS%2520RFC.pdf&amp;psig=AOvVaw2Kf35ZhVek6xfcLYl2oUBD&amp;ust=1570611445344185" TargetMode="External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tkfWft4zlAhUCZVAKHfnFAFUQjRx6BAgBEAQ&amp;url=https%3A%2F%2Fwww.researchgate.net%2Ffigure%2FCourbe-denergie-libre-dun-alliage-binaire-pouvant-presenter-une-decomposition_fig26_280791162&amp;psig=AOvVaw2Kf35ZhVek6xfcLYl2oUBD&amp;ust=1570611445344185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s://www.sciencedirect.com/science/article/pii/S0364591616301705" TargetMode="External"/><Relationship Id="rId4" Type="http://schemas.openxmlformats.org/officeDocument/2006/relationships/image" Target="../media/image38.jpe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nanohub.org/courses/PEP/s2017/outline/unit1introuctiontopolymerphysics/l18flory-hugginstheory" TargetMode="External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hyperlink" Target="https://www.google.cz/url?sa=i&amp;rct=j&amp;q=&amp;esrc=s&amp;source=images&amp;cd=&amp;cad=rja&amp;uact=8&amp;ved=0CAcQjRxqFQoTCOSG7vHw0MgCFSOncgodun8Hkg&amp;url=https%3A%2F%2Fcs.wikibooks.org%2Fwiki%2FV%25C3%25BDroba_alkoholick%25C3%25BDch_n%25C3%25A1poj%25C5%25AF&amp;psig=AFQjCNEeEXPjsfy_lHUxvC9KTy0UBQUHLA&amp;ust=1445424723465914" TargetMode="External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www.google.cz/url?sa=i&amp;rct=j&amp;q=&amp;esrc=s&amp;source=images&amp;cd=&amp;cad=rja&amp;uact=8&amp;ved=0CAcQjRxqFQoTCJOdwI7x0MgCFSO9cgod910DDQ&amp;url=http%3A%2F%2Fwww.domaci-palirny.cz%2FDestilacni-pristroj-ALADIN-10L-komplet-d29.htm&amp;psig=AFQjCNEeEXPjsfy_lHUxvC9KTy0UBQUHLA&amp;ust=1445424723465914" TargetMode="External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CAcQjRxqFQoTCJjH4-Pq0MgCFclcFAodVOAOmw&amp;url=http%3A%2F%2Fklikusus.mypage.cz%2Fmenu%2Fvyroba-palenky%2Fproces-destilace-alkoholu&amp;psig=AFQjCNFH_HqXi_AP3ZvHg7v_UR6E0QSeMQ&amp;ust=1445423058689469" TargetMode="External"/><Relationship Id="rId2" Type="http://schemas.openxmlformats.org/officeDocument/2006/relationships/image" Target="../media/image54.gif"/><Relationship Id="rId3" Type="http://schemas.openxmlformats.org/officeDocument/2006/relationships/hyperlink" Target="http://www.google.cz/url?sa=i&amp;rct=j&amp;q=&amp;esrc=s&amp;source=images&amp;cd=&amp;cad=rja&amp;uact=8&amp;ved=0CAUQjRxqFQoTCLjXm5Tr0MgCFUS5FAodlqENPQ&amp;url=http%3A%2F%2Fold.vscht.cz%2Fanl%2Fmatejka%2FChemie06b-fazovepremeny-separace.pdf&amp;psig=AFQjCNEflxP2DOtMtBinRMuM3glu3x-Wxw&amp;ust=1445423196324803" TargetMode="External"/><Relationship Id="rId4" Type="http://schemas.openxmlformats.org/officeDocument/2006/relationships/hyperlink" Target="http://www.google.cz/url?sa=i&amp;rct=j&amp;q=&amp;esrc=s&amp;source=images&amp;cd=&amp;cad=rja&amp;uact=8&amp;ved=0CAUQjRxqFQoTCLjXm5Tr0MgCFUS5FAodlqENPQ&amp;url=http%3A%2F%2Fold.vscht.cz%2Fanl%2Fmatejka%2FChemie06b-fazovepremeny-separace.pdf&amp;psig=AFQjCNEflxP2DOtMtBinRMuM3glu3x-Wxw&amp;ust=1445423196324803" TargetMode="External"/><Relationship Id="rId5" Type="http://schemas.openxmlformats.org/officeDocument/2006/relationships/hyperlink" Target="https://www.google.cz/url?sa=i&amp;rct=j&amp;q=&amp;esrc=s&amp;source=images&amp;cd=&amp;cad=rja&amp;uact=8&amp;ved=0CAUQjRxqFQoTCOL3lvbr0MgCFYI7FAodmoICPA&amp;url=https%3A%2F%2Fis.muni.cz%2Fel%2F1431%2Fpodzim2007%2FC5160%2Fum%2F2407143%2FUloha_4d_destilace.pdf&amp;psig=AFQjCNEUwvc6cdU32jmbXW8yBrdAEQtRMw&amp;ust=1445423321725768" TargetMode="External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hyperlink" Target="https://www.google.cz/url?sa=i&amp;rct=j&amp;q=&amp;esrc=s&amp;source=images&amp;cd=&amp;ved=2ahUKEwjXoO2pxozlAhWNZ1AKHfwPASYQjRx6BAgBEAQ&amp;url=https%3A%2F%2Fwww.sciencedirect.com%2Fscience%2Farticle%2Fpii%2FS1874564405800074%2Fpdf%3Fmd5%3Dc3a18f892a89d864deffb31cbe6af184%26pid%3D1-s2.0-S1874564405800074-main.pdf&amp;psig=AOvVaw0XyPM-rmJCG_2J0FH4fOoX&amp;ust=1570620193596739" TargetMode="External"/><Relationship Id="rId3" Type="http://schemas.openxmlformats.org/officeDocument/2006/relationships/hyperlink" Target="https://www.google.cz/url?sa=i&amp;rct=j&amp;q=&amp;esrc=s&amp;source=images&amp;cd=&amp;ved=2ahUKEwjXoO2pxozlAhWNZ1AKHfwPASYQjRx6BAgBEAQ&amp;url=https%3A%2F%2Fwww.sciencedirect.com%2Fscience%2Farticle%2Fpii%2FS1874564405800074%2Fpdf%3Fmd5%3Dc3a18f892a89d864deffb31cbe6af184%26pid%3D1-s2.0-S1874564405800074-main.pdf&amp;psig=AOvVaw0XyPM-rmJCG_2J0FH4fOoX&amp;ust=1570620193596739" TargetMode="External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hyperlink" Target="http://www.google.cz/url?sa=i&amp;rct=j&amp;q=&amp;esrc=s&amp;source=images&amp;cd=&amp;cad=rja&amp;uact=8&amp;ved=0CAcQjRxqFQoTCOC20qrm0MgCFUhWFAodXF0Ggw&amp;url=http%3A%2F%2Ffch.upol.cz%2Fskripta%2Fzfcm%2Frektif%2Frektif_teorie.htm&amp;psig=AFQjCNFZqzD0rG-Y3fQet1LrsVnr0o4i7Q&amp;ust=1445421885372061" TargetMode="External"/><Relationship Id="rId3" Type="http://schemas.openxmlformats.org/officeDocument/2006/relationships/image" Target="../media/image60.jpe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hyperlink" Target="https://en.wikipedia.org/wiki/File:Excess_Volume_Mixture_of_Ethanol_and_Water.png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ved=2ahUKEwjzvYb78_rkAhUc5uAKHX9RCZwQjRx6BAgBEAQ&amp;url=https%3A%2F%2Fwww.researchgate.net%2Ffigure%2FRelationship-of-molar-Gibbs-energy-of-a-solution-to-the-partial-molar-Gibbs-energies-and_fig3_233586790&amp;psig=AOvVaw3laCkuN1m7a2Zh5CPCm_oK&amp;ust=1570013968278706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hyperlink" Target="https://www.google.cz/url?sa=i&amp;rct=j&amp;q=&amp;esrc=s&amp;source=images&amp;cd=&amp;ved=2ahUKEwjD6_Gc9frkAhXGD2MBHUzOBVMQjRx6BAgBEAQ&amp;url=https%3A%2F%2Fwww.sciencedirect.com%2Ftopics%2Fchemistry%2Fgibbs-free-energy&amp;psig=AOvVaw3laCkuN1m7a2Zh5CPCm_oK&amp;ust=1570013968278706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S66Ls5cPPAhXJOBQKHVxrBrkQjRwIBw&amp;url=http%3A%2F%2Fslideplayer.com%2Fslide%2F784710%2F&amp;bvm=bv.134495766,d.d24&amp;psig=AFQjCNFU7rRvlXKnag2tItULpE8CBaWEfg&amp;ust=1475761415304707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google.cz/url?sa=i&amp;rct=j&amp;q=&amp;esrc=s&amp;source=images&amp;cd=&amp;ved=2ahUKEwjBvOHa9frkAhXN8OAKHcztCWMQjRx6BAgBEAQ&amp;url=http%3A%2F%2Fwww1.lsbu.ac.uk%2Fwater%2Fthermodynamics.html&amp;psig=AOvVaw3laCkuN1m7a2Zh5CPCm_oK&amp;ust=1570013968278706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vnováha v binární soustavě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6" descr="http://www.separationprocesses.com/Distillation/DT_Figures/Fig201.gif"/>
          <p:cNvPicPr/>
          <p:nvPr/>
        </p:nvPicPr>
        <p:blipFill>
          <a:blip r:embed="rId1"/>
          <a:stretch/>
        </p:blipFill>
        <p:spPr>
          <a:xfrm>
            <a:off x="250920" y="2060640"/>
            <a:ext cx="5316480" cy="3549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http://upload.wikimedia.org/wikipedia/commons/1/17/Distillation_by_Retort.png"/>
          <p:cNvPicPr/>
          <p:nvPr/>
        </p:nvPicPr>
        <p:blipFill>
          <a:blip r:embed="rId2"/>
          <a:stretch/>
        </p:blipFill>
        <p:spPr>
          <a:xfrm>
            <a:off x="5281560" y="4452840"/>
            <a:ext cx="3532320" cy="2314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http://hacker.faculty.geol.ucsb.edu/geo124T/Vmix.jpg"/>
          <p:cNvPicPr/>
          <p:nvPr/>
        </p:nvPicPr>
        <p:blipFill>
          <a:blip r:embed="rId3"/>
          <a:stretch/>
        </p:blipFill>
        <p:spPr>
          <a:xfrm>
            <a:off x="5940360" y="1557360"/>
            <a:ext cx="26575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lak par nad jednosložkovou soustavou - odpaření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7416720" cy="3527640"/>
          </a:xfrm>
          <a:prstGeom prst="rect">
            <a:avLst/>
          </a:prstGeom>
          <a:ln w="0">
            <a:noFill/>
          </a:ln>
        </p:spPr>
      </p:pic>
      <p:sp>
        <p:nvSpPr>
          <p:cNvPr id="137" name="TextovéPole 2"/>
          <p:cNvSpPr/>
          <p:nvPr/>
        </p:nvSpPr>
        <p:spPr>
          <a:xfrm>
            <a:off x="326880" y="5486400"/>
            <a:ext cx="5399280" cy="124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d čistou kapalinou se teploty T vytvoří páry, které mají tla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Nad 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ěsí mají tlak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TextovéPole 3" descr=""/>
          <p:cNvPicPr/>
          <p:nvPr/>
        </p:nvPicPr>
        <p:blipFill>
          <a:blip r:embed="rId2"/>
          <a:stretch/>
        </p:blipFill>
        <p:spPr>
          <a:xfrm>
            <a:off x="6083280" y="5486400"/>
            <a:ext cx="2152800" cy="785880"/>
          </a:xfrm>
          <a:prstGeom prst="rect">
            <a:avLst/>
          </a:prstGeom>
          <a:ln w="0">
            <a:noFill/>
          </a:ln>
        </p:spPr>
      </p:pic>
      <p:sp>
        <p:nvSpPr>
          <p:cNvPr id="139" name="TextovéPole 4"/>
          <p:cNvSpPr/>
          <p:nvPr/>
        </p:nvSpPr>
        <p:spPr>
          <a:xfrm>
            <a:off x="5726160" y="6396120"/>
            <a:ext cx="32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(0)=1Atm…stand. tl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ovéPole 5"/>
          <p:cNvSpPr/>
          <p:nvPr/>
        </p:nvSpPr>
        <p:spPr>
          <a:xfrm>
            <a:off x="326880" y="4527720"/>
            <a:ext cx="39402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nitřní tlak je roven tlaku nad kapalinou. Ten zůstává stejný i v případě přítomnosti jiného plynu (chová-li se směs ideálně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1" name="Přímá spojnice se šipkou 7"/>
          <p:cNvCxnSpPr/>
          <p:nvPr/>
        </p:nvCxnSpPr>
        <p:spPr>
          <a:xfrm flipV="1">
            <a:off x="3276720" y="4292280"/>
            <a:ext cx="1558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2" name="TextovéPole 1"/>
          <p:cNvSpPr/>
          <p:nvPr/>
        </p:nvSpPr>
        <p:spPr>
          <a:xfrm>
            <a:off x="8061120" y="56246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eideální binární plynná směs </a:t>
            </a:r>
            <a:br>
              <a:rPr sz="40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při konst. Teplotě)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4" name="Picture 2" descr="Výsledek obrázku pro chemical potential mix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44640"/>
            <a:ext cx="5060880" cy="3745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https://is.muni.cz/do/rect/el/estud/prif/js11/fyz_chem/web/obr/7/Raoult_Henry.jpg"/>
          <p:cNvPicPr/>
          <p:nvPr/>
        </p:nvPicPr>
        <p:blipFill>
          <a:blip r:embed="rId3"/>
          <a:stretch/>
        </p:blipFill>
        <p:spPr>
          <a:xfrm>
            <a:off x="5462640" y="1852560"/>
            <a:ext cx="3568680" cy="3876840"/>
          </a:xfrm>
          <a:prstGeom prst="rect">
            <a:avLst/>
          </a:prstGeom>
          <a:ln w="0">
            <a:noFill/>
          </a:ln>
        </p:spPr>
      </p:pic>
      <p:sp>
        <p:nvSpPr>
          <p:cNvPr id="146" name="TextovéPole 1"/>
          <p:cNvSpPr/>
          <p:nvPr/>
        </p:nvSpPr>
        <p:spPr>
          <a:xfrm>
            <a:off x="625680" y="5862600"/>
            <a:ext cx="32378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porná odchylka od R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5290920" y="6014880"/>
            <a:ext cx="3102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ladná odchylka od R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400" y="333360"/>
            <a:ext cx="7770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gnetický příspěvek k Gibbsově energi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324000" y="1262160"/>
            <a:ext cx="7503840" cy="3168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Výsledek obrázku pro gibbs energy magnetic contribution ir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48360" y="3606840"/>
            <a:ext cx="374328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770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Gibbsova energie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503280" y="1341360"/>
            <a:ext cx="83167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dmísení stejných fází ve vícesložkových soustavách 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4" name="Picture 6" descr="Výsledek obrázku pro destilace vodní parou aparatu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2043000"/>
            <a:ext cx="5267520" cy="3957840"/>
          </a:xfrm>
          <a:prstGeom prst="rect">
            <a:avLst/>
          </a:prstGeom>
          <a:ln w="0">
            <a:noFill/>
          </a:ln>
        </p:spPr>
      </p:pic>
      <p:sp>
        <p:nvSpPr>
          <p:cNvPr id="155" name="TextovéPole 2"/>
          <p:cNvSpPr/>
          <p:nvPr/>
        </p:nvSpPr>
        <p:spPr>
          <a:xfrm>
            <a:off x="2063160" y="2421000"/>
            <a:ext cx="3010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estilace vodní par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ovéPole 7"/>
          <p:cNvSpPr/>
          <p:nvPr/>
        </p:nvSpPr>
        <p:spPr>
          <a:xfrm>
            <a:off x="6262560" y="4630680"/>
            <a:ext cx="21560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dmísení a stratifikace kapal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9" descr="Density is mass per unit volume of a solid, liquid, or gas."/>
          <p:cNvPicPr/>
          <p:nvPr/>
        </p:nvPicPr>
        <p:blipFill>
          <a:blip r:embed="rId3"/>
          <a:stretch/>
        </p:blipFill>
        <p:spPr>
          <a:xfrm>
            <a:off x="6249960" y="2043000"/>
            <a:ext cx="24703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Odmísení v tuhé fázi typu BCC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9" name="Picture 2" descr="http://www.scielo.br/img/revistas/mr/v22n1/1516-1439-mr-22-01-e20180327-gf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205000"/>
            <a:ext cx="3436920" cy="2736720"/>
          </a:xfrm>
          <a:prstGeom prst="rect">
            <a:avLst/>
          </a:prstGeom>
          <a:ln w="0">
            <a:noFill/>
          </a:ln>
        </p:spPr>
      </p:pic>
      <p:sp>
        <p:nvSpPr>
          <p:cNvPr id="160" name="Obdélník 2"/>
          <p:cNvSpPr/>
          <p:nvPr/>
        </p:nvSpPr>
        <p:spPr>
          <a:xfrm>
            <a:off x="539640" y="4941720"/>
            <a:ext cx="343692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RD patterns of AlCoCuFeMnNi without and with 1wt% CeO2 HEAC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367668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606600" y="1608120"/>
            <a:ext cx="7392960" cy="488808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1"/>
          <p:cNvSpPr/>
          <p:nvPr/>
        </p:nvSpPr>
        <p:spPr>
          <a:xfrm>
            <a:off x="1476360" y="173160"/>
            <a:ext cx="5891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eformace Gibbsovy molární energie směs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ovéPole 1"/>
          <p:cNvSpPr/>
          <p:nvPr/>
        </p:nvSpPr>
        <p:spPr>
          <a:xfrm>
            <a:off x="628200" y="965160"/>
            <a:ext cx="4077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tuhé fázi – regulární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770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dmíšení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761080" cy="3889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179280" y="4413240"/>
            <a:ext cx="3222720" cy="244476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6">
            <a:hlinkClick r:id="rId3"/>
          </p:cNvPr>
          <p:cNvSpPr/>
          <p:nvPr/>
        </p:nvSpPr>
        <p:spPr>
          <a:xfrm>
            <a:off x="133200" y="-89064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9" descr=""/>
          <p:cNvPicPr/>
          <p:nvPr/>
        </p:nvPicPr>
        <p:blipFill>
          <a:blip r:embed="rId4"/>
          <a:stretch/>
        </p:blipFill>
        <p:spPr>
          <a:xfrm>
            <a:off x="6029280" y="2343240"/>
            <a:ext cx="2905200" cy="4476600"/>
          </a:xfrm>
          <a:prstGeom prst="rect">
            <a:avLst/>
          </a:prstGeom>
          <a:ln w="0">
            <a:noFill/>
          </a:ln>
        </p:spPr>
      </p:pic>
      <p:sp>
        <p:nvSpPr>
          <p:cNvPr id="170" name="TextovéPole 1"/>
          <p:cNvSpPr/>
          <p:nvPr/>
        </p:nvSpPr>
        <p:spPr>
          <a:xfrm>
            <a:off x="6029280" y="692280"/>
            <a:ext cx="27068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nodála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GM koncových bodů hranice vzájemné rozpust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ovéPole 2"/>
          <p:cNvSpPr/>
          <p:nvPr/>
        </p:nvSpPr>
        <p:spPr>
          <a:xfrm>
            <a:off x="3851280" y="573264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Obdélník 3"/>
          <p:cNvSpPr/>
          <p:nvPr/>
        </p:nvSpPr>
        <p:spPr>
          <a:xfrm>
            <a:off x="3635280" y="4633920"/>
            <a:ext cx="230508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inodála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GM koncových bodů spinodál, které spojují inflexni body Gm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5080" y="115920"/>
            <a:ext cx="864072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zbarierová nukleace spinodálního rozpad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74" name="Picture 2" descr="Související obráze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4969080" cy="4968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Související obráze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1197000"/>
            <a:ext cx="4213440" cy="3286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5"/>
          <a:stretch/>
        </p:blipFill>
        <p:spPr>
          <a:xfrm>
            <a:off x="5245200" y="4653000"/>
            <a:ext cx="2232000" cy="1884240"/>
          </a:xfrm>
          <a:prstGeom prst="rect">
            <a:avLst/>
          </a:prstGeom>
          <a:ln w="0">
            <a:noFill/>
          </a:ln>
        </p:spPr>
      </p:pic>
      <p:sp>
        <p:nvSpPr>
          <p:cNvPr id="177" name="Obdélník 2"/>
          <p:cNvSpPr/>
          <p:nvPr/>
        </p:nvSpPr>
        <p:spPr>
          <a:xfrm>
            <a:off x="952560" y="1200240"/>
            <a:ext cx="3744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microstructure evolution of spinodal decompositi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Obdélník 7"/>
          <p:cNvSpPr/>
          <p:nvPr/>
        </p:nvSpPr>
        <p:spPr>
          <a:xfrm>
            <a:off x="7477200" y="4653000"/>
            <a:ext cx="140472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ul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spinodal decompositi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ovéPole 2"/>
          <p:cNvSpPr/>
          <p:nvPr/>
        </p:nvSpPr>
        <p:spPr>
          <a:xfrm>
            <a:off x="1923120" y="279360"/>
            <a:ext cx="3079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m pro Pro polym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5" descr="Výsledek obrázku pro Flory–Huggins theo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18120" y="3860640"/>
            <a:ext cx="4021200" cy="3021120"/>
          </a:xfrm>
          <a:prstGeom prst="rect">
            <a:avLst/>
          </a:prstGeom>
          <a:ln w="0">
            <a:noFill/>
          </a:ln>
        </p:spPr>
      </p:pic>
      <p:sp>
        <p:nvSpPr>
          <p:cNvPr id="181" name="TextovéPole 5"/>
          <p:cNvSpPr/>
          <p:nvPr/>
        </p:nvSpPr>
        <p:spPr>
          <a:xfrm>
            <a:off x="5794920" y="1125360"/>
            <a:ext cx="3051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…volume fraction of specie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Obdélník 9"/>
          <p:cNvSpPr/>
          <p:nvPr/>
        </p:nvSpPr>
        <p:spPr>
          <a:xfrm>
            <a:off x="250920" y="63831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ttps://www.princeton.edu/~akosmrlj/pdf/2019_Mao_SoftMatter.pd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3"/>
          <a:stretch/>
        </p:blipFill>
        <p:spPr>
          <a:xfrm>
            <a:off x="250920" y="879480"/>
            <a:ext cx="51386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720" y="259920"/>
            <a:ext cx="561528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arciální veličiny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042920" y="1252440"/>
            <a:ext cx="7786800" cy="524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5508720" y="546120"/>
            <a:ext cx="2463840" cy="70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4" name="TextovéPole 1"/>
          <p:cNvSpPr/>
          <p:nvPr/>
        </p:nvSpPr>
        <p:spPr>
          <a:xfrm>
            <a:off x="6588000" y="1773360"/>
            <a:ext cx="18003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jemová expanze při smíš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230040" y="692280"/>
            <a:ext cx="8798040" cy="554508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230040" y="63295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ttps://www.princeton.edu/~akosmrlj/pdf/2019_Mao_SoftMatter.pd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ovnováha nemísitelných kapalin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7" name="Picture 2" descr="https://ars.els-cdn.com/content/image/3-s2.0-B9780123706102500155-f10-09-9780123706102.jpg?_"/>
          <p:cNvPicPr/>
          <p:nvPr/>
        </p:nvPicPr>
        <p:blipFill>
          <a:blip r:embed="rId1"/>
          <a:stretch/>
        </p:blipFill>
        <p:spPr>
          <a:xfrm>
            <a:off x="3492360" y="3406680"/>
            <a:ext cx="5248440" cy="3171960"/>
          </a:xfrm>
          <a:prstGeom prst="rect">
            <a:avLst/>
          </a:prstGeom>
          <a:ln w="0">
            <a:noFill/>
          </a:ln>
        </p:spPr>
      </p:pic>
      <p:sp>
        <p:nvSpPr>
          <p:cNvPr id="188" name="TextovéPole 2"/>
          <p:cNvSpPr/>
          <p:nvPr/>
        </p:nvSpPr>
        <p:spPr>
          <a:xfrm>
            <a:off x="3799800" y="2838600"/>
            <a:ext cx="3650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ar nemísitelných kapal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ovéPole 3"/>
          <p:cNvSpPr/>
          <p:nvPr/>
        </p:nvSpPr>
        <p:spPr>
          <a:xfrm>
            <a:off x="324000" y="1479600"/>
            <a:ext cx="2808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mísitelnost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ární a nepolární kapaliny…… nutno popisovat různýmy modely pro Gm (asociáty, ionty,…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ovéPole 7"/>
          <p:cNvSpPr/>
          <p:nvPr/>
        </p:nvSpPr>
        <p:spPr>
          <a:xfrm>
            <a:off x="322200" y="4076640"/>
            <a:ext cx="280836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nergii a povrchové napětí rozhraní mezi nemísitelnými kapalinami nelze zanedbat pro modelování Gm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4259160" y="2747880"/>
            <a:ext cx="4919760" cy="1656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ermodynamické důvody vzniku fázové rovnováhy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395280" y="1757520"/>
            <a:ext cx="5168880" cy="5084640"/>
          </a:xfrm>
          <a:prstGeom prst="rect">
            <a:avLst/>
          </a:prstGeom>
          <a:ln w="0">
            <a:noFill/>
          </a:ln>
        </p:spPr>
      </p:pic>
      <p:sp>
        <p:nvSpPr>
          <p:cNvPr id="194" name="TextovéPole 1"/>
          <p:cNvSpPr/>
          <p:nvPr/>
        </p:nvSpPr>
        <p:spPr>
          <a:xfrm>
            <a:off x="5371560" y="2163600"/>
            <a:ext cx="1978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ískání řeš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ovéPole 5"/>
          <p:cNvSpPr/>
          <p:nvPr/>
        </p:nvSpPr>
        <p:spPr>
          <a:xfrm>
            <a:off x="5149800" y="3251160"/>
            <a:ext cx="12114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Podmínk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0920" y="25560"/>
            <a:ext cx="7770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Ideální binární FR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62000" y="620640"/>
            <a:ext cx="7008840" cy="4280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2"/>
          <a:stretch/>
        </p:blipFill>
        <p:spPr>
          <a:xfrm>
            <a:off x="2724120" y="4900680"/>
            <a:ext cx="64087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70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ivita složek v binárních diagramech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561636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Destilace_1"/>
          <p:cNvPicPr/>
          <p:nvPr/>
        </p:nvPicPr>
        <p:blipFill>
          <a:blip r:embed="rId1"/>
          <a:stretch/>
        </p:blipFill>
        <p:spPr>
          <a:xfrm>
            <a:off x="179280" y="82440"/>
            <a:ext cx="4824360" cy="6777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jednoduchý destilační aparatura, dobová rytina"/>
          <p:cNvPicPr/>
          <p:nvPr/>
        </p:nvPicPr>
        <p:blipFill>
          <a:blip r:embed="rId2"/>
          <a:stretch/>
        </p:blipFill>
        <p:spPr>
          <a:xfrm>
            <a:off x="5148360" y="69840"/>
            <a:ext cx="3809880" cy="1609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https://upload.wikimedia.org/wikipedia/commons/thumb/e/e0/Aparatura_do_destylacji_2_ubt.svg/400px-Aparatura_do_destylacji_2_ubt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05440" y="1962000"/>
            <a:ext cx="230184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395748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Binární FR s azeotropem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0" y="1674720"/>
            <a:ext cx="8804160" cy="4481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http://www.domaci-palirny.cz/fotky32102/fotos/_vyr_29alambique10litroscomplet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69120" y="69840"/>
            <a:ext cx="244800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aktická destilac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9" name="Picture 2" descr="http://img339.imageshack.us/img339/343/destila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413000"/>
            <a:ext cx="5167440" cy="419724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4">
            <a:hlinkClick r:id="rId3"/>
          </p:cNvPr>
          <p:cNvSpPr/>
          <p:nvPr/>
        </p:nvSpPr>
        <p:spPr>
          <a:xfrm>
            <a:off x="50760" y="-860400"/>
            <a:ext cx="254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6">
            <a:hlinkClick r:id="rId4"/>
          </p:cNvPr>
          <p:cNvSpPr/>
          <p:nvPr/>
        </p:nvSpPr>
        <p:spPr>
          <a:xfrm>
            <a:off x="203040" y="-708120"/>
            <a:ext cx="25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10" descr="https://encrypted-tbn0.gstatic.com/images?q=tbn:ANd9GcQWIpZc8o3jkkgrl9t39yLoJ3wxj_cDfKBmV7l6mg_U5ZjLpbE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6000" y="1197000"/>
            <a:ext cx="2649600" cy="2614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http://www.chemguide.co.uk/physical/phaseeqia/bpcompn1.gif"/>
          <p:cNvPicPr/>
          <p:nvPr/>
        </p:nvPicPr>
        <p:blipFill>
          <a:blip r:embed="rId7"/>
          <a:stretch/>
        </p:blipFill>
        <p:spPr>
          <a:xfrm>
            <a:off x="5560920" y="4221000"/>
            <a:ext cx="32781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63640" y="463320"/>
            <a:ext cx="30927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5" name="Picture 2" descr="Rektifikace"/>
          <p:cNvPicPr/>
          <p:nvPr/>
        </p:nvPicPr>
        <p:blipFill>
          <a:blip r:embed="rId1"/>
          <a:stretch/>
        </p:blipFill>
        <p:spPr>
          <a:xfrm>
            <a:off x="468360" y="189000"/>
            <a:ext cx="4695840" cy="659772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>
            <a:hlinkClick r:id="rId2"/>
          </p:cNvPr>
          <p:cNvSpPr/>
          <p:nvPr/>
        </p:nvSpPr>
        <p:spPr>
          <a:xfrm>
            <a:off x="133200" y="-1127160"/>
            <a:ext cx="19335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AutoShape 7">
            <a:hlinkClick r:id="rId3"/>
          </p:cNvPr>
          <p:cNvSpPr/>
          <p:nvPr/>
        </p:nvSpPr>
        <p:spPr>
          <a:xfrm>
            <a:off x="285840" y="-974880"/>
            <a:ext cx="19335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9" descr="https://ars.els-cdn.com/content/image/1-s2.0-S0378381201006318-gr1.gif"/>
          <p:cNvPicPr/>
          <p:nvPr/>
        </p:nvPicPr>
        <p:blipFill>
          <a:blip r:embed="rId4"/>
          <a:stretch/>
        </p:blipFill>
        <p:spPr>
          <a:xfrm>
            <a:off x="5580000" y="1449360"/>
            <a:ext cx="3114720" cy="4076640"/>
          </a:xfrm>
          <a:prstGeom prst="rect">
            <a:avLst/>
          </a:prstGeom>
          <a:ln w="0">
            <a:noFill/>
          </a:ln>
        </p:spPr>
      </p:pic>
      <p:sp>
        <p:nvSpPr>
          <p:cNvPr id="219" name="Obdélník 3"/>
          <p:cNvSpPr/>
          <p:nvPr/>
        </p:nvSpPr>
        <p:spPr>
          <a:xfrm>
            <a:off x="5796000" y="6192720"/>
            <a:ext cx="32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s://www.sciencedirect.com/science/article/pii/S03783812010063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ovéPole 7"/>
          <p:cNvSpPr/>
          <p:nvPr/>
        </p:nvSpPr>
        <p:spPr>
          <a:xfrm>
            <a:off x="5580000" y="5526000"/>
            <a:ext cx="3114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novení složení koexistujících fází (liquid-g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09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eálná kolona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2" name="Picture 10" descr="http://www.chemguide.co.uk/physical/phaseeqia/bubblecaps.gif"/>
          <p:cNvPicPr/>
          <p:nvPr/>
        </p:nvPicPr>
        <p:blipFill>
          <a:blip r:embed="rId1"/>
          <a:stretch/>
        </p:blipFill>
        <p:spPr>
          <a:xfrm>
            <a:off x="539640" y="4516560"/>
            <a:ext cx="3124440" cy="1969920"/>
          </a:xfrm>
          <a:prstGeom prst="rect">
            <a:avLst/>
          </a:prstGeom>
          <a:ln w="0">
            <a:noFill/>
          </a:ln>
        </p:spPr>
      </p:pic>
      <p:sp>
        <p:nvSpPr>
          <p:cNvPr id="223" name="TextovéPole 1"/>
          <p:cNvSpPr/>
          <p:nvPr/>
        </p:nvSpPr>
        <p:spPr>
          <a:xfrm>
            <a:off x="5580000" y="1052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estilace ro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9" descr="http://fch.upol.cz/skripta/zfcm/rektif/rektif_teorie_clip_image00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8120" y="866880"/>
            <a:ext cx="4629240" cy="3495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https://upload.wikimedia.org/wikipedia/commons/thumb/7/71/Crude_Oil_Distillation-cz.svg/260px-Crude_Oil_Distillation-cz.svg.png"/>
          <p:cNvPicPr/>
          <p:nvPr/>
        </p:nvPicPr>
        <p:blipFill>
          <a:blip r:embed="rId4"/>
          <a:stretch/>
        </p:blipFill>
        <p:spPr>
          <a:xfrm>
            <a:off x="5435640" y="1628640"/>
            <a:ext cx="3284640" cy="4321440"/>
          </a:xfrm>
          <a:prstGeom prst="rect">
            <a:avLst/>
          </a:prstGeom>
          <a:ln w="0">
            <a:noFill/>
          </a:ln>
        </p:spPr>
      </p:pic>
      <p:cxnSp>
        <p:nvCxnSpPr>
          <p:cNvPr id="226" name="Přímá spojnice se šipkou 7"/>
          <p:cNvCxnSpPr/>
          <p:nvPr/>
        </p:nvCxnSpPr>
        <p:spPr>
          <a:xfrm flipH="1" flipV="1">
            <a:off x="1891440" y="2707920"/>
            <a:ext cx="304200" cy="247392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227" name="TextovéPole 10"/>
          <p:cNvSpPr/>
          <p:nvPr/>
        </p:nvSpPr>
        <p:spPr>
          <a:xfrm>
            <a:off x="20880" y="4797360"/>
            <a:ext cx="1063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ful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8" name="Přímá spojnice se šipkou 14"/>
          <p:cNvCxnSpPr/>
          <p:nvPr/>
        </p:nvCxnSpPr>
        <p:spPr>
          <a:xfrm flipH="1" flipV="1">
            <a:off x="1476000" y="2707920"/>
            <a:ext cx="567360" cy="2953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9" name="TextovéPole 16"/>
          <p:cNvSpPr/>
          <p:nvPr/>
        </p:nvSpPr>
        <p:spPr>
          <a:xfrm>
            <a:off x="3387600" y="4811760"/>
            <a:ext cx="194328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vnováha g+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Přímá spojnice se šipkou 18"/>
          <p:cNvCxnSpPr/>
          <p:nvPr/>
        </p:nvCxnSpPr>
        <p:spPr>
          <a:xfrm flipH="1">
            <a:off x="2044080" y="4997160"/>
            <a:ext cx="1159560" cy="37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Přímá spojnice se šipkou 27"/>
          <p:cNvCxnSpPr/>
          <p:nvPr/>
        </p:nvCxnSpPr>
        <p:spPr>
          <a:xfrm flipH="1" flipV="1">
            <a:off x="1088640" y="3212280"/>
            <a:ext cx="194400" cy="15994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2" name="Přímá spojnice se šipkou 29"/>
          <p:cNvCxnSpPr/>
          <p:nvPr/>
        </p:nvCxnSpPr>
        <p:spPr>
          <a:xfrm flipH="1" flipV="1">
            <a:off x="1415520" y="3255480"/>
            <a:ext cx="75600" cy="126144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233" name="TextovéPole 23"/>
          <p:cNvSpPr/>
          <p:nvPr/>
        </p:nvSpPr>
        <p:spPr>
          <a:xfrm>
            <a:off x="5580000" y="609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tinuální pro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ovnoramenný trojúhelník 24"/>
          <p:cNvSpPr/>
          <p:nvPr/>
        </p:nvSpPr>
        <p:spPr>
          <a:xfrm>
            <a:off x="4676760" y="1468440"/>
            <a:ext cx="326880" cy="2320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eálný parciální objem H2O-etanol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388800" y="2606760"/>
            <a:ext cx="6597720" cy="3479760"/>
          </a:xfrm>
          <a:prstGeom prst="rect">
            <a:avLst/>
          </a:prstGeom>
          <a:ln w="0">
            <a:noFill/>
          </a:ln>
        </p:spPr>
      </p:pic>
      <p:sp>
        <p:nvSpPr>
          <p:cNvPr id="87" name="TextovéPole 1"/>
          <p:cNvSpPr/>
          <p:nvPr/>
        </p:nvSpPr>
        <p:spPr>
          <a:xfrm>
            <a:off x="1116000" y="2637000"/>
            <a:ext cx="32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ůběh křivek je v určitém vztah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6543720" y="4762440"/>
            <a:ext cx="2463840" cy="704880"/>
          </a:xfrm>
          <a:prstGeom prst="rect">
            <a:avLst/>
          </a:prstGeom>
          <a:ln w="0">
            <a:noFill/>
          </a:ln>
        </p:spPr>
      </p:pic>
      <p:cxnSp>
        <p:nvCxnSpPr>
          <p:cNvPr id="89" name="Přímá spojnice se šipkou 7"/>
          <p:cNvCxnSpPr/>
          <p:nvPr/>
        </p:nvCxnSpPr>
        <p:spPr>
          <a:xfrm>
            <a:off x="4932360" y="4365360"/>
            <a:ext cx="72000" cy="149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TextovéPole 6"/>
          <p:cNvSpPr/>
          <p:nvPr/>
        </p:nvSpPr>
        <p:spPr>
          <a:xfrm>
            <a:off x="7170840" y="3164040"/>
            <a:ext cx="1800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jemová kontrakce při smíš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Obdélník 1"/>
          <p:cNvSpPr/>
          <p:nvPr/>
        </p:nvSpPr>
        <p:spPr>
          <a:xfrm>
            <a:off x="403200" y="6237360"/>
            <a:ext cx="61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ača a Krčmár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s://www.posterus.sk/?p=1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8" descr="https://upload.wikimedia.org/wikipedia/commons/thumb/4/45/Excess_Volume_Mixture_of_Ethanol_and_Water.png/330px-Excess_Volume_Mixture_of_Ethanol_and_Water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896760"/>
            <a:ext cx="259848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40305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echnologi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6" name="Picture 2" descr="Výsledek obrázku pro distillation column phase diagram"/>
          <p:cNvPicPr/>
          <p:nvPr/>
        </p:nvPicPr>
        <p:blipFill>
          <a:blip r:embed="rId1"/>
          <a:stretch/>
        </p:blipFill>
        <p:spPr>
          <a:xfrm>
            <a:off x="6273720" y="290520"/>
            <a:ext cx="2381400" cy="2709720"/>
          </a:xfrm>
          <a:prstGeom prst="rect">
            <a:avLst/>
          </a:prstGeom>
          <a:ln w="0">
            <a:noFill/>
          </a:ln>
        </p:spPr>
      </p:pic>
      <p:sp>
        <p:nvSpPr>
          <p:cNvPr id="237" name="TextovéPole 2"/>
          <p:cNvSpPr/>
          <p:nvPr/>
        </p:nvSpPr>
        <p:spPr>
          <a:xfrm>
            <a:off x="6673320" y="2781360"/>
            <a:ext cx="179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íta v kolon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4" descr="Související obrázek"/>
          <p:cNvPicPr/>
          <p:nvPr/>
        </p:nvPicPr>
        <p:blipFill>
          <a:blip r:embed="rId2"/>
          <a:stretch/>
        </p:blipFill>
        <p:spPr>
          <a:xfrm>
            <a:off x="6149880" y="3689280"/>
            <a:ext cx="2838600" cy="2571840"/>
          </a:xfrm>
          <a:prstGeom prst="rect">
            <a:avLst/>
          </a:prstGeom>
          <a:ln w="0">
            <a:noFill/>
          </a:ln>
        </p:spPr>
      </p:pic>
      <p:sp>
        <p:nvSpPr>
          <p:cNvPr id="239" name="TextovéPole 5"/>
          <p:cNvSpPr/>
          <p:nvPr/>
        </p:nvSpPr>
        <p:spPr>
          <a:xfrm>
            <a:off x="6161400" y="6261120"/>
            <a:ext cx="260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loboučky v kolon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6" descr="Výsledek obrázku pro distillation column phase diagram"/>
          <p:cNvPicPr/>
          <p:nvPr/>
        </p:nvPicPr>
        <p:blipFill>
          <a:blip r:embed="rId3"/>
          <a:stretch/>
        </p:blipFill>
        <p:spPr>
          <a:xfrm>
            <a:off x="169920" y="1230480"/>
            <a:ext cx="597996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řífázová rovnováha v binární soustavě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169040" cy="3960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https://i0.wp.com/www.bragitoff.com/wp-content/uploads/2018/05/eutectic-gibbs-free-energy-curve.jpg"/>
          <p:cNvPicPr/>
          <p:nvPr/>
        </p:nvPicPr>
        <p:blipFill>
          <a:blip r:embed="rId2"/>
          <a:stretch/>
        </p:blipFill>
        <p:spPr>
          <a:xfrm>
            <a:off x="900000" y="1515960"/>
            <a:ext cx="7153560" cy="4761000"/>
          </a:xfrm>
          <a:prstGeom prst="rect">
            <a:avLst/>
          </a:prstGeom>
          <a:ln w="0">
            <a:noFill/>
          </a:ln>
        </p:spPr>
      </p:pic>
      <p:sp>
        <p:nvSpPr>
          <p:cNvPr id="244" name="Obdélník 1"/>
          <p:cNvSpPr/>
          <p:nvPr/>
        </p:nvSpPr>
        <p:spPr>
          <a:xfrm>
            <a:off x="787320" y="63961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ttps://slideplayer.com/slide/10955459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eritectic equilibrium 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6" name="Picture 4" descr="https://i1.wp.com/www.bragitoff.com/wp-content/uploads/2018/05/peritectic-gibbs-free-energy.jpg"/>
          <p:cNvPicPr/>
          <p:nvPr/>
        </p:nvPicPr>
        <p:blipFill>
          <a:blip r:embed="rId1"/>
          <a:stretch/>
        </p:blipFill>
        <p:spPr>
          <a:xfrm>
            <a:off x="468360" y="1557360"/>
            <a:ext cx="8458200" cy="4464000"/>
          </a:xfrm>
          <a:prstGeom prst="rect">
            <a:avLst/>
          </a:prstGeom>
          <a:ln w="0">
            <a:noFill/>
          </a:ln>
        </p:spPr>
      </p:pic>
      <p:sp>
        <p:nvSpPr>
          <p:cNvPr id="247" name="Obdélník 1"/>
          <p:cNvSpPr/>
          <p:nvPr/>
        </p:nvSpPr>
        <p:spPr>
          <a:xfrm>
            <a:off x="3941640" y="1557360"/>
            <a:ext cx="1511280" cy="252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250920" y="352440"/>
            <a:ext cx="4319640" cy="2968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Související obrázek"/>
          <p:cNvPicPr/>
          <p:nvPr/>
        </p:nvPicPr>
        <p:blipFill>
          <a:blip r:embed="rId2"/>
          <a:stretch/>
        </p:blipFill>
        <p:spPr>
          <a:xfrm>
            <a:off x="4605480" y="352440"/>
            <a:ext cx="4573440" cy="2968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Výsledek obrázku pro syntectic reaction"/>
          <p:cNvPicPr/>
          <p:nvPr/>
        </p:nvPicPr>
        <p:blipFill>
          <a:blip r:embed="rId3"/>
          <a:stretch/>
        </p:blipFill>
        <p:spPr>
          <a:xfrm>
            <a:off x="250920" y="3573360"/>
            <a:ext cx="62658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ovnováha l-g a vnější tlak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24720" cy="4714560"/>
          </a:xfrm>
          <a:prstGeom prst="rect">
            <a:avLst/>
          </a:prstGeom>
          <a:ln w="0">
            <a:noFill/>
          </a:ln>
        </p:spPr>
      </p:pic>
      <p:sp>
        <p:nvSpPr>
          <p:cNvPr id="254" name="TextovéPole 1"/>
          <p:cNvSpPr/>
          <p:nvPr/>
        </p:nvSpPr>
        <p:spPr>
          <a:xfrm>
            <a:off x="5225760" y="1916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nížení tla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187280" y="1006560"/>
            <a:ext cx="727236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0960" cy="804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FR organických látek a polymerů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33480" y="2276640"/>
            <a:ext cx="4405320" cy="4254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4637160" y="2133720"/>
            <a:ext cx="4086000" cy="4408200"/>
          </a:xfrm>
          <a:prstGeom prst="rect">
            <a:avLst/>
          </a:prstGeom>
          <a:ln w="0">
            <a:noFill/>
          </a:ln>
        </p:spPr>
      </p:pic>
      <p:sp>
        <p:nvSpPr>
          <p:cNvPr id="260" name="Obdélník 2"/>
          <p:cNvSpPr/>
          <p:nvPr/>
        </p:nvSpPr>
        <p:spPr>
          <a:xfrm>
            <a:off x="2422440" y="1017720"/>
            <a:ext cx="4032360" cy="645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Symbol"/>
                <a:ea typeface="Symbol"/>
              </a:rPr>
              <a:t></a:t>
            </a: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66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291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FD s horní a dolním kritickým bodem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360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ypu FD směsí polymerů (souhrn)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6" name="Picture 2" descr="http://polymerdatabase.com/polymer%20physics/images/PhaseBehavior.png"/>
          <p:cNvPicPr/>
          <p:nvPr/>
        </p:nvPicPr>
        <p:blipFill>
          <a:blip r:embed="rId1"/>
          <a:stretch/>
        </p:blipFill>
        <p:spPr>
          <a:xfrm>
            <a:off x="4211640" y="1197000"/>
            <a:ext cx="4286160" cy="5000760"/>
          </a:xfrm>
          <a:prstGeom prst="rect">
            <a:avLst/>
          </a:prstGeom>
          <a:ln w="0">
            <a:noFill/>
          </a:ln>
        </p:spPr>
      </p:pic>
      <p:sp>
        <p:nvSpPr>
          <p:cNvPr id="267" name="Obdélník 2"/>
          <p:cNvSpPr/>
          <p:nvPr/>
        </p:nvSpPr>
        <p:spPr>
          <a:xfrm>
            <a:off x="198360" y="6281640"/>
            <a:ext cx="69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polymerdatabase.com/polymer%20physics/Phase%20Equilibria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ovéPole 3"/>
          <p:cNvSpPr/>
          <p:nvPr/>
        </p:nvSpPr>
        <p:spPr>
          <a:xfrm>
            <a:off x="324000" y="1484280"/>
            <a:ext cx="3600360" cy="47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asical Flory-Huggins theory of mixing predicts only one region of immiscibility with an upper critical solution temperature. However, for some polymer blends, there are two regions of immiscibility; one is characterized by an upper critical solution temperature (UCST) and the other by a lower critical solution temperature (LCST). A third polymer blend system shows one continuous region of immiscibility extending from low to high temperatures with miscibilty at (very) low and high polymer volume fractio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images.slideplayer.cz/11/3316783/slides/slide_8.jpg"/>
          <p:cNvPicPr/>
          <p:nvPr/>
        </p:nvPicPr>
        <p:blipFill>
          <a:blip r:embed="rId1"/>
          <a:stretch/>
        </p:blipFill>
        <p:spPr>
          <a:xfrm>
            <a:off x="509760" y="476280"/>
            <a:ext cx="8261280" cy="6192720"/>
          </a:xfrm>
          <a:prstGeom prst="rect">
            <a:avLst/>
          </a:prstGeom>
          <a:ln w="0">
            <a:noFill/>
          </a:ln>
        </p:spPr>
      </p:pic>
      <p:cxnSp>
        <p:nvCxnSpPr>
          <p:cNvPr id="95" name="Přímá spojnice se šipkou 3"/>
          <p:cNvCxnSpPr/>
          <p:nvPr/>
        </p:nvCxnSpPr>
        <p:spPr>
          <a:xfrm flipH="1">
            <a:off x="2339280" y="3789000"/>
            <a:ext cx="108036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Přímá spojnice se šipkou 5"/>
          <p:cNvCxnSpPr/>
          <p:nvPr/>
        </p:nvCxnSpPr>
        <p:spPr>
          <a:xfrm flipH="1">
            <a:off x="3418920" y="3789000"/>
            <a:ext cx="21636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TextovéPole 7"/>
          <p:cNvSpPr/>
          <p:nvPr/>
        </p:nvSpPr>
        <p:spPr>
          <a:xfrm>
            <a:off x="2887560" y="37782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ivace součin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8" name="Přímá spojnice se šipkou 9"/>
          <p:cNvCxnSpPr/>
          <p:nvPr/>
        </p:nvCxnSpPr>
        <p:spPr>
          <a:xfrm>
            <a:off x="2050560" y="472428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Přímá spojnice se šipkou 11"/>
          <p:cNvCxnSpPr/>
          <p:nvPr/>
        </p:nvCxnSpPr>
        <p:spPr>
          <a:xfrm>
            <a:off x="2555640" y="5444640"/>
            <a:ext cx="14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ovéPole 12"/>
          <p:cNvSpPr/>
          <p:nvPr/>
        </p:nvSpPr>
        <p:spPr>
          <a:xfrm>
            <a:off x="4284720" y="1382760"/>
            <a:ext cx="172728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voz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římá spojnice 15"/>
          <p:cNvSpPr/>
          <p:nvPr/>
        </p:nvSpPr>
        <p:spPr>
          <a:xfrm>
            <a:off x="2700360" y="602136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2" name="Přímá spojnice se šipkou 17"/>
          <p:cNvCxnSpPr/>
          <p:nvPr/>
        </p:nvCxnSpPr>
        <p:spPr>
          <a:xfrm flipH="1">
            <a:off x="3819240" y="3963960"/>
            <a:ext cx="348984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2217600" y="6016680"/>
            <a:ext cx="2333880" cy="581040"/>
          </a:xfrm>
          <a:prstGeom prst="rect">
            <a:avLst/>
          </a:prstGeom>
          <a:ln w="0">
            <a:noFill/>
          </a:ln>
        </p:spPr>
      </p:pic>
      <p:sp>
        <p:nvSpPr>
          <p:cNvPr id="104" name="TextovéPole 18"/>
          <p:cNvSpPr/>
          <p:nvPr/>
        </p:nvSpPr>
        <p:spPr>
          <a:xfrm>
            <a:off x="591840" y="6029280"/>
            <a:ext cx="161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rovnej pro Z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70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perimentálně měřitelná termodynamická dat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28440" y="1197000"/>
            <a:ext cx="7853400" cy="3384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250920" y="4869000"/>
            <a:ext cx="589284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názvosloví fázových diagramů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272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7566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" name="Text Box 2"/>
          <p:cNvSpPr/>
          <p:nvPr/>
        </p:nvSpPr>
        <p:spPr>
          <a:xfrm>
            <a:off x="609480" y="16765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  <a:ea typeface="MS Gothic"/>
              </a:rPr>
              <a:t>Anomálie vody :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  <a:ea typeface="MS Gothic"/>
              </a:rPr>
              <a:t>http://www.lsbu.ac.uk/water/explan4.html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304920" y="2209680"/>
            <a:ext cx="8076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The heat of fusion of water with temperature exhibits a maximum at -17°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 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Water has over twice the specific heat capacity of ice or ste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 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The specific heat capacity (CP and CV) is unusually hi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 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The specific heat capacity CP has a minimum at 36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 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The specific heat capacity (CP) has a maximum at about -45°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 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The specific heat capacity (CP) has a minimum with respect to press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 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The heat capacity (CV) has a maxim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 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High heat of vapor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 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High heat of subli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 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High entropy of vapor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 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The thermal conductivity of water is high and rises to a maximum at about 130°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hemický potenciál 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46732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dsolování vody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6335640" cy="5505480"/>
          </a:xfrm>
          <a:prstGeom prst="rect">
            <a:avLst/>
          </a:prstGeom>
          <a:ln w="0">
            <a:noFill/>
          </a:ln>
        </p:spPr>
      </p:pic>
      <p:sp>
        <p:nvSpPr>
          <p:cNvPr id="283" name="Obdélník 4"/>
          <p:cNvSpPr/>
          <p:nvPr/>
        </p:nvSpPr>
        <p:spPr>
          <a:xfrm>
            <a:off x="7020000" y="4437000"/>
            <a:ext cx="1908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s://www.nazeleno.cz/technologie-1/odsolovani-vody-destilace-vymrazovani-komprese-a-dalsi.asp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https://upload.wikimedia.org/wikipedia/commons/4/4c/PvT_3D_plot_-_single_component.png"/>
          <p:cNvPicPr/>
          <p:nvPr/>
        </p:nvPicPr>
        <p:blipFill>
          <a:blip r:embed="rId1"/>
          <a:stretch/>
        </p:blipFill>
        <p:spPr>
          <a:xfrm>
            <a:off x="684360" y="1413000"/>
            <a:ext cx="3457440" cy="3962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PvT 3D plot - water.png"/>
          <p:cNvPicPr/>
          <p:nvPr/>
        </p:nvPicPr>
        <p:blipFill>
          <a:blip r:embed="rId2"/>
          <a:stretch/>
        </p:blipFill>
        <p:spPr>
          <a:xfrm>
            <a:off x="4643280" y="1557360"/>
            <a:ext cx="355284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arciální hodnoty TD funkcí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03120" y="1916280"/>
            <a:ext cx="8742600" cy="3600360"/>
          </a:xfrm>
          <a:prstGeom prst="rect">
            <a:avLst/>
          </a:prstGeom>
          <a:ln w="0">
            <a:noFill/>
          </a:ln>
        </p:spPr>
      </p:pic>
      <p:sp>
        <p:nvSpPr>
          <p:cNvPr id="107" name="Obdélník 5"/>
          <p:cNvSpPr/>
          <p:nvPr/>
        </p:nvSpPr>
        <p:spPr>
          <a:xfrm>
            <a:off x="611280" y="5915160"/>
            <a:ext cx="3070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ntropy of the mechanical mi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8" name="Přímá spojnice se šipkou 4"/>
          <p:cNvCxnSpPr/>
          <p:nvPr/>
        </p:nvCxnSpPr>
        <p:spPr>
          <a:xfrm flipV="1">
            <a:off x="1116000" y="4580640"/>
            <a:ext cx="504000" cy="133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Přímá spojnice 8"/>
          <p:cNvSpPr/>
          <p:nvPr/>
        </p:nvSpPr>
        <p:spPr>
          <a:xfrm flipV="1">
            <a:off x="971640" y="4436640"/>
            <a:ext cx="2952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11592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Entropy of ideal mixing 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1" name="Picture 4" descr="https://chem.libretexts.org/@api/deki/files/68618/%253Dchemwiki_therm_graph_3.png?revision=1"/>
          <p:cNvPicPr/>
          <p:nvPr/>
        </p:nvPicPr>
        <p:blipFill>
          <a:blip r:embed="rId1"/>
          <a:stretch/>
        </p:blipFill>
        <p:spPr>
          <a:xfrm>
            <a:off x="6516720" y="1192320"/>
            <a:ext cx="2232000" cy="2963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https://d2vlcm61l7u1fs.cloudfront.net/media%2F3b3%2F3b3e5b54-3e2f-4bf2-8191-1b6a3d5447bb%2FphpBMJETv.png"/>
          <p:cNvPicPr/>
          <p:nvPr/>
        </p:nvPicPr>
        <p:blipFill>
          <a:blip r:embed="rId2"/>
          <a:stretch/>
        </p:blipFill>
        <p:spPr>
          <a:xfrm>
            <a:off x="433440" y="1671480"/>
            <a:ext cx="4960800" cy="3602160"/>
          </a:xfrm>
          <a:prstGeom prst="rect">
            <a:avLst/>
          </a:prstGeom>
          <a:ln w="0">
            <a:noFill/>
          </a:ln>
        </p:spPr>
      </p:pic>
      <p:sp>
        <p:nvSpPr>
          <p:cNvPr id="113" name="Obdélník 2"/>
          <p:cNvSpPr/>
          <p:nvPr/>
        </p:nvSpPr>
        <p:spPr>
          <a:xfrm>
            <a:off x="179280" y="6500880"/>
            <a:ext cx="885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https://www.chegg.com/homework-help/questions-and-answers/maximum-value-entropy-mixing-ternary-mixture-figure-7-15--larger-smaller-binary-mixture-fi-q1676505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8" descr="http://rkt.chem.ox.ac.uk/lectures/liqsolns/equations/entropyMixing.gif"/>
          <p:cNvPicPr/>
          <p:nvPr/>
        </p:nvPicPr>
        <p:blipFill>
          <a:blip r:embed="rId3"/>
          <a:stretch/>
        </p:blipFill>
        <p:spPr>
          <a:xfrm>
            <a:off x="433440" y="1138320"/>
            <a:ext cx="4960800" cy="549360"/>
          </a:xfrm>
          <a:prstGeom prst="rect">
            <a:avLst/>
          </a:prstGeom>
          <a:ln w="0">
            <a:noFill/>
          </a:ln>
        </p:spPr>
      </p:pic>
      <p:cxnSp>
        <p:nvCxnSpPr>
          <p:cNvPr id="115" name="Přímá spojnice se šipkou 5"/>
          <p:cNvCxnSpPr/>
          <p:nvPr/>
        </p:nvCxnSpPr>
        <p:spPr>
          <a:xfrm flipV="1">
            <a:off x="4500720" y="1686960"/>
            <a:ext cx="3024720" cy="267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TextovéPole 6"/>
          <p:cNvSpPr/>
          <p:nvPr/>
        </p:nvSpPr>
        <p:spPr>
          <a:xfrm>
            <a:off x="6942600" y="266688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deal solu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0" descr="Graph of entropy vs mole fraction of B"/>
          <p:cNvPicPr/>
          <p:nvPr/>
        </p:nvPicPr>
        <p:blipFill>
          <a:blip r:embed="rId4"/>
          <a:stretch/>
        </p:blipFill>
        <p:spPr>
          <a:xfrm>
            <a:off x="5637240" y="4311720"/>
            <a:ext cx="3384360" cy="1925640"/>
          </a:xfrm>
          <a:prstGeom prst="rect">
            <a:avLst/>
          </a:prstGeom>
          <a:ln w="0">
            <a:noFill/>
          </a:ln>
        </p:spPr>
      </p:pic>
      <p:sp>
        <p:nvSpPr>
          <p:cNvPr id="118" name="Obdélník 7"/>
          <p:cNvSpPr/>
          <p:nvPr/>
        </p:nvSpPr>
        <p:spPr>
          <a:xfrm>
            <a:off x="433440" y="5591160"/>
            <a:ext cx="3070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ntropy of the mechanical mi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9" name="Přímá spojnice se šipkou 9"/>
          <p:cNvCxnSpPr/>
          <p:nvPr/>
        </p:nvCxnSpPr>
        <p:spPr>
          <a:xfrm flipV="1">
            <a:off x="1403280" y="4156200"/>
            <a:ext cx="565920" cy="143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770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artial Gibbs energy (binary mixture)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1" name="Picture 2" descr="Výsledek obrázku pro partial gibbs energ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2280" y="1268280"/>
            <a:ext cx="5557680" cy="3816360"/>
          </a:xfrm>
          <a:prstGeom prst="rect">
            <a:avLst/>
          </a:prstGeom>
          <a:ln w="0">
            <a:noFill/>
          </a:ln>
        </p:spPr>
      </p:pic>
      <p:sp>
        <p:nvSpPr>
          <p:cNvPr id="122" name="TextovéPole 3"/>
          <p:cNvSpPr/>
          <p:nvPr/>
        </p:nvSpPr>
        <p:spPr>
          <a:xfrm>
            <a:off x="6535080" y="1596960"/>
            <a:ext cx="189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al mix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TextovéPole 4" descr=""/>
          <p:cNvPicPr/>
          <p:nvPr/>
        </p:nvPicPr>
        <p:blipFill>
          <a:blip r:embed="rId3"/>
          <a:stretch/>
        </p:blipFill>
        <p:spPr>
          <a:xfrm>
            <a:off x="6881760" y="2273400"/>
            <a:ext cx="1195560" cy="463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Výsledek obrázku pro partial gibbs energy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86560" y="3817800"/>
            <a:ext cx="3165480" cy="292428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5"/>
          <p:cNvSpPr/>
          <p:nvPr/>
        </p:nvSpPr>
        <p:spPr>
          <a:xfrm>
            <a:off x="2860920" y="5749920"/>
            <a:ext cx="293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 of using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096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potential 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7" name="Picture 2" descr="Výsledek obrázku pro chemical potential binary parti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20880" y="843120"/>
            <a:ext cx="7872120" cy="5905440"/>
          </a:xfrm>
          <a:prstGeom prst="rect">
            <a:avLst/>
          </a:prstGeom>
          <a:ln w="0">
            <a:noFill/>
          </a:ln>
        </p:spPr>
      </p:pic>
      <p:sp>
        <p:nvSpPr>
          <p:cNvPr id="128" name="TextovéPole 2"/>
          <p:cNvSpPr/>
          <p:nvPr/>
        </p:nvSpPr>
        <p:spPr>
          <a:xfrm>
            <a:off x="4403880" y="23796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-li P,T kon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TextovéPole 3" descr=""/>
          <p:cNvPicPr/>
          <p:nvPr/>
        </p:nvPicPr>
        <p:blipFill>
          <a:blip r:embed="rId3"/>
          <a:stretch/>
        </p:blipFill>
        <p:spPr>
          <a:xfrm>
            <a:off x="4286160" y="2755800"/>
            <a:ext cx="2621160" cy="463680"/>
          </a:xfrm>
          <a:prstGeom prst="rect">
            <a:avLst/>
          </a:prstGeom>
          <a:ln w="0">
            <a:noFill/>
          </a:ln>
        </p:spPr>
      </p:pic>
      <p:sp>
        <p:nvSpPr>
          <p:cNvPr id="130" name="TextovéPole 4"/>
          <p:cNvSpPr/>
          <p:nvPr/>
        </p:nvSpPr>
        <p:spPr>
          <a:xfrm>
            <a:off x="615600" y="177336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ovéPole 1"/>
          <p:cNvSpPr/>
          <p:nvPr/>
        </p:nvSpPr>
        <p:spPr>
          <a:xfrm>
            <a:off x="5377680" y="4292640"/>
            <a:ext cx="16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deal liquid or g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hemický potenciál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08000" y="1227240"/>
            <a:ext cx="5976720" cy="537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Výsledek obrázku pro partial gibbs energ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3040" y="1227240"/>
            <a:ext cx="27147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9-11-13T12:35:58Z</dcterms:modified>
  <cp:revision>186</cp:revision>
  <dc:subject/>
  <dc:title>C6730 Fázové rovnováhy</dc:title>
</cp:coreProperties>
</file>