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14.gif" ContentType="image/gif"/>
  <Override PartName="/ppt/media/image17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F3183-EE5D-4FD9-B7A9-4555B9392D70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A74B9-FD21-4795-A54F-981B0688DF67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3291E-5269-4AFF-A937-2972EB792C31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6F46-567E-4AA0-AD26-F8EA1106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FEDD-492D-49B5-89B3-6B2B515D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2954-B8D9-4754-B077-98500F82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7FF6-4EE7-46A2-A7C6-0B0E6220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767A-AFF4-44C2-8A4E-82B09841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02A1-D645-471B-AA8A-44B32847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65CE-240E-4526-AFEC-A7D93C4D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082B-25C5-41BE-9D40-3851F19B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8FC7-12CE-4ED8-9684-44B04359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E996-4771-4AC0-BEBD-F6076C2A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60E4-6D49-43C6-AE4C-07C10CCB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78AB-FCD8-45D8-89DD-FE3167D4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043440" y="-329760"/>
            <a:ext cx="12185640" cy="7824600"/>
            <a:chOff x="-3043440" y="-329760"/>
            <a:chExt cx="12185640" cy="7824600"/>
          </a:xfrm>
        </p:grpSpPr>
        <p:sp>
          <p:nvSpPr>
            <p:cNvPr id="1" name="Freeform 2"/>
            <p:cNvSpPr/>
            <p:nvPr/>
          </p:nvSpPr>
          <p:spPr>
            <a:xfrm>
              <a:off x="1485720" y="-4320"/>
              <a:ext cx="3221280" cy="69109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1541520" y="-7560"/>
              <a:ext cx="3222000" cy="69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5402880" y="-2880"/>
              <a:ext cx="3225600" cy="69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2019960" y="-11160"/>
              <a:ext cx="3857760" cy="68965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-1324440" y="157680"/>
              <a:ext cx="649944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 flipH="1" rot="2700000">
              <a:off x="-39240" y="1224720"/>
              <a:ext cx="4718520" cy="1607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-1387440" y="81360"/>
              <a:ext cx="6499440" cy="2449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 rot="18720000">
              <a:off x="-2909160" y="1463760"/>
              <a:ext cx="5588640" cy="2849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 rot="19260000">
              <a:off x="925200" y="1459080"/>
              <a:ext cx="6666120" cy="2767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 flipH="1" rot="2100000">
              <a:off x="1905840" y="1382400"/>
              <a:ext cx="649908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6341400" y="-7560"/>
              <a:ext cx="2019960" cy="364428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-1541520" y="6239520"/>
              <a:ext cx="10683720" cy="68868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1485720" y="6312960"/>
              <a:ext cx="3221280" cy="6087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-1541520" y="6312960"/>
              <a:ext cx="3222000" cy="6073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5402880" y="6312960"/>
              <a:ext cx="3225600" cy="6087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019960" y="6312960"/>
              <a:ext cx="3857760" cy="6073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-1541520" y="6231600"/>
              <a:ext cx="10683720" cy="68868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3249360" y="6252120"/>
              <a:ext cx="1921680" cy="66960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 flipH="1" rot="18900000">
              <a:off x="13518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 flipH="1" rot="18900000">
              <a:off x="162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 flipH="1" rot="18900000">
              <a:off x="-1348920" y="6085440"/>
              <a:ext cx="1649160" cy="9032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 flipH="1" flipV="1">
              <a:off x="-473040" y="6238800"/>
              <a:ext cx="658800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 flipH="1" flipV="1">
              <a:off x="-109620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 flipH="1" flipV="1">
              <a:off x="4088880" y="6315840"/>
              <a:ext cx="2470680" cy="610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 flipH="1" flipV="1">
              <a:off x="584784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7"/>
            <p:cNvSpPr/>
            <p:nvPr/>
          </p:nvSpPr>
          <p:spPr>
            <a:xfrm flipH="1" flipV="1">
              <a:off x="4867920" y="6238800"/>
              <a:ext cx="427356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8"/>
            <p:cNvSpPr/>
            <p:nvPr/>
          </p:nvSpPr>
          <p:spPr>
            <a:xfrm>
              <a:off x="-1541520" y="6272640"/>
              <a:ext cx="10683720" cy="2232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440" y="631332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072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717266-149A-4340-89E0-7C3E7F20EA12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source=images&amp;cd=&amp;cad=rja&amp;docid=pV_MasJI7ixEUM&amp;tbnid=yANhodwyxKiwOM:&amp;ved=0CAgQjRwwAA&amp;url=http%3A%2F%2Fdepartments.kings.edu%2Fchemlab%2Fanimation%2Fcscl.html&amp;ei=YetkUtHMK4HTtAb-noHACQ&amp;psig=AFQjCNFtZpjZIfgdpnhDNY-j1HrLQ3DMtA&amp;ust=1382431969755738" TargetMode="External"/><Relationship Id="rId2" Type="http://schemas.openxmlformats.org/officeDocument/2006/relationships/image" Target="../media/image14.gi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Modely popisu Gibbsovy energie fází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31204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Vícemřížkový model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AutoShape 2"/>
          <p:cNvSpPr/>
          <p:nvPr/>
        </p:nvSpPr>
        <p:spPr>
          <a:xfrm>
            <a:off x="7632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6" descr="http://departments.kings.edu/chemlab/animation/cessub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84464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http://www.nature.com/nmat/journal/v6/n2/images/nmat1807-f1.jpg"/>
          <p:cNvPicPr/>
          <p:nvPr/>
        </p:nvPicPr>
        <p:blipFill>
          <a:blip r:embed="rId3"/>
          <a:stretch/>
        </p:blipFill>
        <p:spPr>
          <a:xfrm>
            <a:off x="4859280" y="2205000"/>
            <a:ext cx="3809880" cy="3743280"/>
          </a:xfrm>
          <a:prstGeom prst="rect">
            <a:avLst/>
          </a:prstGeom>
          <a:ln w="0">
            <a:noFill/>
          </a:ln>
        </p:spPr>
      </p:pic>
      <p:sp>
        <p:nvSpPr>
          <p:cNvPr id="115" name="TextovéPole 4"/>
          <p:cNvSpPr/>
          <p:nvPr/>
        </p:nvSpPr>
        <p:spPr>
          <a:xfrm>
            <a:off x="1403280" y="4797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s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ovéPole 7"/>
          <p:cNvSpPr/>
          <p:nvPr/>
        </p:nvSpPr>
        <p:spPr>
          <a:xfrm>
            <a:off x="5540400" y="602136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pořádaná fá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4824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8" name="Picture 4" descr="http://origin-ars.els-cdn.com/content/image/1-s2.0-S1359645497002395-si1.gif"/>
          <p:cNvPicPr/>
          <p:nvPr/>
        </p:nvPicPr>
        <p:blipFill>
          <a:blip r:embed="rId1"/>
          <a:stretch/>
        </p:blipFill>
        <p:spPr>
          <a:xfrm>
            <a:off x="539640" y="2708280"/>
            <a:ext cx="67485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900000" y="28440"/>
            <a:ext cx="7583760" cy="656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Plochy G</a:t>
            </a:r>
            <a:r>
              <a:rPr b="0" lang="cs-CZ" sz="4400" spc="-1" strike="noStrike" baseline="-25000">
                <a:solidFill>
                  <a:srgbClr val="4d4d4d"/>
                </a:solidFill>
                <a:latin typeface="Arial"/>
              </a:rPr>
              <a:t>e</a:t>
            </a: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 fází v ternární soustavě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391600" cy="3753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8496000" cy="3743280"/>
          </a:xfrm>
          <a:prstGeom prst="rect">
            <a:avLst/>
          </a:prstGeom>
          <a:ln w="0">
            <a:noFill/>
          </a:ln>
        </p:spPr>
      </p:pic>
      <p:sp>
        <p:nvSpPr>
          <p:cNvPr id="82" name="TextovéPole 3"/>
          <p:cNvSpPr/>
          <p:nvPr/>
        </p:nvSpPr>
        <p:spPr>
          <a:xfrm>
            <a:off x="2916360" y="5589720"/>
            <a:ext cx="26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rnární eutektik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4d4d4d"/>
                </a:solidFill>
                <a:latin typeface="Arial"/>
              </a:rPr>
              <a:t>Závislost G</a:t>
            </a:r>
            <a:r>
              <a:rPr b="1" lang="cs-CZ" sz="3200" spc="-1" strike="noStrike" baseline="-25000">
                <a:solidFill>
                  <a:srgbClr val="4d4d4d"/>
                </a:solidFill>
                <a:latin typeface="Arial"/>
              </a:rPr>
              <a:t>e</a:t>
            </a:r>
            <a:r>
              <a:rPr b="1" lang="cs-CZ" sz="3200" spc="-1" strike="noStrike">
                <a:solidFill>
                  <a:srgbClr val="4d4d4d"/>
                </a:solidFill>
                <a:latin typeface="Arial"/>
              </a:rPr>
              <a:t> fáze na T, P, X</a:t>
            </a:r>
            <a:r>
              <a:rPr b="1" lang="cs-CZ" sz="3200" spc="-1" strike="noStrike" baseline="-25000">
                <a:solidFill>
                  <a:srgbClr val="4d4d4d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98280" y="1413000"/>
            <a:ext cx="903636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Dodatkové funkc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070840" cy="4352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552600" y="1197000"/>
            <a:ext cx="806436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6120" y="188640"/>
            <a:ext cx="77709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4d4d4d"/>
                </a:solidFill>
                <a:latin typeface="Arial"/>
              </a:rPr>
              <a:t>Požadavky na model G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468360" y="4149720"/>
            <a:ext cx="8099280" cy="2373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611280" y="981000"/>
            <a:ext cx="6396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7770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4d4d4d"/>
                </a:solidFill>
                <a:latin typeface="Arial"/>
              </a:rPr>
              <a:t>Další požadavky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TextovéPole 2"/>
          <p:cNvSpPr/>
          <p:nvPr/>
        </p:nvSpPr>
        <p:spPr>
          <a:xfrm>
            <a:off x="395280" y="98100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ákon zachování stechiometrie fá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kt 13"/>
              <p:cNvSpPr txBox="1"/>
              <p:nvPr/>
            </p:nvSpPr>
            <p:spPr>
              <a:xfrm>
                <a:off x="4154400" y="2646360"/>
                <a:ext cx="23432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s</m:t>
                        </m:r>
                      </m:sup>
                      <m:e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</m:sSubSup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s</m:t>
                        </m:r>
                      </m:sup>
                      <m:e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6" name="TextovéPole 14"/>
          <p:cNvSpPr/>
          <p:nvPr/>
        </p:nvSpPr>
        <p:spPr>
          <a:xfrm>
            <a:off x="649440" y="4365720"/>
            <a:ext cx="74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ákon zachování celkového množství hmoty v soustav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kt 17"/>
              <p:cNvSpPr txBox="1"/>
              <p:nvPr/>
            </p:nvSpPr>
            <p:spPr>
              <a:xfrm>
                <a:off x="900000" y="2133720"/>
                <a:ext cx="53913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…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…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9" name="Obdélník 18"/>
          <p:cNvSpPr/>
          <p:nvPr/>
        </p:nvSpPr>
        <p:spPr>
          <a:xfrm>
            <a:off x="684360" y="1484280"/>
            <a:ext cx="784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Cr,Fe)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Cr,Fe,Mo)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  , (Cr,Fe)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 , Al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kt 20"/>
              <p:cNvSpPr txBox="1"/>
              <p:nvPr/>
            </p:nvSpPr>
            <p:spPr>
              <a:xfrm>
                <a:off x="817560" y="5516640"/>
                <a:ext cx="13780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f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7770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4d4d4d"/>
                </a:solidFill>
                <a:latin typeface="Arial"/>
              </a:rPr>
              <a:t>Regulární mod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3611520" cy="1617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395280" y="2781360"/>
            <a:ext cx="8180280" cy="39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31800" y="260280"/>
            <a:ext cx="777096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4d4d4d"/>
                </a:solidFill>
                <a:latin typeface="Arial"/>
              </a:rPr>
              <a:t>Redlich – Kisterův mod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388360" cy="2149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6156360" y="3213000"/>
            <a:ext cx="2663640" cy="3730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3"/>
          <a:stretch/>
        </p:blipFill>
        <p:spPr>
          <a:xfrm>
            <a:off x="547560" y="4635360"/>
            <a:ext cx="3625920" cy="19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Další modely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TextovéPole 2"/>
          <p:cNvSpPr/>
          <p:nvPr/>
        </p:nvSpPr>
        <p:spPr>
          <a:xfrm>
            <a:off x="468360" y="1844640"/>
            <a:ext cx="7775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Wohlův rozv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Van Laarova rovn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Satchardova –Hildebrantova r-ce (SH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Flory Hugginesova r-ce (FH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Willsovova r-ce (W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NRTL r-ce, UNIQV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Chemické modely fuhých roztok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…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Vícemřížkový model fá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10-27T05:28:07Z</dcterms:modified>
  <cp:revision>116</cp:revision>
  <dc:subject/>
  <dc:title>C6730 Fázové rovnováhy</dc:title>
</cp:coreProperties>
</file>