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gif" ContentType="image/gif"/>
  <Override PartName="/ppt/media/image1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2E3C7-378F-47E3-9CCD-51400B0C0096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338D7-8E56-474A-9964-87D5AD0B8D3B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60041-59E3-4CA1-9F9D-BAAC3AF59DF0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B89-0772-4F4F-9EC0-B27B59E4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4EB-CB78-4E60-BF8D-B6A9F9F8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145-7937-469F-9E2C-2934B38E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1E3-A628-4C96-AF17-195CD58D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FBA-4BBA-400D-B624-1400C116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7E6-8368-4FB9-AC0F-6DFBF501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51C-F6BC-45D9-9968-1247E78F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17E-9B17-42AF-AC70-125619B9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F253-09A0-48C0-8C44-089B1FA6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BE5-C4BF-4D09-89C6-C2A24033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D6B-4571-4DA1-82D0-0E8AF823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B06-223E-4247-AFA5-E662C4A2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429A81-295E-43E1-B400-DC16DF09FEBA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source=images&amp;cd=&amp;cad=rja&amp;docid=pV_MasJI7ixEUM&amp;tbnid=yANhodwyxKiwOM:&amp;ved=0CAgQjRwwAA&amp;url=http%3A%2F%2Fdepartments.kings.edu%2Fchemlab%2Fanimation%2Fcscl.html&amp;ei=YetkUtHMK4HTtAb-noHACQ&amp;psig=AFQjCNFtZpjZIfgdpnhDNY-j1HrLQ3DMtA&amp;ust=1382431969755738" TargetMode="External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Modely popisu Gibbsovy energie fází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3120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Vícemřížkový model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6" descr="http://departments.kings.edu/chemlab/animation/cessub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8446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www.nature.com/nmat/journal/v6/n2/images/nmat1807-f1.jpg"/>
          <p:cNvPicPr/>
          <p:nvPr/>
        </p:nvPicPr>
        <p:blipFill>
          <a:blip r:embed="rId3"/>
          <a:stretch/>
        </p:blipFill>
        <p:spPr>
          <a:xfrm>
            <a:off x="4859280" y="2205000"/>
            <a:ext cx="3809880" cy="3743280"/>
          </a:xfrm>
          <a:prstGeom prst="rect">
            <a:avLst/>
          </a:prstGeom>
          <a:ln w="0">
            <a:noFill/>
          </a:ln>
        </p:spPr>
      </p:pic>
      <p:sp>
        <p:nvSpPr>
          <p:cNvPr id="115" name="TextovéPole 4"/>
          <p:cNvSpPr/>
          <p:nvPr/>
        </p:nvSpPr>
        <p:spPr>
          <a:xfrm>
            <a:off x="1403280" y="479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s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ovéPole 7"/>
          <p:cNvSpPr/>
          <p:nvPr/>
        </p:nvSpPr>
        <p:spPr>
          <a:xfrm>
            <a:off x="5540400" y="6021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pořádaná fá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48243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8" name="Picture 4" descr="http://origin-ars.els-cdn.com/content/image/1-s2.0-S1359645497002395-si1.gif"/>
          <p:cNvPicPr/>
          <p:nvPr/>
        </p:nvPicPr>
        <p:blipFill>
          <a:blip r:embed="rId1"/>
          <a:stretch/>
        </p:blipFill>
        <p:spPr>
          <a:xfrm>
            <a:off x="539640" y="2708280"/>
            <a:ext cx="67485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900000" y="28440"/>
            <a:ext cx="7583760" cy="65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Plochy G</a:t>
            </a:r>
            <a:r>
              <a:rPr b="0" lang="cs-CZ" sz="4400" spc="-1" strike="noStrike" baseline="-25000">
                <a:solidFill>
                  <a:srgbClr val="4d4d4d"/>
                </a:solidFill>
                <a:latin typeface="Arial"/>
              </a:rPr>
              <a:t>e</a:t>
            </a: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 fází v ternární soustavě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91600" cy="375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496000" cy="3743280"/>
          </a:xfrm>
          <a:prstGeom prst="rect">
            <a:avLst/>
          </a:prstGeom>
          <a:ln w="0">
            <a:noFill/>
          </a:ln>
        </p:spPr>
      </p:pic>
      <p:sp>
        <p:nvSpPr>
          <p:cNvPr id="82" name="TextovéPole 3"/>
          <p:cNvSpPr/>
          <p:nvPr/>
        </p:nvSpPr>
        <p:spPr>
          <a:xfrm>
            <a:off x="2916360" y="558972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rnární eutektik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Závislost G</a:t>
            </a:r>
            <a:r>
              <a:rPr b="1" lang="cs-CZ" sz="3200" spc="-1" strike="noStrike" baseline="-25000">
                <a:solidFill>
                  <a:srgbClr val="4d4d4d"/>
                </a:solidFill>
                <a:latin typeface="Arial"/>
              </a:rPr>
              <a:t>e</a:t>
            </a: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 fáze na T, P, X</a:t>
            </a:r>
            <a:r>
              <a:rPr b="1" lang="cs-CZ" sz="3200" spc="-1" strike="noStrike" baseline="-25000">
                <a:solidFill>
                  <a:srgbClr val="4d4d4d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8280" y="1413000"/>
            <a:ext cx="90363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odatkové funkc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070840" cy="4352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52600" y="1197000"/>
            <a:ext cx="80643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6120" y="188640"/>
            <a:ext cx="77709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Požadavky na model G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8099280" cy="2373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6396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770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Další požadavk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TextovéPole 2"/>
          <p:cNvSpPr/>
          <p:nvPr/>
        </p:nvSpPr>
        <p:spPr>
          <a:xfrm>
            <a:off x="395280" y="981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on zachování stechiometrie fá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kt 13"/>
              <p:cNvSpPr txBox="1"/>
              <p:nvPr/>
            </p:nvSpPr>
            <p:spPr>
              <a:xfrm>
                <a:off x="4154400" y="2646360"/>
                <a:ext cx="2343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TextovéPole 14"/>
          <p:cNvSpPr/>
          <p:nvPr/>
        </p:nvSpPr>
        <p:spPr>
          <a:xfrm>
            <a:off x="649440" y="4365720"/>
            <a:ext cx="74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on zachování celkového množství hmoty v soustav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kt 17"/>
              <p:cNvSpPr txBox="1"/>
              <p:nvPr/>
            </p:nvSpPr>
            <p:spPr>
              <a:xfrm>
                <a:off x="900000" y="2133720"/>
                <a:ext cx="53913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…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…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Obdélník 18"/>
          <p:cNvSpPr/>
          <p:nvPr/>
        </p:nvSpPr>
        <p:spPr>
          <a:xfrm>
            <a:off x="684360" y="1484280"/>
            <a:ext cx="78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Cr,Fe)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Cr,Fe,Mo)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  , (Cr,Fe)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 , Al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kt 20"/>
              <p:cNvSpPr txBox="1"/>
              <p:nvPr/>
            </p:nvSpPr>
            <p:spPr>
              <a:xfrm>
                <a:off x="817560" y="5516640"/>
                <a:ext cx="1378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f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770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Regulární mod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611520" cy="161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95280" y="2781360"/>
            <a:ext cx="818028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1800" y="260280"/>
            <a:ext cx="777096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4d4d4d"/>
                </a:solidFill>
                <a:latin typeface="Arial"/>
              </a:rPr>
              <a:t>Redlich – Kisterův mod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88360" cy="2149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6156360" y="3213000"/>
            <a:ext cx="2663640" cy="3730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547560" y="4635360"/>
            <a:ext cx="362592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alší model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TextovéPole 2"/>
          <p:cNvSpPr/>
          <p:nvPr/>
        </p:nvSpPr>
        <p:spPr>
          <a:xfrm>
            <a:off x="468360" y="1844640"/>
            <a:ext cx="77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Wohlův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Van Laarova rovn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atchardova –Hildebrantova r-ce (SH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Flory Hugginesova r-ce (FH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Willsovova r-ce (W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RTL r-ce, UNIQV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hemické modely fuhých roztok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…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Vícemřížkový model fá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10-27T05:28:07Z</dcterms:modified>
  <cp:revision>116</cp:revision>
  <dc:subject/>
  <dc:title>C6730 Fázové rovnováhy</dc:title>
</cp:coreProperties>
</file>