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42EE6-CD58-4481-B1A3-DDB7436660F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B58F-699C-4F85-9D1E-335B6EADD68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FB61E-069D-472C-A60E-A16CFB9FE6D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5BA-7795-4CD2-934D-E07F56A6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A2E-0034-4582-8F52-64F1564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E97-17CF-4E1F-AC19-73CC8537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010-18FC-4070-9E77-641CBA45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372-CAA9-4C31-9ADE-8F67640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A88-154A-4C7F-A413-E4E0C1F8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B04-23B4-445D-884A-E94C19C4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A77-7B0E-47A9-ABA5-61794569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70F-CD2A-4909-88CC-5B5724E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99A-71BF-4EA8-9D0F-1C7EA9C2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E4A-D79B-4701-A996-A280488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954-518D-442A-A9C4-F83ED570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65554-8557-4D53-A930-4B6A45BDA8C9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800" spc="-1" strike="noStrike">
                <a:solidFill>
                  <a:srgbClr val="4d4d4d"/>
                </a:solidFill>
                <a:latin typeface="Arial"/>
              </a:rPr>
              <a:t>Aktivita a chem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ický</a:t>
            </a:r>
            <a:r>
              <a:rPr b="0" lang="sv-SE" sz="2800" spc="-1" strike="noStrike">
                <a:solidFill>
                  <a:srgbClr val="4d4d4d"/>
                </a:solidFill>
                <a:latin typeface="Arial"/>
              </a:rPr>
              <a:t> pot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enciál</a:t>
            </a:r>
            <a:r>
              <a:rPr b="0" lang="sv-SE" sz="2800" spc="-1" strike="noStrike">
                <a:solidFill>
                  <a:srgbClr val="4d4d4d"/>
                </a:solidFill>
                <a:latin typeface="Arial"/>
              </a:rPr>
              <a:t> numerick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řechod od integrálního k diferenciálnímu tvaru podmínky fázové rovnováhy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315280" cy="441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             (                )&#10;min (G ) = min ∑  m αGα (T, p,xα )&#10;                     m      i&#10;"/>
          <p:cNvPicPr/>
          <p:nvPr/>
        </p:nvPicPr>
        <p:blipFill>
          <a:blip r:embed="rId2"/>
          <a:stretch/>
        </p:blipFill>
        <p:spPr>
          <a:xfrm>
            <a:off x="303120" y="1557360"/>
            <a:ext cx="413064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     (    )        (    )&#10;      ∂G-α           ∂Gβ-&#10;μi =   ∂xi  T,P,xk =   ∂xi  T,P,xk ∀i ∈ {1...c}&#10;"/>
          <p:cNvPicPr/>
          <p:nvPr/>
        </p:nvPicPr>
        <p:blipFill>
          <a:blip r:embed="rId3"/>
          <a:stretch/>
        </p:blipFill>
        <p:spPr>
          <a:xfrm>
            <a:off x="5292720" y="1557360"/>
            <a:ext cx="3191040" cy="41904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1"/>
          <p:cNvSpPr/>
          <p:nvPr/>
        </p:nvSpPr>
        <p:spPr>
          <a:xfrm>
            <a:off x="6659640" y="530064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" name="Přímá spojnice se šipkou 3"/>
          <p:cNvCxnSpPr/>
          <p:nvPr/>
        </p:nvCxnSpPr>
        <p:spPr>
          <a:xfrm flipV="1">
            <a:off x="6887880" y="3573000"/>
            <a:ext cx="1080" cy="165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Numerický výpočet chemického potenciál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1752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79280" y="1109520"/>
            <a:ext cx="5256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ávisí na použitém mod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Analytická výpočet chemického potenciál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445240" cy="354672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3"/>
          <p:cNvSpPr/>
          <p:nvPr/>
        </p:nvSpPr>
        <p:spPr>
          <a:xfrm>
            <a:off x="250920" y="1268280"/>
            <a:ext cx="52578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í na použitém mod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4932360" y="4724280"/>
            <a:ext cx="244800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dmembry vícemřížkového mod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" name="Přímá spojnice se šipkou 5"/>
          <p:cNvCxnSpPr/>
          <p:nvPr/>
        </p:nvCxnSpPr>
        <p:spPr>
          <a:xfrm flipH="1" flipV="1">
            <a:off x="3634560" y="4004640"/>
            <a:ext cx="129780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Přímá spojnice se šipkou 7"/>
          <p:cNvCxnSpPr/>
          <p:nvPr/>
        </p:nvCxnSpPr>
        <p:spPr>
          <a:xfrm flipH="1" flipV="1">
            <a:off x="1402920" y="4220640"/>
            <a:ext cx="338544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Obdélník 1"/>
          <p:cNvSpPr/>
          <p:nvPr/>
        </p:nvSpPr>
        <p:spPr>
          <a:xfrm>
            <a:off x="5724360" y="108432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eneral compound-energy formalism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Endnembry fáze fcc soustavy Nb-Ti-V (Va) dvoumřížkového model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2" descr="http://www.ualberta.ca/~ccwj/teaching/thermo/multicomp/Figs/PNG/gibbsDiagram.png"/>
          <p:cNvPicPr/>
          <p:nvPr/>
        </p:nvPicPr>
        <p:blipFill>
          <a:blip r:embed="rId1"/>
          <a:stretch/>
        </p:blipFill>
        <p:spPr>
          <a:xfrm>
            <a:off x="971640" y="1844640"/>
            <a:ext cx="4032000" cy="473400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2"/>
          <p:cNvSpPr/>
          <p:nvPr/>
        </p:nvSpPr>
        <p:spPr>
          <a:xfrm>
            <a:off x="399564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ualberta.ca/~ccwj/teaching/thermo/multicomp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bdélník 3"/>
          <p:cNvSpPr/>
          <p:nvPr/>
        </p:nvSpPr>
        <p:spPr>
          <a:xfrm>
            <a:off x="5148360" y="198900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Nb,Ti)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C,Va)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….FCC crys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2602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ýpočet chem. potenciálu limitní sloučenin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164360" cy="5489640"/>
          </a:xfrm>
          <a:prstGeom prst="rect">
            <a:avLst/>
          </a:prstGeom>
          <a:ln w="0">
            <a:noFill/>
          </a:ln>
        </p:spPr>
      </p:pic>
      <p:sp>
        <p:nvSpPr>
          <p:cNvPr id="100" name="TextovéPole 3"/>
          <p:cNvSpPr/>
          <p:nvPr/>
        </p:nvSpPr>
        <p:spPr>
          <a:xfrm>
            <a:off x="6335640" y="1730520"/>
            <a:ext cx="273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zv. endmember-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30:58Z</dcterms:modified>
  <cp:revision>114</cp:revision>
  <dc:subject/>
  <dc:title>C6730 Fázové rovnováhy</dc:title>
</cp:coreProperties>
</file>