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6F34-15A5-4520-82D1-2534C382F79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5170-08BC-423E-AAE9-9DC91E4D2A8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6A1A-96E0-4E84-9C1E-7121FC30D0D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65693-6040-4D87-97CF-2D846668833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FF1A-0F91-4861-8AB1-3F2AD964CE7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2EF3-8A96-4D7B-AF65-F02A092A2FE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526A-FC2A-4620-B693-DD1D728165C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D7B9-71C5-43E8-AE02-A66A26A6775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689A-5F19-452A-85B3-39825AC4286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2017-6DEA-403B-89F8-63DE542D148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E6E3-A8FF-45FA-AFB1-A49EF69BFE0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B518-BB38-4C65-8057-9CD53FAB29E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AA74-788D-4A3C-85AD-CFFB4D7A950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9D4D6-D9EB-490D-92F8-964A1BA9084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5E027-CD36-4DBE-A161-FED26E8B032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CE1D3-8362-409E-906B-6F744AAED72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5C04-AD04-4DB8-A329-8614F8CE6C4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1EA9-BCAA-418E-8186-A42C98E9D70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07FB6-29C6-46C1-8DB5-4FE0F79D8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609F7-7387-4080-95E6-5CC9ED4F3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E06CA-572D-4038-8072-B52C1AB96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91BE1-E20F-4A95-BFD5-707EF1694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8EB42-D190-444D-ACE2-5B36CDBC4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E826C-C75B-4B1A-BAFB-7CD8F298B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89922-4BF8-4B61-A5BC-7CE50877F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FB306-EAF3-4D5C-B152-071CABC53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BAD80-0F97-4CD0-8647-59DD14C18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6C8D2-2F57-4393-B58A-4DA42B08F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01EB-0C4F-4A2B-A8AA-711EEB2AD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60548-24DF-4DBC-A360-D6178D6EA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75980-A124-4759-96BF-72451B06D3D4}"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4-03-14T13:08:42Z</dcterms:modified>
  <cp:revision>175</cp:revision>
  <dc:subject/>
  <dc:title>Slide 1</dc:title>
</cp:coreProperties>
</file>