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A4AD1-F5AA-4301-AD07-A1404F5C648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B7C70-E761-4C7E-BEF2-F49FE75A464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57992-83D0-44C0-BA9D-BBD08F36F2B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16E1E-AB40-4DF9-A3FB-0BAC23DF2A4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71FBA-2E03-4EB5-BDB3-769F90ABDFB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64C06-3AA3-4A21-A73F-8C7BB0AD2F4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07A83-5151-4178-B863-BE2B0E78143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ACF95-A763-4F0D-ADF6-55A2EDD8D01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53B28-B5B6-4227-A7D6-37968D99EBA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10A58-F414-487A-88FF-66176FA5650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33BE2-668F-4905-9ACF-1F4BFDC687F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0DDD5-D6BF-4E4D-81E4-251C75C6300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C36B5-3023-43C9-BBC0-F70CF3706DE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6F564-AEA3-485B-A6F3-4656ED5F148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B14A4-E553-41C6-BD91-F5113B30BB3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FD120-A352-479C-A9C6-B62FDC7D5B3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EA928-73E6-4989-8D14-9800A0008C8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5D566-6FA1-41F4-9E5C-7A7C745FD8C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89B12-0238-4B0F-AD7F-4EE7B91C9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4E0BD-ADDB-48B9-9D02-4F763DC22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9EC48-82D1-49BD-BD1E-92E5621FC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1ABB6-7CF1-4D52-9924-D2A95AA70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03CE6-BE49-4F7D-8CBE-F18A7A978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32D7F-C5E9-4D6F-A13D-F41CEFA9B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35E2B-745E-425B-97F2-01EF0955A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46AE0-08AE-4E71-A16A-AB1073E80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679D4-E4A5-4A86-8283-F7F90ACF5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9B6D6-CE15-4CD1-A57C-BAF6B1204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2D75F-8878-4283-9D96-C746F2053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0364B-90E6-4470-BEEF-E9DE1E61B1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EE96D-5F67-48D1-912B-C8A2FE7E19D0}"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4-03-14T13:08:42Z</dcterms:modified>
  <cp:revision>175</cp:revision>
  <dc:subject/>
  <dc:title>Slide 1</dc:title>
</cp:coreProperties>
</file>