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EC41B-7E5B-4966-8A8F-68015C44D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20116-30E9-4600-AACE-2D6055625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E2F1E-EE12-4834-B733-C9808A90B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9F55E-C269-4241-BC25-FDE98A531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5D4AE-ACFF-4F51-A058-56CB157F4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6223F-9784-4F36-984A-FB7BA5066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7D09B-0513-4A30-B063-859092DFD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41B52-9D62-4EBE-B7AF-010745FFA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7B864-6FD8-4F33-9E84-FB624A314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685BD-4F0F-4E3E-97FF-644E6C777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12825-9804-42BA-A63C-8D7501D4E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2D704-9EE8-4921-B48A-B265BA22C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D96A9-D34A-4184-8665-2B609441A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DE774-2385-4889-AC93-9B46AC0FB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851A3-2298-4E72-92F4-BABB24FEE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6229E-374A-4247-B9E7-0166A9188A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D27E57-6F24-46BF-A1C9-C7FCB760C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6FB4C-3723-43CE-ABC9-5F438AB69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DB8CD-B87A-423D-BCEA-1CBA75570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0E3A3-F596-4A6A-B469-220675E6F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B2E7D-D9C4-4832-B5C8-A4A743D3D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4A496-8633-4AA6-B578-C7D88609F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CA962-B4A2-41AA-885B-C468DB451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66F8-9209-45C6-BD94-1A55DBFB4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4272-0A4F-473F-B4B2-5DF95E7326FA}"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0517-ED5F-4FFF-BC83-BF7B875C85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9995-FBC7-4926-BBD2-3A2BD17BED66}"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3324-89FE-4AFF-BE13-2826E0831F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360D-257E-4A35-B491-60CEA9B6D4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6B7C-28CC-4C5C-A12F-539ECBB79C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EC8B-3C48-48F3-9BC8-E464DE512E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3CC61-E0CA-4B26-B0AE-509201E366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5F1A-A058-470B-9090-4B8819ABC8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1A87-1A4D-410B-B326-2A31290746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A279-5ED3-437B-8E20-A68C657BB4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8364-377C-439B-82AD-06FF0118D6C4}"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B622-B202-44C2-890B-1F80BE16303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654D-58C1-4811-A537-6EFDF55DAA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4BE1-BA54-4E7F-9828-C5FFE1606E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C272-4A51-4985-AEE1-B32E90F6DE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252A5-0ADF-4621-B9C4-2D082335AD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01B6-1C0F-44DA-9939-03B9973D96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4EF5-32F5-4177-8A96-377CEB3A03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1914-90B1-4B39-9F8D-7C885426F7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80F6-61DA-46F1-810F-349D7B7548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AC6A-D5CB-4A73-8680-F36FA90898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D43E-A04D-4D69-B674-DAE861AED9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7696-195B-4C19-B91B-30320CBF52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FCA1-7D7A-46D4-8077-DCABCD21C6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22F6-5ED1-4C43-9417-D512190ED9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EF53-69E6-40D3-ADF1-55230CF166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780E-22AB-4A5D-BFDC-97B2F6048A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AC79-8164-4461-9DBD-28F5D7DC07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1362-DB85-4DA1-B312-718C6CDF15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3189-F912-4F42-BA23-5F68780B60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9F7A-5DDA-45C6-B3FF-B89909C5B3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27BE-3F46-41C5-B9F3-B58A37835E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A588-A48B-443D-BCC9-FA312CB75E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0CD2-F532-4F5E-AF5D-5833C5E35D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8047-CCF5-4DF9-858B-6F119E8706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D8A9-AAF2-489B-B167-27171D3427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F8A5-E289-4B35-A68D-714561AED1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B5F3-BF0B-483B-9671-5E3559DB9E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BA14-E62C-4F37-ABD8-9741C9BA88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684E-DFB0-4DB1-B24F-0B54F20F03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EE69-AF21-4D7A-BE57-A9B762A22D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4FE9-FE71-40B0-A171-B9660029C4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4F65-F98B-4B8E-A640-4D4531795D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A005-DBB4-4CED-B5BA-8423CA4F16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AC82-75B1-4F70-BB2E-605F19144F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9147-E5EA-4028-947D-7C4266641B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3DDA-1601-41FC-9635-5C04AD3544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102F-3EE0-45E9-BDA4-9D313D75D3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AF6B-E224-4EC9-9D70-9B69BF6B10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39C3-5BD5-40A4-B3E1-0D8C764E5B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A9D2-68B6-492A-AE68-8D072177EA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DAB6-DF56-4DBB-B5CC-6EDE4F5F10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0-12-15T15:02:35Z</dcterms:modified>
  <cp:revision>306</cp:revision>
  <dc:subject/>
  <dc:title>NMR a energiové hladiny</dc:title>
</cp:coreProperties>
</file>