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7923-1EA9-4789-A200-782FF8ECB83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C8A17-0310-4D3C-9DE3-28737564CA9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CF0B7-3F91-499F-B572-9E73B0C9998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8B8A3-E15B-4227-903B-E522C82A16B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99D6-5048-4067-9C8C-7F63AC6DAED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7F6E-1342-49A1-8C6B-2D902C97DDF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C702-2E57-4C15-80B7-7D14887EF37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079A-B2C4-4532-AC50-920EDB36D8C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222AB-B430-486E-961B-E231622BC81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C9601-96DE-47AA-BE8B-17CF2B361CE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F5F4C-762B-429C-BE44-CF7F29637FF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7683-3319-430F-9C9E-E0359B4C3E2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D735-59C9-45D4-B28E-1A361814EEC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E67E-99F3-494E-A129-B3699BC5E20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8448-72EF-4EFD-8B8F-3B5E08C894E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E64CD-FAF1-473D-A2FC-EA4426702CC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F0CA-D5EC-4E12-B797-FEAD72C22F5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79FA6-F6DE-4227-931C-030B714A453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8ADBC-7B6A-47A6-95C2-215BCD03E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4CE18-9324-487A-99C0-D6F7ED1E4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F023F-EB92-4CCC-B680-BDBE758EF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4624F-7DDA-4CBF-A572-49A6CA1C8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56780-53DA-4819-A4DE-6E97DC2C1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0572F-E3B4-45C4-AAF1-6BD0DB3CA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EEEB4-26AF-4C72-ADF3-6B6BEE1DF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179E1-C2CD-45EB-96A1-4D92F0ECF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BB305-D507-41D9-B432-363DA35E2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185D7-1176-4376-91E9-ABA8730DE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057BB-BC31-4D5D-9A0D-BD3452F00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968B3-F986-4417-9905-5689979FA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AF64-30C1-40F5-B1F1-B82C8029BA41}"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4-03-14T13:08:42Z</dcterms:modified>
  <cp:revision>175</cp:revision>
  <dc:subject/>
  <dc:title>Slide 1</dc:title>
</cp:coreProperties>
</file>