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08A4-AAD6-4D7E-8F58-A5E91CDFD8F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901C-E445-4B6B-B9EA-F563006AA2B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0956E-9220-4C3F-BB20-4E701FE721E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0136-94AB-4C45-9B8E-86FCD1E97D0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8F78-A8DE-49C4-BF18-181ADEE030E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33B5-9A4D-4306-A245-F9F3B49B228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C998-B7B3-4854-B15C-D8D70217DF7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DB94-9763-40A1-8CCE-C171A03C667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54F2-0C54-4FC7-8B22-FA308BA6060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D179-CCB8-4A9B-A89A-11CDB748541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2A53-C0DD-47F8-933D-E038F0D0B0C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BAA5-44E4-4719-BEA7-410EDE609FB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7D9E-6C3E-4631-9E0B-6FC2453B13E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3CC9-549E-4388-8C15-D3885DDA872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56B8-EC25-4DEA-BE13-6B1245709BE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1BB6-1562-4116-B46E-1C76CE87788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1573-ABCD-47F6-8257-ACA454DE571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C527-BDE8-4AFB-9928-F468EF05FB5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6750E-59BC-4117-811B-127CDBA89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D14B3-4B03-42A2-9813-B87E21D8D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5F712-EAFE-448C-A550-5BDB1125D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2C976-C4E1-47BF-AE01-EE64ABA3C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5949A-407C-4752-81E6-5613849ED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C4183-A897-4209-BF01-52295BE28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25542-4F6E-4CD6-A7BA-4F8D27CA2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5CB3B-F118-4845-9ABA-75002E235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1DDF9-6641-4B24-A480-7C898EB87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DF17C-8850-4123-936B-DC7AACF2C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86C9A-F523-46C8-A5C7-12BB819DC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B0C8E-41AA-471E-B8D6-ABE220EEC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0E2B-0595-4779-9928-8932C9EA1223}"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4-03-14T13:08:42Z</dcterms:modified>
  <cp:revision>175</cp:revision>
  <dc:subject/>
  <dc:title>Slide 1</dc:title>
</cp:coreProperties>
</file>