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09413-5D9F-4CBF-9CD2-80F53C962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2905F-44CF-4085-BA4B-FF971E313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69F23-9CAD-4326-A502-168351ED9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52AC1-86A7-43DD-8A65-35287BC46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6F92C-0899-496A-A65C-802600707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3F937-A6AD-424F-B11F-280FE7A0F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026BA-DA7C-48C2-A8C9-BF7CAF881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BDADA-5212-4C8B-B066-406101ECE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DA39A-BD64-44CD-8C60-BD988F982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891FF-3B4C-4282-90AB-C6F0081C5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11C64-B2D3-4C6F-9FDD-1A01559CC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21825-3E3E-492D-9877-1D6884C80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CC0A6-8DE2-43E0-B6F7-CAB0CF03E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6B92C-9EDD-4F3A-9966-8078704B6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376F3-86E9-468A-A224-17B8781DC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78CC0-1952-4BF5-A88E-31AB378EB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2CA7D-94F4-44E9-8AB4-0A361F891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338FC-C187-490B-B1E4-57AB50E6C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9D20C-30F2-4D3F-8704-D8230A9B4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BCE05-4584-4406-B4C6-A90E08A47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10E5-1258-4C3C-9BA5-FC02AB3D3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5250-E36D-4057-BE1D-A66F4163C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BCB61-8F18-4944-B8AF-AD1E8E68C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6FD10-6785-4A07-8F3E-764A3011B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5596-DACF-4E3B-ADAB-5205CE9B2357}"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3083-6CD1-4AEC-9B0E-09F0D25DD9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EE5F-F531-475A-9D20-C59F6CDEB7FE}" type="datetime">
              <a:rPr b="0" lang="cs-CZ" sz="1000" spc="-1" strike="noStrike">
                <a:solidFill>
                  <a:srgbClr val="000000"/>
                </a:solidFill>
                <a:latin typeface="Arial"/>
              </a:rPr>
              <a:t>31.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D482-2BDC-49A3-AB0F-6C0935A261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A77D-6518-435D-B27D-CF70900F07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756D-D481-4C31-BBC9-C20BF8C3F0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53CA-79C6-433A-81AE-08ECA8AF90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128C-C58A-4CEB-B6C8-D08D32E287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0B59-5EAB-4D18-B607-E7C099A50D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717F-628E-4C73-9C0F-E90B5A49E9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1896-358E-4B22-8B99-D9A6F43DCD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BED7-4CF4-4BE5-BFDB-8CB738C9E2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8650-742A-40F1-A306-CC78AE8A9A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8F85-FE64-491F-B0A3-E23F2BCF2C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D723-37AD-44A7-8B11-58086EC4A5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8D54-9E76-44DC-B060-56F41B1BA7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06AD-98F0-4151-A902-73532EEE3B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F294-C275-4A95-8CCB-51BCCCEA38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FA27-7C92-4472-ADC0-46B23E2957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96D9-EAEA-4CD5-A3D6-723DF20E0D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938A-CDEF-416B-923D-7E0650AB9A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7F74-DEB9-44F6-B4C9-51DE8BE76B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BE62-629A-44BD-8E5C-B8D9CB983A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67AD-7DBA-4A39-B056-A072AF4E82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39B8-77AA-41FB-A2D6-6B2FDCB4D7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BA82-9E0E-4891-9DBB-375A598CE4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2310-0B15-4251-86D5-1335FF3467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F577-A9C5-4129-A22B-59594F393F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72D3-AAE8-4108-B90B-803717D87C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81A5-8D4B-408E-A131-D031FD5081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32CC-11A7-4087-8B91-7E8C81E391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DE6A-3167-4C00-9C99-965FD00A24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5C12-29A4-495A-9E6C-A4B1E0D872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5ABA-4F84-4AED-90B0-04BC83DFB1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9BB4-E205-4800-9BDC-8B25753CF5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DA03-3B13-4985-95EA-647534C019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FAF8-CDC7-42D5-828A-8ED199DD00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5C7E-F61C-416A-AD6F-3991A22B9A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E996-4C12-4092-93EA-C0944C6FD6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BC4E-ADC6-4571-BDF8-CEDCA9D6A2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3267-BF2D-4A60-9175-AEC89CA1F2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3F1D-33A5-43D4-857C-ECF82FE78D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B742-9972-47DF-8F3E-71B5920338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8988-82CF-467A-9B61-7F2FAB2D67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AB2B-5C80-4746-BAA8-C61662EFC0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612C-45DA-4A49-AC31-CEC25AF9DB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65C5-0885-4CED-9776-AEC6B5F641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7961-8383-4421-907B-074681FDDD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EBEB-5ED6-4495-A871-A3320764E1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2AA4-6936-4195-B042-9348A106C4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65B7-1E98-4DF1-A5A4-1CC059896A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7049-2FB2-47AD-B387-355552B320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